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20.png" ContentType="image/png"/>
  <Override PartName="/ppt/media/image10.png" ContentType="image/png"/>
  <Override PartName="/ppt/media/image4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49.jpeg" ContentType="image/jpeg"/>
  <Override PartName="/ppt/media/image16.png" ContentType="image/png"/>
  <Override PartName="/ppt/media/image5.wmf" ContentType="image/x-wmf"/>
  <Override PartName="/ppt/media/image17.wmf" ContentType="image/x-wmf"/>
  <Override PartName="/ppt/media/image29.gif" ContentType="image/gif"/>
  <Override PartName="/ppt/media/image31.png" ContentType="image/png"/>
  <Override PartName="/ppt/media/image1.png" ContentType="image/png"/>
  <Override PartName="/ppt/media/image57.png" ContentType="image/png"/>
  <Override PartName="/ppt/media/image14.wmf" ContentType="image/x-wmf"/>
  <Override PartName="/ppt/media/image66.png" ContentType="image/png"/>
  <Override PartName="/ppt/media/image63.png" ContentType="image/png"/>
  <Override PartName="/ppt/media/image24.wmf" ContentType="image/x-wmf"/>
  <Override PartName="/ppt/media/image62.png" ContentType="image/png"/>
  <Override PartName="/ppt/media/image28.jpeg" ContentType="image/jpeg"/>
  <Override PartName="/ppt/media/image61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22.wmf" ContentType="image/x-wmf"/>
  <Override PartName="/ppt/media/image65.png" ContentType="image/png"/>
  <Override PartName="/ppt/media/image27.png" ContentType="image/png"/>
  <Override PartName="/ppt/media/image19.wmf" ContentType="image/x-wmf"/>
  <Override PartName="/ppt/media/image18.wmf" ContentType="image/x-wmf"/>
  <Override PartName="/ppt/media/image6.wmf" ContentType="image/x-wmf"/>
  <Override PartName="/ppt/media/image58.png" ContentType="image/png"/>
  <Override PartName="/ppt/media/image3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11.wmf" ContentType="image/x-wmf"/>
  <Override PartName="/ppt/media/image50.png" ContentType="image/png"/>
  <Override PartName="/ppt/media/image12.png" ContentType="image/png"/>
  <Override PartName="/ppt/media/image8.wmf" ContentType="image/x-wmf"/>
  <Override PartName="/ppt/media/image40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5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6CF1-C0B2-49E2-B942-993F579522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5A80-A04C-4950-B7D5-D269CDC227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F12-0D03-43BE-90EC-1976BFE0D5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lunted ascending re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FF8E-9075-47A8-A59A-CE37D49DE6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rious portion ellip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3EB-0AF3-4150-9580-9610182676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25E-FC0E-4EC4-80E1-D31A2D22ED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C777-015A-4F25-B45E-554172AF56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2D0C-CCE5-419E-8D5C-B719268330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1F90-7F5E-493E-9983-EDE6DA2C6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E6AE-5334-4AE9-9B64-48BB0E14E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60F9-037C-440B-A3DA-02ED3016F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0434-BB0C-4A62-82BE-834E13680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A45A-B4D4-48AB-919A-7E3E14DA8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6B87-1A76-459B-8200-58A9654A7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BD6C-8F0A-487F-9B92-BDD7CEDBC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37B2-7386-4E4D-958C-BCF82F50D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1A6C-6E15-43CA-9D02-FAFD5E1D5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5F54-03CB-4160-85EE-F2C33567A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FE6D-52AD-4CC3-A985-B7ED94E8D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14EA-3C28-4FE1-95FF-477A684BE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424A-7A4A-4CB0-B17A-4DF112CCAE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5120" y="37800"/>
            <a:ext cx="81532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rdiovascular blood f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88725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lexander I. Veress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eng Gao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al Engineerin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partment of Bioengineerin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85680" y="1905120"/>
            <a:ext cx="7239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628488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R class August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gen - Poiseuill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6360" y="3297240"/>
            <a:ext cx="329076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8520" indent="-2840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05740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n - Poiseuill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205740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bolic velocity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205740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205740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205740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205740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velo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975040" y="996840"/>
          <a:ext cx="122040" cy="2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5040" y="996840"/>
                    <a:ext cx="12204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975040" y="996840"/>
          <a:ext cx="122040" cy="21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5040" y="996840"/>
                    <a:ext cx="12204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318360" y="1457280"/>
            <a:ext cx="763560" cy="86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83160" y="1531800"/>
            <a:ext cx="633600" cy="717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11840" y="1628280"/>
            <a:ext cx="228600" cy="2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662880" y="1836720"/>
            <a:ext cx="87120" cy="96840"/>
            <a:chOff x="6662880" y="1836720"/>
            <a:chExt cx="87120" cy="96840"/>
          </a:xfrm>
        </p:grpSpPr>
        <p:sp>
          <p:nvSpPr>
            <p:cNvPr id="165" name=""/>
            <p:cNvSpPr/>
            <p:nvPr/>
          </p:nvSpPr>
          <p:spPr>
            <a:xfrm>
              <a:off x="6695640" y="1836720"/>
              <a:ext cx="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662880" y="1884960"/>
              <a:ext cx="87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010280" y="121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183480" y="157320"/>
            <a:ext cx="855720" cy="3454560"/>
          </a:xfrm>
          <a:prstGeom prst="can">
            <a:avLst>
              <a:gd name="adj" fmla="val 1466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9560" y="1474920"/>
            <a:ext cx="3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24200" y="1539720"/>
            <a:ext cx="411120" cy="70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87160" y="1868400"/>
            <a:ext cx="601560" cy="32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14640" y="236376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18120" y="236376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8680" y="2576520"/>
            <a:ext cx="3003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84720" y="2593800"/>
            <a:ext cx="2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5240" y="914400"/>
            <a:ext cx="46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7840" y="947880"/>
            <a:ext cx="47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90720" y="4057560"/>
          <a:ext cx="3495600" cy="81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4057560"/>
                    <a:ext cx="3495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120680" y="5181480"/>
          <a:ext cx="3451320" cy="87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20680" y="5181480"/>
                    <a:ext cx="3451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286240" y="3827520"/>
          <a:ext cx="3562560" cy="275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6240" y="3827520"/>
                    <a:ext cx="35625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5359-F021-4DB7-99AB-5A38F8127A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3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gen - Poiseuill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a Newtonian, laminar flow down a tube which has a flow rat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94000" y="3094200"/>
          <a:ext cx="657036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094200"/>
                    <a:ext cx="657036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0199-83B4-4427-9C53-7DD3BD504F3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ance to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5105520"/>
          <a:ext cx="159084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105520"/>
                    <a:ext cx="159084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8942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28600" y="2666880"/>
            <a:ext cx="5297040" cy="2006280"/>
            <a:chOff x="228600" y="2666880"/>
            <a:chExt cx="5297040" cy="2006280"/>
          </a:xfrm>
        </p:grpSpPr>
        <p:sp>
          <p:nvSpPr>
            <p:cNvPr id="193" name=""/>
            <p:cNvSpPr/>
            <p:nvPr/>
          </p:nvSpPr>
          <p:spPr>
            <a:xfrm>
              <a:off x="529200" y="2666880"/>
              <a:ext cx="41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93520" y="2860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4360" y="26668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28600" y="3250440"/>
              <a:ext cx="2648160" cy="1422360"/>
              <a:chOff x="228600" y="3250440"/>
              <a:chExt cx="2648160" cy="14223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28600" y="4349880"/>
                <a:ext cx="2648160" cy="322920"/>
                <a:chOff x="228600" y="4349880"/>
                <a:chExt cx="2648160" cy="322920"/>
              </a:xfrm>
            </p:grpSpPr>
            <p:sp>
              <p:nvSpPr>
                <p:cNvPr id="198" name=""/>
                <p:cNvSpPr/>
                <p:nvPr/>
              </p:nvSpPr>
              <p:spPr>
                <a:xfrm flipH="1">
                  <a:off x="1500480" y="4349880"/>
                  <a:ext cx="1376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228600" y="4672800"/>
                  <a:ext cx="13165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522800" y="4349880"/>
                  <a:ext cx="0" cy="322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28600" y="3250440"/>
                <a:ext cx="2648160" cy="323280"/>
                <a:chOff x="228600" y="3250440"/>
                <a:chExt cx="2648160" cy="323280"/>
              </a:xfrm>
            </p:grpSpPr>
            <p:sp>
              <p:nvSpPr>
                <p:cNvPr id="202" name=""/>
                <p:cNvSpPr/>
                <p:nvPr/>
              </p:nvSpPr>
              <p:spPr>
                <a:xfrm flipH="1">
                  <a:off x="1500480" y="3573720"/>
                  <a:ext cx="1376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228600" y="3250440"/>
                  <a:ext cx="13165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1522800" y="3250440"/>
                  <a:ext cx="0" cy="323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433440" y="3864600"/>
              <a:ext cx="488628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877120" y="3250440"/>
              <a:ext cx="2648520" cy="1422720"/>
              <a:chOff x="2877120" y="3250440"/>
              <a:chExt cx="2648520" cy="14227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877120" y="4349880"/>
                <a:ext cx="2648520" cy="323280"/>
                <a:chOff x="2877120" y="4349880"/>
                <a:chExt cx="2648520" cy="3232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877120" y="4349880"/>
                  <a:ext cx="1376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209120" y="4673160"/>
                  <a:ext cx="13165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231440" y="4349880"/>
                  <a:ext cx="0" cy="323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77120" y="3250440"/>
                <a:ext cx="2648520" cy="323280"/>
                <a:chOff x="2877120" y="3250440"/>
                <a:chExt cx="2648520" cy="323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877120" y="3573720"/>
                  <a:ext cx="1376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209120" y="3250440"/>
                  <a:ext cx="13165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4231440" y="3250440"/>
                  <a:ext cx="0" cy="323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433440" y="4142520"/>
              <a:ext cx="488628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2149560" y="5105520"/>
          <a:ext cx="3346200" cy="12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9560" y="5105520"/>
                    <a:ext cx="334620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013440" y="1828800"/>
          <a:ext cx="3130560" cy="40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1828800"/>
                    <a:ext cx="313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A7D9-2024-474B-BA37-990465BA11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ances i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66960" y="2965320"/>
            <a:ext cx="1347840" cy="1050840"/>
            <a:chOff x="1866960" y="2965320"/>
            <a:chExt cx="1347840" cy="1050840"/>
          </a:xfrm>
        </p:grpSpPr>
        <p:grpSp>
          <p:nvGrpSpPr>
            <p:cNvPr id="222" name=""/>
            <p:cNvGrpSpPr/>
            <p:nvPr/>
          </p:nvGrpSpPr>
          <p:grpSpPr>
            <a:xfrm>
              <a:off x="1866960" y="3777480"/>
              <a:ext cx="1347840" cy="238680"/>
              <a:chOff x="1866960" y="3777480"/>
              <a:chExt cx="1347840" cy="23868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2514240" y="3777480"/>
                <a:ext cx="700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866960" y="4016160"/>
                <a:ext cx="669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25760" y="3777480"/>
                <a:ext cx="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866960" y="2965320"/>
              <a:ext cx="1347840" cy="239040"/>
              <a:chOff x="1866960" y="2965320"/>
              <a:chExt cx="1347840" cy="23904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2514240" y="3204360"/>
                <a:ext cx="700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866960" y="2965320"/>
                <a:ext cx="669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525760" y="2965320"/>
                <a:ext cx="0" cy="239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971720" y="3419640"/>
            <a:ext cx="57103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14800" y="2964960"/>
            <a:ext cx="1346040" cy="1051200"/>
            <a:chOff x="3214800" y="2964960"/>
            <a:chExt cx="1346040" cy="1051200"/>
          </a:xfrm>
        </p:grpSpPr>
        <p:grpSp>
          <p:nvGrpSpPr>
            <p:cNvPr id="232" name=""/>
            <p:cNvGrpSpPr/>
            <p:nvPr/>
          </p:nvGrpSpPr>
          <p:grpSpPr>
            <a:xfrm>
              <a:off x="3214800" y="3777480"/>
              <a:ext cx="1346040" cy="238680"/>
              <a:chOff x="3214800" y="3777480"/>
              <a:chExt cx="1346040" cy="238680"/>
            </a:xfrm>
          </p:grpSpPr>
          <p:sp>
            <p:nvSpPr>
              <p:cNvPr id="233" name=""/>
              <p:cNvSpPr/>
              <p:nvPr/>
            </p:nvSpPr>
            <p:spPr>
              <a:xfrm>
                <a:off x="3214800" y="3777480"/>
                <a:ext cx="69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91600" y="4016160"/>
                <a:ext cx="669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03120" y="3777480"/>
                <a:ext cx="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214800" y="2964960"/>
              <a:ext cx="1346040" cy="238680"/>
              <a:chOff x="3214800" y="2964960"/>
              <a:chExt cx="1346040" cy="238680"/>
            </a:xfrm>
          </p:grpSpPr>
          <p:sp>
            <p:nvSpPr>
              <p:cNvPr id="237" name=""/>
              <p:cNvSpPr/>
              <p:nvPr/>
            </p:nvSpPr>
            <p:spPr>
              <a:xfrm>
                <a:off x="3214800" y="3203640"/>
                <a:ext cx="69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91600" y="2964960"/>
                <a:ext cx="669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903120" y="2964960"/>
                <a:ext cx="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1971720" y="3624120"/>
            <a:ext cx="57103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0840" y="2965320"/>
            <a:ext cx="1347840" cy="1050840"/>
            <a:chOff x="4560840" y="2965320"/>
            <a:chExt cx="1347840" cy="1050840"/>
          </a:xfrm>
        </p:grpSpPr>
        <p:grpSp>
          <p:nvGrpSpPr>
            <p:cNvPr id="242" name=""/>
            <p:cNvGrpSpPr/>
            <p:nvPr/>
          </p:nvGrpSpPr>
          <p:grpSpPr>
            <a:xfrm>
              <a:off x="4560840" y="3777480"/>
              <a:ext cx="1347840" cy="238680"/>
              <a:chOff x="4560840" y="3777480"/>
              <a:chExt cx="1347840" cy="2386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5208120" y="3777480"/>
                <a:ext cx="700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560840" y="4016160"/>
                <a:ext cx="669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19640" y="3777480"/>
                <a:ext cx="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560840" y="2965320"/>
              <a:ext cx="1347840" cy="239040"/>
              <a:chOff x="4560840" y="2965320"/>
              <a:chExt cx="1347840" cy="23904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5208120" y="3204360"/>
                <a:ext cx="700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560840" y="2965320"/>
                <a:ext cx="669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5219640" y="2965320"/>
                <a:ext cx="0" cy="239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08680" y="2964960"/>
            <a:ext cx="1346040" cy="1051200"/>
            <a:chOff x="5908680" y="2964960"/>
            <a:chExt cx="1346040" cy="1051200"/>
          </a:xfrm>
        </p:grpSpPr>
        <p:grpSp>
          <p:nvGrpSpPr>
            <p:cNvPr id="251" name=""/>
            <p:cNvGrpSpPr/>
            <p:nvPr/>
          </p:nvGrpSpPr>
          <p:grpSpPr>
            <a:xfrm>
              <a:off x="5908680" y="3777480"/>
              <a:ext cx="1346040" cy="238680"/>
              <a:chOff x="5908680" y="3777480"/>
              <a:chExt cx="1346040" cy="238680"/>
            </a:xfrm>
          </p:grpSpPr>
          <p:sp>
            <p:nvSpPr>
              <p:cNvPr id="252" name=""/>
              <p:cNvSpPr/>
              <p:nvPr/>
            </p:nvSpPr>
            <p:spPr>
              <a:xfrm>
                <a:off x="5908680" y="3777480"/>
                <a:ext cx="69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85480" y="4016160"/>
                <a:ext cx="669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7000" y="3777480"/>
                <a:ext cx="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908680" y="2964960"/>
              <a:ext cx="1346040" cy="238680"/>
              <a:chOff x="5908680" y="2964960"/>
              <a:chExt cx="1346040" cy="238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908680" y="3203640"/>
                <a:ext cx="69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85480" y="2964960"/>
                <a:ext cx="669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597000" y="2964960"/>
                <a:ext cx="0" cy="2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1954080" y="24415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85480" y="2670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31880" y="2441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86720" y="339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17680" y="2508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79720" y="2670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311560" y="4319640"/>
          <a:ext cx="4914720" cy="14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1560" y="4319640"/>
                    <a:ext cx="49147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72A4-D065-4B03-BC20-01F0BFD4AC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ances in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216864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6520" y="21686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181480" y="2873520"/>
          <a:ext cx="2940120" cy="27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73520"/>
                    <a:ext cx="294012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1980720" y="3556080"/>
            <a:ext cx="551160" cy="253440"/>
            <a:chOff x="1980720" y="3556080"/>
            <a:chExt cx="551160" cy="253440"/>
          </a:xfrm>
        </p:grpSpPr>
        <p:sp>
          <p:nvSpPr>
            <p:cNvPr id="273" name=""/>
            <p:cNvSpPr/>
            <p:nvPr/>
          </p:nvSpPr>
          <p:spPr>
            <a:xfrm flipH="1">
              <a:off x="1980720" y="3556080"/>
              <a:ext cx="551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9720" y="3556080"/>
              <a:ext cx="0" cy="253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459440" y="2873160"/>
            <a:ext cx="1061640" cy="199800"/>
            <a:chOff x="1459440" y="2873160"/>
            <a:chExt cx="1061640" cy="199800"/>
          </a:xfrm>
        </p:grpSpPr>
        <p:sp>
          <p:nvSpPr>
            <p:cNvPr id="276" name=""/>
            <p:cNvSpPr/>
            <p:nvPr/>
          </p:nvSpPr>
          <p:spPr>
            <a:xfrm flipH="1">
              <a:off x="1969200" y="3072960"/>
              <a:ext cx="551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459440" y="2873160"/>
              <a:ext cx="527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78200" y="2873160"/>
              <a:ext cx="0" cy="199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521080" y="3556080"/>
            <a:ext cx="554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521080" y="2873160"/>
            <a:ext cx="1063080" cy="199800"/>
            <a:chOff x="2521080" y="2873160"/>
            <a:chExt cx="1063080" cy="199800"/>
          </a:xfrm>
        </p:grpSpPr>
        <p:sp>
          <p:nvSpPr>
            <p:cNvPr id="281" name=""/>
            <p:cNvSpPr/>
            <p:nvPr/>
          </p:nvSpPr>
          <p:spPr>
            <a:xfrm>
              <a:off x="2521080" y="3072960"/>
              <a:ext cx="55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55680" y="2873160"/>
              <a:ext cx="528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064680" y="2873160"/>
              <a:ext cx="0" cy="199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04640" y="3824280"/>
            <a:ext cx="1044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472040" y="4438800"/>
            <a:ext cx="1061640" cy="199800"/>
            <a:chOff x="1472040" y="4438800"/>
            <a:chExt cx="1061640" cy="199800"/>
          </a:xfrm>
        </p:grpSpPr>
        <p:sp>
          <p:nvSpPr>
            <p:cNvPr id="286" name=""/>
            <p:cNvSpPr/>
            <p:nvPr/>
          </p:nvSpPr>
          <p:spPr>
            <a:xfrm flipH="1">
              <a:off x="1981800" y="4438800"/>
              <a:ext cx="551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472040" y="4638600"/>
              <a:ext cx="527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90800" y="4438800"/>
              <a:ext cx="0" cy="199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982880" y="3755880"/>
            <a:ext cx="550800" cy="200160"/>
            <a:chOff x="1982880" y="3755880"/>
            <a:chExt cx="550800" cy="200160"/>
          </a:xfrm>
        </p:grpSpPr>
        <p:sp>
          <p:nvSpPr>
            <p:cNvPr id="290" name=""/>
            <p:cNvSpPr/>
            <p:nvPr/>
          </p:nvSpPr>
          <p:spPr>
            <a:xfrm flipH="1">
              <a:off x="1982880" y="3956040"/>
              <a:ext cx="550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991520" y="3755880"/>
              <a:ext cx="0" cy="200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295000" y="26258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00400" y="3098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91760" y="46386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533680" y="4438800"/>
            <a:ext cx="1061640" cy="199800"/>
            <a:chOff x="2533680" y="4438800"/>
            <a:chExt cx="1061640" cy="199800"/>
          </a:xfrm>
        </p:grpSpPr>
        <p:sp>
          <p:nvSpPr>
            <p:cNvPr id="296" name=""/>
            <p:cNvSpPr/>
            <p:nvPr/>
          </p:nvSpPr>
          <p:spPr>
            <a:xfrm>
              <a:off x="2533680" y="4438800"/>
              <a:ext cx="551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7560" y="4638600"/>
              <a:ext cx="527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76560" y="4438800"/>
              <a:ext cx="0" cy="199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533680" y="3956040"/>
            <a:ext cx="55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78000" y="3555720"/>
            <a:ext cx="8280" cy="39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00400" y="3956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36920" y="3824280"/>
            <a:ext cx="1044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040" y="325116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6BC1-5CA5-47F8-9209-3EFF68A7A0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bulent vs Laminar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600"/>
            <a:ext cx="453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laminar to turbulent flow occurs for relatively large Reynolds numbers &gt;2000 for blood, e.g. aortic stenosis, bifuratio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105520" y="2798640"/>
          <a:ext cx="3189240" cy="25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98640"/>
                    <a:ext cx="318924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828800" y="4419720"/>
          <a:ext cx="244800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419720"/>
                    <a:ext cx="24480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89080" y="5562720"/>
            <a:ext cx="8564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mean velocit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haracteristic diameter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isco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013C-750E-47D7-9DA2-0500EF9BA48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 for use of Analytical Eq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is Non-Newton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reverses with both laminar and turbulent (rotational) flow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7B58-58EA-48E2-A941-935AB70C92B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-360" y="1698480"/>
            <a:ext cx="259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e pressure in carotid ar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7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l World: Dynamics of Pulsatil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ulsepressure" descr=""/>
          <p:cNvPicPr/>
          <p:nvPr/>
        </p:nvPicPr>
        <p:blipFill>
          <a:blip r:embed="rId1"/>
          <a:stretch/>
        </p:blipFill>
        <p:spPr>
          <a:xfrm>
            <a:off x="2914560" y="1219320"/>
            <a:ext cx="5988240" cy="48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D971-F9D0-4EED-A15F-B2892CE242D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se Wave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0" t="0" r="0" b="6599"/>
          <a:stretch/>
        </p:blipFill>
        <p:spPr>
          <a:xfrm>
            <a:off x="4205160" y="1143000"/>
            <a:ext cx="4613400" cy="5288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62880" y="6559560"/>
            <a:ext cx="848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dapted from WW Nichols &amp; MF O'Rourke (1998)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cDonald's Blood Flow in Arteries: Theoretical, Experimental and Clinical Principle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4th Edition). Edward Arnold, Londo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0280" y="1765440"/>
            <a:ext cx="394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lse wave forms for both velocity and pressure change as one travels down the a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easurements of a canin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upon where the stenosis is the pulse wave form at the entrance of obstruction will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01E4-11BC-4756-BE46-4DE6B7CA487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se Pressur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0" t="0" r="0" b="16193"/>
          <a:stretch/>
        </p:blipFill>
        <p:spPr>
          <a:xfrm>
            <a:off x="3922560" y="947880"/>
            <a:ext cx="4569120" cy="5427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62880" y="6559560"/>
            <a:ext cx="848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dapted from WW Nichols &amp; MF O'Rourke (1998)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cDonald's Blood Flow in Arteries: Theoretical, Experimental and Clinical Principle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4th Edition). Edward Arnold, Londo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8280" y="1184400"/>
            <a:ext cx="307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lse pressure, the difference between systolic and diastolic pressure, increases with distance down the vascular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ine data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09AB-D44E-46E7-A381-AB3D15679E8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520" y="190512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s and flo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euille F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-volume-flow relationships in blood vess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s of pulsatile f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ave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pressure 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of Moment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Fluid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F9A8-9646-4CEA-84F2-3FF26D8251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Drops along normal portions of the Vascular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639800" y="1687680"/>
            <a:ext cx="5611680" cy="2669040"/>
            <a:chOff x="1639800" y="1687680"/>
            <a:chExt cx="5611680" cy="266904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rcRect l="8471" t="0" r="5210" b="50604"/>
            <a:stretch/>
          </p:blipFill>
          <p:spPr>
            <a:xfrm>
              <a:off x="1639800" y="1687680"/>
              <a:ext cx="5611680" cy="23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932480" y="4080240"/>
              <a:ext cx="504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th JJ and Kampine JP. Circulatory physiology: The essentials.  3rd ed. 199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631880" y="4844880"/>
            <a:ext cx="610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907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loss in pressure in aorta and ar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907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pressure drop occurs in arteri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9072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atile nature of pressure small in arterioles and nonexistent in capillaries, venul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79D5-40A4-4F02-90A8-FDC4A079D86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gical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essure load causes heart to work ha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rophic cardiomyopat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failur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correction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aorsten3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14316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3434-526A-46B4-AA93-889FC36367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0880" y="12193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uppose  we have a fluid with local density ρ = ρ (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) and local velocity u=u (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676520" y="2514600"/>
            <a:ext cx="6247800" cy="3962160"/>
            <a:chOff x="1676520" y="2514600"/>
            <a:chExt cx="6247800" cy="3962160"/>
          </a:xfrm>
        </p:grpSpPr>
        <p:sp>
          <p:nvSpPr>
            <p:cNvPr id="336" name=""/>
            <p:cNvSpPr/>
            <p:nvPr/>
          </p:nvSpPr>
          <p:spPr>
            <a:xfrm>
              <a:off x="4833000" y="2575800"/>
              <a:ext cx="0" cy="1427040"/>
            </a:xfrm>
            <a:prstGeom prst="line">
              <a:avLst/>
            </a:prstGeom>
            <a:ln w="936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891600" y="4002840"/>
              <a:ext cx="941040" cy="990720"/>
            </a:xfrm>
            <a:prstGeom prst="line">
              <a:avLst/>
            </a:prstGeom>
            <a:ln w="936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33000" y="4002840"/>
              <a:ext cx="160488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91600" y="3568320"/>
              <a:ext cx="2545920" cy="43452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33000" y="2575800"/>
              <a:ext cx="663840" cy="24177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9840" y="3754440"/>
              <a:ext cx="82800" cy="92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64560" y="3754440"/>
              <a:ext cx="0" cy="22946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2673720" y="3321000"/>
              <a:ext cx="101052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558600" y="3878640"/>
              <a:ext cx="72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61040" y="3816720"/>
              <a:ext cx="664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164560" y="5614200"/>
              <a:ext cx="552960" cy="43452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174400" y="6049080"/>
              <a:ext cx="299016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3946680" y="6110640"/>
              <a:ext cx="2559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3"/>
            <a:stretch/>
          </p:blipFill>
          <p:spPr>
            <a:xfrm>
              <a:off x="5496840" y="5738760"/>
              <a:ext cx="2120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4"/>
            <a:stretch/>
          </p:blipFill>
          <p:spPr>
            <a:xfrm>
              <a:off x="3890520" y="5366880"/>
              <a:ext cx="292680" cy="18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51" name=""/>
            <p:cNvGraphicFramePr/>
            <p:nvPr/>
          </p:nvGraphicFramePr>
          <p:xfrm>
            <a:off x="1676520" y="2638800"/>
            <a:ext cx="4934520" cy="383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76520" y="2638800"/>
                      <a:ext cx="4934520" cy="38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"/>
            <p:cNvGraphicFramePr/>
            <p:nvPr/>
          </p:nvGraphicFramePr>
          <p:xfrm>
            <a:off x="3503880" y="2514600"/>
            <a:ext cx="2989800" cy="278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3880" y="2514600"/>
                      <a:ext cx="2989800" cy="278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5" name=""/>
            <p:cNvGraphicFramePr/>
            <p:nvPr/>
          </p:nvGraphicFramePr>
          <p:xfrm>
            <a:off x="6880680" y="3010680"/>
            <a:ext cx="1043640" cy="1399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80680" y="3010680"/>
                      <a:ext cx="1043640" cy="139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5495-A4E0-46A2-93B5-5871A290584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ss of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ss of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change of mass in x direction is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340000" y="476280"/>
                <a:ext cx="4680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dydz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908000" y="1268280"/>
                <a:ext cx="61930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dydzdt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dydz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050920" y="3382920"/>
                <a:ext cx="4321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dydz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547640" y="5084640"/>
                <a:ext cx="56898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dx</m:t>
                        </m:r>
                      </m:e>
                    </m:d>
                    <m:r>
                      <m:t xml:space="preserve">dydzd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u</m:t>
                    </m:r>
                    <m:r>
                      <m:t xml:space="preserve">)</m:t>
                    </m:r>
                    <m:r>
                      <m:t xml:space="preserve">dxdydz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EA90-ECE3-40FF-ADB1-5933EC2E29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ange of mass in y and z direc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change of mas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change of density 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124000" y="836640"/>
                <a:ext cx="2592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v</m:t>
                    </m:r>
                    <m:r>
                      <m:t xml:space="preserve">)</m:t>
                    </m:r>
                    <m:r>
                      <m:t xml:space="preserve">dxdydz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148360" y="828720"/>
                <a:ext cx="273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(</m:t>
                    </m:r>
                    <m:r>
                      <m:t xml:space="preserve">ρw</m:t>
                    </m:r>
                    <m:r>
                      <m:t xml:space="preserve">)</m:t>
                    </m:r>
                    <m:r>
                      <m:t xml:space="preserve">dxdydz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979640" y="2349360"/>
                <a:ext cx="460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ρu</m:t>
                                </m: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ρv</m:t>
                                </m: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ρw</m:t>
                                </m: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dxdydz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438280" y="4724280"/>
                <a:ext cx="35290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221A6-ED73-4587-882B-DFC9CA8F866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mass of change due to the change of dens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r the steady flow, so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n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-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r incompressible flow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050920" y="981000"/>
                <a:ext cx="5185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dt</m:t>
                        </m:r>
                      </m:e>
                    </m:d>
                    <m:r>
                      <m:t xml:space="preserve">dxdydz</m:t>
                    </m:r>
                    <m:r>
                      <m:t xml:space="preserve">−</m:t>
                    </m:r>
                    <m:r>
                      <m:t xml:space="preserve">ρdxdyd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dxdydz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40000" y="2614680"/>
                <a:ext cx="4896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u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v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w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581280" y="3505320"/>
                <a:ext cx="9352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438280" y="4419720"/>
                <a:ext cx="2952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u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v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w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819520" y="5715000"/>
                <a:ext cx="2376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335A-9BBA-4C37-92DA-8FB2374025E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nservation of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42920" y="1590840"/>
            <a:ext cx="6883560" cy="4505040"/>
            <a:chOff x="1042920" y="1590840"/>
            <a:chExt cx="6883560" cy="450504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2050920" y="2598480"/>
              <a:ext cx="1219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6659640" y="2743200"/>
              <a:ext cx="126684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3"/>
            <a:stretch/>
          </p:blipFill>
          <p:spPr>
            <a:xfrm>
              <a:off x="7020000" y="1662120"/>
              <a:ext cx="771480" cy="70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643280" y="1950840"/>
              <a:ext cx="0" cy="1582560"/>
            </a:xfrm>
            <a:prstGeom prst="line">
              <a:avLst/>
            </a:prstGeom>
            <a:ln w="936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492000" y="3533760"/>
              <a:ext cx="1150920" cy="1080720"/>
            </a:xfrm>
            <a:prstGeom prst="line">
              <a:avLst/>
            </a:prstGeom>
            <a:ln w="936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3280" y="3533760"/>
              <a:ext cx="180036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16360" y="3246480"/>
              <a:ext cx="1079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2000" y="3317760"/>
              <a:ext cx="1081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148360" y="2166840"/>
              <a:ext cx="1871640" cy="1150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6" name=""/>
            <p:cNvGraphicFramePr/>
            <p:nvPr/>
          </p:nvGraphicFramePr>
          <p:xfrm>
            <a:off x="1042920" y="1590840"/>
            <a:ext cx="6029280" cy="450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42920" y="1590840"/>
                      <a:ext cx="6029280" cy="450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3132000" y="1806480"/>
            <a:ext cx="3456000" cy="3195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32000" y="1806480"/>
                      <a:ext cx="3456000" cy="31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4A73-ED19-43AE-8B83-B37617287E5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cording to Newton’s second law of motion, in x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can get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63680" y="1482840"/>
                <a:ext cx="8399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dxdydz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dxdydz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dydz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dy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540240" y="2819520"/>
                <a:ext cx="2322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498840" y="4321080"/>
                <a:ext cx="22924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16480" y="5340240"/>
                <a:ext cx="2350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80880" y="3733920"/>
            <a:ext cx="822960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so can get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6B39-CA55-4133-971F-285E4D2C52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9180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can write as the following (Euler equation)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2666880"/>
            <a:ext cx="82296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sidering the viscosity, we can get the Navier-Stokes equation: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017800" y="990720"/>
                <a:ext cx="38178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3" name=""/>
          <p:cNvGraphicFramePr/>
          <p:nvPr/>
        </p:nvGraphicFramePr>
        <p:xfrm>
          <a:off x="457200" y="3886200"/>
          <a:ext cx="82296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82296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F439-65E2-4D96-AA3D-C98282E945F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421080" cy="4525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98520" y="1600200"/>
            <a:ext cx="2266920" cy="29718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774880" y="1600200"/>
            <a:ext cx="2300400" cy="2971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85800" y="51814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rta  and cardio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59436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 Model for FSI (Fluid-Structure Inter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70C0-2A0D-4E69-B990-EE061479D82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Pat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valvular aortic stenosis is a narrowing of the aorta distal to the aortic v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supraasdiagram" descr=""/>
          <p:cNvPicPr/>
          <p:nvPr/>
        </p:nvPicPr>
        <p:blipFill>
          <a:blip r:embed="rId1"/>
          <a:stretch/>
        </p:blipFill>
        <p:spPr>
          <a:xfrm>
            <a:off x="3733920" y="1793880"/>
            <a:ext cx="5029200" cy="35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1CB5-B9E4-4031-BF39-2D7A85BB656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Overall Strategy for FS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43000"/>
            <a:ext cx="547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F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Computational Fluid Dyna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lve the fluid velocity a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culate the traction vector at th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S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Computational Structural Dyna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pply fluid traction on elastic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alculate displacement and update the surfac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Computational Mesh Dyna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se the elastostatic model to determine fluid mesh displa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Update the fluid mesh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877000" y="1198440"/>
          <a:ext cx="301608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7000" y="1198440"/>
                    <a:ext cx="301608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2756-56AF-4FE5-855B-C779A3B1CF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omputational Con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806436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FD package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Fidap 8.7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(Fluent Inc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ensity of fluid: 1050 kg/m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iscosity: 0.0035 P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son coefficient: 0.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early incompressible materi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18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767640" y="3933720"/>
          <a:ext cx="161424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7640" y="3933720"/>
                    <a:ext cx="16142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609480" y="3886200"/>
            <a:ext cx="6021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t: fix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et:  the out edge of outlet was constrained in the axial direction and permitted to move in the other dir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494A-EB8A-4C75-9912-547712266B5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locity and Pressure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644920" cy="3888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654280" cy="388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95280" y="4941360"/>
            <a:ext cx="8499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Velocity and pressure are depicted in the longitudinal section of the aortic arch. (</a:t>
            </a:r>
            <a:r>
              <a:rPr b="1" lang="zh-CN" sz="1700" spc="-1" strike="noStrike">
                <a:solidFill>
                  <a:srgbClr val="000000"/>
                </a:solidFill>
                <a:latin typeface="Arial"/>
              </a:rPr>
              <a:t>velocity agrees with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Endo et al. 1996, Shahcheraghi et al. 2002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6877080" y="5589720"/>
          <a:ext cx="1008000" cy="82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5589720"/>
                    <a:ext cx="10080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284720" y="5661000"/>
          <a:ext cx="251928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5661000"/>
                    <a:ext cx="25192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6019920" y="2209680"/>
            <a:ext cx="2971800" cy="26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AA3D-7F7C-428B-80FC-9A1906CA4CA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527280" cy="24019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724280" y="1866960"/>
            <a:ext cx="3963960" cy="2663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332000" y="5085720"/>
            <a:ext cx="3456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Deformations of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aorta wall   at  </a:t>
            </a:r>
            <a:r>
              <a:rPr b="1" i="1" lang="zh-CN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=45°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become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MS PMincho"/>
              </a:rPr>
              <a:t>ellip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58160" y="1268280"/>
            <a:ext cx="445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anges of the aorta diameter along ar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2360" y="1268280"/>
            <a:ext cx="386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isplacement of the wall along ar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643280" y="4646520"/>
          <a:ext cx="2087640" cy="18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646520"/>
                    <a:ext cx="2087640" cy="18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ll Deformations 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7AAE-B362-4B91-B06A-01DC4E92D92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913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Velocit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–pulsatile flow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6248520" cy="30193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29000" y="4419720"/>
            <a:ext cx="2157480" cy="1981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52280" y="4495680"/>
            <a:ext cx="30974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Max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Max De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) Reversed Flow Max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5943600" y="4419720"/>
          <a:ext cx="144936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419720"/>
                    <a:ext cx="14493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5181480" y="5486400"/>
            <a:ext cx="378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22640" indent="-42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: from the outer to the inner wall (b)(c)(d): from the inner to outer wall (c)(d): clockwise-rotating vo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6248520" y="1751040"/>
            <a:ext cx="2895480" cy="2592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705720" y="61920"/>
            <a:ext cx="2361960" cy="15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374F-365A-4264-BED2-5B7899F8644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ressur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–pulsatile flo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6320" y="1171440"/>
            <a:ext cx="6172200" cy="30956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18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4267080"/>
            <a:ext cx="6400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6000"/>
          </a:bodyPr>
          <a:p>
            <a:pPr marL="356760" indent="-35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Max Acceleration;   (b) Peak Flow;   (c) Max Deceleration;  (d) Reversed Flow 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4892760"/>
            <a:ext cx="8077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a)(b) the pressure is maximum at inlet of aorta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w pressure region is the outlet of aort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c)(d) the relative pressure at inlet of aorta becomes negative valu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lager acceleration leads to the larger fluid pressure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6248520" y="1903320"/>
            <a:ext cx="2895480" cy="25923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6705720" y="61920"/>
            <a:ext cx="2361960" cy="15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CE55-086A-4A3F-BB84-885E0FCEF22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isplacement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Pulsatile flo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2600" y="1260360"/>
            <a:ext cx="6235920" cy="30495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18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41972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6000"/>
          </a:bodyPr>
          <a:p>
            <a:pPr marL="356760" indent="-35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Max Acceleration;   (b) Peak Flow;   (c) Max Deceleration;  (d) Reversed Flow 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5181480"/>
            <a:ext cx="8425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a) (b) towards the left side of arch; maximum at the top of arch portio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c) reverses towards the right side of arch; (d) The displacement of aorta wall is reduce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6248520" y="2048040"/>
            <a:ext cx="2819160" cy="25239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6705720" y="61920"/>
            <a:ext cx="2361960" cy="15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DE36-70C3-4C8B-973C-43FE188E5C7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2560" y="198000"/>
            <a:ext cx="7850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ll De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18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23840" y="1143000"/>
            <a:ext cx="71294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rch radial direction           In arch axial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deformation-Radial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4495680" cy="2922480"/>
          </a:xfrm>
          <a:prstGeom prst="rect">
            <a:avLst/>
          </a:prstGeom>
          <a:ln w="0">
            <a:noFill/>
          </a:ln>
        </p:spPr>
      </p:pic>
      <p:pic>
        <p:nvPicPr>
          <p:cNvPr id="477" name="deformation-side" descr=""/>
          <p:cNvPicPr/>
          <p:nvPr/>
        </p:nvPicPr>
        <p:blipFill>
          <a:blip r:embed="rId2"/>
          <a:stretch/>
        </p:blipFill>
        <p:spPr>
          <a:xfrm>
            <a:off x="4648320" y="1884240"/>
            <a:ext cx="4432320" cy="2880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755640" y="5157720"/>
            <a:ext cx="7561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buClr>
                <a:srgbClr val="ffcc00"/>
              </a:buClr>
              <a:buFont typeface="Wingdings" charset="2"/>
              <a:buChar char="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value of deformation in axial direction is very different from that in arch radial direction, so the section of wall could not keep circ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3141-B5B8-46E3-B59A-8BDD181CDEB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urther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properties and Materi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flow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forces induced by surrounding tissue and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5CD2-29B8-4D3D-8EEB-34A5F0B53208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ravalvular Aortic Ste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ccurs as a localized or a diffuse narrowing of the aorta beyond the superior margin of the sinuses of Valsal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ccounts for less than 7% of all fixed forms of congenital LVOT obstructive le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_0424_08c" descr=""/>
          <p:cNvPicPr/>
          <p:nvPr/>
        </p:nvPicPr>
        <p:blipFill>
          <a:blip r:embed="rId1"/>
          <a:stretch/>
        </p:blipFill>
        <p:spPr>
          <a:xfrm>
            <a:off x="4800600" y="1486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B599-F773-42A9-81B1-BD2E11BE3A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s and Flows in Steady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0666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of Blood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tric flow (ml/sec) 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al are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cross-sectional area of the same flow will proportionally alter velo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867280" y="838080"/>
          <a:ext cx="1309680" cy="12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838080"/>
                    <a:ext cx="130968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49200" y="5562720"/>
          <a:ext cx="22510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5562720"/>
                    <a:ext cx="22510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726000" y="5486400"/>
            <a:ext cx="128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000" y="545148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86680" y="571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09760" y="5257800"/>
          <a:ext cx="2003760" cy="13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9760" y="5257800"/>
                    <a:ext cx="2003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10496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54800" y="5715000"/>
            <a:ext cx="280188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486400" y="6172200"/>
            <a:ext cx="2997360" cy="380880"/>
            <a:chOff x="5486400" y="6172200"/>
            <a:chExt cx="2997360" cy="380880"/>
          </a:xfrm>
        </p:grpSpPr>
        <p:sp>
          <p:nvSpPr>
            <p:cNvPr id="73" name=""/>
            <p:cNvSpPr/>
            <p:nvPr/>
          </p:nvSpPr>
          <p:spPr>
            <a:xfrm flipH="1">
              <a:off x="6926040" y="6172200"/>
              <a:ext cx="1557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486400" y="6553080"/>
              <a:ext cx="149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51240" y="61722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74840" y="4819680"/>
            <a:ext cx="1913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5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486400" y="4876920"/>
            <a:ext cx="2997360" cy="380880"/>
            <a:chOff x="5486400" y="4876920"/>
            <a:chExt cx="2997360" cy="380880"/>
          </a:xfrm>
        </p:grpSpPr>
        <p:sp>
          <p:nvSpPr>
            <p:cNvPr id="80" name=""/>
            <p:cNvSpPr/>
            <p:nvPr/>
          </p:nvSpPr>
          <p:spPr>
            <a:xfrm flipH="1">
              <a:off x="6926040" y="5257800"/>
              <a:ext cx="1557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486400" y="4876920"/>
              <a:ext cx="149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951240" y="4876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C066-F451-43F5-8FEB-ADC5E941FF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and Dynamic Pressures in steady states flow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620120" y="1371600"/>
          <a:ext cx="130968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371600"/>
                    <a:ext cx="130968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726000" y="5486400"/>
            <a:ext cx="128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9000" y="545148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937200" y="5029200"/>
          <a:ext cx="220680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7200" y="5029200"/>
                    <a:ext cx="22068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2164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4040" y="4267080"/>
            <a:ext cx="1287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21400" y="4648320"/>
            <a:ext cx="1490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51400" y="4267080"/>
            <a:ext cx="27000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4320" y="3962520"/>
            <a:ext cx="568944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09720" y="4267080"/>
            <a:ext cx="135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15560" y="4648320"/>
            <a:ext cx="1490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6680" y="4267080"/>
            <a:ext cx="2030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4040" y="3276720"/>
            <a:ext cx="1287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21400" y="2895480"/>
            <a:ext cx="1490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51400" y="2895120"/>
            <a:ext cx="27000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4320" y="3537000"/>
            <a:ext cx="568944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09720" y="3276720"/>
            <a:ext cx="135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15560" y="2895480"/>
            <a:ext cx="1490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06680" y="2895120"/>
            <a:ext cx="2030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67802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the lateral pressure exerted on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ateral pressure plus a dynamic pressure 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3600" y="2743200"/>
            <a:ext cx="203400" cy="99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3600" y="2057400"/>
            <a:ext cx="20340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182760" y="2057400"/>
            <a:ext cx="542880" cy="1676520"/>
            <a:chOff x="3182760" y="2057400"/>
            <a:chExt cx="542880" cy="1676520"/>
          </a:xfrm>
        </p:grpSpPr>
        <p:sp>
          <p:nvSpPr>
            <p:cNvPr id="109" name=""/>
            <p:cNvSpPr/>
            <p:nvPr/>
          </p:nvSpPr>
          <p:spPr>
            <a:xfrm>
              <a:off x="3522240" y="2209680"/>
              <a:ext cx="203400" cy="1524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2240" y="2057400"/>
              <a:ext cx="203400" cy="1676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82760" y="3505320"/>
              <a:ext cx="40716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2240" y="3505320"/>
              <a:ext cx="13536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182760" y="3733920"/>
            <a:ext cx="54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54800" y="2057400"/>
            <a:ext cx="1523520" cy="1676520"/>
            <a:chOff x="5554800" y="2057400"/>
            <a:chExt cx="1523520" cy="1676520"/>
          </a:xfrm>
        </p:grpSpPr>
        <p:sp>
          <p:nvSpPr>
            <p:cNvPr id="115" name=""/>
            <p:cNvSpPr/>
            <p:nvPr/>
          </p:nvSpPr>
          <p:spPr>
            <a:xfrm>
              <a:off x="6875280" y="2514600"/>
              <a:ext cx="203040" cy="1219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280" y="2057400"/>
              <a:ext cx="203040" cy="1676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554800" y="2057400"/>
              <a:ext cx="541080" cy="1676520"/>
              <a:chOff x="5554800" y="2057400"/>
              <a:chExt cx="541080" cy="1676520"/>
            </a:xfrm>
          </p:grpSpPr>
          <p:sp>
            <p:nvSpPr>
              <p:cNvPr id="118" name=""/>
              <p:cNvSpPr/>
              <p:nvPr/>
            </p:nvSpPr>
            <p:spPr>
              <a:xfrm>
                <a:off x="5893200" y="2209680"/>
                <a:ext cx="202680" cy="1524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93200" y="2057400"/>
                <a:ext cx="202680" cy="1676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54800" y="3505320"/>
                <a:ext cx="405720" cy="228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93200" y="3505320"/>
                <a:ext cx="135000" cy="228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015920" y="2057400"/>
            <a:ext cx="1523880" cy="1676520"/>
            <a:chOff x="1015920" y="2057400"/>
            <a:chExt cx="1523880" cy="1676520"/>
          </a:xfrm>
        </p:grpSpPr>
        <p:sp>
          <p:nvSpPr>
            <p:cNvPr id="123" name=""/>
            <p:cNvSpPr/>
            <p:nvPr/>
          </p:nvSpPr>
          <p:spPr>
            <a:xfrm>
              <a:off x="2336760" y="2514600"/>
              <a:ext cx="203040" cy="1219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36760" y="2057400"/>
              <a:ext cx="203040" cy="1676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15920" y="2057400"/>
              <a:ext cx="541440" cy="1676520"/>
              <a:chOff x="1015920" y="2057400"/>
              <a:chExt cx="541440" cy="1676520"/>
            </a:xfrm>
          </p:grpSpPr>
          <p:sp>
            <p:nvSpPr>
              <p:cNvPr id="126" name=""/>
              <p:cNvSpPr/>
              <p:nvPr/>
            </p:nvSpPr>
            <p:spPr>
              <a:xfrm>
                <a:off x="1354320" y="2209680"/>
                <a:ext cx="203040" cy="1524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354320" y="2057400"/>
                <a:ext cx="203040" cy="1676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15920" y="3505320"/>
                <a:ext cx="406080" cy="228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54320" y="3505320"/>
                <a:ext cx="135000" cy="228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1015920" y="3733920"/>
            <a:ext cx="5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4800" y="3733920"/>
            <a:ext cx="54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2209680"/>
            <a:ext cx="6705720" cy="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440" y="1447920"/>
            <a:ext cx="812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1640" y="12193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total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440" y="14479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335480" y="1523880"/>
            <a:ext cx="2700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3480" y="129528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static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35480" y="152388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72000" y="64008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density of the bl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2C3F-9C85-4948-A5D1-4AA0573F8B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rnoulli’s Equation for Ideal Fluid Fl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id is incompre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s and velocities along a stream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riction between the fluid and the w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id flow is laminar and steady st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teady stat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124080" y="2514600"/>
          <a:ext cx="601992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514600"/>
                    <a:ext cx="60199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22840" y="5715000"/>
          <a:ext cx="173988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2840" y="5715000"/>
                    <a:ext cx="1739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D00D-7D6F-4504-92D7-5D6EFBE57A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noulli’s Equ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teady stat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low potential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t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resulting from integration (see handout p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038480" y="2514600"/>
          <a:ext cx="46832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514600"/>
                    <a:ext cx="4683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4358-642E-4870-BA19-0BBCF35EFE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cosity and Newtonia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2709720" cy="23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3649680" y="1481040"/>
          <a:ext cx="387972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9680" y="1481040"/>
                    <a:ext cx="38797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3160" y="3811680"/>
            <a:ext cx="858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is moving under applied for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as a contact area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cosit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the ratio of shear stress to shear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ear stres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A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locity profi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linear so this is a Newtonian liq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uspensions such as blood are non-Newton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B44F-4CF2-4D9E-B0AF-AF6A0B300E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2:51:18Z</dcterms:created>
  <dc:creator>FtpDown</dc:creator>
  <dc:description/>
  <dc:language>en-US</dc:language>
  <cp:lastModifiedBy>Alexander I. Veress</cp:lastModifiedBy>
  <dcterms:modified xsi:type="dcterms:W3CDTF">2008-08-29T16:46:10Z</dcterms:modified>
  <cp:revision>142</cp:revision>
  <dc:subject/>
  <dc:title>幻灯片 1</dc:title>
</cp:coreProperties>
</file>