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7.png" ContentType="image/png"/>
  <Override PartName="/ppt/media/image4.gif" ContentType="image/gif"/>
  <Override PartName="/ppt/media/image30.wmf" ContentType="image/x-wmf"/>
  <Override PartName="/ppt/media/image33.jpeg" ContentType="image/jpeg"/>
  <Override PartName="/ppt/media/image26.png" ContentType="image/png"/>
  <Override PartName="/ppt/media/image3.gif" ContentType="image/gif"/>
  <Override PartName="/ppt/media/image5.jpeg" ContentType="image/jpeg"/>
  <Override PartName="/ppt/media/image32.jpeg" ContentType="image/jpeg"/>
  <Override PartName="/ppt/media/image9.wmf" ContentType="image/x-wmf"/>
  <Override PartName="/ppt/media/image8.wmf" ContentType="image/x-wmf"/>
  <Override PartName="/ppt/media/image13.png" ContentType="image/png"/>
  <Override PartName="/ppt/media/image37.wmf" ContentType="image/x-wmf"/>
  <Override PartName="/ppt/media/image7.wmf" ContentType="image/x-wmf"/>
  <Override PartName="/ppt/media/image12.png" ContentType="image/png"/>
  <Override PartName="/ppt/media/image25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34.jpeg" ContentType="image/jpeg"/>
  <Override PartName="/ppt/media/image35.jpeg" ContentType="image/jpeg"/>
  <Override PartName="/ppt/media/image6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6.png" ContentType="image/png"/>
  <Override PartName="/ppt/media/image17.wmf" ContentType="image/x-wmf"/>
  <Override PartName="/ppt/media/image15.png" ContentType="image/png"/>
  <Override PartName="/ppt/media/image18.jpeg" ContentType="image/jpeg"/>
  <Override PartName="/ppt/media/image19.wmf" ContentType="image/x-wmf"/>
  <Override PartName="/ppt/media/image20.png" ContentType="image/png"/>
  <Override PartName="/ppt/media/image36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288588" cy="6858000"/>
  <p:notesSz cx="6249988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2496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424080" y="729360"/>
            <a:ext cx="5401080" cy="36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4960" y="4560480"/>
            <a:ext cx="499932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423720" y="720720"/>
            <a:ext cx="540072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833040" y="4560480"/>
            <a:ext cx="458172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ith alignment, pointwise difference in intensities and their gradients are minimized over the domain of the finite element mes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14400" y="376200"/>
            <a:ext cx="4321080" cy="28814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53520" y="3362040"/>
            <a:ext cx="5510520" cy="58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ormation the heart undergoes is documented in the standard cardiac images that are routinely used in diagnosis of cardiac function.  Hyperelastic warping takes a descritized representation of the template image and deforms it until it registers with the target image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14400" y="376200"/>
            <a:ext cx="4321080" cy="28814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53520" y="3362040"/>
            <a:ext cx="5510520" cy="58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yperelastic warping the image data, assumed material properties, and boundary conditions (if known) are inputs to the non-linear Warping FE model.  The deformation map and the stress and strain can be determined from the image data s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4400" y="376200"/>
            <a:ext cx="4321080" cy="28814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353520" y="3362040"/>
            <a:ext cx="5510520" cy="58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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yperelastic strain energy term found in standard FE analysis.  This term is an image based energy term that is simply the point-wise difference in pixel intensities (second Eq).  psi is the deformation map, C is the right deformation tensor, T is template image intensity, S is target image intensity, lambda is a penalty number which scales the image forc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A7D-7EFC-42D4-A97C-D40527C3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BC2-2C68-4045-A563-0D83D0EE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BA6-F085-45B4-9317-45A0F789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DE9-D16B-450F-AF45-B7069F1A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2F5-4144-4477-B512-622DF13F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8A0-8D77-494F-BF86-6D512429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9E9-599C-4F0B-86C6-DA954F99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E4D-F02E-444D-9035-B23BC3D3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6CF-282B-4657-80E0-8DB0A2A2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48C-B06B-4203-82E2-1EA1E169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5A5-DCF9-49EB-9C30-835E9AF5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C75-CC93-43CE-84FE-DB32D542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478E-2F55-49C5-AA30-47A31E438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9280" y="380520"/>
            <a:ext cx="8744040" cy="21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rmination of Deformation from Medical Imag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2160" y="3048120"/>
            <a:ext cx="502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exander I. Ve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earch Assistant Prof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artment of Mechanical 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versity of Washing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2124000" cy="2124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10280" y="5791320"/>
            <a:ext cx="35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SR class August 29,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3280" y="228240"/>
            <a:ext cx="1043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erence Image Determines For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06640" y="3352680"/>
            <a:ext cx="91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mplate Image              Uniaxial loading                  Target  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block1" descr=""/>
          <p:cNvPicPr/>
          <p:nvPr/>
        </p:nvPicPr>
        <p:blipFill>
          <a:blip r:embed="rId1"/>
          <a:srcRect l="0" t="0" r="18050" b="12870"/>
          <a:stretch/>
        </p:blipFill>
        <p:spPr>
          <a:xfrm>
            <a:off x="1054080" y="1638360"/>
            <a:ext cx="2154240" cy="1709640"/>
          </a:xfrm>
          <a:prstGeom prst="rect">
            <a:avLst/>
          </a:prstGeom>
          <a:ln w="0">
            <a:noFill/>
          </a:ln>
        </p:spPr>
      </p:pic>
      <p:pic>
        <p:nvPicPr>
          <p:cNvPr id="108" name="block3" descr=""/>
          <p:cNvPicPr/>
          <p:nvPr/>
        </p:nvPicPr>
        <p:blipFill>
          <a:blip r:embed="rId2"/>
          <a:srcRect l="3610" t="0" r="24067" b="19305"/>
          <a:stretch/>
        </p:blipFill>
        <p:spPr>
          <a:xfrm>
            <a:off x="6986520" y="1623960"/>
            <a:ext cx="2111400" cy="1758960"/>
          </a:xfrm>
          <a:prstGeom prst="rect">
            <a:avLst/>
          </a:prstGeom>
          <a:ln w="0">
            <a:noFill/>
          </a:ln>
        </p:spPr>
      </p:pic>
      <p:pic>
        <p:nvPicPr>
          <p:cNvPr id="109" name="block4" descr=""/>
          <p:cNvPicPr/>
          <p:nvPr/>
        </p:nvPicPr>
        <p:blipFill>
          <a:blip r:embed="rId3"/>
          <a:srcRect l="1214" t="0" r="27913" b="9581"/>
          <a:stretch/>
        </p:blipFill>
        <p:spPr>
          <a:xfrm>
            <a:off x="3919680" y="3946680"/>
            <a:ext cx="2131920" cy="1796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08520" y="6075360"/>
            <a:ext cx="23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fference Imag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block1" descr=""/>
          <p:cNvPicPr/>
          <p:nvPr/>
        </p:nvPicPr>
        <p:blipFill>
          <a:blip r:embed="rId4"/>
          <a:srcRect l="0" t="0" r="18050" b="12870"/>
          <a:stretch/>
        </p:blipFill>
        <p:spPr>
          <a:xfrm>
            <a:off x="3941640" y="1649520"/>
            <a:ext cx="2154240" cy="170964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001040" y="2219040"/>
            <a:ext cx="636120" cy="463320"/>
            <a:chOff x="4001040" y="2219040"/>
            <a:chExt cx="636120" cy="463320"/>
          </a:xfrm>
        </p:grpSpPr>
        <p:sp>
          <p:nvSpPr>
            <p:cNvPr id="113" name=""/>
            <p:cNvSpPr/>
            <p:nvPr/>
          </p:nvSpPr>
          <p:spPr>
            <a:xfrm flipH="1">
              <a:off x="4014000" y="2219040"/>
              <a:ext cx="618840" cy="21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4001040" y="2378520"/>
              <a:ext cx="62568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4001040" y="2533680"/>
              <a:ext cx="62568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005000" y="2682000"/>
              <a:ext cx="632160" cy="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251320" y="2230560"/>
            <a:ext cx="648000" cy="461160"/>
            <a:chOff x="5251320" y="2230560"/>
            <a:chExt cx="648000" cy="461160"/>
          </a:xfrm>
        </p:grpSpPr>
        <p:sp>
          <p:nvSpPr>
            <p:cNvPr id="118" name=""/>
            <p:cNvSpPr/>
            <p:nvPr/>
          </p:nvSpPr>
          <p:spPr>
            <a:xfrm>
              <a:off x="5274720" y="2230560"/>
              <a:ext cx="617400" cy="136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263920" y="2389680"/>
              <a:ext cx="623880" cy="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5263920" y="2544120"/>
              <a:ext cx="623880" cy="1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251320" y="2691360"/>
              <a:ext cx="648000" cy="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112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velopment of Warping For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0280" y="1689120"/>
            <a:ext cx="2170080" cy="1825560"/>
            <a:chOff x="260280" y="1689120"/>
            <a:chExt cx="2170080" cy="1825560"/>
          </a:xfrm>
        </p:grpSpPr>
        <p:pic>
          <p:nvPicPr>
            <p:cNvPr id="124" name="block1" descr=""/>
            <p:cNvPicPr/>
            <p:nvPr/>
          </p:nvPicPr>
          <p:blipFill>
            <a:blip r:embed="rId1"/>
            <a:srcRect l="3610" t="8044" r="31287" b="19305"/>
            <a:stretch/>
          </p:blipFill>
          <p:spPr>
            <a:xfrm>
              <a:off x="260280" y="1689120"/>
              <a:ext cx="2170080" cy="182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"/>
            <p:cNvGrpSpPr/>
            <p:nvPr/>
          </p:nvGrpSpPr>
          <p:grpSpPr>
            <a:xfrm>
              <a:off x="1042560" y="2139840"/>
              <a:ext cx="766800" cy="706320"/>
              <a:chOff x="1042560" y="2139840"/>
              <a:chExt cx="766800" cy="706320"/>
            </a:xfrm>
          </p:grpSpPr>
          <p:sp>
            <p:nvSpPr>
              <p:cNvPr id="126" name=""/>
              <p:cNvSpPr/>
              <p:nvPr/>
            </p:nvSpPr>
            <p:spPr>
              <a:xfrm>
                <a:off x="1042560" y="2139840"/>
                <a:ext cx="0" cy="7063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19240" y="2139840"/>
                <a:ext cx="0" cy="7063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95920" y="2139840"/>
                <a:ext cx="0" cy="7063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272600" y="2139840"/>
                <a:ext cx="0" cy="7063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349280" y="2139840"/>
                <a:ext cx="0" cy="7063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26320" y="2139840"/>
                <a:ext cx="0" cy="7063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502640" y="2139840"/>
                <a:ext cx="0" cy="7063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79320" y="2139840"/>
                <a:ext cx="0" cy="7063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56360" y="2139840"/>
                <a:ext cx="0" cy="7063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32680" y="2139840"/>
                <a:ext cx="0" cy="7063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09360" y="2139840"/>
                <a:ext cx="0" cy="7063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42560" y="2139840"/>
                <a:ext cx="766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42560" y="2846160"/>
                <a:ext cx="766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42560" y="2775240"/>
                <a:ext cx="766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42560" y="2705040"/>
                <a:ext cx="766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42560" y="2634120"/>
                <a:ext cx="766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042560" y="2563560"/>
                <a:ext cx="766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042560" y="2493000"/>
                <a:ext cx="766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42560" y="2422440"/>
                <a:ext cx="766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560" y="2351520"/>
                <a:ext cx="766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042560" y="2280960"/>
                <a:ext cx="766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42560" y="2210400"/>
                <a:ext cx="766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2668680" y="1689120"/>
            <a:ext cx="2200320" cy="1833480"/>
            <a:chOff x="2668680" y="1689120"/>
            <a:chExt cx="2200320" cy="1833480"/>
          </a:xfrm>
        </p:grpSpPr>
        <p:grpSp>
          <p:nvGrpSpPr>
            <p:cNvPr id="149" name=""/>
            <p:cNvGrpSpPr/>
            <p:nvPr/>
          </p:nvGrpSpPr>
          <p:grpSpPr>
            <a:xfrm>
              <a:off x="2668680" y="1689120"/>
              <a:ext cx="2200320" cy="1833480"/>
              <a:chOff x="2668680" y="1689120"/>
              <a:chExt cx="2200320" cy="1833480"/>
            </a:xfrm>
          </p:grpSpPr>
          <p:pic>
            <p:nvPicPr>
              <p:cNvPr id="150" name="block3" descr=""/>
              <p:cNvPicPr/>
              <p:nvPr/>
            </p:nvPicPr>
            <p:blipFill>
              <a:blip r:embed="rId2"/>
              <a:srcRect l="3610" t="0" r="24067" b="19305"/>
              <a:stretch/>
            </p:blipFill>
            <p:spPr>
              <a:xfrm>
                <a:off x="2668680" y="1689120"/>
                <a:ext cx="2200320" cy="1833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1" name=""/>
              <p:cNvGrpSpPr/>
              <p:nvPr/>
            </p:nvGrpSpPr>
            <p:grpSpPr>
              <a:xfrm>
                <a:off x="3381480" y="1900440"/>
                <a:ext cx="722520" cy="342360"/>
                <a:chOff x="3381480" y="1900440"/>
                <a:chExt cx="722520" cy="342360"/>
              </a:xfrm>
            </p:grpSpPr>
            <p:sp>
              <p:nvSpPr>
                <p:cNvPr id="152" name=""/>
                <p:cNvSpPr/>
                <p:nvPr/>
              </p:nvSpPr>
              <p:spPr>
                <a:xfrm flipV="1">
                  <a:off x="3381480" y="1900440"/>
                  <a:ext cx="0" cy="342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3622680" y="1900440"/>
                  <a:ext cx="0" cy="342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863160" y="1900440"/>
                  <a:ext cx="0" cy="342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4104000" y="1900440"/>
                  <a:ext cx="0" cy="342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367800" y="2957760"/>
                <a:ext cx="735840" cy="342360"/>
                <a:chOff x="3367800" y="2957760"/>
                <a:chExt cx="735840" cy="342360"/>
              </a:xfrm>
            </p:grpSpPr>
            <p:sp>
              <p:nvSpPr>
                <p:cNvPr id="157" name=""/>
                <p:cNvSpPr/>
                <p:nvPr/>
              </p:nvSpPr>
              <p:spPr>
                <a:xfrm flipV="1">
                  <a:off x="3367800" y="2957760"/>
                  <a:ext cx="0" cy="342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3613320" y="2957760"/>
                  <a:ext cx="0" cy="342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3858480" y="2957760"/>
                  <a:ext cx="0" cy="342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4103640" y="2957760"/>
                  <a:ext cx="0" cy="342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" name=""/>
            <p:cNvGrpSpPr/>
            <p:nvPr/>
          </p:nvGrpSpPr>
          <p:grpSpPr>
            <a:xfrm>
              <a:off x="3357000" y="2249640"/>
              <a:ext cx="765720" cy="699480"/>
              <a:chOff x="3357000" y="2249640"/>
              <a:chExt cx="765720" cy="69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3357000" y="2249640"/>
                <a:ext cx="0" cy="6994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33680" y="2249640"/>
                <a:ext cx="0" cy="6994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10360" y="2249640"/>
                <a:ext cx="0" cy="6994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86680" y="2249640"/>
                <a:ext cx="0" cy="6994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63360" y="2249640"/>
                <a:ext cx="0" cy="6994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740040" y="2249640"/>
                <a:ext cx="0" cy="6994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16360" y="2249640"/>
                <a:ext cx="0" cy="6994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893040" y="2249640"/>
                <a:ext cx="0" cy="6994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69720" y="2249640"/>
                <a:ext cx="0" cy="6994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046040" y="2249640"/>
                <a:ext cx="0" cy="6994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22720" y="2249640"/>
                <a:ext cx="0" cy="6994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57000" y="2249640"/>
                <a:ext cx="76572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357000" y="2949120"/>
                <a:ext cx="76572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57000" y="2878920"/>
                <a:ext cx="76572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57000" y="2809080"/>
                <a:ext cx="76572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57000" y="2739240"/>
                <a:ext cx="76572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57000" y="2669040"/>
                <a:ext cx="76572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57000" y="2599560"/>
                <a:ext cx="76572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7000" y="2529360"/>
                <a:ext cx="76572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57000" y="2459160"/>
                <a:ext cx="76572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57000" y="2389680"/>
                <a:ext cx="76572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57000" y="2319480"/>
                <a:ext cx="76572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5108400" y="1689120"/>
            <a:ext cx="2200320" cy="1833480"/>
            <a:chOff x="5108400" y="1689120"/>
            <a:chExt cx="2200320" cy="1833480"/>
          </a:xfrm>
        </p:grpSpPr>
        <p:pic>
          <p:nvPicPr>
            <p:cNvPr id="185" name="block3" descr=""/>
            <p:cNvPicPr/>
            <p:nvPr/>
          </p:nvPicPr>
          <p:blipFill>
            <a:blip r:embed="rId3"/>
            <a:srcRect l="3610" t="0" r="24067" b="19305"/>
            <a:stretch/>
          </p:blipFill>
          <p:spPr>
            <a:xfrm>
              <a:off x="5108400" y="1689120"/>
              <a:ext cx="2200320" cy="183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"/>
            <p:cNvGrpSpPr/>
            <p:nvPr/>
          </p:nvGrpSpPr>
          <p:grpSpPr>
            <a:xfrm>
              <a:off x="5757480" y="2021040"/>
              <a:ext cx="834840" cy="221760"/>
              <a:chOff x="5757480" y="2021040"/>
              <a:chExt cx="834840" cy="221760"/>
            </a:xfrm>
          </p:grpSpPr>
          <p:sp>
            <p:nvSpPr>
              <p:cNvPr id="187" name=""/>
              <p:cNvSpPr/>
              <p:nvPr/>
            </p:nvSpPr>
            <p:spPr>
              <a:xfrm flipV="1">
                <a:off x="5757480" y="2021040"/>
                <a:ext cx="0" cy="22176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036120" y="2021040"/>
                <a:ext cx="0" cy="22176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6314040" y="2021040"/>
                <a:ext cx="0" cy="22176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6592320" y="2021040"/>
                <a:ext cx="0" cy="22176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736600" y="2958120"/>
              <a:ext cx="863640" cy="221760"/>
              <a:chOff x="5736600" y="2958120"/>
              <a:chExt cx="863640" cy="221760"/>
            </a:xfrm>
          </p:grpSpPr>
          <p:sp>
            <p:nvSpPr>
              <p:cNvPr id="192" name=""/>
              <p:cNvSpPr/>
              <p:nvPr/>
            </p:nvSpPr>
            <p:spPr>
              <a:xfrm flipV="1">
                <a:off x="5736600" y="2958120"/>
                <a:ext cx="0" cy="22176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6024600" y="2958120"/>
                <a:ext cx="0" cy="22176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6312600" y="2958120"/>
                <a:ext cx="0" cy="22176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6600240" y="2958120"/>
                <a:ext cx="0" cy="22176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740200" y="2299320"/>
              <a:ext cx="864360" cy="607680"/>
              <a:chOff x="5740200" y="2299320"/>
              <a:chExt cx="864360" cy="607680"/>
            </a:xfrm>
          </p:grpSpPr>
          <p:sp>
            <p:nvSpPr>
              <p:cNvPr id="197" name=""/>
              <p:cNvSpPr/>
              <p:nvPr/>
            </p:nvSpPr>
            <p:spPr>
              <a:xfrm>
                <a:off x="5740200" y="2299320"/>
                <a:ext cx="0" cy="6076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26600" y="2299320"/>
                <a:ext cx="0" cy="6076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913360" y="2299320"/>
                <a:ext cx="0" cy="6076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99400" y="2299320"/>
                <a:ext cx="0" cy="6076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085800" y="2299320"/>
                <a:ext cx="0" cy="6076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172560" y="2299320"/>
                <a:ext cx="0" cy="6076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258600" y="2299320"/>
                <a:ext cx="0" cy="6076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345360" y="2299320"/>
                <a:ext cx="0" cy="6076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431760" y="2299320"/>
                <a:ext cx="0" cy="6076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518160" y="2299320"/>
                <a:ext cx="0" cy="6076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04560" y="2299320"/>
                <a:ext cx="0" cy="6076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40200" y="2299320"/>
                <a:ext cx="86436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40200" y="2907000"/>
                <a:ext cx="86436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40200" y="2846160"/>
                <a:ext cx="86436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40200" y="2785320"/>
                <a:ext cx="86436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40200" y="2724480"/>
                <a:ext cx="86436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40200" y="2663640"/>
                <a:ext cx="86436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40200" y="2603160"/>
                <a:ext cx="86436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40200" y="2542320"/>
                <a:ext cx="86436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40200" y="2481480"/>
                <a:ext cx="86436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40200" y="2421000"/>
                <a:ext cx="86436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40200" y="2360160"/>
                <a:ext cx="86436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"/>
          <p:cNvGrpSpPr/>
          <p:nvPr/>
        </p:nvGrpSpPr>
        <p:grpSpPr>
          <a:xfrm>
            <a:off x="7547040" y="1689120"/>
            <a:ext cx="2200320" cy="1832040"/>
            <a:chOff x="7547040" y="1689120"/>
            <a:chExt cx="2200320" cy="1832040"/>
          </a:xfrm>
        </p:grpSpPr>
        <p:pic>
          <p:nvPicPr>
            <p:cNvPr id="220" name="block3" descr=""/>
            <p:cNvPicPr/>
            <p:nvPr/>
          </p:nvPicPr>
          <p:blipFill>
            <a:blip r:embed="rId4"/>
            <a:srcRect l="3610" t="0" r="24067" b="19305"/>
            <a:stretch/>
          </p:blipFill>
          <p:spPr>
            <a:xfrm>
              <a:off x="7547040" y="1689120"/>
              <a:ext cx="2200320" cy="1832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"/>
            <p:cNvGrpSpPr/>
            <p:nvPr/>
          </p:nvGrpSpPr>
          <p:grpSpPr>
            <a:xfrm>
              <a:off x="8171280" y="2334960"/>
              <a:ext cx="892800" cy="528840"/>
              <a:chOff x="8171280" y="2334960"/>
              <a:chExt cx="892800" cy="528840"/>
            </a:xfrm>
          </p:grpSpPr>
          <p:sp>
            <p:nvSpPr>
              <p:cNvPr id="222" name=""/>
              <p:cNvSpPr/>
              <p:nvPr/>
            </p:nvSpPr>
            <p:spPr>
              <a:xfrm>
                <a:off x="8171280" y="2334960"/>
                <a:ext cx="0" cy="52884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260560" y="2334960"/>
                <a:ext cx="0" cy="52884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349840" y="2334960"/>
                <a:ext cx="0" cy="52884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439120" y="2334960"/>
                <a:ext cx="0" cy="52884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528400" y="2334960"/>
                <a:ext cx="0" cy="52884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618040" y="2334960"/>
                <a:ext cx="0" cy="52884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706960" y="2334960"/>
                <a:ext cx="0" cy="52884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796240" y="2334960"/>
                <a:ext cx="0" cy="52884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885880" y="2334960"/>
                <a:ext cx="0" cy="52884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974800" y="2334960"/>
                <a:ext cx="0" cy="52884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064080" y="2334960"/>
                <a:ext cx="0" cy="52884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171280" y="2334960"/>
                <a:ext cx="892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71280" y="2863800"/>
                <a:ext cx="892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171280" y="2810880"/>
                <a:ext cx="892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171280" y="2757960"/>
                <a:ext cx="892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171280" y="2705040"/>
                <a:ext cx="892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171280" y="2652120"/>
                <a:ext cx="892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171280" y="2599560"/>
                <a:ext cx="892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171280" y="2546280"/>
                <a:ext cx="892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171280" y="2493360"/>
                <a:ext cx="892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71280" y="2440800"/>
                <a:ext cx="892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171280" y="2387880"/>
                <a:ext cx="892800" cy="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8189280" y="2879640"/>
              <a:ext cx="863640" cy="115560"/>
              <a:chOff x="8189280" y="2879640"/>
              <a:chExt cx="863640" cy="115560"/>
            </a:xfrm>
          </p:grpSpPr>
          <p:sp>
            <p:nvSpPr>
              <p:cNvPr id="245" name=""/>
              <p:cNvSpPr/>
              <p:nvPr/>
            </p:nvSpPr>
            <p:spPr>
              <a:xfrm flipV="1">
                <a:off x="8189280" y="2879640"/>
                <a:ext cx="0" cy="11556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8477280" y="2879640"/>
                <a:ext cx="0" cy="11556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8765280" y="2879640"/>
                <a:ext cx="0" cy="11556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9052920" y="2879640"/>
                <a:ext cx="0" cy="11556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8202960" y="2184480"/>
              <a:ext cx="834840" cy="143640"/>
              <a:chOff x="8202960" y="2184480"/>
              <a:chExt cx="834840" cy="143640"/>
            </a:xfrm>
          </p:grpSpPr>
          <p:sp>
            <p:nvSpPr>
              <p:cNvPr id="250" name=""/>
              <p:cNvSpPr/>
              <p:nvPr/>
            </p:nvSpPr>
            <p:spPr>
              <a:xfrm flipV="1">
                <a:off x="8202960" y="2184480"/>
                <a:ext cx="0" cy="1436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8481600" y="2184480"/>
                <a:ext cx="0" cy="1436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8759520" y="2184480"/>
                <a:ext cx="0" cy="1436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9037800" y="2184480"/>
                <a:ext cx="0" cy="14364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" name=""/>
          <p:cNvSpPr/>
          <p:nvPr/>
        </p:nvSpPr>
        <p:spPr>
          <a:xfrm>
            <a:off x="259200" y="359424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mpl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73280" y="3594240"/>
            <a:ext cx="20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rget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empl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erimp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46560" y="3594240"/>
            <a:ext cx="24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ration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s de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rping fo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26520" y="3594240"/>
            <a:ext cx="216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align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wi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intens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i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dients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the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chanical properties of the myocardium change as a function of hypertension, and these changes in material properties can be seen in the altered diastolic function of the LV over the course of the life of the subj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91393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5192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44960" indent="-444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nually segment (A) from imaging dat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960" indent="-444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gmented curves define surfa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960" indent="-444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E mesh created from surface definitions (B) using TrueGrid pre-processor (XYZ Scientific Applications, Inc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960" indent="-444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ypical model has 1000-7000 nodes and 500-5000 hexahedral, isoparametric element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960" indent="-444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dels analyzed using Nike3D FEM package (non-linear, large deformation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228600"/>
            <a:ext cx="998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nite Element Mechanical  Model Cre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791320" y="1295280"/>
          <a:ext cx="350496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295280"/>
                    <a:ext cx="350496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791320" y="3962520"/>
          <a:ext cx="3506760" cy="25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962520"/>
                    <a:ext cx="350676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019920" y="144792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11480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620120" y="1752480"/>
            <a:ext cx="609480" cy="53352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0120" y="2743200"/>
            <a:ext cx="914400" cy="53352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88640" y="14130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car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512920" y="30481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ocar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jection Fra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209680"/>
            <a:ext cx="3390840" cy="304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29080" y="2209680"/>
            <a:ext cx="533160" cy="18288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47680" y="571500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80880" y="1752480"/>
            <a:ext cx="5521320" cy="4357800"/>
            <a:chOff x="380880" y="1752480"/>
            <a:chExt cx="5521320" cy="4357800"/>
          </a:xfrm>
        </p:grpSpPr>
        <p:graphicFrame>
          <p:nvGraphicFramePr>
            <p:cNvPr id="278" name=""/>
            <p:cNvGraphicFramePr/>
            <p:nvPr/>
          </p:nvGraphicFramePr>
          <p:xfrm>
            <a:off x="380880" y="1752480"/>
            <a:ext cx="5521320" cy="435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752480"/>
                      <a:ext cx="5521320" cy="435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"/>
            <p:cNvSpPr/>
            <p:nvPr/>
          </p:nvSpPr>
          <p:spPr>
            <a:xfrm>
              <a:off x="5257440" y="5486400"/>
              <a:ext cx="5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039720" y="1981080"/>
            <a:ext cx="4251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jection Fraction does 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 the effects of the increa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sure within the LV for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R subjects compared with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 contro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othesis:  A direct meas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deformation such as stra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be more sensitive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ardiac function due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erten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12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sults:  SHR Temporal Stud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5372280" cy="50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year study of 2 SHR rats and a normotensive control (WKY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or no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DG uptake in second year of life of contr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ral wall or anterior/lateral wall shows the largest de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figure9aiv" descr=""/>
          <p:cNvPicPr/>
          <p:nvPr/>
        </p:nvPicPr>
        <p:blipFill>
          <a:blip r:embed="rId1"/>
          <a:stretch/>
        </p:blipFill>
        <p:spPr>
          <a:xfrm>
            <a:off x="5938920" y="200160"/>
            <a:ext cx="4348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429000" y="533520"/>
            <a:ext cx="33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752480"/>
            <a:ext cx="10287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appears to be little difference in EF between SHR and WK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fferences in diastolic deformation between SHR and WKY appear in the second year of lif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teral  and anterior/lateral wall experiences greatest deformation during diastole resulting from the greater pressure lo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201080" y="1295280"/>
            <a:ext cx="2943000" cy="3059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048440" y="3657600"/>
            <a:ext cx="323856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600360" y="2895480"/>
            <a:ext cx="2552760" cy="25196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28760" y="4114800"/>
            <a:ext cx="2057400" cy="489960"/>
          </a:xfrm>
          <a:prstGeom prst="wedgeRectCallout">
            <a:avLst>
              <a:gd name="adj1" fmla="val 43907"/>
              <a:gd name="adj2" fmla="val -139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tty aci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7120" y="1905120"/>
            <a:ext cx="17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orm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68040" y="601992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19840" y="1066680"/>
            <a:ext cx="3467160" cy="762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64040" y="357120"/>
            <a:ext cx="427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Major Fuel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for the Myocardi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09760" y="3124080"/>
            <a:ext cx="2133720" cy="685800"/>
          </a:xfrm>
          <a:prstGeom prst="rightArrow">
            <a:avLst>
              <a:gd name="adj1" fmla="val 50000"/>
              <a:gd name="adj2" fmla="val 7778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210000" y="3962160"/>
            <a:ext cx="3845880" cy="1557000"/>
            <a:chOff x="6210000" y="3962160"/>
            <a:chExt cx="3845880" cy="1557000"/>
          </a:xfrm>
        </p:grpSpPr>
        <p:sp>
          <p:nvSpPr>
            <p:cNvPr id="297" name=""/>
            <p:cNvSpPr/>
            <p:nvPr/>
          </p:nvSpPr>
          <p:spPr>
            <a:xfrm>
              <a:off x="8497440" y="4343400"/>
              <a:ext cx="155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Stress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6210000" y="3962160"/>
              <a:ext cx="2972160" cy="1557000"/>
              <a:chOff x="6210000" y="3962160"/>
              <a:chExt cx="2972160" cy="1557000"/>
            </a:xfrm>
          </p:grpSpPr>
          <p:sp>
            <p:nvSpPr>
              <p:cNvPr id="299" name=""/>
              <p:cNvSpPr/>
              <p:nvPr/>
            </p:nvSpPr>
            <p:spPr>
              <a:xfrm>
                <a:off x="7124760" y="5029200"/>
                <a:ext cx="2057400" cy="489960"/>
              </a:xfrm>
              <a:prstGeom prst="wedgeRectCallout">
                <a:avLst>
                  <a:gd name="adj1" fmla="val -44370"/>
                  <a:gd name="adj2" fmla="val -147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Glucose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0800000">
                <a:off x="6210000" y="3962160"/>
                <a:ext cx="2133720" cy="685800"/>
              </a:xfrm>
              <a:prstGeom prst="rightArrow">
                <a:avLst>
                  <a:gd name="adj1" fmla="val 50000"/>
                  <a:gd name="adj2" fmla="val 77782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imitations of Warp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n only be used to analyze passive mechanics such as diastolic relaxation and fill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alysis of systolic contraction leads to element inversion and incomplete analysis of the problem (poor image registration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41280" y="1027080"/>
            <a:ext cx="6554880" cy="49165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238560" y="1522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inhole SP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57960" y="3200400"/>
            <a:ext cx="34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 1sec projections (12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128) per r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 rotations (1h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10200" y="137160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00760" y="2362320"/>
            <a:ext cx="3486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jected 5mCi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-BMI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radio labeled fatty acid analog)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87600" y="52578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×80×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85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81960" y="4724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co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1905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cqui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9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9280" y="10666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ian use qualitative measures such as wall motion and wall thickening to estimate cardiac wall heal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ormation is a direct measure of cardiac contraction and dilation which can provide valuable information on cardiac function and viability of diseased tiss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ormation and wall strain may be determined from tagged M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734000" y="49320"/>
            <a:ext cx="3354480" cy="286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"/>
          <p:cNvGraphicFramePr/>
          <p:nvPr/>
        </p:nvGraphicFramePr>
        <p:xfrm>
          <a:off x="857160" y="76320"/>
          <a:ext cx="3171960" cy="28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76320"/>
                    <a:ext cx="317196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028880" y="2819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KY (no mar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81680" y="28144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R (no mar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57200" y="6164280"/>
            <a:ext cx="25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KY (bl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43560" y="615312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R (r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95960" y="2286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ffff00"/>
                </a:solidFill>
                <a:latin typeface="Times New Roman"/>
              </a:rPr>
              <a:t>123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-BMIP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96200" y="1371600"/>
            <a:ext cx="1990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lf a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R shows similar fatty acid uptake as WKY norm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4724280" y="3414600"/>
            <a:ext cx="3373560" cy="2824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847800" y="61920"/>
            <a:ext cx="3363840" cy="28209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6"/>
          <a:stretch/>
        </p:blipFill>
        <p:spPr>
          <a:xfrm>
            <a:off x="851040" y="3409920"/>
            <a:ext cx="33447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857160" y="76320"/>
          <a:ext cx="317196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76320"/>
                    <a:ext cx="317196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4714920" y="84240"/>
          <a:ext cx="3171960" cy="28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84240"/>
                    <a:ext cx="3171960" cy="28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857160" y="3429000"/>
          <a:ext cx="3171960" cy="281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429000"/>
                    <a:ext cx="31719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1023840" y="2828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KY (no mar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81680" y="28144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R (no mar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57200" y="6164280"/>
            <a:ext cx="25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KY (bl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43560" y="615312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R (r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730760" y="3429000"/>
          <a:ext cx="3156120" cy="281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30760" y="3429000"/>
                    <a:ext cx="31561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095960" y="2286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ffff00"/>
                </a:solidFill>
                <a:latin typeface="Times New Roman"/>
              </a:rPr>
              <a:t>123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-BMIP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924680" y="1447920"/>
            <a:ext cx="236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 a year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R Shows decreased fatty acid upta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9753480" cy="5257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art Struct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rward model of the left ventricle (LV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yperelastic Warping to determine the deformation of the LV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ctive Contraction Warp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e Contraction War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active contraction component has been added to Warping in order to analyze systolic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, literature values of active contraction stress were u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e contraction was coupled to amount of image mismatch between descritized template and target im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pling of Active Contraction with Image Mismat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2971800"/>
            <a:ext cx="874404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s shape of activation curv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iously, literature values were use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have coupled this term to the average image intensity difference in the left ventricle wall.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alty parameter used to enforce the contr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s uniform contraction across the LV w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482840" y="1905120"/>
          <a:ext cx="7323120" cy="117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905120"/>
                    <a:ext cx="732312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2452680" y="5562720"/>
          <a:ext cx="561492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52680" y="5562720"/>
                    <a:ext cx="561492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9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son with tagged-MRI Im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37960" y="1447920"/>
            <a:ext cx="4943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ormations were determined of a single mid-ventricular slice from a normal human subject imaged using PET and analyzed with augmented Warp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d with tagged MRI images from the same patient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ETc234" descr=""/>
          <p:cNvPicPr/>
          <p:nvPr/>
        </p:nvPicPr>
        <p:blipFill>
          <a:blip r:embed="rId1"/>
          <a:stretch/>
        </p:blipFill>
        <p:spPr>
          <a:xfrm>
            <a:off x="7772400" y="1371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7848000" y="327672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-systo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88800" y="91440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T images used in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60920" y="3276720"/>
            <a:ext cx="17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-diasto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mp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ETc24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09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son with tagged-MRI Im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37960" y="1447920"/>
            <a:ext cx="4943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ormations were determined of a single mid-ventricular slice from a normal human subject imaged using PET and analyzed with augmented Warp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d with tagged MRI images from the same patient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PETc234" descr=""/>
          <p:cNvPicPr/>
          <p:nvPr/>
        </p:nvPicPr>
        <p:blipFill>
          <a:blip r:embed="rId1"/>
          <a:stretch/>
        </p:blipFill>
        <p:spPr>
          <a:xfrm>
            <a:off x="7772400" y="1371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7848000" y="327672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-systo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88800" y="91440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T images used in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60920" y="3276720"/>
            <a:ext cx="17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-diasto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mp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9" name="PETc24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0" name="MRIc276" descr=""/>
          <p:cNvPicPr/>
          <p:nvPr/>
        </p:nvPicPr>
        <p:blipFill>
          <a:blip r:embed="rId3"/>
          <a:stretch/>
        </p:blipFill>
        <p:spPr>
          <a:xfrm>
            <a:off x="7848720" y="4343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1" name="MRIc612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son with tagged MRI im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43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 registration (epi- and endocardial surfaces) using the PET images compared to MRI end-systolic image indicates excellent registration was achieved through analysis of PET imag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petmrregistration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430560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itial Comparison of Quadrant Circumferential Strain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62120" y="2743200"/>
          <a:ext cx="8678880" cy="122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867888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873720" y="5486400"/>
            <a:ext cx="86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V split into 8 regions.  Initial strain results indicate good agre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373392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monic phase MRI (HAR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124080" y="380880"/>
            <a:ext cx="33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1219320"/>
            <a:ext cx="9525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ugmented Warping shows promise in the analysis of systolic contraction as demonstrated by analysis of PET patient dat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tire heart will be analyzed and the deformations will be compared with harmonic phase MRI (HARP) analyzed tagged MRI deformation dat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7748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ormation Determined by Tagged MR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687708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es of myocardial tissue are marked or “tagged” using spatially selective radiofrequency pulses that appear as dark lines in the MR imag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gs move with the underlying tissue and can be tracked over the heart cycle using gated imag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gged image strain analysis has a course spatial resolution (6 mm tag spacing optimal [1]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used clinically probably due to time, two or three orthogonal acquisitions are necessary, and expen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240" y="649116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[1]     Atalaret al. (1994), IEEE Trans Med Imag </a:t>
            </a: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13</a:t>
            </a: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(1), pp. 152-1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24640" y="16272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ribu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vestig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t Gullberg, Lawrence Berkeley La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ff Weiss, Bioengineering, U. Ut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. Paul Segars, Radiology,  Duke Univers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velopment Sta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ve Maas, Bioengineering, U. Ut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there regional differences in wall deformation (strain) between normal and hypertensive rats over the animals two year life sp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ed PET image data was gathered to determine metabolic differences as well as to be used to determine de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84480" y="2055960"/>
            <a:ext cx="2440080" cy="243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8440" y="2055960"/>
            <a:ext cx="2439720" cy="2439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318360" y="1600200"/>
            <a:ext cx="3244680" cy="3475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88080" y="4114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croPET I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08080" y="3852720"/>
            <a:ext cx="12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rmot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96840" y="385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ypert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60" y="88920"/>
            <a:ext cx="99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blem: PET Imaging was used to monitor disease progression in normal and SHR rats over lifespan of 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724280"/>
            <a:ext cx="58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stolic deformation was determined from images acquired over life spans of normotensive and spontaneously hypertensive rats (SH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6720" y="594360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s acquired at UC Dav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5105520"/>
            <a:ext cx="3962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-18 Fluoro-2-Deoxygluc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DG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ilable Infor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ject-specific geometry from PET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priate material model and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ber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ed on literature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ing and boundary condi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aventricular pressures not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25380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ement of Deformation using Hyperelastic War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eformation map will make the template image deform to look like the target imag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895480" y="2590920"/>
            <a:ext cx="5297400" cy="3870720"/>
            <a:chOff x="2895480" y="2590920"/>
            <a:chExt cx="5297400" cy="3870720"/>
          </a:xfrm>
        </p:grpSpPr>
        <p:sp>
          <p:nvSpPr>
            <p:cNvPr id="71" name=""/>
            <p:cNvSpPr/>
            <p:nvPr/>
          </p:nvSpPr>
          <p:spPr>
            <a:xfrm>
              <a:off x="3270240" y="5757840"/>
              <a:ext cx="1956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adada"/>
                  </a:solidFill>
                  <a:latin typeface="Times New Roman"/>
                </a:rPr>
                <a:t>Template Im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adada"/>
                  </a:solidFill>
                  <a:latin typeface="Times New Roman"/>
                </a:rPr>
                <a:t>end-systo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12440" y="57355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adada"/>
                  </a:solidFill>
                  <a:latin typeface="Times New Roman"/>
                </a:rPr>
                <a:t>Target Im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adada"/>
                  </a:solidFill>
                  <a:latin typeface="Times New Roman"/>
                </a:rPr>
                <a:t>end-diasto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06600" y="2590920"/>
              <a:ext cx="95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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(X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4206600" y="2933640"/>
              <a:ext cx="2414880" cy="547560"/>
              <a:chOff x="4206600" y="2933640"/>
              <a:chExt cx="2414880" cy="547560"/>
            </a:xfrm>
          </p:grpSpPr>
          <p:sp>
            <p:nvSpPr>
              <p:cNvPr id="75" name=""/>
              <p:cNvSpPr/>
              <p:nvPr/>
            </p:nvSpPr>
            <p:spPr>
              <a:xfrm>
                <a:off x="4206600" y="2933640"/>
                <a:ext cx="2283120" cy="5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336920" y="2933640"/>
                <a:ext cx="2284560" cy="5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189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1892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2895480" y="3305160"/>
              <a:ext cx="5297400" cy="20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5824440" y="258912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ormation 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1760" y="3716280"/>
            <a:ext cx="24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olic relax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stolic fill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75880" y="5234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50960" y="2405160"/>
          <a:ext cx="865980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2405160"/>
                    <a:ext cx="865980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973440" y="5562720"/>
            <a:ext cx="90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ite element model is a descritization of the image in addition to be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presentation of the L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7120" y="280800"/>
            <a:ext cx="892656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erelastic Warping - Based on Computational Solid Mechan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98320" y="4557600"/>
          <a:ext cx="4658040" cy="8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" y="4557600"/>
                    <a:ext cx="465804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3600" y="1635120"/>
            <a:ext cx="9418680" cy="1292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functional contains elastic energy and image-based 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3120" y="3100320"/>
          <a:ext cx="794412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120" y="3100320"/>
                    <a:ext cx="79441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09600" y="3851280"/>
            <a:ext cx="53290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s the deformation 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s the right deformation tens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42840" y="5521320"/>
            <a:ext cx="33130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5360" bIns="45360" anchor="t">
            <a:sp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s template image inten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s target image inten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s a penalty nu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43040" y="2523960"/>
            <a:ext cx="3409560" cy="660240"/>
            <a:chOff x="1643040" y="2523960"/>
            <a:chExt cx="3409560" cy="660240"/>
          </a:xfrm>
        </p:grpSpPr>
        <p:sp>
          <p:nvSpPr>
            <p:cNvPr id="93" name=""/>
            <p:cNvSpPr/>
            <p:nvPr/>
          </p:nvSpPr>
          <p:spPr>
            <a:xfrm>
              <a:off x="1906200" y="2523960"/>
              <a:ext cx="2811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Times New Roman"/>
                </a:rPr>
                <a:t>hyperelastic energy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1643040" y="2945880"/>
              <a:ext cx="3409560" cy="238320"/>
              <a:chOff x="1643040" y="2945880"/>
              <a:chExt cx="3409560" cy="238320"/>
            </a:xfrm>
          </p:grpSpPr>
          <p:sp>
            <p:nvSpPr>
              <p:cNvPr id="95" name=""/>
              <p:cNvSpPr/>
              <p:nvPr/>
            </p:nvSpPr>
            <p:spPr>
              <a:xfrm flipV="1">
                <a:off x="1643040" y="2947680"/>
                <a:ext cx="0" cy="23652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50960" y="2948040"/>
                <a:ext cx="3401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5043240" y="2945880"/>
                <a:ext cx="0" cy="23652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5407920" y="2523960"/>
            <a:ext cx="2864520" cy="703080"/>
            <a:chOff x="5407920" y="2523960"/>
            <a:chExt cx="2864520" cy="703080"/>
          </a:xfrm>
        </p:grpSpPr>
        <p:sp>
          <p:nvSpPr>
            <p:cNvPr id="99" name=""/>
            <p:cNvSpPr/>
            <p:nvPr/>
          </p:nvSpPr>
          <p:spPr>
            <a:xfrm>
              <a:off x="5407920" y="2523960"/>
              <a:ext cx="2864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Times New Roman"/>
                </a:rPr>
                <a:t>image-based energy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59040" y="2990520"/>
              <a:ext cx="0" cy="236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65520" y="2990880"/>
              <a:ext cx="2733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8191080" y="2989080"/>
              <a:ext cx="0" cy="236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303120" y="5643720"/>
          <a:ext cx="6023160" cy="86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3120" y="5643720"/>
                    <a:ext cx="60231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6T19:16:46Z</dcterms:created>
  <dc:creator>Medical Illustration Service</dc:creator>
  <dc:description/>
  <dc:language>en-US</dc:language>
  <cp:lastModifiedBy>Alexander I. Veress</cp:lastModifiedBy>
  <cp:lastPrinted>1999-10-23T15:57:32Z</cp:lastPrinted>
  <dcterms:modified xsi:type="dcterms:W3CDTF">2008-08-29T16:58:10Z</dcterms:modified>
  <cp:revision>449</cp:revision>
  <dc:subject/>
  <dc:title>Imaging the Mechanical, Electrical &amp; Physiological Properties of the Heart</dc:title>
</cp:coreProperties>
</file>