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6AD-106F-4755-B1A8-C26825D9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533-2D2F-49BB-BEB4-DC6DB8B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2D0-2E21-4730-BB40-8739A01A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9B2-10C9-4175-B85E-2D2ADB0D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5A5-01F4-44A1-A65E-6A56597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30A-9694-4B2F-AAA0-21F31094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DBB-4E3F-4511-983F-18664494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BD9-ED4C-4BEB-9562-BD5D4002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C1C-067D-4CD1-BB5F-9295FE62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9FD-69A1-4BF4-B6D6-A9386EA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723-21E8-47E8-8E61-F49AE9D7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71D-55CA-4166-B38E-1469929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D12A-6CDF-4402-87F9-A7641E8D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345" b="38261"/>
          <a:stretch/>
        </p:blipFill>
        <p:spPr>
          <a:xfrm>
            <a:off x="476280" y="1066680"/>
            <a:ext cx="8191440" cy="4052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70000" y="61722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45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mes H. Caldwell</cp:lastModifiedBy>
  <dcterms:modified xsi:type="dcterms:W3CDTF">2009-06-18T19:37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