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847-F873-45C9-86F6-207EB20E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1414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858-64F7-40E6-956D-A901C56E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153-057D-47DD-A9CC-B01718DF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A4A3-20C9-4F36-B974-7CB4A311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A646-95AD-44D6-98D3-B6DA1BC0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442F-1E83-4049-A5FB-02A02BF0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7A2A-6738-4A69-9CAB-5C2C3758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44EC-BE87-47F5-A4E8-D7A0C27C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3109-FFE5-4F3D-A49C-6D6914AD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31EC-BB62-494C-89FD-4D164127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6A46-6CC2-47D8-BB75-7CADD695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F445-601C-4811-B02A-E1B48F25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708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AC6D-045F-4A2B-87E2-D7A22671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96E2-BC36-4631-942D-85D12A2C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1414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8E1B-3386-460D-9A07-BEF9AE2A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708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37CA-59B8-42E6-A75E-BEB0A46C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7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71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7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71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0FB3-AE89-4818-A02E-BE297B21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1E845-51E0-4739-BDB6-A9A5C049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9745-346D-4FBC-AD14-8FCB44D6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C6795-CF2B-4F5C-AE60-5A82F22F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D6BF6-7C19-41C6-9FC6-28E17C6C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518B1-8C70-4449-8302-5892ACAE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3C4-728E-41C2-8C57-8CB0213A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BC888-B9A9-4190-8344-0EEAE85F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F914E-80F1-4DAA-9A5D-88ACCF41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5708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E4E1-61CD-41E7-82EB-445179FB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CB32D-5109-4ADF-94D3-B61B1D3F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0360" y="41414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6C9B6-6921-48E4-BF8D-9969EE78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5708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09623-BADD-4DEE-9557-8014EB3A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137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071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03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137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071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ECD16-5D6E-4751-AD81-139F9E42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BAF0-C00B-42BC-980D-4561D5BE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949-30A1-4ED4-847B-B3453208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EB71-20DE-4B5E-8689-DF478B80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B08-AB90-4846-8235-BF390EDE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3DA2-0E72-4C0C-817D-A1A06918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C76-88DD-43F2-A3C6-D7BFAD77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A473F-F06A-4C99-9EB9-D54D394C0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3183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66640" y="634680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31000" y="6346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CF03E-D6A4-43AE-9812-5E188D339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A4B24-9416-4C56-8399-6776B672D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03280" y="345960"/>
            <a:ext cx="9070920" cy="57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  <a:ea typeface="Arial Unicode MS"/>
              </a:rPr>
              <a:t>Semi-automated Modular Program Co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  <a:ea typeface="Arial Unicode MS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  <a:ea typeface="Arial Unicode MS"/>
              </a:rPr>
              <a:t>G. M. Raymond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  <a:ea typeface="Arial Unicode MS"/>
              </a:rPr>
              <a:t>J.B. Bassingthwaigh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29920" y="1001880"/>
            <a:ext cx="9070920" cy="162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5)//%REPLACE %replacer%=(</a:t>
            </a:r>
            <a:br>
              <a:rPr sz="2800"/>
            </a:b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6)//% “replacement”,...”)</a:t>
            </a:r>
            <a:br>
              <a:rPr sz="2800"/>
            </a:b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7)//%ENDREPLACE</a:t>
            </a:r>
            <a:br>
              <a:rPr sz="2800"/>
            </a:b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45920" y="280800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REPLACE %S%=(“Ado”,”Ino”)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GET ConformationalChange.mod flipa2bCalc(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 “a=T1%S%”,”b=T2%S%”,”ka2b=kT12”,”kb2a=kT21”)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ENDREPLACE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Produces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T1Ado:t = -kT12*T1Ado + kT21*T2Ado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T2Ado:t =  kT12*T1Ado – kT21*T2Ado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T1Ino:t = -kT12*T1Ino + kT21*T2Ino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T2Ino:t =  kT12*T1Ino - kT21*T2Ino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122400"/>
            <a:ext cx="9070920" cy="1622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Multiple replacers in same REPLACE directive, numeric replacements,</a:t>
            </a:r>
            <a:br>
              <a:rPr sz="2800"/>
            </a:b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embedded REPLACE directives</a:t>
            </a:r>
            <a:endParaRPr b="0" lang="en-US" sz="28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20360" y="1442880"/>
            <a:ext cx="885492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REPLACE (%S%=(“Ado”,”Ino”), 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         %name%=(“adenosine”,”inosine”) )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REPLACE  %T%=(“#1#2”)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 DEPENDENT VARIABLES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T%T%%S%(t) mM;// Conc of %name% on side%T%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ENDREPLACE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ENDREPLACE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Produces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 DEPENDENT VARIABLES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T1Ado(t) mM;//Conc of adenosine on side1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T2Ado(t) mM;//Conc of adenosine on side2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T1Ino(t) mM;//Conc of inosine on side1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T2Ino(t) mM;//Conc of inosine on side2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8) //%COLLECT(“Name”)</a:t>
            </a:r>
            <a:endParaRPr b="0" lang="en-US" sz="28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720360" y="1214280"/>
            <a:ext cx="8854920" cy="567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If your .mpc file had generated the follow lines of code: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dop:t = -Fp*L/Vp*Adop:x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+ Dado*Adop:x:x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dop:t = Psg/Vp*(Adoisf-Adop)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dop:t = -Gp/Vp*Adop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The directive //%COLLECT(“Adop:t”)produces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dop:t = -Fp*L/Vp*Adop:x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+ Dado*Adop:x:x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+Psg/Vp*(Adoisf-Adop)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-Gp/Vp*Adop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7092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9)  //%INSERTSTART codeBlockName</a:t>
            </a:r>
            <a:br>
              <a:rPr sz="2800"/>
            </a:b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10) //%INSERTEND codeBlockName</a:t>
            </a:r>
            <a:br>
              <a:rPr sz="2800"/>
            </a:br>
            <a:endParaRPr b="0" lang="en-US" sz="28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720360" y="202536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Lets you insert  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START codeBlockName 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nd 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END codeBlockName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directives in the model you are creating.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Processing the .mpc fil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20360" y="1622520"/>
            <a:ext cx="88549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there are remaining GET and REPLACE directives,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Compress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the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GET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and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PLACE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directives into single lines of code;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Perform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all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PLACE directives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in the following order: from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most embedded to least embedded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and from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left to right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for replacers and replacements;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Perform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all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GET directives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from first to last; If the GET directives have returned additional GET or REPLACE directives,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peat steps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until no GET and REPLACE directives remain.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all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duplicate lines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of code with the exception of lines which contain only “/*”, “//”, and “*/”.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Word of caution: Duplicate Line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20360" y="202680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 = if(C&gt;D) C else 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0.0; 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B = if (D&gt;C) D else 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0.0; 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produces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 = if(C&gt;D) C else 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0.0; 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B = if (D&gt;C) D else</a:t>
            </a: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ixing Duplicate Line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720360" y="202680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 = if(C&gt;D) C else 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0.0; 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B = if (D&gt;C) D else 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0.0; 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produces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 = if(C&gt;D) C else 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0.0; 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B = if (D&gt;C) D else 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0.0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And Finally, ...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720360" y="202536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ll of the COLLECT directives are performed. When a COLLECT directive is executed, the assembled differential equation is placed where the first instance of the variable being collected  is encountered as the left hand side of a calculation. 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irst Application of MPC:</a:t>
            </a:r>
            <a:br>
              <a:rPr sz="4400"/>
            </a:b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 Code Librarie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20360" y="202536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What they are</a:t>
            </a: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Reasons for</a:t>
            </a: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Developed from</a:t>
            </a: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rankenCode:New Life from Dead Cod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20360" y="202536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968560" y="1828800"/>
            <a:ext cx="3568680" cy="50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I promise I won't do this!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832120" y="1265400"/>
            <a:ext cx="4549680" cy="51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Making a Code Library</a:t>
            </a:r>
            <a:endParaRPr b="0" lang="en-US" sz="28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720360" y="1801440"/>
            <a:ext cx="885492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math DemoLibrary {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real version = 1.0; 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/*--------------- CONSTRUCT DemoLibrary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//----------------ON OFF MEMBRANE BINDING SITE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//%INSERTSTART           onOff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//%GET OnOffMembrane.mod onOffMembraneCalc()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//%INSERTEND             onOff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//--------------- CONFORMATIONAL CHANGE (FLIP)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//%INSERTSTART                  flipa2b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//%GET ConformationalChange.mod flipa2bCalc()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//%INSERTEND                    flipa2b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*/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568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java MPC DemoLibrary.mpc</a:t>
            </a:r>
            <a:endParaRPr b="0" lang="en-US" sz="28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74520" y="1143000"/>
            <a:ext cx="8854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math DemoLibrary {</a:t>
            </a:r>
            <a:endParaRPr b="0" lang="en-US" sz="20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real version = 1.0; </a:t>
            </a:r>
            <a:endParaRPr b="0" lang="en-US" sz="20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/*--------------- CONSTRUCT DemoLibrary</a:t>
            </a:r>
            <a:endParaRPr b="0" lang="en-US" sz="20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//----------------ON OFF MEMBRANE BINDING SITE</a:t>
            </a:r>
            <a:endParaRPr b="0" lang="en-US" sz="20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//%START           onOff</a:t>
            </a:r>
            <a:endParaRPr b="0" lang="en-US" sz="20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M:t = (-kon*M*B + kof*MB)*SoV;</a:t>
            </a:r>
            <a:endParaRPr b="0" lang="en-US" sz="20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B:t =  -kon*M*B + kof*MB ;</a:t>
            </a:r>
            <a:endParaRPr b="0" lang="en-US" sz="20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MB:t =  kon*M*B - kof*MB;</a:t>
            </a:r>
            <a:endParaRPr b="0" lang="en-US" sz="20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//%END             onOff</a:t>
            </a:r>
            <a:endParaRPr b="0" lang="en-US" sz="20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//--------------- CONFORMATIONAL CHANGE (FLIP)</a:t>
            </a:r>
            <a:endParaRPr b="0" lang="en-US" sz="20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//%START                  flipa2b</a:t>
            </a:r>
            <a:endParaRPr b="0" lang="en-US" sz="20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a:t = - ka2b*a + kb2a*b;</a:t>
            </a:r>
            <a:endParaRPr b="0" lang="en-US" sz="20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b:t =   ka2b*a - kb2a*b;</a:t>
            </a:r>
            <a:endParaRPr b="0" lang="en-US" sz="20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//%END                    flipa2b</a:t>
            </a:r>
            <a:endParaRPr b="0" lang="en-US" sz="20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280099"/>
                </a:solidFill>
                <a:latin typeface="Courier New"/>
              </a:rPr>
              <a:t>// This MML file generated from DemoLibrary.mpc using MPC.</a:t>
            </a:r>
            <a:endParaRPr b="0" lang="en-US" sz="20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720360" y="202536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import nsrunit; unit conversion on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math transport1species {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Domain t s; t.min=0; t.max=10; t.delta=.1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REPLACE %CL%=("DemoLibrary.mod")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REPLACE %S% =("A")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REPLACE (%n%=("#1#2"), %dir%=("12","21") )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.mpc to .mod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20360" y="1636200"/>
            <a:ext cx="8854920" cy="5666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%S%%n%(t) mM, V%n% = 0.1 ml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T%n%(t) umol/cm^2, T%n%%S%%n%(t) umol/cm^2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Surf = 1 cm^2, Ttot = 0.01 umol/cm^2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SoV%n%=Surf/V%n%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280099"/>
                </a:solidFill>
                <a:latin typeface="Courier New"/>
              </a:rPr>
              <a:t>Becomes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A1(t) mM, V1 = 0.1 ml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A2(t) mM, V2 = 0.1 ml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T1(t) umol/cm^2, T1A1(t) umol/cm^2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T2(t) umol/cm^2, T2A2(t) umol/cm^2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Surf = 1 cm^2, Ttot = 0.01 umol/cm^2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SoV1=Surf/V1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real SoV2=Surf/V2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.mpc to .mod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20360" y="2057400"/>
            <a:ext cx="885492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GET %CL% onOff ("M=%S%%n%","B=T%n%",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 "MB=T%n%%S%%n%","kon=kon%S%%n%",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 "kof=kof%S%%n%","SoV=SoV%n%")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GET %CL% flipa2b("a=T1%S%1","b=T2%S%2",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 "ka2b=kT%S%12","kb2a=kT%S%21")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GET %CL% flipa2b("a=T1","b=T2","ka2b=kT12",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 "kb2a=kT21")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COLLECT("%S%%n%:t")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COLLECT("T%n%:t")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COLLECT("T%n%%S%%n%:t")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280099"/>
                </a:solidFill>
                <a:latin typeface="Courier New"/>
              </a:rPr>
              <a:t>Becomes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.mpc to .mod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20360" y="2057400"/>
            <a:ext cx="885492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1:t = (-konA1*A1*T1 + kofA1*T1A1)*SoV1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T1:t = -konA1*A1*T1 + kofA1*T1A1 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- kT12*T1 + kT21*T2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T1A1:t = konA1*A1*T1 - kofA1*T1A1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- kTA12*T1A1 + kTA21*T2A2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A2:t = (-konA2*A2*T2 + kofA2*T2A2)*SoV2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T2:t = -konA2*A2*T2 + kofA2*T2A2 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+kT12*T1 - kT21*T2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T2A2:t = konA2*A2*T2 - kofA2*T2A2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+kTA12*T1A1 - kTA21*T2A2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7760" y="101232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Towards a Definition of Modular Program Construction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828440" y="2808000"/>
            <a:ext cx="662940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Methods that simplify the construction of models</a:t>
            </a: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Involves reusing code</a:t>
            </a: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Creates more complex models from smaller models in an automated fashion</a:t>
            </a: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Generates models that are correct </a:t>
            </a: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320" y="700200"/>
            <a:ext cx="9070920" cy="3125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Parsimonious!</a:t>
            </a:r>
            <a:br>
              <a:rPr sz="4400"/>
            </a:b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asy to Learn!</a:t>
            </a:r>
            <a:br>
              <a:rPr sz="4400"/>
            </a:b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asy to do!</a:t>
            </a:r>
            <a:br>
              <a:rPr sz="4400"/>
            </a:b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Done Quickly!</a:t>
            </a:r>
            <a:br>
              <a:rPr sz="4400"/>
            </a:b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Right Results!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45920" y="350964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What is the most parsimonious description of a model?</a:t>
            </a: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MPC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20360" y="1315800"/>
            <a:ext cx="8854920" cy="5468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Written in Java</a:t>
            </a: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Takes files with the extension .mpc and creates JSim model code file with the extension .mod.</a:t>
            </a: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Consists of 3 Components</a:t>
            </a: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JSim's Mathematical Modeling Language (MML)</a:t>
            </a: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Code Libraries derived from existing models</a:t>
            </a: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A set of directives </a:t>
            </a: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571320"/>
            <a:ext cx="8432640" cy="833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The Ten Directives //%</a:t>
            </a:r>
            <a:endParaRPr b="0" lang="en-US" sz="28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20360" y="1617840"/>
            <a:ext cx="8854920" cy="4868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COM (comment directive not copied to                 final model file)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START codeBlockName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END codeBlockName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GET Model.mod codeBlockName                          (“oldName1=newName1”, ...)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REPLACE %replacer%=(“replacement1”, ...              “replacementN”)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       ... )  continuation used only with             GET and REPLACE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ENDREPLACE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COLLECT(“variableName”)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INSERTSTART codeBlockName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INSERTEND codeBlockName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1)  //%COM</a:t>
            </a:r>
            <a:endParaRPr b="0" lang="en-US" sz="28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20360" y="202536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ctr">
            <a:noAutofit/>
          </a:bodyPr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10 Pitch"/>
              </a:rPr>
              <a:t>//%COM A comment not copied to the .mod file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2) //%START codeBlockName</a:t>
            </a:r>
            <a:br>
              <a:rPr sz="2800"/>
            </a:b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3) //%END codeBlockName</a:t>
            </a:r>
            <a:endParaRPr b="0" lang="en-US" sz="28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01360" y="1947960"/>
            <a:ext cx="8854920" cy="56498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import nsrunit; unit conversion on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math ConformationalChange {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realDomain t sec; t.min=0; t.max=30; t.delta=0.1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real a(t) mM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real b(t) mM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real ka2b = 1 sec^(-1)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real kb2a = 1 sec^(-1)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when(t=t.min) a=1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when(t=t.min) b=0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START flipa2bCalc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a:t = - ka2b*a + kb2a*b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b:t =   ka2b*a - kb2a*b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END  flipa2bCalc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800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4) //%GET File codeBlockName( </a:t>
            </a:r>
            <a:br>
              <a:rPr sz="2800"/>
            </a:br>
            <a:r>
              <a:rPr b="1" lang="en-US" sz="2800" spc="-1" strike="noStrike">
                <a:solidFill>
                  <a:srgbClr val="280099"/>
                </a:solidFill>
                <a:latin typeface="Courier New"/>
              </a:rPr>
              <a:t>   6) //% “oldName1=newName1” ... )</a:t>
            </a:r>
            <a:endParaRPr b="0" lang="en-US" sz="28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20360" y="2025360"/>
            <a:ext cx="8854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GET ConformationalChange.mod flipa2bCalc(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 “a=T1Ado”,”b=T2Ado”,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//% ”ka2b=kT12”,”kb2a=kT21”)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Produces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T1Ado:t = -kT12*T1Ado + kT21*T2Ado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Courier New"/>
              </a:rPr>
              <a:t>T2Ado:t =  kT12*T1Ado - kT21*T2Ado;</a:t>
            </a:r>
            <a:endParaRPr b="0" lang="en-US" sz="24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21:12:11Z</dcterms:created>
  <dc:creator>Gary Raymond</dc:creator>
  <dc:description/>
  <dc:language>en-US</dc:language>
  <cp:lastModifiedBy>Gary Raymond</cp:lastModifiedBy>
  <dcterms:modified xsi:type="dcterms:W3CDTF">2011-08-24T15:08:47Z</dcterms:modified>
  <cp:revision>8</cp:revision>
  <dc:subject/>
  <dc:title/>
</cp:coreProperties>
</file>