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8320" y="763200"/>
            <a:ext cx="549432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39272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769FC-49FD-4119-B48D-1EDCDBBEC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73E5B-DC40-4BFE-812D-EC476FC5F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B6AF2-09BA-4879-B92E-EBB36098B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CBABB-3F83-49C4-8DD1-0BED96BEC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036AB-25A3-4CF6-B6C2-96877BB70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C5688-A17F-40CA-8D37-1B04B3A31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8D926-89FD-4C45-A540-4DFC6CF49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8A003-0B11-401B-AE0F-C5FE78EC2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9E883-CFCC-4644-BB5F-9CF357FF5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FA243-0413-4CD2-A1C3-4A7C36686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824C9-F65C-4903-88D0-46E182889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5F6D3-3315-4DF8-A376-92EB47B15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905BB-405E-4F80-97AB-EF62F30D9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44322-38D6-4127-9698-C0CC1FA12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8AB29-0189-4D42-AFBD-B76D5EE8B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C0085-9021-4EE8-89CF-B47F4E74E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2250E-7E01-4CEE-ADAC-36849C84A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0026E-7F8D-4721-B185-00391CD8D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90C6C-3AC2-44E9-BEB2-AF64EB9CC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78FDA-4D02-4469-977F-4E5227179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E6C09-E3DA-404D-95FD-A824E33E0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B2A99-0048-4030-BD7B-B3348748A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8FE20-F482-455F-9D30-C8A53A8D0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ABAD5-4102-4ECB-B22D-3C10B1148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2A2B8-A6DB-4506-A445-954BC8467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39596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C6578-EC86-4014-8730-1CC641D46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36B-3D2C-4BEF-B156-8F56C14F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88A-C669-4E6E-B0BB-E3FE4B70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333-1DC5-4A65-B175-11D88F5B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5F84-2A8B-4D23-8EB9-D5A3DB04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D09D-CE31-40E3-9A3B-A2ADC418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8266-262F-46A6-B268-4FFC5A2A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A18D-83D4-414F-8A04-2F35317A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E6C8-12D1-4E43-A627-12908DDB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9D6A-0D71-4F3D-BF9C-FE4E09EE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C785-A87A-4A0A-80D3-51AE1F8D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8A7C-3BEA-433B-A007-28282C94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122-0E96-4ADF-988F-B5763F6E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AF82-5032-4F42-849E-1C33D42F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6EF2-2CB8-4C68-90A5-0AF2E86C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05D5-F4B4-48C2-8EF2-C0742F4D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F575-6986-4D7E-8A10-5B238915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1640-5C26-45FA-AD5B-AEBA389B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21590-AF4F-45B6-85A3-BCF99757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A8587-67F2-4073-BF1B-F30085F2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4D5BD-41F3-4DD7-A558-7C55DEAB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B4541-54C4-4F30-B182-3EA4AFB4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C80AD-1279-4274-800B-05AB5E42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D6E-934D-40DD-8097-FF4380F0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4B756-5D13-4E23-B8A2-B3BF1775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6BD75-DB43-4D7E-B2EF-9AA8F283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89B00-E397-45B2-AF2B-6FC5C4FC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96003-EC9C-41EF-A10D-1C41B21C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24AF0-E36A-445B-8B10-5B288AA8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7702E-EDCF-4F74-90C2-7E257B71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137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071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3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137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071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4568D-CFFF-40B1-A16D-004BC78C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14F-1B3D-48B8-8554-3867C52B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CB61-27F6-4EE0-88C8-768B8B31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288-AA14-4A30-BE82-F3EAE723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6EA-AD94-4071-B2A9-23E37336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EA5-3B22-407E-9820-B3558938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2CA-DFBB-45B2-B8DF-B29E195B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8EECE-6E2D-4436-8E6F-65B899C94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3183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6640" y="634680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100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7D498-7D96-494D-998D-FC8906CF1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FA650-B3E5-4E24-B5B0-6482F8514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503280" y="345960"/>
            <a:ext cx="9070920" cy="57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  <a:ea typeface="Arial Unicode MS"/>
              </a:rPr>
              <a:t>Semi-automated Modular Program Co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  <a:ea typeface="Arial Unicode MS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  <a:ea typeface="Arial Unicode MS"/>
              </a:rPr>
              <a:t>G. M. Raymond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  <a:ea typeface="Arial Unicode MS"/>
              </a:rPr>
              <a:t>J.B. Bassingthwaigh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9920" y="1001880"/>
            <a:ext cx="9070920" cy="162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5)//%REPLACE %replacer%=(</a:t>
            </a:r>
            <a:br>
              <a:rPr sz="2800"/>
            </a:b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6)//% “replacement”,...”)</a:t>
            </a:r>
            <a:br>
              <a:rPr sz="2800"/>
            </a:b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7)//%ENDREPLACE</a:t>
            </a:r>
            <a:br>
              <a:rPr sz="2800"/>
            </a:b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745920" y="280800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REPLACE %S%=(“Ado”,”Ino”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GET ConformationalChange.mod flipa2bCalc(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“a=T1%S%”,”b=T2%S%”,”ka2b=kT12”,”kb2a=kT21”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ENDREPLAC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Produc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1Ado:t = -kT12*T1Ado + kT21*T2Ado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2Ado:t =  kT12*T1Ado – kT21*T2Ado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1Ino:t = -kT12*T1Ino + kT21*T2Ino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2Ino:t =  kT12*T1Ino - kT21*T2Ino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122400"/>
            <a:ext cx="9070920" cy="162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Multiple replacers in same REPLACE directive, numeric replacements,</a:t>
            </a:r>
            <a:br>
              <a:rPr sz="2800"/>
            </a:b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embedded REPLACE directives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20360" y="1442880"/>
            <a:ext cx="88549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REPLACE (%S%=(“Ado”,”Ino”),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        %name%=(“adenosine”,”inosine”) 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REPLACE  %T%=(“#1#2”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 DEPENDENT VARIABL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T%T%%S%(t) mM;// Conc of %name% on side%T%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ENDREPLAC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ENDREPLAC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Produc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 DEPENDENT VARIABL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T1Ado(t) mM;//Conc of adenosine on side1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T1Ino(t) mM;//Conc of inosine on side1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T2Ado(t) mM;//Conc of adenosine on side2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T2Ino(t) mM;//Conc of inosine on side2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8) //%COLLECT(“Name”)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720360" y="1214280"/>
            <a:ext cx="8854920" cy="567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If your .mpc file had generated the follow lines of code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dop:t = -Fp*L/Vp*Adop:x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+ Dado*Adop:x:x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dop:t = PSg/Vp*(Adoisf-Adop)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doisf:t = PSg/Visfp(Adop-Adoisf)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dop:t = -Gp/Vp*Adop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he directive //%COLLECT(“Adop:t”)produc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dop:t = -Fp*L/Vp*Adop:x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+ Dado*Adop:x:x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+PSg/Vp*(Adoisf-Adop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-Gp/Vp*Adop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7092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9)  //%INSERTSTART codeBlockName</a:t>
            </a:r>
            <a:br>
              <a:rPr sz="2800"/>
            </a:b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10) //%INSERTEND codeBlockName</a:t>
            </a:r>
            <a:br>
              <a:rPr sz="2800"/>
            </a:b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20360" y="202536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Lets you insert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START codeBlockName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nd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END codeBlockNam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directives in the model you are creating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Processing the .mpc fil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20360" y="1622520"/>
            <a:ext cx="88549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there are remaining GET and REPLACE directives,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Compress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the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GET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and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PLACE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directives into single lines of code;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Perform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all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PLACE directives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in the following order: from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most embedded to least embedded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and from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left to right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for replacers and replacements;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Perform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all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GET directives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from first to last; If the GET directives have returned additional GET or REPLACE directives,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peat steps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until no GET and REPLACE directives remain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all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duplicate lines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of code with the exception of lines which contain only “/*”, “//”, and “*/”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Word of caution: Duplicate Lin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20360" y="202680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 = if(C&gt;D) C else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0.0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B = if (D&gt;C) D else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0.0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produc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 = if(C&gt;D) C else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0.0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B = if (D&gt;C) D else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ixing Duplicate Lin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720360" y="202680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 = if(C&gt;D) C else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0.0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B = if (D&gt;C) D else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0.0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produc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 = if(C&gt;D) C else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0.0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B = if (D&gt;C) D else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0.0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And Finally, ..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20360" y="202536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ll of the COLLECT directives are performed. When a COLLECT directive is executed, the assembled differential equation is placed where the first instance of the variable being collected  is encountered as the left hand side of a calculation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irst Application of MPC: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 Code Librari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20360" y="202536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What they a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Reasons for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Developed from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rankenCode:New Life from Dead Cod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720360" y="202536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3287880" y="1569960"/>
            <a:ext cx="3568680" cy="5089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I promise I won't do this!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832120" y="1265400"/>
            <a:ext cx="4549680" cy="51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Making a Code Library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20360" y="1801440"/>
            <a:ext cx="88549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math DemoLibrary {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version = 1.0;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*--------------- CONSTRUCT DemoLibrary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----------------ON OFF MEMBRANE BINDING SIT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INSERTSTART           onOff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GET OnOffMembrane.mod onOffMembraneCalc(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INSERTEND             onOff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--------------- CONFORMATIONAL CHANGE (FLIP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INSERTSTART                  flipa2b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GET ConformationalChange.mod flipa2bCalc(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INSERTEND                    flipa2b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*/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568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java MPC DemoLibrary.mpc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974520" y="1143000"/>
            <a:ext cx="8854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math DemoLibrary {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real version = 1.0;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/*--------------- CONSTRUCT DemoLibrary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//----------------ON OFF MEMBRANE BINDING SIT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//%START           onOff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M:t = (-kon*M*B + kof*MB)*SoV;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B:t =  -kon*M*B + kof*MB ;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MB:t =  kon*M*B - kof*MB;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//%END             onOff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//--------------- CONFORMATIONAL CHANGE (FLIP)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//%START                  flipa2b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a:t = - ka2b*a + kb2a*b;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b:t =   ka2b*a - kb2a*b;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//%END                    flipa2b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// This MML file generated from DemoLibrary.mpc using MPC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720360" y="202536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import nsrunit; unit conversion on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math transport1species {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Domain t s; t.min=0; t.max=10; t.delta=.1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REPLACE %CL%=("DemoLibrary.mod"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REPLACE %S% =("A"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REPLACE (%n%=("#1#2"), %dir%=("12","21") 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.mpc to .mod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20360" y="1636200"/>
            <a:ext cx="8854920" cy="5666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%S%%n%(t) mM, V%n% = 0.1 ml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T%n%(t) umol/cm^2, T%n%%S%%n%(t) umol/cm^2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Surf = 1 cm^2, Ttot = 0.01 umol/cm^2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SoV%n%=Surf/V%n%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280099"/>
                </a:solidFill>
                <a:latin typeface="Courier New"/>
              </a:rPr>
              <a:t>Becom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A1(t) mM, V1 = 0.1 ml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A2(t) mM, V2 = 0.1 ml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T1(t) umol/cm^2, T1A1(t) umol/cm^2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T2(t) umol/cm^2, T2A2(t) umol/cm^2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Surf = 1 cm^2, Ttot = 0.01 umol/cm^2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SoV1=Surf/V1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SoV2=Surf/V2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.mpc to .mod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20360" y="2057400"/>
            <a:ext cx="885492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GET %CL% onOff ("M=%S%%n%","B=T%n%",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"MB=T%n%%S%%n%","kon=kon%S%%n%",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"kof=kof%S%%n%","SoV=SoV%n%"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GET %CL% flipa2b("a=T1%S%1","b=T2%S%2",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"ka2b=kT%S%12","kb2a=kT%S%21"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GET %CL% flipa2b("a=T1","b=T2","ka2b=kT12",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"kb2a=kT21"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COLLECT("%S%%n%:t"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COLLECT("T%n%:t"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COLLECT("T%n%%S%%n%:t"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280099"/>
                </a:solidFill>
                <a:latin typeface="Courier New"/>
              </a:rPr>
              <a:t>Becom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.mpc to .mod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20360" y="2057400"/>
            <a:ext cx="885492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1:t = (-konA1*A1*T1 + kofA1*T1A1)*SoV1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1:t = -konA1*A1*T1 + kofA1*T1A1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- kT12*T1 + kT21*T2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1A1:t = konA1*A1*T1 - kofA1*T1A1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- kTA12*T1A1 + kTA21*T2A2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2:t = (-konA2*A2*T2 + kofA2*T2A2)*SoV2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2:t = -konA2*A2*T2 + kofA2*T2A2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+kT12*T1 - kT21*T2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2A2:t = konA2*A2*T2 - kofA2*T2A2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+kTA12*T1A1 - kTA21*T2A2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7760" y="10123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Towards a Definition of Modular Program Construction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828440" y="2808000"/>
            <a:ext cx="6629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Methods that simplify the construction of model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Involves reusing cod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Creates more complex models from smaller models in an automated fashio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Generates models that are correct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700200"/>
            <a:ext cx="9070920" cy="3125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Parsimonious!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asy to Learn!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asy to do!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Done Quickly!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Right Results!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45920" y="350964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What is the most parsimonious description of a model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PC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20360" y="1315800"/>
            <a:ext cx="8854920" cy="5468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Written in Java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Takes files with the extension .mpc and creates JSim model code file with the extension .mod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Consists of 3 Componen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JSim's Mathematical Modeling Language (MML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Code Libraries derived from existing model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A set of directives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571320"/>
            <a:ext cx="843264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The Ten Directives //%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20360" y="1617840"/>
            <a:ext cx="8854920" cy="4868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COM (comment directive not copied to                 final model file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START codeBlockNam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END codeBlockNam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GET Model.mod codeBlockName                          (“oldName1=newName1”, ...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REPLACE %replacer%=(“replacement1”, ...              “replacementN”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      ... )  continuation used only with             GET and REPLAC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ENDREPLAC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COLLECT(“variableName”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INSERTSTART codeBlockNam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INSERTEND codeBlockNam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1)  //%COM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20360" y="202536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10 Pitch"/>
              </a:rPr>
              <a:t>//%COM A comment not copied to the .mod fil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2) //%START codeBlockName</a:t>
            </a:r>
            <a:br>
              <a:rPr sz="2800"/>
            </a:b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3) //%END codeBlockName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01360" y="1947960"/>
            <a:ext cx="8854920" cy="5649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import nsrunit; unit conversion on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math ConformationalChange {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realDomain t sec; t.min=0; t.max=30; t.delta=0.1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real a(t) mM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real b(t) mM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real ka2b = 1 sec^(-1)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real kb2a = 1 sec^(-1)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when(t=t.min) a=1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when(t=t.min) b=0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START flipa2bCalc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a:t = - ka2b*a + kb2a*b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b:t =   ka2b*a - kb2a*b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END  flipa2bCalc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4) //%GET File codeBlockName( </a:t>
            </a:r>
            <a:br>
              <a:rPr sz="2800"/>
            </a:b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   6) //% “oldName1=newName1” ... )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20360" y="202536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GET ConformationalChange.mod flipa2bCalc(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“a=T1Ado”,”b=T2Ado”,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”ka2b=kT12”,”kb2a=kT21”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Produc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1Ado:t = -kT12*T1Ado + kT21*T2Ado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2Ado:t =  kT12*T1Ado - kT21*T2Ado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21:12:11Z</dcterms:created>
  <dc:creator>Gary Raymond</dc:creator>
  <dc:description/>
  <dc:language>en-US</dc:language>
  <cp:lastModifiedBy>UW Bioenineering</cp:lastModifiedBy>
  <dcterms:modified xsi:type="dcterms:W3CDTF">2011-08-26T16:38:05Z</dcterms:modified>
  <cp:revision>11</cp:revision>
  <dc:subject/>
  <dc:title>PowerPoint Presentation</dc:title>
</cp:coreProperties>
</file>