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1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5.wmf" ContentType="image/x-wmf"/>
  <Override PartName="/ppt/media/image6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942-8E99-43B6-A5F7-EFF0AA5E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5A7-7BF4-460C-B00C-37411ED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3BC-B4D9-40BF-8121-E35FF3B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7A9-B032-4B56-BEEA-F45289AE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AF7-253E-415B-A10A-38ED66BE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566-CE35-4C04-BA86-CE69340E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D73-48A9-41D7-A7A0-C868240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4F3-4A5A-4AD3-AC23-248C8814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CD2-4A02-43C6-85C0-F87F8665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16C-3D16-47F4-BDEE-C2F0329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256-BD2D-43A8-B855-7C07072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137-CD6F-4338-AB0C-9462BBF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1D8EC-86FC-49B6-9D82-FEAFAE051918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Luxi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9000" y="301320"/>
            <a:ext cx="61466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4258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ing languag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nning JSim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urrent Projec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676680"/>
            <a:ext cx="442584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85040" y="5776920"/>
            <a:ext cx="2814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itstream Vera Sans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615960" y="5931000"/>
            <a:ext cx="28591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Erik Butterworth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UW Bioengineering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butterw@uw.edu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Aug 2011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Analysis Method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 Run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ngle run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s (vary model parameter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nsitivity analysis (calculate v:p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ptimization (curve fitting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nctional imaging (multiple optimization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8000"/>
          </a:bodyPr>
          <a:p>
            <a:pPr marL="423000" indent="-3171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umeric Method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DE solvers (9): CVode, Radau, 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1D PDE solvers (3): LSFEA, MacCormack, Toms73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ptimizers/Implicit solvers (8): Simplex, Sensop, Sim. Annealing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7560" y="1768320"/>
            <a:ext cx="3800520" cy="4989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JSim Project File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rameter se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ata sets (curves)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lot page configuration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JSim Client-Server Computation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6354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JSim Multiprocessing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clock rates flat; MP desktops widely availab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writing MP-safe procedures har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automated parallelization largely unsuccessfu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ultiple-run analyses inherently parall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parameter exploration, sensitivity analysis, optimization, functional imaging – currently availab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ngle-run MP requires model analysi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some models are “inherently parallel” - under developmen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85080" y="0"/>
            <a:ext cx="3073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2840" y="245880"/>
            <a:ext cx="7086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Some Current Project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mproved translators 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Improved modular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nte-Carlo analysi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Quantitative perfus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29200" y="3676680"/>
            <a:ext cx="44258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Improved translator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B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uni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ess tes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timon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uman readable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ell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727280" indent="-57312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via Antimon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Improved Modularity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lexible declaration order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lexible nestin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Variable sharin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timony sub-modul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Monte-Carlo Analysi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How good are optimized fits?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 parameter uncertain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Model data nois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un optimizer many tim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nalyze resul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16400" y="1768320"/>
            <a:ext cx="4297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284120" y="2963880"/>
            <a:ext cx="7556760" cy="3270240"/>
            <a:chOff x="1284120" y="2963880"/>
            <a:chExt cx="7556760" cy="3270240"/>
          </a:xfrm>
        </p:grpSpPr>
        <p:grpSp>
          <p:nvGrpSpPr>
            <p:cNvPr id="101" name=""/>
            <p:cNvGrpSpPr/>
            <p:nvPr/>
          </p:nvGrpSpPr>
          <p:grpSpPr>
            <a:xfrm>
              <a:off x="7826400" y="3098880"/>
              <a:ext cx="1014480" cy="2970000"/>
              <a:chOff x="7826400" y="3098880"/>
              <a:chExt cx="1014480" cy="2970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826400" y="3098880"/>
                <a:ext cx="1014480" cy="820800"/>
                <a:chOff x="7826400" y="3098880"/>
                <a:chExt cx="1014480" cy="8208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826400" y="3098880"/>
                  <a:ext cx="1014480" cy="820800"/>
                </a:xfrm>
                <a:prstGeom prst="flowChartDocument">
                  <a:avLst/>
                </a:prstGeom>
                <a:solidFill>
                  <a:srgbClr val="ffc6be"/>
                </a:solidFill>
                <a:ln w="19080">
                  <a:solidFill>
                    <a:srgbClr val="ca1d1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0" bIns="46800" anchor="t">
                  <a:noAutofit/>
                </a:bodyPr>
                <a:p>
                  <a:pPr algn="ctr">
                    <a:lnSpc>
                      <a:spcPct val="84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VSM</a:t>
                  </a:r>
                  <a:endParaRPr b="0" lang="en-US" sz="16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874640" y="3565080"/>
                  <a:ext cx="5191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24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200" spc="-1" strike="noStrike">
                      <a:solidFill>
                        <a:srgbClr val="333399"/>
                      </a:solidFill>
                      <a:latin typeface="Arial"/>
                    </a:rPr>
                    <a:t>J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826400" y="4173480"/>
                <a:ext cx="1014480" cy="820800"/>
                <a:chOff x="7826400" y="4173480"/>
                <a:chExt cx="1014480" cy="8208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826400" y="4173480"/>
                  <a:ext cx="1014480" cy="820800"/>
                </a:xfrm>
                <a:prstGeom prst="flowChartDocument">
                  <a:avLst/>
                </a:prstGeom>
                <a:solidFill>
                  <a:srgbClr val="ffc6be"/>
                </a:solidFill>
                <a:ln w="19080">
                  <a:solidFill>
                    <a:srgbClr val="ca1d1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0" bIns="46800" anchor="t">
                  <a:noAutofit/>
                </a:bodyPr>
                <a:p>
                  <a:pPr algn="ctr">
                    <a:lnSpc>
                      <a:spcPct val="84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BARO</a:t>
                  </a:r>
                  <a:endParaRPr b="0" lang="en-US" sz="16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874640" y="4639680"/>
                  <a:ext cx="5191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24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200" spc="-1" strike="noStrike">
                      <a:solidFill>
                        <a:srgbClr val="333399"/>
                      </a:solidFill>
                      <a:latin typeface="Arial"/>
                    </a:rPr>
                    <a:t>J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826400" y="5248440"/>
                <a:ext cx="1014480" cy="820440"/>
                <a:chOff x="7826400" y="5248440"/>
                <a:chExt cx="1014480" cy="8204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826400" y="5248440"/>
                  <a:ext cx="1014480" cy="820440"/>
                </a:xfrm>
                <a:prstGeom prst="flowChartDocument">
                  <a:avLst/>
                </a:prstGeom>
                <a:solidFill>
                  <a:srgbClr val="ffc6be"/>
                </a:solidFill>
                <a:ln w="19080">
                  <a:solidFill>
                    <a:srgbClr val="ca1d1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0" bIns="46800" anchor="t">
                  <a:noAutofit/>
                </a:bodyPr>
                <a:p>
                  <a:pPr algn="ctr">
                    <a:lnSpc>
                      <a:spcPct val="84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CV</a:t>
                  </a:r>
                  <a:endParaRPr b="0" lang="en-US" sz="16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874640" y="5714640"/>
                  <a:ext cx="5191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24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200" spc="-1" strike="noStrike">
                      <a:solidFill>
                        <a:srgbClr val="333399"/>
                      </a:solidFill>
                      <a:latin typeface="Arial"/>
                    </a:rPr>
                    <a:t>J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4660920" y="2963880"/>
              <a:ext cx="2031840" cy="3270240"/>
              <a:chOff x="4660920" y="2963880"/>
              <a:chExt cx="2031840" cy="327024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4660920" y="2963880"/>
                <a:ext cx="2031840" cy="3270240"/>
              </a:xfrm>
              <a:prstGeom prst="rightArrowCallout">
                <a:avLst>
                  <a:gd name="adj1" fmla="val 31090"/>
                  <a:gd name="adj2" fmla="val 30871"/>
                  <a:gd name="adj3" fmla="val 14296"/>
                  <a:gd name="adj4" fmla="val 70769"/>
                </a:avLst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5437080" y="3124080"/>
                <a:ext cx="1016280" cy="2914920"/>
                <a:chOff x="5437080" y="3124080"/>
                <a:chExt cx="1016280" cy="29149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37080" y="3124080"/>
                  <a:ext cx="1016280" cy="765360"/>
                </a:xfrm>
                <a:prstGeom prst="roundRect">
                  <a:avLst>
                    <a:gd name="adj" fmla="val 17713"/>
                  </a:avLst>
                </a:prstGeom>
                <a:solidFill>
                  <a:srgbClr val="fdffbb"/>
                </a:solidFill>
                <a:ln w="19080">
                  <a:solidFill>
                    <a:srgbClr val="eba136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0" bIns="46800" anchor="t">
                  <a:noAutofit/>
                </a:bodyPr>
                <a:p>
                  <a:pPr algn="ctr">
                    <a:lnSpc>
                      <a:spcPct val="84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VSM</a:t>
                  </a:r>
                  <a:endParaRPr b="0" lang="en-US" sz="16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5240" y="3603240"/>
                  <a:ext cx="7567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24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200" spc="-1" strike="noStrike">
                      <a:solidFill>
                        <a:srgbClr val="333399"/>
                      </a:solidFill>
                      <a:latin typeface="Arial"/>
                    </a:rPr>
                    <a:t>Sem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437080" y="4199040"/>
                  <a:ext cx="1016280" cy="765000"/>
                </a:xfrm>
                <a:prstGeom prst="roundRect">
                  <a:avLst>
                    <a:gd name="adj" fmla="val 17713"/>
                  </a:avLst>
                </a:prstGeom>
                <a:solidFill>
                  <a:srgbClr val="fdffbb"/>
                </a:solidFill>
                <a:ln w="19080">
                  <a:solidFill>
                    <a:srgbClr val="eba136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0" bIns="46800" anchor="t">
                  <a:noAutofit/>
                </a:bodyPr>
                <a:p>
                  <a:pPr algn="ctr">
                    <a:lnSpc>
                      <a:spcPct val="84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BARO</a:t>
                  </a:r>
                  <a:endParaRPr b="0" lang="en-US" sz="16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565240" y="4677840"/>
                  <a:ext cx="7567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24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200" spc="-1" strike="noStrike">
                      <a:solidFill>
                        <a:srgbClr val="333399"/>
                      </a:solidFill>
                      <a:latin typeface="Arial"/>
                    </a:rPr>
                    <a:t>Sem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437080" y="5273640"/>
                  <a:ext cx="1016280" cy="765360"/>
                </a:xfrm>
                <a:prstGeom prst="roundRect">
                  <a:avLst>
                    <a:gd name="adj" fmla="val 17713"/>
                  </a:avLst>
                </a:prstGeom>
                <a:solidFill>
                  <a:srgbClr val="fdffbb"/>
                </a:solidFill>
                <a:ln w="19080">
                  <a:solidFill>
                    <a:srgbClr val="eba136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0" bIns="46800" anchor="t">
                  <a:noAutofit/>
                </a:bodyPr>
                <a:p>
                  <a:pPr algn="ctr">
                    <a:lnSpc>
                      <a:spcPct val="84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600" spc="-1" strike="noStrike">
                      <a:solidFill>
                        <a:srgbClr val="333399"/>
                      </a:solidFill>
                      <a:latin typeface="Arial"/>
                    </a:rPr>
                    <a:t>CV</a:t>
                  </a:r>
                  <a:endParaRPr b="0" lang="en-US" sz="16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565240" y="5752440"/>
                  <a:ext cx="75672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240" bIns="468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72396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</a:tabLst>
                  </a:pPr>
                  <a:r>
                    <a:rPr b="0" lang="en-US" sz="1200" spc="-1" strike="noStrike">
                      <a:solidFill>
                        <a:srgbClr val="333399"/>
                      </a:solidFill>
                      <a:latin typeface="Arial"/>
                    </a:rPr>
                    <a:t>SemSim</a:t>
                  </a:r>
                  <a:endParaRPr b="0" lang="en-US" sz="1200" spc="-1" strike="noStrike">
                    <a:solidFill>
                      <a:srgbClr val="000000"/>
                    </a:solidFill>
                    <a:latin typeface="Bitstream Vera Sans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7062480" y="3182400"/>
              <a:ext cx="446040" cy="2781720"/>
              <a:chOff x="7062480" y="3182400"/>
              <a:chExt cx="446040" cy="2781720"/>
            </a:xfrm>
          </p:grpSpPr>
          <p:sp>
            <p:nvSpPr>
              <p:cNvPr id="121" name=""/>
              <p:cNvSpPr/>
              <p:nvPr/>
            </p:nvSpPr>
            <p:spPr>
              <a:xfrm flipH="1" rot="5400000">
                <a:off x="6979320" y="3274560"/>
                <a:ext cx="621000" cy="436680"/>
              </a:xfrm>
              <a:prstGeom prst="downArrow">
                <a:avLst>
                  <a:gd name="adj1" fmla="val 49296"/>
                  <a:gd name="adj2" fmla="val 46801"/>
                </a:avLst>
              </a:prstGeom>
              <a:solidFill>
                <a:srgbClr val="ffffff"/>
              </a:soli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6977880" y="4360680"/>
                <a:ext cx="620640" cy="436680"/>
              </a:xfrm>
              <a:prstGeom prst="downArrow">
                <a:avLst>
                  <a:gd name="adj1" fmla="val 49296"/>
                  <a:gd name="adj2" fmla="val 46801"/>
                </a:avLst>
              </a:prstGeom>
              <a:solidFill>
                <a:srgbClr val="ffffff"/>
              </a:soli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rot="5400000">
                <a:off x="6970680" y="5434560"/>
                <a:ext cx="620640" cy="438120"/>
              </a:xfrm>
              <a:prstGeom prst="downArrow">
                <a:avLst>
                  <a:gd name="adj1" fmla="val 49296"/>
                  <a:gd name="adj2" fmla="val 46801"/>
                </a:avLst>
              </a:prstGeom>
              <a:solidFill>
                <a:srgbClr val="ffffff"/>
              </a:soli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294000" y="3935520"/>
              <a:ext cx="1015920" cy="1271520"/>
              <a:chOff x="3294000" y="3935520"/>
              <a:chExt cx="1015920" cy="1271520"/>
            </a:xfrm>
          </p:grpSpPr>
          <p:sp>
            <p:nvSpPr>
              <p:cNvPr id="125" name=""/>
              <p:cNvSpPr/>
              <p:nvPr/>
            </p:nvSpPr>
            <p:spPr>
              <a:xfrm>
                <a:off x="3294000" y="3935520"/>
                <a:ext cx="1015920" cy="1271520"/>
              </a:xfrm>
              <a:custGeom>
                <a:avLst/>
                <a:gdLst>
                  <a:gd name="textAreaLeft" fmla="*/ 52560 w 1015920"/>
                  <a:gd name="textAreaRight" fmla="*/ 963360 w 1015920"/>
                  <a:gd name="textAreaTop" fmla="*/ 52560 h 1271520"/>
                  <a:gd name="textAreaBottom" fmla="*/ 1218960 h 1271520"/>
                </a:gdLst>
                <a:ahLst/>
                <a:rect l="textAreaLeft" t="textAreaTop" r="textAreaRight" b="textAreaBottom"/>
                <a:pathLst>
                  <a:path w="21600" h="27033">
                    <a:moveTo>
                      <a:pt x="3826" y="0"/>
                    </a:moveTo>
                    <a:arcTo wR="3826" hR="3826" stAng="16200000" swAng="-5400000"/>
                    <a:lnTo>
                      <a:pt x="0" y="23207"/>
                    </a:lnTo>
                    <a:arcTo wR="3826" hR="3826" stAng="10800000" swAng="-5400000"/>
                    <a:lnTo>
                      <a:pt x="17774" y="27033"/>
                    </a:lnTo>
                    <a:arcTo wR="3826" hR="3826" stAng="5400000" swAng="-5400000"/>
                    <a:lnTo>
                      <a:pt x="21600" y="3826"/>
                    </a:lnTo>
                    <a:arcTo wR="3826" hR="3826" stAng="0" swAng="-5400000"/>
                    <a:close/>
                  </a:path>
                </a:pathLst>
              </a:custGeom>
              <a:solidFill>
                <a:srgbClr val="fdffbb"/>
              </a:solidFill>
              <a:ln w="19080">
                <a:solidFill>
                  <a:srgbClr val="eba13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0" bIns="46800" anchor="t">
                <a:noAutofit/>
              </a:bodyPr>
              <a:p>
                <a:pPr algn="ctr">
                  <a:lnSpc>
                    <a:spcPct val="84000"/>
                  </a:lnSpc>
                  <a:tabLst>
                    <a:tab algn="l" pos="0"/>
                    <a:tab algn="l" pos="72396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CV+</a:t>
                </a:r>
                <a:endParaRPr b="0" lang="en-US" sz="16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22160" y="4919040"/>
                <a:ext cx="7567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24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72396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SemSim</a:t>
                </a:r>
                <a:endParaRPr b="0" lang="en-US" sz="12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284120" y="3954600"/>
              <a:ext cx="1014480" cy="1280880"/>
              <a:chOff x="1284120" y="3954600"/>
              <a:chExt cx="1014480" cy="12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1284120" y="3954600"/>
                <a:ext cx="1014480" cy="1280880"/>
              </a:xfrm>
              <a:prstGeom prst="flowChartDocument">
                <a:avLst/>
              </a:prstGeom>
              <a:solidFill>
                <a:srgbClr val="ffc6be"/>
              </a:solidFill>
              <a:ln w="19080">
                <a:solidFill>
                  <a:srgbClr val="ca1d1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0" bIns="46800" anchor="t">
                <a:noAutofit/>
              </a:bodyPr>
              <a:p>
                <a:pPr algn="ctr">
                  <a:lnSpc>
                    <a:spcPct val="84000"/>
                  </a:lnSpc>
                  <a:tabLst>
                    <a:tab algn="l" pos="0"/>
                    <a:tab algn="l" pos="72396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</a:tabLst>
                </a:pPr>
                <a:r>
                  <a:rPr b="0" lang="en-US" sz="1600" spc="-1" strike="noStrike">
                    <a:solidFill>
                      <a:srgbClr val="333399"/>
                    </a:solidFill>
                    <a:latin typeface="Arial"/>
                  </a:rPr>
                  <a:t>CV+</a:t>
                </a:r>
                <a:endParaRPr b="0" lang="en-US" sz="16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30920" y="4880880"/>
                <a:ext cx="5191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24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JSim</a:t>
                </a:r>
                <a:endParaRPr b="0" lang="en-US" sz="1200" spc="-1" strike="noStrike">
                  <a:solidFill>
                    <a:srgbClr val="000000"/>
                  </a:solidFill>
                  <a:latin typeface="Bitstream Vera Sans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H="1" rot="5400000">
              <a:off x="2394000" y="4354560"/>
              <a:ext cx="620640" cy="436320"/>
            </a:xfrm>
            <a:prstGeom prst="downArrow">
              <a:avLst>
                <a:gd name="adj1" fmla="val 49296"/>
                <a:gd name="adj2" fmla="val 46801"/>
              </a:avLst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63400" y="145800"/>
            <a:ext cx="844704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488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f0f00"/>
                </a:solidFill>
                <a:latin typeface="Arial"/>
              </a:rPr>
              <a:t>SemS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-case: reuse legacy JSim model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371520" y="6706800"/>
            <a:ext cx="6246720" cy="632520"/>
          </a:xfrm>
          <a:prstGeom prst="rect">
            <a:avLst/>
          </a:prstGeom>
          <a:solidFill>
            <a:srgbClr val="efe8c6"/>
          </a:solidFill>
          <a:ln w="9360">
            <a:solidFill>
              <a:srgbClr val="eba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9680" bIns="46800" anchor="ctr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Gennari, J. H., M. L. Neal, B. E, Carlson, D. L. Cook (2008) 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Integration of multi-scale biosimulation models via light-weight semantics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Geneva"/>
              </a:rPr>
              <a:t>Pac Symp Biocomput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(414-425)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22280" y="2709720"/>
            <a:ext cx="3613320" cy="1014480"/>
          </a:xfrm>
          <a:prstGeom prst="wedgeRoundRectCallout">
            <a:avLst>
              <a:gd name="adj1" fmla="val 9995"/>
              <a:gd name="adj2" fmla="val 83648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ncode merged </a:t>
            </a:r>
            <a:r>
              <a:rPr b="0" lang="en-US" sz="1800" spc="-1" strike="noStrike">
                <a:solidFill>
                  <a:srgbClr val="cf0f00"/>
                </a:solidFill>
                <a:latin typeface="Arial"/>
              </a:rPr>
              <a:t>Sem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s new JSim model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cf0f00"/>
                </a:solidFill>
                <a:latin typeface="Arial"/>
              </a:rPr>
              <a:t>Sem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ftwar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2317680" y="1854360"/>
            <a:ext cx="3405240" cy="785520"/>
          </a:xfrm>
          <a:prstGeom prst="wedgeRoundRectCallout">
            <a:avLst>
              <a:gd name="adj1" fmla="val 20453"/>
              <a:gd name="adj2" fmla="val 180856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merge </a:t>
            </a:r>
            <a:r>
              <a:rPr b="0" lang="en-US" sz="1800" spc="-1" strike="noStrike">
                <a:solidFill>
                  <a:srgbClr val="cf0f00"/>
                </a:solidFill>
                <a:latin typeface="Arial"/>
              </a:rPr>
              <a:t>Sem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s (Protégé plug-in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5529240" y="828720"/>
            <a:ext cx="3659040" cy="1084320"/>
          </a:xfrm>
          <a:prstGeom prst="wedgeRoundRectCallout">
            <a:avLst>
              <a:gd name="adj1" fmla="val -4375"/>
              <a:gd name="adj2" fmla="val 146740"/>
              <a:gd name="adj3" fmla="val 1666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eate </a:t>
            </a:r>
            <a:r>
              <a:rPr b="0" lang="en-US" sz="1800" spc="-1" strike="noStrike">
                <a:solidFill>
                  <a:srgbClr val="cf0f00"/>
                </a:solidFill>
                <a:latin typeface="Arial"/>
              </a:rPr>
              <a:t>Sem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mantic models from JSim code (</a:t>
            </a:r>
            <a:r>
              <a:rPr b="0" lang="en-US" sz="1800" spc="-1" strike="noStrike">
                <a:solidFill>
                  <a:srgbClr val="cf0f00"/>
                </a:solidFill>
                <a:latin typeface="Arial"/>
              </a:rPr>
              <a:t>Sem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ftware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64040" y="71280"/>
            <a:ext cx="34653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6126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58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oftware for creating quantitative models, analyzing them with respect to experimental dat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</a:rPr>
              <a:t>Modeling Language (MML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</a:rPr>
              <a:t>MML Compiler / Run-time eng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</a:rPr>
              <a:t>Analysis Methodolog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easily editable models for “what if?” scenari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model structure and data visualiz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parameter space explor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parameter optimization for curve fitt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720" y="65160"/>
            <a:ext cx="93902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86200" y="301320"/>
            <a:ext cx="56894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physiome.org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425840" cy="598788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JSim download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Windows/Mac/Linux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 archiv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SR curated (270+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iomodels (172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JWS (68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gg (72,000+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ellML (773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ML examples (97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NSR Course material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29200" y="3676680"/>
            <a:ext cx="4425840" cy="2495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945040" y="5931000"/>
            <a:ext cx="2859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Erik Butterworth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UW Bioengineering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itstream Vera Sans"/>
              </a:rPr>
              <a:t>butterw@uw.edu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JSim/Matlab Comparison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Real-time graphics + fast computation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GUI-based contro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arameter se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utomated multiprocessin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WWW apple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Unit checking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403960" y="182880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Declarative M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over/under specifie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BML/CellML map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sy to rea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ject fil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ree, source availabl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SBML/CellML Connectivity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urrent SB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orts 171/172 Biomodels (46 event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orts 61/68 JW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orts all Kegg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urrent Cell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orts 616/882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211 pass JSim unit balance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lanned SB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BW integration (synchronous API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por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lanned CellM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9372600" cy="6643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1680" y="241200"/>
            <a:ext cx="95248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Yngve Model &amp; Data Browsers as JSim Plugin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28480" y="1373040"/>
            <a:ext cx="450072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JSim's Mathematical Modeling Language (MML)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ODE, PDE, Implici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Discrete event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Procedural cod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Java &amp; C (currently)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Unit balance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Reusable</a:t>
            </a: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Bitstream Vera Sans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151600" y="1768320"/>
          <a:ext cx="4678200" cy="23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1600" y="1768320"/>
                    <a:ext cx="4678200" cy="23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49760" y="4422600"/>
          <a:ext cx="3429000" cy="25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9760" y="4422600"/>
                    <a:ext cx="34290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257800" y="4343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67320" y="7169040"/>
            <a:ext cx="4054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Leike A. Eur. J. Phys. </a:t>
            </a:r>
            <a:r>
              <a:rPr b="1" lang="en-US" sz="1600" spc="-1" strike="noStrike">
                <a:solidFill>
                  <a:srgbClr val="000000"/>
                </a:solidFill>
                <a:latin typeface="Bitstream Vera Sans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: 21-26 (2002)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onvection/diffusion PDE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03280" y="1768320"/>
          <a:ext cx="44226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44226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63960" y="257184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Unit Balanc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5640" y="1733400"/>
            <a:ext cx="5211720" cy="5475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unctionality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reject nonsense (moles</a:t>
            </a: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Bitstream Vera Sans"/>
              </a:rPr>
              <a:t>≠</a:t>
            </a: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molar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insert conversion facto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infer undeclared uni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find error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simplify coding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linking module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Bitstream Vera Sans"/>
                <a:ea typeface="msgothic"/>
              </a:rPr>
              <a:t>clarify thinking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78400" y="1201680"/>
            <a:ext cx="442584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96280" y="1619280"/>
            <a:ext cx="685800" cy="5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087880" y="4246560"/>
          <a:ext cx="5149800" cy="4160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87880" y="4246560"/>
                    <a:ext cx="514980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JSim template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800600" y="1371600"/>
          <a:ext cx="52801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52801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20600" y="1600200"/>
            <a:ext cx="4572000" cy="59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Running JSim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Program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sim (GUI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sbatch (batch processing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sfim (functional imaging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sserver (network-accessible computational engine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rver API: call computation engi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lug-in API: extend JSim functionalit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ML API: call procedural code within MML model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Run-time Basic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06360" y="1246320"/>
            <a:ext cx="7770960" cy="54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0600" y="-1440"/>
            <a:ext cx="98236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5:46:49Z</dcterms:created>
  <dc:creator/>
  <dc:description/>
  <dc:language>en-US</dc:language>
  <cp:lastModifiedBy>Erik Butterworth</cp:lastModifiedBy>
  <cp:lastPrinted>2008-11-24T17:54:11Z</cp:lastPrinted>
  <dcterms:modified xsi:type="dcterms:W3CDTF">2011-08-15T20:16:52Z</dcterms:modified>
  <cp:revision>31</cp:revision>
  <dc:subject/>
  <dc:title/>
</cp:coreProperties>
</file>