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0288588" cy="6858000"/>
  <p:notesSz cx="6249988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3022-CB66-4A4D-A022-B2B71763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4236-19FE-4359-85AC-C56DF6CD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EE83-210D-48A1-8C6C-75FBAB7F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2502-0441-4640-9B1C-929B5E92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3E36-33A2-43C8-874E-330A1777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F3B0-2ED6-4C79-A27A-40B16987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4949-E895-4493-8C49-3F5B4A19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748B-26B9-4B2A-981F-8459A5E9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7A53-81DC-4F62-8834-B48C394C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0753-1F02-4786-9B99-54FE19D6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8CC0-829B-463D-B267-D1934C86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646C-BB42-469D-8D12-01C04435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9A79-B800-471F-9500-816D8CBDFE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6720" y="253800"/>
            <a:ext cx="8744040" cy="21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ft Bundle Branch Block 2D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8120" y="2590920"/>
            <a:ext cx="502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exander I. Ve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earch Assistant Profes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artment of Mechanical 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versity of Washing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10280" y="5791320"/>
            <a:ext cx="35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SR class August 30,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4495680"/>
            <a:ext cx="212400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029040" y="1378080"/>
          <a:ext cx="7257960" cy="54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9040" y="1378080"/>
                    <a:ext cx="7257960" cy="54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50720" y="304920"/>
            <a:ext cx="556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st-processing using LSPreP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480" y="1641600"/>
            <a:ext cx="283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&gt;start-&gt;XYZ Scientific-&gt;lsprep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09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reation of LBBB FE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09280" y="16002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SCP into sahali.me.washington.e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814400" y="2301840"/>
          <a:ext cx="6734160" cy="42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4400" y="2301840"/>
                    <a:ext cx="673416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24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rie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bbb.t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657600" y="343080"/>
          <a:ext cx="643896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343080"/>
                    <a:ext cx="643896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gm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791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ual segmentation was used to create curves that are imported into Truegrid pre-possess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715000" y="2590920"/>
          <a:ext cx="350532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590920"/>
                    <a:ext cx="350532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ing Truegri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-&gt; Accessories -&gt; notep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-&gt;lbbb.t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ce interrupts in file as demonstra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-&gt; All Programs -&gt;XYZ Scientific Applications -&gt; truegri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pen .tg fi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724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 lbbb.t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uegrid will run until it hits an interrupt.  Make changes, type “resume” will stop at next interrup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tgopen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5280120" cy="39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9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G Layo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tgfull" descr=""/>
          <p:cNvPicPr/>
          <p:nvPr/>
        </p:nvPicPr>
        <p:blipFill>
          <a:blip r:embed="rId1"/>
          <a:stretch/>
        </p:blipFill>
        <p:spPr>
          <a:xfrm>
            <a:off x="1457280" y="1066680"/>
            <a:ext cx="744876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nual Changes to Truegrid Output Fi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 trugrido file name to lbbbXX.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XX are your initi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 lbbbav.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&gt;accessories-&gt;notep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 lbbbXX.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unning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791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 back to your own your own subdirectory on sahali using WinSCP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753160" y="1828800"/>
          <a:ext cx="453384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53160" y="1828800"/>
                    <a:ext cx="453384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SH to Sahal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-&gt; All Programs -&gt;PuTTY-&gt;PuT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019840" y="1600200"/>
          <a:ext cx="50418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1600200"/>
                    <a:ext cx="50418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04920" y="3124080"/>
          <a:ext cx="4027320" cy="179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124080"/>
                    <a:ext cx="4027320" cy="17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4952880"/>
            <a:ext cx="4724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201080" y="1295280"/>
            <a:ext cx="2943000" cy="3059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048440" y="3657600"/>
            <a:ext cx="323856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600360" y="2895480"/>
            <a:ext cx="2552760" cy="2519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28760" y="4114800"/>
            <a:ext cx="2057400" cy="489960"/>
          </a:xfrm>
          <a:prstGeom prst="wedgeRectCallout">
            <a:avLst>
              <a:gd name="adj1" fmla="val 43907"/>
              <a:gd name="adj2" fmla="val -139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tty aci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7120" y="1905120"/>
            <a:ext cx="17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Norm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68040" y="6019920"/>
            <a:ext cx="17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19840" y="1066680"/>
            <a:ext cx="3467160" cy="762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64040" y="357120"/>
            <a:ext cx="427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Major Fuel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for the Myocardiu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09760" y="3124080"/>
            <a:ext cx="2133720" cy="685800"/>
          </a:xfrm>
          <a:prstGeom prst="rightArrow">
            <a:avLst>
              <a:gd name="adj1" fmla="val 50000"/>
              <a:gd name="adj2" fmla="val 7778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210000" y="3962160"/>
            <a:ext cx="3845880" cy="1557000"/>
            <a:chOff x="6210000" y="3962160"/>
            <a:chExt cx="3845880" cy="1557000"/>
          </a:xfrm>
        </p:grpSpPr>
        <p:sp>
          <p:nvSpPr>
            <p:cNvPr id="55" name=""/>
            <p:cNvSpPr/>
            <p:nvPr/>
          </p:nvSpPr>
          <p:spPr>
            <a:xfrm>
              <a:off x="8497440" y="4343400"/>
              <a:ext cx="155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Stress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6210000" y="3962160"/>
              <a:ext cx="2972160" cy="1557000"/>
              <a:chOff x="6210000" y="3962160"/>
              <a:chExt cx="2972160" cy="1557000"/>
            </a:xfrm>
          </p:grpSpPr>
          <p:sp>
            <p:nvSpPr>
              <p:cNvPr id="57" name=""/>
              <p:cNvSpPr/>
              <p:nvPr/>
            </p:nvSpPr>
            <p:spPr>
              <a:xfrm>
                <a:off x="7124760" y="5029200"/>
                <a:ext cx="2057400" cy="489960"/>
              </a:xfrm>
              <a:prstGeom prst="wedgeRectCallout">
                <a:avLst>
                  <a:gd name="adj1" fmla="val -44370"/>
                  <a:gd name="adj2" fmla="val -147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Glucose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0800000">
                <a:off x="6210000" y="3962160"/>
                <a:ext cx="2133720" cy="685800"/>
              </a:xfrm>
              <a:prstGeom prst="rightArrow">
                <a:avLst>
                  <a:gd name="adj1" fmla="val 50000"/>
                  <a:gd name="adj2" fmla="val 77782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indows to Linu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adds return character to the end of each line.  This must be removed before you can run your nike de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&gt;fromdos lbbbXX.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unning Nike under linu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gt;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gt;nike3d.lnx i=lbbbXX.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23760" y="4495680"/>
          <a:ext cx="8514000" cy="19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4495680"/>
                    <a:ext cx="8514000" cy="19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3276720" y="966960"/>
          <a:ext cx="6781680" cy="50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966960"/>
                    <a:ext cx="6781680" cy="50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-92160" y="879480"/>
            <a:ext cx="306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&gt; open-&gt;binary p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&gt;n3p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000080" y="1219320"/>
          <a:ext cx="8361360" cy="53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219320"/>
                    <a:ext cx="8361360" cy="53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778040" y="304920"/>
            <a:ext cx="680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ccessful run will end as shown bel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191120" y="1143000"/>
          <a:ext cx="5524560" cy="54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143000"/>
                    <a:ext cx="5524560" cy="54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09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trieving Nike data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922400"/>
            <a:ext cx="3597480" cy="50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g n3plot and n3plot01 to your subdirectory on your local desktop mach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-&gt; All Programs -&gt;XYZ Scientific Applications -&gt; lsprep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9753480" cy="5943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tivation of the left ventricle is delayed, which results in the left ventricle contracting later than the right ventricl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ptal region contracts against a lower pressure load while the other regions contract against high pressure load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nergy use reflects the differences in work 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lbbbuptake" descr=""/>
          <p:cNvPicPr/>
          <p:nvPr/>
        </p:nvPicPr>
        <p:blipFill>
          <a:blip r:embed="rId1"/>
          <a:srcRect l="0" t="0" r="51577" b="0"/>
          <a:stretch/>
        </p:blipFill>
        <p:spPr>
          <a:xfrm>
            <a:off x="3875040" y="4344840"/>
            <a:ext cx="2613240" cy="2513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05120" y="5105520"/>
            <a:ext cx="26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DG  uptak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BBB FE 2-D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SH to Sahal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-&gt; All Programs -&gt;PuTTY-&gt;PuT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019840" y="1600200"/>
          <a:ext cx="50418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1600200"/>
                    <a:ext cx="50418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04920" y="3124080"/>
          <a:ext cx="4027320" cy="179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124080"/>
                    <a:ext cx="4027320" cy="17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0" y="4952880"/>
            <a:ext cx="4724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gt; mkdir xlastna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gt; cd xlast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BBB 2D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gt;cp averess/lbbb.n yourdirectory/lbbbXX.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unning Nike under linu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gt;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gt;nike3d.lnx i=lbbbXX.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23760" y="4495680"/>
          <a:ext cx="8514000" cy="19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4495680"/>
                    <a:ext cx="8514000" cy="19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000080" y="1219320"/>
          <a:ext cx="8361360" cy="53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219320"/>
                    <a:ext cx="8361360" cy="53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778040" y="304920"/>
            <a:ext cx="680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ccessful run will end as shown bel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191120" y="1143000"/>
          <a:ext cx="5524560" cy="54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143000"/>
                    <a:ext cx="5524560" cy="54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09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trieving Nike data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922400"/>
            <a:ext cx="3597480" cy="50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g n3plot and n3plot01 to your subdirectory on your local desktop mach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-&gt; All Programs -&gt;XYZ Scientific Applications -&gt; lsprep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6T19:16:46Z</dcterms:created>
  <dc:creator>Medical Illustration Service</dc:creator>
  <dc:description/>
  <dc:language>en-US</dc:language>
  <cp:lastModifiedBy>Alexander I. Veress</cp:lastModifiedBy>
  <cp:lastPrinted>1999-10-23T15:57:32Z</cp:lastPrinted>
  <dcterms:modified xsi:type="dcterms:W3CDTF">2008-08-29T16:58:06Z</dcterms:modified>
  <cp:revision>473</cp:revision>
  <dc:subject/>
  <dc:title>Imaging the Mechanical, Electrical &amp; Physiological Properties of the Heart</dc:title>
</cp:coreProperties>
</file>