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422F-4DA8-4416-A9C5-BF712A658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otonin works as a vasoconstri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othelium being modeled here is in the capillaries of the pulmonar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ax, K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rimental data was obtained from removed dog lung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modeling endothelial serotonin uptake in the lu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scular reference (indocynanine green d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periments make use of a extravascular reference (sucro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Template is BTEX 40 found on the NSR Physiome web site under “Transport Phys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transporters and cleft (P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ecl and PSeca have same kinetic values (PSpc should be the same but may not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Assumption: Plasma is assumed to be in a steady state by the time it reaches the capillary of interest (any consumption by platelets is done and at equilibriu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s to use 4 compartment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 model and run through graphs showing 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modification of input fun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racer being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tion Ratio is useful in seeing differences in reference and substrate curves not readily appar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ER confirms that matching outflows was successfu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ratio of G</a:t>
            </a:r>
            <a:r>
              <a:rPr b="0" lang="en-US" sz="1200" spc="-1" strike="noStrike" baseline="-25000">
                <a:solidFill>
                  <a:srgbClr val="000000"/>
                </a:solidFill>
                <a:latin typeface="Times New Roman"/>
              </a:rPr>
              <a:t>ec</a:t>
            </a:r>
            <a:r>
              <a:rPr b="0" lang="en-US" sz="1200" spc="-1" strike="noStrike">
                <a:solidFill>
                  <a:srgbClr val="000000"/>
                </a:solidFill>
                <a:latin typeface="Times New Roman"/>
              </a:rPr>
              <a:t>Max/Km</a:t>
            </a:r>
            <a:r>
              <a:rPr b="0" lang="en-US" sz="1200" spc="-1" strike="noStrike" baseline="-25000">
                <a:solidFill>
                  <a:srgbClr val="000000"/>
                </a:solidFill>
                <a:latin typeface="Times New Roman"/>
              </a:rPr>
              <a:t>ec</a:t>
            </a:r>
            <a:r>
              <a:rPr b="0" lang="en-US" sz="1200" spc="-1" strike="noStrike">
                <a:solidFill>
                  <a:srgbClr val="000000"/>
                </a:solidFill>
                <a:latin typeface="Times New Roman"/>
              </a:rPr>
              <a:t> to two compartment G</a:t>
            </a:r>
            <a:r>
              <a:rPr b="0" lang="en-US" sz="1200" spc="-1" strike="noStrike" baseline="-25000">
                <a:solidFill>
                  <a:srgbClr val="000000"/>
                </a:solidFill>
                <a:latin typeface="Times New Roman"/>
              </a:rPr>
              <a:t>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different dosages and Extraction rati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10715-B4C8-45CA-AFFF-DE5C251EA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2760" y="1599840"/>
            <a:ext cx="85410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2760" y="3949920"/>
            <a:ext cx="85410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C93C1-2F82-404C-AA2C-8ADF1165B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276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92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276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92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A7FB6-1141-4322-A462-8EA43609B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2760" y="159984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90680" y="159984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8600" y="159984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2760" y="394992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90680" y="394992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8600" y="394992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5ADBE-2AE2-4213-8E0C-486E4638C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71A11-6B77-47EE-9EA4-20450D547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2760" y="1599840"/>
            <a:ext cx="85410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B3724-7217-4C89-A8EC-8E90BAD81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2760" y="1599840"/>
            <a:ext cx="8541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54A77-8656-4A96-918F-BC2336560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276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92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FEE94-9DC6-4089-A96E-19FA4E547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DFAD1-D992-485A-BF2F-9A95C191A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2760" y="228240"/>
            <a:ext cx="854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2984A-463C-46E1-85FD-E8C13547B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276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92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276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7BA7A-14BE-41A7-9C6D-B0036CC3F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2760" y="1599840"/>
            <a:ext cx="854100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2CE44-4DD4-4569-B1EF-EDAC3CC9B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276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92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92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71DEB-F6BD-4104-A4B4-68C27BFCE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276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92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2760" y="3949920"/>
            <a:ext cx="85410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50BBF-000C-43E1-85A1-69D2598A1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2760" y="1599840"/>
            <a:ext cx="85410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2760" y="3949920"/>
            <a:ext cx="85410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4E44A-0D64-4AB9-9C4B-4D4FC64AB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276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92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276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92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93F54-137F-4D80-A526-BE897FB3AB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2760" y="159984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90680" y="159984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8600" y="159984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2760" y="394992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90680" y="394992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8600" y="3949920"/>
            <a:ext cx="27500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ADC74-463C-4852-BB74-B20C1F151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2760" y="1599840"/>
            <a:ext cx="854100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5E67E-4922-439C-AC7F-D55ADAC3B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276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92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BE7C0-E06B-4966-8487-D50D7E8DE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9680A-1189-4CDA-9C70-4EC1CB1CB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2760" y="228240"/>
            <a:ext cx="854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0B734-5C19-49B8-B177-0D6C5447D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276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92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276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474EE-D775-49C1-91F2-8A7D93389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276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92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92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5C2F-211E-4C17-A0D7-958885853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276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92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2760" y="3949920"/>
            <a:ext cx="854100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8C0D9-B782-4BC1-A179-B7D71A255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4360" cy="5435640"/>
            <a:chOff x="3600" y="1422360"/>
            <a:chExt cx="9144360" cy="5435640"/>
          </a:xfrm>
        </p:grpSpPr>
        <p:grpSp>
          <p:nvGrpSpPr>
            <p:cNvPr id="1" name=""/>
            <p:cNvGrpSpPr/>
            <p:nvPr/>
          </p:nvGrpSpPr>
          <p:grpSpPr>
            <a:xfrm>
              <a:off x="31680" y="1422360"/>
              <a:ext cx="9116280" cy="5435640"/>
              <a:chOff x="31680" y="1422360"/>
              <a:chExt cx="9116280" cy="5435640"/>
            </a:xfrm>
          </p:grpSpPr>
          <p:sp>
            <p:nvSpPr>
              <p:cNvPr id="2" name=""/>
              <p:cNvSpPr/>
              <p:nvPr/>
            </p:nvSpPr>
            <p:spPr>
              <a:xfrm>
                <a:off x="2220840" y="1771560"/>
                <a:ext cx="446940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76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10044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124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420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268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680" y="1536840"/>
                <a:ext cx="392328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624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744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360" y="5518080"/>
                <a:ext cx="452160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144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528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76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2760" y="6244920"/>
            <a:ext cx="22878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3080" y="6244920"/>
            <a:ext cx="22910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E0ED-812A-4F97-8010-D4F31E84D65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2760" y="1599840"/>
            <a:ext cx="854100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4360" cy="5435640"/>
            <a:chOff x="3600" y="1422360"/>
            <a:chExt cx="9144360" cy="5435640"/>
          </a:xfrm>
        </p:grpSpPr>
        <p:grpSp>
          <p:nvGrpSpPr>
            <p:cNvPr id="193" name=""/>
            <p:cNvGrpSpPr/>
            <p:nvPr/>
          </p:nvGrpSpPr>
          <p:grpSpPr>
            <a:xfrm>
              <a:off x="31680" y="1422360"/>
              <a:ext cx="9116280" cy="5435640"/>
              <a:chOff x="31680" y="1422360"/>
              <a:chExt cx="9116280" cy="5435640"/>
            </a:xfrm>
          </p:grpSpPr>
          <p:sp>
            <p:nvSpPr>
              <p:cNvPr id="194" name=""/>
              <p:cNvSpPr/>
              <p:nvPr/>
            </p:nvSpPr>
            <p:spPr>
              <a:xfrm>
                <a:off x="2220840" y="1771560"/>
                <a:ext cx="446940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76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10044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124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420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268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680" y="1536840"/>
                <a:ext cx="392328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624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744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360" y="5518080"/>
                <a:ext cx="452160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144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528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76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420A-574E-44B0-8145-EE9B52EFEBED}"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odeling Endothelial uptake of Serotonin</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4190760"/>
            <a:ext cx="6400800" cy="144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t Jardine</a:t>
            </a: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y of Washington Bioengineering Dep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ences:</a:t>
            </a:r>
            <a:endParaRPr b="0" lang="en-US" sz="4400" spc="-1" strike="noStrike">
              <a:solidFill>
                <a:srgbClr val="ffffcc"/>
              </a:solidFill>
              <a:latin typeface="Tahoma"/>
            </a:endParaRPr>
          </a:p>
        </p:txBody>
      </p:sp>
      <p:sp>
        <p:nvSpPr>
          <p:cNvPr id="410" name="PlaceHolder 2"/>
          <p:cNvSpPr>
            <a:spLocks noGrp="1"/>
          </p:cNvSpPr>
          <p:nvPr>
            <p:ph/>
          </p:nvPr>
        </p:nvSpPr>
        <p:spPr>
          <a:xfrm>
            <a:off x="302760" y="1599840"/>
            <a:ext cx="854100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The Uptake and Metabolism of Substrates in the Lung”, Linehan J.H., Audi S.H., Dawson C.A., Chapter 17, </a:t>
            </a:r>
            <a:r>
              <a:rPr b="0" i="1" lang="en-US" sz="2000" spc="-1" strike="noStrike">
                <a:solidFill>
                  <a:srgbClr val="ffffff"/>
                </a:solidFill>
                <a:latin typeface="Tahoma"/>
              </a:rPr>
              <a:t>Whole Organ Approaches to Cellular Mechanism</a:t>
            </a:r>
            <a:r>
              <a:rPr b="0" lang="en-US" sz="2000" spc="-1" strike="noStrike">
                <a:solidFill>
                  <a:srgbClr val="ffffff"/>
                </a:solidFill>
                <a:latin typeface="Tahoma"/>
              </a:rPr>
              <a:t>, ed: Bassingthwaighte, Goresky, Linehan, p 427-437, 1998</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Kinetics of Serotonin uptake in the dog lung”, Rickaby D.A., Linehan J.H., Bronikowski T.A., Dawson C.A., </a:t>
            </a:r>
            <a:r>
              <a:rPr b="0" i="1" lang="en-US" sz="2000" spc="-1" strike="noStrike">
                <a:solidFill>
                  <a:srgbClr val="ffffff"/>
                </a:solidFill>
                <a:latin typeface="Tahoma"/>
              </a:rPr>
              <a:t>J. Appl. Physiol</a:t>
            </a:r>
            <a:r>
              <a:rPr b="0" lang="en-US" sz="2000" spc="-1" strike="noStrike">
                <a:solidFill>
                  <a:srgbClr val="ffffff"/>
                </a:solidFill>
                <a:latin typeface="Tahoma"/>
              </a:rPr>
              <a:t>, 51:405-414, 1981</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Kinetics of Serotonin Uptake in the Lung”, Dawson C.A., Linehan, Rickaby D.A., Bronikowski T.A., </a:t>
            </a:r>
            <a:r>
              <a:rPr b="0" i="1" lang="en-US" sz="2000" spc="-1" strike="noStrike">
                <a:solidFill>
                  <a:srgbClr val="ffffff"/>
                </a:solidFill>
                <a:latin typeface="Tahoma"/>
              </a:rPr>
              <a:t>Ann. Biomed. Engineering</a:t>
            </a:r>
            <a:r>
              <a:rPr b="0" lang="en-US" sz="2000" spc="-1" strike="noStrike">
                <a:solidFill>
                  <a:srgbClr val="ffffff"/>
                </a:solidFill>
                <a:latin typeface="Tahoma"/>
              </a:rPr>
              <a:t>. 15:217-227, 1987</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Myocardial serotonin exchange: negligible uptake by capillary endothelium”, Moffett T.C., Chan I.S., Bassingthwaighte J.B,</a:t>
            </a:r>
            <a:r>
              <a:rPr b="0" lang="en-US" sz="2800" spc="-1" strike="noStrike">
                <a:solidFill>
                  <a:srgbClr val="ffffff"/>
                </a:solidFill>
                <a:latin typeface="Tahoma"/>
              </a:rPr>
              <a:t> </a:t>
            </a:r>
            <a:r>
              <a:rPr b="0" i="1" lang="en-US" sz="2000" spc="-1" strike="noStrike">
                <a:solidFill>
                  <a:srgbClr val="ffffff"/>
                </a:solidFill>
                <a:latin typeface="Tahoma"/>
              </a:rPr>
              <a:t>American Journal of Physiology</a:t>
            </a:r>
            <a:r>
              <a:rPr b="0" lang="en-US" sz="2000" spc="-1" strike="noStrike">
                <a:solidFill>
                  <a:srgbClr val="ffffff"/>
                </a:solidFill>
                <a:latin typeface="Tahoma"/>
              </a:rPr>
              <a:t>, 253 (1):H184-H193 Part 2 July 1987</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ckground</a:t>
            </a:r>
            <a:endParaRPr b="0" lang="en-US" sz="4400" spc="-1" strike="noStrike">
              <a:solidFill>
                <a:srgbClr val="ffffcc"/>
              </a:solidFill>
              <a:latin typeface="Tahoma"/>
            </a:endParaRPr>
          </a:p>
        </p:txBody>
      </p:sp>
      <p:sp>
        <p:nvSpPr>
          <p:cNvPr id="394" name="PlaceHolder 2"/>
          <p:cNvSpPr>
            <a:spLocks noGrp="1"/>
          </p:cNvSpPr>
          <p:nvPr>
            <p:ph/>
          </p:nvPr>
        </p:nvSpPr>
        <p:spPr>
          <a:xfrm>
            <a:off x="302760" y="1599840"/>
            <a:ext cx="854100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continues to be interest in vasoactive substances and how they are removed or modified by endothelial cells within the vascular system.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ing the kinetics of the uptake reaction is an important step in understanding this process.</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 vasoactive substance is serotonin [5-hydroxytryptamine (5-H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dothelial cell uptake of such substrates usually involve first order nonlinear kinetics and can be described using the Michaelis-Menton equation.</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a physiological model and experimental data, Vmax and Km can be calculated for the uptake reaction (through a saturable transporter) of serotonin into the endothelial ce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erimental approach</a:t>
            </a:r>
            <a:endParaRPr b="0" lang="en-US" sz="4400" spc="-1" strike="noStrike">
              <a:solidFill>
                <a:srgbClr val="ffffcc"/>
              </a:solidFill>
              <a:latin typeface="Tahoma"/>
            </a:endParaRPr>
          </a:p>
        </p:txBody>
      </p:sp>
      <p:sp>
        <p:nvSpPr>
          <p:cNvPr id="396" name="PlaceHolder 2"/>
          <p:cNvSpPr>
            <a:spLocks noGrp="1"/>
          </p:cNvSpPr>
          <p:nvPr>
            <p:ph/>
          </p:nvPr>
        </p:nvSpPr>
        <p:spPr>
          <a:xfrm>
            <a:off x="302760" y="1599840"/>
            <a:ext cx="854100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experimental technique often used to study the behavior of a substrate within the vascular, endothelium, and interstitial fluid space is the ‘bolus-sweep’ multiple indicator dilution (MID) techniqu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is method a bolus containing a large amount (capable of saturating the reactions of interest) of the substrate and labeled substrate (serotonin) is injected into the vascular area of interest (lungs) along with a vascular indicator referen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erimental approach</a:t>
            </a:r>
            <a:endParaRPr b="0" lang="en-US" sz="4400" spc="-1" strike="noStrike">
              <a:solidFill>
                <a:srgbClr val="ffffcc"/>
              </a:solidFill>
              <a:latin typeface="Tahoma"/>
            </a:endParaRPr>
          </a:p>
        </p:txBody>
      </p:sp>
      <p:sp>
        <p:nvSpPr>
          <p:cNvPr id="398" name="PlaceHolder 2"/>
          <p:cNvSpPr>
            <a:spLocks noGrp="1"/>
          </p:cNvSpPr>
          <p:nvPr>
            <p:ph/>
          </p:nvPr>
        </p:nvSpPr>
        <p:spPr>
          <a:xfrm>
            <a:off x="302760" y="1599840"/>
            <a:ext cx="854100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method allows the study of the reactions at various concentrations of substrate without permanently affecting the physiology of the system under study (serial injections at different concentrations can be don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reference indicators (if they can be found that are similar to the substrate being studied) can be used for differentiating uptake into the endothelial cell versus passive diffusion into the interstitial fluid space as well as for determining space volume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ndothelial serotonin uptake model</a:t>
            </a:r>
            <a:endParaRPr b="0" lang="en-US" sz="4000" spc="-1" strike="noStrike">
              <a:solidFill>
                <a:srgbClr val="ffffcc"/>
              </a:solidFill>
              <a:latin typeface="Tahoma"/>
            </a:endParaRPr>
          </a:p>
        </p:txBody>
      </p:sp>
      <p:sp>
        <p:nvSpPr>
          <p:cNvPr id="400" name="PlaceHolder 2"/>
          <p:cNvSpPr>
            <a:spLocks noGrp="1"/>
          </p:cNvSpPr>
          <p:nvPr>
            <p:ph/>
          </p:nvPr>
        </p:nvSpPr>
        <p:spPr>
          <a:xfrm>
            <a:off x="302760" y="1599840"/>
            <a:ext cx="8541000" cy="4498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 substrates are modeled:</a:t>
            </a:r>
            <a:endParaRPr b="0" lang="en-US" sz="28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otonin (mother)</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eled Serotonin (diffusive tracer)</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scular reference (reference)</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ravascular reference (not always available)</a:t>
            </a:r>
            <a:endParaRPr b="0" lang="en-US" sz="2400" spc="-1" strike="noStrike">
              <a:solidFill>
                <a:srgbClr val="ffffff"/>
              </a:solidFill>
              <a:latin typeface="Tahoma"/>
            </a:endParaRPr>
          </a:p>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our compartment capillary-tissue model is used:</a:t>
            </a:r>
            <a:endParaRPr b="0" lang="en-US" sz="28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sma space of the capillary (p)</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dothelial cells (ec)</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stitial fluid space (isf)</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enchymal cells (p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Model</a:t>
            </a:r>
            <a:endParaRPr b="0" lang="en-US" sz="4400" spc="-1" strike="noStrike">
              <a:solidFill>
                <a:srgbClr val="ffffcc"/>
              </a:solidFill>
              <a:latin typeface="Tahoma"/>
            </a:endParaRPr>
          </a:p>
        </p:txBody>
      </p:sp>
      <p:pic>
        <p:nvPicPr>
          <p:cNvPr id="402" name="" descr=""/>
          <p:cNvPicPr/>
          <p:nvPr/>
        </p:nvPicPr>
        <p:blipFill>
          <a:blip r:embed="rId1"/>
          <a:stretch/>
        </p:blipFill>
        <p:spPr>
          <a:xfrm>
            <a:off x="1809720" y="2016000"/>
            <a:ext cx="5440320" cy="408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2760" y="228600"/>
            <a:ext cx="8541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a:t>
            </a:r>
            <a:r>
              <a:rPr b="0" lang="en-US" sz="4000" spc="-1" strike="noStrike">
                <a:solidFill>
                  <a:srgbClr val="ffffcc"/>
                </a:solidFill>
                <a:latin typeface="Tahoma"/>
              </a:rPr>
              <a:t> </a:t>
            </a:r>
            <a:r>
              <a:rPr b="0" lang="en-US" sz="4400" spc="-1" strike="noStrike">
                <a:solidFill>
                  <a:srgbClr val="ffffcc"/>
                </a:solidFill>
                <a:latin typeface="Tahoma"/>
              </a:rPr>
              <a:t>Model</a:t>
            </a:r>
            <a:endParaRPr b="0" lang="en-US" sz="4400" spc="-1" strike="noStrike">
              <a:solidFill>
                <a:srgbClr val="ffffcc"/>
              </a:solidFill>
              <a:latin typeface="Tahoma"/>
            </a:endParaRPr>
          </a:p>
        </p:txBody>
      </p:sp>
      <p:sp>
        <p:nvSpPr>
          <p:cNvPr id="404" name="PlaceHolder 2"/>
          <p:cNvSpPr>
            <a:spLocks noGrp="1"/>
          </p:cNvSpPr>
          <p:nvPr>
            <p:ph/>
          </p:nvPr>
        </p:nvSpPr>
        <p:spPr>
          <a:xfrm>
            <a:off x="538200" y="1599840"/>
            <a:ext cx="8067600" cy="4460760"/>
          </a:xfrm>
          <a:prstGeom prst="rect">
            <a:avLst/>
          </a:prstGeom>
          <a:noFill/>
          <a:ln w="0">
            <a:noFill/>
          </a:ln>
        </p:spPr>
        <p:txBody>
          <a:bodyPr lIns="90000" rIns="90000" tIns="46800" bIns="46800"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models of endothelial uptake reactions exclude possible diffusion through endothelial clefts into the ISF and beyond or use only one way transporters.</a:t>
            </a:r>
            <a:endParaRPr b="0" lang="en-US" sz="2800" spc="-1" strike="noStrike">
              <a:solidFill>
                <a:srgbClr val="ffffff"/>
              </a:solidFill>
              <a:latin typeface="Tahoma"/>
            </a:endParaRPr>
          </a:p>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can lead to inaccuracies in calculating kinetic parameters when fitting the model to experimental data. </a:t>
            </a:r>
            <a:endParaRPr b="0" lang="en-US" sz="2800" spc="-1" strike="noStrike">
              <a:solidFill>
                <a:srgbClr val="ffffff"/>
              </a:solidFill>
              <a:latin typeface="Tahoma"/>
            </a:endParaRPr>
          </a:p>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our compartment model can be easily converted to a simpler model for comparis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paring Models</a:t>
            </a:r>
            <a:endParaRPr b="0" lang="en-US" sz="4400" spc="-1" strike="noStrike">
              <a:solidFill>
                <a:srgbClr val="ffffcc"/>
              </a:solidFill>
              <a:latin typeface="Tahoma"/>
            </a:endParaRPr>
          </a:p>
        </p:txBody>
      </p:sp>
      <p:sp>
        <p:nvSpPr>
          <p:cNvPr id="406" name="PlaceHolder 2"/>
          <p:cNvSpPr>
            <a:spLocks noGrp="1"/>
          </p:cNvSpPr>
          <p:nvPr>
            <p:ph/>
          </p:nvPr>
        </p:nvSpPr>
        <p:spPr>
          <a:xfrm>
            <a:off x="302760" y="1599840"/>
            <a:ext cx="854100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a simpler model describe the problem as well?</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4 compartment model to generate ‘data’ for use in two compartment model.</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compartment model is that as described by Linehan, Audi, and Dawson, 1998</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wo compartment model has one-way transporter, a back-diffusion term and constant consumption within the extravascular spa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2760" y="22824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paring Models</a:t>
            </a:r>
            <a:endParaRPr b="0" lang="en-US" sz="4400" spc="-1" strike="noStrike">
              <a:solidFill>
                <a:srgbClr val="ffffcc"/>
              </a:solidFill>
              <a:latin typeface="Tahoma"/>
            </a:endParaRPr>
          </a:p>
        </p:txBody>
      </p:sp>
      <p:sp>
        <p:nvSpPr>
          <p:cNvPr id="408" name="PlaceHolder 2"/>
          <p:cNvSpPr>
            <a:spLocks noGrp="1"/>
          </p:cNvSpPr>
          <p:nvPr>
            <p:ph/>
          </p:nvPr>
        </p:nvSpPr>
        <p:spPr>
          <a:xfrm>
            <a:off x="302760" y="1599840"/>
            <a:ext cx="8541000" cy="4498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fit the intravascular reference outflow data to get the correct input curv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t serotonin outflow dat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Extraction Ratio data fi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e (kinetic parameters) four versus two compartment solution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k at different Doses w/ same kinetic parame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evie</cp:lastModifiedBy>
  <dcterms:modified xsi:type="dcterms:W3CDTF">2008-08-27T14:31:50Z</dcterms:modified>
  <cp:revision>100</cp:revision>
  <dc:subject/>
  <dc:title>PowerPoint Presentation</dc:title>
</cp:coreProperties>
</file>