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F7CC-7FDF-49E4-B4FB-17CF92BF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91D-0420-4E04-A63D-719936E4E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0BD-9D73-42F5-A904-16F17C39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B7F-093B-422A-93CE-A007F988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47E7-1695-44A0-8E78-EE6829C3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3FF8-5858-4E25-BF86-66E72940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3913-BB19-4D66-AD15-74832CEE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441-115C-48A6-BD52-87790488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5D17-61FF-4804-942C-F809EA44E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9C1-0DF0-4A1B-B818-2DF3297F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D5C7-7625-494B-9FF4-CD764FD0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7AD3-BF03-4297-927B-5B5D7790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146B-5D52-478B-AF5F-06A9DDDF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B77-3F5D-495D-958B-34599739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A27-942A-469F-9CD2-9920E5BF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60F-6E24-4F9C-B180-1A4C1281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7AE7-63C6-4CD0-9051-BA1115B0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4641-2EE8-4B1A-8F42-CADB178F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CCD-C7EA-43D4-817F-D0AD0003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193-5C36-42FF-A205-A650828C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9A4B-C4DA-4CAB-987A-7EF6004F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107-F8F7-40F8-8B4D-3780CD8C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4F5-0662-40C1-A472-1EE03B0C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B76-9106-481E-8709-1BE227B6C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BE6E-FBA7-48CD-A755-F2E80F33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0D7-E793-4A27-985C-C2AF67A0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B9FE-0D7B-470F-B9A5-A6880011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CCC-4087-46AD-8FC2-AE57D244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3C0B-EC54-403E-A136-80C0F26C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EA1-98AA-4607-8B97-59DE3F28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3A9-995B-4EF4-8F60-96BEB202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1091-BD78-48FE-A6A5-C23D7809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E9FB-7E5D-4DA8-BC28-0BC6A3AB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448-4566-48F9-9BC3-922D0E77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DCE2-86F0-41CE-A44A-03CF5B7F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D936-38B4-4824-88BA-EE3F1045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386B-0614-457D-B109-0A047762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C61-E330-4DEE-94C1-1122F770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50DA-FC58-4011-AFA1-BA92D2A7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538-A9A6-4650-85FC-6FABBE98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539-D710-46C1-9DF9-902A4622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D56F-1366-4E39-AA77-CD1B5405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FD1-7095-45F2-BD14-75E801564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3C5-2592-4716-806F-25F72352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120-0B2B-4C35-9ECE-FDA9A45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83F-67C8-49C1-8EFC-F2EFEB2D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A3E-2489-4D98-B38D-D441B8AB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E09-AED8-4684-AFF5-F30AB510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DFC-C8BF-41C4-B913-52A9612A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0D1-C618-4EEE-AF82-B1753DFA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DA8-9069-4F8E-B597-BDE38B2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798-1905-4A1A-9444-82BD78FC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CD0-878F-4B3A-A328-B10D193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A55-1A2A-4438-A7B6-30549B9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6DB-9493-4A08-8DFD-04B3A0C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41A-0D81-4224-AD95-A24DB1F45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6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cillatory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Herbert M Sa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pt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676840" y="301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6630480" y="2895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&gt;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6315120" y="3019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6324480" y="3390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562720" y="420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: dS1/d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80000" y="220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030640" y="3048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34290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1853280" y="220968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un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274464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039920" y="46483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3714840" y="4390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3705120" y="4619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853280" y="220968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un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34290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74464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562720" y="420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: dS1/d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1853280" y="220968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un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 flipV="1">
            <a:off x="34290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4039920" y="46483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1"/>
          <p:cNvSpPr/>
          <p:nvPr/>
        </p:nvSpPr>
        <p:spPr>
          <a:xfrm>
            <a:off x="3714840" y="4390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2"/>
          <p:cNvSpPr/>
          <p:nvPr/>
        </p:nvSpPr>
        <p:spPr>
          <a:xfrm>
            <a:off x="3705120" y="4619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74464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562720" y="420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: dS1/dt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1853280" y="220968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un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4039920" y="46483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9"/>
          <p:cNvSpPr/>
          <p:nvPr/>
        </p:nvSpPr>
        <p:spPr>
          <a:xfrm>
            <a:off x="3714840" y="4390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0"/>
          <p:cNvSpPr/>
          <p:nvPr/>
        </p:nvSpPr>
        <p:spPr>
          <a:xfrm>
            <a:off x="3705120" y="46195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2744640" y="441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reversible Bistab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04028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440080" y="5119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2819520" y="4164120"/>
            <a:ext cx="3047760" cy="21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2163960" cy="2232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3"/>
          <a:stretch/>
        </p:blipFill>
        <p:spPr>
          <a:xfrm>
            <a:off x="5181480" y="1219320"/>
            <a:ext cx="3067200" cy="2950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0"/>
          <p:cNvSpPr/>
          <p:nvPr/>
        </p:nvSpPr>
        <p:spPr>
          <a:xfrm>
            <a:off x="5943600" y="4495680"/>
            <a:ext cx="2971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iffers, buzzers, toggles and blinkers: dynamics of regulatory and signaling pathways in the cell John J Tysony, Katherine C Chenz and Bela Nov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Opinion in Cel Biology, vol 15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1-231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746520" y="1270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5334120" y="2709720"/>
            <a:ext cx="1828440" cy="533160"/>
            <a:chOff x="5334120" y="2709720"/>
            <a:chExt cx="1828440" cy="533160"/>
          </a:xfrm>
        </p:grpSpPr>
        <p:sp>
          <p:nvSpPr>
            <p:cNvPr id="215" name="Line 6"/>
            <p:cNvSpPr/>
            <p:nvPr/>
          </p:nvSpPr>
          <p:spPr>
            <a:xfrm>
              <a:off x="5334120" y="2976120"/>
              <a:ext cx="182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5682240" y="2709720"/>
              <a:ext cx="1044720" cy="533160"/>
            </a:xfrm>
            <a:prstGeom prst="rightArrow">
              <a:avLst>
                <a:gd name="adj1" fmla="val 50000"/>
                <a:gd name="adj2" fmla="val 489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8"/>
          <p:cNvSpPr/>
          <p:nvPr/>
        </p:nvSpPr>
        <p:spPr>
          <a:xfrm>
            <a:off x="5680080" y="281952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rot="5400000">
            <a:off x="2042280" y="4686120"/>
            <a:ext cx="1067040" cy="228600"/>
          </a:xfrm>
          <a:custGeom>
            <a:avLst/>
            <a:gdLst>
              <a:gd name="textAreaLeft" fmla="*/ 0 w 1067040"/>
              <a:gd name="textAreaRight" fmla="*/ 1067400 w 106704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061080" y="454032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035720" y="45720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230976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2309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4910040" y="45403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421488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H="1">
            <a:off x="42145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 flipV="1">
            <a:off x="5529240" y="3047760"/>
            <a:ext cx="0" cy="1447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1950480" y="3048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557440" y="3505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1"/>
          <p:cNvSpPr/>
          <p:nvPr/>
        </p:nvSpPr>
        <p:spPr>
          <a:xfrm flipV="1">
            <a:off x="716292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2"/>
          <p:cNvSpPr/>
          <p:nvPr/>
        </p:nvSpPr>
        <p:spPr>
          <a:xfrm flipH="1">
            <a:off x="2514600" y="2514600"/>
            <a:ext cx="464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>
            <a:off x="2514600" y="25146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5"/>
          <p:cNvSpPr/>
          <p:nvPr/>
        </p:nvSpPr>
        <p:spPr>
          <a:xfrm>
            <a:off x="3581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2138040" y="54100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rc 28"/>
          <p:cNvSpPr/>
          <p:nvPr/>
        </p:nvSpPr>
        <p:spPr>
          <a:xfrm flipH="1" rot="4792200">
            <a:off x="3367080" y="2434320"/>
            <a:ext cx="1295280" cy="1554120"/>
          </a:xfrm>
          <a:prstGeom prst="pie">
            <a:avLst/>
          </a:pr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3503880" y="2895480"/>
            <a:ext cx="1014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746520" y="12700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6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696360" cy="2943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7"/>
          <p:cNvSpPr/>
          <p:nvPr/>
        </p:nvSpPr>
        <p:spPr>
          <a:xfrm>
            <a:off x="380880" y="61419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stability in the lactose utilization network of Escherichia coli, Ertugrul M. Ozbudak et al, Nature, vol 247, (2004), 737-7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8"/>
          <p:cNvSpPr/>
          <p:nvPr/>
        </p:nvSpPr>
        <p:spPr>
          <a:xfrm>
            <a:off x="380880" y="533412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en fluorescence measures the level of expression in the Lac oper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Bist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28600" y="566820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diction and measurement of an autoregulatory genetic modu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rren J. Isaacs, Jeff Hasty, Charles R. Cantor, and J. J. Collins, PNAS, 100:7714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4864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Bist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183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5575320" y="1523880"/>
            <a:ext cx="3168720" cy="4633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304920" y="419076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339-342 (2000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 of a genetic toggle switch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cherichia co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thy S. Gardner, Charles R. Cantor and James J. C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8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315200" cy="5850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9"/>
          <p:cNvSpPr/>
          <p:nvPr/>
        </p:nvSpPr>
        <p:spPr>
          <a:xfrm>
            <a:off x="304920" y="762120"/>
            <a:ext cx="7924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304920" y="6248520"/>
            <a:ext cx="769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1"/>
          <p:cNvSpPr/>
          <p:nvPr/>
        </p:nvSpPr>
        <p:spPr>
          <a:xfrm>
            <a:off x="762120" y="6248520"/>
            <a:ext cx="6991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63720" y="6437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kin: DARPA Meeting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a Bistab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1066680" y="1600200"/>
            <a:ext cx="20574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ifying a Bistab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6"/>
          <p:cNvSpPr/>
          <p:nvPr/>
        </p:nvSpPr>
        <p:spPr>
          <a:xfrm>
            <a:off x="1066680" y="3200400"/>
            <a:ext cx="754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 = def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Xo -&gt; So;  k0*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 -&gt; S1;   k1*So + Vmax*So*S1^n/(15 + S1^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1 -&gt; $X1;  k2*S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88203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8820360" cy="2714760"/>
          </a:xfrm>
          <a:prstGeom prst="rect">
            <a:avLst/>
          </a:prstGeom>
          <a:ln w="0">
            <a:noFill/>
          </a:ln>
        </p:spPr>
      </p:pic>
      <p:sp>
        <p:nvSpPr>
          <p:cNvPr id="260" name="Line 5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H="1">
            <a:off x="3504960" y="3048120"/>
            <a:ext cx="1600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 flipV="1">
            <a:off x="35053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3352680" y="2590920"/>
            <a:ext cx="30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 flipV="1">
            <a:off x="3505320" y="1828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3505320" y="1828800"/>
            <a:ext cx="3045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3809880" y="1828800"/>
            <a:ext cx="0" cy="3049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8820360" cy="271476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"/>
          <p:cNvSpPr/>
          <p:nvPr/>
        </p:nvSpPr>
        <p:spPr>
          <a:xfrm flipH="1">
            <a:off x="3504960" y="3048120"/>
            <a:ext cx="1600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 flipV="1">
            <a:off x="35053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3352680" y="2590920"/>
            <a:ext cx="30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3505320" y="1828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505320" y="1828800"/>
            <a:ext cx="3045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3809880" y="1828800"/>
            <a:ext cx="0" cy="3049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4640400" cy="31910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"/>
          <p:cNvSpPr/>
          <p:nvPr/>
        </p:nvSpPr>
        <p:spPr>
          <a:xfrm>
            <a:off x="2967120" y="6186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76560" y="4267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586728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5638680" y="5257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 flipV="1">
            <a:off x="6095880" y="495252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3"/>
          <p:cNvSpPr/>
          <p:nvPr/>
        </p:nvSpPr>
        <p:spPr>
          <a:xfrm flipH="1" flipV="1">
            <a:off x="6172200" y="46483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6172200" y="396216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6324480" y="5410080"/>
            <a:ext cx="1447920" cy="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 flipV="1">
            <a:off x="7848720" y="4190760"/>
            <a:ext cx="0" cy="6094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 flipH="1">
            <a:off x="6171840" y="396252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9"/>
          <p:cNvSpPr/>
          <p:nvPr/>
        </p:nvSpPr>
        <p:spPr>
          <a:xfrm>
            <a:off x="6019920" y="46483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1"/>
          <p:cNvSpPr/>
          <p:nvPr/>
        </p:nvSpPr>
        <p:spPr>
          <a:xfrm flipH="1">
            <a:off x="3504960" y="3048120"/>
            <a:ext cx="1600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2"/>
          <p:cNvSpPr/>
          <p:nvPr/>
        </p:nvSpPr>
        <p:spPr>
          <a:xfrm flipV="1">
            <a:off x="35053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3"/>
          <p:cNvSpPr/>
          <p:nvPr/>
        </p:nvSpPr>
        <p:spPr>
          <a:xfrm>
            <a:off x="3352680" y="2590920"/>
            <a:ext cx="30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"/>
          <p:cNvSpPr/>
          <p:nvPr/>
        </p:nvSpPr>
        <p:spPr>
          <a:xfrm flipV="1">
            <a:off x="3505320" y="1828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5"/>
          <p:cNvSpPr/>
          <p:nvPr/>
        </p:nvSpPr>
        <p:spPr>
          <a:xfrm>
            <a:off x="3505320" y="1828800"/>
            <a:ext cx="3045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3809880" y="1828800"/>
            <a:ext cx="0" cy="3049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92880" cy="1400400"/>
          </a:xfrm>
          <a:prstGeom prst="rect">
            <a:avLst/>
          </a:prstGeom>
          <a:ln w="0">
            <a:noFill/>
          </a:ln>
        </p:spPr>
      </p:pic>
      <p:sp>
        <p:nvSpPr>
          <p:cNvPr id="300" name="Line 5"/>
          <p:cNvSpPr/>
          <p:nvPr/>
        </p:nvSpPr>
        <p:spPr>
          <a:xfrm>
            <a:off x="51055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 flipH="1">
            <a:off x="3504960" y="3048120"/>
            <a:ext cx="1600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 flipV="1">
            <a:off x="3505320" y="259092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3352680" y="2590920"/>
            <a:ext cx="30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"/>
          <p:cNvSpPr/>
          <p:nvPr/>
        </p:nvSpPr>
        <p:spPr>
          <a:xfrm flipV="1">
            <a:off x="3505320" y="1828440"/>
            <a:ext cx="0" cy="228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0"/>
          <p:cNvSpPr/>
          <p:nvPr/>
        </p:nvSpPr>
        <p:spPr>
          <a:xfrm>
            <a:off x="3505320" y="1828800"/>
            <a:ext cx="30456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1"/>
          <p:cNvSpPr/>
          <p:nvPr/>
        </p:nvSpPr>
        <p:spPr>
          <a:xfrm>
            <a:off x="3809880" y="1828800"/>
            <a:ext cx="0" cy="3049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1523880" y="3581280"/>
            <a:ext cx="542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laxation oscillator has two parts, a threshold device, for example a bistable system, and a negative feedback lo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3" descr=""/>
          <p:cNvPicPr/>
          <p:nvPr/>
        </p:nvPicPr>
        <p:blipFill>
          <a:blip r:embed="rId2"/>
          <a:stretch/>
        </p:blipFill>
        <p:spPr>
          <a:xfrm>
            <a:off x="3276720" y="4876920"/>
            <a:ext cx="25826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3" descr=""/>
          <p:cNvPicPr/>
          <p:nvPr/>
        </p:nvPicPr>
        <p:blipFill>
          <a:blip r:embed="rId1"/>
          <a:stretch/>
        </p:blipFill>
        <p:spPr>
          <a:xfrm>
            <a:off x="3228840" y="1143000"/>
            <a:ext cx="41626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tic Relaxation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89800" cy="3571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479760" cy="28130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4114800" y="524340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, Vol. 113, 597–607, May 30, 2003, Development of Genetic Circuitry Exhibiting Toggle Switch or Oscillatory Behavior i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scherichia coli, </a:t>
            </a:r>
            <a:r>
              <a:rPr b="1" lang="en-US" sz="1200" spc="-1" strike="noStrike">
                <a:solidFill>
                  <a:srgbClr val="000000"/>
                </a:solidFill>
                <a:latin typeface="HelveticaNeue-Bold"/>
              </a:rPr>
              <a:t>Mariette R. Atkinson Michael A. Savageau Jesse T. Myers and Alexander J. Ninf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624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572000" cy="1738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1592640" y="3733920"/>
            <a:ext cx="56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which display two stable steady st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third unstable state are usually te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tabl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362480" cy="1362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145040" cy="29322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373400" y="3886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,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819520" y="324468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343400" y="2819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2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5410080" y="32446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2 =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6172200" y="4083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2 = 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5181480" y="58672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3733920" y="434340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2"/>
          <p:cNvSpPr/>
          <p:nvPr/>
        </p:nvSpPr>
        <p:spPr>
          <a:xfrm>
            <a:off x="4038480" y="51055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3"/>
          <p:cNvSpPr/>
          <p:nvPr/>
        </p:nvSpPr>
        <p:spPr>
          <a:xfrm>
            <a:off x="3733920" y="6400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Shift Oscil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152280" y="2408400"/>
            <a:ext cx="1752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ight Arrow 5"/>
          <p:cNvSpPr/>
          <p:nvPr/>
        </p:nvSpPr>
        <p:spPr>
          <a:xfrm>
            <a:off x="914400" y="2133720"/>
            <a:ext cx="762120" cy="5331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0"/>
          <p:cNvSpPr/>
          <p:nvPr/>
        </p:nvSpPr>
        <p:spPr>
          <a:xfrm>
            <a:off x="193860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>
            <a:off x="2362320" y="2406600"/>
            <a:ext cx="822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>
            <a:off x="1951200" y="3322800"/>
            <a:ext cx="1752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ight Arrow 9"/>
          <p:cNvSpPr/>
          <p:nvPr/>
        </p:nvSpPr>
        <p:spPr>
          <a:xfrm>
            <a:off x="2712960" y="3048120"/>
            <a:ext cx="762120" cy="53316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3660840" y="3124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4146480" y="3321000"/>
            <a:ext cx="8222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944640" y="22305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13"/>
          <p:cNvCxnSpPr/>
          <p:nvPr/>
        </p:nvCxnSpPr>
        <p:spPr>
          <a:xfrm flipH="1">
            <a:off x="2208960" y="2668320"/>
            <a:ext cx="2520" cy="532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Straight Arrow Connector 17"/>
          <p:cNvCxnSpPr/>
          <p:nvPr/>
        </p:nvCxnSpPr>
        <p:spPr>
          <a:xfrm flipH="1">
            <a:off x="3884400" y="3506400"/>
            <a:ext cx="360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Straight Arrow Connector 18"/>
          <p:cNvCxnSpPr/>
          <p:nvPr/>
        </p:nvCxnSpPr>
        <p:spPr>
          <a:xfrm flipH="1" flipV="1">
            <a:off x="533520" y="5637960"/>
            <a:ext cx="49626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42" name="TextBox 42"/>
          <p:cNvSpPr/>
          <p:nvPr/>
        </p:nvSpPr>
        <p:spPr>
          <a:xfrm>
            <a:off x="3134880" y="224172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in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3"/>
          <p:cNvSpPr/>
          <p:nvPr/>
        </p:nvSpPr>
        <p:spPr>
          <a:xfrm>
            <a:off x="4934520" y="314640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in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0"/>
          <p:cNvSpPr/>
          <p:nvPr/>
        </p:nvSpPr>
        <p:spPr>
          <a:xfrm>
            <a:off x="2733840" y="31478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25"/>
          <p:cNvSpPr/>
          <p:nvPr/>
        </p:nvSpPr>
        <p:spPr>
          <a:xfrm>
            <a:off x="3554280" y="4313160"/>
            <a:ext cx="1752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26"/>
          <p:cNvSpPr/>
          <p:nvPr/>
        </p:nvSpPr>
        <p:spPr>
          <a:xfrm>
            <a:off x="4316400" y="403848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8"/>
          <p:cNvSpPr/>
          <p:nvPr/>
        </p:nvSpPr>
        <p:spPr>
          <a:xfrm>
            <a:off x="5261040" y="41148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8"/>
          <p:cNvSpPr/>
          <p:nvPr/>
        </p:nvSpPr>
        <p:spPr>
          <a:xfrm>
            <a:off x="5749920" y="4311720"/>
            <a:ext cx="8222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Straight Arrow Connector 29"/>
          <p:cNvCxnSpPr/>
          <p:nvPr/>
        </p:nvCxnSpPr>
        <p:spPr>
          <a:xfrm flipH="1">
            <a:off x="5487120" y="4724280"/>
            <a:ext cx="396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50" name="TextBox 43"/>
          <p:cNvSpPr/>
          <p:nvPr/>
        </p:nvSpPr>
        <p:spPr>
          <a:xfrm>
            <a:off x="6537600" y="4137120"/>
            <a:ext cx="198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in De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4336920" y="4138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34"/>
          <p:cNvCxnSpPr/>
          <p:nvPr/>
        </p:nvCxnSpPr>
        <p:spPr>
          <a:xfrm flipV="1">
            <a:off x="533520" y="2590560"/>
            <a:ext cx="3600" cy="30484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53" name="Straight Arrow Connector 35"/>
          <p:cNvCxnSpPr/>
          <p:nvPr/>
        </p:nvCxnSpPr>
        <p:spPr>
          <a:xfrm>
            <a:off x="428400" y="2590920"/>
            <a:ext cx="229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pic>
        <p:nvPicPr>
          <p:cNvPr id="354" name="Picture 14" descr=""/>
          <p:cNvPicPr/>
          <p:nvPr/>
        </p:nvPicPr>
        <p:blipFill>
          <a:blip r:embed="rId1"/>
          <a:stretch/>
        </p:blipFill>
        <p:spPr>
          <a:xfrm>
            <a:off x="5535720" y="5105520"/>
            <a:ext cx="36082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 Oscill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2993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 Oscillat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si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505320" cy="2786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7150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Work: Oscil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536200" y="12700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la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bition)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23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071960" cy="26780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24"/>
          <p:cNvSpPr/>
          <p:nvPr/>
        </p:nvSpPr>
        <p:spPr>
          <a:xfrm>
            <a:off x="5199840" y="4568760"/>
            <a:ext cx="18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2.keny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5"/>
          <p:cNvSpPr/>
          <p:nvPr/>
        </p:nvSpPr>
        <p:spPr>
          <a:xfrm>
            <a:off x="370440" y="1941480"/>
            <a:ext cx="34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ulation is an expensiv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matic response to st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n operon is centr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and early dynamic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4905360" y="390204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591160" y="381636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6"/>
          <p:cNvCxnSpPr/>
          <p:nvPr/>
        </p:nvCxnSpPr>
        <p:spPr>
          <a:xfrm flipH="1" flipV="1" rot="5400000">
            <a:off x="5637960" y="3454560"/>
            <a:ext cx="276840" cy="580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72" name="Rectangle 7"/>
          <p:cNvSpPr/>
          <p:nvPr/>
        </p:nvSpPr>
        <p:spPr>
          <a:xfrm>
            <a:off x="6937200" y="3825720"/>
            <a:ext cx="10162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926320" y="39495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7194600" y="3922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6001560" y="34225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7461360" y="3444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V="1">
            <a:off x="6867360" y="3596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>
            <a:off x="6858000" y="3597120"/>
            <a:ext cx="63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68640" y="1941480"/>
            <a:ext cx="321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conditions 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imulation of 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I represses constit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ivation of SinR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tivation of the spor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6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4905360" y="390204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5591160" y="381636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6937200" y="3825720"/>
            <a:ext cx="10162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5926320" y="39495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7194600" y="3922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461360" y="3444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3"/>
          <p:cNvSpPr/>
          <p:nvPr/>
        </p:nvSpPr>
        <p:spPr>
          <a:xfrm>
            <a:off x="7620120" y="27590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4"/>
          <p:cNvGrpSpPr/>
          <p:nvPr/>
        </p:nvGrpSpPr>
        <p:grpSpPr>
          <a:xfrm>
            <a:off x="8277120" y="2682720"/>
            <a:ext cx="257040" cy="304560"/>
            <a:chOff x="8277120" y="2682720"/>
            <a:chExt cx="257040" cy="304560"/>
          </a:xfrm>
        </p:grpSpPr>
        <p:sp>
          <p:nvSpPr>
            <p:cNvPr id="391" name="Oval 15"/>
            <p:cNvSpPr/>
            <p:nvPr/>
          </p:nvSpPr>
          <p:spPr>
            <a:xfrm>
              <a:off x="827712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6"/>
            <p:cNvSpPr/>
            <p:nvPr/>
          </p:nvSpPr>
          <p:spPr>
            <a:xfrm>
              <a:off x="838188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7"/>
            <p:cNvSpPr/>
            <p:nvPr/>
          </p:nvSpPr>
          <p:spPr>
            <a:xfrm>
              <a:off x="827712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8"/>
            <p:cNvSpPr/>
            <p:nvPr/>
          </p:nvSpPr>
          <p:spPr>
            <a:xfrm>
              <a:off x="838188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5"/>
          <p:cNvGrpSpPr/>
          <p:nvPr/>
        </p:nvGrpSpPr>
        <p:grpSpPr>
          <a:xfrm>
            <a:off x="7867800" y="2787480"/>
            <a:ext cx="333360" cy="75960"/>
            <a:chOff x="7867800" y="2787480"/>
            <a:chExt cx="333360" cy="75960"/>
          </a:xfrm>
        </p:grpSpPr>
        <p:sp>
          <p:nvSpPr>
            <p:cNvPr id="396" name="Line 26"/>
            <p:cNvSpPr/>
            <p:nvPr/>
          </p:nvSpPr>
          <p:spPr>
            <a:xfrm>
              <a:off x="7896240" y="278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7"/>
            <p:cNvSpPr/>
            <p:nvPr/>
          </p:nvSpPr>
          <p:spPr>
            <a:xfrm>
              <a:off x="7867800" y="2863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Line 36"/>
          <p:cNvSpPr/>
          <p:nvPr/>
        </p:nvSpPr>
        <p:spPr>
          <a:xfrm flipV="1">
            <a:off x="7724880" y="30639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7"/>
          <p:cNvSpPr/>
          <p:nvPr/>
        </p:nvSpPr>
        <p:spPr>
          <a:xfrm flipV="1">
            <a:off x="6867360" y="3596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8"/>
          <p:cNvSpPr/>
          <p:nvPr/>
        </p:nvSpPr>
        <p:spPr>
          <a:xfrm>
            <a:off x="6858000" y="3597120"/>
            <a:ext cx="63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368640" y="1941480"/>
            <a:ext cx="321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conditions 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imulation of 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I represses constit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ivation of SinR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tivation of the spor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6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4"/>
          <p:cNvSpPr/>
          <p:nvPr/>
        </p:nvSpPr>
        <p:spPr>
          <a:xfrm>
            <a:off x="4905360" y="390204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5591160" y="381636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6"/>
          <p:cNvCxnSpPr/>
          <p:nvPr/>
        </p:nvCxnSpPr>
        <p:spPr>
          <a:xfrm flipH="1" flipV="1" rot="5400000">
            <a:off x="5637960" y="3454560"/>
            <a:ext cx="276840" cy="580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08" name="Rectangle 7"/>
          <p:cNvSpPr/>
          <p:nvPr/>
        </p:nvSpPr>
        <p:spPr>
          <a:xfrm>
            <a:off x="6937200" y="3825720"/>
            <a:ext cx="10162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5926320" y="39495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194600" y="3922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7461360" y="3444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7620120" y="27590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8277120" y="2682720"/>
            <a:ext cx="257040" cy="304560"/>
            <a:chOff x="8277120" y="2682720"/>
            <a:chExt cx="257040" cy="304560"/>
          </a:xfrm>
        </p:grpSpPr>
        <p:sp>
          <p:nvSpPr>
            <p:cNvPr id="414" name="Oval 15"/>
            <p:cNvSpPr/>
            <p:nvPr/>
          </p:nvSpPr>
          <p:spPr>
            <a:xfrm>
              <a:off x="827712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838188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827712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838188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25"/>
          <p:cNvGrpSpPr/>
          <p:nvPr/>
        </p:nvGrpSpPr>
        <p:grpSpPr>
          <a:xfrm>
            <a:off x="7867800" y="2787480"/>
            <a:ext cx="333360" cy="75960"/>
            <a:chOff x="7867800" y="2787480"/>
            <a:chExt cx="333360" cy="75960"/>
          </a:xfrm>
        </p:grpSpPr>
        <p:sp>
          <p:nvSpPr>
            <p:cNvPr id="419" name="Line 26"/>
            <p:cNvSpPr/>
            <p:nvPr/>
          </p:nvSpPr>
          <p:spPr>
            <a:xfrm>
              <a:off x="7896240" y="278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>
              <a:off x="7867800" y="2863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Line 31"/>
          <p:cNvSpPr/>
          <p:nvPr/>
        </p:nvSpPr>
        <p:spPr>
          <a:xfrm flipV="1">
            <a:off x="8410680" y="2225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 flipH="1">
            <a:off x="4724280" y="2225520"/>
            <a:ext cx="368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3"/>
          <p:cNvSpPr/>
          <p:nvPr/>
        </p:nvSpPr>
        <p:spPr>
          <a:xfrm>
            <a:off x="5057640" y="22255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4943520" y="3825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7724880" y="30639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 flipV="1">
            <a:off x="6867360" y="3596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8"/>
          <p:cNvSpPr/>
          <p:nvPr/>
        </p:nvSpPr>
        <p:spPr>
          <a:xfrm>
            <a:off x="6858000" y="3597120"/>
            <a:ext cx="63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1"/>
          <p:cNvSpPr/>
          <p:nvPr/>
        </p:nvSpPr>
        <p:spPr>
          <a:xfrm>
            <a:off x="4724280" y="2111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4"/>
          <p:cNvSpPr/>
          <p:nvPr/>
        </p:nvSpPr>
        <p:spPr>
          <a:xfrm>
            <a:off x="3756960" y="198108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>
            <a:off x="368640" y="1941480"/>
            <a:ext cx="321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conditions 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imulation of 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I represses constit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ivation of SinR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tivation of the spor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6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1738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4345200" y="5638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086360" cy="2840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1900440" y="36576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 flipH="1">
            <a:off x="662904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66290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7394040" y="27576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7393680" y="5073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"/>
          <p:cNvSpPr/>
          <p:nvPr/>
        </p:nvSpPr>
        <p:spPr>
          <a:xfrm>
            <a:off x="4905360" y="390204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5591160" y="381636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AutoShape 6"/>
          <p:cNvCxnSpPr/>
          <p:nvPr/>
        </p:nvCxnSpPr>
        <p:spPr>
          <a:xfrm flipH="1" flipV="1" rot="5400000">
            <a:off x="5637960" y="3454560"/>
            <a:ext cx="276840" cy="580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37" name="Rectangle 7"/>
          <p:cNvSpPr/>
          <p:nvPr/>
        </p:nvSpPr>
        <p:spPr>
          <a:xfrm>
            <a:off x="6937200" y="3825720"/>
            <a:ext cx="1016280" cy="152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5926320" y="39495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7194600" y="3922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6001560" y="342252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7461360" y="344484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2"/>
          <p:cNvSpPr/>
          <p:nvPr/>
        </p:nvSpPr>
        <p:spPr>
          <a:xfrm>
            <a:off x="6200640" y="275904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3"/>
          <p:cNvSpPr/>
          <p:nvPr/>
        </p:nvSpPr>
        <p:spPr>
          <a:xfrm>
            <a:off x="7620120" y="27590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14"/>
          <p:cNvGrpSpPr/>
          <p:nvPr/>
        </p:nvGrpSpPr>
        <p:grpSpPr>
          <a:xfrm>
            <a:off x="8277120" y="2682720"/>
            <a:ext cx="257040" cy="304560"/>
            <a:chOff x="8277120" y="2682720"/>
            <a:chExt cx="257040" cy="304560"/>
          </a:xfrm>
        </p:grpSpPr>
        <p:sp>
          <p:nvSpPr>
            <p:cNvPr id="445" name="Oval 15"/>
            <p:cNvSpPr/>
            <p:nvPr/>
          </p:nvSpPr>
          <p:spPr>
            <a:xfrm>
              <a:off x="827712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6"/>
            <p:cNvSpPr/>
            <p:nvPr/>
          </p:nvSpPr>
          <p:spPr>
            <a:xfrm>
              <a:off x="8381880" y="268272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7"/>
            <p:cNvSpPr/>
            <p:nvPr/>
          </p:nvSpPr>
          <p:spPr>
            <a:xfrm>
              <a:off x="827712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"/>
            <p:cNvSpPr/>
            <p:nvPr/>
          </p:nvSpPr>
          <p:spPr>
            <a:xfrm>
              <a:off x="8381880" y="2835000"/>
              <a:ext cx="15228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9"/>
          <p:cNvGrpSpPr/>
          <p:nvPr/>
        </p:nvGrpSpPr>
        <p:grpSpPr>
          <a:xfrm>
            <a:off x="6810480" y="2759040"/>
            <a:ext cx="304200" cy="152280"/>
            <a:chOff x="6810480" y="2759040"/>
            <a:chExt cx="304200" cy="152280"/>
          </a:xfrm>
        </p:grpSpPr>
        <p:sp>
          <p:nvSpPr>
            <p:cNvPr id="450" name="Oval 20"/>
            <p:cNvSpPr/>
            <p:nvPr/>
          </p:nvSpPr>
          <p:spPr>
            <a:xfrm>
              <a:off x="6810480" y="2759040"/>
              <a:ext cx="151920" cy="1522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1"/>
            <p:cNvSpPr/>
            <p:nvPr/>
          </p:nvSpPr>
          <p:spPr>
            <a:xfrm>
              <a:off x="6962400" y="2759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22"/>
          <p:cNvGrpSpPr/>
          <p:nvPr/>
        </p:nvGrpSpPr>
        <p:grpSpPr>
          <a:xfrm>
            <a:off x="7210440" y="2787480"/>
            <a:ext cx="333360" cy="75960"/>
            <a:chOff x="7210440" y="2787480"/>
            <a:chExt cx="333360" cy="75960"/>
          </a:xfrm>
        </p:grpSpPr>
        <p:sp>
          <p:nvSpPr>
            <p:cNvPr id="453" name="Line 23"/>
            <p:cNvSpPr/>
            <p:nvPr/>
          </p:nvSpPr>
          <p:spPr>
            <a:xfrm>
              <a:off x="7238880" y="278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4"/>
            <p:cNvSpPr/>
            <p:nvPr/>
          </p:nvSpPr>
          <p:spPr>
            <a:xfrm>
              <a:off x="7210440" y="2863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25"/>
          <p:cNvGrpSpPr/>
          <p:nvPr/>
        </p:nvGrpSpPr>
        <p:grpSpPr>
          <a:xfrm>
            <a:off x="7867800" y="2787480"/>
            <a:ext cx="333360" cy="75960"/>
            <a:chOff x="7867800" y="2787480"/>
            <a:chExt cx="333360" cy="75960"/>
          </a:xfrm>
        </p:grpSpPr>
        <p:sp>
          <p:nvSpPr>
            <p:cNvPr id="456" name="Line 26"/>
            <p:cNvSpPr/>
            <p:nvPr/>
          </p:nvSpPr>
          <p:spPr>
            <a:xfrm>
              <a:off x="7896240" y="27874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7"/>
            <p:cNvSpPr/>
            <p:nvPr/>
          </p:nvSpPr>
          <p:spPr>
            <a:xfrm>
              <a:off x="7867800" y="28634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6400800" y="2797200"/>
            <a:ext cx="333360" cy="75960"/>
            <a:chOff x="6400800" y="2797200"/>
            <a:chExt cx="333360" cy="75960"/>
          </a:xfrm>
        </p:grpSpPr>
        <p:sp>
          <p:nvSpPr>
            <p:cNvPr id="459" name="Line 29"/>
            <p:cNvSpPr/>
            <p:nvPr/>
          </p:nvSpPr>
          <p:spPr>
            <a:xfrm>
              <a:off x="6429240" y="279720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0"/>
            <p:cNvSpPr/>
            <p:nvPr/>
          </p:nvSpPr>
          <p:spPr>
            <a:xfrm>
              <a:off x="6400800" y="2873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Line 31"/>
          <p:cNvSpPr/>
          <p:nvPr/>
        </p:nvSpPr>
        <p:spPr>
          <a:xfrm flipV="1">
            <a:off x="8410680" y="22251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32"/>
          <p:cNvSpPr/>
          <p:nvPr/>
        </p:nvSpPr>
        <p:spPr>
          <a:xfrm flipH="1">
            <a:off x="4724280" y="2225520"/>
            <a:ext cx="368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3"/>
          <p:cNvSpPr/>
          <p:nvPr/>
        </p:nvSpPr>
        <p:spPr>
          <a:xfrm>
            <a:off x="5057640" y="222552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34"/>
          <p:cNvSpPr/>
          <p:nvPr/>
        </p:nvSpPr>
        <p:spPr>
          <a:xfrm>
            <a:off x="4943520" y="3825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35"/>
          <p:cNvSpPr/>
          <p:nvPr/>
        </p:nvSpPr>
        <p:spPr>
          <a:xfrm flipV="1">
            <a:off x="6276960" y="30639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6"/>
          <p:cNvSpPr/>
          <p:nvPr/>
        </p:nvSpPr>
        <p:spPr>
          <a:xfrm flipV="1">
            <a:off x="7724880" y="30639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37"/>
          <p:cNvSpPr/>
          <p:nvPr/>
        </p:nvSpPr>
        <p:spPr>
          <a:xfrm flipV="1">
            <a:off x="6867360" y="359676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8"/>
          <p:cNvSpPr/>
          <p:nvPr/>
        </p:nvSpPr>
        <p:spPr>
          <a:xfrm>
            <a:off x="6858000" y="3597120"/>
            <a:ext cx="63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9"/>
          <p:cNvSpPr/>
          <p:nvPr/>
        </p:nvSpPr>
        <p:spPr>
          <a:xfrm flipV="1">
            <a:off x="5057640" y="39783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4087080" y="435924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, Poor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1"/>
          <p:cNvSpPr/>
          <p:nvPr/>
        </p:nvSpPr>
        <p:spPr>
          <a:xfrm>
            <a:off x="4724280" y="2111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42"/>
          <p:cNvSpPr/>
          <p:nvPr/>
        </p:nvSpPr>
        <p:spPr>
          <a:xfrm>
            <a:off x="6438960" y="3597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3"/>
          <p:cNvSpPr/>
          <p:nvPr/>
        </p:nvSpPr>
        <p:spPr>
          <a:xfrm>
            <a:off x="6743880" y="35971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3756960" y="198108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368640" y="1941480"/>
            <a:ext cx="321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conditions 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imulation of 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I represses constitu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ion of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ivation of SinR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tivation of the spor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6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"/>
          <p:cNvSpPr/>
          <p:nvPr/>
        </p:nvSpPr>
        <p:spPr>
          <a:xfrm>
            <a:off x="3276720" y="405432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3962520" y="396864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/>
          <p:nvPr/>
        </p:nvCxnSpPr>
        <p:spPr>
          <a:xfrm flipH="1" flipV="1" rot="5400000">
            <a:off x="4008600" y="3607200"/>
            <a:ext cx="277200" cy="57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482" name="Rectangle 7"/>
          <p:cNvSpPr/>
          <p:nvPr/>
        </p:nvSpPr>
        <p:spPr>
          <a:xfrm>
            <a:off x="5451480" y="3978360"/>
            <a:ext cx="1015920" cy="152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297320" y="4102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5708880" y="40752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4372920" y="357516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1"/>
          <p:cNvSpPr/>
          <p:nvPr/>
        </p:nvSpPr>
        <p:spPr>
          <a:xfrm>
            <a:off x="5899320" y="35971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1"/>
          <p:cNvSpPr/>
          <p:nvPr/>
        </p:nvSpPr>
        <p:spPr>
          <a:xfrm flipV="1">
            <a:off x="6162840" y="2378160"/>
            <a:ext cx="0" cy="12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2"/>
          <p:cNvSpPr/>
          <p:nvPr/>
        </p:nvSpPr>
        <p:spPr>
          <a:xfrm flipH="1">
            <a:off x="3171960" y="2378160"/>
            <a:ext cx="299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3"/>
          <p:cNvSpPr/>
          <p:nvPr/>
        </p:nvSpPr>
        <p:spPr>
          <a:xfrm>
            <a:off x="3429000" y="237816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4"/>
          <p:cNvSpPr/>
          <p:nvPr/>
        </p:nvSpPr>
        <p:spPr>
          <a:xfrm>
            <a:off x="3314880" y="3978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5"/>
          <p:cNvSpPr/>
          <p:nvPr/>
        </p:nvSpPr>
        <p:spPr>
          <a:xfrm flipV="1">
            <a:off x="4648320" y="2514600"/>
            <a:ext cx="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7"/>
          <p:cNvSpPr/>
          <p:nvPr/>
        </p:nvSpPr>
        <p:spPr>
          <a:xfrm flipV="1">
            <a:off x="5324400" y="37497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8"/>
          <p:cNvSpPr/>
          <p:nvPr/>
        </p:nvSpPr>
        <p:spPr>
          <a:xfrm>
            <a:off x="5324400" y="3749760"/>
            <a:ext cx="633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39"/>
          <p:cNvSpPr/>
          <p:nvPr/>
        </p:nvSpPr>
        <p:spPr>
          <a:xfrm flipV="1">
            <a:off x="3429000" y="41306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0"/>
          <p:cNvSpPr/>
          <p:nvPr/>
        </p:nvSpPr>
        <p:spPr>
          <a:xfrm>
            <a:off x="2458440" y="451152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, Poor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1"/>
          <p:cNvSpPr/>
          <p:nvPr/>
        </p:nvSpPr>
        <p:spPr>
          <a:xfrm>
            <a:off x="3181320" y="2263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2209320" y="21337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3"/>
          <p:cNvSpPr/>
          <p:nvPr/>
        </p:nvSpPr>
        <p:spPr>
          <a:xfrm>
            <a:off x="4809960" y="374976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4"/>
          <p:cNvSpPr/>
          <p:nvPr/>
        </p:nvSpPr>
        <p:spPr>
          <a:xfrm>
            <a:off x="5114880" y="3749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7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8"/>
          <p:cNvSpPr/>
          <p:nvPr/>
        </p:nvSpPr>
        <p:spPr>
          <a:xfrm>
            <a:off x="44956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768840" y="1270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 Ope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2057400" y="4054320"/>
            <a:ext cx="34290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2743200" y="3968640"/>
            <a:ext cx="1066680" cy="1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6"/>
          <p:cNvCxnSpPr/>
          <p:nvPr/>
        </p:nvCxnSpPr>
        <p:spPr>
          <a:xfrm flipH="1" flipV="1" rot="5400000">
            <a:off x="2789640" y="3607200"/>
            <a:ext cx="277200" cy="580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507" name="Rectangle 7"/>
          <p:cNvSpPr/>
          <p:nvPr/>
        </p:nvSpPr>
        <p:spPr>
          <a:xfrm>
            <a:off x="4232160" y="3978360"/>
            <a:ext cx="1016280" cy="152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78360" y="4102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4489560" y="40752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"/>
          <p:cNvSpPr/>
          <p:nvPr/>
        </p:nvSpPr>
        <p:spPr>
          <a:xfrm>
            <a:off x="3153600" y="357516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4680000" y="359712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2"/>
          <p:cNvSpPr/>
          <p:nvPr/>
        </p:nvSpPr>
        <p:spPr>
          <a:xfrm flipV="1">
            <a:off x="4943520" y="2378160"/>
            <a:ext cx="0" cy="12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 flipH="1">
            <a:off x="1952640" y="2378160"/>
            <a:ext cx="299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4"/>
          <p:cNvSpPr/>
          <p:nvPr/>
        </p:nvSpPr>
        <p:spPr>
          <a:xfrm>
            <a:off x="2209680" y="237816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2095560" y="397836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 flipV="1">
            <a:off x="3429000" y="2514600"/>
            <a:ext cx="0" cy="100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 flipV="1">
            <a:off x="4105440" y="374976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8"/>
          <p:cNvSpPr/>
          <p:nvPr/>
        </p:nvSpPr>
        <p:spPr>
          <a:xfrm>
            <a:off x="4105440" y="3749760"/>
            <a:ext cx="633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 flipV="1">
            <a:off x="2209680" y="413064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1239120" y="451152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, Poor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1962000" y="2263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990000" y="213372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u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Outp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3591000" y="37497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4"/>
          <p:cNvSpPr/>
          <p:nvPr/>
        </p:nvSpPr>
        <p:spPr>
          <a:xfrm>
            <a:off x="3895560" y="3749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5"/>
          <p:cNvSpPr/>
          <p:nvPr/>
        </p:nvSpPr>
        <p:spPr>
          <a:xfrm>
            <a:off x="228960" y="5637960"/>
            <a:ext cx="4653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acillus subtilis s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peron: An Evolvable Network Mot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ristopher A. Voigt, Denise M. Wolf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Adam Ar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tics, vol 169, 1187-1202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  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6"/>
          <p:cNvSpPr/>
          <p:nvPr/>
        </p:nvSpPr>
        <p:spPr>
          <a:xfrm>
            <a:off x="32767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7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917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furcation P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1738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964680" y="58672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: 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3084480" y="2895480"/>
            <a:ext cx="3925800" cy="2716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1066680" y="3962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tate: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64008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6400800" y="41241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6994800" y="36194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7023240" y="3929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90960" cy="4335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291960" y="2627280"/>
            <a:ext cx="16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cil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y Con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6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7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980000" y="220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5676840" y="301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980000" y="220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030640" y="3048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86040" y="228240"/>
            <a:ext cx="350532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stabl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57440" y="27432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1671480"/>
          <a:ext cx="678168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1480"/>
                    <a:ext cx="678168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5"/>
          <p:cNvSpPr/>
          <p:nvPr/>
        </p:nvSpPr>
        <p:spPr>
          <a:xfrm>
            <a:off x="4986720" y="6400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336080" y="2209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741240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810240" cy="1447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29708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92720" y="10666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 flipV="1">
            <a:off x="5676840" y="301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5715000" y="3048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630480" y="2895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 &gt;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6315120" y="3019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5"/>
          <p:cNvSpPr/>
          <p:nvPr/>
        </p:nvSpPr>
        <p:spPr>
          <a:xfrm>
            <a:off x="6324480" y="339084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1980000" y="220968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ons around a stabl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030640" y="3048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1:52:15Z</dcterms:created>
  <dc:creator>kgistaff</dc:creator>
  <dc:description/>
  <dc:language>en-US</dc:language>
  <cp:lastModifiedBy>hsauro</cp:lastModifiedBy>
  <dcterms:modified xsi:type="dcterms:W3CDTF">2008-08-28T16:04:24Z</dcterms:modified>
  <cp:revision>93</cp:revision>
  <dc:subject/>
  <dc:title>Bistable Systems</dc:title>
</cp:coreProperties>
</file>