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ct" ContentType="image/x-pict"/>
  <Override PartName="/ppt/media/image10.gif" ContentType="image/gif"/>
  <Override PartName="/ppt/media/image13.png" ContentType="image/png"/>
  <Override PartName="/ppt/media/image8.png" ContentType="image/png"/>
  <Override PartName="/ppt/media/image12.pct" ContentType="image/x-pict"/>
  <Override PartName="/ppt/media/image24.png" ContentType="image/png"/>
  <Override PartName="/ppt/media/image6.gif" ContentType="image/gif"/>
  <Override PartName="/ppt/media/image5.png" ContentType="image/png"/>
  <Override PartName="/ppt/media/image16.pct" ContentType="image/x-pict"/>
  <Override PartName="/ppt/media/image7.png" ContentType="image/png"/>
  <Override PartName="/ppt/media/image18.pct" ContentType="image/x-pict"/>
  <Override PartName="/ppt/media/image22.jpeg" ContentType="image/jpeg"/>
  <Override PartName="/ppt/media/image4.pct" ContentType="image/x-pict"/>
  <Override PartName="/ppt/media/image27.pct" ContentType="image/x-pict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pct" ContentType="image/x-pict"/>
  <Override PartName="/ppt/media/image9.jpeg" ContentType="image/jpeg"/>
  <Override PartName="/ppt/media/image15.png" ContentType="image/png"/>
  <Override PartName="/ppt/media/image14.png" ContentType="image/png"/>
  <Override PartName="/ppt/media/image1.pct" ContentType="image/x-pict"/>
  <Override PartName="/ppt/media/image2.png" ContentType="image/png"/>
  <Override PartName="/ppt/media/image25.png" ContentType="image/png"/>
  <Override PartName="/ppt/media/image26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AAE3-3B49-4F4E-84F9-8A874E5A2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FE53-3E15-45EE-9B7D-3B1708B75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F2BF-3E53-4A83-9193-B61B4F11C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E3AC-8A6E-4DCE-93E9-CB8474CA8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702-9C46-4E51-B4E1-34F1D8E5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54E-60DE-4BA3-81D1-C6BC70C9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1B52-41FE-4537-8A34-6EC754A9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EAED-BCBE-4AE7-88DF-BC363EB8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2E54-E5CC-4C9B-BD50-379C5C59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9B12-728E-4E50-A079-0896CC49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526-6633-41E9-B4E1-01B5FB2B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6F09-780C-411B-81CB-FC24E0AF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3A18-3082-4986-B92E-BA642705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B59-BADE-44DE-9E44-CE14D94E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C25-2F41-4851-90F8-3488AED8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278-E7E5-4A1A-9191-4A2AEDC3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7D8E-9194-4B7B-9461-7EE6F9DFB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Kinetic Modelling of Microvascular Events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Andreas J. Schwab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Department of Medicin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McGill Universit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914400" y="696960"/>
            <a:ext cx="7347240" cy="5732640"/>
            <a:chOff x="914400" y="696960"/>
            <a:chExt cx="7347240" cy="5732640"/>
          </a:xfrm>
        </p:grpSpPr>
        <p:sp>
          <p:nvSpPr>
            <p:cNvPr id="391" name=""/>
            <p:cNvSpPr/>
            <p:nvPr/>
          </p:nvSpPr>
          <p:spPr>
            <a:xfrm>
              <a:off x="3590280" y="5974920"/>
              <a:ext cx="2558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Time, second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6200000">
              <a:off x="-1158480" y="2770200"/>
              <a:ext cx="4601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Fractional recovery, ml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rebuchet MS"/>
                </a:rPr>
                <a:t>–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2043360" y="1290240"/>
              <a:ext cx="6218280" cy="4115880"/>
              <a:chOff x="2043360" y="1290240"/>
              <a:chExt cx="6218280" cy="4115880"/>
            </a:xfrm>
          </p:grpSpPr>
          <p:sp>
            <p:nvSpPr>
              <p:cNvPr id="394" name=""/>
              <p:cNvSpPr/>
              <p:nvPr/>
            </p:nvSpPr>
            <p:spPr>
              <a:xfrm>
                <a:off x="6081480" y="3207600"/>
                <a:ext cx="100080" cy="11232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0" y="70"/>
                    </a:moveTo>
                    <a:lnTo>
                      <a:pt x="35" y="0"/>
                    </a:lnTo>
                    <a:lnTo>
                      <a:pt x="70" y="7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194160" y="3090240"/>
                <a:ext cx="1141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</a:rPr>
                  <a:t>Sucro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043360" y="1290240"/>
                <a:ext cx="6218280" cy="4115880"/>
                <a:chOff x="2043360" y="1290240"/>
                <a:chExt cx="6218280" cy="411588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2565360" y="1480320"/>
                  <a:ext cx="129960" cy="3549600"/>
                  <a:chOff x="2565360" y="1480320"/>
                  <a:chExt cx="129960" cy="3549600"/>
                </a:xfrm>
              </p:grpSpPr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2576520" y="1483200"/>
                    <a:ext cx="118800" cy="3403440"/>
                    <a:chOff x="2576520" y="1483200"/>
                    <a:chExt cx="118800" cy="340344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2576520" y="4327560"/>
                      <a:ext cx="118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2576520" y="3616560"/>
                      <a:ext cx="118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2576520" y="2905200"/>
                      <a:ext cx="118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576520" y="2194200"/>
                      <a:ext cx="118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576520" y="1483200"/>
                      <a:ext cx="118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2576520" y="4886640"/>
                      <a:ext cx="64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2576520" y="4746960"/>
                      <a:ext cx="64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2576520" y="4607280"/>
                      <a:ext cx="64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2576520" y="4467600"/>
                      <a:ext cx="64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2576520" y="4187880"/>
                      <a:ext cx="64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2576520" y="4035600"/>
                      <a:ext cx="64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2576520" y="3895920"/>
                      <a:ext cx="64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2576520" y="3756240"/>
                      <a:ext cx="64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2576520" y="3476880"/>
                      <a:ext cx="64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2576520" y="3337200"/>
                      <a:ext cx="64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576520" y="3184560"/>
                      <a:ext cx="64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576520" y="3044880"/>
                      <a:ext cx="64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2576520" y="2765520"/>
                      <a:ext cx="64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2576520" y="2625840"/>
                      <a:ext cx="64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2576520" y="2486160"/>
                      <a:ext cx="64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2576520" y="2333880"/>
                      <a:ext cx="64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2576520" y="2054520"/>
                      <a:ext cx="64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2576520" y="1914840"/>
                      <a:ext cx="64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2576520" y="1775160"/>
                      <a:ext cx="64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2576520" y="1635480"/>
                      <a:ext cx="64800" cy="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24" name=""/>
                  <p:cNvSpPr/>
                  <p:nvPr/>
                </p:nvSpPr>
                <p:spPr>
                  <a:xfrm flipV="1">
                    <a:off x="2565360" y="1480320"/>
                    <a:ext cx="9360" cy="35496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3355920" y="1791720"/>
                  <a:ext cx="4112640" cy="3255120"/>
                  <a:chOff x="3355920" y="1791720"/>
                  <a:chExt cx="4112640" cy="32551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3355920" y="491544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3502440" y="468684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3637800" y="395028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3773160" y="285804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920040" y="194364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055400" y="186732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4202280" y="179172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4337640" y="210888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4473360" y="243900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619880" y="281988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755600" y="298512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902120" y="350568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5037840" y="360720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5173200" y="370908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5319720" y="395028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5455440" y="410256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5601960" y="421704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5737680" y="429300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5873040" y="438192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019920" y="444564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6155280" y="453456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6302160" y="458532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437520" y="464868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6572880" y="467424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6719760" y="469944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6855120" y="472500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7069680" y="476316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351560" y="4813920"/>
                    <a:ext cx="1170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83">
                        <a:moveTo>
                          <a:pt x="0" y="41"/>
                        </a:moveTo>
                        <a:lnTo>
                          <a:pt x="41" y="0"/>
                        </a:lnTo>
                        <a:lnTo>
                          <a:pt x="82" y="41"/>
                        </a:lnTo>
                        <a:lnTo>
                          <a:pt x="41" y="82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4" name=""/>
                <p:cNvSpPr/>
                <p:nvPr/>
              </p:nvSpPr>
              <p:spPr>
                <a:xfrm>
                  <a:off x="6048360" y="2861640"/>
                  <a:ext cx="117360" cy="131400"/>
                </a:xfrm>
                <a:custGeom>
                  <a:avLst/>
                  <a:gdLst/>
                  <a:ahLst/>
                  <a:rect l="l" t="t" r="r" b="b"/>
                  <a:pathLst>
                    <a:path w="83" h="83">
                      <a:moveTo>
                        <a:pt x="0" y="41"/>
                      </a:moveTo>
                      <a:lnTo>
                        <a:pt x="41" y="0"/>
                      </a:lnTo>
                      <a:lnTo>
                        <a:pt x="82" y="41"/>
                      </a:lnTo>
                      <a:lnTo>
                        <a:pt x="41" y="82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022800" y="2753640"/>
                  <a:ext cx="22388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ccccff"/>
                      </a:solidFill>
                      <a:latin typeface="Trebuchet MS"/>
                    </a:rPr>
                    <a:t>Red Blood Cell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536640" y="4541040"/>
                  <a:ext cx="100080" cy="112320"/>
                </a:xfrm>
                <a:custGeom>
                  <a:avLst/>
                  <a:gdLst/>
                  <a:ahLst/>
                  <a:rect l="l" t="t" r="r" b="b"/>
                  <a:pathLst>
                    <a:path w="71" h="71">
                      <a:moveTo>
                        <a:pt x="0" y="70"/>
                      </a:moveTo>
                      <a:lnTo>
                        <a:pt x="35" y="0"/>
                      </a:lnTo>
                      <a:lnTo>
                        <a:pt x="70" y="70"/>
                      </a:lnTo>
                      <a:lnTo>
                        <a:pt x="0" y="70"/>
                      </a:lnTo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" name=""/>
                <p:cNvGrpSpPr/>
                <p:nvPr/>
              </p:nvGrpSpPr>
              <p:grpSpPr>
                <a:xfrm>
                  <a:off x="2043360" y="1290240"/>
                  <a:ext cx="592920" cy="3922200"/>
                  <a:chOff x="2043360" y="1290240"/>
                  <a:chExt cx="592920" cy="392220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2043360" y="4134600"/>
                    <a:ext cx="5929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0000"/>
                        </a:solidFill>
                        <a:latin typeface="Trebuchet MS"/>
                      </a:rPr>
                      <a:t>0.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043360" y="3423600"/>
                    <a:ext cx="5929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0000"/>
                        </a:solidFill>
                        <a:latin typeface="Trebuchet MS"/>
                      </a:rPr>
                      <a:t>0.2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043360" y="2712240"/>
                    <a:ext cx="5929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0000"/>
                        </a:solidFill>
                        <a:latin typeface="Trebuchet MS"/>
                      </a:rPr>
                      <a:t>0.3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2043360" y="2001240"/>
                    <a:ext cx="5929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0000"/>
                        </a:solidFill>
                        <a:latin typeface="Trebuchet MS"/>
                      </a:rPr>
                      <a:t>0.4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043360" y="1290240"/>
                    <a:ext cx="5929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0000"/>
                        </a:solidFill>
                        <a:latin typeface="Trebuchet MS"/>
                      </a:rPr>
                      <a:t>0.5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187000" y="4849200"/>
                    <a:ext cx="31860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0000"/>
                        </a:solidFill>
                        <a:latin typeface="Trebuchet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2574720" y="4896720"/>
                  <a:ext cx="5106960" cy="133200"/>
                  <a:chOff x="2574720" y="4896720"/>
                  <a:chExt cx="5106960" cy="133200"/>
                </a:xfrm>
              </p:grpSpPr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2783520" y="4896720"/>
                    <a:ext cx="4209480" cy="133200"/>
                    <a:chOff x="2783520" y="4896720"/>
                    <a:chExt cx="4209480" cy="13320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flipV="1">
                      <a:off x="2783520" y="4896720"/>
                      <a:ext cx="0" cy="1332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V="1">
                      <a:off x="3484440" y="4896720"/>
                      <a:ext cx="0" cy="1332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flipV="1">
                      <a:off x="4186800" y="4896720"/>
                      <a:ext cx="0" cy="1332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flipV="1">
                      <a:off x="4888080" y="4896720"/>
                      <a:ext cx="0" cy="1332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V="1">
                      <a:off x="5589360" y="4896720"/>
                      <a:ext cx="0" cy="1332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 flipV="1">
                      <a:off x="6292080" y="4896720"/>
                      <a:ext cx="0" cy="1332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flipV="1">
                      <a:off x="6993000" y="4896720"/>
                      <a:ext cx="0" cy="1332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V="1">
                      <a:off x="292032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 flipV="1">
                      <a:off x="306540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flipV="1">
                      <a:off x="320220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V="1">
                      <a:off x="334908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 flipV="1">
                      <a:off x="362124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 flipV="1">
                      <a:off x="376812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V="1">
                      <a:off x="390348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flipV="1">
                      <a:off x="405036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flipV="1">
                      <a:off x="432252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flipV="1">
                      <a:off x="446904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flipV="1">
                      <a:off x="460584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flipV="1">
                      <a:off x="475128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flipV="1">
                      <a:off x="502488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flipV="1">
                      <a:off x="517032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flipV="1">
                      <a:off x="530712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flipV="1">
                      <a:off x="545364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flipV="1">
                      <a:off x="572580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flipV="1">
                      <a:off x="587268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flipV="1">
                      <a:off x="600804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flipV="1">
                      <a:off x="615492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flipV="1">
                      <a:off x="642708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flipV="1">
                      <a:off x="657396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 flipV="1">
                      <a:off x="671076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 flipV="1">
                      <a:off x="6856200" y="4962600"/>
                      <a:ext cx="0" cy="6660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7" name=""/>
                  <p:cNvSpPr/>
                  <p:nvPr/>
                </p:nvSpPr>
                <p:spPr>
                  <a:xfrm>
                    <a:off x="2574720" y="5029920"/>
                    <a:ext cx="510696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 flipV="1">
                  <a:off x="7692840" y="4893480"/>
                  <a:ext cx="0" cy="1332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7127640" y="4960440"/>
                  <a:ext cx="0" cy="66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7273800" y="4960440"/>
                  <a:ext cx="0" cy="66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7412040" y="4960440"/>
                  <a:ext cx="0" cy="66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V="1">
                  <a:off x="7556400" y="4960440"/>
                  <a:ext cx="0" cy="66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3254040" y="5042880"/>
                  <a:ext cx="4681800" cy="363240"/>
                  <a:chOff x="3254040" y="5042880"/>
                  <a:chExt cx="4681800" cy="36324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3254040" y="5042880"/>
                    <a:ext cx="45576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0000"/>
                        </a:solidFill>
                        <a:latin typeface="Trebuchet MS"/>
                      </a:rPr>
                      <a:t>1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4687560" y="5042880"/>
                    <a:ext cx="45576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0000"/>
                        </a:solidFill>
                        <a:latin typeface="Trebuchet MS"/>
                      </a:rPr>
                      <a:t>2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6125040" y="5042880"/>
                    <a:ext cx="45576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0000"/>
                        </a:solidFill>
                        <a:latin typeface="Trebuchet MS"/>
                      </a:rPr>
                      <a:t>3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480080" y="5042880"/>
                    <a:ext cx="45576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0000"/>
                        </a:solidFill>
                        <a:latin typeface="Trebuchet MS"/>
                      </a:rPr>
                      <a:t>4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"/>
                <p:cNvSpPr/>
                <p:nvPr/>
              </p:nvSpPr>
              <p:spPr>
                <a:xfrm flipV="1">
                  <a:off x="2635200" y="4960440"/>
                  <a:ext cx="0" cy="66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09" name=""/>
          <p:cNvGrpSpPr/>
          <p:nvPr/>
        </p:nvGrpSpPr>
        <p:grpSpPr>
          <a:xfrm>
            <a:off x="3508200" y="3119400"/>
            <a:ext cx="4091040" cy="1970280"/>
            <a:chOff x="3508200" y="3119400"/>
            <a:chExt cx="4091040" cy="1970280"/>
          </a:xfrm>
        </p:grpSpPr>
        <p:sp>
          <p:nvSpPr>
            <p:cNvPr id="510" name=""/>
            <p:cNvSpPr/>
            <p:nvPr/>
          </p:nvSpPr>
          <p:spPr>
            <a:xfrm>
              <a:off x="3508200" y="4989600"/>
              <a:ext cx="100080" cy="1000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51120" y="4927680"/>
              <a:ext cx="100080" cy="10296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30480" y="4479840"/>
              <a:ext cx="100080" cy="1000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73400" y="4051440"/>
              <a:ext cx="100080" cy="9972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235400" y="3843360"/>
              <a:ext cx="100080" cy="1000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376880" y="3637080"/>
              <a:ext cx="99720" cy="9972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18000" y="3436920"/>
              <a:ext cx="100080" cy="1000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57680" y="3141720"/>
              <a:ext cx="101520" cy="1000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99160" y="3119400"/>
              <a:ext cx="99720" cy="1000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960800" y="3171960"/>
              <a:ext cx="100080" cy="9972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02280" y="3127320"/>
              <a:ext cx="100080" cy="1000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43400" y="3216240"/>
              <a:ext cx="100080" cy="1000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83080" y="3341520"/>
              <a:ext cx="101880" cy="1000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24560" y="3430440"/>
              <a:ext cx="100080" cy="1000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686560" y="3525840"/>
              <a:ext cx="99720" cy="1000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827680" y="3622680"/>
              <a:ext cx="100080" cy="1000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69160" y="3730680"/>
              <a:ext cx="99720" cy="10296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8840" y="3819600"/>
              <a:ext cx="101520" cy="10296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49960" y="3954600"/>
              <a:ext cx="100080" cy="9972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411960" y="4029120"/>
              <a:ext cx="100080" cy="1000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4146480"/>
              <a:ext cx="100080" cy="1000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94560" y="4284720"/>
              <a:ext cx="100080" cy="10296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34240" y="4284720"/>
              <a:ext cx="101520" cy="10296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75360" y="4338720"/>
              <a:ext cx="100080" cy="1000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199280" y="4329000"/>
              <a:ext cx="100080" cy="10332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99520" y="4565520"/>
              <a:ext cx="99720" cy="10332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0" y="70"/>
                  </a:moveTo>
                  <a:lnTo>
                    <a:pt x="35" y="0"/>
                  </a:lnTo>
                  <a:lnTo>
                    <a:pt x="70" y="70"/>
                  </a:lnTo>
                  <a:lnTo>
                    <a:pt x="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rebuchet MS"/>
              </a:rPr>
              <a:t>Perfused rat liver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rebuchet MS"/>
              </a:rPr>
              <a:t>System Theory</a:t>
            </a:r>
            <a:endParaRPr b="1" lang="en-US" sz="72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2786040" y="2438280"/>
            <a:ext cx="3656160" cy="1646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57240">
            <a:solidFill>
              <a:srgbClr val="ff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lack 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Input-Output Systems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896760" y="2435760"/>
            <a:ext cx="1627200" cy="3560040"/>
            <a:chOff x="896760" y="2435760"/>
            <a:chExt cx="1627200" cy="3560040"/>
          </a:xfrm>
        </p:grpSpPr>
        <p:sp>
          <p:nvSpPr>
            <p:cNvPr id="541" name=""/>
            <p:cNvSpPr/>
            <p:nvPr/>
          </p:nvSpPr>
          <p:spPr>
            <a:xfrm>
              <a:off x="1200240" y="3100320"/>
              <a:ext cx="1019160" cy="322200"/>
            </a:xfrm>
            <a:prstGeom prst="rightArrow">
              <a:avLst>
                <a:gd name="adj1" fmla="val 50000"/>
                <a:gd name="adj2" fmla="val 79078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010520" y="243576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rebuchet MS"/>
                </a:rPr>
                <a:t>Inpu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896760" y="5029200"/>
              <a:ext cx="1627200" cy="966600"/>
              <a:chOff x="896760" y="5029200"/>
              <a:chExt cx="1627200" cy="966600"/>
            </a:xfrm>
          </p:grpSpPr>
          <p:sp>
            <p:nvSpPr>
              <p:cNvPr id="544" name=""/>
              <p:cNvSpPr/>
              <p:nvPr/>
            </p:nvSpPr>
            <p:spPr>
              <a:xfrm>
                <a:off x="896760" y="5978520"/>
                <a:ext cx="1627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073160" y="5029200"/>
                <a:ext cx="358920" cy="966600"/>
              </a:xfrm>
              <a:custGeom>
                <a:avLst/>
                <a:gdLst/>
                <a:ahLst/>
                <a:rect l="l" t="t" r="r" b="b"/>
                <a:pathLst>
                  <a:path w="721" h="609">
                    <a:moveTo>
                      <a:pt x="0" y="598"/>
                    </a:moveTo>
                    <a:cubicBezTo>
                      <a:pt x="16" y="549"/>
                      <a:pt x="29" y="500"/>
                      <a:pt x="45" y="451"/>
                    </a:cubicBezTo>
                    <a:cubicBezTo>
                      <a:pt x="66" y="300"/>
                      <a:pt x="65" y="149"/>
                      <a:pt x="90" y="0"/>
                    </a:cubicBezTo>
                    <a:cubicBezTo>
                      <a:pt x="101" y="4"/>
                      <a:pt x="117" y="2"/>
                      <a:pt x="124" y="12"/>
                    </a:cubicBezTo>
                    <a:cubicBezTo>
                      <a:pt x="137" y="31"/>
                      <a:pt x="138" y="56"/>
                      <a:pt x="146" y="79"/>
                    </a:cubicBezTo>
                    <a:cubicBezTo>
                      <a:pt x="163" y="131"/>
                      <a:pt x="176" y="199"/>
                      <a:pt x="203" y="248"/>
                    </a:cubicBezTo>
                    <a:cubicBezTo>
                      <a:pt x="232" y="302"/>
                      <a:pt x="284" y="381"/>
                      <a:pt x="338" y="417"/>
                    </a:cubicBezTo>
                    <a:cubicBezTo>
                      <a:pt x="360" y="432"/>
                      <a:pt x="387" y="442"/>
                      <a:pt x="406" y="462"/>
                    </a:cubicBezTo>
                    <a:cubicBezTo>
                      <a:pt x="435" y="492"/>
                      <a:pt x="463" y="526"/>
                      <a:pt x="507" y="541"/>
                    </a:cubicBezTo>
                    <a:cubicBezTo>
                      <a:pt x="528" y="548"/>
                      <a:pt x="580" y="565"/>
                      <a:pt x="608" y="575"/>
                    </a:cubicBezTo>
                    <a:cubicBezTo>
                      <a:pt x="643" y="586"/>
                      <a:pt x="683" y="609"/>
                      <a:pt x="721" y="609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"/>
          <p:cNvGrpSpPr/>
          <p:nvPr/>
        </p:nvGrpSpPr>
        <p:grpSpPr>
          <a:xfrm>
            <a:off x="6698160" y="2435760"/>
            <a:ext cx="1643760" cy="3560040"/>
            <a:chOff x="6698160" y="2435760"/>
            <a:chExt cx="1643760" cy="3560040"/>
          </a:xfrm>
        </p:grpSpPr>
        <p:sp>
          <p:nvSpPr>
            <p:cNvPr id="547" name=""/>
            <p:cNvSpPr/>
            <p:nvPr/>
          </p:nvSpPr>
          <p:spPr>
            <a:xfrm>
              <a:off x="7010280" y="3100320"/>
              <a:ext cx="1019160" cy="322200"/>
            </a:xfrm>
            <a:prstGeom prst="rightArrow">
              <a:avLst>
                <a:gd name="adj1" fmla="val 50000"/>
                <a:gd name="adj2" fmla="val 79078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698160" y="243576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rebuchet MS"/>
                </a:rPr>
                <a:t>Outpu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6705720" y="5029200"/>
              <a:ext cx="1627200" cy="966600"/>
              <a:chOff x="6705720" y="5029200"/>
              <a:chExt cx="1627200" cy="966600"/>
            </a:xfrm>
          </p:grpSpPr>
          <p:sp>
            <p:nvSpPr>
              <p:cNvPr id="550" name=""/>
              <p:cNvSpPr/>
              <p:nvPr/>
            </p:nvSpPr>
            <p:spPr>
              <a:xfrm>
                <a:off x="6705720" y="5978520"/>
                <a:ext cx="1627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882120" y="5029200"/>
                <a:ext cx="1073160" cy="966600"/>
              </a:xfrm>
              <a:custGeom>
                <a:avLst/>
                <a:gdLst/>
                <a:ahLst/>
                <a:rect l="l" t="t" r="r" b="b"/>
                <a:pathLst>
                  <a:path w="721" h="609">
                    <a:moveTo>
                      <a:pt x="0" y="598"/>
                    </a:moveTo>
                    <a:cubicBezTo>
                      <a:pt x="16" y="549"/>
                      <a:pt x="29" y="500"/>
                      <a:pt x="45" y="451"/>
                    </a:cubicBezTo>
                    <a:cubicBezTo>
                      <a:pt x="66" y="300"/>
                      <a:pt x="65" y="149"/>
                      <a:pt x="90" y="0"/>
                    </a:cubicBezTo>
                    <a:cubicBezTo>
                      <a:pt x="101" y="4"/>
                      <a:pt x="117" y="2"/>
                      <a:pt x="124" y="12"/>
                    </a:cubicBezTo>
                    <a:cubicBezTo>
                      <a:pt x="137" y="31"/>
                      <a:pt x="138" y="56"/>
                      <a:pt x="146" y="79"/>
                    </a:cubicBezTo>
                    <a:cubicBezTo>
                      <a:pt x="163" y="131"/>
                      <a:pt x="176" y="199"/>
                      <a:pt x="203" y="248"/>
                    </a:cubicBezTo>
                    <a:cubicBezTo>
                      <a:pt x="232" y="302"/>
                      <a:pt x="284" y="381"/>
                      <a:pt x="338" y="417"/>
                    </a:cubicBezTo>
                    <a:cubicBezTo>
                      <a:pt x="360" y="432"/>
                      <a:pt x="387" y="442"/>
                      <a:pt x="406" y="462"/>
                    </a:cubicBezTo>
                    <a:cubicBezTo>
                      <a:pt x="435" y="492"/>
                      <a:pt x="463" y="526"/>
                      <a:pt x="507" y="541"/>
                    </a:cubicBezTo>
                    <a:cubicBezTo>
                      <a:pt x="528" y="548"/>
                      <a:pt x="580" y="565"/>
                      <a:pt x="608" y="575"/>
                    </a:cubicBezTo>
                    <a:cubicBezTo>
                      <a:pt x="643" y="586"/>
                      <a:pt x="683" y="609"/>
                      <a:pt x="721" y="609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1325160" y="352656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146000" y="352656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Tracer within Steady State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The behaviour of tracer particles is identical to that of the non-tracer particl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The total number (concentration) of particles in each compartment is time-independent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"/>
          <p:cNvGrpSpPr/>
          <p:nvPr/>
        </p:nvGrpSpPr>
        <p:grpSpPr>
          <a:xfrm>
            <a:off x="1353960" y="1849320"/>
            <a:ext cx="6321600" cy="3005280"/>
            <a:chOff x="1353960" y="1849320"/>
            <a:chExt cx="6321600" cy="3005280"/>
          </a:xfrm>
        </p:grpSpPr>
        <p:grpSp>
          <p:nvGrpSpPr>
            <p:cNvPr id="557" name=""/>
            <p:cNvGrpSpPr/>
            <p:nvPr/>
          </p:nvGrpSpPr>
          <p:grpSpPr>
            <a:xfrm>
              <a:off x="1353960" y="1862280"/>
              <a:ext cx="1503720" cy="2979720"/>
              <a:chOff x="1353960" y="1862280"/>
              <a:chExt cx="1503720" cy="2979720"/>
            </a:xfrm>
          </p:grpSpPr>
          <p:sp>
            <p:nvSpPr>
              <p:cNvPr id="558" name=""/>
              <p:cNvSpPr/>
              <p:nvPr/>
            </p:nvSpPr>
            <p:spPr>
              <a:xfrm>
                <a:off x="1353960" y="1862280"/>
                <a:ext cx="1478160" cy="2954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53960" y="2783160"/>
                <a:ext cx="1503720" cy="20588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6172200" y="1849320"/>
              <a:ext cx="1503360" cy="3005280"/>
              <a:chOff x="6172200" y="1849320"/>
              <a:chExt cx="1503360" cy="3005280"/>
            </a:xfrm>
          </p:grpSpPr>
          <p:sp>
            <p:nvSpPr>
              <p:cNvPr id="561" name=""/>
              <p:cNvSpPr/>
              <p:nvPr/>
            </p:nvSpPr>
            <p:spPr>
              <a:xfrm>
                <a:off x="6175440" y="1849320"/>
                <a:ext cx="1477800" cy="2954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72200" y="3962520"/>
                <a:ext cx="1503360" cy="8920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3505320" y="2066760"/>
              <a:ext cx="2017440" cy="1121040"/>
              <a:chOff x="3505320" y="2066760"/>
              <a:chExt cx="2017440" cy="1121040"/>
            </a:xfrm>
          </p:grpSpPr>
          <p:sp>
            <p:nvSpPr>
              <p:cNvPr id="564" name=""/>
              <p:cNvSpPr/>
              <p:nvPr/>
            </p:nvSpPr>
            <p:spPr>
              <a:xfrm>
                <a:off x="3513240" y="2066760"/>
                <a:ext cx="1995480" cy="1089360"/>
              </a:xfrm>
              <a:prstGeom prst="rightArrow">
                <a:avLst>
                  <a:gd name="adj1" fmla="val 50000"/>
                  <a:gd name="adj2" fmla="val 45795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505320" y="2536920"/>
                <a:ext cx="2017440" cy="650880"/>
              </a:xfrm>
              <a:custGeom>
                <a:avLst/>
                <a:gdLst/>
                <a:ahLst/>
                <a:rect l="l" t="t" r="r" b="b"/>
                <a:pathLst>
                  <a:path w="1271" h="410">
                    <a:moveTo>
                      <a:pt x="0" y="2"/>
                    </a:moveTo>
                    <a:lnTo>
                      <a:pt x="1227" y="0"/>
                    </a:lnTo>
                    <a:lnTo>
                      <a:pt x="1271" y="44"/>
                    </a:lnTo>
                    <a:lnTo>
                      <a:pt x="928" y="410"/>
                    </a:lnTo>
                    <a:lnTo>
                      <a:pt x="928" y="240"/>
                    </a:lnTo>
                    <a:lnTo>
                      <a:pt x="1" y="24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3512880" y="3517920"/>
              <a:ext cx="1995480" cy="1117440"/>
              <a:chOff x="3512880" y="3517920"/>
              <a:chExt cx="1995480" cy="1117440"/>
            </a:xfrm>
          </p:grpSpPr>
          <p:sp>
            <p:nvSpPr>
              <p:cNvPr id="567" name=""/>
              <p:cNvSpPr/>
              <p:nvPr/>
            </p:nvSpPr>
            <p:spPr>
              <a:xfrm flipH="1">
                <a:off x="3512520" y="3517920"/>
                <a:ext cx="1995480" cy="1089000"/>
              </a:xfrm>
              <a:prstGeom prst="rightArrow">
                <a:avLst>
                  <a:gd name="adj1" fmla="val 50000"/>
                  <a:gd name="adj2" fmla="val 4581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583080" y="4154400"/>
                <a:ext cx="1923840" cy="480960"/>
              </a:xfrm>
              <a:custGeom>
                <a:avLst/>
                <a:gdLst/>
                <a:ahLst/>
                <a:rect l="l" t="t" r="r" b="b"/>
                <a:pathLst>
                  <a:path w="1212" h="303">
                    <a:moveTo>
                      <a:pt x="1208" y="0"/>
                    </a:moveTo>
                    <a:lnTo>
                      <a:pt x="0" y="0"/>
                    </a:lnTo>
                    <a:lnTo>
                      <a:pt x="274" y="303"/>
                    </a:lnTo>
                    <a:lnTo>
                      <a:pt x="271" y="124"/>
                    </a:lnTo>
                    <a:lnTo>
                      <a:pt x="1212" y="124"/>
                    </a:lnTo>
                    <a:lnTo>
                      <a:pt x="1208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Tracer within Steady State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Tracer flu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x</a:t>
            </a: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 is proportional to tracer concentration: linear behaviou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Linear Time-Invariant (LTI) Systems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Linearit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]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[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]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 (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+ 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 (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Time-invarianc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]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]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2786040" y="2438280"/>
            <a:ext cx="3656160" cy="1646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57240">
            <a:solidFill>
              <a:srgbClr val="ff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Impulse Response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896760" y="2435760"/>
            <a:ext cx="1627200" cy="3560400"/>
            <a:chOff x="896760" y="2435760"/>
            <a:chExt cx="1627200" cy="3560400"/>
          </a:xfrm>
        </p:grpSpPr>
        <p:sp>
          <p:nvSpPr>
            <p:cNvPr id="576" name=""/>
            <p:cNvSpPr/>
            <p:nvPr/>
          </p:nvSpPr>
          <p:spPr>
            <a:xfrm>
              <a:off x="1200240" y="3100320"/>
              <a:ext cx="1019160" cy="322200"/>
            </a:xfrm>
            <a:prstGeom prst="rightArrow">
              <a:avLst>
                <a:gd name="adj1" fmla="val 50000"/>
                <a:gd name="adj2" fmla="val 79078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25160" y="2435760"/>
              <a:ext cx="76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896760" y="5029200"/>
              <a:ext cx="1627200" cy="966960"/>
              <a:chOff x="896760" y="5029200"/>
              <a:chExt cx="1627200" cy="966960"/>
            </a:xfrm>
          </p:grpSpPr>
          <p:sp>
            <p:nvSpPr>
              <p:cNvPr id="579" name=""/>
              <p:cNvSpPr/>
              <p:nvPr/>
            </p:nvSpPr>
            <p:spPr>
              <a:xfrm>
                <a:off x="896760" y="5978520"/>
                <a:ext cx="16272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073160" y="5029200"/>
                <a:ext cx="74520" cy="966960"/>
              </a:xfrm>
              <a:custGeom>
                <a:avLst/>
                <a:gdLst/>
                <a:ahLst/>
                <a:rect l="l" t="t" r="r" b="b"/>
                <a:pathLst>
                  <a:path w="721" h="609">
                    <a:moveTo>
                      <a:pt x="0" y="598"/>
                    </a:moveTo>
                    <a:cubicBezTo>
                      <a:pt x="16" y="549"/>
                      <a:pt x="29" y="500"/>
                      <a:pt x="45" y="451"/>
                    </a:cubicBezTo>
                    <a:cubicBezTo>
                      <a:pt x="66" y="300"/>
                      <a:pt x="65" y="149"/>
                      <a:pt x="90" y="0"/>
                    </a:cubicBezTo>
                    <a:cubicBezTo>
                      <a:pt x="101" y="4"/>
                      <a:pt x="117" y="2"/>
                      <a:pt x="124" y="12"/>
                    </a:cubicBezTo>
                    <a:cubicBezTo>
                      <a:pt x="137" y="31"/>
                      <a:pt x="138" y="56"/>
                      <a:pt x="146" y="79"/>
                    </a:cubicBezTo>
                    <a:cubicBezTo>
                      <a:pt x="163" y="131"/>
                      <a:pt x="176" y="199"/>
                      <a:pt x="203" y="248"/>
                    </a:cubicBezTo>
                    <a:cubicBezTo>
                      <a:pt x="232" y="302"/>
                      <a:pt x="284" y="381"/>
                      <a:pt x="338" y="417"/>
                    </a:cubicBezTo>
                    <a:cubicBezTo>
                      <a:pt x="360" y="432"/>
                      <a:pt x="387" y="442"/>
                      <a:pt x="406" y="462"/>
                    </a:cubicBezTo>
                    <a:cubicBezTo>
                      <a:pt x="435" y="492"/>
                      <a:pt x="463" y="526"/>
                      <a:pt x="507" y="541"/>
                    </a:cubicBezTo>
                    <a:cubicBezTo>
                      <a:pt x="528" y="548"/>
                      <a:pt x="580" y="565"/>
                      <a:pt x="608" y="575"/>
                    </a:cubicBezTo>
                    <a:cubicBezTo>
                      <a:pt x="643" y="586"/>
                      <a:pt x="683" y="609"/>
                      <a:pt x="721" y="609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6705720" y="2435760"/>
            <a:ext cx="1627200" cy="3560040"/>
            <a:chOff x="6705720" y="2435760"/>
            <a:chExt cx="1627200" cy="3560040"/>
          </a:xfrm>
        </p:grpSpPr>
        <p:sp>
          <p:nvSpPr>
            <p:cNvPr id="582" name=""/>
            <p:cNvSpPr/>
            <p:nvPr/>
          </p:nvSpPr>
          <p:spPr>
            <a:xfrm>
              <a:off x="7010280" y="3100320"/>
              <a:ext cx="1019160" cy="322200"/>
            </a:xfrm>
            <a:prstGeom prst="rightArrow">
              <a:avLst>
                <a:gd name="adj1" fmla="val 50000"/>
                <a:gd name="adj2" fmla="val 79078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35200" y="2435760"/>
              <a:ext cx="76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6705720" y="5029200"/>
              <a:ext cx="1627200" cy="966600"/>
              <a:chOff x="6705720" y="5029200"/>
              <a:chExt cx="1627200" cy="966600"/>
            </a:xfrm>
          </p:grpSpPr>
          <p:sp>
            <p:nvSpPr>
              <p:cNvPr id="585" name=""/>
              <p:cNvSpPr/>
              <p:nvPr/>
            </p:nvSpPr>
            <p:spPr>
              <a:xfrm>
                <a:off x="6705720" y="5978520"/>
                <a:ext cx="1627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882120" y="5029200"/>
                <a:ext cx="1073160" cy="966600"/>
              </a:xfrm>
              <a:custGeom>
                <a:avLst/>
                <a:gdLst/>
                <a:ahLst/>
                <a:rect l="l" t="t" r="r" b="b"/>
                <a:pathLst>
                  <a:path w="721" h="609">
                    <a:moveTo>
                      <a:pt x="0" y="598"/>
                    </a:moveTo>
                    <a:cubicBezTo>
                      <a:pt x="16" y="549"/>
                      <a:pt x="29" y="500"/>
                      <a:pt x="45" y="451"/>
                    </a:cubicBezTo>
                    <a:cubicBezTo>
                      <a:pt x="66" y="300"/>
                      <a:pt x="65" y="149"/>
                      <a:pt x="90" y="0"/>
                    </a:cubicBezTo>
                    <a:cubicBezTo>
                      <a:pt x="101" y="4"/>
                      <a:pt x="117" y="2"/>
                      <a:pt x="124" y="12"/>
                    </a:cubicBezTo>
                    <a:cubicBezTo>
                      <a:pt x="137" y="31"/>
                      <a:pt x="138" y="56"/>
                      <a:pt x="146" y="79"/>
                    </a:cubicBezTo>
                    <a:cubicBezTo>
                      <a:pt x="163" y="131"/>
                      <a:pt x="176" y="199"/>
                      <a:pt x="203" y="248"/>
                    </a:cubicBezTo>
                    <a:cubicBezTo>
                      <a:pt x="232" y="302"/>
                      <a:pt x="284" y="381"/>
                      <a:pt x="338" y="417"/>
                    </a:cubicBezTo>
                    <a:cubicBezTo>
                      <a:pt x="360" y="432"/>
                      <a:pt x="387" y="442"/>
                      <a:pt x="406" y="462"/>
                    </a:cubicBezTo>
                    <a:cubicBezTo>
                      <a:pt x="435" y="492"/>
                      <a:pt x="463" y="526"/>
                      <a:pt x="507" y="541"/>
                    </a:cubicBezTo>
                    <a:cubicBezTo>
                      <a:pt x="528" y="548"/>
                      <a:pt x="580" y="565"/>
                      <a:pt x="608" y="575"/>
                    </a:cubicBezTo>
                    <a:cubicBezTo>
                      <a:pt x="643" y="586"/>
                      <a:pt x="683" y="609"/>
                      <a:pt x="721" y="609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2786040" y="2438280"/>
            <a:ext cx="3656160" cy="1646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57240">
            <a:solidFill>
              <a:srgbClr val="ff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mpulse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Convolution Integral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89" name=""/>
          <p:cNvSpPr/>
          <p:nvPr/>
        </p:nvSpPr>
        <p:spPr>
          <a:xfrm>
            <a:off x="1200240" y="3100320"/>
            <a:ext cx="1019160" cy="322200"/>
          </a:xfrm>
          <a:prstGeom prst="rightArrow">
            <a:avLst>
              <a:gd name="adj1" fmla="val 50000"/>
              <a:gd name="adj2" fmla="val 79078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281240" y="2435760"/>
            <a:ext cx="7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10280" y="3100320"/>
            <a:ext cx="1019160" cy="322200"/>
          </a:xfrm>
          <a:prstGeom prst="rightArrow">
            <a:avLst>
              <a:gd name="adj1" fmla="val 50000"/>
              <a:gd name="adj2" fmla="val 79078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135200" y="243576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182760" y="5780880"/>
            <a:ext cx="34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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62240" y="4460400"/>
            <a:ext cx="470376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0" lang="en-US" sz="3600" spc="-1" strike="noStrike" baseline="-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600" spc="-1" strike="noStrike" baseline="50000">
                <a:solidFill>
                  <a:srgbClr val="ffffff"/>
                </a:solidFill>
                <a:latin typeface="Times New Roman"/>
              </a:rPr>
              <a:t>∞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908440" y="5248800"/>
            <a:ext cx="3368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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301840" y="2590920"/>
            <a:ext cx="1874880" cy="749160"/>
          </a:xfrm>
          <a:prstGeom prst="roundRect">
            <a:avLst>
              <a:gd name="adj" fmla="val 26208"/>
            </a:avLst>
          </a:prstGeom>
          <a:solidFill>
            <a:srgbClr val="000000"/>
          </a:solidFill>
          <a:ln w="57240">
            <a:solidFill>
              <a:srgbClr val="ff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965160" y="2068920"/>
            <a:ext cx="1019160" cy="1040760"/>
            <a:chOff x="965160" y="2068920"/>
            <a:chExt cx="1019160" cy="1040760"/>
          </a:xfrm>
        </p:grpSpPr>
        <p:sp>
          <p:nvSpPr>
            <p:cNvPr id="598" name=""/>
            <p:cNvSpPr/>
            <p:nvPr/>
          </p:nvSpPr>
          <p:spPr>
            <a:xfrm>
              <a:off x="965160" y="2787480"/>
              <a:ext cx="1019160" cy="322200"/>
            </a:xfrm>
            <a:prstGeom prst="rightArrow">
              <a:avLst>
                <a:gd name="adj1" fmla="val 50000"/>
                <a:gd name="adj2" fmla="val 79078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88640" y="2068920"/>
              <a:ext cx="76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527960" y="2010240"/>
            <a:ext cx="1019160" cy="1040760"/>
            <a:chOff x="7527960" y="2010240"/>
            <a:chExt cx="1019160" cy="1040760"/>
          </a:xfrm>
        </p:grpSpPr>
        <p:sp>
          <p:nvSpPr>
            <p:cNvPr id="601" name=""/>
            <p:cNvSpPr/>
            <p:nvPr/>
          </p:nvSpPr>
          <p:spPr>
            <a:xfrm>
              <a:off x="7527960" y="2728800"/>
              <a:ext cx="1019160" cy="322200"/>
            </a:xfrm>
            <a:prstGeom prst="rightArrow">
              <a:avLst>
                <a:gd name="adj1" fmla="val 50000"/>
                <a:gd name="adj2" fmla="val 79078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654680" y="2010240"/>
              <a:ext cx="76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2090880" y="4471200"/>
            <a:ext cx="534816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0" lang="en-US" sz="3600" spc="-1" strike="noStrike" baseline="-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600" spc="-1" strike="noStrike" baseline="50000">
                <a:solidFill>
                  <a:srgbClr val="ffffff"/>
                </a:solidFill>
                <a:latin typeface="Times New Roman"/>
              </a:rPr>
              <a:t>∞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334120" y="2590920"/>
            <a:ext cx="1874880" cy="749160"/>
          </a:xfrm>
          <a:prstGeom prst="roundRect">
            <a:avLst>
              <a:gd name="adj" fmla="val 26208"/>
            </a:avLst>
          </a:prstGeom>
          <a:solidFill>
            <a:srgbClr val="000000"/>
          </a:solidFill>
          <a:ln w="57240">
            <a:solidFill>
              <a:srgbClr val="ff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495680" y="2787480"/>
            <a:ext cx="519120" cy="263520"/>
          </a:xfrm>
          <a:prstGeom prst="rightArrow">
            <a:avLst>
              <a:gd name="adj1" fmla="val 50000"/>
              <a:gd name="adj2" fmla="val 49249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LTI Systems Connected in Series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5537160" y="5281560"/>
            <a:ext cx="3305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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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124000" y="2044800"/>
            <a:ext cx="1874880" cy="749160"/>
          </a:xfrm>
          <a:prstGeom prst="roundRect">
            <a:avLst>
              <a:gd name="adj" fmla="val 26208"/>
            </a:avLst>
          </a:prstGeom>
          <a:solidFill>
            <a:srgbClr val="000000"/>
          </a:solidFill>
          <a:ln w="57240">
            <a:solidFill>
              <a:srgbClr val="ff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787320" y="1522800"/>
            <a:ext cx="1019160" cy="1040760"/>
            <a:chOff x="787320" y="1522800"/>
            <a:chExt cx="1019160" cy="1040760"/>
          </a:xfrm>
        </p:grpSpPr>
        <p:sp>
          <p:nvSpPr>
            <p:cNvPr id="610" name=""/>
            <p:cNvSpPr/>
            <p:nvPr/>
          </p:nvSpPr>
          <p:spPr>
            <a:xfrm>
              <a:off x="787320" y="2241360"/>
              <a:ext cx="1019160" cy="322200"/>
            </a:xfrm>
            <a:prstGeom prst="rightArrow">
              <a:avLst>
                <a:gd name="adj1" fmla="val 50000"/>
                <a:gd name="adj2" fmla="val 79078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10800" y="1522800"/>
              <a:ext cx="76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350120" y="1464120"/>
            <a:ext cx="1019160" cy="1040760"/>
            <a:chOff x="7350120" y="1464120"/>
            <a:chExt cx="1019160" cy="1040760"/>
          </a:xfrm>
        </p:grpSpPr>
        <p:sp>
          <p:nvSpPr>
            <p:cNvPr id="613" name=""/>
            <p:cNvSpPr/>
            <p:nvPr/>
          </p:nvSpPr>
          <p:spPr>
            <a:xfrm>
              <a:off x="7350120" y="2182680"/>
              <a:ext cx="1019160" cy="322200"/>
            </a:xfrm>
            <a:prstGeom prst="rightArrow">
              <a:avLst>
                <a:gd name="adj1" fmla="val 50000"/>
                <a:gd name="adj2" fmla="val 79078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76840" y="1464120"/>
              <a:ext cx="76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0" y="5101920"/>
            <a:ext cx="5097600" cy="15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0" lang="en-US" sz="3600" spc="-1" strike="noStrike" baseline="-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600" spc="-1" strike="noStrike" baseline="50000">
                <a:solidFill>
                  <a:srgbClr val="ffffff"/>
                </a:solidFill>
                <a:latin typeface="Times New Roman"/>
              </a:rPr>
              <a:t>∞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0" lang="en-US" sz="3600" spc="-1" strike="noStrike" baseline="-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600" spc="-1" strike="noStrike" baseline="50000">
                <a:solidFill>
                  <a:srgbClr val="ffffff"/>
                </a:solidFill>
                <a:latin typeface="Times New Roman"/>
              </a:rPr>
              <a:t>∞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156280" y="2044800"/>
            <a:ext cx="1874880" cy="749160"/>
          </a:xfrm>
          <a:prstGeom prst="roundRect">
            <a:avLst>
              <a:gd name="adj" fmla="val 26208"/>
            </a:avLst>
          </a:prstGeom>
          <a:solidFill>
            <a:srgbClr val="000000"/>
          </a:solidFill>
          <a:ln w="57240">
            <a:solidFill>
              <a:srgbClr val="ff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317840" y="2241720"/>
            <a:ext cx="519120" cy="263520"/>
          </a:xfrm>
          <a:prstGeom prst="rightArrow">
            <a:avLst>
              <a:gd name="adj1" fmla="val 50000"/>
              <a:gd name="adj2" fmla="val 49249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LTI systems are commutative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19" name=""/>
          <p:cNvSpPr/>
          <p:nvPr/>
        </p:nvSpPr>
        <p:spPr>
          <a:xfrm>
            <a:off x="2200320" y="3657600"/>
            <a:ext cx="1874880" cy="749160"/>
          </a:xfrm>
          <a:prstGeom prst="roundRect">
            <a:avLst>
              <a:gd name="adj" fmla="val 26208"/>
            </a:avLst>
          </a:prstGeom>
          <a:solidFill>
            <a:srgbClr val="000000"/>
          </a:solidFill>
          <a:ln w="57240">
            <a:solidFill>
              <a:srgbClr val="ff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863640" y="3135960"/>
            <a:ext cx="1019160" cy="1040760"/>
            <a:chOff x="863640" y="3135960"/>
            <a:chExt cx="1019160" cy="1040760"/>
          </a:xfrm>
        </p:grpSpPr>
        <p:sp>
          <p:nvSpPr>
            <p:cNvPr id="621" name=""/>
            <p:cNvSpPr/>
            <p:nvPr/>
          </p:nvSpPr>
          <p:spPr>
            <a:xfrm>
              <a:off x="863640" y="3854520"/>
              <a:ext cx="1019160" cy="322200"/>
            </a:xfrm>
            <a:prstGeom prst="rightArrow">
              <a:avLst>
                <a:gd name="adj1" fmla="val 50000"/>
                <a:gd name="adj2" fmla="val 79078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87120" y="3135960"/>
              <a:ext cx="76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426440" y="3076920"/>
            <a:ext cx="1019160" cy="1040760"/>
            <a:chOff x="7426440" y="3076920"/>
            <a:chExt cx="1019160" cy="1040760"/>
          </a:xfrm>
        </p:grpSpPr>
        <p:sp>
          <p:nvSpPr>
            <p:cNvPr id="624" name=""/>
            <p:cNvSpPr/>
            <p:nvPr/>
          </p:nvSpPr>
          <p:spPr>
            <a:xfrm>
              <a:off x="7426440" y="3795480"/>
              <a:ext cx="1019160" cy="322200"/>
            </a:xfrm>
            <a:prstGeom prst="rightArrow">
              <a:avLst>
                <a:gd name="adj1" fmla="val 50000"/>
                <a:gd name="adj2" fmla="val 79078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53160" y="3076920"/>
              <a:ext cx="76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5232240" y="3657600"/>
            <a:ext cx="1874880" cy="749160"/>
          </a:xfrm>
          <a:prstGeom prst="roundRect">
            <a:avLst>
              <a:gd name="adj" fmla="val 26208"/>
            </a:avLst>
          </a:prstGeom>
          <a:solidFill>
            <a:srgbClr val="000000"/>
          </a:solidFill>
          <a:ln w="57240">
            <a:solidFill>
              <a:srgbClr val="ff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394160" y="3854520"/>
            <a:ext cx="519120" cy="263520"/>
          </a:xfrm>
          <a:prstGeom prst="rightArrow">
            <a:avLst>
              <a:gd name="adj1" fmla="val 50000"/>
              <a:gd name="adj2" fmla="val 49249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Multiple Indicator Dilution (MID) Technique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Simultaneous injection of several tracers into an arter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Sampling of the venous outflow at varying time interval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3473280" y="0"/>
            <a:ext cx="3543840" cy="1790640"/>
            <a:chOff x="3473280" y="0"/>
            <a:chExt cx="3543840" cy="1790640"/>
          </a:xfrm>
        </p:grpSpPr>
        <p:grpSp>
          <p:nvGrpSpPr>
            <p:cNvPr id="629" name=""/>
            <p:cNvGrpSpPr/>
            <p:nvPr/>
          </p:nvGrpSpPr>
          <p:grpSpPr>
            <a:xfrm>
              <a:off x="3473280" y="0"/>
              <a:ext cx="2082960" cy="1790640"/>
              <a:chOff x="3473280" y="0"/>
              <a:chExt cx="2082960" cy="1790640"/>
            </a:xfrm>
          </p:grpSpPr>
          <p:sp>
            <p:nvSpPr>
              <p:cNvPr id="630" name=""/>
              <p:cNvSpPr/>
              <p:nvPr/>
            </p:nvSpPr>
            <p:spPr>
              <a:xfrm>
                <a:off x="3473280" y="1765440"/>
                <a:ext cx="2082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486240" y="0"/>
                <a:ext cx="2057400" cy="1790640"/>
              </a:xfrm>
              <a:custGeom>
                <a:avLst/>
                <a:gdLst/>
                <a:ahLst/>
                <a:rect l="l" t="t" r="r" b="b"/>
                <a:pathLst>
                  <a:path w="1296" h="1128">
                    <a:moveTo>
                      <a:pt x="0" y="1128"/>
                    </a:moveTo>
                    <a:cubicBezTo>
                      <a:pt x="8" y="752"/>
                      <a:pt x="16" y="380"/>
                      <a:pt x="39" y="200"/>
                    </a:cubicBezTo>
                    <a:cubicBezTo>
                      <a:pt x="62" y="20"/>
                      <a:pt x="84" y="67"/>
                      <a:pt x="136" y="48"/>
                    </a:cubicBezTo>
                    <a:cubicBezTo>
                      <a:pt x="188" y="29"/>
                      <a:pt x="292" y="0"/>
                      <a:pt x="352" y="88"/>
                    </a:cubicBezTo>
                    <a:cubicBezTo>
                      <a:pt x="412" y="176"/>
                      <a:pt x="451" y="443"/>
                      <a:pt x="496" y="576"/>
                    </a:cubicBezTo>
                    <a:cubicBezTo>
                      <a:pt x="541" y="709"/>
                      <a:pt x="572" y="807"/>
                      <a:pt x="624" y="888"/>
                    </a:cubicBezTo>
                    <a:cubicBezTo>
                      <a:pt x="676" y="969"/>
                      <a:pt x="725" y="1031"/>
                      <a:pt x="808" y="1064"/>
                    </a:cubicBezTo>
                    <a:cubicBezTo>
                      <a:pt x="891" y="1097"/>
                      <a:pt x="1039" y="1084"/>
                      <a:pt x="1120" y="1088"/>
                    </a:cubicBezTo>
                    <a:cubicBezTo>
                      <a:pt x="1201" y="1092"/>
                      <a:pt x="1259" y="1088"/>
                      <a:pt x="1296" y="108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4759200" y="52236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esidue fun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558720" y="4649760"/>
            <a:ext cx="2082960" cy="1687680"/>
            <a:chOff x="558720" y="4649760"/>
            <a:chExt cx="2082960" cy="1687680"/>
          </a:xfrm>
        </p:grpSpPr>
        <p:grpSp>
          <p:nvGrpSpPr>
            <p:cNvPr id="634" name=""/>
            <p:cNvGrpSpPr/>
            <p:nvPr/>
          </p:nvGrpSpPr>
          <p:grpSpPr>
            <a:xfrm>
              <a:off x="558720" y="4649760"/>
              <a:ext cx="2082960" cy="1687680"/>
              <a:chOff x="558720" y="4649760"/>
              <a:chExt cx="2082960" cy="1687680"/>
            </a:xfrm>
          </p:grpSpPr>
          <p:sp>
            <p:nvSpPr>
              <p:cNvPr id="635" name=""/>
              <p:cNvSpPr/>
              <p:nvPr/>
            </p:nvSpPr>
            <p:spPr>
              <a:xfrm>
                <a:off x="558720" y="6337440"/>
                <a:ext cx="2082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47640" y="4649760"/>
                <a:ext cx="228600" cy="1674720"/>
              </a:xfrm>
              <a:custGeom>
                <a:avLst/>
                <a:gdLst/>
                <a:ahLst/>
                <a:rect l="l" t="t" r="r" b="b"/>
                <a:pathLst>
                  <a:path w="1040" h="1055">
                    <a:moveTo>
                      <a:pt x="0" y="1055"/>
                    </a:moveTo>
                    <a:cubicBezTo>
                      <a:pt x="26" y="712"/>
                      <a:pt x="53" y="370"/>
                      <a:pt x="96" y="207"/>
                    </a:cubicBezTo>
                    <a:cubicBezTo>
                      <a:pt x="139" y="44"/>
                      <a:pt x="193" y="0"/>
                      <a:pt x="256" y="79"/>
                    </a:cubicBezTo>
                    <a:cubicBezTo>
                      <a:pt x="319" y="158"/>
                      <a:pt x="399" y="536"/>
                      <a:pt x="472" y="679"/>
                    </a:cubicBezTo>
                    <a:cubicBezTo>
                      <a:pt x="545" y="822"/>
                      <a:pt x="601" y="876"/>
                      <a:pt x="696" y="935"/>
                    </a:cubicBezTo>
                    <a:cubicBezTo>
                      <a:pt x="791" y="994"/>
                      <a:pt x="983" y="1015"/>
                      <a:pt x="1040" y="1031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1135080" y="4973760"/>
              <a:ext cx="98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p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6006960" y="4662360"/>
            <a:ext cx="2487600" cy="1674720"/>
            <a:chOff x="6006960" y="4662360"/>
            <a:chExt cx="2487600" cy="1674720"/>
          </a:xfrm>
        </p:grpSpPr>
        <p:grpSp>
          <p:nvGrpSpPr>
            <p:cNvPr id="639" name=""/>
            <p:cNvGrpSpPr/>
            <p:nvPr/>
          </p:nvGrpSpPr>
          <p:grpSpPr>
            <a:xfrm>
              <a:off x="6006960" y="4662360"/>
              <a:ext cx="2082960" cy="1674720"/>
              <a:chOff x="6006960" y="4662360"/>
              <a:chExt cx="2082960" cy="1674720"/>
            </a:xfrm>
          </p:grpSpPr>
          <p:sp>
            <p:nvSpPr>
              <p:cNvPr id="640" name=""/>
              <p:cNvSpPr/>
              <p:nvPr/>
            </p:nvSpPr>
            <p:spPr>
              <a:xfrm>
                <a:off x="6006960" y="6324480"/>
                <a:ext cx="2082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591240" y="4662360"/>
                <a:ext cx="1409760" cy="1674720"/>
              </a:xfrm>
              <a:custGeom>
                <a:avLst/>
                <a:gdLst/>
                <a:ahLst/>
                <a:rect l="l" t="t" r="r" b="b"/>
                <a:pathLst>
                  <a:path w="1040" h="1055">
                    <a:moveTo>
                      <a:pt x="0" y="1055"/>
                    </a:moveTo>
                    <a:cubicBezTo>
                      <a:pt x="26" y="712"/>
                      <a:pt x="53" y="370"/>
                      <a:pt x="96" y="207"/>
                    </a:cubicBezTo>
                    <a:cubicBezTo>
                      <a:pt x="139" y="44"/>
                      <a:pt x="193" y="0"/>
                      <a:pt x="256" y="79"/>
                    </a:cubicBezTo>
                    <a:cubicBezTo>
                      <a:pt x="319" y="158"/>
                      <a:pt x="399" y="536"/>
                      <a:pt x="472" y="679"/>
                    </a:cubicBezTo>
                    <a:cubicBezTo>
                      <a:pt x="545" y="822"/>
                      <a:pt x="601" y="876"/>
                      <a:pt x="696" y="935"/>
                    </a:cubicBezTo>
                    <a:cubicBezTo>
                      <a:pt x="791" y="994"/>
                      <a:pt x="983" y="1015"/>
                      <a:pt x="1040" y="1031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7358040" y="4973760"/>
              <a:ext cx="113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utp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84280" y="2971800"/>
            <a:ext cx="7785000" cy="1790640"/>
            <a:chOff x="584280" y="2971800"/>
            <a:chExt cx="7785000" cy="1790640"/>
          </a:xfrm>
        </p:grpSpPr>
        <p:sp>
          <p:nvSpPr>
            <p:cNvPr id="644" name=""/>
            <p:cNvSpPr/>
            <p:nvPr/>
          </p:nvSpPr>
          <p:spPr>
            <a:xfrm>
              <a:off x="3022560" y="2971800"/>
              <a:ext cx="2984400" cy="1790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4280" y="3720960"/>
              <a:ext cx="2577960" cy="203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91320" y="3746520"/>
              <a:ext cx="2577960" cy="203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022640" y="3625920"/>
              <a:ext cx="98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rg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3936960" y="1968480"/>
            <a:ext cx="1155600" cy="711360"/>
            <a:chOff x="3936960" y="1968480"/>
            <a:chExt cx="1155600" cy="711360"/>
          </a:xfrm>
        </p:grpSpPr>
        <p:sp>
          <p:nvSpPr>
            <p:cNvPr id="649" name=""/>
            <p:cNvSpPr/>
            <p:nvPr/>
          </p:nvSpPr>
          <p:spPr>
            <a:xfrm>
              <a:off x="3936960" y="1968480"/>
              <a:ext cx="1155600" cy="459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mer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99120" y="2438280"/>
              <a:ext cx="431640" cy="241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6718320" y="3983040"/>
            <a:ext cx="1765440" cy="459720"/>
            <a:chOff x="6718320" y="3983040"/>
            <a:chExt cx="1765440" cy="459720"/>
          </a:xfrm>
        </p:grpSpPr>
        <p:sp>
          <p:nvSpPr>
            <p:cNvPr id="652" name=""/>
            <p:cNvSpPr/>
            <p:nvPr/>
          </p:nvSpPr>
          <p:spPr>
            <a:xfrm>
              <a:off x="6718320" y="4089240"/>
              <a:ext cx="304920" cy="241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142040" y="3983040"/>
              <a:ext cx="13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etec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 rot="3405600">
            <a:off x="-6120" y="1199880"/>
            <a:ext cx="2158920" cy="214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Residue measurement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Examples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cintigraph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ositron emission tomograph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X-ray contrast imaging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0600" y="266400"/>
            <a:ext cx="85773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Moment or “Model-independent” Analysis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of MID experiments</a:t>
            </a: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91680" y="4678200"/>
            <a:ext cx="7264440" cy="1884960"/>
            <a:chOff x="391680" y="4678200"/>
            <a:chExt cx="7264440" cy="1884960"/>
          </a:xfrm>
        </p:grpSpPr>
        <p:sp>
          <p:nvSpPr>
            <p:cNvPr id="659" name=""/>
            <p:cNvSpPr/>
            <p:nvPr/>
          </p:nvSpPr>
          <p:spPr>
            <a:xfrm>
              <a:off x="391680" y="5442120"/>
              <a:ext cx="365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80" y="5662440"/>
              <a:ext cx="714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orga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00640" y="5649840"/>
              <a:ext cx="288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84640" y="5410080"/>
              <a:ext cx="288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35280" y="5442120"/>
              <a:ext cx="42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198440" y="5442120"/>
              <a:ext cx="365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338480" y="5662440"/>
              <a:ext cx="501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ob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89600" y="5410080"/>
              <a:ext cx="288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98840" y="544212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66600" y="5442120"/>
              <a:ext cx="365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79640" y="5662440"/>
              <a:ext cx="608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ca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057760" y="5410080"/>
              <a:ext cx="288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86080" y="5442120"/>
              <a:ext cx="42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49880" y="4678200"/>
              <a:ext cx="276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278760" y="544212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495120" y="5442120"/>
              <a:ext cx="730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T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41160" y="5662440"/>
              <a:ext cx="714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orga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020360" y="5410080"/>
              <a:ext cx="288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78480" y="5680080"/>
              <a:ext cx="1342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84720" y="542304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4260960" y="4797360"/>
              <a:ext cx="2543400" cy="925920"/>
              <a:chOff x="4260960" y="4797360"/>
              <a:chExt cx="2543400" cy="925920"/>
            </a:xfrm>
          </p:grpSpPr>
          <p:sp>
            <p:nvSpPr>
              <p:cNvPr id="680" name=""/>
              <p:cNvSpPr/>
              <p:nvPr/>
            </p:nvSpPr>
            <p:spPr>
              <a:xfrm>
                <a:off x="4512960" y="5421240"/>
                <a:ext cx="288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260960" y="5030640"/>
                <a:ext cx="25434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C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cath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) d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502880" y="4797360"/>
                <a:ext cx="3157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437360" y="4917960"/>
                <a:ext cx="4449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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4437720" y="5637240"/>
              <a:ext cx="2071080" cy="925920"/>
              <a:chOff x="4437720" y="5637240"/>
              <a:chExt cx="2071080" cy="925920"/>
            </a:xfrm>
          </p:grpSpPr>
          <p:sp>
            <p:nvSpPr>
              <p:cNvPr id="685" name=""/>
              <p:cNvSpPr/>
              <p:nvPr/>
            </p:nvSpPr>
            <p:spPr>
              <a:xfrm>
                <a:off x="4585320" y="6261120"/>
                <a:ext cx="288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437720" y="5870520"/>
                <a:ext cx="20710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cath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) d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574880" y="5637240"/>
                <a:ext cx="3157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509000" y="5757840"/>
                <a:ext cx="4449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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2855880" y="5680080"/>
              <a:ext cx="1341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2564280" y="4797360"/>
              <a:ext cx="2436840" cy="925920"/>
              <a:chOff x="2564280" y="4797360"/>
              <a:chExt cx="2436840" cy="925920"/>
            </a:xfrm>
          </p:grpSpPr>
          <p:sp>
            <p:nvSpPr>
              <p:cNvPr id="691" name=""/>
              <p:cNvSpPr/>
              <p:nvPr/>
            </p:nvSpPr>
            <p:spPr>
              <a:xfrm>
                <a:off x="2791080" y="5421240"/>
                <a:ext cx="288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564280" y="5030640"/>
                <a:ext cx="243684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C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obs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) d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780640" y="4797360"/>
                <a:ext cx="3157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715120" y="4917960"/>
                <a:ext cx="4449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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738520" y="5637240"/>
              <a:ext cx="1964520" cy="925920"/>
              <a:chOff x="2738520" y="5637240"/>
              <a:chExt cx="1964520" cy="925920"/>
            </a:xfrm>
          </p:grpSpPr>
          <p:sp>
            <p:nvSpPr>
              <p:cNvPr id="696" name=""/>
              <p:cNvSpPr/>
              <p:nvPr/>
            </p:nvSpPr>
            <p:spPr>
              <a:xfrm>
                <a:off x="2860560" y="6261120"/>
                <a:ext cx="288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738520" y="5870520"/>
                <a:ext cx="196452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obs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) d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850480" y="5637240"/>
                <a:ext cx="3157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784960" y="5757840"/>
                <a:ext cx="4449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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" name=""/>
          <p:cNvGrpSpPr/>
          <p:nvPr/>
        </p:nvGrpSpPr>
        <p:grpSpPr>
          <a:xfrm>
            <a:off x="438840" y="1352520"/>
            <a:ext cx="4291200" cy="1364400"/>
            <a:chOff x="438840" y="1352520"/>
            <a:chExt cx="4291200" cy="1364400"/>
          </a:xfrm>
        </p:grpSpPr>
        <p:sp>
          <p:nvSpPr>
            <p:cNvPr id="701" name=""/>
            <p:cNvSpPr/>
            <p:nvPr/>
          </p:nvSpPr>
          <p:spPr>
            <a:xfrm>
              <a:off x="438840" y="2043000"/>
              <a:ext cx="730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U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364040" y="2043000"/>
              <a:ext cx="42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393000" y="2043000"/>
              <a:ext cx="364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1677960" y="1352520"/>
              <a:ext cx="1964520" cy="925920"/>
              <a:chOff x="1677960" y="1352520"/>
              <a:chExt cx="1964520" cy="925920"/>
            </a:xfrm>
          </p:grpSpPr>
          <p:sp>
            <p:nvSpPr>
              <p:cNvPr id="705" name=""/>
              <p:cNvSpPr/>
              <p:nvPr/>
            </p:nvSpPr>
            <p:spPr>
              <a:xfrm>
                <a:off x="1799640" y="1976400"/>
                <a:ext cx="288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677960" y="1585800"/>
                <a:ext cx="196452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obs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) d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789920" y="1352520"/>
                <a:ext cx="3157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724400" y="1473120"/>
                <a:ext cx="4449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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1741320" y="2276640"/>
              <a:ext cx="1449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39840" y="2262240"/>
              <a:ext cx="9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Do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3360" y="1728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22920" y="224964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Flo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913200" y="2238480"/>
              <a:ext cx="814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502560" y="2808360"/>
            <a:ext cx="8466480" cy="1765440"/>
            <a:chOff x="502560" y="2808360"/>
            <a:chExt cx="8466480" cy="1765440"/>
          </a:xfrm>
        </p:grpSpPr>
        <p:sp>
          <p:nvSpPr>
            <p:cNvPr id="715" name=""/>
            <p:cNvSpPr/>
            <p:nvPr/>
          </p:nvSpPr>
          <p:spPr>
            <a:xfrm>
              <a:off x="502560" y="3449160"/>
              <a:ext cx="730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T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949680" y="3746160"/>
              <a:ext cx="714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orga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57200" y="3449160"/>
              <a:ext cx="42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86600" y="3449160"/>
              <a:ext cx="730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T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138400" y="3746160"/>
              <a:ext cx="501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ob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498400" y="344916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735640" y="3449160"/>
              <a:ext cx="730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T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159000" y="3746160"/>
              <a:ext cx="608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ca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43120" y="3449160"/>
              <a:ext cx="42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664240" y="3690720"/>
              <a:ext cx="1582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57520" y="343332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405920" y="3449160"/>
              <a:ext cx="364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5336640" y="2808360"/>
              <a:ext cx="2436840" cy="925560"/>
              <a:chOff x="5336640" y="2808360"/>
              <a:chExt cx="2436840" cy="925560"/>
            </a:xfrm>
          </p:grpSpPr>
          <p:sp>
            <p:nvSpPr>
              <p:cNvPr id="728" name=""/>
              <p:cNvSpPr/>
              <p:nvPr/>
            </p:nvSpPr>
            <p:spPr>
              <a:xfrm>
                <a:off x="5586480" y="3431880"/>
                <a:ext cx="288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336640" y="3041280"/>
                <a:ext cx="243684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 C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cath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) d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575680" y="2808360"/>
                <a:ext cx="3157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510520" y="2928600"/>
                <a:ext cx="4449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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5509080" y="3647880"/>
              <a:ext cx="2071080" cy="925920"/>
              <a:chOff x="5509080" y="3647880"/>
              <a:chExt cx="2071080" cy="925920"/>
            </a:xfrm>
          </p:grpSpPr>
          <p:sp>
            <p:nvSpPr>
              <p:cNvPr id="733" name=""/>
              <p:cNvSpPr/>
              <p:nvPr/>
            </p:nvSpPr>
            <p:spPr>
              <a:xfrm>
                <a:off x="5655960" y="4271760"/>
                <a:ext cx="288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509080" y="3881160"/>
                <a:ext cx="20710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cath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) d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645880" y="3647880"/>
                <a:ext cx="3157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580720" y="3768480"/>
                <a:ext cx="4449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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3929040" y="3690720"/>
              <a:ext cx="134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3637800" y="2808360"/>
              <a:ext cx="2330280" cy="925560"/>
              <a:chOff x="3637800" y="2808360"/>
              <a:chExt cx="2330280" cy="925560"/>
            </a:xfrm>
          </p:grpSpPr>
          <p:sp>
            <p:nvSpPr>
              <p:cNvPr id="739" name=""/>
              <p:cNvSpPr/>
              <p:nvPr/>
            </p:nvSpPr>
            <p:spPr>
              <a:xfrm>
                <a:off x="3861720" y="3431880"/>
                <a:ext cx="288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637800" y="3041280"/>
                <a:ext cx="2330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 C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obs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) d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852000" y="2808360"/>
                <a:ext cx="3157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786480" y="2928600"/>
                <a:ext cx="4449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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3811320" y="3647880"/>
              <a:ext cx="1964520" cy="925920"/>
              <a:chOff x="3811320" y="3647880"/>
              <a:chExt cx="1964520" cy="925920"/>
            </a:xfrm>
          </p:grpSpPr>
          <p:sp>
            <p:nvSpPr>
              <p:cNvPr id="744" name=""/>
              <p:cNvSpPr/>
              <p:nvPr/>
            </p:nvSpPr>
            <p:spPr>
              <a:xfrm>
                <a:off x="3933360" y="4271760"/>
                <a:ext cx="288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811320" y="3881160"/>
                <a:ext cx="196452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obs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) d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923280" y="3647880"/>
                <a:ext cx="3157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857760" y="3768480"/>
                <a:ext cx="4449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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7809120" y="312552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Volu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74000" y="369684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Flo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786440" y="3673080"/>
              <a:ext cx="1182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90600" y="266400"/>
            <a:ext cx="85773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Moment or “Model-independent” Analysis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of MID experiments</a:t>
            </a: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417600" y="1424160"/>
            <a:ext cx="4335480" cy="1565640"/>
            <a:chOff x="417600" y="1424160"/>
            <a:chExt cx="4335480" cy="1565640"/>
          </a:xfrm>
        </p:grpSpPr>
        <p:sp>
          <p:nvSpPr>
            <p:cNvPr id="753" name=""/>
            <p:cNvSpPr/>
            <p:nvPr/>
          </p:nvSpPr>
          <p:spPr>
            <a:xfrm>
              <a:off x="417600" y="1776240"/>
              <a:ext cx="807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Flo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389240" y="1776240"/>
              <a:ext cx="42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18560" y="1776240"/>
              <a:ext cx="364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1703520" y="2063880"/>
              <a:ext cx="1964520" cy="925920"/>
              <a:chOff x="1703520" y="2063880"/>
              <a:chExt cx="1964520" cy="925920"/>
            </a:xfrm>
          </p:grpSpPr>
          <p:sp>
            <p:nvSpPr>
              <p:cNvPr id="757" name=""/>
              <p:cNvSpPr/>
              <p:nvPr/>
            </p:nvSpPr>
            <p:spPr>
              <a:xfrm>
                <a:off x="1825200" y="2687760"/>
                <a:ext cx="288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703520" y="2297160"/>
                <a:ext cx="196452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obs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) d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815480" y="2063880"/>
                <a:ext cx="3157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749960" y="2184480"/>
                <a:ext cx="44496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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1766880" y="2009880"/>
              <a:ext cx="1449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025720" y="1424160"/>
              <a:ext cx="9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Do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138920" y="1461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10680" y="2097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U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938760" y="1971720"/>
              <a:ext cx="814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671760" y="3487680"/>
            <a:ext cx="2722320" cy="1164600"/>
            <a:chOff x="671760" y="3487680"/>
            <a:chExt cx="2722320" cy="1164600"/>
          </a:xfrm>
        </p:grpSpPr>
        <p:sp>
          <p:nvSpPr>
            <p:cNvPr id="767" name=""/>
            <p:cNvSpPr/>
            <p:nvPr/>
          </p:nvSpPr>
          <p:spPr>
            <a:xfrm>
              <a:off x="2216880" y="3487680"/>
              <a:ext cx="730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T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664360" y="3784680"/>
              <a:ext cx="714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orga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751040" y="3919680"/>
              <a:ext cx="42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71760" y="393876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Volu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399400" y="419256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U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211480" y="4168800"/>
              <a:ext cx="1182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Unidirectional uptake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1117440" y="4410720"/>
            <a:ext cx="4188600" cy="1465920"/>
            <a:chOff x="1117440" y="4410720"/>
            <a:chExt cx="4188600" cy="1465920"/>
          </a:xfrm>
        </p:grpSpPr>
        <p:sp>
          <p:nvSpPr>
            <p:cNvPr id="775" name=""/>
            <p:cNvSpPr/>
            <p:nvPr/>
          </p:nvSpPr>
          <p:spPr>
            <a:xfrm>
              <a:off x="1747800" y="4410720"/>
              <a:ext cx="115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117440" y="47566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19440" y="5084640"/>
              <a:ext cx="1009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466640" y="5227920"/>
              <a:ext cx="171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ref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979000" y="4767120"/>
              <a:ext cx="23270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S/V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 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–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1069920" y="1158840"/>
            <a:ext cx="781848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e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–(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imes New Roman"/>
              </a:rPr>
              <a:t>PS/V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)(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 baseline="1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concentration of endothelin-1 (normalized to the dose amoun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re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concentration of albumin (normalized to the dose amoun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endothelial membrane permea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surface area of endothel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capillary vol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large vessel transit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"/>
          <p:cNvGrpSpPr/>
          <p:nvPr/>
        </p:nvGrpSpPr>
        <p:grpSpPr>
          <a:xfrm>
            <a:off x="685800" y="1600200"/>
            <a:ext cx="7772400" cy="3672000"/>
            <a:chOff x="685800" y="1600200"/>
            <a:chExt cx="7772400" cy="3672000"/>
          </a:xfrm>
        </p:grpSpPr>
        <p:sp>
          <p:nvSpPr>
            <p:cNvPr id="782" name=""/>
            <p:cNvSpPr/>
            <p:nvPr/>
          </p:nvSpPr>
          <p:spPr>
            <a:xfrm>
              <a:off x="685800" y="160020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Trebuchet MS"/>
                </a:rPr>
                <a:t>Longitudinal Convectio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944880" y="4863960"/>
              <a:ext cx="1728720" cy="408240"/>
            </a:xfrm>
            <a:prstGeom prst="rightArrow">
              <a:avLst>
                <a:gd name="adj1" fmla="val 50000"/>
                <a:gd name="adj2" fmla="val 105864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1619280" y="4348080"/>
            <a:ext cx="5669280" cy="1445040"/>
            <a:chOff x="1619280" y="4348080"/>
            <a:chExt cx="5669280" cy="1445040"/>
          </a:xfrm>
        </p:grpSpPr>
        <p:sp>
          <p:nvSpPr>
            <p:cNvPr id="785" name=""/>
            <p:cNvSpPr/>
            <p:nvPr/>
          </p:nvSpPr>
          <p:spPr>
            <a:xfrm>
              <a:off x="1619280" y="4348080"/>
              <a:ext cx="385200" cy="1441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813320" y="4348080"/>
              <a:ext cx="528228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813320" y="5789160"/>
              <a:ext cx="5282280" cy="3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902640" y="4348080"/>
              <a:ext cx="385920" cy="144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6902640" y="4348440"/>
              <a:ext cx="385920" cy="143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85800" y="2209680"/>
            <a:ext cx="7772400" cy="3062520"/>
            <a:chOff x="685800" y="2209680"/>
            <a:chExt cx="7772400" cy="3062520"/>
          </a:xfrm>
        </p:grpSpPr>
        <p:sp>
          <p:nvSpPr>
            <p:cNvPr id="791" name=""/>
            <p:cNvSpPr/>
            <p:nvPr/>
          </p:nvSpPr>
          <p:spPr>
            <a:xfrm>
              <a:off x="2424240" y="4863960"/>
              <a:ext cx="555480" cy="408240"/>
            </a:xfrm>
            <a:prstGeom prst="leftRightArrow">
              <a:avLst>
                <a:gd name="adj1" fmla="val 50000"/>
                <a:gd name="adj2" fmla="val 27087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85800" y="220968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99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9900"/>
                  </a:solidFill>
                  <a:latin typeface="Trebuchet MS"/>
                </a:rPr>
                <a:t>Longitudinal Diffusio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685800" y="2743200"/>
            <a:ext cx="7772400" cy="2529000"/>
            <a:chOff x="685800" y="2743200"/>
            <a:chExt cx="7772400" cy="2529000"/>
          </a:xfrm>
        </p:grpSpPr>
        <p:sp>
          <p:nvSpPr>
            <p:cNvPr id="794" name=""/>
            <p:cNvSpPr/>
            <p:nvPr/>
          </p:nvSpPr>
          <p:spPr>
            <a:xfrm>
              <a:off x="6367320" y="4863960"/>
              <a:ext cx="486000" cy="40824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85800" y="274320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cc99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cc99"/>
                  </a:solidFill>
                  <a:latin typeface="Trebuchet MS"/>
                </a:rPr>
                <a:t>Radial Diffusio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685800" y="3352680"/>
            <a:ext cx="7772400" cy="2819520"/>
            <a:chOff x="685800" y="3352680"/>
            <a:chExt cx="7772400" cy="2819520"/>
          </a:xfrm>
        </p:grpSpPr>
        <p:sp>
          <p:nvSpPr>
            <p:cNvPr id="797" name=""/>
            <p:cNvSpPr/>
            <p:nvPr/>
          </p:nvSpPr>
          <p:spPr>
            <a:xfrm>
              <a:off x="4489560" y="5527800"/>
              <a:ext cx="465120" cy="644400"/>
            </a:xfrm>
            <a:prstGeom prst="upDownArrow">
              <a:avLst>
                <a:gd name="adj1" fmla="val 50000"/>
                <a:gd name="adj2" fmla="val 27581"/>
              </a:avLst>
            </a:prstGeom>
            <a:solidFill>
              <a:srgbClr val="cc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85800" y="335268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ccccff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ccccff"/>
                  </a:solidFill>
                  <a:latin typeface="Trebuchet MS"/>
                </a:rPr>
                <a:t>Tissue Exchang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Single-capillary models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066680" y="3276720"/>
            <a:ext cx="70866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066680" y="4572000"/>
            <a:ext cx="70866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424240" y="3290760"/>
            <a:ext cx="1349280" cy="1271880"/>
          </a:xfrm>
          <a:custGeom>
            <a:avLst/>
            <a:gdLst/>
            <a:ahLst/>
            <a:rect l="l" t="t" r="r" b="b"/>
            <a:pathLst>
              <a:path w="653" h="801">
                <a:moveTo>
                  <a:pt x="95" y="36"/>
                </a:moveTo>
                <a:cubicBezTo>
                  <a:pt x="129" y="0"/>
                  <a:pt x="224" y="15"/>
                  <a:pt x="271" y="12"/>
                </a:cubicBezTo>
                <a:cubicBezTo>
                  <a:pt x="318" y="8"/>
                  <a:pt x="338" y="4"/>
                  <a:pt x="377" y="15"/>
                </a:cubicBezTo>
                <a:cubicBezTo>
                  <a:pt x="415" y="25"/>
                  <a:pt x="458" y="4"/>
                  <a:pt x="503" y="76"/>
                </a:cubicBezTo>
                <a:cubicBezTo>
                  <a:pt x="547" y="147"/>
                  <a:pt x="653" y="335"/>
                  <a:pt x="644" y="446"/>
                </a:cubicBezTo>
                <a:cubicBezTo>
                  <a:pt x="635" y="556"/>
                  <a:pt x="492" y="681"/>
                  <a:pt x="449" y="738"/>
                </a:cubicBezTo>
                <a:cubicBezTo>
                  <a:pt x="405" y="794"/>
                  <a:pt x="412" y="774"/>
                  <a:pt x="380" y="783"/>
                </a:cubicBezTo>
                <a:cubicBezTo>
                  <a:pt x="347" y="791"/>
                  <a:pt x="315" y="788"/>
                  <a:pt x="257" y="786"/>
                </a:cubicBezTo>
                <a:cubicBezTo>
                  <a:pt x="198" y="783"/>
                  <a:pt x="55" y="801"/>
                  <a:pt x="28" y="767"/>
                </a:cubicBezTo>
                <a:cubicBezTo>
                  <a:pt x="0" y="732"/>
                  <a:pt x="61" y="642"/>
                  <a:pt x="92" y="580"/>
                </a:cubicBezTo>
                <a:cubicBezTo>
                  <a:pt x="122" y="517"/>
                  <a:pt x="215" y="460"/>
                  <a:pt x="210" y="390"/>
                </a:cubicBezTo>
                <a:cubicBezTo>
                  <a:pt x="204" y="319"/>
                  <a:pt x="80" y="218"/>
                  <a:pt x="61" y="159"/>
                </a:cubicBezTo>
                <a:cubicBezTo>
                  <a:pt x="41" y="99"/>
                  <a:pt x="88" y="61"/>
                  <a:pt x="95" y="3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429160" y="3297240"/>
            <a:ext cx="1738440" cy="1281240"/>
          </a:xfrm>
          <a:custGeom>
            <a:avLst/>
            <a:gdLst/>
            <a:ahLst/>
            <a:rect l="l" t="t" r="r" b="b"/>
            <a:pathLst>
              <a:path w="773" h="807">
                <a:moveTo>
                  <a:pt x="57" y="16"/>
                </a:moveTo>
                <a:cubicBezTo>
                  <a:pt x="95" y="3"/>
                  <a:pt x="174" y="11"/>
                  <a:pt x="244" y="11"/>
                </a:cubicBezTo>
                <a:cubicBezTo>
                  <a:pt x="313" y="10"/>
                  <a:pt x="407" y="0"/>
                  <a:pt x="473" y="14"/>
                </a:cubicBezTo>
                <a:cubicBezTo>
                  <a:pt x="538" y="27"/>
                  <a:pt x="589" y="30"/>
                  <a:pt x="639" y="95"/>
                </a:cubicBezTo>
                <a:cubicBezTo>
                  <a:pt x="688" y="159"/>
                  <a:pt x="773" y="295"/>
                  <a:pt x="770" y="403"/>
                </a:cubicBezTo>
                <a:cubicBezTo>
                  <a:pt x="766" y="511"/>
                  <a:pt x="675" y="680"/>
                  <a:pt x="617" y="744"/>
                </a:cubicBezTo>
                <a:cubicBezTo>
                  <a:pt x="558" y="807"/>
                  <a:pt x="485" y="775"/>
                  <a:pt x="420" y="782"/>
                </a:cubicBezTo>
                <a:cubicBezTo>
                  <a:pt x="354" y="788"/>
                  <a:pt x="272" y="788"/>
                  <a:pt x="225" y="784"/>
                </a:cubicBezTo>
                <a:cubicBezTo>
                  <a:pt x="177" y="779"/>
                  <a:pt x="136" y="779"/>
                  <a:pt x="134" y="755"/>
                </a:cubicBezTo>
                <a:cubicBezTo>
                  <a:pt x="131" y="731"/>
                  <a:pt x="175" y="684"/>
                  <a:pt x="211" y="640"/>
                </a:cubicBezTo>
                <a:cubicBezTo>
                  <a:pt x="246" y="596"/>
                  <a:pt x="324" y="548"/>
                  <a:pt x="345" y="491"/>
                </a:cubicBezTo>
                <a:cubicBezTo>
                  <a:pt x="365" y="433"/>
                  <a:pt x="369" y="334"/>
                  <a:pt x="337" y="292"/>
                </a:cubicBezTo>
                <a:cubicBezTo>
                  <a:pt x="304" y="249"/>
                  <a:pt x="201" y="270"/>
                  <a:pt x="148" y="236"/>
                </a:cubicBezTo>
                <a:cubicBezTo>
                  <a:pt x="94" y="201"/>
                  <a:pt x="31" y="120"/>
                  <a:pt x="16" y="84"/>
                </a:cubicBezTo>
                <a:cubicBezTo>
                  <a:pt x="0" y="47"/>
                  <a:pt x="19" y="28"/>
                  <a:pt x="57" y="1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097160" y="3962520"/>
            <a:ext cx="9320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772800" y="3352680"/>
            <a:ext cx="608040" cy="53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0189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018960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 flipV="1">
            <a:off x="3772800" y="3962520"/>
            <a:ext cx="608040" cy="53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0189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018960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820760" y="3352680"/>
            <a:ext cx="608040" cy="53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0189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018960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820760" y="3962520"/>
            <a:ext cx="608040" cy="53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0189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018960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81952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B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26904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B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Characteristics of Capillary Blood Flow 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Plug Flow in a Capillar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"/>
          <p:cNvGrpSpPr/>
          <p:nvPr/>
        </p:nvGrpSpPr>
        <p:grpSpPr>
          <a:xfrm>
            <a:off x="1619280" y="4348080"/>
            <a:ext cx="5669280" cy="1445040"/>
            <a:chOff x="1619280" y="4348080"/>
            <a:chExt cx="5669280" cy="1445040"/>
          </a:xfrm>
        </p:grpSpPr>
        <p:sp>
          <p:nvSpPr>
            <p:cNvPr id="814" name=""/>
            <p:cNvSpPr/>
            <p:nvPr/>
          </p:nvSpPr>
          <p:spPr>
            <a:xfrm>
              <a:off x="1619280" y="4348080"/>
              <a:ext cx="385200" cy="1441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13320" y="4348080"/>
              <a:ext cx="528228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13320" y="5789160"/>
              <a:ext cx="5282280" cy="3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02640" y="4348080"/>
              <a:ext cx="385920" cy="144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6902640" y="4348440"/>
              <a:ext cx="385920" cy="143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3944880" y="4863960"/>
            <a:ext cx="1728720" cy="408240"/>
          </a:xfrm>
          <a:prstGeom prst="rightArrow">
            <a:avLst>
              <a:gd name="adj1" fmla="val 50000"/>
              <a:gd name="adj2" fmla="val 10586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685800" y="3124080"/>
            <a:ext cx="7772400" cy="2667240"/>
            <a:chOff x="685800" y="3124080"/>
            <a:chExt cx="7772400" cy="2667240"/>
          </a:xfrm>
        </p:grpSpPr>
        <p:sp>
          <p:nvSpPr>
            <p:cNvPr id="821" name=""/>
            <p:cNvSpPr/>
            <p:nvPr/>
          </p:nvSpPr>
          <p:spPr>
            <a:xfrm>
              <a:off x="6367320" y="4419720"/>
              <a:ext cx="486000" cy="1371600"/>
            </a:xfrm>
            <a:prstGeom prst="upDownArrow">
              <a:avLst>
                <a:gd name="adj1" fmla="val 50000"/>
                <a:gd name="adj2" fmla="val 56183"/>
              </a:avLst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85800" y="312408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cc99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cc99"/>
                  </a:solidFill>
                  <a:latin typeface="Trebuchet MS"/>
                </a:rPr>
                <a:t>Rapid Radial Diffusio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685800" y="2590920"/>
            <a:ext cx="7772400" cy="2971800"/>
            <a:chOff x="685800" y="2590920"/>
            <a:chExt cx="7772400" cy="2971800"/>
          </a:xfrm>
        </p:grpSpPr>
        <p:sp>
          <p:nvSpPr>
            <p:cNvPr id="824" name=""/>
            <p:cNvSpPr/>
            <p:nvPr/>
          </p:nvSpPr>
          <p:spPr>
            <a:xfrm>
              <a:off x="2424240" y="4863960"/>
              <a:ext cx="555480" cy="408240"/>
            </a:xfrm>
            <a:prstGeom prst="leftRightArrow">
              <a:avLst>
                <a:gd name="adj1" fmla="val 50000"/>
                <a:gd name="adj2" fmla="val 27087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85800" y="259092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99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9900"/>
                  </a:solidFill>
                  <a:latin typeface="Trebuchet MS"/>
                </a:rPr>
                <a:t>No Longitudinal Diffusio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133720" y="4495680"/>
              <a:ext cx="1066680" cy="106704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Charasteristics of Plug Flow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Longitudinal Convectio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557280" y="2681280"/>
            <a:ext cx="8053200" cy="322092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Plug Fl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Variations in Capillary Flow Velocity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Temporal variations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Irregular flow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Periodic flow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On-off flow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Local variations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Heterogeneous perfus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Stagnant capillari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396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Francis Pierre Chinard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01960" y="1657440"/>
            <a:ext cx="338148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-360" y="261720"/>
            <a:ext cx="9140760" cy="77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Preparations for Kinetic Studies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01200" y="1676520"/>
            <a:ext cx="77281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Reconstituted systems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xpression system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Membrane vesicles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solated cell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Isolated organ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ole animal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Structure of the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Capillary Endothelium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Continuous endothelium (lungs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Continuous endothelium with tight junctions (blood brain barrier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Fenestrated endothelium (liver sinusoids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152360" y="0"/>
            <a:ext cx="69091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Continuous Capillary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152000" y="3160800"/>
            <a:ext cx="68691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rebuchet MS"/>
              </a:rPr>
              <a:t>Fenestrated Capillar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0" name=""/>
          <p:cNvSpPr/>
          <p:nvPr/>
        </p:nvSpPr>
        <p:spPr>
          <a:xfrm>
            <a:off x="7575480" y="4051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rebuchet MS"/>
              </a:rPr>
              <a:t>Plas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034040" y="56934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rebuchet MS"/>
              </a:rPr>
              <a:t>Interstit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576560" y="86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ebuchet MS"/>
              </a:rPr>
              <a:t>Plas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034040" y="18928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rebuchet MS"/>
              </a:rPr>
              <a:t>Interstit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069560" y="135000"/>
            <a:ext cx="69087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rebuchet MS"/>
              </a:rPr>
              <a:t>Tight Junctions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46" name=""/>
          <p:cNvSpPr/>
          <p:nvPr/>
        </p:nvSpPr>
        <p:spPr>
          <a:xfrm>
            <a:off x="7269120" y="892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rebuchet MS"/>
              </a:rPr>
              <a:t>Plas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727680" y="61012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rebuchet MS"/>
              </a:rPr>
              <a:t>Interstit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" descr=""/>
          <p:cNvPicPr/>
          <p:nvPr/>
        </p:nvPicPr>
        <p:blipFill>
          <a:blip r:embed="rId1"/>
          <a:srcRect l="0" t="0" r="0" b="3810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2701440" y="5637960"/>
            <a:ext cx="383832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pace of  Dis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365360" y="1585080"/>
            <a:ext cx="286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enestr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othel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6240" y="53474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epatocy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Hepatic Sinusoid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557280" y="2681280"/>
            <a:ext cx="8053200" cy="322092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Plug Fl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22440" y="482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Delayed Wave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658800" y="2440080"/>
            <a:ext cx="77994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7" name=""/>
          <p:cNvGrpSpPr/>
          <p:nvPr/>
        </p:nvGrpSpPr>
        <p:grpSpPr>
          <a:xfrm>
            <a:off x="1155600" y="2463840"/>
            <a:ext cx="6875280" cy="706320"/>
            <a:chOff x="1155600" y="2463840"/>
            <a:chExt cx="6875280" cy="706320"/>
          </a:xfrm>
        </p:grpSpPr>
        <p:grpSp>
          <p:nvGrpSpPr>
            <p:cNvPr id="858" name=""/>
            <p:cNvGrpSpPr/>
            <p:nvPr/>
          </p:nvGrpSpPr>
          <p:grpSpPr>
            <a:xfrm>
              <a:off x="1155600" y="2463840"/>
              <a:ext cx="2077920" cy="706320"/>
              <a:chOff x="1155600" y="2463840"/>
              <a:chExt cx="2077920" cy="706320"/>
            </a:xfrm>
          </p:grpSpPr>
          <p:sp>
            <p:nvSpPr>
              <p:cNvPr id="859" name=""/>
              <p:cNvSpPr/>
              <p:nvPr/>
            </p:nvSpPr>
            <p:spPr>
              <a:xfrm>
                <a:off x="2367360" y="2463840"/>
                <a:ext cx="26064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974320" y="2463840"/>
                <a:ext cx="25920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155600" y="2463840"/>
                <a:ext cx="25920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762200" y="2463840"/>
                <a:ext cx="25920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3570120" y="2463840"/>
              <a:ext cx="2077920" cy="706320"/>
              <a:chOff x="3570120" y="2463840"/>
              <a:chExt cx="2077920" cy="706320"/>
            </a:xfrm>
          </p:grpSpPr>
          <p:sp>
            <p:nvSpPr>
              <p:cNvPr id="864" name=""/>
              <p:cNvSpPr/>
              <p:nvPr/>
            </p:nvSpPr>
            <p:spPr>
              <a:xfrm>
                <a:off x="4781880" y="2463840"/>
                <a:ext cx="26064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388840" y="2463840"/>
                <a:ext cx="25920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570120" y="2463840"/>
                <a:ext cx="25920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76720" y="2463840"/>
                <a:ext cx="25920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5951520" y="2463840"/>
              <a:ext cx="2079360" cy="706320"/>
              <a:chOff x="5951520" y="2463840"/>
              <a:chExt cx="2079360" cy="706320"/>
            </a:xfrm>
          </p:grpSpPr>
          <p:sp>
            <p:nvSpPr>
              <p:cNvPr id="869" name=""/>
              <p:cNvSpPr/>
              <p:nvPr/>
            </p:nvSpPr>
            <p:spPr>
              <a:xfrm>
                <a:off x="7164000" y="2463840"/>
                <a:ext cx="26100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770960" y="2463840"/>
                <a:ext cx="25992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51520" y="2463840"/>
                <a:ext cx="25992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558480" y="2463840"/>
                <a:ext cx="25992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3" name=""/>
          <p:cNvGrpSpPr/>
          <p:nvPr/>
        </p:nvGrpSpPr>
        <p:grpSpPr>
          <a:xfrm>
            <a:off x="852480" y="1568520"/>
            <a:ext cx="7475040" cy="2496960"/>
            <a:chOff x="852480" y="1568520"/>
            <a:chExt cx="7475040" cy="2496960"/>
          </a:xfrm>
        </p:grpSpPr>
        <p:grpSp>
          <p:nvGrpSpPr>
            <p:cNvPr id="874" name=""/>
            <p:cNvGrpSpPr/>
            <p:nvPr/>
          </p:nvGrpSpPr>
          <p:grpSpPr>
            <a:xfrm>
              <a:off x="3241800" y="1568520"/>
              <a:ext cx="2712240" cy="2496960"/>
              <a:chOff x="3241800" y="1568520"/>
              <a:chExt cx="2712240" cy="2496960"/>
            </a:xfrm>
          </p:grpSpPr>
          <p:grpSp>
            <p:nvGrpSpPr>
              <p:cNvPr id="875" name=""/>
              <p:cNvGrpSpPr/>
              <p:nvPr/>
            </p:nvGrpSpPr>
            <p:grpSpPr>
              <a:xfrm>
                <a:off x="4208040" y="1568520"/>
                <a:ext cx="806400" cy="2496960"/>
                <a:chOff x="4208040" y="1568520"/>
                <a:chExt cx="806400" cy="2496960"/>
              </a:xfrm>
            </p:grpSpPr>
            <p:sp>
              <p:nvSpPr>
                <p:cNvPr id="876" name=""/>
                <p:cNvSpPr/>
                <p:nvPr/>
              </p:nvSpPr>
              <p:spPr>
                <a:xfrm>
                  <a:off x="4684680" y="1568520"/>
                  <a:ext cx="92880" cy="249696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921560" y="1568520"/>
                  <a:ext cx="92880" cy="249696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4208040" y="1568520"/>
                  <a:ext cx="94320" cy="249696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4446360" y="1568520"/>
                  <a:ext cx="94320" cy="249696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3241800" y="1568520"/>
                <a:ext cx="806400" cy="2496960"/>
                <a:chOff x="3241800" y="1568520"/>
                <a:chExt cx="806400" cy="249696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3715560" y="1568520"/>
                  <a:ext cx="94320" cy="249696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3953880" y="1568520"/>
                  <a:ext cx="94320" cy="249696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3241800" y="1568520"/>
                  <a:ext cx="92880" cy="249696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3478680" y="1568520"/>
                  <a:ext cx="92880" cy="249696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5" name=""/>
              <p:cNvGrpSpPr/>
              <p:nvPr/>
            </p:nvGrpSpPr>
            <p:grpSpPr>
              <a:xfrm>
                <a:off x="5147640" y="1568520"/>
                <a:ext cx="806400" cy="2496960"/>
                <a:chOff x="5147640" y="1568520"/>
                <a:chExt cx="806400" cy="249696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5624280" y="1568520"/>
                  <a:ext cx="92880" cy="249696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861160" y="1568520"/>
                  <a:ext cx="92880" cy="249696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147640" y="1568520"/>
                  <a:ext cx="94320" cy="249696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5385960" y="1568520"/>
                  <a:ext cx="94320" cy="249696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0" name=""/>
            <p:cNvGrpSpPr/>
            <p:nvPr/>
          </p:nvGrpSpPr>
          <p:grpSpPr>
            <a:xfrm>
              <a:off x="852480" y="2463840"/>
              <a:ext cx="2079360" cy="706320"/>
              <a:chOff x="852480" y="2463840"/>
              <a:chExt cx="2079360" cy="706320"/>
            </a:xfrm>
          </p:grpSpPr>
          <p:sp>
            <p:nvSpPr>
              <p:cNvPr id="891" name=""/>
              <p:cNvSpPr/>
              <p:nvPr/>
            </p:nvSpPr>
            <p:spPr>
              <a:xfrm>
                <a:off x="2064240" y="2463840"/>
                <a:ext cx="261000" cy="7063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671200" y="2463840"/>
                <a:ext cx="260640" cy="7063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52480" y="2463840"/>
                <a:ext cx="259560" cy="7063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459440" y="2463840"/>
                <a:ext cx="259200" cy="7063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6248520" y="2463840"/>
              <a:ext cx="2079000" cy="706320"/>
              <a:chOff x="6248520" y="2463840"/>
              <a:chExt cx="2079000" cy="706320"/>
            </a:xfrm>
          </p:grpSpPr>
          <p:sp>
            <p:nvSpPr>
              <p:cNvPr id="896" name=""/>
              <p:cNvSpPr/>
              <p:nvPr/>
            </p:nvSpPr>
            <p:spPr>
              <a:xfrm>
                <a:off x="7460280" y="2463840"/>
                <a:ext cx="261000" cy="7063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8066520" y="2463840"/>
                <a:ext cx="261000" cy="7063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248520" y="2463840"/>
                <a:ext cx="259560" cy="7063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854760" y="2463840"/>
                <a:ext cx="259560" cy="70632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0" name=""/>
          <p:cNvGrpSpPr/>
          <p:nvPr/>
        </p:nvGrpSpPr>
        <p:grpSpPr>
          <a:xfrm>
            <a:off x="925560" y="4335480"/>
            <a:ext cx="2732040" cy="2145960"/>
            <a:chOff x="925560" y="4335480"/>
            <a:chExt cx="2732040" cy="2145960"/>
          </a:xfrm>
        </p:grpSpPr>
        <p:grpSp>
          <p:nvGrpSpPr>
            <p:cNvPr id="901" name=""/>
            <p:cNvGrpSpPr/>
            <p:nvPr/>
          </p:nvGrpSpPr>
          <p:grpSpPr>
            <a:xfrm>
              <a:off x="1009800" y="4578480"/>
              <a:ext cx="125280" cy="1396800"/>
              <a:chOff x="1009800" y="4578480"/>
              <a:chExt cx="125280" cy="1396800"/>
            </a:xfrm>
          </p:grpSpPr>
          <p:sp>
            <p:nvSpPr>
              <p:cNvPr id="902" name=""/>
              <p:cNvSpPr/>
              <p:nvPr/>
            </p:nvSpPr>
            <p:spPr>
              <a:xfrm>
                <a:off x="1009800" y="4578480"/>
                <a:ext cx="56880" cy="13968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077840" y="4578480"/>
                <a:ext cx="57240" cy="13968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04" name=""/>
            <p:cNvSpPr/>
            <p:nvPr/>
          </p:nvSpPr>
          <p:spPr>
            <a:xfrm>
              <a:off x="925560" y="5994360"/>
              <a:ext cx="2732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961640" y="61182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539720" y="4335480"/>
              <a:ext cx="10512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Inp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5321160" y="4335480"/>
            <a:ext cx="3043440" cy="2145960"/>
            <a:chOff x="5321160" y="4335480"/>
            <a:chExt cx="3043440" cy="2145960"/>
          </a:xfrm>
        </p:grpSpPr>
        <p:sp>
          <p:nvSpPr>
            <p:cNvPr id="908" name=""/>
            <p:cNvSpPr/>
            <p:nvPr/>
          </p:nvSpPr>
          <p:spPr>
            <a:xfrm>
              <a:off x="6519960" y="4578480"/>
              <a:ext cx="55440" cy="13968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008920" y="4578480"/>
              <a:ext cx="57240" cy="1396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32560" y="5994360"/>
              <a:ext cx="2732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668640" y="61182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321160" y="4335480"/>
              <a:ext cx="1155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Outp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1160640" y="2463840"/>
            <a:ext cx="6874920" cy="706320"/>
            <a:chOff x="1160640" y="2463840"/>
            <a:chExt cx="6874920" cy="706320"/>
          </a:xfrm>
        </p:grpSpPr>
        <p:grpSp>
          <p:nvGrpSpPr>
            <p:cNvPr id="914" name=""/>
            <p:cNvGrpSpPr/>
            <p:nvPr/>
          </p:nvGrpSpPr>
          <p:grpSpPr>
            <a:xfrm>
              <a:off x="1160640" y="2463840"/>
              <a:ext cx="2077560" cy="706320"/>
              <a:chOff x="1160640" y="2463840"/>
              <a:chExt cx="2077560" cy="706320"/>
            </a:xfrm>
          </p:grpSpPr>
          <p:sp>
            <p:nvSpPr>
              <p:cNvPr id="915" name=""/>
              <p:cNvSpPr/>
              <p:nvPr/>
            </p:nvSpPr>
            <p:spPr>
              <a:xfrm>
                <a:off x="2372400" y="2463840"/>
                <a:ext cx="26064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979000" y="2463840"/>
                <a:ext cx="25920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160640" y="2463840"/>
                <a:ext cx="25920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766880" y="2463840"/>
                <a:ext cx="25920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3574800" y="2463840"/>
              <a:ext cx="2077560" cy="706320"/>
              <a:chOff x="3574800" y="2463840"/>
              <a:chExt cx="2077560" cy="706320"/>
            </a:xfrm>
          </p:grpSpPr>
          <p:sp>
            <p:nvSpPr>
              <p:cNvPr id="920" name=""/>
              <p:cNvSpPr/>
              <p:nvPr/>
            </p:nvSpPr>
            <p:spPr>
              <a:xfrm>
                <a:off x="4786560" y="2463840"/>
                <a:ext cx="26064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393160" y="2463840"/>
                <a:ext cx="25920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574800" y="2463840"/>
                <a:ext cx="25920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181040" y="2463840"/>
                <a:ext cx="25920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5956200" y="2463840"/>
              <a:ext cx="2079360" cy="706320"/>
              <a:chOff x="5956200" y="2463840"/>
              <a:chExt cx="2079360" cy="706320"/>
            </a:xfrm>
          </p:grpSpPr>
          <p:sp>
            <p:nvSpPr>
              <p:cNvPr id="925" name=""/>
              <p:cNvSpPr/>
              <p:nvPr/>
            </p:nvSpPr>
            <p:spPr>
              <a:xfrm>
                <a:off x="7168680" y="2463840"/>
                <a:ext cx="26100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775640" y="2463840"/>
                <a:ext cx="25992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956200" y="2463840"/>
                <a:ext cx="25992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562800" y="2463840"/>
                <a:ext cx="259920" cy="706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9" name=""/>
          <p:cNvGrpSpPr/>
          <p:nvPr/>
        </p:nvGrpSpPr>
        <p:grpSpPr>
          <a:xfrm>
            <a:off x="763560" y="883440"/>
            <a:ext cx="7591320" cy="3286800"/>
            <a:chOff x="763560" y="883440"/>
            <a:chExt cx="7591320" cy="3286800"/>
          </a:xfrm>
        </p:grpSpPr>
        <p:grpSp>
          <p:nvGrpSpPr>
            <p:cNvPr id="930" name=""/>
            <p:cNvGrpSpPr/>
            <p:nvPr/>
          </p:nvGrpSpPr>
          <p:grpSpPr>
            <a:xfrm>
              <a:off x="846000" y="1463760"/>
              <a:ext cx="7508880" cy="2706480"/>
              <a:chOff x="846000" y="1463760"/>
              <a:chExt cx="7508880" cy="2706480"/>
            </a:xfrm>
          </p:grpSpPr>
          <p:sp>
            <p:nvSpPr>
              <p:cNvPr id="931" name=""/>
              <p:cNvSpPr/>
              <p:nvPr/>
            </p:nvSpPr>
            <p:spPr>
              <a:xfrm>
                <a:off x="3193920" y="2314440"/>
                <a:ext cx="2765520" cy="0"/>
              </a:xfrm>
              <a:prstGeom prst="line">
                <a:avLst/>
              </a:prstGeom>
              <a:ln w="255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193920" y="3317760"/>
                <a:ext cx="2765520" cy="0"/>
              </a:xfrm>
              <a:prstGeom prst="line">
                <a:avLst/>
              </a:prstGeom>
              <a:ln w="255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46000" y="3305160"/>
                <a:ext cx="7508880" cy="865080"/>
              </a:xfrm>
              <a:custGeom>
                <a:avLst/>
                <a:gdLst/>
                <a:ahLst/>
                <a:rect l="l" t="t" r="r" b="b"/>
                <a:pathLst>
                  <a:path w="5321" h="545">
                    <a:moveTo>
                      <a:pt x="0" y="8"/>
                    </a:moveTo>
                    <a:lnTo>
                      <a:pt x="1648" y="8"/>
                    </a:lnTo>
                    <a:lnTo>
                      <a:pt x="1648" y="544"/>
                    </a:lnTo>
                    <a:lnTo>
                      <a:pt x="3656" y="544"/>
                    </a:lnTo>
                    <a:lnTo>
                      <a:pt x="3656" y="0"/>
                    </a:lnTo>
                    <a:lnTo>
                      <a:pt x="5320" y="0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46000" y="1463760"/>
                <a:ext cx="7508880" cy="865080"/>
              </a:xfrm>
              <a:custGeom>
                <a:avLst/>
                <a:gdLst/>
                <a:ahLst/>
                <a:rect l="l" t="t" r="r" b="b"/>
                <a:pathLst>
                  <a:path w="5321" h="545">
                    <a:moveTo>
                      <a:pt x="0" y="536"/>
                    </a:moveTo>
                    <a:lnTo>
                      <a:pt x="1648" y="536"/>
                    </a:lnTo>
                    <a:lnTo>
                      <a:pt x="1648" y="0"/>
                    </a:lnTo>
                    <a:lnTo>
                      <a:pt x="3656" y="0"/>
                    </a:lnTo>
                    <a:lnTo>
                      <a:pt x="3656" y="544"/>
                    </a:lnTo>
                    <a:lnTo>
                      <a:pt x="5320" y="544"/>
                    </a:lnTo>
                  </a:path>
                </a:pathLst>
              </a:custGeom>
              <a:noFill/>
              <a:ln cap="rnd"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>
              <a:off x="6409440" y="15674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rebuchet MS"/>
                </a:rPr>
                <a:t>venul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63560" y="1567440"/>
              <a:ext cx="237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rebuchet MS"/>
                </a:rPr>
                <a:t>arteriol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308400" y="883440"/>
              <a:ext cx="237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rebuchet MS"/>
                </a:rPr>
                <a:t>capillar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Delayed-Wave Model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2797200" y="243000"/>
            <a:ext cx="4048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457200" y="1523880"/>
            <a:ext cx="3290760" cy="5004000"/>
            <a:chOff x="457200" y="1523880"/>
            <a:chExt cx="3290760" cy="5004000"/>
          </a:xfrm>
        </p:grpSpPr>
        <p:sp>
          <p:nvSpPr>
            <p:cNvPr id="941" name=""/>
            <p:cNvSpPr/>
            <p:nvPr/>
          </p:nvSpPr>
          <p:spPr>
            <a:xfrm>
              <a:off x="695160" y="2327400"/>
              <a:ext cx="2813040" cy="4200480"/>
            </a:xfrm>
            <a:prstGeom prst="rect">
              <a:avLst/>
            </a:prstGeom>
            <a:noFill/>
            <a:ln w="50760">
              <a:solidFill>
                <a:srgbClr val="ccccff"/>
              </a:solidFill>
              <a:miter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57200" y="1523880"/>
              <a:ext cx="329076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Trebuchet MS"/>
                </a:rPr>
                <a:t>Compartmenta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958680" y="3094200"/>
              <a:ext cx="2285640" cy="753840"/>
              <a:chOff x="958680" y="3094200"/>
              <a:chExt cx="2285640" cy="753840"/>
            </a:xfrm>
          </p:grpSpPr>
          <p:grpSp>
            <p:nvGrpSpPr>
              <p:cNvPr id="944" name=""/>
              <p:cNvGrpSpPr/>
              <p:nvPr/>
            </p:nvGrpSpPr>
            <p:grpSpPr>
              <a:xfrm>
                <a:off x="1713240" y="3364920"/>
                <a:ext cx="748440" cy="211680"/>
                <a:chOff x="1713240" y="3364920"/>
                <a:chExt cx="748440" cy="21168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1713240" y="3364920"/>
                  <a:ext cx="74844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1713240" y="3576600"/>
                  <a:ext cx="74844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7" name=""/>
              <p:cNvSpPr/>
              <p:nvPr/>
            </p:nvSpPr>
            <p:spPr>
              <a:xfrm>
                <a:off x="958680" y="3094200"/>
                <a:ext cx="646920" cy="753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597400" y="3094200"/>
                <a:ext cx="646920" cy="753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9" name=""/>
          <p:cNvGrpSpPr/>
          <p:nvPr/>
        </p:nvGrpSpPr>
        <p:grpSpPr>
          <a:xfrm>
            <a:off x="1066320" y="4419720"/>
            <a:ext cx="2071080" cy="1623960"/>
            <a:chOff x="1066320" y="4419720"/>
            <a:chExt cx="2071080" cy="1623960"/>
          </a:xfrm>
        </p:grpSpPr>
        <p:sp>
          <p:nvSpPr>
            <p:cNvPr id="950" name=""/>
            <p:cNvSpPr/>
            <p:nvPr/>
          </p:nvSpPr>
          <p:spPr>
            <a:xfrm>
              <a:off x="1066320" y="4419720"/>
              <a:ext cx="48024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7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4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398240" y="4419720"/>
              <a:ext cx="5137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7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10960" y="5238720"/>
              <a:ext cx="48024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7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4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442520" y="5238720"/>
              <a:ext cx="34740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7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4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163520" y="5218200"/>
              <a:ext cx="541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721160" y="4791240"/>
              <a:ext cx="65700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7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4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192400" y="4791240"/>
              <a:ext cx="94500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700" spc="-1" strike="noStrike">
                  <a:solidFill>
                    <a:srgbClr val="ffffff"/>
                  </a:solidFill>
                  <a:latin typeface="Times New Roman"/>
                </a:rPr>
                <a:t>Aq</a:t>
              </a:r>
              <a:endParaRPr b="0" lang="en-US" sz="4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4038480" y="1523880"/>
            <a:ext cx="4718160" cy="5004000"/>
            <a:chOff x="4038480" y="1523880"/>
            <a:chExt cx="4718160" cy="5004000"/>
          </a:xfrm>
        </p:grpSpPr>
        <p:grpSp>
          <p:nvGrpSpPr>
            <p:cNvPr id="958" name=""/>
            <p:cNvGrpSpPr/>
            <p:nvPr/>
          </p:nvGrpSpPr>
          <p:grpSpPr>
            <a:xfrm>
              <a:off x="4154400" y="2903400"/>
              <a:ext cx="4484880" cy="1109880"/>
              <a:chOff x="4154400" y="2903400"/>
              <a:chExt cx="4484880" cy="1109880"/>
            </a:xfrm>
          </p:grpSpPr>
          <p:grpSp>
            <p:nvGrpSpPr>
              <p:cNvPr id="959" name=""/>
              <p:cNvGrpSpPr/>
              <p:nvPr/>
            </p:nvGrpSpPr>
            <p:grpSpPr>
              <a:xfrm>
                <a:off x="4613400" y="2903400"/>
                <a:ext cx="3565440" cy="1109880"/>
                <a:chOff x="4613400" y="2903400"/>
                <a:chExt cx="3565440" cy="110988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4613400" y="2903400"/>
                  <a:ext cx="3565440" cy="543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4613400" y="3470400"/>
                  <a:ext cx="426960" cy="5428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062680" y="3470400"/>
                  <a:ext cx="425520" cy="5428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510520" y="3470400"/>
                  <a:ext cx="426960" cy="5428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958000" y="3470400"/>
                  <a:ext cx="428760" cy="5428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405840" y="3470400"/>
                  <a:ext cx="428400" cy="5428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6853320" y="3470400"/>
                  <a:ext cx="428760" cy="5428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7302600" y="3470400"/>
                  <a:ext cx="426960" cy="5428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750440" y="3470400"/>
                  <a:ext cx="428400" cy="5428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477072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488160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21820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33088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66748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77872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611532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622800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656280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667548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01208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12332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45992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57260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90920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802188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5" name=""/>
              <p:cNvSpPr/>
              <p:nvPr/>
            </p:nvSpPr>
            <p:spPr>
              <a:xfrm>
                <a:off x="4154400" y="3033720"/>
                <a:ext cx="393840" cy="282600"/>
              </a:xfrm>
              <a:prstGeom prst="rightArrow">
                <a:avLst>
                  <a:gd name="adj1" fmla="val 75000"/>
                  <a:gd name="adj2" fmla="val 69688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8245440" y="3033720"/>
                <a:ext cx="393840" cy="282600"/>
              </a:xfrm>
              <a:prstGeom prst="rightArrow">
                <a:avLst>
                  <a:gd name="adj1" fmla="val 75000"/>
                  <a:gd name="adj2" fmla="val 69688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4038480" y="1523880"/>
              <a:ext cx="4718160" cy="5004000"/>
              <a:chOff x="4038480" y="1523880"/>
              <a:chExt cx="4718160" cy="5004000"/>
            </a:xfrm>
          </p:grpSpPr>
          <p:sp>
            <p:nvSpPr>
              <p:cNvPr id="988" name=""/>
              <p:cNvSpPr/>
              <p:nvPr/>
            </p:nvSpPr>
            <p:spPr>
              <a:xfrm>
                <a:off x="4038480" y="2327400"/>
                <a:ext cx="4718160" cy="4200480"/>
              </a:xfrm>
              <a:prstGeom prst="rect">
                <a:avLst/>
              </a:prstGeom>
              <a:noFill/>
              <a:ln w="50760">
                <a:solidFill>
                  <a:srgbClr val="ccccff"/>
                </a:solidFill>
                <a:miter/>
              </a:ln>
              <a:effectLst>
                <a:outerShdw dist="17819" dir="2700000" blurRad="0" rotWithShape="0">
                  <a:srgbClr val="79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095800" y="1523880"/>
                <a:ext cx="2603520" cy="10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ffff"/>
                    </a:solidFill>
                    <a:latin typeface="Trebuchet MS"/>
                  </a:rPr>
                  <a:t>Distributed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0" name=""/>
          <p:cNvGrpSpPr/>
          <p:nvPr/>
        </p:nvGrpSpPr>
        <p:grpSpPr>
          <a:xfrm>
            <a:off x="4647960" y="4621320"/>
            <a:ext cx="3486960" cy="1549800"/>
            <a:chOff x="4647960" y="4621320"/>
            <a:chExt cx="3486960" cy="1549800"/>
          </a:xfrm>
        </p:grpSpPr>
        <p:sp>
          <p:nvSpPr>
            <p:cNvPr id="991" name=""/>
            <p:cNvSpPr/>
            <p:nvPr/>
          </p:nvSpPr>
          <p:spPr>
            <a:xfrm>
              <a:off x="4647960" y="4621320"/>
              <a:ext cx="4802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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912200" y="4621320"/>
              <a:ext cx="4298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690440" y="5411880"/>
              <a:ext cx="4802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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953960" y="5411880"/>
              <a:ext cx="33696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757400" y="5386320"/>
              <a:ext cx="469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279040" y="4992840"/>
              <a:ext cx="50760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666400" y="4992840"/>
              <a:ext cx="7408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243120" y="4621320"/>
              <a:ext cx="4802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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506280" y="4621320"/>
              <a:ext cx="4298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243120" y="5411880"/>
              <a:ext cx="4802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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506280" y="5411880"/>
              <a:ext cx="4298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351480" y="5386320"/>
              <a:ext cx="469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56560" y="4992840"/>
              <a:ext cx="62640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301160" y="4992840"/>
              <a:ext cx="83376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Mass Transfer Systems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62000" y="417600"/>
            <a:ext cx="441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5405400" y="182520"/>
            <a:ext cx="3618000" cy="6408720"/>
            <a:chOff x="5405400" y="182520"/>
            <a:chExt cx="3618000" cy="6408720"/>
          </a:xfrm>
        </p:grpSpPr>
        <p:sp>
          <p:nvSpPr>
            <p:cNvPr id="1008" name=""/>
            <p:cNvSpPr/>
            <p:nvPr/>
          </p:nvSpPr>
          <p:spPr>
            <a:xfrm>
              <a:off x="5405400" y="182520"/>
              <a:ext cx="3618000" cy="6408720"/>
            </a:xfrm>
            <a:prstGeom prst="rect">
              <a:avLst/>
            </a:prstGeom>
            <a:noFill/>
            <a:ln w="76320">
              <a:solidFill>
                <a:srgbClr val="ccccff"/>
              </a:solidFill>
              <a:miter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418000" y="374760"/>
              <a:ext cx="3381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rebuchet MS"/>
                </a:rPr>
                <a:t>Matrix nota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6195600" y="1241280"/>
              <a:ext cx="2129400" cy="1551240"/>
              <a:chOff x="6195600" y="1241280"/>
              <a:chExt cx="2129400" cy="1551240"/>
            </a:xfrm>
          </p:grpSpPr>
          <p:sp>
            <p:nvSpPr>
              <p:cNvPr id="1011" name=""/>
              <p:cNvSpPr/>
              <p:nvPr/>
            </p:nvSpPr>
            <p:spPr>
              <a:xfrm>
                <a:off x="6267960" y="1987560"/>
                <a:ext cx="646200" cy="80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7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r>
                  <a:rPr b="0" i="1" lang="en-US" sz="47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4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195600" y="1241280"/>
                <a:ext cx="812520" cy="80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700" spc="-1" strike="noStrike">
                    <a:solidFill>
                      <a:srgbClr val="ffffff"/>
                    </a:solidFill>
                    <a:latin typeface="Times New Roman"/>
                  </a:rPr>
                  <a:t>d</a:t>
                </a:r>
                <a:r>
                  <a:rPr b="1" lang="en-US" sz="47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endParaRPr b="0" lang="en-US" sz="4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291720" y="2081160"/>
                <a:ext cx="5407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909120" y="1630440"/>
                <a:ext cx="657000" cy="80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7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</a:t>
                </a:r>
                <a:endParaRPr b="0" lang="en-US" sz="4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380000" y="1630440"/>
                <a:ext cx="945000" cy="80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700" spc="-1" strike="noStrike">
                    <a:solidFill>
                      <a:srgbClr val="ffffff"/>
                    </a:solidFill>
                    <a:latin typeface="Times New Roman"/>
                  </a:rPr>
                  <a:t>Aq</a:t>
                </a:r>
                <a:endParaRPr b="0" lang="en-US" sz="4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6298560" y="2778120"/>
              <a:ext cx="1851480" cy="1690920"/>
              <a:chOff x="6298560" y="2778120"/>
              <a:chExt cx="1851480" cy="1690920"/>
            </a:xfrm>
          </p:grpSpPr>
          <p:sp>
            <p:nvSpPr>
              <p:cNvPr id="1017" name=""/>
              <p:cNvSpPr/>
              <p:nvPr/>
            </p:nvSpPr>
            <p:spPr>
              <a:xfrm>
                <a:off x="6969600" y="2779560"/>
                <a:ext cx="682920" cy="80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7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</a:t>
                </a:r>
                <a:endParaRPr b="0" lang="en-US" sz="4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765920" y="2778120"/>
                <a:ext cx="384120" cy="80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7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</a:t>
                </a:r>
                <a:endParaRPr b="0" lang="en-US" sz="4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298560" y="3228840"/>
                <a:ext cx="513720" cy="80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7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endParaRPr b="0" lang="en-US" sz="4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599880" y="3228840"/>
                <a:ext cx="657000" cy="80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7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</a:t>
                </a:r>
                <a:endParaRPr b="0" lang="en-US" sz="4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364160" y="2903400"/>
                <a:ext cx="422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340400" y="3797280"/>
                <a:ext cx="4222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970680" y="3664080"/>
                <a:ext cx="682920" cy="80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7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</a:t>
                </a:r>
                <a:endParaRPr b="0" lang="en-US" sz="4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970680" y="3129120"/>
                <a:ext cx="682920" cy="80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7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</a:t>
                </a:r>
                <a:endParaRPr b="0" lang="en-US" sz="4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765920" y="3664080"/>
                <a:ext cx="384120" cy="80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7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</a:t>
                </a:r>
                <a:endParaRPr b="0" lang="en-US" sz="4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765920" y="3129120"/>
                <a:ext cx="384120" cy="80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7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</a:t>
                </a:r>
                <a:endParaRPr b="0" lang="en-US" sz="4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6270120" y="4656240"/>
              <a:ext cx="69336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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466960" y="5079960"/>
              <a:ext cx="11188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665760" y="4780080"/>
              <a:ext cx="6462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756120" y="5673600"/>
              <a:ext cx="493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805520" y="4780080"/>
              <a:ext cx="493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287840" y="5661000"/>
              <a:ext cx="1368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1</a:t>
              </a:r>
              <a:r>
                <a:rPr b="0" i="1" lang="en-US" sz="2400" spc="-1" strike="noStrike">
                  <a:solidFill>
                    <a:srgbClr val="00cc99"/>
                  </a:solidFill>
                  <a:latin typeface="Times New Roman"/>
                </a:rPr>
                <a:t>+k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20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270120" y="5540400"/>
              <a:ext cx="69336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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372360" y="5005440"/>
              <a:ext cx="3744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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596080" y="4656240"/>
              <a:ext cx="38880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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596080" y="5540400"/>
              <a:ext cx="38880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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596080" y="5005440"/>
              <a:ext cx="38880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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348120" y="2057400"/>
            <a:ext cx="4419720" cy="4312440"/>
            <a:chOff x="348120" y="2057400"/>
            <a:chExt cx="4419720" cy="4312440"/>
          </a:xfrm>
        </p:grpSpPr>
        <p:sp>
          <p:nvSpPr>
            <p:cNvPr id="1039" name=""/>
            <p:cNvSpPr/>
            <p:nvPr/>
          </p:nvSpPr>
          <p:spPr>
            <a:xfrm>
              <a:off x="348120" y="3567960"/>
              <a:ext cx="7070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07960" y="4325400"/>
              <a:ext cx="4982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29840" y="4232880"/>
              <a:ext cx="638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105920" y="3912840"/>
              <a:ext cx="504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600920" y="3912840"/>
              <a:ext cx="112320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2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72440" y="3912840"/>
              <a:ext cx="4190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440160" y="3912840"/>
              <a:ext cx="91908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1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11120" y="5703840"/>
              <a:ext cx="6771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148040" y="5380920"/>
              <a:ext cx="504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740960" y="5380920"/>
              <a:ext cx="302688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2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– (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1</a:t>
              </a:r>
              <a:r>
                <a:rPr b="0" i="1" lang="en-US" sz="3200" spc="-1" strike="noStrike">
                  <a:solidFill>
                    <a:srgbClr val="00cc99"/>
                  </a:solidFill>
                  <a:latin typeface="Times New Roman"/>
                </a:rPr>
                <a:t>+k</a:t>
              </a:r>
              <a:r>
                <a:rPr b="0" lang="en-US" sz="3200" spc="-1" strike="noStrike" baseline="-25000">
                  <a:solidFill>
                    <a:srgbClr val="00cc99"/>
                  </a:solidFill>
                  <a:latin typeface="Times New Roman"/>
                </a:rPr>
                <a:t>20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07960" y="5793480"/>
              <a:ext cx="4982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48120" y="5024160"/>
              <a:ext cx="7070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1" name=""/>
            <p:cNvGrpSpPr/>
            <p:nvPr/>
          </p:nvGrpSpPr>
          <p:grpSpPr>
            <a:xfrm>
              <a:off x="695160" y="2057400"/>
              <a:ext cx="3831120" cy="1602000"/>
              <a:chOff x="695160" y="2057400"/>
              <a:chExt cx="3831120" cy="1602000"/>
            </a:xfrm>
          </p:grpSpPr>
          <p:sp>
            <p:nvSpPr>
              <p:cNvPr id="1052" name=""/>
              <p:cNvSpPr/>
              <p:nvPr/>
            </p:nvSpPr>
            <p:spPr>
              <a:xfrm>
                <a:off x="695160" y="2314080"/>
                <a:ext cx="921960" cy="1045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3" name=""/>
              <p:cNvGrpSpPr/>
              <p:nvPr/>
            </p:nvGrpSpPr>
            <p:grpSpPr>
              <a:xfrm>
                <a:off x="1813680" y="2730960"/>
                <a:ext cx="766440" cy="211320"/>
                <a:chOff x="1813680" y="2730960"/>
                <a:chExt cx="766440" cy="21132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1813680" y="2730960"/>
                  <a:ext cx="76644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1813680" y="2942280"/>
                  <a:ext cx="76644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6" name=""/>
              <p:cNvSpPr/>
              <p:nvPr/>
            </p:nvSpPr>
            <p:spPr>
              <a:xfrm>
                <a:off x="2746080" y="2314080"/>
                <a:ext cx="921960" cy="1045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14320" y="2449440"/>
                <a:ext cx="683280" cy="774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79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66"/>
                    </a:solidFill>
                    <a:latin typeface="Trebuchet MS"/>
                  </a:rPr>
                  <a:t>1</a:t>
                </a:r>
                <a:endParaRPr b="0" lang="en-US" sz="7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865240" y="2449440"/>
                <a:ext cx="683280" cy="774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79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66"/>
                    </a:solidFill>
                    <a:latin typeface="Trebuchet MS"/>
                  </a:rPr>
                  <a:t>2</a:t>
                </a:r>
                <a:endParaRPr b="0" lang="en-US" sz="7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792600" y="2135160"/>
                <a:ext cx="597600" cy="6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cc99"/>
                    </a:solidFill>
                    <a:latin typeface="Times New Roman"/>
                  </a:rPr>
                  <a:t>k</a:t>
                </a:r>
                <a:r>
                  <a:rPr b="0" lang="en-US" sz="3200" spc="-1" strike="noStrike" baseline="-25000">
                    <a:solidFill>
                      <a:srgbClr val="00cc99"/>
                    </a:solidFill>
                    <a:latin typeface="Times New Roman"/>
                  </a:rPr>
                  <a:t>2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956600" y="2057400"/>
                <a:ext cx="597600" cy="6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k</a:t>
                </a:r>
                <a:r>
                  <a:rPr b="0" lang="en-US" sz="3200" spc="-1" strike="noStrike" baseline="-25000">
                    <a:solidFill>
                      <a:srgbClr val="ffffff"/>
                    </a:solidFill>
                    <a:latin typeface="Times New Roman"/>
                  </a:rPr>
                  <a:t>1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956600" y="3015720"/>
                <a:ext cx="597600" cy="6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k</a:t>
                </a:r>
                <a:r>
                  <a:rPr b="0" lang="en-US" sz="3200" spc="-1" strike="noStrike" baseline="-25000">
                    <a:solidFill>
                      <a:srgbClr val="ffffff"/>
                    </a:solidFill>
                    <a:latin typeface="Times New Roman"/>
                  </a:rPr>
                  <a:t>2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760200" y="2836800"/>
                <a:ext cx="766080" cy="0"/>
              </a:xfrm>
              <a:prstGeom prst="line">
                <a:avLst/>
              </a:prstGeom>
              <a:ln w="507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rebuchet MS"/>
              </a:rPr>
              <a:t>Linear Compartmental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Trebuchet MS"/>
              </a:rPr>
              <a:t> System</a:t>
            </a:r>
            <a:endParaRPr b="1" lang="en-US" sz="32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378240" y="3487680"/>
            <a:ext cx="1520640" cy="1884600"/>
          </a:xfrm>
          <a:custGeom>
            <a:avLst/>
            <a:gdLst/>
            <a:ahLst/>
            <a:rect l="l" t="t" r="r" b="b"/>
            <a:pathLst>
              <a:path w="958" h="1187">
                <a:moveTo>
                  <a:pt x="397" y="14"/>
                </a:moveTo>
                <a:cubicBezTo>
                  <a:pt x="481" y="10"/>
                  <a:pt x="565" y="0"/>
                  <a:pt x="650" y="4"/>
                </a:cubicBezTo>
                <a:cubicBezTo>
                  <a:pt x="672" y="4"/>
                  <a:pt x="716" y="24"/>
                  <a:pt x="716" y="24"/>
                </a:cubicBezTo>
                <a:cubicBezTo>
                  <a:pt x="752" y="50"/>
                  <a:pt x="838" y="126"/>
                  <a:pt x="870" y="165"/>
                </a:cubicBezTo>
                <a:cubicBezTo>
                  <a:pt x="904" y="213"/>
                  <a:pt x="910" y="267"/>
                  <a:pt x="925" y="316"/>
                </a:cubicBezTo>
                <a:cubicBezTo>
                  <a:pt x="932" y="367"/>
                  <a:pt x="945" y="407"/>
                  <a:pt x="958" y="457"/>
                </a:cubicBezTo>
                <a:cubicBezTo>
                  <a:pt x="954" y="510"/>
                  <a:pt x="950" y="564"/>
                  <a:pt x="947" y="619"/>
                </a:cubicBezTo>
                <a:cubicBezTo>
                  <a:pt x="936" y="799"/>
                  <a:pt x="880" y="854"/>
                  <a:pt x="800" y="1019"/>
                </a:cubicBezTo>
                <a:cubicBezTo>
                  <a:pt x="762" y="1059"/>
                  <a:pt x="756" y="1130"/>
                  <a:pt x="694" y="1143"/>
                </a:cubicBezTo>
                <a:cubicBezTo>
                  <a:pt x="662" y="1165"/>
                  <a:pt x="640" y="1180"/>
                  <a:pt x="608" y="1184"/>
                </a:cubicBezTo>
                <a:cubicBezTo>
                  <a:pt x="575" y="1187"/>
                  <a:pt x="531" y="1175"/>
                  <a:pt x="496" y="1163"/>
                </a:cubicBezTo>
                <a:cubicBezTo>
                  <a:pt x="448" y="1159"/>
                  <a:pt x="443" y="1158"/>
                  <a:pt x="395" y="1110"/>
                </a:cubicBezTo>
                <a:cubicBezTo>
                  <a:pt x="341" y="1067"/>
                  <a:pt x="318" y="1036"/>
                  <a:pt x="272" y="1008"/>
                </a:cubicBezTo>
                <a:cubicBezTo>
                  <a:pt x="253" y="955"/>
                  <a:pt x="195" y="940"/>
                  <a:pt x="171" y="891"/>
                </a:cubicBezTo>
                <a:cubicBezTo>
                  <a:pt x="133" y="812"/>
                  <a:pt x="84" y="740"/>
                  <a:pt x="55" y="659"/>
                </a:cubicBezTo>
                <a:cubicBezTo>
                  <a:pt x="44" y="572"/>
                  <a:pt x="29" y="489"/>
                  <a:pt x="0" y="407"/>
                </a:cubicBezTo>
                <a:cubicBezTo>
                  <a:pt x="0" y="324"/>
                  <a:pt x="5" y="223"/>
                  <a:pt x="55" y="165"/>
                </a:cubicBezTo>
                <a:cubicBezTo>
                  <a:pt x="120" y="92"/>
                  <a:pt x="200" y="72"/>
                  <a:pt x="297" y="54"/>
                </a:cubicBezTo>
                <a:cubicBezTo>
                  <a:pt x="333" y="20"/>
                  <a:pt x="346" y="14"/>
                  <a:pt x="397" y="14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84560" y="4095720"/>
            <a:ext cx="373320" cy="179280"/>
          </a:xfrm>
          <a:custGeom>
            <a:avLst/>
            <a:gdLst/>
            <a:ahLst/>
            <a:rect l="l" t="t" r="r" b="b"/>
            <a:pathLst>
              <a:path w="224" h="92">
                <a:moveTo>
                  <a:pt x="0" y="10"/>
                </a:moveTo>
                <a:cubicBezTo>
                  <a:pt x="41" y="0"/>
                  <a:pt x="79" y="13"/>
                  <a:pt x="121" y="22"/>
                </a:cubicBezTo>
                <a:cubicBezTo>
                  <a:pt x="151" y="31"/>
                  <a:pt x="166" y="32"/>
                  <a:pt x="184" y="44"/>
                </a:cubicBezTo>
                <a:cubicBezTo>
                  <a:pt x="201" y="55"/>
                  <a:pt x="215" y="82"/>
                  <a:pt x="224" y="92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72040" y="2925720"/>
            <a:ext cx="2114640" cy="2813040"/>
          </a:xfrm>
          <a:custGeom>
            <a:avLst/>
            <a:gdLst/>
            <a:ahLst/>
            <a:rect l="l" t="t" r="r" b="b"/>
            <a:pathLst>
              <a:path w="1332" h="1772">
                <a:moveTo>
                  <a:pt x="52" y="1005"/>
                </a:moveTo>
                <a:cubicBezTo>
                  <a:pt x="73" y="854"/>
                  <a:pt x="0" y="201"/>
                  <a:pt x="187" y="101"/>
                </a:cubicBezTo>
                <a:cubicBezTo>
                  <a:pt x="373" y="0"/>
                  <a:pt x="1005" y="165"/>
                  <a:pt x="1169" y="403"/>
                </a:cubicBezTo>
                <a:cubicBezTo>
                  <a:pt x="1332" y="640"/>
                  <a:pt x="1259" y="1297"/>
                  <a:pt x="1169" y="1526"/>
                </a:cubicBezTo>
                <a:cubicBezTo>
                  <a:pt x="1077" y="1754"/>
                  <a:pt x="736" y="1720"/>
                  <a:pt x="622" y="1772"/>
                </a:cubicBezTo>
              </a:path>
            </a:pathLst>
          </a:custGeom>
          <a:noFill/>
          <a:ln w="190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97160" y="3913200"/>
            <a:ext cx="1123920" cy="2106720"/>
          </a:xfrm>
          <a:custGeom>
            <a:avLst/>
            <a:gdLst/>
            <a:ahLst/>
            <a:rect l="l" t="t" r="r" b="b"/>
            <a:pathLst>
              <a:path w="708" h="1327">
                <a:moveTo>
                  <a:pt x="201" y="1327"/>
                </a:moveTo>
                <a:cubicBezTo>
                  <a:pt x="171" y="1241"/>
                  <a:pt x="39" y="966"/>
                  <a:pt x="20" y="815"/>
                </a:cubicBezTo>
                <a:cubicBezTo>
                  <a:pt x="0" y="663"/>
                  <a:pt x="40" y="531"/>
                  <a:pt x="84" y="420"/>
                </a:cubicBezTo>
                <a:cubicBezTo>
                  <a:pt x="127" y="308"/>
                  <a:pt x="180" y="216"/>
                  <a:pt x="284" y="147"/>
                </a:cubicBezTo>
                <a:cubicBezTo>
                  <a:pt x="387" y="77"/>
                  <a:pt x="619" y="30"/>
                  <a:pt x="708" y="0"/>
                </a:cubicBezTo>
              </a:path>
            </a:pathLst>
          </a:custGeom>
          <a:noFill/>
          <a:ln w="19044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92440" y="228600"/>
            <a:ext cx="1038240" cy="2262240"/>
          </a:xfrm>
          <a:custGeom>
            <a:avLst/>
            <a:gdLst/>
            <a:ahLst/>
            <a:rect l="l" t="t" r="r" b="b"/>
            <a:pathLst>
              <a:path w="654" h="1425">
                <a:moveTo>
                  <a:pt x="654" y="1117"/>
                </a:moveTo>
                <a:cubicBezTo>
                  <a:pt x="613" y="1280"/>
                  <a:pt x="414" y="1106"/>
                  <a:pt x="334" y="1146"/>
                </a:cubicBezTo>
                <a:cubicBezTo>
                  <a:pt x="254" y="1186"/>
                  <a:pt x="224" y="1425"/>
                  <a:pt x="174" y="1357"/>
                </a:cubicBezTo>
                <a:cubicBezTo>
                  <a:pt x="123" y="1288"/>
                  <a:pt x="0" y="939"/>
                  <a:pt x="30" y="733"/>
                </a:cubicBezTo>
                <a:cubicBezTo>
                  <a:pt x="59" y="526"/>
                  <a:pt x="258" y="212"/>
                  <a:pt x="350" y="118"/>
                </a:cubicBezTo>
                <a:cubicBezTo>
                  <a:pt x="441" y="23"/>
                  <a:pt x="528" y="0"/>
                  <a:pt x="579" y="167"/>
                </a:cubicBezTo>
                <a:cubicBezTo>
                  <a:pt x="629" y="333"/>
                  <a:pt x="638" y="919"/>
                  <a:pt x="654" y="1117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835440" y="228600"/>
            <a:ext cx="1038240" cy="2262240"/>
          </a:xfrm>
          <a:custGeom>
            <a:avLst/>
            <a:gdLst/>
            <a:ahLst/>
            <a:rect l="l" t="t" r="r" b="b"/>
            <a:pathLst>
              <a:path w="654" h="1425">
                <a:moveTo>
                  <a:pt x="654" y="1117"/>
                </a:moveTo>
                <a:cubicBezTo>
                  <a:pt x="613" y="1280"/>
                  <a:pt x="414" y="1106"/>
                  <a:pt x="334" y="1146"/>
                </a:cubicBezTo>
                <a:cubicBezTo>
                  <a:pt x="254" y="1186"/>
                  <a:pt x="224" y="1425"/>
                  <a:pt x="174" y="1357"/>
                </a:cubicBezTo>
                <a:cubicBezTo>
                  <a:pt x="123" y="1288"/>
                  <a:pt x="0" y="939"/>
                  <a:pt x="30" y="733"/>
                </a:cubicBezTo>
                <a:cubicBezTo>
                  <a:pt x="59" y="526"/>
                  <a:pt x="258" y="212"/>
                  <a:pt x="350" y="118"/>
                </a:cubicBezTo>
                <a:cubicBezTo>
                  <a:pt x="441" y="23"/>
                  <a:pt x="528" y="0"/>
                  <a:pt x="579" y="167"/>
                </a:cubicBezTo>
                <a:cubicBezTo>
                  <a:pt x="629" y="333"/>
                  <a:pt x="638" y="919"/>
                  <a:pt x="654" y="1117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5491800" y="4491720"/>
            <a:ext cx="701640" cy="404640"/>
          </a:xfrm>
          <a:prstGeom prst="rightArrow">
            <a:avLst>
              <a:gd name="adj1" fmla="val 50000"/>
              <a:gd name="adj2" fmla="val 4335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 rot="16200000">
            <a:off x="1049760" y="4776840"/>
            <a:ext cx="701640" cy="405000"/>
          </a:xfrm>
          <a:prstGeom prst="rightArrow">
            <a:avLst>
              <a:gd name="adj1" fmla="val 50000"/>
              <a:gd name="adj2" fmla="val 43311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56080" y="2108160"/>
            <a:ext cx="419040" cy="2133720"/>
          </a:xfrm>
          <a:custGeom>
            <a:avLst/>
            <a:gdLst/>
            <a:ahLst/>
            <a:rect l="l" t="t" r="r" b="b"/>
            <a:pathLst>
              <a:path w="264" h="1344">
                <a:moveTo>
                  <a:pt x="264" y="1344"/>
                </a:moveTo>
                <a:cubicBezTo>
                  <a:pt x="249" y="1255"/>
                  <a:pt x="207" y="937"/>
                  <a:pt x="179" y="820"/>
                </a:cubicBezTo>
                <a:cubicBezTo>
                  <a:pt x="150" y="702"/>
                  <a:pt x="112" y="703"/>
                  <a:pt x="92" y="636"/>
                </a:cubicBezTo>
                <a:cubicBezTo>
                  <a:pt x="69" y="569"/>
                  <a:pt x="62" y="521"/>
                  <a:pt x="47" y="415"/>
                </a:cubicBezTo>
                <a:cubicBezTo>
                  <a:pt x="31" y="309"/>
                  <a:pt x="9" y="86"/>
                  <a:pt x="0" y="0"/>
                </a:cubicBezTo>
              </a:path>
            </a:pathLst>
          </a:custGeom>
          <a:noFill/>
          <a:ln w="19044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09960" y="2116080"/>
            <a:ext cx="1130400" cy="1660680"/>
          </a:xfrm>
          <a:custGeom>
            <a:avLst/>
            <a:gdLst/>
            <a:ahLst/>
            <a:rect l="l" t="t" r="r" b="b"/>
            <a:pathLst>
              <a:path w="712" h="1046">
                <a:moveTo>
                  <a:pt x="529" y="1046"/>
                </a:moveTo>
                <a:cubicBezTo>
                  <a:pt x="550" y="1030"/>
                  <a:pt x="636" y="1007"/>
                  <a:pt x="652" y="955"/>
                </a:cubicBezTo>
                <a:cubicBezTo>
                  <a:pt x="667" y="902"/>
                  <a:pt x="712" y="826"/>
                  <a:pt x="620" y="731"/>
                </a:cubicBezTo>
                <a:cubicBezTo>
                  <a:pt x="527" y="635"/>
                  <a:pt x="193" y="502"/>
                  <a:pt x="97" y="381"/>
                </a:cubicBezTo>
                <a:cubicBezTo>
                  <a:pt x="0" y="259"/>
                  <a:pt x="52" y="64"/>
                  <a:pt x="42" y="0"/>
                </a:cubicBezTo>
              </a:path>
            </a:pathLst>
          </a:custGeom>
          <a:noFill/>
          <a:ln w="190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0360" y="0"/>
            <a:ext cx="364968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rebuchet MS"/>
              </a:rPr>
              <a:t>Pulmonary uptake in vivo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5" name=""/>
          <p:cNvSpPr/>
          <p:nvPr/>
        </p:nvSpPr>
        <p:spPr>
          <a:xfrm>
            <a:off x="2643120" y="5518080"/>
            <a:ext cx="2803680" cy="106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Periphe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circ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65520" y="2116080"/>
            <a:ext cx="1117440" cy="1482840"/>
          </a:xfrm>
          <a:custGeom>
            <a:avLst/>
            <a:gdLst/>
            <a:ahLst/>
            <a:rect l="l" t="t" r="r" b="b"/>
            <a:pathLst>
              <a:path w="704" h="934">
                <a:moveTo>
                  <a:pt x="592" y="934"/>
                </a:moveTo>
                <a:cubicBezTo>
                  <a:pt x="597" y="912"/>
                  <a:pt x="704" y="889"/>
                  <a:pt x="624" y="806"/>
                </a:cubicBezTo>
                <a:cubicBezTo>
                  <a:pt x="543" y="722"/>
                  <a:pt x="211" y="566"/>
                  <a:pt x="107" y="432"/>
                </a:cubicBezTo>
                <a:cubicBezTo>
                  <a:pt x="3" y="297"/>
                  <a:pt x="17" y="71"/>
                  <a:pt x="0" y="0"/>
                </a:cubicBezTo>
              </a:path>
            </a:pathLst>
          </a:custGeom>
          <a:noFill/>
          <a:ln w="190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2049480"/>
            <a:ext cx="218880" cy="2535120"/>
          </a:xfrm>
          <a:custGeom>
            <a:avLst/>
            <a:gdLst/>
            <a:ahLst/>
            <a:rect l="l" t="t" r="r" b="b"/>
            <a:pathLst>
              <a:path w="138" h="1523">
                <a:moveTo>
                  <a:pt x="0" y="1523"/>
                </a:moveTo>
                <a:cubicBezTo>
                  <a:pt x="6" y="1411"/>
                  <a:pt x="21" y="990"/>
                  <a:pt x="39" y="847"/>
                </a:cubicBezTo>
                <a:cubicBezTo>
                  <a:pt x="56" y="703"/>
                  <a:pt x="89" y="730"/>
                  <a:pt x="104" y="663"/>
                </a:cubicBezTo>
                <a:cubicBezTo>
                  <a:pt x="121" y="596"/>
                  <a:pt x="136" y="553"/>
                  <a:pt x="137" y="442"/>
                </a:cubicBezTo>
                <a:cubicBezTo>
                  <a:pt x="138" y="332"/>
                  <a:pt x="114" y="74"/>
                  <a:pt x="109" y="0"/>
                </a:cubicBezTo>
              </a:path>
            </a:pathLst>
          </a:custGeom>
          <a:noFill/>
          <a:ln w="19044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71960" y="3556080"/>
            <a:ext cx="297000" cy="1828800"/>
          </a:xfrm>
          <a:custGeom>
            <a:avLst/>
            <a:gdLst/>
            <a:ahLst/>
            <a:rect l="l" t="t" r="r" b="b"/>
            <a:pathLst>
              <a:path w="187" h="1152">
                <a:moveTo>
                  <a:pt x="24" y="0"/>
                </a:moveTo>
                <a:cubicBezTo>
                  <a:pt x="24" y="30"/>
                  <a:pt x="26" y="88"/>
                  <a:pt x="24" y="184"/>
                </a:cubicBezTo>
                <a:cubicBezTo>
                  <a:pt x="20" y="256"/>
                  <a:pt x="0" y="457"/>
                  <a:pt x="11" y="576"/>
                </a:cubicBezTo>
                <a:cubicBezTo>
                  <a:pt x="24" y="686"/>
                  <a:pt x="65" y="816"/>
                  <a:pt x="89" y="896"/>
                </a:cubicBezTo>
                <a:cubicBezTo>
                  <a:pt x="117" y="986"/>
                  <a:pt x="166" y="1098"/>
                  <a:pt x="187" y="1152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87600" y="4133880"/>
            <a:ext cx="222480" cy="239760"/>
          </a:xfrm>
          <a:custGeom>
            <a:avLst/>
            <a:gdLst/>
            <a:ahLst/>
            <a:rect l="l" t="t" r="r" b="b"/>
            <a:pathLst>
              <a:path w="157" h="121">
                <a:moveTo>
                  <a:pt x="0" y="12"/>
                </a:moveTo>
                <a:cubicBezTo>
                  <a:pt x="22" y="0"/>
                  <a:pt x="80" y="21"/>
                  <a:pt x="102" y="33"/>
                </a:cubicBezTo>
                <a:cubicBezTo>
                  <a:pt x="116" y="68"/>
                  <a:pt x="138" y="91"/>
                  <a:pt x="157" y="121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00440" y="4076640"/>
            <a:ext cx="284400" cy="204840"/>
          </a:xfrm>
          <a:custGeom>
            <a:avLst/>
            <a:gdLst/>
            <a:ahLst/>
            <a:rect l="l" t="t" r="r" b="b"/>
            <a:pathLst>
              <a:path w="192" h="120">
                <a:moveTo>
                  <a:pt x="192" y="0"/>
                </a:moveTo>
                <a:cubicBezTo>
                  <a:pt x="137" y="10"/>
                  <a:pt x="89" y="15"/>
                  <a:pt x="40" y="40"/>
                </a:cubicBezTo>
                <a:cubicBezTo>
                  <a:pt x="23" y="64"/>
                  <a:pt x="0" y="88"/>
                  <a:pt x="0" y="12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18080" y="4135320"/>
            <a:ext cx="237960" cy="208080"/>
          </a:xfrm>
          <a:custGeom>
            <a:avLst/>
            <a:gdLst/>
            <a:ahLst/>
            <a:rect l="l" t="t" r="r" b="b"/>
            <a:pathLst>
              <a:path w="107" h="83">
                <a:moveTo>
                  <a:pt x="64" y="3"/>
                </a:moveTo>
                <a:cubicBezTo>
                  <a:pt x="107" y="0"/>
                  <a:pt x="31" y="34"/>
                  <a:pt x="13" y="52"/>
                </a:cubicBezTo>
                <a:cubicBezTo>
                  <a:pt x="5" y="75"/>
                  <a:pt x="9" y="65"/>
                  <a:pt x="0" y="83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5520" y="384120"/>
            <a:ext cx="3972960" cy="4407120"/>
            <a:chOff x="65520" y="384120"/>
            <a:chExt cx="3972960" cy="4407120"/>
          </a:xfrm>
        </p:grpSpPr>
        <p:sp>
          <p:nvSpPr>
            <p:cNvPr id="73" name=""/>
            <p:cNvSpPr/>
            <p:nvPr/>
          </p:nvSpPr>
          <p:spPr>
            <a:xfrm>
              <a:off x="2870280" y="3137040"/>
              <a:ext cx="685800" cy="571320"/>
            </a:xfrm>
            <a:custGeom>
              <a:avLst/>
              <a:gdLst/>
              <a:ahLst/>
              <a:rect l="l" t="t" r="r" b="b"/>
              <a:pathLst>
                <a:path w="432" h="360">
                  <a:moveTo>
                    <a:pt x="432" y="360"/>
                  </a:moveTo>
                  <a:cubicBezTo>
                    <a:pt x="416" y="321"/>
                    <a:pt x="402" y="292"/>
                    <a:pt x="384" y="256"/>
                  </a:cubicBezTo>
                  <a:cubicBezTo>
                    <a:pt x="380" y="248"/>
                    <a:pt x="381" y="238"/>
                    <a:pt x="376" y="232"/>
                  </a:cubicBezTo>
                  <a:cubicBezTo>
                    <a:pt x="360" y="212"/>
                    <a:pt x="325" y="190"/>
                    <a:pt x="304" y="176"/>
                  </a:cubicBezTo>
                  <a:cubicBezTo>
                    <a:pt x="262" y="114"/>
                    <a:pt x="127" y="38"/>
                    <a:pt x="56" y="24"/>
                  </a:cubicBezTo>
                  <a:cubicBezTo>
                    <a:pt x="45" y="18"/>
                    <a:pt x="34" y="12"/>
                    <a:pt x="24" y="8"/>
                  </a:cubicBezTo>
                  <a:cubicBezTo>
                    <a:pt x="16" y="4"/>
                    <a:pt x="0" y="0"/>
                    <a:pt x="0" y="0"/>
                  </a:cubicBezTo>
                </a:path>
              </a:pathLst>
            </a:custGeom>
            <a:noFill/>
            <a:ln w="19044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38560" y="2895480"/>
              <a:ext cx="46080" cy="432000"/>
            </a:xfrm>
            <a:custGeom>
              <a:avLst/>
              <a:gdLst/>
              <a:ahLst/>
              <a:rect l="l" t="t" r="r" b="b"/>
              <a:pathLst>
                <a:path w="29" h="272">
                  <a:moveTo>
                    <a:pt x="16" y="272"/>
                  </a:moveTo>
                  <a:cubicBezTo>
                    <a:pt x="23" y="179"/>
                    <a:pt x="29" y="182"/>
                    <a:pt x="16" y="96"/>
                  </a:cubicBezTo>
                  <a:cubicBezTo>
                    <a:pt x="10" y="61"/>
                    <a:pt x="0" y="37"/>
                    <a:pt x="0" y="0"/>
                  </a:cubicBezTo>
                </a:path>
              </a:pathLst>
            </a:custGeom>
            <a:noFill/>
            <a:ln w="1522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65520" y="384120"/>
              <a:ext cx="3972960" cy="4407120"/>
              <a:chOff x="65520" y="384120"/>
              <a:chExt cx="3972960" cy="440712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1004760" y="384120"/>
                <a:ext cx="171720" cy="1066680"/>
                <a:chOff x="1004760" y="384120"/>
                <a:chExt cx="171720" cy="10666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1004760" y="612720"/>
                  <a:ext cx="171720" cy="838080"/>
                </a:xfrm>
                <a:custGeom>
                  <a:avLst/>
                  <a:gdLst/>
                  <a:ahLst/>
                  <a:rect l="l" t="t" r="r" b="b"/>
                  <a:pathLst>
                    <a:path w="144" h="528">
                      <a:moveTo>
                        <a:pt x="0" y="0"/>
                      </a:moveTo>
                      <a:lnTo>
                        <a:pt x="0" y="432"/>
                      </a:lnTo>
                      <a:lnTo>
                        <a:pt x="48" y="480"/>
                      </a:lnTo>
                      <a:lnTo>
                        <a:pt x="48" y="528"/>
                      </a:lnTo>
                      <a:lnTo>
                        <a:pt x="96" y="528"/>
                      </a:lnTo>
                      <a:lnTo>
                        <a:pt x="96" y="480"/>
                      </a:lnTo>
                      <a:lnTo>
                        <a:pt x="144" y="432"/>
                      </a:lnTo>
                      <a:lnTo>
                        <a:pt x="1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004760" y="955800"/>
                  <a:ext cx="171720" cy="495000"/>
                </a:xfrm>
                <a:custGeom>
                  <a:avLst/>
                  <a:gdLst/>
                  <a:ahLst/>
                  <a:rect l="l" t="t" r="r" b="b"/>
                  <a:pathLst>
                    <a:path w="144" h="312">
                      <a:moveTo>
                        <a:pt x="0" y="0"/>
                      </a:moveTo>
                      <a:lnTo>
                        <a:pt x="0" y="216"/>
                      </a:lnTo>
                      <a:lnTo>
                        <a:pt x="48" y="264"/>
                      </a:lnTo>
                      <a:lnTo>
                        <a:pt x="48" y="312"/>
                      </a:lnTo>
                      <a:lnTo>
                        <a:pt x="96" y="312"/>
                      </a:lnTo>
                      <a:lnTo>
                        <a:pt x="96" y="264"/>
                      </a:lnTo>
                      <a:lnTo>
                        <a:pt x="144" y="216"/>
                      </a:lnTo>
                      <a:lnTo>
                        <a:pt x="1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9c9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004760" y="384120"/>
                  <a:ext cx="171720" cy="609480"/>
                </a:xfrm>
                <a:custGeom>
                  <a:avLst/>
                  <a:gdLst/>
                  <a:ahLst/>
                  <a:rect l="l" t="t" r="r" b="b"/>
                  <a:pathLst>
                    <a:path w="144" h="384">
                      <a:moveTo>
                        <a:pt x="0" y="0"/>
                      </a:moveTo>
                      <a:lnTo>
                        <a:pt x="144" y="0"/>
                      </a:lnTo>
                      <a:lnTo>
                        <a:pt x="144" y="48"/>
                      </a:lnTo>
                      <a:lnTo>
                        <a:pt x="96" y="48"/>
                      </a:lnTo>
                      <a:lnTo>
                        <a:pt x="96" y="336"/>
                      </a:lnTo>
                      <a:lnTo>
                        <a:pt x="144" y="336"/>
                      </a:lnTo>
                      <a:lnTo>
                        <a:pt x="144" y="384"/>
                      </a:lnTo>
                      <a:lnTo>
                        <a:pt x="0" y="384"/>
                      </a:lnTo>
                      <a:lnTo>
                        <a:pt x="0" y="336"/>
                      </a:lnTo>
                      <a:lnTo>
                        <a:pt x="48" y="336"/>
                      </a:lnTo>
                      <a:lnTo>
                        <a:pt x="48" y="48"/>
                      </a:lnTo>
                      <a:lnTo>
                        <a:pt x="0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94fb4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073160" y="1473120"/>
                <a:ext cx="2965320" cy="3318120"/>
              </a:xfrm>
              <a:custGeom>
                <a:avLst/>
                <a:gdLst/>
                <a:ahLst/>
                <a:rect l="l" t="t" r="r" b="b"/>
                <a:pathLst>
                  <a:path w="1868" h="2090">
                    <a:moveTo>
                      <a:pt x="1" y="0"/>
                    </a:moveTo>
                    <a:cubicBezTo>
                      <a:pt x="13" y="94"/>
                      <a:pt x="0" y="451"/>
                      <a:pt x="75" y="574"/>
                    </a:cubicBezTo>
                    <a:cubicBezTo>
                      <a:pt x="150" y="696"/>
                      <a:pt x="317" y="704"/>
                      <a:pt x="451" y="737"/>
                    </a:cubicBezTo>
                    <a:cubicBezTo>
                      <a:pt x="584" y="769"/>
                      <a:pt x="733" y="753"/>
                      <a:pt x="875" y="770"/>
                    </a:cubicBezTo>
                    <a:cubicBezTo>
                      <a:pt x="1016" y="786"/>
                      <a:pt x="1215" y="790"/>
                      <a:pt x="1300" y="835"/>
                    </a:cubicBezTo>
                    <a:cubicBezTo>
                      <a:pt x="1384" y="879"/>
                      <a:pt x="1359" y="975"/>
                      <a:pt x="1380" y="1036"/>
                    </a:cubicBezTo>
                    <a:cubicBezTo>
                      <a:pt x="1400" y="1096"/>
                      <a:pt x="1401" y="1151"/>
                      <a:pt x="1425" y="1200"/>
                    </a:cubicBezTo>
                    <a:cubicBezTo>
                      <a:pt x="1448" y="1248"/>
                      <a:pt x="1494" y="1278"/>
                      <a:pt x="1524" y="1328"/>
                    </a:cubicBezTo>
                    <a:cubicBezTo>
                      <a:pt x="1553" y="1377"/>
                      <a:pt x="1583" y="1432"/>
                      <a:pt x="1601" y="1499"/>
                    </a:cubicBezTo>
                    <a:cubicBezTo>
                      <a:pt x="1618" y="1565"/>
                      <a:pt x="1611" y="1637"/>
                      <a:pt x="1628" y="1728"/>
                    </a:cubicBezTo>
                    <a:cubicBezTo>
                      <a:pt x="1644" y="1818"/>
                      <a:pt x="1670" y="1996"/>
                      <a:pt x="1703" y="2043"/>
                    </a:cubicBezTo>
                    <a:cubicBezTo>
                      <a:pt x="1735" y="2089"/>
                      <a:pt x="1797" y="2090"/>
                      <a:pt x="1820" y="2005"/>
                    </a:cubicBezTo>
                    <a:cubicBezTo>
                      <a:pt x="1842" y="1919"/>
                      <a:pt x="1868" y="1709"/>
                      <a:pt x="1836" y="1531"/>
                    </a:cubicBezTo>
                    <a:cubicBezTo>
                      <a:pt x="1803" y="1352"/>
                      <a:pt x="1669" y="1057"/>
                      <a:pt x="1626" y="933"/>
                    </a:cubicBezTo>
                  </a:path>
                </a:pathLst>
              </a:custGeom>
              <a:noFill/>
              <a:ln w="57240">
                <a:solidFill>
                  <a:srgbClr val="ff79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97200" y="3819960"/>
                <a:ext cx="2375280" cy="459720"/>
              </a:xfrm>
              <a:prstGeom prst="borderCallout1">
                <a:avLst>
                  <a:gd name="adj1" fmla="val 18750"/>
                  <a:gd name="adj2" fmla="val -8333"/>
                  <a:gd name="adj3" fmla="val -168152"/>
                  <a:gd name="adj4" fmla="val -32351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8080"/>
                    </a:solidFill>
                    <a:latin typeface="Times New Roman"/>
                  </a:rPr>
                  <a:t>V. jugulari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65520" y="3007080"/>
                <a:ext cx="2558160" cy="459720"/>
              </a:xfrm>
              <a:prstGeom prst="borderCallout1">
                <a:avLst>
                  <a:gd name="adj1" fmla="val 18750"/>
                  <a:gd name="adj2" fmla="val -8333"/>
                  <a:gd name="adj3" fmla="val -60092"/>
                  <a:gd name="adj4" fmla="val -37805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8080"/>
                    </a:solidFill>
                    <a:latin typeface="Times New Roman"/>
                  </a:rPr>
                  <a:t>A. pulmonari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4981680" y="2244960"/>
            <a:ext cx="4635360" cy="4370760"/>
            <a:chOff x="4981680" y="2244960"/>
            <a:chExt cx="4635360" cy="4370760"/>
          </a:xfrm>
        </p:grpSpPr>
        <p:sp>
          <p:nvSpPr>
            <p:cNvPr id="84" name=""/>
            <p:cNvSpPr/>
            <p:nvPr/>
          </p:nvSpPr>
          <p:spPr>
            <a:xfrm>
              <a:off x="4981680" y="3006720"/>
              <a:ext cx="2965320" cy="1695600"/>
            </a:xfrm>
            <a:custGeom>
              <a:avLst/>
              <a:gdLst/>
              <a:ahLst/>
              <a:rect l="l" t="t" r="r" b="b"/>
              <a:pathLst>
                <a:path w="1590" h="808">
                  <a:moveTo>
                    <a:pt x="0" y="0"/>
                  </a:moveTo>
                  <a:cubicBezTo>
                    <a:pt x="222" y="65"/>
                    <a:pt x="1081" y="257"/>
                    <a:pt x="1336" y="392"/>
                  </a:cubicBezTo>
                  <a:cubicBezTo>
                    <a:pt x="1590" y="526"/>
                    <a:pt x="1488" y="721"/>
                    <a:pt x="1528" y="808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6143760" y="4648320"/>
              <a:ext cx="3473280" cy="1967400"/>
              <a:chOff x="6143760" y="4648320"/>
              <a:chExt cx="3473280" cy="1967400"/>
            </a:xfrm>
          </p:grpSpPr>
          <p:sp>
            <p:nvSpPr>
              <p:cNvPr id="86" name=""/>
              <p:cNvSpPr/>
              <p:nvPr/>
            </p:nvSpPr>
            <p:spPr>
              <a:xfrm>
                <a:off x="6804000" y="6029280"/>
                <a:ext cx="188604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143760" y="6161040"/>
                <a:ext cx="34732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Fraction collecto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773840" y="4729320"/>
                <a:ext cx="177840" cy="865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997760" y="4729320"/>
                <a:ext cx="181080" cy="865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24920" y="4729320"/>
                <a:ext cx="182520" cy="865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448840" y="4729320"/>
                <a:ext cx="180720" cy="865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59440" y="5624640"/>
                <a:ext cx="181080" cy="176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81920" y="5624640"/>
                <a:ext cx="182520" cy="176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310520" y="5624640"/>
                <a:ext cx="180720" cy="176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537320" y="5624640"/>
                <a:ext cx="177840" cy="176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767720" y="5624640"/>
                <a:ext cx="177840" cy="176040"/>
              </a:xfrm>
              <a:prstGeom prst="ellipse">
                <a:avLst/>
              </a:prstGeom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991640" y="5624640"/>
                <a:ext cx="180720" cy="176040"/>
              </a:xfrm>
              <a:prstGeom prst="ellipse">
                <a:avLst/>
              </a:prstGeom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218440" y="5624640"/>
                <a:ext cx="182520" cy="176040"/>
              </a:xfrm>
              <a:prstGeom prst="ellipse">
                <a:avLst/>
              </a:prstGeom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442360" y="5624640"/>
                <a:ext cx="181080" cy="176040"/>
              </a:xfrm>
              <a:prstGeom prst="ellipse">
                <a:avLst/>
              </a:prstGeom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73840" y="5237280"/>
                <a:ext cx="177840" cy="474480"/>
              </a:xfrm>
              <a:prstGeom prst="rect">
                <a:avLst/>
              </a:prstGeom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97760" y="4900680"/>
                <a:ext cx="181080" cy="811080"/>
              </a:xfrm>
              <a:prstGeom prst="rect">
                <a:avLst/>
              </a:prstGeom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24920" y="4900680"/>
                <a:ext cx="182520" cy="811080"/>
              </a:xfrm>
              <a:prstGeom prst="rect">
                <a:avLst/>
              </a:prstGeom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448840" y="4900680"/>
                <a:ext cx="180720" cy="811080"/>
              </a:xfrm>
              <a:prstGeom prst="rect">
                <a:avLst/>
              </a:prstGeom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772400" y="5197320"/>
                <a:ext cx="179280" cy="74880"/>
              </a:xfrm>
              <a:prstGeom prst="ellipse">
                <a:avLst/>
              </a:prstGeom>
              <a:gradFill rotWithShape="0">
                <a:gsLst>
                  <a:gs pos="0">
                    <a:srgbClr val="4b2829"/>
                  </a:gs>
                  <a:gs pos="50000">
                    <a:srgbClr val="ff878d"/>
                  </a:gs>
                  <a:gs pos="100000">
                    <a:srgbClr val="4b28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001000" y="4859280"/>
                <a:ext cx="179280" cy="74520"/>
              </a:xfrm>
              <a:prstGeom prst="ellipse">
                <a:avLst/>
              </a:prstGeom>
              <a:gradFill rotWithShape="0">
                <a:gsLst>
                  <a:gs pos="0">
                    <a:srgbClr val="4b2829"/>
                  </a:gs>
                  <a:gs pos="50000">
                    <a:srgbClr val="ff878d"/>
                  </a:gs>
                  <a:gs pos="100000">
                    <a:srgbClr val="4b28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223120" y="4859280"/>
                <a:ext cx="181080" cy="74520"/>
              </a:xfrm>
              <a:prstGeom prst="ellipse">
                <a:avLst/>
              </a:prstGeom>
              <a:gradFill rotWithShape="0">
                <a:gsLst>
                  <a:gs pos="0">
                    <a:srgbClr val="4b2829"/>
                  </a:gs>
                  <a:gs pos="50000">
                    <a:srgbClr val="ff878d"/>
                  </a:gs>
                  <a:gs pos="100000">
                    <a:srgbClr val="4b28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445600" y="4859280"/>
                <a:ext cx="180720" cy="74520"/>
              </a:xfrm>
              <a:prstGeom prst="ellipse">
                <a:avLst/>
              </a:prstGeom>
              <a:gradFill rotWithShape="0">
                <a:gsLst>
                  <a:gs pos="0">
                    <a:srgbClr val="4b2829"/>
                  </a:gs>
                  <a:gs pos="50000">
                    <a:srgbClr val="ff878d"/>
                  </a:gs>
                  <a:gs pos="100000">
                    <a:srgbClr val="4b28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001000" y="4689360"/>
                <a:ext cx="17928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223120" y="4689360"/>
                <a:ext cx="18108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445600" y="4689360"/>
                <a:ext cx="18072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773840" y="4689360"/>
                <a:ext cx="18108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94520" y="4721400"/>
                <a:ext cx="18108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316640" y="4721400"/>
                <a:ext cx="18108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540560" y="4721400"/>
                <a:ext cx="18108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869160" y="4721400"/>
                <a:ext cx="18108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832880" y="4648320"/>
                <a:ext cx="60120" cy="82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832880" y="4886280"/>
                <a:ext cx="60120" cy="82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32880" y="5146560"/>
                <a:ext cx="60120" cy="828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865920" y="4729320"/>
                <a:ext cx="181080" cy="9856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088040" y="4729320"/>
                <a:ext cx="182880" cy="9856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316640" y="4729320"/>
                <a:ext cx="181080" cy="9856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43800" y="4729320"/>
                <a:ext cx="177840" cy="9856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093080" y="4689360"/>
                <a:ext cx="17928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315200" y="4689360"/>
                <a:ext cx="18108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37320" y="4689360"/>
                <a:ext cx="18108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65920" y="4689360"/>
                <a:ext cx="18108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6955200" y="2244960"/>
              <a:ext cx="1095120" cy="459720"/>
            </a:xfrm>
            <a:prstGeom prst="borderCallout1">
              <a:avLst>
                <a:gd name="adj1" fmla="val 18750"/>
                <a:gd name="adj2" fmla="val -8333"/>
                <a:gd name="adj3" fmla="val 167680"/>
                <a:gd name="adj4" fmla="val -186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Aor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23240" y="3327480"/>
              <a:ext cx="293400" cy="29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9440" y="3708360"/>
              <a:ext cx="282600" cy="282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2378160" y="1828800"/>
            <a:ext cx="27144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514600" y="1828800"/>
            <a:ext cx="3724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514600" y="2438280"/>
            <a:ext cx="3724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02720" y="1828800"/>
            <a:ext cx="2721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6102720" y="1828440"/>
            <a:ext cx="27216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378160" y="2666880"/>
            <a:ext cx="271440" cy="6098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514600" y="2666880"/>
            <a:ext cx="3724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514600" y="3276720"/>
            <a:ext cx="3724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02720" y="2666880"/>
            <a:ext cx="2721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6102720" y="2666160"/>
            <a:ext cx="2721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378160" y="3505320"/>
            <a:ext cx="27144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514600" y="3505320"/>
            <a:ext cx="3724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514600" y="4114800"/>
            <a:ext cx="3724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102720" y="3505320"/>
            <a:ext cx="27216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102720" y="3504240"/>
            <a:ext cx="2721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378160" y="4419720"/>
            <a:ext cx="27144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14600" y="4419720"/>
            <a:ext cx="3724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514600" y="5029200"/>
            <a:ext cx="3724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102720" y="4419720"/>
            <a:ext cx="27216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6102720" y="4418640"/>
            <a:ext cx="2721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2987640" y="2133720"/>
            <a:ext cx="2844720" cy="2590560"/>
            <a:chOff x="2987640" y="2133720"/>
            <a:chExt cx="2844720" cy="2590560"/>
          </a:xfrm>
        </p:grpSpPr>
        <p:sp>
          <p:nvSpPr>
            <p:cNvPr id="1085" name=""/>
            <p:cNvSpPr/>
            <p:nvPr/>
          </p:nvSpPr>
          <p:spPr>
            <a:xfrm>
              <a:off x="3800520" y="2133720"/>
              <a:ext cx="1218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462480" y="2895480"/>
              <a:ext cx="1693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190680" y="3809880"/>
              <a:ext cx="2438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987640" y="4724280"/>
              <a:ext cx="2844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Multicapillary Models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5562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Variable capillary flow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Variations in Capillary Flow Velocity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000080" y="800280"/>
            <a:ext cx="76867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emporal variations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ow flow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rregular flow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eriodic flow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n-off flow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ocal variations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eterogeneous perfus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apillary Recruitmen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90240" y="266400"/>
            <a:ext cx="77626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Variable Transit Time Models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Variable capillary TT, uniform large vessel T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Uniform capillary TT, variable large vessel T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Variable capillary and large vessel T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inear coupl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andom coupl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Random coupling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3116160" y="2286000"/>
            <a:ext cx="2979360" cy="2209680"/>
            <a:chOff x="3116160" y="2286000"/>
            <a:chExt cx="2979360" cy="2209680"/>
          </a:xfrm>
        </p:grpSpPr>
        <p:sp>
          <p:nvSpPr>
            <p:cNvPr id="1097" name=""/>
            <p:cNvSpPr/>
            <p:nvPr/>
          </p:nvSpPr>
          <p:spPr>
            <a:xfrm>
              <a:off x="3116160" y="2286000"/>
              <a:ext cx="201600" cy="420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218040" y="228600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218040" y="270684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893200" y="2286000"/>
              <a:ext cx="202320" cy="42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5893200" y="2286360"/>
              <a:ext cx="2023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116160" y="2865600"/>
              <a:ext cx="201600" cy="4204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18040" y="286560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218040" y="328608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893200" y="28656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5893200" y="2863440"/>
              <a:ext cx="202320" cy="42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116160" y="3443400"/>
              <a:ext cx="201600" cy="4204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218040" y="344340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218040" y="386388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893200" y="3443400"/>
              <a:ext cx="202320" cy="42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5893200" y="344412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116160" y="4075200"/>
              <a:ext cx="201600" cy="4204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18040" y="407520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218040" y="449568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893200" y="40752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5893200" y="4073040"/>
              <a:ext cx="202320" cy="42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176720" y="2496960"/>
              <a:ext cx="909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998880" y="3092400"/>
              <a:ext cx="1262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22760" y="3687840"/>
              <a:ext cx="1817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570120" y="4284720"/>
              <a:ext cx="2121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203040" y="2512440"/>
            <a:ext cx="1963440" cy="1527480"/>
            <a:chOff x="203040" y="2512440"/>
            <a:chExt cx="1963440" cy="1527480"/>
          </a:xfrm>
        </p:grpSpPr>
        <p:sp>
          <p:nvSpPr>
            <p:cNvPr id="1122" name=""/>
            <p:cNvSpPr/>
            <p:nvPr/>
          </p:nvSpPr>
          <p:spPr>
            <a:xfrm>
              <a:off x="203040" y="251460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70000" y="2514600"/>
              <a:ext cx="1830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70000" y="2805120"/>
              <a:ext cx="1830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034000" y="251460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>
              <a:off x="2034000" y="251208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03040" y="291312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70000" y="2913120"/>
              <a:ext cx="1830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70000" y="3203640"/>
              <a:ext cx="1830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034000" y="291312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2034000" y="291420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03040" y="331308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70000" y="3313080"/>
              <a:ext cx="1830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70000" y="3603600"/>
              <a:ext cx="1830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034000" y="331308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2034000" y="331056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03040" y="374796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0000" y="3747960"/>
              <a:ext cx="1830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70000" y="4038480"/>
              <a:ext cx="1830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034000" y="374796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2034000" y="374904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901800" y="2658960"/>
              <a:ext cx="600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84080" y="3070080"/>
              <a:ext cx="833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03360" y="3481560"/>
              <a:ext cx="1197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03280" y="3894120"/>
              <a:ext cx="1396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7043760" y="2512440"/>
            <a:ext cx="1964880" cy="1527480"/>
            <a:chOff x="7043760" y="2512440"/>
            <a:chExt cx="1964880" cy="1527480"/>
          </a:xfrm>
        </p:grpSpPr>
        <p:sp>
          <p:nvSpPr>
            <p:cNvPr id="1147" name=""/>
            <p:cNvSpPr/>
            <p:nvPr/>
          </p:nvSpPr>
          <p:spPr>
            <a:xfrm>
              <a:off x="7043760" y="2514600"/>
              <a:ext cx="13320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110360" y="251460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110360" y="280512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876160" y="251460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8876160" y="251208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043760" y="2913120"/>
              <a:ext cx="13320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110360" y="291312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110360" y="320364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876160" y="291312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8876160" y="291420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043760" y="3313080"/>
              <a:ext cx="13320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110360" y="331308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110360" y="360360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876160" y="331308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8876160" y="331056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043760" y="3747960"/>
              <a:ext cx="13320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110360" y="374796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110360" y="403848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876160" y="374796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8876160" y="374904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743960" y="2658960"/>
              <a:ext cx="598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626240" y="3070080"/>
              <a:ext cx="831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443720" y="3481560"/>
              <a:ext cx="119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343640" y="3894120"/>
              <a:ext cx="139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 flipV="1">
            <a:off x="2166840" y="2514240"/>
            <a:ext cx="101592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166840" y="304812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166840" y="3505320"/>
            <a:ext cx="101592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166840" y="3962520"/>
            <a:ext cx="108432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100240" y="2743200"/>
            <a:ext cx="1082520" cy="30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100240" y="2743200"/>
            <a:ext cx="1082520" cy="914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166840" y="2743200"/>
            <a:ext cx="1084320" cy="1523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2166840" y="2514600"/>
            <a:ext cx="1015920" cy="533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166840" y="3048120"/>
            <a:ext cx="1015920" cy="609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166840" y="3048120"/>
            <a:ext cx="1084320" cy="1218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2235240" y="2514600"/>
            <a:ext cx="947520" cy="990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2235240" y="3048120"/>
            <a:ext cx="94752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35240" y="3505320"/>
            <a:ext cx="94752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2166840" y="2514600"/>
            <a:ext cx="1015920" cy="1371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2166840" y="3048120"/>
            <a:ext cx="1015920" cy="838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166840" y="3657240"/>
            <a:ext cx="101592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 flipV="1">
            <a:off x="6095520" y="2514240"/>
            <a:ext cx="101628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6095520" y="30481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6095520" y="3505320"/>
            <a:ext cx="101628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6095880" y="3962520"/>
            <a:ext cx="108432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6027480" y="2666880"/>
            <a:ext cx="1096920" cy="381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6027840" y="2673360"/>
            <a:ext cx="1103040" cy="984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6095520" y="2685960"/>
            <a:ext cx="1008360" cy="15811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6095520" y="2514600"/>
            <a:ext cx="1016280" cy="533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6095520" y="3048120"/>
            <a:ext cx="1016280" cy="609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6095880" y="3060720"/>
            <a:ext cx="1014480" cy="1206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 flipV="1">
            <a:off x="6163920" y="2514600"/>
            <a:ext cx="947880" cy="990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 flipV="1">
            <a:off x="6163920" y="3048120"/>
            <a:ext cx="94788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6163920" y="3505320"/>
            <a:ext cx="947880" cy="685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 flipV="1">
            <a:off x="6095520" y="2514600"/>
            <a:ext cx="1016280" cy="1371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 flipV="1">
            <a:off x="6095520" y="3048120"/>
            <a:ext cx="1016280" cy="838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6095520" y="3657240"/>
            <a:ext cx="101628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5800" y="50284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rte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215880" y="5409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apill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196400" y="502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e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Constant capillary TT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 Variable large vessel TT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3116160" y="2286000"/>
            <a:ext cx="2979360" cy="2209680"/>
            <a:chOff x="3116160" y="2286000"/>
            <a:chExt cx="2979360" cy="2209680"/>
          </a:xfrm>
        </p:grpSpPr>
        <p:sp>
          <p:nvSpPr>
            <p:cNvPr id="1208" name=""/>
            <p:cNvSpPr/>
            <p:nvPr/>
          </p:nvSpPr>
          <p:spPr>
            <a:xfrm>
              <a:off x="3116160" y="2286000"/>
              <a:ext cx="201600" cy="420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218040" y="228600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218040" y="270684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893200" y="2286000"/>
              <a:ext cx="202320" cy="42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>
              <a:off x="5893200" y="2286360"/>
              <a:ext cx="2023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116160" y="2865600"/>
              <a:ext cx="201600" cy="4204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218040" y="286560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218040" y="328608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893200" y="28656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5893200" y="2863440"/>
              <a:ext cx="202320" cy="42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116160" y="3443400"/>
              <a:ext cx="201600" cy="4204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218040" y="344340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218040" y="386388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893200" y="3443400"/>
              <a:ext cx="202320" cy="42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5893200" y="344412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116160" y="4075200"/>
              <a:ext cx="201600" cy="4204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218040" y="407520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218040" y="449568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893200" y="40752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5893200" y="4073040"/>
              <a:ext cx="202320" cy="42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780000" y="3683160"/>
              <a:ext cx="1817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203040" y="2512440"/>
            <a:ext cx="1963440" cy="1527480"/>
            <a:chOff x="203040" y="2512440"/>
            <a:chExt cx="1963440" cy="1527480"/>
          </a:xfrm>
        </p:grpSpPr>
        <p:sp>
          <p:nvSpPr>
            <p:cNvPr id="1230" name=""/>
            <p:cNvSpPr/>
            <p:nvPr/>
          </p:nvSpPr>
          <p:spPr>
            <a:xfrm>
              <a:off x="203040" y="251460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70000" y="2514600"/>
              <a:ext cx="1830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70000" y="2805120"/>
              <a:ext cx="1830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034000" y="251460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2034000" y="251208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03040" y="291312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70000" y="2913120"/>
              <a:ext cx="1830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70000" y="3203640"/>
              <a:ext cx="1830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034000" y="291312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2034000" y="291420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03040" y="331308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70000" y="3313080"/>
              <a:ext cx="1830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70000" y="3603600"/>
              <a:ext cx="1830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034000" y="331308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2034000" y="331056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03040" y="374796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70000" y="3747960"/>
              <a:ext cx="1830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70000" y="4038480"/>
              <a:ext cx="1830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034000" y="374796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2034000" y="374904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901800" y="2658960"/>
              <a:ext cx="600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84080" y="3070080"/>
              <a:ext cx="833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03360" y="3481560"/>
              <a:ext cx="1197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03280" y="3894120"/>
              <a:ext cx="1396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7043760" y="2512440"/>
            <a:ext cx="1964880" cy="1527480"/>
            <a:chOff x="7043760" y="2512440"/>
            <a:chExt cx="1964880" cy="1527480"/>
          </a:xfrm>
        </p:grpSpPr>
        <p:sp>
          <p:nvSpPr>
            <p:cNvPr id="1255" name=""/>
            <p:cNvSpPr/>
            <p:nvPr/>
          </p:nvSpPr>
          <p:spPr>
            <a:xfrm>
              <a:off x="7043760" y="2514600"/>
              <a:ext cx="13320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110360" y="251460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110360" y="280512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876160" y="251460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8876160" y="251208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043760" y="2913120"/>
              <a:ext cx="13320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110360" y="291312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110360" y="320364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876160" y="291312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8876160" y="291420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043760" y="3313080"/>
              <a:ext cx="13320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110360" y="331308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110360" y="360360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876160" y="331308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8876160" y="331056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043760" y="3747960"/>
              <a:ext cx="13320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110360" y="374796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110360" y="403848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876160" y="374796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8876160" y="374904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743960" y="2658960"/>
              <a:ext cx="598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626240" y="3070080"/>
              <a:ext cx="831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443720" y="3481560"/>
              <a:ext cx="119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343640" y="3894120"/>
              <a:ext cx="139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9" name=""/>
          <p:cNvSpPr/>
          <p:nvPr/>
        </p:nvSpPr>
        <p:spPr>
          <a:xfrm flipV="1">
            <a:off x="2166840" y="2514240"/>
            <a:ext cx="101592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166840" y="304812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166840" y="3505320"/>
            <a:ext cx="101592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166840" y="3962520"/>
            <a:ext cx="108432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H="1" flipV="1">
            <a:off x="6095520" y="2514240"/>
            <a:ext cx="101628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6095520" y="30481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6095520" y="3505320"/>
            <a:ext cx="101628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6095880" y="3962520"/>
            <a:ext cx="108432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5800" y="50284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rte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215880" y="5409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apill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196400" y="502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e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780000" y="3090960"/>
            <a:ext cx="181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780000" y="2498760"/>
            <a:ext cx="181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780000" y="4276800"/>
            <a:ext cx="181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Variable capillary TT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Constant large vessel TT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grpSp>
        <p:nvGrpSpPr>
          <p:cNvPr id="1294" name=""/>
          <p:cNvGrpSpPr/>
          <p:nvPr/>
        </p:nvGrpSpPr>
        <p:grpSpPr>
          <a:xfrm>
            <a:off x="3116160" y="2286000"/>
            <a:ext cx="2979360" cy="2209680"/>
            <a:chOff x="3116160" y="2286000"/>
            <a:chExt cx="2979360" cy="2209680"/>
          </a:xfrm>
        </p:grpSpPr>
        <p:sp>
          <p:nvSpPr>
            <p:cNvPr id="1295" name=""/>
            <p:cNvSpPr/>
            <p:nvPr/>
          </p:nvSpPr>
          <p:spPr>
            <a:xfrm>
              <a:off x="3116160" y="2286000"/>
              <a:ext cx="201600" cy="420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218040" y="228600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218040" y="270684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893200" y="2286000"/>
              <a:ext cx="202320" cy="42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5893200" y="2286360"/>
              <a:ext cx="2023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116160" y="2865600"/>
              <a:ext cx="201600" cy="4204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218040" y="286560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218040" y="328608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893200" y="28656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5893200" y="2863440"/>
              <a:ext cx="202320" cy="42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116160" y="3443400"/>
              <a:ext cx="201600" cy="4204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218040" y="344340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218040" y="386388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893200" y="3443400"/>
              <a:ext cx="202320" cy="42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5893200" y="344412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16160" y="4075200"/>
              <a:ext cx="201600" cy="4204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218040" y="407520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218040" y="449568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893200" y="40752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5893200" y="4073040"/>
              <a:ext cx="202320" cy="42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176720" y="2496960"/>
              <a:ext cx="909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998880" y="3092400"/>
              <a:ext cx="1262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722760" y="3687840"/>
              <a:ext cx="1817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570120" y="4284720"/>
              <a:ext cx="2121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9" name=""/>
          <p:cNvSpPr/>
          <p:nvPr/>
        </p:nvSpPr>
        <p:spPr>
          <a:xfrm flipV="1">
            <a:off x="2166840" y="2514240"/>
            <a:ext cx="101592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166840" y="304812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166840" y="3505320"/>
            <a:ext cx="101592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166840" y="3962520"/>
            <a:ext cx="108432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6095520" y="2514240"/>
            <a:ext cx="101628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6095520" y="30481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6095520" y="3505320"/>
            <a:ext cx="101628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6095880" y="3962520"/>
            <a:ext cx="108432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5800" y="50284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rte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15880" y="5409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apill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196400" y="502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e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206280" y="2511360"/>
            <a:ext cx="1963440" cy="1524960"/>
            <a:chOff x="206280" y="2511360"/>
            <a:chExt cx="1963440" cy="1524960"/>
          </a:xfrm>
        </p:grpSpPr>
        <p:sp>
          <p:nvSpPr>
            <p:cNvPr id="1331" name=""/>
            <p:cNvSpPr/>
            <p:nvPr/>
          </p:nvSpPr>
          <p:spPr>
            <a:xfrm>
              <a:off x="206280" y="251136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72880" y="251136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72880" y="280188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037240" y="251460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2037240" y="251208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06280" y="290988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72880" y="290988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2880" y="320040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037240" y="290988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2037240" y="291096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06280" y="330984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72880" y="330984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2880" y="360036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7240" y="3309840"/>
              <a:ext cx="13248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2037240" y="3308040"/>
              <a:ext cx="1324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06280" y="374508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2880" y="374508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72880" y="403560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037240" y="3745080"/>
              <a:ext cx="1324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2037240" y="3746520"/>
              <a:ext cx="13248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06600" y="3475080"/>
              <a:ext cx="1196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06600" y="3063960"/>
              <a:ext cx="1196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06600" y="2654280"/>
              <a:ext cx="1196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06600" y="3886200"/>
              <a:ext cx="1196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5" name=""/>
          <p:cNvGrpSpPr/>
          <p:nvPr/>
        </p:nvGrpSpPr>
        <p:grpSpPr>
          <a:xfrm>
            <a:off x="7013520" y="2511360"/>
            <a:ext cx="1963440" cy="1524960"/>
            <a:chOff x="7013520" y="2511360"/>
            <a:chExt cx="1963440" cy="1524960"/>
          </a:xfrm>
        </p:grpSpPr>
        <p:sp>
          <p:nvSpPr>
            <p:cNvPr id="1356" name=""/>
            <p:cNvSpPr/>
            <p:nvPr/>
          </p:nvSpPr>
          <p:spPr>
            <a:xfrm>
              <a:off x="7013520" y="251136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080120" y="251136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080120" y="280188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8844480" y="251460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V="1">
              <a:off x="8844480" y="251208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013520" y="290988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080120" y="290988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080120" y="320040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844480" y="290988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8844480" y="291096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013520" y="330984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080120" y="330984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080120" y="360036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8844480" y="3309840"/>
              <a:ext cx="13248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8844480" y="3308040"/>
              <a:ext cx="1324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013520" y="374508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080120" y="374508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080120" y="403560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844480" y="3745080"/>
              <a:ext cx="1324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8844480" y="3746520"/>
              <a:ext cx="13248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413480" y="3475080"/>
              <a:ext cx="1197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413480" y="3063960"/>
              <a:ext cx="1197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413480" y="2654280"/>
              <a:ext cx="1197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413480" y="3886200"/>
              <a:ext cx="1197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Linear coupling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3251160" y="2273400"/>
            <a:ext cx="2979360" cy="2222280"/>
            <a:chOff x="3251160" y="2273400"/>
            <a:chExt cx="2979360" cy="2222280"/>
          </a:xfrm>
        </p:grpSpPr>
        <p:sp>
          <p:nvSpPr>
            <p:cNvPr id="1382" name=""/>
            <p:cNvSpPr/>
            <p:nvPr/>
          </p:nvSpPr>
          <p:spPr>
            <a:xfrm>
              <a:off x="3251160" y="2286000"/>
              <a:ext cx="201600" cy="420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352680" y="2273400"/>
              <a:ext cx="2776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352680" y="2706840"/>
              <a:ext cx="2776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028200" y="2286000"/>
              <a:ext cx="202320" cy="42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6028200" y="2286360"/>
              <a:ext cx="2023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251160" y="2865600"/>
              <a:ext cx="201600" cy="4204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52680" y="2865600"/>
              <a:ext cx="2776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352680" y="3286080"/>
              <a:ext cx="2776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028200" y="28656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6028200" y="2863440"/>
              <a:ext cx="202320" cy="42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251160" y="3443400"/>
              <a:ext cx="201600" cy="4204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352680" y="3443400"/>
              <a:ext cx="2776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352680" y="3863880"/>
              <a:ext cx="2776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028200" y="3443400"/>
              <a:ext cx="202320" cy="42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V="1">
              <a:off x="6028200" y="344412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251160" y="4075200"/>
              <a:ext cx="201600" cy="4204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352680" y="4075200"/>
              <a:ext cx="2776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352680" y="4495680"/>
              <a:ext cx="2776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028200" y="40752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6028200" y="4073040"/>
              <a:ext cx="202320" cy="42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11720" y="2496960"/>
              <a:ext cx="909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133880" y="3092400"/>
              <a:ext cx="1262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57760" y="3687840"/>
              <a:ext cx="1817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705120" y="4284720"/>
              <a:ext cx="2121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338040" y="2512440"/>
            <a:ext cx="1963440" cy="1527480"/>
            <a:chOff x="338040" y="2512440"/>
            <a:chExt cx="1963440" cy="1527480"/>
          </a:xfrm>
        </p:grpSpPr>
        <p:sp>
          <p:nvSpPr>
            <p:cNvPr id="1407" name=""/>
            <p:cNvSpPr/>
            <p:nvPr/>
          </p:nvSpPr>
          <p:spPr>
            <a:xfrm>
              <a:off x="338040" y="251460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04640" y="251460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04640" y="280512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69000" y="251460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2169000" y="251208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38040" y="291312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04640" y="291312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04640" y="320364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169000" y="291312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V="1">
              <a:off x="2169000" y="291420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38040" y="331308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04640" y="331308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04640" y="360360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169000" y="331308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V="1">
              <a:off x="2169000" y="331056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38040" y="374796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4640" y="374796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4640" y="403848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169000" y="374796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2169000" y="374904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036800" y="2658960"/>
              <a:ext cx="599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870120" y="3022560"/>
              <a:ext cx="833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38360" y="3457440"/>
              <a:ext cx="1196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38280" y="3894120"/>
              <a:ext cx="1396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7178760" y="2512440"/>
            <a:ext cx="1964880" cy="1527480"/>
            <a:chOff x="7178760" y="2512440"/>
            <a:chExt cx="1964880" cy="1527480"/>
          </a:xfrm>
        </p:grpSpPr>
        <p:sp>
          <p:nvSpPr>
            <p:cNvPr id="1432" name=""/>
            <p:cNvSpPr/>
            <p:nvPr/>
          </p:nvSpPr>
          <p:spPr>
            <a:xfrm>
              <a:off x="7178760" y="2514600"/>
              <a:ext cx="13320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245360" y="251460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245360" y="280512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9011160" y="251460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9011160" y="251208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178760" y="2913120"/>
              <a:ext cx="13320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245360" y="291312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245360" y="320364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9011160" y="291312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V="1">
              <a:off x="9011160" y="291420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178760" y="3313080"/>
              <a:ext cx="13320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245360" y="331308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245360" y="360360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9011160" y="331308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9011160" y="331056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178760" y="3747960"/>
              <a:ext cx="13320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245360" y="374796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245360" y="4038480"/>
              <a:ext cx="1832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9011160" y="374796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9011160" y="374904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878600" y="2658960"/>
              <a:ext cx="598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711920" y="3022560"/>
              <a:ext cx="831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578720" y="3457440"/>
              <a:ext cx="119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478640" y="3894120"/>
              <a:ext cx="139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6" name=""/>
          <p:cNvSpPr/>
          <p:nvPr/>
        </p:nvSpPr>
        <p:spPr>
          <a:xfrm flipV="1">
            <a:off x="2268360" y="2514240"/>
            <a:ext cx="101628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268360" y="30481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268360" y="3505320"/>
            <a:ext cx="101628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268360" y="3962520"/>
            <a:ext cx="108432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 flipV="1">
            <a:off x="6235200" y="2527200"/>
            <a:ext cx="101628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6235200" y="30607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>
            <a:off x="6235200" y="3517920"/>
            <a:ext cx="101628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6235560" y="3975120"/>
            <a:ext cx="1084320" cy="304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5800" y="50284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rte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215880" y="5409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apill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196400" y="502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e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4729320" y="3730680"/>
            <a:ext cx="1857240" cy="2112840"/>
          </a:xfrm>
          <a:custGeom>
            <a:avLst/>
            <a:gdLst/>
            <a:ahLst/>
            <a:rect l="l" t="t" r="r" b="b"/>
            <a:pathLst>
              <a:path w="1512" h="1760">
                <a:moveTo>
                  <a:pt x="0" y="1760"/>
                </a:moveTo>
                <a:lnTo>
                  <a:pt x="16" y="1704"/>
                </a:lnTo>
                <a:lnTo>
                  <a:pt x="40" y="1656"/>
                </a:lnTo>
                <a:lnTo>
                  <a:pt x="64" y="1600"/>
                </a:lnTo>
                <a:lnTo>
                  <a:pt x="88" y="1544"/>
                </a:lnTo>
                <a:lnTo>
                  <a:pt x="112" y="1464"/>
                </a:lnTo>
                <a:lnTo>
                  <a:pt x="136" y="1376"/>
                </a:lnTo>
                <a:lnTo>
                  <a:pt x="160" y="1256"/>
                </a:lnTo>
                <a:lnTo>
                  <a:pt x="192" y="1128"/>
                </a:lnTo>
                <a:lnTo>
                  <a:pt x="224" y="976"/>
                </a:lnTo>
                <a:lnTo>
                  <a:pt x="256" y="832"/>
                </a:lnTo>
                <a:lnTo>
                  <a:pt x="288" y="688"/>
                </a:lnTo>
                <a:lnTo>
                  <a:pt x="312" y="552"/>
                </a:lnTo>
                <a:lnTo>
                  <a:pt x="336" y="448"/>
                </a:lnTo>
                <a:lnTo>
                  <a:pt x="352" y="360"/>
                </a:lnTo>
                <a:lnTo>
                  <a:pt x="376" y="280"/>
                </a:lnTo>
                <a:lnTo>
                  <a:pt x="400" y="200"/>
                </a:lnTo>
                <a:lnTo>
                  <a:pt x="432" y="136"/>
                </a:lnTo>
                <a:lnTo>
                  <a:pt x="456" y="80"/>
                </a:lnTo>
                <a:lnTo>
                  <a:pt x="480" y="40"/>
                </a:lnTo>
                <a:lnTo>
                  <a:pt x="504" y="16"/>
                </a:lnTo>
                <a:lnTo>
                  <a:pt x="544" y="0"/>
                </a:lnTo>
                <a:lnTo>
                  <a:pt x="584" y="0"/>
                </a:lnTo>
                <a:lnTo>
                  <a:pt x="616" y="16"/>
                </a:lnTo>
                <a:lnTo>
                  <a:pt x="640" y="40"/>
                </a:lnTo>
                <a:lnTo>
                  <a:pt x="672" y="64"/>
                </a:lnTo>
                <a:lnTo>
                  <a:pt x="696" y="104"/>
                </a:lnTo>
                <a:lnTo>
                  <a:pt x="728" y="152"/>
                </a:lnTo>
                <a:lnTo>
                  <a:pt x="768" y="208"/>
                </a:lnTo>
                <a:lnTo>
                  <a:pt x="808" y="280"/>
                </a:lnTo>
                <a:lnTo>
                  <a:pt x="840" y="344"/>
                </a:lnTo>
                <a:lnTo>
                  <a:pt x="912" y="520"/>
                </a:lnTo>
                <a:lnTo>
                  <a:pt x="1008" y="704"/>
                </a:lnTo>
                <a:lnTo>
                  <a:pt x="1048" y="784"/>
                </a:lnTo>
                <a:lnTo>
                  <a:pt x="1088" y="856"/>
                </a:lnTo>
                <a:lnTo>
                  <a:pt x="1128" y="912"/>
                </a:lnTo>
                <a:lnTo>
                  <a:pt x="1168" y="976"/>
                </a:lnTo>
                <a:lnTo>
                  <a:pt x="1216" y="1040"/>
                </a:lnTo>
                <a:lnTo>
                  <a:pt x="1256" y="1096"/>
                </a:lnTo>
                <a:lnTo>
                  <a:pt x="1296" y="1144"/>
                </a:lnTo>
                <a:lnTo>
                  <a:pt x="1344" y="1200"/>
                </a:lnTo>
                <a:lnTo>
                  <a:pt x="1392" y="1248"/>
                </a:lnTo>
                <a:lnTo>
                  <a:pt x="1432" y="1288"/>
                </a:lnTo>
                <a:lnTo>
                  <a:pt x="1472" y="1328"/>
                </a:lnTo>
                <a:lnTo>
                  <a:pt x="1512" y="1368"/>
                </a:ln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4670280" y="1114560"/>
            <a:ext cx="1533600" cy="4432320"/>
            <a:chOff x="4670280" y="1114560"/>
            <a:chExt cx="1533600" cy="4432320"/>
          </a:xfrm>
        </p:grpSpPr>
        <p:sp>
          <p:nvSpPr>
            <p:cNvPr id="1469" name=""/>
            <p:cNvSpPr/>
            <p:nvPr/>
          </p:nvSpPr>
          <p:spPr>
            <a:xfrm>
              <a:off x="5083200" y="3067200"/>
              <a:ext cx="92160" cy="91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033960" y="1114560"/>
              <a:ext cx="92160" cy="91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286240" y="3346560"/>
              <a:ext cx="92160" cy="91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873680" y="3898800"/>
              <a:ext cx="92160" cy="9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489640" y="3981600"/>
              <a:ext cx="92160" cy="91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699160" y="4552920"/>
              <a:ext cx="92160" cy="9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908680" y="4971960"/>
              <a:ext cx="92160" cy="9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111720" y="5251320"/>
              <a:ext cx="92160" cy="9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670280" y="5454720"/>
              <a:ext cx="92160" cy="9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8" name=""/>
          <p:cNvSpPr/>
          <p:nvPr/>
        </p:nvSpPr>
        <p:spPr>
          <a:xfrm>
            <a:off x="6033960" y="1428840"/>
            <a:ext cx="92160" cy="921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284800" y="3543480"/>
            <a:ext cx="92160" cy="91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94320" y="3689280"/>
            <a:ext cx="92160" cy="921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697360" y="4108320"/>
            <a:ext cx="92160" cy="921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907240" y="4540320"/>
            <a:ext cx="91800" cy="921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110280" y="4902120"/>
            <a:ext cx="92160" cy="921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313320" y="5175360"/>
            <a:ext cx="92160" cy="91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523200" y="5372280"/>
            <a:ext cx="91800" cy="91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662360" y="5810400"/>
            <a:ext cx="92160" cy="91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871880" y="5035680"/>
            <a:ext cx="92160" cy="91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075280" y="4051440"/>
            <a:ext cx="92160" cy="91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4668840" y="638280"/>
            <a:ext cx="1469880" cy="4565520"/>
            <a:chOff x="4668840" y="638280"/>
            <a:chExt cx="1469880" cy="4565520"/>
          </a:xfrm>
        </p:grpSpPr>
        <p:sp>
          <p:nvSpPr>
            <p:cNvPr id="1490" name=""/>
            <p:cNvSpPr/>
            <p:nvPr/>
          </p:nvSpPr>
          <p:spPr>
            <a:xfrm>
              <a:off x="5083200" y="2568600"/>
              <a:ext cx="92160" cy="92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76920" y="638280"/>
              <a:ext cx="91800" cy="91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046920" y="809640"/>
              <a:ext cx="91800" cy="92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668840" y="3552840"/>
              <a:ext cx="92160" cy="92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502240" y="5111640"/>
              <a:ext cx="92160" cy="92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280120" y="4330800"/>
              <a:ext cx="92160" cy="91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>
            <a:off x="6051600" y="2057400"/>
            <a:ext cx="10944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863960" y="5861160"/>
            <a:ext cx="109800" cy="918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073480" y="5816520"/>
            <a:ext cx="10980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283360" y="5727600"/>
            <a:ext cx="10944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486400" y="5632560"/>
            <a:ext cx="109440" cy="918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689440" y="5530680"/>
            <a:ext cx="10980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905440" y="5359320"/>
            <a:ext cx="10944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102360" y="5264280"/>
            <a:ext cx="109440" cy="918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515280" y="5162400"/>
            <a:ext cx="10944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730920" y="5137200"/>
            <a:ext cx="10944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934320" y="5137200"/>
            <a:ext cx="10944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137360" y="5137200"/>
            <a:ext cx="10944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346880" y="5200560"/>
            <a:ext cx="10944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556400" y="5257800"/>
            <a:ext cx="10980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7759800" y="5270400"/>
            <a:ext cx="10944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7975440" y="5321160"/>
            <a:ext cx="10980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8172360" y="5359320"/>
            <a:ext cx="10980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8381880" y="5416560"/>
            <a:ext cx="10980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173640" y="5295960"/>
            <a:ext cx="2517840" cy="662040"/>
          </a:xfrm>
          <a:custGeom>
            <a:avLst/>
            <a:gdLst/>
            <a:ahLst/>
            <a:rect l="l" t="t" r="r" b="b"/>
            <a:pathLst>
              <a:path w="2048" h="552">
                <a:moveTo>
                  <a:pt x="0" y="0"/>
                </a:moveTo>
                <a:lnTo>
                  <a:pt x="104" y="112"/>
                </a:lnTo>
                <a:lnTo>
                  <a:pt x="216" y="216"/>
                </a:lnTo>
                <a:lnTo>
                  <a:pt x="352" y="296"/>
                </a:lnTo>
                <a:lnTo>
                  <a:pt x="496" y="368"/>
                </a:lnTo>
                <a:lnTo>
                  <a:pt x="600" y="408"/>
                </a:lnTo>
                <a:lnTo>
                  <a:pt x="712" y="440"/>
                </a:lnTo>
                <a:lnTo>
                  <a:pt x="816" y="464"/>
                </a:lnTo>
                <a:lnTo>
                  <a:pt x="936" y="488"/>
                </a:lnTo>
                <a:lnTo>
                  <a:pt x="1064" y="504"/>
                </a:lnTo>
                <a:lnTo>
                  <a:pt x="1208" y="520"/>
                </a:lnTo>
                <a:lnTo>
                  <a:pt x="1376" y="536"/>
                </a:lnTo>
                <a:lnTo>
                  <a:pt x="1560" y="544"/>
                </a:lnTo>
                <a:lnTo>
                  <a:pt x="1696" y="544"/>
                </a:lnTo>
                <a:lnTo>
                  <a:pt x="1824" y="552"/>
                </a:lnTo>
                <a:lnTo>
                  <a:pt x="1936" y="552"/>
                </a:lnTo>
                <a:lnTo>
                  <a:pt x="2048" y="552"/>
                </a:lnTo>
              </a:path>
            </a:pathLst>
          </a:custGeom>
          <a:noFill/>
          <a:ln w="1908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545080" y="5170320"/>
            <a:ext cx="1219320" cy="787680"/>
          </a:xfrm>
          <a:custGeom>
            <a:avLst/>
            <a:gdLst/>
            <a:ahLst/>
            <a:rect l="l" t="t" r="r" b="b"/>
            <a:pathLst>
              <a:path w="992" h="656">
                <a:moveTo>
                  <a:pt x="0" y="0"/>
                </a:moveTo>
                <a:lnTo>
                  <a:pt x="48" y="128"/>
                </a:lnTo>
                <a:lnTo>
                  <a:pt x="96" y="248"/>
                </a:lnTo>
                <a:lnTo>
                  <a:pt x="152" y="352"/>
                </a:lnTo>
                <a:lnTo>
                  <a:pt x="216" y="440"/>
                </a:lnTo>
                <a:lnTo>
                  <a:pt x="272" y="496"/>
                </a:lnTo>
                <a:lnTo>
                  <a:pt x="336" y="544"/>
                </a:lnTo>
                <a:lnTo>
                  <a:pt x="400" y="576"/>
                </a:lnTo>
                <a:lnTo>
                  <a:pt x="480" y="608"/>
                </a:lnTo>
                <a:lnTo>
                  <a:pt x="560" y="624"/>
                </a:lnTo>
                <a:lnTo>
                  <a:pt x="664" y="640"/>
                </a:lnTo>
                <a:lnTo>
                  <a:pt x="752" y="648"/>
                </a:lnTo>
                <a:lnTo>
                  <a:pt x="832" y="656"/>
                </a:lnTo>
                <a:lnTo>
                  <a:pt x="904" y="656"/>
                </a:lnTo>
                <a:lnTo>
                  <a:pt x="992" y="656"/>
                </a:lnTo>
              </a:path>
            </a:pathLst>
          </a:custGeom>
          <a:noFill/>
          <a:ln w="1908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586560" y="5440320"/>
            <a:ext cx="2104920" cy="498600"/>
          </a:xfrm>
          <a:custGeom>
            <a:avLst/>
            <a:gdLst/>
            <a:ahLst/>
            <a:rect l="l" t="t" r="r" b="b"/>
            <a:pathLst>
              <a:path w="1712" h="416">
                <a:moveTo>
                  <a:pt x="0" y="0"/>
                </a:moveTo>
                <a:lnTo>
                  <a:pt x="112" y="64"/>
                </a:lnTo>
                <a:lnTo>
                  <a:pt x="232" y="136"/>
                </a:lnTo>
                <a:lnTo>
                  <a:pt x="360" y="192"/>
                </a:lnTo>
                <a:lnTo>
                  <a:pt x="504" y="248"/>
                </a:lnTo>
                <a:lnTo>
                  <a:pt x="664" y="288"/>
                </a:lnTo>
                <a:lnTo>
                  <a:pt x="792" y="320"/>
                </a:lnTo>
                <a:lnTo>
                  <a:pt x="928" y="344"/>
                </a:lnTo>
                <a:lnTo>
                  <a:pt x="1064" y="360"/>
                </a:lnTo>
                <a:lnTo>
                  <a:pt x="1200" y="376"/>
                </a:lnTo>
                <a:lnTo>
                  <a:pt x="1352" y="392"/>
                </a:lnTo>
                <a:lnTo>
                  <a:pt x="1528" y="408"/>
                </a:lnTo>
                <a:lnTo>
                  <a:pt x="1712" y="416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586560" y="5372280"/>
            <a:ext cx="2104920" cy="547560"/>
          </a:xfrm>
          <a:custGeom>
            <a:avLst/>
            <a:gdLst/>
            <a:ahLst/>
            <a:rect l="l" t="t" r="r" b="b"/>
            <a:pathLst>
              <a:path w="1712" h="456">
                <a:moveTo>
                  <a:pt x="0" y="0"/>
                </a:moveTo>
                <a:lnTo>
                  <a:pt x="112" y="80"/>
                </a:lnTo>
                <a:lnTo>
                  <a:pt x="240" y="152"/>
                </a:lnTo>
                <a:lnTo>
                  <a:pt x="384" y="224"/>
                </a:lnTo>
                <a:lnTo>
                  <a:pt x="536" y="280"/>
                </a:lnTo>
                <a:lnTo>
                  <a:pt x="704" y="328"/>
                </a:lnTo>
                <a:lnTo>
                  <a:pt x="856" y="360"/>
                </a:lnTo>
                <a:lnTo>
                  <a:pt x="1008" y="384"/>
                </a:lnTo>
                <a:lnTo>
                  <a:pt x="1160" y="408"/>
                </a:lnTo>
                <a:lnTo>
                  <a:pt x="1328" y="432"/>
                </a:lnTo>
                <a:lnTo>
                  <a:pt x="1512" y="448"/>
                </a:lnTo>
                <a:lnTo>
                  <a:pt x="1712" y="456"/>
                </a:ln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8248680" y="5430960"/>
            <a:ext cx="452520" cy="85680"/>
          </a:xfrm>
          <a:prstGeom prst="line">
            <a:avLst/>
          </a:prstGeom>
          <a:ln w="19080">
            <a:solidFill>
              <a:srgbClr val="99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916520" y="5200560"/>
            <a:ext cx="3322440" cy="757440"/>
          </a:xfrm>
          <a:custGeom>
            <a:avLst/>
            <a:gdLst/>
            <a:ahLst/>
            <a:rect l="l" t="t" r="r" b="b"/>
            <a:pathLst>
              <a:path w="2704" h="632">
                <a:moveTo>
                  <a:pt x="0" y="632"/>
                </a:moveTo>
                <a:lnTo>
                  <a:pt x="184" y="560"/>
                </a:lnTo>
                <a:lnTo>
                  <a:pt x="360" y="488"/>
                </a:lnTo>
                <a:lnTo>
                  <a:pt x="536" y="408"/>
                </a:lnTo>
                <a:lnTo>
                  <a:pt x="688" y="328"/>
                </a:lnTo>
                <a:lnTo>
                  <a:pt x="784" y="264"/>
                </a:lnTo>
                <a:lnTo>
                  <a:pt x="864" y="208"/>
                </a:lnTo>
                <a:lnTo>
                  <a:pt x="944" y="160"/>
                </a:lnTo>
                <a:lnTo>
                  <a:pt x="1024" y="112"/>
                </a:lnTo>
                <a:lnTo>
                  <a:pt x="1104" y="80"/>
                </a:lnTo>
                <a:lnTo>
                  <a:pt x="1184" y="48"/>
                </a:lnTo>
                <a:lnTo>
                  <a:pt x="1280" y="24"/>
                </a:lnTo>
                <a:lnTo>
                  <a:pt x="1392" y="8"/>
                </a:lnTo>
                <a:lnTo>
                  <a:pt x="1528" y="0"/>
                </a:lnTo>
                <a:lnTo>
                  <a:pt x="1632" y="0"/>
                </a:lnTo>
                <a:lnTo>
                  <a:pt x="1728" y="0"/>
                </a:lnTo>
                <a:lnTo>
                  <a:pt x="1816" y="0"/>
                </a:lnTo>
                <a:lnTo>
                  <a:pt x="1896" y="8"/>
                </a:lnTo>
                <a:lnTo>
                  <a:pt x="1976" y="16"/>
                </a:lnTo>
                <a:lnTo>
                  <a:pt x="2064" y="32"/>
                </a:lnTo>
                <a:lnTo>
                  <a:pt x="2160" y="56"/>
                </a:lnTo>
                <a:lnTo>
                  <a:pt x="2264" y="80"/>
                </a:lnTo>
                <a:lnTo>
                  <a:pt x="2392" y="104"/>
                </a:lnTo>
                <a:lnTo>
                  <a:pt x="2536" y="144"/>
                </a:lnTo>
                <a:lnTo>
                  <a:pt x="2704" y="184"/>
                </a:lnTo>
              </a:path>
            </a:pathLst>
          </a:custGeom>
          <a:noFill/>
          <a:ln w="1908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719600" y="3605040"/>
            <a:ext cx="1857240" cy="2257560"/>
          </a:xfrm>
          <a:custGeom>
            <a:avLst/>
            <a:gdLst/>
            <a:ahLst/>
            <a:rect l="l" t="t" r="r" b="b"/>
            <a:pathLst>
              <a:path w="1512" h="1880">
                <a:moveTo>
                  <a:pt x="0" y="1880"/>
                </a:moveTo>
                <a:lnTo>
                  <a:pt x="40" y="1736"/>
                </a:lnTo>
                <a:lnTo>
                  <a:pt x="80" y="1608"/>
                </a:lnTo>
                <a:lnTo>
                  <a:pt x="112" y="1488"/>
                </a:lnTo>
                <a:lnTo>
                  <a:pt x="144" y="1368"/>
                </a:lnTo>
                <a:lnTo>
                  <a:pt x="176" y="1248"/>
                </a:lnTo>
                <a:lnTo>
                  <a:pt x="192" y="1168"/>
                </a:lnTo>
                <a:lnTo>
                  <a:pt x="216" y="1056"/>
                </a:lnTo>
                <a:lnTo>
                  <a:pt x="248" y="928"/>
                </a:lnTo>
                <a:lnTo>
                  <a:pt x="280" y="776"/>
                </a:lnTo>
                <a:lnTo>
                  <a:pt x="312" y="608"/>
                </a:lnTo>
                <a:lnTo>
                  <a:pt x="336" y="424"/>
                </a:lnTo>
                <a:lnTo>
                  <a:pt x="352" y="336"/>
                </a:lnTo>
                <a:lnTo>
                  <a:pt x="368" y="248"/>
                </a:lnTo>
                <a:lnTo>
                  <a:pt x="392" y="168"/>
                </a:lnTo>
                <a:lnTo>
                  <a:pt x="416" y="96"/>
                </a:lnTo>
                <a:lnTo>
                  <a:pt x="440" y="48"/>
                </a:lnTo>
                <a:lnTo>
                  <a:pt x="472" y="8"/>
                </a:lnTo>
                <a:lnTo>
                  <a:pt x="512" y="0"/>
                </a:lnTo>
                <a:lnTo>
                  <a:pt x="552" y="8"/>
                </a:lnTo>
                <a:lnTo>
                  <a:pt x="592" y="32"/>
                </a:lnTo>
                <a:lnTo>
                  <a:pt x="640" y="72"/>
                </a:lnTo>
                <a:lnTo>
                  <a:pt x="680" y="128"/>
                </a:lnTo>
                <a:lnTo>
                  <a:pt x="720" y="200"/>
                </a:lnTo>
                <a:lnTo>
                  <a:pt x="768" y="288"/>
                </a:lnTo>
                <a:lnTo>
                  <a:pt x="808" y="376"/>
                </a:lnTo>
                <a:lnTo>
                  <a:pt x="840" y="472"/>
                </a:lnTo>
                <a:lnTo>
                  <a:pt x="864" y="520"/>
                </a:lnTo>
                <a:lnTo>
                  <a:pt x="904" y="600"/>
                </a:lnTo>
                <a:lnTo>
                  <a:pt x="952" y="704"/>
                </a:lnTo>
                <a:lnTo>
                  <a:pt x="1016" y="832"/>
                </a:lnTo>
                <a:lnTo>
                  <a:pt x="1048" y="904"/>
                </a:lnTo>
                <a:lnTo>
                  <a:pt x="1088" y="984"/>
                </a:lnTo>
                <a:lnTo>
                  <a:pt x="1136" y="1064"/>
                </a:lnTo>
                <a:lnTo>
                  <a:pt x="1184" y="1136"/>
                </a:lnTo>
                <a:lnTo>
                  <a:pt x="1224" y="1192"/>
                </a:lnTo>
                <a:lnTo>
                  <a:pt x="1264" y="1256"/>
                </a:lnTo>
                <a:lnTo>
                  <a:pt x="1312" y="1320"/>
                </a:lnTo>
                <a:lnTo>
                  <a:pt x="1352" y="1368"/>
                </a:lnTo>
                <a:lnTo>
                  <a:pt x="1408" y="1432"/>
                </a:lnTo>
                <a:lnTo>
                  <a:pt x="1464" y="1480"/>
                </a:lnTo>
                <a:lnTo>
                  <a:pt x="1512" y="1528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660920" y="3116160"/>
            <a:ext cx="1512720" cy="2853000"/>
          </a:xfrm>
          <a:custGeom>
            <a:avLst/>
            <a:gdLst/>
            <a:ahLst/>
            <a:rect l="l" t="t" r="r" b="b"/>
            <a:pathLst>
              <a:path w="1232" h="2376">
                <a:moveTo>
                  <a:pt x="0" y="2376"/>
                </a:moveTo>
                <a:lnTo>
                  <a:pt x="16" y="2296"/>
                </a:lnTo>
                <a:lnTo>
                  <a:pt x="24" y="2200"/>
                </a:lnTo>
                <a:lnTo>
                  <a:pt x="40" y="2088"/>
                </a:lnTo>
                <a:lnTo>
                  <a:pt x="56" y="1952"/>
                </a:lnTo>
                <a:lnTo>
                  <a:pt x="80" y="1800"/>
                </a:lnTo>
                <a:lnTo>
                  <a:pt x="96" y="1640"/>
                </a:lnTo>
                <a:lnTo>
                  <a:pt x="120" y="1480"/>
                </a:lnTo>
                <a:lnTo>
                  <a:pt x="136" y="1312"/>
                </a:lnTo>
                <a:lnTo>
                  <a:pt x="160" y="1144"/>
                </a:lnTo>
                <a:lnTo>
                  <a:pt x="184" y="984"/>
                </a:lnTo>
                <a:lnTo>
                  <a:pt x="200" y="832"/>
                </a:lnTo>
                <a:lnTo>
                  <a:pt x="216" y="688"/>
                </a:lnTo>
                <a:lnTo>
                  <a:pt x="240" y="520"/>
                </a:lnTo>
                <a:lnTo>
                  <a:pt x="264" y="384"/>
                </a:lnTo>
                <a:lnTo>
                  <a:pt x="280" y="272"/>
                </a:lnTo>
                <a:lnTo>
                  <a:pt x="296" y="176"/>
                </a:lnTo>
                <a:lnTo>
                  <a:pt x="312" y="104"/>
                </a:lnTo>
                <a:lnTo>
                  <a:pt x="328" y="56"/>
                </a:lnTo>
                <a:lnTo>
                  <a:pt x="344" y="24"/>
                </a:lnTo>
                <a:lnTo>
                  <a:pt x="368" y="0"/>
                </a:lnTo>
                <a:lnTo>
                  <a:pt x="384" y="0"/>
                </a:lnTo>
                <a:lnTo>
                  <a:pt x="432" y="16"/>
                </a:lnTo>
                <a:lnTo>
                  <a:pt x="464" y="48"/>
                </a:lnTo>
                <a:lnTo>
                  <a:pt x="496" y="96"/>
                </a:lnTo>
                <a:lnTo>
                  <a:pt x="528" y="160"/>
                </a:lnTo>
                <a:lnTo>
                  <a:pt x="560" y="224"/>
                </a:lnTo>
                <a:lnTo>
                  <a:pt x="584" y="296"/>
                </a:lnTo>
                <a:lnTo>
                  <a:pt x="616" y="384"/>
                </a:lnTo>
                <a:lnTo>
                  <a:pt x="648" y="488"/>
                </a:lnTo>
                <a:lnTo>
                  <a:pt x="672" y="592"/>
                </a:lnTo>
                <a:lnTo>
                  <a:pt x="704" y="688"/>
                </a:lnTo>
                <a:lnTo>
                  <a:pt x="720" y="760"/>
                </a:lnTo>
                <a:lnTo>
                  <a:pt x="760" y="864"/>
                </a:lnTo>
                <a:lnTo>
                  <a:pt x="800" y="984"/>
                </a:lnTo>
                <a:lnTo>
                  <a:pt x="848" y="1112"/>
                </a:lnTo>
                <a:lnTo>
                  <a:pt x="896" y="1232"/>
                </a:lnTo>
                <a:lnTo>
                  <a:pt x="936" y="1352"/>
                </a:lnTo>
                <a:lnTo>
                  <a:pt x="984" y="1448"/>
                </a:lnTo>
                <a:lnTo>
                  <a:pt x="1024" y="1520"/>
                </a:lnTo>
                <a:lnTo>
                  <a:pt x="1064" y="1584"/>
                </a:lnTo>
                <a:lnTo>
                  <a:pt x="1096" y="1632"/>
                </a:lnTo>
                <a:lnTo>
                  <a:pt x="1128" y="1688"/>
                </a:lnTo>
                <a:lnTo>
                  <a:pt x="1176" y="1752"/>
                </a:lnTo>
                <a:lnTo>
                  <a:pt x="1232" y="181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602240" y="685800"/>
            <a:ext cx="952560" cy="5283360"/>
          </a:xfrm>
          <a:custGeom>
            <a:avLst/>
            <a:gdLst/>
            <a:ahLst/>
            <a:rect l="l" t="t" r="r" b="b"/>
            <a:pathLst>
              <a:path w="776" h="4400">
                <a:moveTo>
                  <a:pt x="0" y="4400"/>
                </a:moveTo>
                <a:lnTo>
                  <a:pt x="8" y="4352"/>
                </a:lnTo>
                <a:lnTo>
                  <a:pt x="8" y="4288"/>
                </a:lnTo>
                <a:lnTo>
                  <a:pt x="16" y="4208"/>
                </a:lnTo>
                <a:lnTo>
                  <a:pt x="24" y="4104"/>
                </a:lnTo>
                <a:lnTo>
                  <a:pt x="24" y="3976"/>
                </a:lnTo>
                <a:lnTo>
                  <a:pt x="32" y="3840"/>
                </a:lnTo>
                <a:lnTo>
                  <a:pt x="40" y="3688"/>
                </a:lnTo>
                <a:lnTo>
                  <a:pt x="48" y="3528"/>
                </a:lnTo>
                <a:lnTo>
                  <a:pt x="56" y="3352"/>
                </a:lnTo>
                <a:lnTo>
                  <a:pt x="64" y="3176"/>
                </a:lnTo>
                <a:lnTo>
                  <a:pt x="80" y="2984"/>
                </a:lnTo>
                <a:lnTo>
                  <a:pt x="88" y="2784"/>
                </a:lnTo>
                <a:lnTo>
                  <a:pt x="96" y="2584"/>
                </a:lnTo>
                <a:lnTo>
                  <a:pt x="104" y="2376"/>
                </a:lnTo>
                <a:lnTo>
                  <a:pt x="120" y="2176"/>
                </a:lnTo>
                <a:lnTo>
                  <a:pt x="128" y="1968"/>
                </a:lnTo>
                <a:lnTo>
                  <a:pt x="136" y="1768"/>
                </a:lnTo>
                <a:lnTo>
                  <a:pt x="152" y="1568"/>
                </a:lnTo>
                <a:lnTo>
                  <a:pt x="160" y="1368"/>
                </a:lnTo>
                <a:lnTo>
                  <a:pt x="168" y="1184"/>
                </a:lnTo>
                <a:lnTo>
                  <a:pt x="176" y="1000"/>
                </a:lnTo>
                <a:lnTo>
                  <a:pt x="192" y="832"/>
                </a:lnTo>
                <a:lnTo>
                  <a:pt x="200" y="672"/>
                </a:lnTo>
                <a:lnTo>
                  <a:pt x="208" y="528"/>
                </a:lnTo>
                <a:lnTo>
                  <a:pt x="216" y="392"/>
                </a:lnTo>
                <a:lnTo>
                  <a:pt x="232" y="280"/>
                </a:lnTo>
                <a:lnTo>
                  <a:pt x="240" y="184"/>
                </a:lnTo>
                <a:lnTo>
                  <a:pt x="248" y="104"/>
                </a:lnTo>
                <a:lnTo>
                  <a:pt x="256" y="48"/>
                </a:lnTo>
                <a:lnTo>
                  <a:pt x="264" y="8"/>
                </a:lnTo>
                <a:lnTo>
                  <a:pt x="264" y="0"/>
                </a:lnTo>
                <a:lnTo>
                  <a:pt x="280" y="8"/>
                </a:lnTo>
                <a:lnTo>
                  <a:pt x="288" y="56"/>
                </a:lnTo>
                <a:lnTo>
                  <a:pt x="304" y="120"/>
                </a:lnTo>
                <a:lnTo>
                  <a:pt x="320" y="208"/>
                </a:lnTo>
                <a:lnTo>
                  <a:pt x="328" y="312"/>
                </a:lnTo>
                <a:lnTo>
                  <a:pt x="344" y="424"/>
                </a:lnTo>
                <a:lnTo>
                  <a:pt x="352" y="552"/>
                </a:lnTo>
                <a:lnTo>
                  <a:pt x="368" y="688"/>
                </a:lnTo>
                <a:lnTo>
                  <a:pt x="376" y="824"/>
                </a:lnTo>
                <a:lnTo>
                  <a:pt x="392" y="960"/>
                </a:lnTo>
                <a:lnTo>
                  <a:pt x="400" y="1088"/>
                </a:lnTo>
                <a:lnTo>
                  <a:pt x="408" y="1216"/>
                </a:lnTo>
                <a:lnTo>
                  <a:pt x="416" y="1328"/>
                </a:lnTo>
                <a:lnTo>
                  <a:pt x="424" y="1424"/>
                </a:lnTo>
                <a:lnTo>
                  <a:pt x="432" y="1504"/>
                </a:lnTo>
                <a:lnTo>
                  <a:pt x="432" y="1568"/>
                </a:lnTo>
                <a:lnTo>
                  <a:pt x="432" y="1608"/>
                </a:lnTo>
                <a:lnTo>
                  <a:pt x="440" y="1648"/>
                </a:lnTo>
                <a:lnTo>
                  <a:pt x="448" y="1712"/>
                </a:lnTo>
                <a:lnTo>
                  <a:pt x="456" y="1792"/>
                </a:lnTo>
                <a:lnTo>
                  <a:pt x="464" y="1896"/>
                </a:lnTo>
                <a:lnTo>
                  <a:pt x="480" y="2008"/>
                </a:lnTo>
                <a:lnTo>
                  <a:pt x="496" y="2136"/>
                </a:lnTo>
                <a:lnTo>
                  <a:pt x="504" y="2264"/>
                </a:lnTo>
                <a:lnTo>
                  <a:pt x="520" y="2400"/>
                </a:lnTo>
                <a:lnTo>
                  <a:pt x="536" y="2528"/>
                </a:lnTo>
                <a:lnTo>
                  <a:pt x="552" y="2656"/>
                </a:lnTo>
                <a:lnTo>
                  <a:pt x="568" y="2776"/>
                </a:lnTo>
                <a:lnTo>
                  <a:pt x="576" y="2880"/>
                </a:lnTo>
                <a:lnTo>
                  <a:pt x="592" y="2968"/>
                </a:lnTo>
                <a:lnTo>
                  <a:pt x="600" y="3032"/>
                </a:lnTo>
                <a:lnTo>
                  <a:pt x="608" y="3072"/>
                </a:lnTo>
                <a:lnTo>
                  <a:pt x="616" y="3136"/>
                </a:lnTo>
                <a:lnTo>
                  <a:pt x="632" y="3224"/>
                </a:lnTo>
                <a:lnTo>
                  <a:pt x="656" y="3312"/>
                </a:lnTo>
                <a:lnTo>
                  <a:pt x="680" y="3416"/>
                </a:lnTo>
                <a:lnTo>
                  <a:pt x="704" y="3512"/>
                </a:lnTo>
                <a:lnTo>
                  <a:pt x="728" y="3600"/>
                </a:lnTo>
                <a:lnTo>
                  <a:pt x="752" y="3680"/>
                </a:lnTo>
                <a:lnTo>
                  <a:pt x="776" y="373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414680" y="5969160"/>
            <a:ext cx="42768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4414680" y="5824440"/>
            <a:ext cx="1800" cy="144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5024520" y="5824440"/>
            <a:ext cx="1440" cy="144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5634000" y="5824440"/>
            <a:ext cx="1800" cy="144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6243480" y="5824440"/>
            <a:ext cx="1800" cy="144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6862680" y="5824440"/>
            <a:ext cx="1800" cy="144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7472520" y="5824440"/>
            <a:ext cx="1440" cy="144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8082000" y="5824440"/>
            <a:ext cx="0" cy="144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8691480" y="5824440"/>
            <a:ext cx="0" cy="144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4414680" y="407880"/>
            <a:ext cx="1800" cy="556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4414680" y="5969160"/>
            <a:ext cx="108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414680" y="4854600"/>
            <a:ext cx="108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414680" y="3740040"/>
            <a:ext cx="10800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414680" y="2625840"/>
            <a:ext cx="1080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414680" y="1521000"/>
            <a:ext cx="1080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414680" y="407880"/>
            <a:ext cx="108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114960" y="5267160"/>
            <a:ext cx="108000" cy="86040"/>
          </a:xfrm>
          <a:custGeom>
            <a:avLst/>
            <a:gdLst/>
            <a:ahLst/>
            <a:rect l="l" t="t" r="r" b="b"/>
            <a:pathLst>
              <a:path w="88" h="72">
                <a:moveTo>
                  <a:pt x="48" y="0"/>
                </a:moveTo>
                <a:lnTo>
                  <a:pt x="0" y="72"/>
                </a:lnTo>
                <a:lnTo>
                  <a:pt x="88" y="72"/>
                </a:lnTo>
                <a:lnTo>
                  <a:pt x="48" y="0"/>
                </a:lnTo>
                <a:lnTo>
                  <a:pt x="48" y="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495760" y="3759120"/>
            <a:ext cx="108000" cy="96840"/>
          </a:xfrm>
          <a:custGeom>
            <a:avLst/>
            <a:gdLst/>
            <a:ahLst/>
            <a:rect l="l" t="t" r="r" b="b"/>
            <a:pathLst>
              <a:path w="88" h="80">
                <a:moveTo>
                  <a:pt x="48" y="80"/>
                </a:moveTo>
                <a:lnTo>
                  <a:pt x="64" y="80"/>
                </a:lnTo>
                <a:lnTo>
                  <a:pt x="80" y="64"/>
                </a:lnTo>
                <a:lnTo>
                  <a:pt x="88" y="40"/>
                </a:lnTo>
                <a:lnTo>
                  <a:pt x="80" y="24"/>
                </a:lnTo>
                <a:lnTo>
                  <a:pt x="64" y="8"/>
                </a:lnTo>
                <a:lnTo>
                  <a:pt x="48" y="0"/>
                </a:lnTo>
                <a:lnTo>
                  <a:pt x="24" y="8"/>
                </a:lnTo>
                <a:lnTo>
                  <a:pt x="8" y="24"/>
                </a:lnTo>
                <a:lnTo>
                  <a:pt x="0" y="40"/>
                </a:lnTo>
                <a:lnTo>
                  <a:pt x="8" y="64"/>
                </a:lnTo>
                <a:lnTo>
                  <a:pt x="24" y="80"/>
                </a:lnTo>
                <a:lnTo>
                  <a:pt x="48" y="80"/>
                </a:lnTo>
                <a:lnTo>
                  <a:pt x="48" y="8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rot="16216800">
            <a:off x="1296720" y="2859480"/>
            <a:ext cx="46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Normalized Concentration (l</a:t>
            </a:r>
            <a:r>
              <a:rPr b="0" lang="en-US" sz="2000" spc="-1" strike="noStrike" baseline="30000">
                <a:solidFill>
                  <a:srgbClr val="ffff66"/>
                </a:solidFill>
                <a:latin typeface="Trebuchet MS"/>
              </a:rPr>
              <a:t>–1</a:t>
            </a: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3802320" y="303120"/>
            <a:ext cx="593640" cy="5843520"/>
            <a:chOff x="3802320" y="303120"/>
            <a:chExt cx="593640" cy="5843520"/>
          </a:xfrm>
        </p:grpSpPr>
        <p:sp>
          <p:nvSpPr>
            <p:cNvPr id="1543" name=""/>
            <p:cNvSpPr/>
            <p:nvPr/>
          </p:nvSpPr>
          <p:spPr>
            <a:xfrm>
              <a:off x="3802320" y="3031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802320" y="13971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1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024080" y="2492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024080" y="35877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078080" y="57783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078080" y="46832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9" name=""/>
          <p:cNvSpPr/>
          <p:nvPr/>
        </p:nvSpPr>
        <p:spPr>
          <a:xfrm>
            <a:off x="5996880" y="6461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Time (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0" name=""/>
          <p:cNvGrpSpPr/>
          <p:nvPr/>
        </p:nvGrpSpPr>
        <p:grpSpPr>
          <a:xfrm>
            <a:off x="4388040" y="6137280"/>
            <a:ext cx="4466160" cy="403200"/>
            <a:chOff x="4388040" y="6137280"/>
            <a:chExt cx="4466160" cy="403200"/>
          </a:xfrm>
        </p:grpSpPr>
        <p:sp>
          <p:nvSpPr>
            <p:cNvPr id="1551" name=""/>
            <p:cNvSpPr/>
            <p:nvPr/>
          </p:nvSpPr>
          <p:spPr>
            <a:xfrm>
              <a:off x="4388040" y="6172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992480" y="6172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374440" y="61722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980680" y="61722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585120" y="61722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794720" y="6137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399160" y="6137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246080" y="6137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9" name=""/>
          <p:cNvSpPr/>
          <p:nvPr/>
        </p:nvSpPr>
        <p:spPr>
          <a:xfrm>
            <a:off x="6077520" y="6588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Erythrocy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212880" y="9684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lbum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6166440" y="1278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rebuchet MS"/>
              </a:rPr>
              <a:t>Sucr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254640" y="1587600"/>
            <a:ext cx="5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rebuchet MS"/>
              </a:rPr>
              <a:t>Na</a:t>
            </a:r>
            <a:r>
              <a:rPr b="0" lang="en-US" sz="1800" spc="-1" strike="noStrike" baseline="30000">
                <a:solidFill>
                  <a:srgbClr val="ffff00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224760" y="189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Trebuchet MS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-360" y="231480"/>
            <a:ext cx="33066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Dog Liver in vivo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565" name=""/>
          <p:cNvSpPr/>
          <p:nvPr/>
        </p:nvSpPr>
        <p:spPr>
          <a:xfrm>
            <a:off x="5848200" y="608040"/>
            <a:ext cx="202104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04800" y="1771560"/>
            <a:ext cx="19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25360" y="1697040"/>
            <a:ext cx="288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oresky, C. A. A linear method for determining liver sinusoidal and extravascular volumes. </a:t>
            </a: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Am. J. Physiol.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204: 626-640, 196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4670280" y="1739880"/>
            <a:ext cx="1949760" cy="4148280"/>
            <a:chOff x="4670280" y="1739880"/>
            <a:chExt cx="1949760" cy="4148280"/>
          </a:xfrm>
        </p:grpSpPr>
        <p:sp>
          <p:nvSpPr>
            <p:cNvPr id="1569" name=""/>
            <p:cNvSpPr/>
            <p:nvPr/>
          </p:nvSpPr>
          <p:spPr>
            <a:xfrm>
              <a:off x="5289480" y="3701880"/>
              <a:ext cx="92160" cy="92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876920" y="5189400"/>
              <a:ext cx="91800" cy="92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670280" y="5796000"/>
              <a:ext cx="92160" cy="92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058080" y="1739880"/>
              <a:ext cx="91800" cy="92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079960" y="4210200"/>
              <a:ext cx="92160" cy="91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695920" y="4089240"/>
              <a:ext cx="92160" cy="92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911920" y="4514760"/>
              <a:ext cx="92160" cy="92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114960" y="4844880"/>
              <a:ext cx="92160" cy="92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318360" y="5111640"/>
              <a:ext cx="91800" cy="92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527880" y="5315040"/>
              <a:ext cx="92160" cy="92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492880" y="3753000"/>
              <a:ext cx="91800" cy="91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Variable capillary TT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Constant large vessel TT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grpSp>
        <p:nvGrpSpPr>
          <p:cNvPr id="1581" name=""/>
          <p:cNvGrpSpPr/>
          <p:nvPr/>
        </p:nvGrpSpPr>
        <p:grpSpPr>
          <a:xfrm>
            <a:off x="3116160" y="2286000"/>
            <a:ext cx="2979360" cy="2209680"/>
            <a:chOff x="3116160" y="2286000"/>
            <a:chExt cx="2979360" cy="2209680"/>
          </a:xfrm>
        </p:grpSpPr>
        <p:sp>
          <p:nvSpPr>
            <p:cNvPr id="1582" name=""/>
            <p:cNvSpPr/>
            <p:nvPr/>
          </p:nvSpPr>
          <p:spPr>
            <a:xfrm>
              <a:off x="3116160" y="2286000"/>
              <a:ext cx="201600" cy="420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218040" y="228600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218040" y="270684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893200" y="2286000"/>
              <a:ext cx="202320" cy="42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5893200" y="2286360"/>
              <a:ext cx="2023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116160" y="2865600"/>
              <a:ext cx="201600" cy="4204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218040" y="286560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218040" y="328608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893200" y="28656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5893200" y="2863440"/>
              <a:ext cx="202320" cy="42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116160" y="3443400"/>
              <a:ext cx="201600" cy="4204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218040" y="344340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218040" y="386388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893200" y="3443400"/>
              <a:ext cx="202320" cy="42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V="1">
              <a:off x="5893200" y="344412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116160" y="4075200"/>
              <a:ext cx="201600" cy="4204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218040" y="407520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218040" y="4495680"/>
              <a:ext cx="2776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893200" y="40752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5893200" y="4073040"/>
              <a:ext cx="202320" cy="42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176720" y="2496960"/>
              <a:ext cx="909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998880" y="3092400"/>
              <a:ext cx="1262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722760" y="3687840"/>
              <a:ext cx="1817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570120" y="4284720"/>
              <a:ext cx="2121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6" name=""/>
          <p:cNvSpPr/>
          <p:nvPr/>
        </p:nvSpPr>
        <p:spPr>
          <a:xfrm flipV="1">
            <a:off x="2166840" y="2514240"/>
            <a:ext cx="101592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166840" y="304812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166840" y="3505320"/>
            <a:ext cx="101592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166840" y="3962520"/>
            <a:ext cx="108432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 flipV="1">
            <a:off x="6095520" y="2514240"/>
            <a:ext cx="101628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6095520" y="30481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6095520" y="3505320"/>
            <a:ext cx="101628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6095880" y="3962520"/>
            <a:ext cx="108432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5800" y="50284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rte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215880" y="5409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apill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196400" y="502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e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206280" y="2511360"/>
            <a:ext cx="1963440" cy="1524960"/>
            <a:chOff x="206280" y="2511360"/>
            <a:chExt cx="1963440" cy="1524960"/>
          </a:xfrm>
        </p:grpSpPr>
        <p:sp>
          <p:nvSpPr>
            <p:cNvPr id="1618" name=""/>
            <p:cNvSpPr/>
            <p:nvPr/>
          </p:nvSpPr>
          <p:spPr>
            <a:xfrm>
              <a:off x="206280" y="251136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72880" y="251136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72880" y="280188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037240" y="251460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2037240" y="251208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06280" y="290988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72880" y="290988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72880" y="320040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037240" y="290988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2037240" y="291096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06280" y="330984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72880" y="330984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72880" y="360036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037240" y="3309840"/>
              <a:ext cx="13248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2037240" y="3308040"/>
              <a:ext cx="1324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06280" y="374508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72880" y="374508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72880" y="403560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037240" y="3745080"/>
              <a:ext cx="1324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2037240" y="3746520"/>
              <a:ext cx="13248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06600" y="3475080"/>
              <a:ext cx="1196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06600" y="3063960"/>
              <a:ext cx="1196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06600" y="2654280"/>
              <a:ext cx="1196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06600" y="3886200"/>
              <a:ext cx="1196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7013520" y="2511360"/>
            <a:ext cx="1963440" cy="1524960"/>
            <a:chOff x="7013520" y="2511360"/>
            <a:chExt cx="1963440" cy="1524960"/>
          </a:xfrm>
        </p:grpSpPr>
        <p:sp>
          <p:nvSpPr>
            <p:cNvPr id="1643" name=""/>
            <p:cNvSpPr/>
            <p:nvPr/>
          </p:nvSpPr>
          <p:spPr>
            <a:xfrm>
              <a:off x="7013520" y="251136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080120" y="251136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080120" y="280188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8844480" y="251460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8844480" y="251208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013520" y="290988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080120" y="290988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080120" y="320040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8844480" y="2909880"/>
              <a:ext cx="13248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8844480" y="2910960"/>
              <a:ext cx="13248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013520" y="330984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080120" y="330984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080120" y="360036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8844480" y="3309840"/>
              <a:ext cx="13248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V="1">
              <a:off x="8844480" y="3308040"/>
              <a:ext cx="1324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013520" y="3745080"/>
              <a:ext cx="133560" cy="290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080120" y="374508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80120" y="4035600"/>
              <a:ext cx="183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8844480" y="3745080"/>
              <a:ext cx="1324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V="1">
              <a:off x="8844480" y="3746520"/>
              <a:ext cx="13248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413480" y="3475080"/>
              <a:ext cx="1197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413480" y="3063960"/>
              <a:ext cx="1197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413480" y="2654280"/>
              <a:ext cx="1197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413480" y="3886200"/>
              <a:ext cx="1197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7" name=""/>
          <p:cNvGrpSpPr/>
          <p:nvPr/>
        </p:nvGrpSpPr>
        <p:grpSpPr>
          <a:xfrm>
            <a:off x="105840" y="3502080"/>
            <a:ext cx="4085280" cy="3167640"/>
            <a:chOff x="105840" y="3502080"/>
            <a:chExt cx="4085280" cy="3167640"/>
          </a:xfrm>
        </p:grpSpPr>
        <p:sp>
          <p:nvSpPr>
            <p:cNvPr id="1668" name=""/>
            <p:cNvSpPr/>
            <p:nvPr/>
          </p:nvSpPr>
          <p:spPr>
            <a:xfrm>
              <a:off x="105840" y="3502080"/>
              <a:ext cx="1461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utput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17440" y="4033800"/>
              <a:ext cx="28069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ref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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–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25360" y="5743440"/>
              <a:ext cx="262116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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= V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/V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74680" y="4648320"/>
              <a:ext cx="391644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iff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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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– [1 +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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049400" y="29196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Flow-limited Distribution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673" name=""/>
          <p:cNvSpPr/>
          <p:nvPr/>
        </p:nvSpPr>
        <p:spPr>
          <a:xfrm>
            <a:off x="1643040" y="3865680"/>
            <a:ext cx="52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4" name=""/>
          <p:cNvGrpSpPr/>
          <p:nvPr/>
        </p:nvGrpSpPr>
        <p:grpSpPr>
          <a:xfrm>
            <a:off x="-471600" y="1146240"/>
            <a:ext cx="4916520" cy="5419800"/>
            <a:chOff x="-471600" y="1146240"/>
            <a:chExt cx="4916520" cy="5419800"/>
          </a:xfrm>
        </p:grpSpPr>
        <p:sp>
          <p:nvSpPr>
            <p:cNvPr id="1675" name=""/>
            <p:cNvSpPr/>
            <p:nvPr/>
          </p:nvSpPr>
          <p:spPr>
            <a:xfrm>
              <a:off x="251280" y="1146240"/>
              <a:ext cx="4082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Single capillar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6" name=""/>
            <p:cNvGrpSpPr/>
            <p:nvPr/>
          </p:nvGrpSpPr>
          <p:grpSpPr>
            <a:xfrm>
              <a:off x="-471600" y="1841400"/>
              <a:ext cx="4916520" cy="4724640"/>
              <a:chOff x="-471600" y="1841400"/>
              <a:chExt cx="4916520" cy="4724640"/>
            </a:xfrm>
          </p:grpSpPr>
          <p:sp>
            <p:nvSpPr>
              <p:cNvPr id="1677" name=""/>
              <p:cNvSpPr/>
              <p:nvPr/>
            </p:nvSpPr>
            <p:spPr>
              <a:xfrm>
                <a:off x="-471600" y="2556000"/>
                <a:ext cx="3639240" cy="9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ref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) =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/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s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(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diff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) =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/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s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(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0320" y="2066760"/>
                <a:ext cx="1278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Input: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52280" y="1841400"/>
                <a:ext cx="4292640" cy="4724640"/>
              </a:xfrm>
              <a:prstGeom prst="rect">
                <a:avLst/>
              </a:prstGeom>
              <a:noFill/>
              <a:ln w="76320">
                <a:solidFill>
                  <a:srgbClr val="ccccff"/>
                </a:solidFill>
                <a:miter/>
              </a:ln>
              <a:effectLst>
                <a:outerShdw dist="17819" dir="2700000" blurRad="0" rotWithShape="0">
                  <a:srgbClr val="79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0" name=""/>
          <p:cNvGrpSpPr/>
          <p:nvPr/>
        </p:nvGrpSpPr>
        <p:grpSpPr>
          <a:xfrm>
            <a:off x="4964760" y="1146240"/>
            <a:ext cx="4001400" cy="5419800"/>
            <a:chOff x="4964760" y="1146240"/>
            <a:chExt cx="4001400" cy="5419800"/>
          </a:xfrm>
        </p:grpSpPr>
        <p:sp>
          <p:nvSpPr>
            <p:cNvPr id="1681" name=""/>
            <p:cNvSpPr/>
            <p:nvPr/>
          </p:nvSpPr>
          <p:spPr>
            <a:xfrm>
              <a:off x="5407200" y="1146240"/>
              <a:ext cx="2863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Whole organ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2" name=""/>
            <p:cNvGrpSpPr/>
            <p:nvPr/>
          </p:nvGrpSpPr>
          <p:grpSpPr>
            <a:xfrm>
              <a:off x="4964760" y="2441520"/>
              <a:ext cx="3688560" cy="1522440"/>
              <a:chOff x="4964760" y="2441520"/>
              <a:chExt cx="3688560" cy="1522440"/>
            </a:xfrm>
          </p:grpSpPr>
          <p:sp>
            <p:nvSpPr>
              <p:cNvPr id="1683" name=""/>
              <p:cNvSpPr/>
              <p:nvPr/>
            </p:nvSpPr>
            <p:spPr>
              <a:xfrm>
                <a:off x="6971760" y="2441520"/>
                <a:ext cx="4374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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8215920" y="2441520"/>
                <a:ext cx="4374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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957000" y="2504160"/>
                <a:ext cx="12024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-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821560" y="3425040"/>
                <a:ext cx="466560" cy="37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6532920" y="2752920"/>
                <a:ext cx="6843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re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166520" y="29916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358400" y="2991600"/>
                <a:ext cx="359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7577280" y="2991600"/>
                <a:ext cx="353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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7271280" y="3004560"/>
                <a:ext cx="5965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6972840" y="2991600"/>
                <a:ext cx="4374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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6972840" y="2647080"/>
                <a:ext cx="4374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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8215920" y="2991600"/>
                <a:ext cx="4374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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8215920" y="2675880"/>
                <a:ext cx="4374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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7310520" y="350928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7529400" y="3509280"/>
                <a:ext cx="359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7719840" y="3509280"/>
                <a:ext cx="353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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6608160" y="3521880"/>
                <a:ext cx="1882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964760" y="3209040"/>
                <a:ext cx="176472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diff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)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760160" y="2704320"/>
                <a:ext cx="83664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2" name=""/>
            <p:cNvSpPr/>
            <p:nvPr/>
          </p:nvSpPr>
          <p:spPr>
            <a:xfrm>
              <a:off x="4965840" y="1828800"/>
              <a:ext cx="4000320" cy="4737240"/>
            </a:xfrm>
            <a:prstGeom prst="rect">
              <a:avLst/>
            </a:prstGeom>
            <a:noFill/>
            <a:ln w="76320">
              <a:solidFill>
                <a:srgbClr val="ccccff"/>
              </a:solidFill>
              <a:miter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243040" y="5210280"/>
              <a:ext cx="34732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Delayed-wave mod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(Goresky, 1963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015880" y="4129200"/>
              <a:ext cx="3769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= non-capillary transit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600696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hinard FP, Enns T. Transcapillary pulmonary exchange of water in the dog.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Am J Physiol.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178:197-202, 1954. </a:t>
            </a:r>
            <a:endParaRPr b="1" lang="en-US" sz="2400" spc="-1" strike="noStrike">
              <a:solidFill>
                <a:srgbClr val="ffff00"/>
              </a:solidFill>
              <a:latin typeface="Trebuchet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334120" cy="56642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5" name=""/>
          <p:cNvGrpSpPr/>
          <p:nvPr/>
        </p:nvGrpSpPr>
        <p:grpSpPr>
          <a:xfrm>
            <a:off x="3999240" y="4457880"/>
            <a:ext cx="2846160" cy="228600"/>
            <a:chOff x="3999240" y="4457880"/>
            <a:chExt cx="2846160" cy="228600"/>
          </a:xfrm>
        </p:grpSpPr>
        <p:sp>
          <p:nvSpPr>
            <p:cNvPr id="1706" name=""/>
            <p:cNvSpPr/>
            <p:nvPr/>
          </p:nvSpPr>
          <p:spPr>
            <a:xfrm>
              <a:off x="3999240" y="44578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c0a16"/>
                  </a:solidFill>
                  <a:latin typeface="Trebuchet MS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537080" y="44578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c0a16"/>
                  </a:solidFill>
                  <a:latin typeface="Trebuchet MS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065560" y="44578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c0a16"/>
                  </a:solidFill>
                  <a:latin typeface="Trebuchet MS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603760" y="44578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c0a16"/>
                  </a:solidFill>
                  <a:latin typeface="Trebuchet MS"/>
                </a:rPr>
                <a:t>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131160" y="44578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c0a16"/>
                  </a:solidFill>
                  <a:latin typeface="Trebuchet MS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616080" y="445788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c0a16"/>
                  </a:solidFill>
                  <a:latin typeface="Trebuchet MS"/>
                </a:rPr>
                <a:t>1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2" name=""/>
          <p:cNvSpPr/>
          <p:nvPr/>
        </p:nvSpPr>
        <p:spPr>
          <a:xfrm>
            <a:off x="3998880" y="4444920"/>
            <a:ext cx="2770200" cy="1800"/>
          </a:xfrm>
          <a:prstGeom prst="line">
            <a:avLst/>
          </a:prstGeom>
          <a:ln w="12600">
            <a:solidFill>
              <a:srgbClr val="fc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V="1">
            <a:off x="3998880" y="4355640"/>
            <a:ext cx="1800" cy="88920"/>
          </a:xfrm>
          <a:prstGeom prst="line">
            <a:avLst/>
          </a:prstGeom>
          <a:ln w="12600">
            <a:solidFill>
              <a:srgbClr val="fc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4557600" y="4355640"/>
            <a:ext cx="1800" cy="88920"/>
          </a:xfrm>
          <a:prstGeom prst="line">
            <a:avLst/>
          </a:prstGeom>
          <a:ln w="12600">
            <a:solidFill>
              <a:srgbClr val="fc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5105520" y="4355640"/>
            <a:ext cx="1440" cy="88920"/>
          </a:xfrm>
          <a:prstGeom prst="line">
            <a:avLst/>
          </a:prstGeom>
          <a:ln w="12600">
            <a:solidFill>
              <a:srgbClr val="fc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5664240" y="4355640"/>
            <a:ext cx="1440" cy="88920"/>
          </a:xfrm>
          <a:prstGeom prst="line">
            <a:avLst/>
          </a:prstGeom>
          <a:ln w="12600">
            <a:solidFill>
              <a:srgbClr val="fc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6210360" y="4355640"/>
            <a:ext cx="1440" cy="88920"/>
          </a:xfrm>
          <a:prstGeom prst="line">
            <a:avLst/>
          </a:prstGeom>
          <a:ln w="12600">
            <a:solidFill>
              <a:srgbClr val="fc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6769080" y="4355640"/>
            <a:ext cx="1440" cy="88920"/>
          </a:xfrm>
          <a:prstGeom prst="line">
            <a:avLst/>
          </a:prstGeom>
          <a:ln w="12600">
            <a:solidFill>
              <a:srgbClr val="fc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3998880" y="4444920"/>
            <a:ext cx="76320" cy="1800"/>
          </a:xfrm>
          <a:prstGeom prst="line">
            <a:avLst/>
          </a:prstGeom>
          <a:ln w="12600">
            <a:solidFill>
              <a:srgbClr val="fc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0" name=""/>
          <p:cNvGrpSpPr/>
          <p:nvPr/>
        </p:nvGrpSpPr>
        <p:grpSpPr>
          <a:xfrm>
            <a:off x="3700080" y="673200"/>
            <a:ext cx="375120" cy="3911400"/>
            <a:chOff x="3700080" y="673200"/>
            <a:chExt cx="375120" cy="3911400"/>
          </a:xfrm>
        </p:grpSpPr>
        <p:grpSp>
          <p:nvGrpSpPr>
            <p:cNvPr id="1721" name=""/>
            <p:cNvGrpSpPr/>
            <p:nvPr/>
          </p:nvGrpSpPr>
          <p:grpSpPr>
            <a:xfrm>
              <a:off x="3700080" y="673200"/>
              <a:ext cx="229320" cy="3911400"/>
              <a:chOff x="3700080" y="673200"/>
              <a:chExt cx="229320" cy="3911400"/>
            </a:xfrm>
          </p:grpSpPr>
          <p:sp>
            <p:nvSpPr>
              <p:cNvPr id="1722" name=""/>
              <p:cNvSpPr/>
              <p:nvPr/>
            </p:nvSpPr>
            <p:spPr>
              <a:xfrm>
                <a:off x="3805560" y="43560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c0a16"/>
                    </a:solidFill>
                    <a:latin typeface="Trebuchet MS"/>
                  </a:rPr>
                  <a:t>0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805560" y="361944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c0a16"/>
                    </a:solidFill>
                    <a:latin typeface="Trebuchet MS"/>
                  </a:rPr>
                  <a:t>3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805560" y="288288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c0a16"/>
                    </a:solidFill>
                    <a:latin typeface="Trebuchet MS"/>
                  </a:rPr>
                  <a:t>6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805560" y="21463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c0a16"/>
                    </a:solidFill>
                    <a:latin typeface="Trebuchet MS"/>
                  </a:rPr>
                  <a:t>9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700080" y="1409760"/>
                <a:ext cx="229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c0a16"/>
                    </a:solidFill>
                    <a:latin typeface="Trebuchet MS"/>
                  </a:rPr>
                  <a:t>1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700080" y="673200"/>
                <a:ext cx="2293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c0a16"/>
                    </a:solidFill>
                    <a:latin typeface="Trebuchet MS"/>
                  </a:rPr>
                  <a:t>15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28" name=""/>
            <p:cNvGrpSpPr/>
            <p:nvPr/>
          </p:nvGrpSpPr>
          <p:grpSpPr>
            <a:xfrm>
              <a:off x="3998880" y="772920"/>
              <a:ext cx="76320" cy="3671640"/>
              <a:chOff x="3998880" y="772920"/>
              <a:chExt cx="76320" cy="3671640"/>
            </a:xfrm>
          </p:grpSpPr>
          <p:sp>
            <p:nvSpPr>
              <p:cNvPr id="1729" name=""/>
              <p:cNvSpPr/>
              <p:nvPr/>
            </p:nvSpPr>
            <p:spPr>
              <a:xfrm flipV="1">
                <a:off x="3998880" y="772920"/>
                <a:ext cx="1800" cy="3671640"/>
              </a:xfrm>
              <a:prstGeom prst="line">
                <a:avLst/>
              </a:prstGeom>
              <a:ln w="12600">
                <a:solidFill>
                  <a:srgbClr val="fc0a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998880" y="3708360"/>
                <a:ext cx="76320" cy="1800"/>
              </a:xfrm>
              <a:prstGeom prst="line">
                <a:avLst/>
              </a:prstGeom>
              <a:ln w="12600">
                <a:solidFill>
                  <a:srgbClr val="fc0a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998880" y="2970360"/>
                <a:ext cx="76320" cy="1440"/>
              </a:xfrm>
              <a:prstGeom prst="line">
                <a:avLst/>
              </a:prstGeom>
              <a:ln w="12600">
                <a:solidFill>
                  <a:srgbClr val="fc0a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998880" y="2233440"/>
                <a:ext cx="76320" cy="1800"/>
              </a:xfrm>
              <a:prstGeom prst="line">
                <a:avLst/>
              </a:prstGeom>
              <a:ln w="12600">
                <a:solidFill>
                  <a:srgbClr val="fc0a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998880" y="1496880"/>
                <a:ext cx="76320" cy="1800"/>
              </a:xfrm>
              <a:prstGeom prst="line">
                <a:avLst/>
              </a:prstGeom>
              <a:ln w="12600">
                <a:solidFill>
                  <a:srgbClr val="fc0a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998880" y="773280"/>
                <a:ext cx="76320" cy="1440"/>
              </a:xfrm>
              <a:prstGeom prst="line">
                <a:avLst/>
              </a:prstGeom>
              <a:ln w="12600">
                <a:solidFill>
                  <a:srgbClr val="fc0a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5" name=""/>
          <p:cNvSpPr/>
          <p:nvPr/>
        </p:nvSpPr>
        <p:spPr>
          <a:xfrm>
            <a:off x="6527880" y="206388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0" y="40"/>
                </a:lnTo>
                <a:lnTo>
                  <a:pt x="48" y="40"/>
                </a:lnTo>
                <a:lnTo>
                  <a:pt x="24" y="0"/>
                </a:lnTo>
                <a:close/>
              </a:path>
            </a:pathLst>
          </a:custGeom>
          <a:solidFill>
            <a:srgbClr val="83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5549760" y="2144880"/>
            <a:ext cx="6372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0" y="40"/>
                </a:lnTo>
                <a:lnTo>
                  <a:pt x="40" y="40"/>
                </a:lnTo>
                <a:lnTo>
                  <a:pt x="24" y="0"/>
                </a:lnTo>
                <a:close/>
              </a:path>
            </a:pathLst>
          </a:custGeom>
          <a:solidFill>
            <a:srgbClr val="83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486400" y="1890720"/>
            <a:ext cx="63360" cy="50760"/>
          </a:xfrm>
          <a:custGeom>
            <a:avLst/>
            <a:gdLst/>
            <a:ahLst/>
            <a:rect l="l" t="t" r="r" b="b"/>
            <a:pathLst>
              <a:path w="40" h="32">
                <a:moveTo>
                  <a:pt x="24" y="0"/>
                </a:moveTo>
                <a:lnTo>
                  <a:pt x="0" y="32"/>
                </a:lnTo>
                <a:lnTo>
                  <a:pt x="40" y="32"/>
                </a:lnTo>
                <a:lnTo>
                  <a:pt x="24" y="0"/>
                </a:lnTo>
                <a:close/>
              </a:path>
            </a:pathLst>
          </a:custGeom>
          <a:solidFill>
            <a:srgbClr val="83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5423040" y="1700280"/>
            <a:ext cx="63360" cy="50760"/>
          </a:xfrm>
          <a:custGeom>
            <a:avLst/>
            <a:gdLst/>
            <a:ahLst/>
            <a:rect l="l" t="t" r="r" b="b"/>
            <a:pathLst>
              <a:path w="40" h="32">
                <a:moveTo>
                  <a:pt x="16" y="0"/>
                </a:moveTo>
                <a:lnTo>
                  <a:pt x="0" y="32"/>
                </a:lnTo>
                <a:lnTo>
                  <a:pt x="4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83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346720" y="1446120"/>
            <a:ext cx="76320" cy="50760"/>
          </a:xfrm>
          <a:custGeom>
            <a:avLst/>
            <a:gdLst/>
            <a:ahLst/>
            <a:rect l="l" t="t" r="r" b="b"/>
            <a:pathLst>
              <a:path w="48" h="32">
                <a:moveTo>
                  <a:pt x="24" y="0"/>
                </a:moveTo>
                <a:lnTo>
                  <a:pt x="0" y="32"/>
                </a:lnTo>
                <a:lnTo>
                  <a:pt x="48" y="32"/>
                </a:lnTo>
                <a:lnTo>
                  <a:pt x="24" y="0"/>
                </a:lnTo>
                <a:close/>
              </a:path>
            </a:pathLst>
          </a:custGeom>
          <a:solidFill>
            <a:srgbClr val="83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283360" y="137016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0" y="40"/>
                </a:lnTo>
                <a:lnTo>
                  <a:pt x="40" y="40"/>
                </a:lnTo>
                <a:lnTo>
                  <a:pt x="24" y="0"/>
                </a:lnTo>
                <a:close/>
              </a:path>
            </a:pathLst>
          </a:custGeom>
          <a:solidFill>
            <a:srgbClr val="83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219640" y="1116000"/>
            <a:ext cx="6372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0" y="40"/>
                </a:lnTo>
                <a:lnTo>
                  <a:pt x="40" y="40"/>
                </a:lnTo>
                <a:lnTo>
                  <a:pt x="24" y="0"/>
                </a:lnTo>
                <a:close/>
              </a:path>
            </a:pathLst>
          </a:custGeom>
          <a:solidFill>
            <a:srgbClr val="83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156280" y="861840"/>
            <a:ext cx="63360" cy="51120"/>
          </a:xfrm>
          <a:custGeom>
            <a:avLst/>
            <a:gdLst/>
            <a:ahLst/>
            <a:rect l="l" t="t" r="r" b="b"/>
            <a:pathLst>
              <a:path w="40" h="32">
                <a:moveTo>
                  <a:pt x="16" y="0"/>
                </a:moveTo>
                <a:lnTo>
                  <a:pt x="0" y="32"/>
                </a:lnTo>
                <a:lnTo>
                  <a:pt x="4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83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79960" y="861840"/>
            <a:ext cx="76320" cy="51120"/>
          </a:xfrm>
          <a:custGeom>
            <a:avLst/>
            <a:gdLst/>
            <a:ahLst/>
            <a:rect l="l" t="t" r="r" b="b"/>
            <a:pathLst>
              <a:path w="48" h="32">
                <a:moveTo>
                  <a:pt x="24" y="0"/>
                </a:moveTo>
                <a:lnTo>
                  <a:pt x="0" y="32"/>
                </a:lnTo>
                <a:lnTo>
                  <a:pt x="48" y="32"/>
                </a:lnTo>
                <a:lnTo>
                  <a:pt x="24" y="0"/>
                </a:lnTo>
                <a:close/>
              </a:path>
            </a:pathLst>
          </a:custGeom>
          <a:solidFill>
            <a:srgbClr val="83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016600" y="861840"/>
            <a:ext cx="63360" cy="51120"/>
          </a:xfrm>
          <a:custGeom>
            <a:avLst/>
            <a:gdLst/>
            <a:ahLst/>
            <a:rect l="l" t="t" r="r" b="b"/>
            <a:pathLst>
              <a:path w="40" h="32">
                <a:moveTo>
                  <a:pt x="24" y="0"/>
                </a:moveTo>
                <a:lnTo>
                  <a:pt x="0" y="32"/>
                </a:lnTo>
                <a:lnTo>
                  <a:pt x="40" y="32"/>
                </a:lnTo>
                <a:lnTo>
                  <a:pt x="24" y="0"/>
                </a:lnTo>
                <a:close/>
              </a:path>
            </a:pathLst>
          </a:custGeom>
          <a:solidFill>
            <a:srgbClr val="83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52880" y="925560"/>
            <a:ext cx="63720" cy="50760"/>
          </a:xfrm>
          <a:custGeom>
            <a:avLst/>
            <a:gdLst/>
            <a:ahLst/>
            <a:rect l="l" t="t" r="r" b="b"/>
            <a:pathLst>
              <a:path w="40" h="32">
                <a:moveTo>
                  <a:pt x="24" y="0"/>
                </a:moveTo>
                <a:lnTo>
                  <a:pt x="0" y="32"/>
                </a:lnTo>
                <a:lnTo>
                  <a:pt x="40" y="32"/>
                </a:lnTo>
                <a:lnTo>
                  <a:pt x="24" y="0"/>
                </a:lnTo>
                <a:close/>
              </a:path>
            </a:pathLst>
          </a:custGeom>
          <a:solidFill>
            <a:srgbClr val="83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889520" y="111600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16" y="0"/>
                </a:moveTo>
                <a:lnTo>
                  <a:pt x="0" y="40"/>
                </a:lnTo>
                <a:lnTo>
                  <a:pt x="40" y="40"/>
                </a:lnTo>
                <a:lnTo>
                  <a:pt x="16" y="0"/>
                </a:lnTo>
                <a:close/>
              </a:path>
            </a:pathLst>
          </a:custGeom>
          <a:solidFill>
            <a:srgbClr val="83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813200" y="1446120"/>
            <a:ext cx="76320" cy="50760"/>
          </a:xfrm>
          <a:custGeom>
            <a:avLst/>
            <a:gdLst/>
            <a:ahLst/>
            <a:rect l="l" t="t" r="r" b="b"/>
            <a:pathLst>
              <a:path w="48" h="32">
                <a:moveTo>
                  <a:pt x="24" y="0"/>
                </a:moveTo>
                <a:lnTo>
                  <a:pt x="0" y="32"/>
                </a:lnTo>
                <a:lnTo>
                  <a:pt x="48" y="32"/>
                </a:lnTo>
                <a:lnTo>
                  <a:pt x="24" y="0"/>
                </a:lnTo>
                <a:close/>
              </a:path>
            </a:pathLst>
          </a:custGeom>
          <a:solidFill>
            <a:srgbClr val="83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4749840" y="1827360"/>
            <a:ext cx="63360" cy="50760"/>
          </a:xfrm>
          <a:custGeom>
            <a:avLst/>
            <a:gdLst/>
            <a:ahLst/>
            <a:rect l="l" t="t" r="r" b="b"/>
            <a:pathLst>
              <a:path w="40" h="32">
                <a:moveTo>
                  <a:pt x="24" y="0"/>
                </a:moveTo>
                <a:lnTo>
                  <a:pt x="0" y="32"/>
                </a:lnTo>
                <a:lnTo>
                  <a:pt x="40" y="32"/>
                </a:lnTo>
                <a:lnTo>
                  <a:pt x="24" y="0"/>
                </a:lnTo>
                <a:close/>
              </a:path>
            </a:pathLst>
          </a:custGeom>
          <a:solidFill>
            <a:srgbClr val="83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4686480" y="2690640"/>
            <a:ext cx="63360" cy="51120"/>
          </a:xfrm>
          <a:custGeom>
            <a:avLst/>
            <a:gdLst/>
            <a:ahLst/>
            <a:rect l="l" t="t" r="r" b="b"/>
            <a:pathLst>
              <a:path w="40" h="32">
                <a:moveTo>
                  <a:pt x="24" y="0"/>
                </a:moveTo>
                <a:lnTo>
                  <a:pt x="0" y="32"/>
                </a:lnTo>
                <a:lnTo>
                  <a:pt x="40" y="32"/>
                </a:lnTo>
                <a:lnTo>
                  <a:pt x="24" y="0"/>
                </a:lnTo>
                <a:close/>
              </a:path>
            </a:pathLst>
          </a:custGeom>
          <a:solidFill>
            <a:srgbClr val="83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622760" y="3122640"/>
            <a:ext cx="63720" cy="50760"/>
          </a:xfrm>
          <a:custGeom>
            <a:avLst/>
            <a:gdLst/>
            <a:ahLst/>
            <a:rect l="l" t="t" r="r" b="b"/>
            <a:pathLst>
              <a:path w="40" h="32">
                <a:moveTo>
                  <a:pt x="16" y="0"/>
                </a:moveTo>
                <a:lnTo>
                  <a:pt x="0" y="32"/>
                </a:lnTo>
                <a:lnTo>
                  <a:pt x="40" y="32"/>
                </a:lnTo>
                <a:lnTo>
                  <a:pt x="16" y="0"/>
                </a:lnTo>
                <a:close/>
              </a:path>
            </a:pathLst>
          </a:custGeom>
          <a:solidFill>
            <a:srgbClr val="83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545000" y="3632040"/>
            <a:ext cx="77760" cy="63720"/>
          </a:xfrm>
          <a:custGeom>
            <a:avLst/>
            <a:gdLst/>
            <a:ahLst/>
            <a:rect l="l" t="t" r="r" b="b"/>
            <a:pathLst>
              <a:path w="49" h="40">
                <a:moveTo>
                  <a:pt x="25" y="0"/>
                </a:moveTo>
                <a:lnTo>
                  <a:pt x="0" y="40"/>
                </a:lnTo>
                <a:lnTo>
                  <a:pt x="49" y="40"/>
                </a:lnTo>
                <a:lnTo>
                  <a:pt x="25" y="0"/>
                </a:lnTo>
                <a:close/>
              </a:path>
            </a:pathLst>
          </a:custGeom>
          <a:solidFill>
            <a:srgbClr val="83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481640" y="397512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0" y="40"/>
                </a:lnTo>
                <a:lnTo>
                  <a:pt x="40" y="40"/>
                </a:lnTo>
                <a:lnTo>
                  <a:pt x="24" y="0"/>
                </a:lnTo>
                <a:close/>
              </a:path>
            </a:pathLst>
          </a:custGeom>
          <a:solidFill>
            <a:srgbClr val="83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4417920" y="4229280"/>
            <a:ext cx="63720" cy="50760"/>
          </a:xfrm>
          <a:custGeom>
            <a:avLst/>
            <a:gdLst/>
            <a:ahLst/>
            <a:rect l="l" t="t" r="r" b="b"/>
            <a:pathLst>
              <a:path w="40" h="32">
                <a:moveTo>
                  <a:pt x="24" y="0"/>
                </a:moveTo>
                <a:lnTo>
                  <a:pt x="0" y="32"/>
                </a:lnTo>
                <a:lnTo>
                  <a:pt x="40" y="32"/>
                </a:lnTo>
                <a:lnTo>
                  <a:pt x="24" y="0"/>
                </a:lnTo>
                <a:close/>
              </a:path>
            </a:pathLst>
          </a:custGeom>
          <a:solidFill>
            <a:srgbClr val="839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527880" y="180036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40"/>
                </a:moveTo>
                <a:lnTo>
                  <a:pt x="32" y="40"/>
                </a:lnTo>
                <a:lnTo>
                  <a:pt x="40" y="32"/>
                </a:lnTo>
                <a:lnTo>
                  <a:pt x="40" y="24"/>
                </a:lnTo>
                <a:lnTo>
                  <a:pt x="48" y="16"/>
                </a:lnTo>
                <a:lnTo>
                  <a:pt x="40" y="16"/>
                </a:lnTo>
                <a:lnTo>
                  <a:pt x="40" y="8"/>
                </a:lnTo>
                <a:lnTo>
                  <a:pt x="32" y="0"/>
                </a:lnTo>
                <a:lnTo>
                  <a:pt x="24" y="0"/>
                </a:lnTo>
                <a:lnTo>
                  <a:pt x="16" y="0"/>
                </a:lnTo>
                <a:lnTo>
                  <a:pt x="8" y="8"/>
                </a:lnTo>
                <a:lnTo>
                  <a:pt x="0" y="16"/>
                </a:lnTo>
                <a:lnTo>
                  <a:pt x="0" y="24"/>
                </a:lnTo>
                <a:lnTo>
                  <a:pt x="8" y="24"/>
                </a:lnTo>
                <a:lnTo>
                  <a:pt x="8" y="32"/>
                </a:lnTo>
                <a:lnTo>
                  <a:pt x="16" y="40"/>
                </a:lnTo>
                <a:lnTo>
                  <a:pt x="24" y="40"/>
                </a:lnTo>
                <a:close/>
              </a:path>
            </a:pathLst>
          </a:custGeom>
          <a:solidFill>
            <a:srgbClr val="f4f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210360" y="3479760"/>
            <a:ext cx="6336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16" y="40"/>
                </a:moveTo>
                <a:lnTo>
                  <a:pt x="24" y="40"/>
                </a:lnTo>
                <a:lnTo>
                  <a:pt x="32" y="40"/>
                </a:lnTo>
                <a:lnTo>
                  <a:pt x="40" y="32"/>
                </a:lnTo>
                <a:lnTo>
                  <a:pt x="40" y="24"/>
                </a:lnTo>
                <a:lnTo>
                  <a:pt x="40" y="16"/>
                </a:lnTo>
                <a:lnTo>
                  <a:pt x="32" y="8"/>
                </a:lnTo>
                <a:lnTo>
                  <a:pt x="24" y="8"/>
                </a:lnTo>
                <a:lnTo>
                  <a:pt x="24" y="0"/>
                </a:lnTo>
                <a:lnTo>
                  <a:pt x="16" y="0"/>
                </a:lnTo>
                <a:lnTo>
                  <a:pt x="8" y="8"/>
                </a:lnTo>
                <a:lnTo>
                  <a:pt x="0" y="8"/>
                </a:lnTo>
                <a:lnTo>
                  <a:pt x="0" y="16"/>
                </a:lnTo>
                <a:lnTo>
                  <a:pt x="0" y="24"/>
                </a:lnTo>
                <a:lnTo>
                  <a:pt x="0" y="32"/>
                </a:lnTo>
                <a:lnTo>
                  <a:pt x="0" y="40"/>
                </a:lnTo>
                <a:lnTo>
                  <a:pt x="8" y="40"/>
                </a:lnTo>
                <a:lnTo>
                  <a:pt x="16" y="40"/>
                </a:lnTo>
                <a:close/>
              </a:path>
            </a:pathLst>
          </a:custGeom>
          <a:solidFill>
            <a:srgbClr val="f4f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006960" y="3147840"/>
            <a:ext cx="6372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40"/>
                </a:moveTo>
                <a:lnTo>
                  <a:pt x="32" y="40"/>
                </a:lnTo>
                <a:lnTo>
                  <a:pt x="40" y="40"/>
                </a:lnTo>
                <a:lnTo>
                  <a:pt x="40" y="32"/>
                </a:lnTo>
                <a:lnTo>
                  <a:pt x="40" y="24"/>
                </a:lnTo>
                <a:lnTo>
                  <a:pt x="40" y="16"/>
                </a:lnTo>
                <a:lnTo>
                  <a:pt x="40" y="8"/>
                </a:lnTo>
                <a:lnTo>
                  <a:pt x="32" y="0"/>
                </a:lnTo>
                <a:lnTo>
                  <a:pt x="24" y="0"/>
                </a:lnTo>
                <a:lnTo>
                  <a:pt x="16" y="0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24"/>
                </a:lnTo>
                <a:lnTo>
                  <a:pt x="8" y="32"/>
                </a:lnTo>
                <a:lnTo>
                  <a:pt x="8" y="40"/>
                </a:lnTo>
                <a:lnTo>
                  <a:pt x="16" y="40"/>
                </a:lnTo>
                <a:lnTo>
                  <a:pt x="24" y="40"/>
                </a:lnTo>
                <a:close/>
              </a:path>
            </a:pathLst>
          </a:custGeom>
          <a:solidFill>
            <a:srgbClr val="f4f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816520" y="2728800"/>
            <a:ext cx="6372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40"/>
                </a:moveTo>
                <a:lnTo>
                  <a:pt x="32" y="40"/>
                </a:lnTo>
                <a:lnTo>
                  <a:pt x="40" y="32"/>
                </a:lnTo>
                <a:lnTo>
                  <a:pt x="40" y="24"/>
                </a:lnTo>
                <a:lnTo>
                  <a:pt x="40" y="16"/>
                </a:lnTo>
                <a:lnTo>
                  <a:pt x="32" y="8"/>
                </a:lnTo>
                <a:lnTo>
                  <a:pt x="24" y="0"/>
                </a:lnTo>
                <a:lnTo>
                  <a:pt x="16" y="0"/>
                </a:lnTo>
                <a:lnTo>
                  <a:pt x="16" y="8"/>
                </a:lnTo>
                <a:lnTo>
                  <a:pt x="8" y="8"/>
                </a:lnTo>
                <a:lnTo>
                  <a:pt x="0" y="16"/>
                </a:lnTo>
                <a:lnTo>
                  <a:pt x="0" y="24"/>
                </a:lnTo>
                <a:lnTo>
                  <a:pt x="0" y="32"/>
                </a:lnTo>
                <a:lnTo>
                  <a:pt x="8" y="40"/>
                </a:lnTo>
                <a:lnTo>
                  <a:pt x="16" y="40"/>
                </a:lnTo>
                <a:lnTo>
                  <a:pt x="24" y="40"/>
                </a:lnTo>
                <a:close/>
              </a:path>
            </a:pathLst>
          </a:custGeom>
          <a:solidFill>
            <a:srgbClr val="f4f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626080" y="220824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16" y="40"/>
                </a:moveTo>
                <a:lnTo>
                  <a:pt x="24" y="40"/>
                </a:lnTo>
                <a:lnTo>
                  <a:pt x="32" y="32"/>
                </a:lnTo>
                <a:lnTo>
                  <a:pt x="40" y="24"/>
                </a:lnTo>
                <a:lnTo>
                  <a:pt x="40" y="16"/>
                </a:lnTo>
                <a:lnTo>
                  <a:pt x="40" y="8"/>
                </a:lnTo>
                <a:lnTo>
                  <a:pt x="32" y="0"/>
                </a:lnTo>
                <a:lnTo>
                  <a:pt x="24" y="0"/>
                </a:ln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24"/>
                </a:lnTo>
                <a:lnTo>
                  <a:pt x="0" y="32"/>
                </a:lnTo>
                <a:lnTo>
                  <a:pt x="8" y="40"/>
                </a:lnTo>
                <a:lnTo>
                  <a:pt x="16" y="40"/>
                </a:lnTo>
                <a:close/>
              </a:path>
            </a:pathLst>
          </a:custGeom>
          <a:solidFill>
            <a:srgbClr val="f4f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423040" y="152244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40"/>
                </a:moveTo>
                <a:lnTo>
                  <a:pt x="32" y="40"/>
                </a:lnTo>
                <a:lnTo>
                  <a:pt x="40" y="32"/>
                </a:lnTo>
                <a:lnTo>
                  <a:pt x="40" y="24"/>
                </a:lnTo>
                <a:lnTo>
                  <a:pt x="48" y="16"/>
                </a:lnTo>
                <a:lnTo>
                  <a:pt x="40" y="16"/>
                </a:lnTo>
                <a:lnTo>
                  <a:pt x="40" y="8"/>
                </a:lnTo>
                <a:lnTo>
                  <a:pt x="32" y="0"/>
                </a:lnTo>
                <a:lnTo>
                  <a:pt x="24" y="0"/>
                </a:lnTo>
                <a:lnTo>
                  <a:pt x="16" y="0"/>
                </a:lnTo>
                <a:lnTo>
                  <a:pt x="8" y="8"/>
                </a:lnTo>
                <a:lnTo>
                  <a:pt x="0" y="16"/>
                </a:lnTo>
                <a:lnTo>
                  <a:pt x="0" y="24"/>
                </a:lnTo>
                <a:lnTo>
                  <a:pt x="8" y="24"/>
                </a:lnTo>
                <a:lnTo>
                  <a:pt x="8" y="32"/>
                </a:lnTo>
                <a:lnTo>
                  <a:pt x="16" y="40"/>
                </a:lnTo>
                <a:lnTo>
                  <a:pt x="24" y="40"/>
                </a:lnTo>
                <a:close/>
              </a:path>
            </a:pathLst>
          </a:custGeom>
          <a:solidFill>
            <a:srgbClr val="f4f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5232240" y="988920"/>
            <a:ext cx="6372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40"/>
                </a:moveTo>
                <a:lnTo>
                  <a:pt x="32" y="40"/>
                </a:lnTo>
                <a:lnTo>
                  <a:pt x="40" y="32"/>
                </a:lnTo>
                <a:lnTo>
                  <a:pt x="40" y="24"/>
                </a:lnTo>
                <a:lnTo>
                  <a:pt x="40" y="16"/>
                </a:lnTo>
                <a:lnTo>
                  <a:pt x="32" y="8"/>
                </a:lnTo>
                <a:lnTo>
                  <a:pt x="32" y="0"/>
                </a:lnTo>
                <a:lnTo>
                  <a:pt x="24" y="0"/>
                </a:lnTo>
                <a:lnTo>
                  <a:pt x="16" y="0"/>
                </a:lnTo>
                <a:lnTo>
                  <a:pt x="8" y="8"/>
                </a:lnTo>
                <a:lnTo>
                  <a:pt x="0" y="16"/>
                </a:lnTo>
                <a:lnTo>
                  <a:pt x="0" y="24"/>
                </a:lnTo>
                <a:lnTo>
                  <a:pt x="0" y="32"/>
                </a:lnTo>
                <a:lnTo>
                  <a:pt x="8" y="40"/>
                </a:lnTo>
                <a:lnTo>
                  <a:pt x="16" y="40"/>
                </a:lnTo>
                <a:lnTo>
                  <a:pt x="24" y="40"/>
                </a:lnTo>
                <a:close/>
              </a:path>
            </a:pathLst>
          </a:custGeom>
          <a:solidFill>
            <a:srgbClr val="f4f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041800" y="900000"/>
            <a:ext cx="6372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16" y="40"/>
                </a:moveTo>
                <a:lnTo>
                  <a:pt x="24" y="40"/>
                </a:lnTo>
                <a:lnTo>
                  <a:pt x="32" y="40"/>
                </a:lnTo>
                <a:lnTo>
                  <a:pt x="40" y="32"/>
                </a:lnTo>
                <a:lnTo>
                  <a:pt x="40" y="24"/>
                </a:lnTo>
                <a:lnTo>
                  <a:pt x="40" y="16"/>
                </a:lnTo>
                <a:lnTo>
                  <a:pt x="32" y="8"/>
                </a:lnTo>
                <a:lnTo>
                  <a:pt x="24" y="0"/>
                </a:lnTo>
                <a:lnTo>
                  <a:pt x="16" y="0"/>
                </a:lnTo>
                <a:lnTo>
                  <a:pt x="8" y="0"/>
                </a:lnTo>
                <a:lnTo>
                  <a:pt x="0" y="8"/>
                </a:lnTo>
                <a:lnTo>
                  <a:pt x="0" y="16"/>
                </a:lnTo>
                <a:lnTo>
                  <a:pt x="0" y="24"/>
                </a:lnTo>
                <a:lnTo>
                  <a:pt x="0" y="32"/>
                </a:lnTo>
                <a:lnTo>
                  <a:pt x="0" y="40"/>
                </a:lnTo>
                <a:lnTo>
                  <a:pt x="8" y="40"/>
                </a:lnTo>
                <a:lnTo>
                  <a:pt x="16" y="40"/>
                </a:lnTo>
                <a:close/>
              </a:path>
            </a:pathLst>
          </a:custGeom>
          <a:solidFill>
            <a:srgbClr val="f4f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838760" y="1712880"/>
            <a:ext cx="7632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lnTo>
                  <a:pt x="32" y="40"/>
                </a:lnTo>
                <a:lnTo>
                  <a:pt x="40" y="40"/>
                </a:lnTo>
                <a:lnTo>
                  <a:pt x="40" y="32"/>
                </a:lnTo>
                <a:lnTo>
                  <a:pt x="48" y="24"/>
                </a:lnTo>
                <a:lnTo>
                  <a:pt x="40" y="24"/>
                </a:lnTo>
                <a:lnTo>
                  <a:pt x="40" y="16"/>
                </a:lnTo>
                <a:lnTo>
                  <a:pt x="40" y="8"/>
                </a:lnTo>
                <a:lnTo>
                  <a:pt x="32" y="8"/>
                </a:lnTo>
                <a:lnTo>
                  <a:pt x="24" y="8"/>
                </a:lnTo>
                <a:lnTo>
                  <a:pt x="24" y="0"/>
                </a:lnTo>
                <a:lnTo>
                  <a:pt x="16" y="8"/>
                </a:lnTo>
                <a:lnTo>
                  <a:pt x="8" y="8"/>
                </a:lnTo>
                <a:lnTo>
                  <a:pt x="8" y="16"/>
                </a:lnTo>
                <a:lnTo>
                  <a:pt x="0" y="24"/>
                </a:lnTo>
                <a:lnTo>
                  <a:pt x="0" y="32"/>
                </a:lnTo>
                <a:lnTo>
                  <a:pt x="8" y="32"/>
                </a:lnTo>
                <a:lnTo>
                  <a:pt x="8" y="40"/>
                </a:lnTo>
                <a:lnTo>
                  <a:pt x="16" y="40"/>
                </a:lnTo>
                <a:lnTo>
                  <a:pt x="16" y="48"/>
                </a:lnTo>
                <a:lnTo>
                  <a:pt x="24" y="48"/>
                </a:lnTo>
                <a:close/>
              </a:path>
            </a:pathLst>
          </a:custGeom>
          <a:solidFill>
            <a:srgbClr val="f4f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648320" y="326232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40"/>
                </a:moveTo>
                <a:lnTo>
                  <a:pt x="32" y="40"/>
                </a:lnTo>
                <a:lnTo>
                  <a:pt x="40" y="32"/>
                </a:lnTo>
                <a:lnTo>
                  <a:pt x="40" y="24"/>
                </a:lnTo>
                <a:lnTo>
                  <a:pt x="40" y="16"/>
                </a:lnTo>
                <a:lnTo>
                  <a:pt x="32" y="8"/>
                </a:lnTo>
                <a:lnTo>
                  <a:pt x="32" y="0"/>
                </a:lnTo>
                <a:lnTo>
                  <a:pt x="24" y="0"/>
                </a:lnTo>
                <a:lnTo>
                  <a:pt x="16" y="0"/>
                </a:lnTo>
                <a:lnTo>
                  <a:pt x="8" y="8"/>
                </a:lnTo>
                <a:lnTo>
                  <a:pt x="0" y="16"/>
                </a:lnTo>
                <a:lnTo>
                  <a:pt x="0" y="24"/>
                </a:lnTo>
                <a:lnTo>
                  <a:pt x="0" y="32"/>
                </a:lnTo>
                <a:lnTo>
                  <a:pt x="8" y="40"/>
                </a:lnTo>
                <a:lnTo>
                  <a:pt x="16" y="40"/>
                </a:lnTo>
                <a:lnTo>
                  <a:pt x="24" y="40"/>
                </a:lnTo>
                <a:close/>
              </a:path>
            </a:pathLst>
          </a:custGeom>
          <a:solidFill>
            <a:srgbClr val="f4f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456080" y="4216320"/>
            <a:ext cx="6336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16" y="40"/>
                </a:moveTo>
                <a:lnTo>
                  <a:pt x="24" y="40"/>
                </a:lnTo>
                <a:lnTo>
                  <a:pt x="32" y="40"/>
                </a:lnTo>
                <a:lnTo>
                  <a:pt x="40" y="32"/>
                </a:lnTo>
                <a:lnTo>
                  <a:pt x="40" y="24"/>
                </a:lnTo>
                <a:lnTo>
                  <a:pt x="40" y="16"/>
                </a:lnTo>
                <a:lnTo>
                  <a:pt x="32" y="8"/>
                </a:lnTo>
                <a:lnTo>
                  <a:pt x="24" y="0"/>
                </a:lnTo>
                <a:lnTo>
                  <a:pt x="16" y="0"/>
                </a:lnTo>
                <a:lnTo>
                  <a:pt x="8" y="0"/>
                </a:lnTo>
                <a:lnTo>
                  <a:pt x="0" y="8"/>
                </a:lnTo>
                <a:lnTo>
                  <a:pt x="0" y="16"/>
                </a:lnTo>
                <a:lnTo>
                  <a:pt x="0" y="24"/>
                </a:lnTo>
                <a:lnTo>
                  <a:pt x="0" y="32"/>
                </a:lnTo>
                <a:lnTo>
                  <a:pt x="0" y="40"/>
                </a:lnTo>
                <a:lnTo>
                  <a:pt x="8" y="40"/>
                </a:lnTo>
                <a:lnTo>
                  <a:pt x="16" y="40"/>
                </a:lnTo>
                <a:close/>
              </a:path>
            </a:pathLst>
          </a:custGeom>
          <a:solidFill>
            <a:srgbClr val="f4f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527880" y="153828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16" y="0"/>
                </a:lnTo>
                <a:lnTo>
                  <a:pt x="8" y="0"/>
                </a:lnTo>
                <a:lnTo>
                  <a:pt x="8" y="8"/>
                </a:lnTo>
                <a:lnTo>
                  <a:pt x="0" y="16"/>
                </a:lnTo>
                <a:lnTo>
                  <a:pt x="0" y="24"/>
                </a:lnTo>
                <a:lnTo>
                  <a:pt x="8" y="24"/>
                </a:lnTo>
                <a:lnTo>
                  <a:pt x="8" y="32"/>
                </a:lnTo>
                <a:lnTo>
                  <a:pt x="16" y="32"/>
                </a:lnTo>
                <a:lnTo>
                  <a:pt x="16" y="40"/>
                </a:lnTo>
                <a:lnTo>
                  <a:pt x="24" y="40"/>
                </a:lnTo>
                <a:lnTo>
                  <a:pt x="32" y="32"/>
                </a:lnTo>
                <a:lnTo>
                  <a:pt x="40" y="32"/>
                </a:lnTo>
                <a:lnTo>
                  <a:pt x="40" y="24"/>
                </a:lnTo>
                <a:lnTo>
                  <a:pt x="48" y="16"/>
                </a:lnTo>
                <a:lnTo>
                  <a:pt x="40" y="16"/>
                </a:lnTo>
                <a:lnTo>
                  <a:pt x="40" y="8"/>
                </a:lnTo>
                <a:lnTo>
                  <a:pt x="40" y="0"/>
                </a:lnTo>
                <a:lnTo>
                  <a:pt x="32" y="0"/>
                </a:lnTo>
                <a:lnTo>
                  <a:pt x="24" y="0"/>
                </a:lnTo>
                <a:close/>
              </a:path>
            </a:pathLst>
          </a:custGeom>
          <a:solidFill>
            <a:srgbClr val="13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337440" y="3619440"/>
            <a:ext cx="6336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16" y="0"/>
                </a:moveTo>
                <a:lnTo>
                  <a:pt x="8" y="8"/>
                </a:lnTo>
                <a:lnTo>
                  <a:pt x="0" y="8"/>
                </a:lnTo>
                <a:lnTo>
                  <a:pt x="0" y="16"/>
                </a:lnTo>
                <a:lnTo>
                  <a:pt x="0" y="24"/>
                </a:lnTo>
                <a:lnTo>
                  <a:pt x="0" y="32"/>
                </a:lnTo>
                <a:lnTo>
                  <a:pt x="0" y="40"/>
                </a:lnTo>
                <a:lnTo>
                  <a:pt x="8" y="40"/>
                </a:lnTo>
                <a:lnTo>
                  <a:pt x="16" y="48"/>
                </a:lnTo>
                <a:lnTo>
                  <a:pt x="24" y="48"/>
                </a:lnTo>
                <a:lnTo>
                  <a:pt x="24" y="40"/>
                </a:lnTo>
                <a:lnTo>
                  <a:pt x="32" y="40"/>
                </a:lnTo>
                <a:lnTo>
                  <a:pt x="40" y="32"/>
                </a:lnTo>
                <a:lnTo>
                  <a:pt x="40" y="24"/>
                </a:lnTo>
                <a:lnTo>
                  <a:pt x="40" y="16"/>
                </a:lnTo>
                <a:lnTo>
                  <a:pt x="32" y="8"/>
                </a:lnTo>
                <a:lnTo>
                  <a:pt x="24" y="8"/>
                </a:lnTo>
                <a:lnTo>
                  <a:pt x="24" y="0"/>
                </a:lnTo>
                <a:lnTo>
                  <a:pt x="16" y="0"/>
                </a:lnTo>
                <a:close/>
              </a:path>
            </a:pathLst>
          </a:custGeom>
          <a:solidFill>
            <a:srgbClr val="13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121440" y="333864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16" y="0"/>
                </a:lnTo>
                <a:lnTo>
                  <a:pt x="8" y="0"/>
                </a:lnTo>
                <a:lnTo>
                  <a:pt x="8" y="8"/>
                </a:lnTo>
                <a:lnTo>
                  <a:pt x="0" y="16"/>
                </a:lnTo>
                <a:lnTo>
                  <a:pt x="0" y="24"/>
                </a:lnTo>
                <a:lnTo>
                  <a:pt x="8" y="24"/>
                </a:lnTo>
                <a:lnTo>
                  <a:pt x="8" y="32"/>
                </a:lnTo>
                <a:lnTo>
                  <a:pt x="16" y="40"/>
                </a:lnTo>
                <a:lnTo>
                  <a:pt x="24" y="40"/>
                </a:lnTo>
                <a:lnTo>
                  <a:pt x="32" y="40"/>
                </a:lnTo>
                <a:lnTo>
                  <a:pt x="40" y="32"/>
                </a:lnTo>
                <a:lnTo>
                  <a:pt x="40" y="24"/>
                </a:lnTo>
                <a:lnTo>
                  <a:pt x="40" y="16"/>
                </a:lnTo>
                <a:lnTo>
                  <a:pt x="40" y="8"/>
                </a:lnTo>
                <a:lnTo>
                  <a:pt x="40" y="0"/>
                </a:lnTo>
                <a:lnTo>
                  <a:pt x="32" y="0"/>
                </a:lnTo>
                <a:lnTo>
                  <a:pt x="24" y="0"/>
                </a:lnTo>
                <a:close/>
              </a:path>
            </a:pathLst>
          </a:custGeom>
          <a:solidFill>
            <a:srgbClr val="13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918040" y="2919240"/>
            <a:ext cx="6372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16" y="0"/>
                </a:lnTo>
                <a:lnTo>
                  <a:pt x="8" y="8"/>
                </a:lnTo>
                <a:lnTo>
                  <a:pt x="0" y="16"/>
                </a:lnTo>
                <a:lnTo>
                  <a:pt x="0" y="24"/>
                </a:lnTo>
                <a:lnTo>
                  <a:pt x="0" y="32"/>
                </a:lnTo>
                <a:lnTo>
                  <a:pt x="8" y="32"/>
                </a:lnTo>
                <a:lnTo>
                  <a:pt x="16" y="40"/>
                </a:lnTo>
                <a:lnTo>
                  <a:pt x="24" y="40"/>
                </a:lnTo>
                <a:lnTo>
                  <a:pt x="32" y="40"/>
                </a:lnTo>
                <a:lnTo>
                  <a:pt x="32" y="32"/>
                </a:lnTo>
                <a:lnTo>
                  <a:pt x="40" y="32"/>
                </a:lnTo>
                <a:lnTo>
                  <a:pt x="40" y="24"/>
                </a:lnTo>
                <a:lnTo>
                  <a:pt x="40" y="16"/>
                </a:lnTo>
                <a:lnTo>
                  <a:pt x="32" y="8"/>
                </a:lnTo>
                <a:lnTo>
                  <a:pt x="32" y="0"/>
                </a:lnTo>
                <a:lnTo>
                  <a:pt x="24" y="0"/>
                </a:lnTo>
                <a:close/>
              </a:path>
            </a:pathLst>
          </a:custGeom>
          <a:solidFill>
            <a:srgbClr val="13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715000" y="238608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16" y="0"/>
                </a:moveTo>
                <a:lnTo>
                  <a:pt x="8" y="0"/>
                </a:lnTo>
                <a:lnTo>
                  <a:pt x="0" y="8"/>
                </a:lnTo>
                <a:lnTo>
                  <a:pt x="0" y="16"/>
                </a:lnTo>
                <a:lnTo>
                  <a:pt x="0" y="24"/>
                </a:lnTo>
                <a:lnTo>
                  <a:pt x="0" y="32"/>
                </a:lnTo>
                <a:lnTo>
                  <a:pt x="8" y="40"/>
                </a:lnTo>
                <a:lnTo>
                  <a:pt x="16" y="40"/>
                </a:lnTo>
                <a:lnTo>
                  <a:pt x="24" y="40"/>
                </a:lnTo>
                <a:lnTo>
                  <a:pt x="32" y="32"/>
                </a:lnTo>
                <a:lnTo>
                  <a:pt x="40" y="24"/>
                </a:lnTo>
                <a:lnTo>
                  <a:pt x="40" y="16"/>
                </a:lnTo>
                <a:lnTo>
                  <a:pt x="40" y="8"/>
                </a:lnTo>
                <a:lnTo>
                  <a:pt x="32" y="8"/>
                </a:lnTo>
                <a:lnTo>
                  <a:pt x="24" y="0"/>
                </a:lnTo>
                <a:lnTo>
                  <a:pt x="16" y="0"/>
                </a:lnTo>
                <a:close/>
              </a:path>
            </a:pathLst>
          </a:custGeom>
          <a:solidFill>
            <a:srgbClr val="13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5499000" y="1738440"/>
            <a:ext cx="6372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16" y="0"/>
                </a:lnTo>
                <a:lnTo>
                  <a:pt x="16" y="8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24"/>
                </a:lnTo>
                <a:lnTo>
                  <a:pt x="8" y="32"/>
                </a:lnTo>
                <a:lnTo>
                  <a:pt x="8" y="40"/>
                </a:lnTo>
                <a:lnTo>
                  <a:pt x="16" y="40"/>
                </a:lnTo>
                <a:lnTo>
                  <a:pt x="24" y="40"/>
                </a:lnTo>
                <a:lnTo>
                  <a:pt x="32" y="40"/>
                </a:lnTo>
                <a:lnTo>
                  <a:pt x="40" y="40"/>
                </a:lnTo>
                <a:lnTo>
                  <a:pt x="40" y="32"/>
                </a:lnTo>
                <a:lnTo>
                  <a:pt x="40" y="24"/>
                </a:lnTo>
                <a:lnTo>
                  <a:pt x="40" y="16"/>
                </a:lnTo>
                <a:lnTo>
                  <a:pt x="40" y="8"/>
                </a:lnTo>
                <a:lnTo>
                  <a:pt x="32" y="8"/>
                </a:lnTo>
                <a:lnTo>
                  <a:pt x="24" y="0"/>
                </a:lnTo>
                <a:close/>
              </a:path>
            </a:pathLst>
          </a:custGeom>
          <a:solidFill>
            <a:srgbClr val="13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295960" y="1128600"/>
            <a:ext cx="6336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16" y="0"/>
                </a:lnTo>
                <a:lnTo>
                  <a:pt x="8" y="0"/>
                </a:lnTo>
                <a:lnTo>
                  <a:pt x="0" y="8"/>
                </a:lnTo>
                <a:lnTo>
                  <a:pt x="0" y="16"/>
                </a:lnTo>
                <a:lnTo>
                  <a:pt x="0" y="24"/>
                </a:lnTo>
                <a:lnTo>
                  <a:pt x="8" y="32"/>
                </a:lnTo>
                <a:lnTo>
                  <a:pt x="16" y="32"/>
                </a:lnTo>
                <a:lnTo>
                  <a:pt x="16" y="40"/>
                </a:lnTo>
                <a:lnTo>
                  <a:pt x="24" y="40"/>
                </a:lnTo>
                <a:lnTo>
                  <a:pt x="32" y="32"/>
                </a:lnTo>
                <a:lnTo>
                  <a:pt x="40" y="24"/>
                </a:lnTo>
                <a:lnTo>
                  <a:pt x="40" y="16"/>
                </a:lnTo>
                <a:lnTo>
                  <a:pt x="40" y="8"/>
                </a:lnTo>
                <a:lnTo>
                  <a:pt x="32" y="0"/>
                </a:lnTo>
                <a:lnTo>
                  <a:pt x="24" y="0"/>
                </a:lnTo>
                <a:close/>
              </a:path>
            </a:pathLst>
          </a:custGeom>
          <a:solidFill>
            <a:srgbClr val="13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092560" y="900000"/>
            <a:ext cx="6372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24"/>
                </a:lnTo>
                <a:lnTo>
                  <a:pt x="0" y="32"/>
                </a:lnTo>
                <a:lnTo>
                  <a:pt x="8" y="40"/>
                </a:lnTo>
                <a:lnTo>
                  <a:pt x="16" y="40"/>
                </a:lnTo>
                <a:lnTo>
                  <a:pt x="24" y="40"/>
                </a:lnTo>
                <a:lnTo>
                  <a:pt x="32" y="32"/>
                </a:lnTo>
                <a:lnTo>
                  <a:pt x="40" y="24"/>
                </a:lnTo>
                <a:lnTo>
                  <a:pt x="40" y="16"/>
                </a:lnTo>
                <a:lnTo>
                  <a:pt x="40" y="8"/>
                </a:lnTo>
                <a:lnTo>
                  <a:pt x="32" y="0"/>
                </a:lnTo>
                <a:lnTo>
                  <a:pt x="24" y="0"/>
                </a:lnTo>
                <a:lnTo>
                  <a:pt x="16" y="0"/>
                </a:lnTo>
                <a:close/>
              </a:path>
            </a:pathLst>
          </a:custGeom>
          <a:solidFill>
            <a:srgbClr val="13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876920" y="166212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16" y="0"/>
                </a:lnTo>
                <a:lnTo>
                  <a:pt x="8" y="8"/>
                </a:lnTo>
                <a:lnTo>
                  <a:pt x="0" y="8"/>
                </a:lnTo>
                <a:lnTo>
                  <a:pt x="0" y="16"/>
                </a:lnTo>
                <a:lnTo>
                  <a:pt x="0" y="24"/>
                </a:lnTo>
                <a:lnTo>
                  <a:pt x="8" y="32"/>
                </a:lnTo>
                <a:lnTo>
                  <a:pt x="16" y="40"/>
                </a:lnTo>
                <a:lnTo>
                  <a:pt x="24" y="40"/>
                </a:lnTo>
                <a:lnTo>
                  <a:pt x="32" y="40"/>
                </a:lnTo>
                <a:lnTo>
                  <a:pt x="40" y="32"/>
                </a:lnTo>
                <a:lnTo>
                  <a:pt x="40" y="24"/>
                </a:lnTo>
                <a:lnTo>
                  <a:pt x="40" y="16"/>
                </a:lnTo>
                <a:lnTo>
                  <a:pt x="40" y="8"/>
                </a:lnTo>
                <a:lnTo>
                  <a:pt x="32" y="0"/>
                </a:lnTo>
                <a:lnTo>
                  <a:pt x="24" y="0"/>
                </a:lnTo>
                <a:close/>
              </a:path>
            </a:pathLst>
          </a:custGeom>
          <a:solidFill>
            <a:srgbClr val="13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673520" y="3122640"/>
            <a:ext cx="63720" cy="76320"/>
          </a:xfrm>
          <a:custGeom>
            <a:avLst/>
            <a:gdLst/>
            <a:ahLst/>
            <a:rect l="l" t="t" r="r" b="b"/>
            <a:pathLst>
              <a:path w="40" h="48">
                <a:moveTo>
                  <a:pt x="16" y="0"/>
                </a:moveTo>
                <a:lnTo>
                  <a:pt x="8" y="8"/>
                </a:lnTo>
                <a:lnTo>
                  <a:pt x="0" y="16"/>
                </a:lnTo>
                <a:lnTo>
                  <a:pt x="0" y="24"/>
                </a:lnTo>
                <a:lnTo>
                  <a:pt x="0" y="32"/>
                </a:lnTo>
                <a:lnTo>
                  <a:pt x="8" y="40"/>
                </a:lnTo>
                <a:lnTo>
                  <a:pt x="16" y="40"/>
                </a:lnTo>
                <a:lnTo>
                  <a:pt x="16" y="48"/>
                </a:lnTo>
                <a:lnTo>
                  <a:pt x="24" y="40"/>
                </a:lnTo>
                <a:lnTo>
                  <a:pt x="32" y="40"/>
                </a:lnTo>
                <a:lnTo>
                  <a:pt x="40" y="32"/>
                </a:lnTo>
                <a:lnTo>
                  <a:pt x="40" y="24"/>
                </a:lnTo>
                <a:lnTo>
                  <a:pt x="40" y="16"/>
                </a:lnTo>
                <a:lnTo>
                  <a:pt x="32" y="8"/>
                </a:lnTo>
                <a:lnTo>
                  <a:pt x="24" y="8"/>
                </a:lnTo>
                <a:lnTo>
                  <a:pt x="24" y="0"/>
                </a:lnTo>
                <a:lnTo>
                  <a:pt x="16" y="0"/>
                </a:lnTo>
                <a:close/>
              </a:path>
            </a:pathLst>
          </a:custGeom>
          <a:solidFill>
            <a:srgbClr val="13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468680" y="4267080"/>
            <a:ext cx="6372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24"/>
                </a:lnTo>
                <a:lnTo>
                  <a:pt x="0" y="32"/>
                </a:lnTo>
                <a:lnTo>
                  <a:pt x="8" y="40"/>
                </a:lnTo>
                <a:lnTo>
                  <a:pt x="16" y="40"/>
                </a:lnTo>
                <a:lnTo>
                  <a:pt x="24" y="40"/>
                </a:lnTo>
                <a:lnTo>
                  <a:pt x="32" y="32"/>
                </a:lnTo>
                <a:lnTo>
                  <a:pt x="40" y="24"/>
                </a:lnTo>
                <a:lnTo>
                  <a:pt x="40" y="16"/>
                </a:lnTo>
                <a:lnTo>
                  <a:pt x="40" y="8"/>
                </a:lnTo>
                <a:lnTo>
                  <a:pt x="32" y="0"/>
                </a:lnTo>
                <a:lnTo>
                  <a:pt x="24" y="0"/>
                </a:lnTo>
                <a:lnTo>
                  <a:pt x="16" y="0"/>
                </a:lnTo>
                <a:close/>
              </a:path>
            </a:pathLst>
          </a:custGeom>
          <a:solidFill>
            <a:srgbClr val="13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527880" y="1276200"/>
            <a:ext cx="75960" cy="6372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16" y="0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24"/>
                </a:lnTo>
                <a:lnTo>
                  <a:pt x="8" y="32"/>
                </a:lnTo>
                <a:lnTo>
                  <a:pt x="8" y="40"/>
                </a:lnTo>
                <a:lnTo>
                  <a:pt x="16" y="40"/>
                </a:lnTo>
                <a:lnTo>
                  <a:pt x="24" y="40"/>
                </a:lnTo>
                <a:lnTo>
                  <a:pt x="32" y="40"/>
                </a:lnTo>
                <a:lnTo>
                  <a:pt x="40" y="40"/>
                </a:lnTo>
                <a:lnTo>
                  <a:pt x="40" y="32"/>
                </a:lnTo>
                <a:lnTo>
                  <a:pt x="40" y="24"/>
                </a:lnTo>
                <a:lnTo>
                  <a:pt x="48" y="24"/>
                </a:lnTo>
                <a:lnTo>
                  <a:pt x="40" y="16"/>
                </a:lnTo>
                <a:lnTo>
                  <a:pt x="40" y="8"/>
                </a:lnTo>
                <a:lnTo>
                  <a:pt x="32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6210360" y="3568680"/>
            <a:ext cx="7632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16" y="8"/>
                </a:lnTo>
                <a:lnTo>
                  <a:pt x="8" y="8"/>
                </a:lnTo>
                <a:lnTo>
                  <a:pt x="8" y="16"/>
                </a:lnTo>
                <a:lnTo>
                  <a:pt x="0" y="24"/>
                </a:lnTo>
                <a:lnTo>
                  <a:pt x="8" y="24"/>
                </a:lnTo>
                <a:lnTo>
                  <a:pt x="8" y="32"/>
                </a:lnTo>
                <a:lnTo>
                  <a:pt x="8" y="40"/>
                </a:lnTo>
                <a:lnTo>
                  <a:pt x="16" y="40"/>
                </a:lnTo>
                <a:lnTo>
                  <a:pt x="24" y="40"/>
                </a:lnTo>
                <a:lnTo>
                  <a:pt x="32" y="40"/>
                </a:lnTo>
                <a:lnTo>
                  <a:pt x="40" y="40"/>
                </a:lnTo>
                <a:lnTo>
                  <a:pt x="40" y="32"/>
                </a:lnTo>
                <a:lnTo>
                  <a:pt x="48" y="24"/>
                </a:lnTo>
                <a:lnTo>
                  <a:pt x="48" y="16"/>
                </a:lnTo>
                <a:lnTo>
                  <a:pt x="40" y="16"/>
                </a:lnTo>
                <a:lnTo>
                  <a:pt x="40" y="8"/>
                </a:lnTo>
                <a:lnTo>
                  <a:pt x="32" y="8"/>
                </a:lnTo>
                <a:lnTo>
                  <a:pt x="32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969160" y="3224160"/>
            <a:ext cx="6336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16" y="0"/>
                </a:lnTo>
                <a:lnTo>
                  <a:pt x="8" y="8"/>
                </a:lnTo>
                <a:lnTo>
                  <a:pt x="0" y="8"/>
                </a:lnTo>
                <a:lnTo>
                  <a:pt x="0" y="16"/>
                </a:lnTo>
                <a:lnTo>
                  <a:pt x="0" y="24"/>
                </a:lnTo>
                <a:lnTo>
                  <a:pt x="8" y="32"/>
                </a:lnTo>
                <a:lnTo>
                  <a:pt x="16" y="40"/>
                </a:lnTo>
                <a:lnTo>
                  <a:pt x="24" y="40"/>
                </a:lnTo>
                <a:lnTo>
                  <a:pt x="32" y="40"/>
                </a:lnTo>
                <a:lnTo>
                  <a:pt x="40" y="32"/>
                </a:lnTo>
                <a:lnTo>
                  <a:pt x="40" y="24"/>
                </a:lnTo>
                <a:lnTo>
                  <a:pt x="40" y="16"/>
                </a:lnTo>
                <a:lnTo>
                  <a:pt x="40" y="8"/>
                </a:lnTo>
                <a:lnTo>
                  <a:pt x="32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727600" y="2703600"/>
            <a:ext cx="6372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16" y="0"/>
                </a:moveTo>
                <a:lnTo>
                  <a:pt x="8" y="0"/>
                </a:lnTo>
                <a:lnTo>
                  <a:pt x="0" y="8"/>
                </a:lnTo>
                <a:lnTo>
                  <a:pt x="0" y="16"/>
                </a:lnTo>
                <a:lnTo>
                  <a:pt x="0" y="24"/>
                </a:lnTo>
                <a:lnTo>
                  <a:pt x="8" y="32"/>
                </a:lnTo>
                <a:lnTo>
                  <a:pt x="8" y="40"/>
                </a:lnTo>
                <a:lnTo>
                  <a:pt x="16" y="40"/>
                </a:lnTo>
                <a:lnTo>
                  <a:pt x="24" y="40"/>
                </a:lnTo>
                <a:lnTo>
                  <a:pt x="32" y="32"/>
                </a:lnTo>
                <a:lnTo>
                  <a:pt x="40" y="24"/>
                </a:lnTo>
                <a:lnTo>
                  <a:pt x="40" y="16"/>
                </a:lnTo>
                <a:lnTo>
                  <a:pt x="40" y="8"/>
                </a:lnTo>
                <a:lnTo>
                  <a:pt x="32" y="0"/>
                </a:lnTo>
                <a:lnTo>
                  <a:pt x="24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473800" y="197964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16" y="0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24"/>
                </a:lnTo>
                <a:lnTo>
                  <a:pt x="8" y="32"/>
                </a:lnTo>
                <a:lnTo>
                  <a:pt x="8" y="40"/>
                </a:lnTo>
                <a:lnTo>
                  <a:pt x="16" y="40"/>
                </a:lnTo>
                <a:lnTo>
                  <a:pt x="24" y="40"/>
                </a:lnTo>
                <a:lnTo>
                  <a:pt x="32" y="40"/>
                </a:lnTo>
                <a:lnTo>
                  <a:pt x="40" y="40"/>
                </a:lnTo>
                <a:lnTo>
                  <a:pt x="40" y="32"/>
                </a:lnTo>
                <a:lnTo>
                  <a:pt x="40" y="24"/>
                </a:lnTo>
                <a:lnTo>
                  <a:pt x="48" y="24"/>
                </a:lnTo>
                <a:lnTo>
                  <a:pt x="40" y="16"/>
                </a:lnTo>
                <a:lnTo>
                  <a:pt x="40" y="8"/>
                </a:lnTo>
                <a:lnTo>
                  <a:pt x="32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232240" y="1179360"/>
            <a:ext cx="63720" cy="6372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16" y="0"/>
                </a:lnTo>
                <a:lnTo>
                  <a:pt x="8" y="8"/>
                </a:lnTo>
                <a:lnTo>
                  <a:pt x="0" y="16"/>
                </a:lnTo>
                <a:lnTo>
                  <a:pt x="0" y="24"/>
                </a:lnTo>
                <a:lnTo>
                  <a:pt x="0" y="32"/>
                </a:lnTo>
                <a:lnTo>
                  <a:pt x="8" y="32"/>
                </a:lnTo>
                <a:lnTo>
                  <a:pt x="16" y="40"/>
                </a:lnTo>
                <a:lnTo>
                  <a:pt x="24" y="40"/>
                </a:lnTo>
                <a:lnTo>
                  <a:pt x="32" y="40"/>
                </a:lnTo>
                <a:lnTo>
                  <a:pt x="32" y="32"/>
                </a:lnTo>
                <a:lnTo>
                  <a:pt x="40" y="32"/>
                </a:lnTo>
                <a:lnTo>
                  <a:pt x="40" y="24"/>
                </a:lnTo>
                <a:lnTo>
                  <a:pt x="40" y="16"/>
                </a:lnTo>
                <a:lnTo>
                  <a:pt x="32" y="8"/>
                </a:lnTo>
                <a:lnTo>
                  <a:pt x="32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4991040" y="836640"/>
            <a:ext cx="6372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24"/>
                </a:lnTo>
                <a:lnTo>
                  <a:pt x="0" y="32"/>
                </a:lnTo>
                <a:lnTo>
                  <a:pt x="8" y="40"/>
                </a:lnTo>
                <a:lnTo>
                  <a:pt x="16" y="40"/>
                </a:lnTo>
                <a:lnTo>
                  <a:pt x="24" y="40"/>
                </a:lnTo>
                <a:lnTo>
                  <a:pt x="32" y="32"/>
                </a:lnTo>
                <a:lnTo>
                  <a:pt x="40" y="24"/>
                </a:lnTo>
                <a:lnTo>
                  <a:pt x="40" y="16"/>
                </a:lnTo>
                <a:lnTo>
                  <a:pt x="40" y="8"/>
                </a:lnTo>
                <a:lnTo>
                  <a:pt x="32" y="0"/>
                </a:lnTo>
                <a:lnTo>
                  <a:pt x="24" y="0"/>
                </a:lnTo>
                <a:lnTo>
                  <a:pt x="1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737240" y="187812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16" y="0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24"/>
                </a:lnTo>
                <a:lnTo>
                  <a:pt x="8" y="32"/>
                </a:lnTo>
                <a:lnTo>
                  <a:pt x="16" y="40"/>
                </a:lnTo>
                <a:lnTo>
                  <a:pt x="24" y="40"/>
                </a:lnTo>
                <a:lnTo>
                  <a:pt x="32" y="40"/>
                </a:lnTo>
                <a:lnTo>
                  <a:pt x="40" y="32"/>
                </a:lnTo>
                <a:lnTo>
                  <a:pt x="40" y="24"/>
                </a:lnTo>
                <a:lnTo>
                  <a:pt x="40" y="16"/>
                </a:lnTo>
                <a:lnTo>
                  <a:pt x="40" y="8"/>
                </a:lnTo>
                <a:lnTo>
                  <a:pt x="32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494240" y="383544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16" y="0"/>
                </a:lnTo>
                <a:lnTo>
                  <a:pt x="8" y="8"/>
                </a:lnTo>
                <a:lnTo>
                  <a:pt x="0" y="16"/>
                </a:lnTo>
                <a:lnTo>
                  <a:pt x="0" y="24"/>
                </a:lnTo>
                <a:lnTo>
                  <a:pt x="0" y="32"/>
                </a:lnTo>
                <a:lnTo>
                  <a:pt x="8" y="32"/>
                </a:lnTo>
                <a:lnTo>
                  <a:pt x="16" y="40"/>
                </a:lnTo>
                <a:lnTo>
                  <a:pt x="24" y="40"/>
                </a:lnTo>
                <a:lnTo>
                  <a:pt x="32" y="40"/>
                </a:lnTo>
                <a:lnTo>
                  <a:pt x="32" y="32"/>
                </a:lnTo>
                <a:lnTo>
                  <a:pt x="40" y="32"/>
                </a:lnTo>
                <a:lnTo>
                  <a:pt x="40" y="24"/>
                </a:lnTo>
                <a:lnTo>
                  <a:pt x="40" y="16"/>
                </a:lnTo>
                <a:lnTo>
                  <a:pt x="32" y="8"/>
                </a:lnTo>
                <a:lnTo>
                  <a:pt x="32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540480" y="101448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16" y="0"/>
                </a:moveTo>
                <a:lnTo>
                  <a:pt x="8" y="0"/>
                </a:lnTo>
                <a:lnTo>
                  <a:pt x="0" y="8"/>
                </a:lnTo>
                <a:lnTo>
                  <a:pt x="0" y="16"/>
                </a:lnTo>
                <a:lnTo>
                  <a:pt x="0" y="24"/>
                </a:lnTo>
                <a:lnTo>
                  <a:pt x="8" y="32"/>
                </a:lnTo>
                <a:lnTo>
                  <a:pt x="8" y="40"/>
                </a:lnTo>
                <a:lnTo>
                  <a:pt x="16" y="40"/>
                </a:lnTo>
                <a:lnTo>
                  <a:pt x="24" y="40"/>
                </a:lnTo>
                <a:lnTo>
                  <a:pt x="32" y="32"/>
                </a:lnTo>
                <a:lnTo>
                  <a:pt x="40" y="24"/>
                </a:lnTo>
                <a:lnTo>
                  <a:pt x="40" y="16"/>
                </a:lnTo>
                <a:lnTo>
                  <a:pt x="40" y="8"/>
                </a:lnTo>
                <a:lnTo>
                  <a:pt x="32" y="0"/>
                </a:lnTo>
                <a:lnTo>
                  <a:pt x="24" y="0"/>
                </a:lnTo>
                <a:lnTo>
                  <a:pt x="16" y="0"/>
                </a:lnTo>
                <a:close/>
              </a:path>
            </a:pathLst>
          </a:custGeom>
          <a:solidFill>
            <a:srgbClr val="fc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540480" y="388620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0"/>
                </a:moveTo>
                <a:lnTo>
                  <a:pt x="16" y="0"/>
                </a:lnTo>
                <a:lnTo>
                  <a:pt x="8" y="8"/>
                </a:lnTo>
                <a:lnTo>
                  <a:pt x="0" y="16"/>
                </a:lnTo>
                <a:lnTo>
                  <a:pt x="0" y="24"/>
                </a:lnTo>
                <a:lnTo>
                  <a:pt x="0" y="32"/>
                </a:lnTo>
                <a:lnTo>
                  <a:pt x="8" y="40"/>
                </a:lnTo>
                <a:lnTo>
                  <a:pt x="16" y="40"/>
                </a:lnTo>
                <a:lnTo>
                  <a:pt x="24" y="40"/>
                </a:lnTo>
                <a:lnTo>
                  <a:pt x="32" y="40"/>
                </a:lnTo>
                <a:lnTo>
                  <a:pt x="40" y="32"/>
                </a:lnTo>
                <a:lnTo>
                  <a:pt x="40" y="24"/>
                </a:lnTo>
                <a:lnTo>
                  <a:pt x="40" y="16"/>
                </a:lnTo>
                <a:lnTo>
                  <a:pt x="32" y="8"/>
                </a:lnTo>
                <a:lnTo>
                  <a:pt x="32" y="0"/>
                </a:lnTo>
                <a:lnTo>
                  <a:pt x="24" y="0"/>
                </a:lnTo>
                <a:close/>
              </a:path>
            </a:pathLst>
          </a:custGeom>
          <a:solidFill>
            <a:srgbClr val="fc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070680" y="3363840"/>
            <a:ext cx="63360" cy="65160"/>
          </a:xfrm>
          <a:custGeom>
            <a:avLst/>
            <a:gdLst/>
            <a:ahLst/>
            <a:rect l="l" t="t" r="r" b="b"/>
            <a:pathLst>
              <a:path w="40" h="41">
                <a:moveTo>
                  <a:pt x="24" y="0"/>
                </a:moveTo>
                <a:lnTo>
                  <a:pt x="16" y="0"/>
                </a:lnTo>
                <a:lnTo>
                  <a:pt x="8" y="8"/>
                </a:lnTo>
                <a:lnTo>
                  <a:pt x="0" y="8"/>
                </a:lnTo>
                <a:lnTo>
                  <a:pt x="0" y="16"/>
                </a:lnTo>
                <a:lnTo>
                  <a:pt x="0" y="24"/>
                </a:lnTo>
                <a:lnTo>
                  <a:pt x="8" y="32"/>
                </a:lnTo>
                <a:lnTo>
                  <a:pt x="16" y="41"/>
                </a:lnTo>
                <a:lnTo>
                  <a:pt x="24" y="41"/>
                </a:lnTo>
                <a:lnTo>
                  <a:pt x="32" y="41"/>
                </a:lnTo>
                <a:lnTo>
                  <a:pt x="40" y="32"/>
                </a:lnTo>
                <a:lnTo>
                  <a:pt x="40" y="24"/>
                </a:lnTo>
                <a:lnTo>
                  <a:pt x="40" y="16"/>
                </a:lnTo>
                <a:lnTo>
                  <a:pt x="40" y="8"/>
                </a:lnTo>
                <a:lnTo>
                  <a:pt x="32" y="0"/>
                </a:lnTo>
                <a:lnTo>
                  <a:pt x="24" y="0"/>
                </a:lnTo>
                <a:close/>
              </a:path>
            </a:pathLst>
          </a:custGeom>
          <a:solidFill>
            <a:srgbClr val="fc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600880" y="2195640"/>
            <a:ext cx="75960" cy="63360"/>
          </a:xfrm>
          <a:custGeom>
            <a:avLst/>
            <a:gdLst/>
            <a:ahLst/>
            <a:rect l="l" t="t" r="r" b="b"/>
            <a:pathLst>
              <a:path w="48" h="40">
                <a:moveTo>
                  <a:pt x="24" y="0"/>
                </a:moveTo>
                <a:lnTo>
                  <a:pt x="16" y="0"/>
                </a:lnTo>
                <a:lnTo>
                  <a:pt x="8" y="8"/>
                </a:lnTo>
                <a:lnTo>
                  <a:pt x="8" y="16"/>
                </a:lnTo>
                <a:lnTo>
                  <a:pt x="0" y="24"/>
                </a:lnTo>
                <a:lnTo>
                  <a:pt x="8" y="24"/>
                </a:lnTo>
                <a:lnTo>
                  <a:pt x="8" y="32"/>
                </a:lnTo>
                <a:lnTo>
                  <a:pt x="16" y="40"/>
                </a:lnTo>
                <a:lnTo>
                  <a:pt x="24" y="40"/>
                </a:lnTo>
                <a:lnTo>
                  <a:pt x="32" y="40"/>
                </a:lnTo>
                <a:lnTo>
                  <a:pt x="40" y="32"/>
                </a:lnTo>
                <a:lnTo>
                  <a:pt x="48" y="24"/>
                </a:lnTo>
                <a:lnTo>
                  <a:pt x="48" y="16"/>
                </a:lnTo>
                <a:lnTo>
                  <a:pt x="40" y="16"/>
                </a:lnTo>
                <a:lnTo>
                  <a:pt x="40" y="8"/>
                </a:lnTo>
                <a:lnTo>
                  <a:pt x="32" y="0"/>
                </a:lnTo>
                <a:lnTo>
                  <a:pt x="24" y="0"/>
                </a:lnTo>
                <a:close/>
              </a:path>
            </a:pathLst>
          </a:custGeom>
          <a:solidFill>
            <a:srgbClr val="fc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143680" y="92556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24"/>
                </a:lnTo>
                <a:lnTo>
                  <a:pt x="0" y="32"/>
                </a:lnTo>
                <a:lnTo>
                  <a:pt x="8" y="32"/>
                </a:lnTo>
                <a:lnTo>
                  <a:pt x="16" y="40"/>
                </a:lnTo>
                <a:lnTo>
                  <a:pt x="24" y="40"/>
                </a:lnTo>
                <a:lnTo>
                  <a:pt x="24" y="32"/>
                </a:lnTo>
                <a:lnTo>
                  <a:pt x="32" y="32"/>
                </a:lnTo>
                <a:lnTo>
                  <a:pt x="40" y="24"/>
                </a:lnTo>
                <a:lnTo>
                  <a:pt x="40" y="16"/>
                </a:lnTo>
                <a:lnTo>
                  <a:pt x="40" y="8"/>
                </a:lnTo>
                <a:lnTo>
                  <a:pt x="32" y="0"/>
                </a:lnTo>
                <a:lnTo>
                  <a:pt x="24" y="0"/>
                </a:lnTo>
                <a:lnTo>
                  <a:pt x="16" y="0"/>
                </a:lnTo>
                <a:close/>
              </a:path>
            </a:pathLst>
          </a:custGeom>
          <a:solidFill>
            <a:srgbClr val="fc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673520" y="2843280"/>
            <a:ext cx="63720" cy="75960"/>
          </a:xfrm>
          <a:custGeom>
            <a:avLst/>
            <a:gdLst/>
            <a:ahLst/>
            <a:rect l="l" t="t" r="r" b="b"/>
            <a:pathLst>
              <a:path w="40" h="48">
                <a:moveTo>
                  <a:pt x="16" y="0"/>
                </a:moveTo>
                <a:lnTo>
                  <a:pt x="8" y="8"/>
                </a:lnTo>
                <a:lnTo>
                  <a:pt x="0" y="16"/>
                </a:lnTo>
                <a:lnTo>
                  <a:pt x="0" y="24"/>
                </a:lnTo>
                <a:lnTo>
                  <a:pt x="0" y="32"/>
                </a:lnTo>
                <a:lnTo>
                  <a:pt x="8" y="40"/>
                </a:lnTo>
                <a:lnTo>
                  <a:pt x="16" y="48"/>
                </a:lnTo>
                <a:lnTo>
                  <a:pt x="24" y="48"/>
                </a:lnTo>
                <a:lnTo>
                  <a:pt x="24" y="40"/>
                </a:lnTo>
                <a:lnTo>
                  <a:pt x="32" y="40"/>
                </a:lnTo>
                <a:lnTo>
                  <a:pt x="40" y="32"/>
                </a:lnTo>
                <a:lnTo>
                  <a:pt x="40" y="24"/>
                </a:lnTo>
                <a:lnTo>
                  <a:pt x="40" y="16"/>
                </a:lnTo>
                <a:lnTo>
                  <a:pt x="32" y="8"/>
                </a:lnTo>
                <a:lnTo>
                  <a:pt x="24" y="8"/>
                </a:lnTo>
                <a:lnTo>
                  <a:pt x="24" y="0"/>
                </a:lnTo>
                <a:lnTo>
                  <a:pt x="16" y="0"/>
                </a:lnTo>
                <a:close/>
              </a:path>
            </a:pathLst>
          </a:custGeom>
          <a:solidFill>
            <a:srgbClr val="fc0a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845040" y="198108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9bff"/>
                </a:solidFill>
                <a:latin typeface="Trebuchet MS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20920" y="171468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f616"/>
                </a:solidFill>
                <a:latin typeface="Trebuchet MS"/>
              </a:rPr>
              <a:t>Sod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780240" y="144792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ff00"/>
                </a:solidFill>
                <a:latin typeface="Trebuchet MS"/>
              </a:rPr>
              <a:t>Sucr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800040" y="118116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lbum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6642000" y="914400"/>
            <a:ext cx="164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a16"/>
                </a:solidFill>
                <a:latin typeface="Trebuchet MS"/>
              </a:rPr>
              <a:t>Erythrocy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4210560" y="5867280"/>
            <a:ext cx="2625840" cy="228600"/>
            <a:chOff x="4210560" y="5867280"/>
            <a:chExt cx="2625840" cy="228600"/>
          </a:xfrm>
        </p:grpSpPr>
        <p:sp>
          <p:nvSpPr>
            <p:cNvPr id="1797" name=""/>
            <p:cNvSpPr/>
            <p:nvPr/>
          </p:nvSpPr>
          <p:spPr>
            <a:xfrm>
              <a:off x="4210560" y="58672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39bff"/>
                  </a:solidFill>
                  <a:latin typeface="Trebuchet MS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562280" y="586728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39bff"/>
                  </a:solidFill>
                  <a:latin typeface="Trebuchet MS"/>
                </a:rPr>
                <a:t>1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968720" y="586728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39bff"/>
                  </a:solidFill>
                  <a:latin typeface="Trebuchet MS"/>
                </a:rPr>
                <a:t>2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375160" y="586728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39bff"/>
                  </a:solidFill>
                  <a:latin typeface="Trebuchet MS"/>
                </a:rPr>
                <a:t>3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794200" y="586728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39bff"/>
                  </a:solidFill>
                  <a:latin typeface="Trebuchet MS"/>
                </a:rPr>
                <a:t>4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200640" y="586728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39bff"/>
                  </a:solidFill>
                  <a:latin typeface="Trebuchet MS"/>
                </a:rPr>
                <a:t>5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607080" y="586728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39bff"/>
                  </a:solidFill>
                  <a:latin typeface="Trebuchet MS"/>
                </a:rPr>
                <a:t>6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4" name=""/>
          <p:cNvSpPr/>
          <p:nvPr/>
        </p:nvSpPr>
        <p:spPr>
          <a:xfrm>
            <a:off x="4253040" y="5816520"/>
            <a:ext cx="2452680" cy="1800"/>
          </a:xfrm>
          <a:prstGeom prst="line">
            <a:avLst/>
          </a:prstGeom>
          <a:ln w="12600">
            <a:solidFill>
              <a:srgbClr val="83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V="1">
            <a:off x="4253040" y="5727240"/>
            <a:ext cx="1440" cy="88920"/>
          </a:xfrm>
          <a:prstGeom prst="line">
            <a:avLst/>
          </a:prstGeom>
          <a:ln w="12600">
            <a:solidFill>
              <a:srgbClr val="83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 flipV="1">
            <a:off x="4660920" y="5727240"/>
            <a:ext cx="1440" cy="88920"/>
          </a:xfrm>
          <a:prstGeom prst="line">
            <a:avLst/>
          </a:prstGeom>
          <a:ln w="12600">
            <a:solidFill>
              <a:srgbClr val="83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 flipV="1">
            <a:off x="5067360" y="5727240"/>
            <a:ext cx="1440" cy="88920"/>
          </a:xfrm>
          <a:prstGeom prst="line">
            <a:avLst/>
          </a:prstGeom>
          <a:ln w="12600">
            <a:solidFill>
              <a:srgbClr val="83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 flipV="1">
            <a:off x="5486400" y="5727240"/>
            <a:ext cx="1440" cy="88920"/>
          </a:xfrm>
          <a:prstGeom prst="line">
            <a:avLst/>
          </a:prstGeom>
          <a:ln w="12600">
            <a:solidFill>
              <a:srgbClr val="83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 flipV="1">
            <a:off x="5892840" y="5727240"/>
            <a:ext cx="1440" cy="88920"/>
          </a:xfrm>
          <a:prstGeom prst="line">
            <a:avLst/>
          </a:prstGeom>
          <a:ln w="12600">
            <a:solidFill>
              <a:srgbClr val="83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 flipV="1">
            <a:off x="6299280" y="5727240"/>
            <a:ext cx="1440" cy="88920"/>
          </a:xfrm>
          <a:prstGeom prst="line">
            <a:avLst/>
          </a:prstGeom>
          <a:ln w="12600">
            <a:solidFill>
              <a:srgbClr val="83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 flipV="1">
            <a:off x="6705720" y="5727240"/>
            <a:ext cx="1440" cy="88920"/>
          </a:xfrm>
          <a:prstGeom prst="line">
            <a:avLst/>
          </a:prstGeom>
          <a:ln w="12600">
            <a:solidFill>
              <a:srgbClr val="83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2" name=""/>
          <p:cNvGrpSpPr/>
          <p:nvPr/>
        </p:nvGrpSpPr>
        <p:grpSpPr>
          <a:xfrm>
            <a:off x="2247480" y="1015920"/>
            <a:ext cx="443160" cy="3568680"/>
            <a:chOff x="2247480" y="1015920"/>
            <a:chExt cx="443160" cy="3568680"/>
          </a:xfrm>
        </p:grpSpPr>
        <p:grpSp>
          <p:nvGrpSpPr>
            <p:cNvPr id="1813" name=""/>
            <p:cNvGrpSpPr/>
            <p:nvPr/>
          </p:nvGrpSpPr>
          <p:grpSpPr>
            <a:xfrm>
              <a:off x="2247480" y="1015920"/>
              <a:ext cx="343800" cy="3568680"/>
              <a:chOff x="2247480" y="1015920"/>
              <a:chExt cx="343800" cy="3568680"/>
            </a:xfrm>
          </p:grpSpPr>
          <p:sp>
            <p:nvSpPr>
              <p:cNvPr id="1814" name=""/>
              <p:cNvSpPr/>
              <p:nvPr/>
            </p:nvSpPr>
            <p:spPr>
              <a:xfrm>
                <a:off x="2247480" y="4356000"/>
                <a:ext cx="343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839bff"/>
                    </a:solidFill>
                    <a:latin typeface="Trebuchet MS"/>
                  </a:rPr>
                  <a:t>0.0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2247480" y="3517920"/>
                <a:ext cx="343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839bff"/>
                    </a:solidFill>
                    <a:latin typeface="Trebuchet MS"/>
                  </a:rPr>
                  <a:t>0.5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2247480" y="2679840"/>
                <a:ext cx="343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839bff"/>
                    </a:solidFill>
                    <a:latin typeface="Trebuchet MS"/>
                  </a:rPr>
                  <a:t>1.0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2247480" y="1854360"/>
                <a:ext cx="343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839bff"/>
                    </a:solidFill>
                    <a:latin typeface="Trebuchet MS"/>
                  </a:rPr>
                  <a:t>1.5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2247480" y="1015920"/>
                <a:ext cx="3438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839bff"/>
                    </a:solidFill>
                    <a:latin typeface="Trebuchet MS"/>
                  </a:rPr>
                  <a:t>2.0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2639880" y="1115640"/>
              <a:ext cx="50760" cy="3331080"/>
              <a:chOff x="2639880" y="1115640"/>
              <a:chExt cx="50760" cy="3331080"/>
            </a:xfrm>
          </p:grpSpPr>
          <p:sp>
            <p:nvSpPr>
              <p:cNvPr id="1820" name=""/>
              <p:cNvSpPr/>
              <p:nvPr/>
            </p:nvSpPr>
            <p:spPr>
              <a:xfrm flipV="1">
                <a:off x="2639880" y="1115640"/>
                <a:ext cx="1800" cy="3328920"/>
              </a:xfrm>
              <a:prstGeom prst="line">
                <a:avLst/>
              </a:prstGeom>
              <a:ln w="12600">
                <a:solidFill>
                  <a:srgbClr val="839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2639880" y="4444920"/>
                <a:ext cx="50760" cy="1800"/>
              </a:xfrm>
              <a:prstGeom prst="line">
                <a:avLst/>
              </a:prstGeom>
              <a:ln w="12600">
                <a:solidFill>
                  <a:srgbClr val="839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639880" y="3606840"/>
                <a:ext cx="50760" cy="1440"/>
              </a:xfrm>
              <a:prstGeom prst="line">
                <a:avLst/>
              </a:prstGeom>
              <a:ln w="12600">
                <a:solidFill>
                  <a:srgbClr val="839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639880" y="2779560"/>
                <a:ext cx="50760" cy="1800"/>
              </a:xfrm>
              <a:prstGeom prst="line">
                <a:avLst/>
              </a:prstGeom>
              <a:ln w="12600">
                <a:solidFill>
                  <a:srgbClr val="839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2639880" y="1941480"/>
                <a:ext cx="50760" cy="1800"/>
              </a:xfrm>
              <a:prstGeom prst="line">
                <a:avLst/>
              </a:prstGeom>
              <a:ln w="12600">
                <a:solidFill>
                  <a:srgbClr val="839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2639880" y="1116000"/>
                <a:ext cx="50760" cy="1440"/>
              </a:xfrm>
              <a:prstGeom prst="line">
                <a:avLst/>
              </a:prstGeom>
              <a:ln w="12600">
                <a:solidFill>
                  <a:srgbClr val="839b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6" name=""/>
          <p:cNvGrpSpPr/>
          <p:nvPr/>
        </p:nvGrpSpPr>
        <p:grpSpPr>
          <a:xfrm>
            <a:off x="4140720" y="5524560"/>
            <a:ext cx="2472840" cy="228600"/>
            <a:chOff x="4140720" y="5524560"/>
            <a:chExt cx="2472840" cy="228600"/>
          </a:xfrm>
        </p:grpSpPr>
        <p:sp>
          <p:nvSpPr>
            <p:cNvPr id="1827" name=""/>
            <p:cNvSpPr/>
            <p:nvPr/>
          </p:nvSpPr>
          <p:spPr>
            <a:xfrm>
              <a:off x="4140720" y="552456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7fa16"/>
                  </a:solidFill>
                  <a:latin typeface="Trebuchet MS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712040" y="552456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7fa16"/>
                  </a:solidFill>
                  <a:latin typeface="Trebuchet MS"/>
                </a:rPr>
                <a:t>5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228640" y="552456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7fa16"/>
                  </a:solidFill>
                  <a:latin typeface="Trebuchet MS"/>
                </a:rPr>
                <a:t>1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812920" y="552456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7fa16"/>
                  </a:solidFill>
                  <a:latin typeface="Trebuchet MS"/>
                </a:rPr>
                <a:t>15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384240" y="552456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7fa16"/>
                  </a:solidFill>
                  <a:latin typeface="Trebuchet MS"/>
                </a:rPr>
                <a:t>2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2" name=""/>
          <p:cNvSpPr/>
          <p:nvPr/>
        </p:nvSpPr>
        <p:spPr>
          <a:xfrm>
            <a:off x="4176720" y="5473800"/>
            <a:ext cx="2300400" cy="1440"/>
          </a:xfrm>
          <a:prstGeom prst="line">
            <a:avLst/>
          </a:prstGeom>
          <a:ln w="12600">
            <a:solidFill>
              <a:srgbClr val="f7f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flipV="1">
            <a:off x="4176720" y="5384520"/>
            <a:ext cx="1440" cy="88920"/>
          </a:xfrm>
          <a:prstGeom prst="line">
            <a:avLst/>
          </a:prstGeom>
          <a:ln w="12600">
            <a:solidFill>
              <a:srgbClr val="f7f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V="1">
            <a:off x="4749840" y="5384520"/>
            <a:ext cx="1440" cy="88920"/>
          </a:xfrm>
          <a:prstGeom prst="line">
            <a:avLst/>
          </a:prstGeom>
          <a:ln w="12600">
            <a:solidFill>
              <a:srgbClr val="f7f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flipV="1">
            <a:off x="5321160" y="5384520"/>
            <a:ext cx="1800" cy="88920"/>
          </a:xfrm>
          <a:prstGeom prst="line">
            <a:avLst/>
          </a:prstGeom>
          <a:ln w="12600">
            <a:solidFill>
              <a:srgbClr val="f7f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5905440" y="5384520"/>
            <a:ext cx="1800" cy="88920"/>
          </a:xfrm>
          <a:prstGeom prst="line">
            <a:avLst/>
          </a:prstGeom>
          <a:ln w="12600">
            <a:solidFill>
              <a:srgbClr val="f7f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V="1">
            <a:off x="6477120" y="5384520"/>
            <a:ext cx="1440" cy="88920"/>
          </a:xfrm>
          <a:prstGeom prst="line">
            <a:avLst/>
          </a:prstGeom>
          <a:ln w="12600">
            <a:solidFill>
              <a:srgbClr val="f7f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2845080" y="825480"/>
            <a:ext cx="201240" cy="3759120"/>
            <a:chOff x="2845080" y="825480"/>
            <a:chExt cx="201240" cy="3759120"/>
          </a:xfrm>
        </p:grpSpPr>
        <p:grpSp>
          <p:nvGrpSpPr>
            <p:cNvPr id="1839" name=""/>
            <p:cNvGrpSpPr/>
            <p:nvPr/>
          </p:nvGrpSpPr>
          <p:grpSpPr>
            <a:xfrm>
              <a:off x="2845080" y="825480"/>
              <a:ext cx="115200" cy="3759120"/>
              <a:chOff x="2845080" y="825480"/>
              <a:chExt cx="115200" cy="3759120"/>
            </a:xfrm>
          </p:grpSpPr>
          <p:sp>
            <p:nvSpPr>
              <p:cNvPr id="1840" name=""/>
              <p:cNvSpPr/>
              <p:nvPr/>
            </p:nvSpPr>
            <p:spPr>
              <a:xfrm>
                <a:off x="2845080" y="43560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7fa16"/>
                    </a:solidFill>
                    <a:latin typeface="Trebuchet MS"/>
                  </a:rPr>
                  <a:t>0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845080" y="37591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7fa16"/>
                    </a:solidFill>
                    <a:latin typeface="Trebuchet MS"/>
                  </a:rPr>
                  <a:t>1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2845080" y="317484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7fa16"/>
                    </a:solidFill>
                    <a:latin typeface="Trebuchet MS"/>
                  </a:rPr>
                  <a:t>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2845080" y="25909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7fa16"/>
                    </a:solidFill>
                    <a:latin typeface="Trebuchet MS"/>
                  </a:rPr>
                  <a:t>3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845080" y="199404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7fa16"/>
                    </a:solidFill>
                    <a:latin typeface="Trebuchet MS"/>
                  </a:rPr>
                  <a:t>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2845080" y="140976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7fa16"/>
                    </a:solidFill>
                    <a:latin typeface="Trebuchet MS"/>
                  </a:rPr>
                  <a:t>5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2845080" y="82548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7fa16"/>
                    </a:solidFill>
                    <a:latin typeface="Trebuchet MS"/>
                  </a:rPr>
                  <a:t>6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47" name=""/>
            <p:cNvGrpSpPr/>
            <p:nvPr/>
          </p:nvGrpSpPr>
          <p:grpSpPr>
            <a:xfrm>
              <a:off x="2982960" y="912600"/>
              <a:ext cx="63360" cy="3534120"/>
              <a:chOff x="2982960" y="912600"/>
              <a:chExt cx="63360" cy="3534120"/>
            </a:xfrm>
          </p:grpSpPr>
          <p:sp>
            <p:nvSpPr>
              <p:cNvPr id="1848" name=""/>
              <p:cNvSpPr/>
              <p:nvPr/>
            </p:nvSpPr>
            <p:spPr>
              <a:xfrm flipV="1">
                <a:off x="2982960" y="912600"/>
                <a:ext cx="1440" cy="3531960"/>
              </a:xfrm>
              <a:prstGeom prst="line">
                <a:avLst/>
              </a:prstGeom>
              <a:ln w="12600">
                <a:solidFill>
                  <a:srgbClr val="f7fa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2982960" y="4444920"/>
                <a:ext cx="63360" cy="1800"/>
              </a:xfrm>
              <a:prstGeom prst="line">
                <a:avLst/>
              </a:prstGeom>
              <a:ln w="12600">
                <a:solidFill>
                  <a:srgbClr val="f7fa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982960" y="3860640"/>
                <a:ext cx="63360" cy="1800"/>
              </a:xfrm>
              <a:prstGeom prst="line">
                <a:avLst/>
              </a:prstGeom>
              <a:ln w="12600">
                <a:solidFill>
                  <a:srgbClr val="f7fa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2982960" y="3262320"/>
                <a:ext cx="63360" cy="1440"/>
              </a:xfrm>
              <a:prstGeom prst="line">
                <a:avLst/>
              </a:prstGeom>
              <a:ln w="12600">
                <a:solidFill>
                  <a:srgbClr val="f7fa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2982960" y="2678040"/>
                <a:ext cx="63360" cy="1800"/>
              </a:xfrm>
              <a:prstGeom prst="line">
                <a:avLst/>
              </a:prstGeom>
              <a:ln w="12600">
                <a:solidFill>
                  <a:srgbClr val="f7fa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2982960" y="2093760"/>
                <a:ext cx="63360" cy="1800"/>
              </a:xfrm>
              <a:prstGeom prst="line">
                <a:avLst/>
              </a:prstGeom>
              <a:ln w="12600">
                <a:solidFill>
                  <a:srgbClr val="f7fa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2982960" y="1496880"/>
                <a:ext cx="63360" cy="1800"/>
              </a:xfrm>
              <a:prstGeom prst="line">
                <a:avLst/>
              </a:prstGeom>
              <a:ln w="12600">
                <a:solidFill>
                  <a:srgbClr val="f7fa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2982960" y="912960"/>
                <a:ext cx="63360" cy="1440"/>
              </a:xfrm>
              <a:prstGeom prst="line">
                <a:avLst/>
              </a:prstGeom>
              <a:ln w="12600">
                <a:solidFill>
                  <a:srgbClr val="f7fa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6" name=""/>
          <p:cNvSpPr/>
          <p:nvPr/>
        </p:nvSpPr>
        <p:spPr>
          <a:xfrm>
            <a:off x="4788360" y="5181480"/>
            <a:ext cx="1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3ff00"/>
                </a:solidFill>
                <a:latin typeface="Trebuchet MS"/>
              </a:rPr>
              <a:t>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7" name=""/>
          <p:cNvGrpSpPr/>
          <p:nvPr/>
        </p:nvGrpSpPr>
        <p:grpSpPr>
          <a:xfrm>
            <a:off x="4115160" y="5181480"/>
            <a:ext cx="2676600" cy="228600"/>
            <a:chOff x="4115160" y="5181480"/>
            <a:chExt cx="2676600" cy="228600"/>
          </a:xfrm>
        </p:grpSpPr>
        <p:sp>
          <p:nvSpPr>
            <p:cNvPr id="1858" name=""/>
            <p:cNvSpPr/>
            <p:nvPr/>
          </p:nvSpPr>
          <p:spPr>
            <a:xfrm>
              <a:off x="4115160" y="518148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13ff00"/>
                  </a:solidFill>
                  <a:latin typeface="Trebuchet MS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305320" y="518148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13ff00"/>
                  </a:solidFill>
                  <a:latin typeface="Trebuchet MS"/>
                </a:rPr>
                <a:t>1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940360" y="518148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13ff00"/>
                  </a:solidFill>
                  <a:latin typeface="Trebuchet MS"/>
                </a:rPr>
                <a:t>15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562440" y="518148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13ff00"/>
                  </a:solidFill>
                  <a:latin typeface="Trebuchet MS"/>
                </a:rPr>
                <a:t>2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2" name=""/>
          <p:cNvSpPr/>
          <p:nvPr/>
        </p:nvSpPr>
        <p:spPr>
          <a:xfrm>
            <a:off x="4164120" y="5130720"/>
            <a:ext cx="2503440" cy="1800"/>
          </a:xfrm>
          <a:prstGeom prst="line">
            <a:avLst/>
          </a:prstGeom>
          <a:ln w="12600">
            <a:solidFill>
              <a:srgbClr val="13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V="1">
            <a:off x="4164120" y="5016240"/>
            <a:ext cx="1440" cy="114120"/>
          </a:xfrm>
          <a:prstGeom prst="line">
            <a:avLst/>
          </a:prstGeom>
          <a:ln w="12600">
            <a:solidFill>
              <a:srgbClr val="13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V="1">
            <a:off x="4788000" y="5016240"/>
            <a:ext cx="1440" cy="114120"/>
          </a:xfrm>
          <a:prstGeom prst="line">
            <a:avLst/>
          </a:prstGeom>
          <a:ln w="12600">
            <a:solidFill>
              <a:srgbClr val="13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V="1">
            <a:off x="5410080" y="5016240"/>
            <a:ext cx="1800" cy="114120"/>
          </a:xfrm>
          <a:prstGeom prst="line">
            <a:avLst/>
          </a:prstGeom>
          <a:ln w="12600">
            <a:solidFill>
              <a:srgbClr val="13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6045120" y="5016240"/>
            <a:ext cx="1800" cy="114120"/>
          </a:xfrm>
          <a:prstGeom prst="line">
            <a:avLst/>
          </a:prstGeom>
          <a:ln w="12600">
            <a:solidFill>
              <a:srgbClr val="13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6667560" y="5016240"/>
            <a:ext cx="1440" cy="114120"/>
          </a:xfrm>
          <a:prstGeom prst="line">
            <a:avLst/>
          </a:prstGeom>
          <a:ln w="12600">
            <a:solidFill>
              <a:srgbClr val="13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8" name=""/>
          <p:cNvGrpSpPr/>
          <p:nvPr/>
        </p:nvGrpSpPr>
        <p:grpSpPr>
          <a:xfrm>
            <a:off x="3188160" y="584280"/>
            <a:ext cx="201240" cy="4013280"/>
            <a:chOff x="3188160" y="584280"/>
            <a:chExt cx="201240" cy="4013280"/>
          </a:xfrm>
        </p:grpSpPr>
        <p:grpSp>
          <p:nvGrpSpPr>
            <p:cNvPr id="1869" name=""/>
            <p:cNvGrpSpPr/>
            <p:nvPr/>
          </p:nvGrpSpPr>
          <p:grpSpPr>
            <a:xfrm>
              <a:off x="3188160" y="584280"/>
              <a:ext cx="115200" cy="4013280"/>
              <a:chOff x="3188160" y="584280"/>
              <a:chExt cx="115200" cy="4013280"/>
            </a:xfrm>
          </p:grpSpPr>
          <p:sp>
            <p:nvSpPr>
              <p:cNvPr id="1870" name=""/>
              <p:cNvSpPr/>
              <p:nvPr/>
            </p:nvSpPr>
            <p:spPr>
              <a:xfrm>
                <a:off x="3188160" y="436896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13ff00"/>
                    </a:solidFill>
                    <a:latin typeface="Trebuchet MS"/>
                  </a:rPr>
                  <a:t>0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3188160" y="382284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13ff00"/>
                    </a:solidFill>
                    <a:latin typeface="Trebuchet MS"/>
                  </a:rPr>
                  <a:t>1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3188160" y="328932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13ff00"/>
                    </a:solidFill>
                    <a:latin typeface="Trebuchet MS"/>
                  </a:rPr>
                  <a:t>2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3188160" y="27432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13ff00"/>
                    </a:solidFill>
                    <a:latin typeface="Trebuchet MS"/>
                  </a:rPr>
                  <a:t>3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188160" y="220968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13ff00"/>
                    </a:solidFill>
                    <a:latin typeface="Trebuchet MS"/>
                  </a:rPr>
                  <a:t>4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3188160" y="166356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13ff00"/>
                    </a:solidFill>
                    <a:latin typeface="Trebuchet MS"/>
                  </a:rPr>
                  <a:t>5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3188160" y="113040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13ff00"/>
                    </a:solidFill>
                    <a:latin typeface="Trebuchet MS"/>
                  </a:rPr>
                  <a:t>6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188160" y="584280"/>
                <a:ext cx="1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13ff00"/>
                    </a:solidFill>
                    <a:latin typeface="Trebuchet MS"/>
                  </a:rPr>
                  <a:t>7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"/>
            <p:cNvGrpSpPr/>
            <p:nvPr/>
          </p:nvGrpSpPr>
          <p:grpSpPr>
            <a:xfrm>
              <a:off x="3325680" y="671400"/>
              <a:ext cx="63720" cy="3775320"/>
              <a:chOff x="3325680" y="671400"/>
              <a:chExt cx="63720" cy="3775320"/>
            </a:xfrm>
          </p:grpSpPr>
          <p:sp>
            <p:nvSpPr>
              <p:cNvPr id="1879" name=""/>
              <p:cNvSpPr/>
              <p:nvPr/>
            </p:nvSpPr>
            <p:spPr>
              <a:xfrm flipV="1">
                <a:off x="3325680" y="671400"/>
                <a:ext cx="1800" cy="3773520"/>
              </a:xfrm>
              <a:prstGeom prst="line">
                <a:avLst/>
              </a:prstGeom>
              <a:ln w="12600">
                <a:solidFill>
                  <a:srgbClr val="13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3325680" y="4444920"/>
                <a:ext cx="63720" cy="1800"/>
              </a:xfrm>
              <a:prstGeom prst="line">
                <a:avLst/>
              </a:prstGeom>
              <a:ln w="12600">
                <a:solidFill>
                  <a:srgbClr val="13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325680" y="3911760"/>
                <a:ext cx="63720" cy="1440"/>
              </a:xfrm>
              <a:prstGeom prst="line">
                <a:avLst/>
              </a:prstGeom>
              <a:ln w="12600">
                <a:solidFill>
                  <a:srgbClr val="13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325680" y="3363840"/>
                <a:ext cx="63720" cy="1800"/>
              </a:xfrm>
              <a:prstGeom prst="line">
                <a:avLst/>
              </a:prstGeom>
              <a:ln w="12600">
                <a:solidFill>
                  <a:srgbClr val="13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325680" y="2830680"/>
                <a:ext cx="63720" cy="1440"/>
              </a:xfrm>
              <a:prstGeom prst="line">
                <a:avLst/>
              </a:prstGeom>
              <a:ln w="12600">
                <a:solidFill>
                  <a:srgbClr val="13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325680" y="2284560"/>
                <a:ext cx="63720" cy="1440"/>
              </a:xfrm>
              <a:prstGeom prst="line">
                <a:avLst/>
              </a:prstGeom>
              <a:ln w="12600">
                <a:solidFill>
                  <a:srgbClr val="13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325680" y="1751040"/>
                <a:ext cx="63720" cy="1440"/>
              </a:xfrm>
              <a:prstGeom prst="line">
                <a:avLst/>
              </a:prstGeom>
              <a:ln w="12600">
                <a:solidFill>
                  <a:srgbClr val="13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325680" y="1204920"/>
                <a:ext cx="63720" cy="1440"/>
              </a:xfrm>
              <a:prstGeom prst="line">
                <a:avLst/>
              </a:prstGeom>
              <a:ln w="12600">
                <a:solidFill>
                  <a:srgbClr val="13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3325680" y="671400"/>
                <a:ext cx="63720" cy="1800"/>
              </a:xfrm>
              <a:prstGeom prst="line">
                <a:avLst/>
              </a:prstGeom>
              <a:ln w="12600">
                <a:solidFill>
                  <a:srgbClr val="13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8" name=""/>
          <p:cNvGrpSpPr/>
          <p:nvPr/>
        </p:nvGrpSpPr>
        <p:grpSpPr>
          <a:xfrm>
            <a:off x="4138920" y="4838760"/>
            <a:ext cx="2986560" cy="228600"/>
            <a:chOff x="4138920" y="4838760"/>
            <a:chExt cx="2986560" cy="228600"/>
          </a:xfrm>
        </p:grpSpPr>
        <p:sp>
          <p:nvSpPr>
            <p:cNvPr id="1889" name=""/>
            <p:cNvSpPr/>
            <p:nvPr/>
          </p:nvSpPr>
          <p:spPr>
            <a:xfrm>
              <a:off x="4138920" y="483876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rebuchet MS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838760" y="483876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rebuchet MS"/>
                </a:rPr>
                <a:t>5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482800" y="483876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rebuchet MS"/>
                </a:rPr>
                <a:t>1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195960" y="483876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rebuchet MS"/>
                </a:rPr>
                <a:t>15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896160" y="483876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rebuchet MS"/>
                </a:rPr>
                <a:t>2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4138560" y="4788000"/>
            <a:ext cx="29098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flipV="1">
            <a:off x="4138560" y="4686480"/>
            <a:ext cx="1800" cy="101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 flipV="1">
            <a:off x="4863960" y="4686480"/>
            <a:ext cx="1800" cy="101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 flipV="1">
            <a:off x="5587920" y="4686480"/>
            <a:ext cx="1800" cy="101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 flipV="1">
            <a:off x="6324480" y="4686480"/>
            <a:ext cx="1800" cy="101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 flipV="1">
            <a:off x="7048440" y="4686480"/>
            <a:ext cx="1800" cy="101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3518280" y="635040"/>
            <a:ext cx="115200" cy="3949560"/>
            <a:chOff x="3518280" y="635040"/>
            <a:chExt cx="115200" cy="3949560"/>
          </a:xfrm>
        </p:grpSpPr>
        <p:sp>
          <p:nvSpPr>
            <p:cNvPr id="1901" name=""/>
            <p:cNvSpPr/>
            <p:nvPr/>
          </p:nvSpPr>
          <p:spPr>
            <a:xfrm>
              <a:off x="3518280" y="435600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rebuchet MS"/>
                </a:rPr>
                <a:t>0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518280" y="388620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rebuchet MS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518280" y="342900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rebuchet MS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518280" y="295920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rebuchet MS"/>
                </a:rPr>
                <a:t>3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518280" y="248904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rebuchet MS"/>
                </a:rPr>
                <a:t>4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518280" y="203184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rebuchet MS"/>
                </a:rPr>
                <a:t>5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518280" y="156204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rebuchet MS"/>
                </a:rPr>
                <a:t>6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518280" y="109224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rebuchet MS"/>
                </a:rPr>
                <a:t>7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518280" y="635040"/>
              <a:ext cx="1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rebuchet MS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0" name=""/>
          <p:cNvSpPr/>
          <p:nvPr/>
        </p:nvSpPr>
        <p:spPr>
          <a:xfrm flipV="1">
            <a:off x="3668760" y="721800"/>
            <a:ext cx="1440" cy="3722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3668760" y="4444920"/>
            <a:ext cx="633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668760" y="3975120"/>
            <a:ext cx="633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668760" y="3517920"/>
            <a:ext cx="633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3668760" y="3046320"/>
            <a:ext cx="633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668760" y="2576520"/>
            <a:ext cx="633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668760" y="2119320"/>
            <a:ext cx="633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668760" y="1649520"/>
            <a:ext cx="633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3668760" y="1179360"/>
            <a:ext cx="633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3668760" y="722160"/>
            <a:ext cx="633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555080" y="6172200"/>
            <a:ext cx="178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ime, secon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rot="16200000">
            <a:off x="-417960" y="2518200"/>
            <a:ext cx="495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Normalized outflow concentration, l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rebuchet MS"/>
              </a:rPr>
              <a:t>–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flipV="1">
            <a:off x="4303800" y="900000"/>
            <a:ext cx="0" cy="353088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4076280" y="444600"/>
            <a:ext cx="470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rebuchet MS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-360" y="533376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Dog Liver in vivo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698400" y="5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Unidirectional uptak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Single capillary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06080" y="19810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concentrations in plasma,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follows the following differential equation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= capillary transit time,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P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= membrane permeability of the capillary wal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= surface area of the capillary wal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s has the solutio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927" name=""/>
          <p:cNvGraphicFramePr/>
          <p:nvPr/>
        </p:nvGraphicFramePr>
        <p:xfrm>
          <a:off x="3024360" y="2627280"/>
          <a:ext cx="2339640" cy="11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4360" y="2627280"/>
                    <a:ext cx="233964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9" name=""/>
          <p:cNvGraphicFramePr/>
          <p:nvPr/>
        </p:nvGraphicFramePr>
        <p:xfrm>
          <a:off x="2868480" y="5264280"/>
          <a:ext cx="3168720" cy="65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8480" y="5264280"/>
                    <a:ext cx="316872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3378240" y="3487680"/>
            <a:ext cx="1520640" cy="1884600"/>
          </a:xfrm>
          <a:custGeom>
            <a:avLst/>
            <a:gdLst/>
            <a:ahLst/>
            <a:rect l="l" t="t" r="r" b="b"/>
            <a:pathLst>
              <a:path w="958" h="1187">
                <a:moveTo>
                  <a:pt x="397" y="14"/>
                </a:moveTo>
                <a:cubicBezTo>
                  <a:pt x="481" y="10"/>
                  <a:pt x="565" y="0"/>
                  <a:pt x="650" y="4"/>
                </a:cubicBezTo>
                <a:cubicBezTo>
                  <a:pt x="672" y="4"/>
                  <a:pt x="716" y="24"/>
                  <a:pt x="716" y="24"/>
                </a:cubicBezTo>
                <a:cubicBezTo>
                  <a:pt x="752" y="50"/>
                  <a:pt x="838" y="126"/>
                  <a:pt x="870" y="165"/>
                </a:cubicBezTo>
                <a:cubicBezTo>
                  <a:pt x="904" y="213"/>
                  <a:pt x="910" y="267"/>
                  <a:pt x="925" y="316"/>
                </a:cubicBezTo>
                <a:cubicBezTo>
                  <a:pt x="932" y="367"/>
                  <a:pt x="945" y="407"/>
                  <a:pt x="958" y="457"/>
                </a:cubicBezTo>
                <a:cubicBezTo>
                  <a:pt x="954" y="510"/>
                  <a:pt x="950" y="564"/>
                  <a:pt x="947" y="619"/>
                </a:cubicBezTo>
                <a:cubicBezTo>
                  <a:pt x="936" y="799"/>
                  <a:pt x="880" y="854"/>
                  <a:pt x="800" y="1019"/>
                </a:cubicBezTo>
                <a:cubicBezTo>
                  <a:pt x="762" y="1059"/>
                  <a:pt x="756" y="1130"/>
                  <a:pt x="694" y="1143"/>
                </a:cubicBezTo>
                <a:cubicBezTo>
                  <a:pt x="662" y="1165"/>
                  <a:pt x="640" y="1180"/>
                  <a:pt x="608" y="1184"/>
                </a:cubicBezTo>
                <a:cubicBezTo>
                  <a:pt x="575" y="1187"/>
                  <a:pt x="531" y="1175"/>
                  <a:pt x="496" y="1163"/>
                </a:cubicBezTo>
                <a:cubicBezTo>
                  <a:pt x="448" y="1159"/>
                  <a:pt x="443" y="1158"/>
                  <a:pt x="395" y="1110"/>
                </a:cubicBezTo>
                <a:cubicBezTo>
                  <a:pt x="341" y="1067"/>
                  <a:pt x="318" y="1036"/>
                  <a:pt x="272" y="1008"/>
                </a:cubicBezTo>
                <a:cubicBezTo>
                  <a:pt x="253" y="955"/>
                  <a:pt x="195" y="940"/>
                  <a:pt x="171" y="891"/>
                </a:cubicBezTo>
                <a:cubicBezTo>
                  <a:pt x="133" y="812"/>
                  <a:pt x="84" y="740"/>
                  <a:pt x="55" y="659"/>
                </a:cubicBezTo>
                <a:cubicBezTo>
                  <a:pt x="44" y="572"/>
                  <a:pt x="29" y="489"/>
                  <a:pt x="0" y="407"/>
                </a:cubicBezTo>
                <a:cubicBezTo>
                  <a:pt x="0" y="324"/>
                  <a:pt x="5" y="223"/>
                  <a:pt x="55" y="165"/>
                </a:cubicBezTo>
                <a:cubicBezTo>
                  <a:pt x="120" y="92"/>
                  <a:pt x="200" y="72"/>
                  <a:pt x="297" y="54"/>
                </a:cubicBezTo>
                <a:cubicBezTo>
                  <a:pt x="333" y="20"/>
                  <a:pt x="346" y="14"/>
                  <a:pt x="397" y="14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084560" y="4095720"/>
            <a:ext cx="373320" cy="179280"/>
          </a:xfrm>
          <a:custGeom>
            <a:avLst/>
            <a:gdLst/>
            <a:ahLst/>
            <a:rect l="l" t="t" r="r" b="b"/>
            <a:pathLst>
              <a:path w="224" h="92">
                <a:moveTo>
                  <a:pt x="0" y="10"/>
                </a:moveTo>
                <a:cubicBezTo>
                  <a:pt x="41" y="0"/>
                  <a:pt x="79" y="13"/>
                  <a:pt x="121" y="22"/>
                </a:cubicBezTo>
                <a:cubicBezTo>
                  <a:pt x="151" y="31"/>
                  <a:pt x="166" y="32"/>
                  <a:pt x="184" y="44"/>
                </a:cubicBezTo>
                <a:cubicBezTo>
                  <a:pt x="201" y="55"/>
                  <a:pt x="215" y="82"/>
                  <a:pt x="224" y="92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172040" y="2925720"/>
            <a:ext cx="2114640" cy="2813040"/>
          </a:xfrm>
          <a:custGeom>
            <a:avLst/>
            <a:gdLst/>
            <a:ahLst/>
            <a:rect l="l" t="t" r="r" b="b"/>
            <a:pathLst>
              <a:path w="1332" h="1772">
                <a:moveTo>
                  <a:pt x="52" y="1005"/>
                </a:moveTo>
                <a:cubicBezTo>
                  <a:pt x="73" y="854"/>
                  <a:pt x="0" y="201"/>
                  <a:pt x="187" y="101"/>
                </a:cubicBezTo>
                <a:cubicBezTo>
                  <a:pt x="373" y="0"/>
                  <a:pt x="1005" y="165"/>
                  <a:pt x="1169" y="403"/>
                </a:cubicBezTo>
                <a:cubicBezTo>
                  <a:pt x="1332" y="640"/>
                  <a:pt x="1259" y="1297"/>
                  <a:pt x="1169" y="1526"/>
                </a:cubicBezTo>
                <a:cubicBezTo>
                  <a:pt x="1077" y="1754"/>
                  <a:pt x="736" y="1720"/>
                  <a:pt x="622" y="1772"/>
                </a:cubicBezTo>
              </a:path>
            </a:pathLst>
          </a:custGeom>
          <a:noFill/>
          <a:ln w="190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2297160" y="3913200"/>
            <a:ext cx="1123920" cy="2106720"/>
          </a:xfrm>
          <a:custGeom>
            <a:avLst/>
            <a:gdLst/>
            <a:ahLst/>
            <a:rect l="l" t="t" r="r" b="b"/>
            <a:pathLst>
              <a:path w="708" h="1327">
                <a:moveTo>
                  <a:pt x="201" y="1327"/>
                </a:moveTo>
                <a:cubicBezTo>
                  <a:pt x="171" y="1241"/>
                  <a:pt x="39" y="966"/>
                  <a:pt x="20" y="815"/>
                </a:cubicBezTo>
                <a:cubicBezTo>
                  <a:pt x="0" y="663"/>
                  <a:pt x="40" y="531"/>
                  <a:pt x="84" y="420"/>
                </a:cubicBezTo>
                <a:cubicBezTo>
                  <a:pt x="127" y="308"/>
                  <a:pt x="180" y="216"/>
                  <a:pt x="284" y="147"/>
                </a:cubicBezTo>
                <a:cubicBezTo>
                  <a:pt x="387" y="77"/>
                  <a:pt x="619" y="30"/>
                  <a:pt x="708" y="0"/>
                </a:cubicBezTo>
              </a:path>
            </a:pathLst>
          </a:custGeom>
          <a:noFill/>
          <a:ln w="19044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2692440" y="228600"/>
            <a:ext cx="1038240" cy="2262240"/>
          </a:xfrm>
          <a:custGeom>
            <a:avLst/>
            <a:gdLst/>
            <a:ahLst/>
            <a:rect l="l" t="t" r="r" b="b"/>
            <a:pathLst>
              <a:path w="654" h="1425">
                <a:moveTo>
                  <a:pt x="654" y="1117"/>
                </a:moveTo>
                <a:cubicBezTo>
                  <a:pt x="613" y="1280"/>
                  <a:pt x="414" y="1106"/>
                  <a:pt x="334" y="1146"/>
                </a:cubicBezTo>
                <a:cubicBezTo>
                  <a:pt x="254" y="1186"/>
                  <a:pt x="224" y="1425"/>
                  <a:pt x="174" y="1357"/>
                </a:cubicBezTo>
                <a:cubicBezTo>
                  <a:pt x="123" y="1288"/>
                  <a:pt x="0" y="939"/>
                  <a:pt x="30" y="733"/>
                </a:cubicBezTo>
                <a:cubicBezTo>
                  <a:pt x="59" y="526"/>
                  <a:pt x="258" y="212"/>
                  <a:pt x="350" y="118"/>
                </a:cubicBezTo>
                <a:cubicBezTo>
                  <a:pt x="441" y="23"/>
                  <a:pt x="528" y="0"/>
                  <a:pt x="579" y="167"/>
                </a:cubicBezTo>
                <a:cubicBezTo>
                  <a:pt x="629" y="333"/>
                  <a:pt x="638" y="919"/>
                  <a:pt x="654" y="1117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3835440" y="228600"/>
            <a:ext cx="1038240" cy="2262240"/>
          </a:xfrm>
          <a:custGeom>
            <a:avLst/>
            <a:gdLst/>
            <a:ahLst/>
            <a:rect l="l" t="t" r="r" b="b"/>
            <a:pathLst>
              <a:path w="654" h="1425">
                <a:moveTo>
                  <a:pt x="654" y="1117"/>
                </a:moveTo>
                <a:cubicBezTo>
                  <a:pt x="613" y="1280"/>
                  <a:pt x="414" y="1106"/>
                  <a:pt x="334" y="1146"/>
                </a:cubicBezTo>
                <a:cubicBezTo>
                  <a:pt x="254" y="1186"/>
                  <a:pt x="224" y="1425"/>
                  <a:pt x="174" y="1357"/>
                </a:cubicBezTo>
                <a:cubicBezTo>
                  <a:pt x="123" y="1288"/>
                  <a:pt x="0" y="939"/>
                  <a:pt x="30" y="733"/>
                </a:cubicBezTo>
                <a:cubicBezTo>
                  <a:pt x="59" y="526"/>
                  <a:pt x="258" y="212"/>
                  <a:pt x="350" y="118"/>
                </a:cubicBezTo>
                <a:cubicBezTo>
                  <a:pt x="441" y="23"/>
                  <a:pt x="528" y="0"/>
                  <a:pt x="579" y="167"/>
                </a:cubicBezTo>
                <a:cubicBezTo>
                  <a:pt x="629" y="333"/>
                  <a:pt x="638" y="919"/>
                  <a:pt x="654" y="1117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rot="5400000">
            <a:off x="5491800" y="4491720"/>
            <a:ext cx="701640" cy="404640"/>
          </a:xfrm>
          <a:prstGeom prst="rightArrow">
            <a:avLst>
              <a:gd name="adj1" fmla="val 50000"/>
              <a:gd name="adj2" fmla="val 4335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flipV="1" rot="16200000">
            <a:off x="1049760" y="4776840"/>
            <a:ext cx="701640" cy="405000"/>
          </a:xfrm>
          <a:prstGeom prst="rightArrow">
            <a:avLst>
              <a:gd name="adj1" fmla="val 50000"/>
              <a:gd name="adj2" fmla="val 43311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556080" y="2108160"/>
            <a:ext cx="419040" cy="2133720"/>
          </a:xfrm>
          <a:custGeom>
            <a:avLst/>
            <a:gdLst/>
            <a:ahLst/>
            <a:rect l="l" t="t" r="r" b="b"/>
            <a:pathLst>
              <a:path w="264" h="1344">
                <a:moveTo>
                  <a:pt x="264" y="1344"/>
                </a:moveTo>
                <a:cubicBezTo>
                  <a:pt x="249" y="1255"/>
                  <a:pt x="207" y="937"/>
                  <a:pt x="179" y="820"/>
                </a:cubicBezTo>
                <a:cubicBezTo>
                  <a:pt x="150" y="702"/>
                  <a:pt x="112" y="703"/>
                  <a:pt x="92" y="636"/>
                </a:cubicBezTo>
                <a:cubicBezTo>
                  <a:pt x="69" y="569"/>
                  <a:pt x="62" y="521"/>
                  <a:pt x="47" y="415"/>
                </a:cubicBezTo>
                <a:cubicBezTo>
                  <a:pt x="31" y="309"/>
                  <a:pt x="9" y="86"/>
                  <a:pt x="0" y="0"/>
                </a:cubicBezTo>
              </a:path>
            </a:pathLst>
          </a:custGeom>
          <a:noFill/>
          <a:ln w="19044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909960" y="2116080"/>
            <a:ext cx="1130400" cy="1660680"/>
          </a:xfrm>
          <a:custGeom>
            <a:avLst/>
            <a:gdLst/>
            <a:ahLst/>
            <a:rect l="l" t="t" r="r" b="b"/>
            <a:pathLst>
              <a:path w="712" h="1046">
                <a:moveTo>
                  <a:pt x="529" y="1046"/>
                </a:moveTo>
                <a:cubicBezTo>
                  <a:pt x="550" y="1030"/>
                  <a:pt x="636" y="1007"/>
                  <a:pt x="652" y="955"/>
                </a:cubicBezTo>
                <a:cubicBezTo>
                  <a:pt x="667" y="902"/>
                  <a:pt x="712" y="826"/>
                  <a:pt x="620" y="731"/>
                </a:cubicBezTo>
                <a:cubicBezTo>
                  <a:pt x="527" y="635"/>
                  <a:pt x="193" y="502"/>
                  <a:pt x="97" y="381"/>
                </a:cubicBezTo>
                <a:cubicBezTo>
                  <a:pt x="0" y="259"/>
                  <a:pt x="52" y="64"/>
                  <a:pt x="42" y="0"/>
                </a:cubicBezTo>
              </a:path>
            </a:pathLst>
          </a:custGeom>
          <a:noFill/>
          <a:ln w="190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5040360" y="0"/>
            <a:ext cx="364968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rebuchet MS"/>
              </a:rPr>
              <a:t>Pulmonary uptake in vivo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42" name=""/>
          <p:cNvSpPr/>
          <p:nvPr/>
        </p:nvSpPr>
        <p:spPr>
          <a:xfrm>
            <a:off x="2643120" y="5518080"/>
            <a:ext cx="2803680" cy="1067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Periphe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circ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65520" y="2116080"/>
            <a:ext cx="1117440" cy="1482840"/>
          </a:xfrm>
          <a:custGeom>
            <a:avLst/>
            <a:gdLst/>
            <a:ahLst/>
            <a:rect l="l" t="t" r="r" b="b"/>
            <a:pathLst>
              <a:path w="704" h="934">
                <a:moveTo>
                  <a:pt x="592" y="934"/>
                </a:moveTo>
                <a:cubicBezTo>
                  <a:pt x="597" y="912"/>
                  <a:pt x="704" y="889"/>
                  <a:pt x="624" y="806"/>
                </a:cubicBezTo>
                <a:cubicBezTo>
                  <a:pt x="543" y="722"/>
                  <a:pt x="211" y="566"/>
                  <a:pt x="107" y="432"/>
                </a:cubicBezTo>
                <a:cubicBezTo>
                  <a:pt x="3" y="297"/>
                  <a:pt x="17" y="71"/>
                  <a:pt x="0" y="0"/>
                </a:cubicBezTo>
              </a:path>
            </a:pathLst>
          </a:custGeom>
          <a:noFill/>
          <a:ln w="190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962520" y="2049480"/>
            <a:ext cx="218880" cy="2535120"/>
          </a:xfrm>
          <a:custGeom>
            <a:avLst/>
            <a:gdLst/>
            <a:ahLst/>
            <a:rect l="l" t="t" r="r" b="b"/>
            <a:pathLst>
              <a:path w="138" h="1523">
                <a:moveTo>
                  <a:pt x="0" y="1523"/>
                </a:moveTo>
                <a:cubicBezTo>
                  <a:pt x="6" y="1411"/>
                  <a:pt x="21" y="990"/>
                  <a:pt x="39" y="847"/>
                </a:cubicBezTo>
                <a:cubicBezTo>
                  <a:pt x="56" y="703"/>
                  <a:pt x="89" y="730"/>
                  <a:pt x="104" y="663"/>
                </a:cubicBezTo>
                <a:cubicBezTo>
                  <a:pt x="121" y="596"/>
                  <a:pt x="136" y="553"/>
                  <a:pt x="137" y="442"/>
                </a:cubicBezTo>
                <a:cubicBezTo>
                  <a:pt x="138" y="332"/>
                  <a:pt x="114" y="74"/>
                  <a:pt x="109" y="0"/>
                </a:cubicBezTo>
              </a:path>
            </a:pathLst>
          </a:custGeom>
          <a:noFill/>
          <a:ln w="19044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071960" y="3556080"/>
            <a:ext cx="297000" cy="1828800"/>
          </a:xfrm>
          <a:custGeom>
            <a:avLst/>
            <a:gdLst/>
            <a:ahLst/>
            <a:rect l="l" t="t" r="r" b="b"/>
            <a:pathLst>
              <a:path w="187" h="1152">
                <a:moveTo>
                  <a:pt x="24" y="0"/>
                </a:moveTo>
                <a:cubicBezTo>
                  <a:pt x="24" y="30"/>
                  <a:pt x="26" y="88"/>
                  <a:pt x="24" y="184"/>
                </a:cubicBezTo>
                <a:cubicBezTo>
                  <a:pt x="20" y="256"/>
                  <a:pt x="0" y="457"/>
                  <a:pt x="11" y="576"/>
                </a:cubicBezTo>
                <a:cubicBezTo>
                  <a:pt x="24" y="686"/>
                  <a:pt x="65" y="816"/>
                  <a:pt x="89" y="896"/>
                </a:cubicBezTo>
                <a:cubicBezTo>
                  <a:pt x="117" y="986"/>
                  <a:pt x="166" y="1098"/>
                  <a:pt x="187" y="1152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387600" y="4133880"/>
            <a:ext cx="222480" cy="239760"/>
          </a:xfrm>
          <a:custGeom>
            <a:avLst/>
            <a:gdLst/>
            <a:ahLst/>
            <a:rect l="l" t="t" r="r" b="b"/>
            <a:pathLst>
              <a:path w="157" h="121">
                <a:moveTo>
                  <a:pt x="0" y="12"/>
                </a:moveTo>
                <a:cubicBezTo>
                  <a:pt x="22" y="0"/>
                  <a:pt x="80" y="21"/>
                  <a:pt x="102" y="33"/>
                </a:cubicBezTo>
                <a:cubicBezTo>
                  <a:pt x="116" y="68"/>
                  <a:pt x="138" y="91"/>
                  <a:pt x="157" y="121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600440" y="4076640"/>
            <a:ext cx="284400" cy="204840"/>
          </a:xfrm>
          <a:custGeom>
            <a:avLst/>
            <a:gdLst/>
            <a:ahLst/>
            <a:rect l="l" t="t" r="r" b="b"/>
            <a:pathLst>
              <a:path w="192" h="120">
                <a:moveTo>
                  <a:pt x="192" y="0"/>
                </a:moveTo>
                <a:cubicBezTo>
                  <a:pt x="137" y="10"/>
                  <a:pt x="89" y="15"/>
                  <a:pt x="40" y="40"/>
                </a:cubicBezTo>
                <a:cubicBezTo>
                  <a:pt x="23" y="64"/>
                  <a:pt x="0" y="88"/>
                  <a:pt x="0" y="120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718080" y="4135320"/>
            <a:ext cx="237960" cy="208080"/>
          </a:xfrm>
          <a:custGeom>
            <a:avLst/>
            <a:gdLst/>
            <a:ahLst/>
            <a:rect l="l" t="t" r="r" b="b"/>
            <a:pathLst>
              <a:path w="107" h="83">
                <a:moveTo>
                  <a:pt x="64" y="3"/>
                </a:moveTo>
                <a:cubicBezTo>
                  <a:pt x="107" y="0"/>
                  <a:pt x="31" y="34"/>
                  <a:pt x="13" y="52"/>
                </a:cubicBezTo>
                <a:cubicBezTo>
                  <a:pt x="5" y="75"/>
                  <a:pt x="9" y="65"/>
                  <a:pt x="0" y="83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9" name=""/>
          <p:cNvGrpSpPr/>
          <p:nvPr/>
        </p:nvGrpSpPr>
        <p:grpSpPr>
          <a:xfrm>
            <a:off x="65520" y="384120"/>
            <a:ext cx="3972960" cy="4407120"/>
            <a:chOff x="65520" y="384120"/>
            <a:chExt cx="3972960" cy="4407120"/>
          </a:xfrm>
        </p:grpSpPr>
        <p:sp>
          <p:nvSpPr>
            <p:cNvPr id="1950" name=""/>
            <p:cNvSpPr/>
            <p:nvPr/>
          </p:nvSpPr>
          <p:spPr>
            <a:xfrm>
              <a:off x="2870280" y="3137040"/>
              <a:ext cx="685800" cy="571320"/>
            </a:xfrm>
            <a:custGeom>
              <a:avLst/>
              <a:gdLst/>
              <a:ahLst/>
              <a:rect l="l" t="t" r="r" b="b"/>
              <a:pathLst>
                <a:path w="432" h="360">
                  <a:moveTo>
                    <a:pt x="432" y="360"/>
                  </a:moveTo>
                  <a:cubicBezTo>
                    <a:pt x="416" y="321"/>
                    <a:pt x="402" y="292"/>
                    <a:pt x="384" y="256"/>
                  </a:cubicBezTo>
                  <a:cubicBezTo>
                    <a:pt x="380" y="248"/>
                    <a:pt x="381" y="238"/>
                    <a:pt x="376" y="232"/>
                  </a:cubicBezTo>
                  <a:cubicBezTo>
                    <a:pt x="360" y="212"/>
                    <a:pt x="325" y="190"/>
                    <a:pt x="304" y="176"/>
                  </a:cubicBezTo>
                  <a:cubicBezTo>
                    <a:pt x="262" y="114"/>
                    <a:pt x="127" y="38"/>
                    <a:pt x="56" y="24"/>
                  </a:cubicBezTo>
                  <a:cubicBezTo>
                    <a:pt x="45" y="18"/>
                    <a:pt x="34" y="12"/>
                    <a:pt x="24" y="8"/>
                  </a:cubicBezTo>
                  <a:cubicBezTo>
                    <a:pt x="16" y="4"/>
                    <a:pt x="0" y="0"/>
                    <a:pt x="0" y="0"/>
                  </a:cubicBezTo>
                </a:path>
              </a:pathLst>
            </a:custGeom>
            <a:noFill/>
            <a:ln w="19044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238560" y="2895480"/>
              <a:ext cx="46080" cy="432000"/>
            </a:xfrm>
            <a:custGeom>
              <a:avLst/>
              <a:gdLst/>
              <a:ahLst/>
              <a:rect l="l" t="t" r="r" b="b"/>
              <a:pathLst>
                <a:path w="29" h="272">
                  <a:moveTo>
                    <a:pt x="16" y="272"/>
                  </a:moveTo>
                  <a:cubicBezTo>
                    <a:pt x="23" y="179"/>
                    <a:pt x="29" y="182"/>
                    <a:pt x="16" y="96"/>
                  </a:cubicBezTo>
                  <a:cubicBezTo>
                    <a:pt x="10" y="61"/>
                    <a:pt x="0" y="37"/>
                    <a:pt x="0" y="0"/>
                  </a:cubicBezTo>
                </a:path>
              </a:pathLst>
            </a:custGeom>
            <a:noFill/>
            <a:ln w="1522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52" name=""/>
            <p:cNvGrpSpPr/>
            <p:nvPr/>
          </p:nvGrpSpPr>
          <p:grpSpPr>
            <a:xfrm>
              <a:off x="65520" y="384120"/>
              <a:ext cx="3972960" cy="4407120"/>
              <a:chOff x="65520" y="384120"/>
              <a:chExt cx="3972960" cy="4407120"/>
            </a:xfrm>
          </p:grpSpPr>
          <p:grpSp>
            <p:nvGrpSpPr>
              <p:cNvPr id="1953" name=""/>
              <p:cNvGrpSpPr/>
              <p:nvPr/>
            </p:nvGrpSpPr>
            <p:grpSpPr>
              <a:xfrm>
                <a:off x="1004760" y="384120"/>
                <a:ext cx="171720" cy="1066680"/>
                <a:chOff x="1004760" y="384120"/>
                <a:chExt cx="171720" cy="106668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1004760" y="612720"/>
                  <a:ext cx="171720" cy="838080"/>
                </a:xfrm>
                <a:custGeom>
                  <a:avLst/>
                  <a:gdLst/>
                  <a:ahLst/>
                  <a:rect l="l" t="t" r="r" b="b"/>
                  <a:pathLst>
                    <a:path w="144" h="528">
                      <a:moveTo>
                        <a:pt x="0" y="0"/>
                      </a:moveTo>
                      <a:lnTo>
                        <a:pt x="0" y="432"/>
                      </a:lnTo>
                      <a:lnTo>
                        <a:pt x="48" y="480"/>
                      </a:lnTo>
                      <a:lnTo>
                        <a:pt x="48" y="528"/>
                      </a:lnTo>
                      <a:lnTo>
                        <a:pt x="96" y="528"/>
                      </a:lnTo>
                      <a:lnTo>
                        <a:pt x="96" y="480"/>
                      </a:lnTo>
                      <a:lnTo>
                        <a:pt x="144" y="432"/>
                      </a:lnTo>
                      <a:lnTo>
                        <a:pt x="1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1004760" y="955800"/>
                  <a:ext cx="171720" cy="495000"/>
                </a:xfrm>
                <a:custGeom>
                  <a:avLst/>
                  <a:gdLst/>
                  <a:ahLst/>
                  <a:rect l="l" t="t" r="r" b="b"/>
                  <a:pathLst>
                    <a:path w="144" h="312">
                      <a:moveTo>
                        <a:pt x="0" y="0"/>
                      </a:moveTo>
                      <a:lnTo>
                        <a:pt x="0" y="216"/>
                      </a:lnTo>
                      <a:lnTo>
                        <a:pt x="48" y="264"/>
                      </a:lnTo>
                      <a:lnTo>
                        <a:pt x="48" y="312"/>
                      </a:lnTo>
                      <a:lnTo>
                        <a:pt x="96" y="312"/>
                      </a:lnTo>
                      <a:lnTo>
                        <a:pt x="96" y="264"/>
                      </a:lnTo>
                      <a:lnTo>
                        <a:pt x="144" y="216"/>
                      </a:lnTo>
                      <a:lnTo>
                        <a:pt x="1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9c9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1004760" y="384120"/>
                  <a:ext cx="171720" cy="609480"/>
                </a:xfrm>
                <a:custGeom>
                  <a:avLst/>
                  <a:gdLst/>
                  <a:ahLst/>
                  <a:rect l="l" t="t" r="r" b="b"/>
                  <a:pathLst>
                    <a:path w="144" h="384">
                      <a:moveTo>
                        <a:pt x="0" y="0"/>
                      </a:moveTo>
                      <a:lnTo>
                        <a:pt x="144" y="0"/>
                      </a:lnTo>
                      <a:lnTo>
                        <a:pt x="144" y="48"/>
                      </a:lnTo>
                      <a:lnTo>
                        <a:pt x="96" y="48"/>
                      </a:lnTo>
                      <a:lnTo>
                        <a:pt x="96" y="336"/>
                      </a:lnTo>
                      <a:lnTo>
                        <a:pt x="144" y="336"/>
                      </a:lnTo>
                      <a:lnTo>
                        <a:pt x="144" y="384"/>
                      </a:lnTo>
                      <a:lnTo>
                        <a:pt x="0" y="384"/>
                      </a:lnTo>
                      <a:lnTo>
                        <a:pt x="0" y="336"/>
                      </a:lnTo>
                      <a:lnTo>
                        <a:pt x="48" y="336"/>
                      </a:lnTo>
                      <a:lnTo>
                        <a:pt x="48" y="48"/>
                      </a:lnTo>
                      <a:lnTo>
                        <a:pt x="0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94fb4"/>
                </a:soli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7" name=""/>
              <p:cNvSpPr/>
              <p:nvPr/>
            </p:nvSpPr>
            <p:spPr>
              <a:xfrm>
                <a:off x="1073160" y="1473120"/>
                <a:ext cx="2965320" cy="3318120"/>
              </a:xfrm>
              <a:custGeom>
                <a:avLst/>
                <a:gdLst/>
                <a:ahLst/>
                <a:rect l="l" t="t" r="r" b="b"/>
                <a:pathLst>
                  <a:path w="1868" h="2090">
                    <a:moveTo>
                      <a:pt x="1" y="0"/>
                    </a:moveTo>
                    <a:cubicBezTo>
                      <a:pt x="13" y="94"/>
                      <a:pt x="0" y="451"/>
                      <a:pt x="75" y="574"/>
                    </a:cubicBezTo>
                    <a:cubicBezTo>
                      <a:pt x="150" y="696"/>
                      <a:pt x="317" y="704"/>
                      <a:pt x="451" y="737"/>
                    </a:cubicBezTo>
                    <a:cubicBezTo>
                      <a:pt x="584" y="769"/>
                      <a:pt x="733" y="753"/>
                      <a:pt x="875" y="770"/>
                    </a:cubicBezTo>
                    <a:cubicBezTo>
                      <a:pt x="1016" y="786"/>
                      <a:pt x="1215" y="790"/>
                      <a:pt x="1300" y="835"/>
                    </a:cubicBezTo>
                    <a:cubicBezTo>
                      <a:pt x="1384" y="879"/>
                      <a:pt x="1359" y="975"/>
                      <a:pt x="1380" y="1036"/>
                    </a:cubicBezTo>
                    <a:cubicBezTo>
                      <a:pt x="1400" y="1096"/>
                      <a:pt x="1401" y="1151"/>
                      <a:pt x="1425" y="1200"/>
                    </a:cubicBezTo>
                    <a:cubicBezTo>
                      <a:pt x="1448" y="1248"/>
                      <a:pt x="1494" y="1278"/>
                      <a:pt x="1524" y="1328"/>
                    </a:cubicBezTo>
                    <a:cubicBezTo>
                      <a:pt x="1553" y="1377"/>
                      <a:pt x="1583" y="1432"/>
                      <a:pt x="1601" y="1499"/>
                    </a:cubicBezTo>
                    <a:cubicBezTo>
                      <a:pt x="1618" y="1565"/>
                      <a:pt x="1611" y="1637"/>
                      <a:pt x="1628" y="1728"/>
                    </a:cubicBezTo>
                    <a:cubicBezTo>
                      <a:pt x="1644" y="1818"/>
                      <a:pt x="1670" y="1996"/>
                      <a:pt x="1703" y="2043"/>
                    </a:cubicBezTo>
                    <a:cubicBezTo>
                      <a:pt x="1735" y="2089"/>
                      <a:pt x="1797" y="2090"/>
                      <a:pt x="1820" y="2005"/>
                    </a:cubicBezTo>
                    <a:cubicBezTo>
                      <a:pt x="1842" y="1919"/>
                      <a:pt x="1868" y="1709"/>
                      <a:pt x="1836" y="1531"/>
                    </a:cubicBezTo>
                    <a:cubicBezTo>
                      <a:pt x="1803" y="1352"/>
                      <a:pt x="1669" y="1057"/>
                      <a:pt x="1626" y="933"/>
                    </a:cubicBezTo>
                  </a:path>
                </a:pathLst>
              </a:custGeom>
              <a:noFill/>
              <a:ln w="57240">
                <a:solidFill>
                  <a:srgbClr val="ff79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H="1">
                <a:off x="97200" y="3819960"/>
                <a:ext cx="2375280" cy="459720"/>
              </a:xfrm>
              <a:prstGeom prst="borderCallout1">
                <a:avLst>
                  <a:gd name="adj1" fmla="val 18750"/>
                  <a:gd name="adj2" fmla="val -8333"/>
                  <a:gd name="adj3" fmla="val -168152"/>
                  <a:gd name="adj4" fmla="val -32351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8080"/>
                    </a:solidFill>
                    <a:latin typeface="Times New Roman"/>
                  </a:rPr>
                  <a:t>V. jugulari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H="1">
                <a:off x="65520" y="3007080"/>
                <a:ext cx="2558160" cy="459720"/>
              </a:xfrm>
              <a:prstGeom prst="borderCallout1">
                <a:avLst>
                  <a:gd name="adj1" fmla="val 18750"/>
                  <a:gd name="adj2" fmla="val -8333"/>
                  <a:gd name="adj3" fmla="val -60092"/>
                  <a:gd name="adj4" fmla="val -37805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8080"/>
                    </a:solidFill>
                    <a:latin typeface="Times New Roman"/>
                  </a:rPr>
                  <a:t>A. pulmonari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0" name=""/>
          <p:cNvGrpSpPr/>
          <p:nvPr/>
        </p:nvGrpSpPr>
        <p:grpSpPr>
          <a:xfrm>
            <a:off x="4981680" y="2244960"/>
            <a:ext cx="4635360" cy="4370760"/>
            <a:chOff x="4981680" y="2244960"/>
            <a:chExt cx="4635360" cy="4370760"/>
          </a:xfrm>
        </p:grpSpPr>
        <p:sp>
          <p:nvSpPr>
            <p:cNvPr id="1961" name=""/>
            <p:cNvSpPr/>
            <p:nvPr/>
          </p:nvSpPr>
          <p:spPr>
            <a:xfrm>
              <a:off x="4981680" y="3006720"/>
              <a:ext cx="2965320" cy="1695600"/>
            </a:xfrm>
            <a:custGeom>
              <a:avLst/>
              <a:gdLst/>
              <a:ahLst/>
              <a:rect l="l" t="t" r="r" b="b"/>
              <a:pathLst>
                <a:path w="1590" h="808">
                  <a:moveTo>
                    <a:pt x="0" y="0"/>
                  </a:moveTo>
                  <a:cubicBezTo>
                    <a:pt x="222" y="65"/>
                    <a:pt x="1081" y="257"/>
                    <a:pt x="1336" y="392"/>
                  </a:cubicBezTo>
                  <a:cubicBezTo>
                    <a:pt x="1590" y="526"/>
                    <a:pt x="1488" y="721"/>
                    <a:pt x="1528" y="808"/>
                  </a:cubicBezTo>
                </a:path>
              </a:pathLst>
            </a:custGeom>
            <a:noFill/>
            <a:ln w="572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2" name=""/>
            <p:cNvGrpSpPr/>
            <p:nvPr/>
          </p:nvGrpSpPr>
          <p:grpSpPr>
            <a:xfrm>
              <a:off x="6143760" y="4648320"/>
              <a:ext cx="3473280" cy="1967400"/>
              <a:chOff x="6143760" y="4648320"/>
              <a:chExt cx="3473280" cy="1967400"/>
            </a:xfrm>
          </p:grpSpPr>
          <p:sp>
            <p:nvSpPr>
              <p:cNvPr id="1963" name=""/>
              <p:cNvSpPr/>
              <p:nvPr/>
            </p:nvSpPr>
            <p:spPr>
              <a:xfrm>
                <a:off x="6804000" y="6029280"/>
                <a:ext cx="188604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143760" y="6161040"/>
                <a:ext cx="34732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Fraction collecto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773840" y="4729320"/>
                <a:ext cx="177840" cy="865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997760" y="4729320"/>
                <a:ext cx="181080" cy="865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8224920" y="4729320"/>
                <a:ext cx="182520" cy="865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8448840" y="4729320"/>
                <a:ext cx="180720" cy="865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859440" y="5624640"/>
                <a:ext cx="181080" cy="176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081920" y="5624640"/>
                <a:ext cx="182520" cy="176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310520" y="5624640"/>
                <a:ext cx="180720" cy="176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537320" y="5624640"/>
                <a:ext cx="177840" cy="176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767720" y="5624640"/>
                <a:ext cx="177840" cy="176040"/>
              </a:xfrm>
              <a:prstGeom prst="ellipse">
                <a:avLst/>
              </a:prstGeom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991640" y="5624640"/>
                <a:ext cx="180720" cy="176040"/>
              </a:xfrm>
              <a:prstGeom prst="ellipse">
                <a:avLst/>
              </a:prstGeom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8218440" y="5624640"/>
                <a:ext cx="182520" cy="176040"/>
              </a:xfrm>
              <a:prstGeom prst="ellipse">
                <a:avLst/>
              </a:prstGeom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8442360" y="5624640"/>
                <a:ext cx="181080" cy="176040"/>
              </a:xfrm>
              <a:prstGeom prst="ellipse">
                <a:avLst/>
              </a:prstGeom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773840" y="5237280"/>
                <a:ext cx="177840" cy="474480"/>
              </a:xfrm>
              <a:prstGeom prst="rect">
                <a:avLst/>
              </a:prstGeom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997760" y="4900680"/>
                <a:ext cx="181080" cy="811080"/>
              </a:xfrm>
              <a:prstGeom prst="rect">
                <a:avLst/>
              </a:prstGeom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8224920" y="4900680"/>
                <a:ext cx="182520" cy="811080"/>
              </a:xfrm>
              <a:prstGeom prst="rect">
                <a:avLst/>
              </a:prstGeom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8448840" y="4900680"/>
                <a:ext cx="180720" cy="811080"/>
              </a:xfrm>
              <a:prstGeom prst="rect">
                <a:avLst/>
              </a:prstGeom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772400" y="5197320"/>
                <a:ext cx="179280" cy="74880"/>
              </a:xfrm>
              <a:prstGeom prst="ellipse">
                <a:avLst/>
              </a:prstGeom>
              <a:gradFill rotWithShape="0">
                <a:gsLst>
                  <a:gs pos="0">
                    <a:srgbClr val="4b2829"/>
                  </a:gs>
                  <a:gs pos="50000">
                    <a:srgbClr val="ff878d"/>
                  </a:gs>
                  <a:gs pos="100000">
                    <a:srgbClr val="4b28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8001000" y="4859280"/>
                <a:ext cx="179280" cy="74520"/>
              </a:xfrm>
              <a:prstGeom prst="ellipse">
                <a:avLst/>
              </a:prstGeom>
              <a:gradFill rotWithShape="0">
                <a:gsLst>
                  <a:gs pos="0">
                    <a:srgbClr val="4b2829"/>
                  </a:gs>
                  <a:gs pos="50000">
                    <a:srgbClr val="ff878d"/>
                  </a:gs>
                  <a:gs pos="100000">
                    <a:srgbClr val="4b28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8223120" y="4859280"/>
                <a:ext cx="181080" cy="74520"/>
              </a:xfrm>
              <a:prstGeom prst="ellipse">
                <a:avLst/>
              </a:prstGeom>
              <a:gradFill rotWithShape="0">
                <a:gsLst>
                  <a:gs pos="0">
                    <a:srgbClr val="4b2829"/>
                  </a:gs>
                  <a:gs pos="50000">
                    <a:srgbClr val="ff878d"/>
                  </a:gs>
                  <a:gs pos="100000">
                    <a:srgbClr val="4b28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8445600" y="4859280"/>
                <a:ext cx="180720" cy="74520"/>
              </a:xfrm>
              <a:prstGeom prst="ellipse">
                <a:avLst/>
              </a:prstGeom>
              <a:gradFill rotWithShape="0">
                <a:gsLst>
                  <a:gs pos="0">
                    <a:srgbClr val="4b2829"/>
                  </a:gs>
                  <a:gs pos="50000">
                    <a:srgbClr val="ff878d"/>
                  </a:gs>
                  <a:gs pos="100000">
                    <a:srgbClr val="4b28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8001000" y="4689360"/>
                <a:ext cx="17928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8223120" y="4689360"/>
                <a:ext cx="18108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8445600" y="4689360"/>
                <a:ext cx="18072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773840" y="4689360"/>
                <a:ext cx="18108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094520" y="4721400"/>
                <a:ext cx="18108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316640" y="4721400"/>
                <a:ext cx="18108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540560" y="4721400"/>
                <a:ext cx="18108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6869160" y="4721400"/>
                <a:ext cx="18108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832880" y="4648320"/>
                <a:ext cx="60120" cy="82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832880" y="4886280"/>
                <a:ext cx="60120" cy="82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832880" y="5146560"/>
                <a:ext cx="60120" cy="828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6865920" y="4729320"/>
                <a:ext cx="181080" cy="9856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088040" y="4729320"/>
                <a:ext cx="182880" cy="9856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316640" y="4729320"/>
                <a:ext cx="181080" cy="9856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543800" y="4729320"/>
                <a:ext cx="177840" cy="9856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093080" y="4689360"/>
                <a:ext cx="17928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315200" y="4689360"/>
                <a:ext cx="18108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537320" y="4689360"/>
                <a:ext cx="18108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6865920" y="4689360"/>
                <a:ext cx="18108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4" name=""/>
            <p:cNvSpPr/>
            <p:nvPr/>
          </p:nvSpPr>
          <p:spPr>
            <a:xfrm>
              <a:off x="6955200" y="2244960"/>
              <a:ext cx="1095120" cy="459720"/>
            </a:xfrm>
            <a:prstGeom prst="borderCallout1">
              <a:avLst>
                <a:gd name="adj1" fmla="val 18750"/>
                <a:gd name="adj2" fmla="val -8333"/>
                <a:gd name="adj3" fmla="val 167680"/>
                <a:gd name="adj4" fmla="val -186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Aor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023240" y="3327480"/>
              <a:ext cx="293400" cy="293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859440" y="3708360"/>
              <a:ext cx="282600" cy="282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Kinetics of Endothelin-1 Binding in the Dog Liver Microcirculation in vivo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685800" y="2928600"/>
            <a:ext cx="77724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Jocelyn Dupuis, Andreas J. Schwab, André Simard, Peter Cernacek, Duncan J. Stewart, and Carl A. Goresk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m. J. Physiol.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277:G905-G914, 1999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"/>
          <p:cNvGrpSpPr/>
          <p:nvPr/>
        </p:nvGrpSpPr>
        <p:grpSpPr>
          <a:xfrm>
            <a:off x="663120" y="759240"/>
            <a:ext cx="7473240" cy="5778720"/>
            <a:chOff x="663120" y="759240"/>
            <a:chExt cx="7473240" cy="5778720"/>
          </a:xfrm>
        </p:grpSpPr>
        <p:sp>
          <p:nvSpPr>
            <p:cNvPr id="2010" name=""/>
            <p:cNvSpPr/>
            <p:nvPr/>
          </p:nvSpPr>
          <p:spPr>
            <a:xfrm>
              <a:off x="3382920" y="1077840"/>
              <a:ext cx="1627200" cy="4179960"/>
            </a:xfrm>
            <a:custGeom>
              <a:avLst/>
              <a:gdLst/>
              <a:ahLst/>
              <a:rect l="l" t="t" r="r" b="b"/>
              <a:pathLst>
                <a:path w="1025" h="2633">
                  <a:moveTo>
                    <a:pt x="945" y="2361"/>
                  </a:moveTo>
                  <a:lnTo>
                    <a:pt x="881" y="2265"/>
                  </a:lnTo>
                  <a:lnTo>
                    <a:pt x="801" y="2105"/>
                  </a:lnTo>
                  <a:lnTo>
                    <a:pt x="728" y="1985"/>
                  </a:lnTo>
                  <a:lnTo>
                    <a:pt x="656" y="1785"/>
                  </a:lnTo>
                  <a:lnTo>
                    <a:pt x="584" y="1529"/>
                  </a:lnTo>
                  <a:lnTo>
                    <a:pt x="512" y="1112"/>
                  </a:lnTo>
                  <a:lnTo>
                    <a:pt x="440" y="592"/>
                  </a:lnTo>
                  <a:lnTo>
                    <a:pt x="360" y="184"/>
                  </a:lnTo>
                  <a:lnTo>
                    <a:pt x="288" y="0"/>
                  </a:lnTo>
                  <a:lnTo>
                    <a:pt x="224" y="200"/>
                  </a:lnTo>
                  <a:lnTo>
                    <a:pt x="152" y="1176"/>
                  </a:lnTo>
                  <a:lnTo>
                    <a:pt x="80" y="2049"/>
                  </a:lnTo>
                  <a:lnTo>
                    <a:pt x="0" y="2633"/>
                  </a:lnTo>
                  <a:lnTo>
                    <a:pt x="72" y="2233"/>
                  </a:lnTo>
                  <a:lnTo>
                    <a:pt x="144" y="1553"/>
                  </a:lnTo>
                  <a:lnTo>
                    <a:pt x="224" y="848"/>
                  </a:lnTo>
                  <a:lnTo>
                    <a:pt x="296" y="776"/>
                  </a:lnTo>
                  <a:lnTo>
                    <a:pt x="368" y="984"/>
                  </a:lnTo>
                  <a:lnTo>
                    <a:pt x="440" y="1296"/>
                  </a:lnTo>
                  <a:lnTo>
                    <a:pt x="512" y="1641"/>
                  </a:lnTo>
                  <a:lnTo>
                    <a:pt x="584" y="1953"/>
                  </a:lnTo>
                  <a:lnTo>
                    <a:pt x="664" y="2129"/>
                  </a:lnTo>
                  <a:lnTo>
                    <a:pt x="736" y="2273"/>
                  </a:lnTo>
                  <a:lnTo>
                    <a:pt x="809" y="2377"/>
                  </a:lnTo>
                  <a:lnTo>
                    <a:pt x="873" y="2449"/>
                  </a:lnTo>
                  <a:lnTo>
                    <a:pt x="945" y="2513"/>
                  </a:lnTo>
                  <a:lnTo>
                    <a:pt x="1025" y="2521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H="1">
              <a:off x="2138040" y="4902120"/>
              <a:ext cx="11412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H="1">
              <a:off x="2138040" y="4191120"/>
              <a:ext cx="1141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H="1">
              <a:off x="2138040" y="3835440"/>
              <a:ext cx="1904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2138040" y="4546440"/>
              <a:ext cx="19044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>
              <a:off x="2138040" y="5257800"/>
              <a:ext cx="1904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722680" y="5156280"/>
              <a:ext cx="1440" cy="101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294000" y="5079960"/>
              <a:ext cx="1800" cy="177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865680" y="5156280"/>
              <a:ext cx="1440" cy="101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449600" y="5079960"/>
              <a:ext cx="1800" cy="177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022720" y="5156280"/>
              <a:ext cx="1800" cy="101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594400" y="5079960"/>
              <a:ext cx="1440" cy="177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178680" y="5156280"/>
              <a:ext cx="1440" cy="101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750000" y="5079960"/>
              <a:ext cx="1800" cy="177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321680" y="5156280"/>
              <a:ext cx="1440" cy="101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893000" y="5079960"/>
              <a:ext cx="1800" cy="177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H="1">
              <a:off x="2138040" y="3479760"/>
              <a:ext cx="11412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138040" y="3122640"/>
              <a:ext cx="1904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2138040" y="2766960"/>
              <a:ext cx="11412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H="1">
              <a:off x="2138040" y="2411280"/>
              <a:ext cx="19044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>
              <a:off x="2138040" y="1700280"/>
              <a:ext cx="1904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>
              <a:off x="2138040" y="2055960"/>
              <a:ext cx="1141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H="1">
              <a:off x="2138040" y="1344600"/>
              <a:ext cx="1141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H="1">
              <a:off x="2138040" y="988920"/>
              <a:ext cx="19044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213520" y="4057560"/>
              <a:ext cx="15228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88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72" y="88"/>
                  </a:lnTo>
                  <a:lnTo>
                    <a:pt x="64" y="88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32" y="96"/>
                  </a:lnTo>
                  <a:lnTo>
                    <a:pt x="24" y="88"/>
                  </a:lnTo>
                  <a:lnTo>
                    <a:pt x="16" y="88"/>
                  </a:lnTo>
                  <a:lnTo>
                    <a:pt x="8" y="80"/>
                  </a:lnTo>
                  <a:lnTo>
                    <a:pt x="8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8" y="8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8"/>
                  </a:lnTo>
                  <a:lnTo>
                    <a:pt x="80" y="8"/>
                  </a:lnTo>
                  <a:lnTo>
                    <a:pt x="88" y="16"/>
                  </a:lnTo>
                  <a:lnTo>
                    <a:pt x="88" y="24"/>
                  </a:lnTo>
                  <a:lnTo>
                    <a:pt x="96" y="32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446640" y="45594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88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72" y="88"/>
                  </a:lnTo>
                  <a:lnTo>
                    <a:pt x="64" y="88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32" y="96"/>
                  </a:lnTo>
                  <a:lnTo>
                    <a:pt x="24" y="88"/>
                  </a:lnTo>
                  <a:lnTo>
                    <a:pt x="16" y="88"/>
                  </a:lnTo>
                  <a:lnTo>
                    <a:pt x="8" y="80"/>
                  </a:lnTo>
                  <a:lnTo>
                    <a:pt x="8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8" y="8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8"/>
                  </a:lnTo>
                  <a:lnTo>
                    <a:pt x="80" y="8"/>
                  </a:lnTo>
                  <a:lnTo>
                    <a:pt x="88" y="16"/>
                  </a:lnTo>
                  <a:lnTo>
                    <a:pt x="88" y="24"/>
                  </a:lnTo>
                  <a:lnTo>
                    <a:pt x="96" y="32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332160" y="5194440"/>
              <a:ext cx="152280" cy="139680"/>
            </a:xfrm>
            <a:custGeom>
              <a:avLst/>
              <a:gdLst/>
              <a:ahLst/>
              <a:rect l="l" t="t" r="r" b="b"/>
              <a:pathLst>
                <a:path w="96" h="88">
                  <a:moveTo>
                    <a:pt x="96" y="40"/>
                  </a:moveTo>
                  <a:lnTo>
                    <a:pt x="88" y="56"/>
                  </a:lnTo>
                  <a:lnTo>
                    <a:pt x="88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72" y="80"/>
                  </a:lnTo>
                  <a:lnTo>
                    <a:pt x="64" y="88"/>
                  </a:lnTo>
                  <a:lnTo>
                    <a:pt x="56" y="88"/>
                  </a:lnTo>
                  <a:lnTo>
                    <a:pt x="48" y="88"/>
                  </a:lnTo>
                  <a:lnTo>
                    <a:pt x="32" y="88"/>
                  </a:lnTo>
                  <a:lnTo>
                    <a:pt x="24" y="88"/>
                  </a:lnTo>
                  <a:lnTo>
                    <a:pt x="16" y="80"/>
                  </a:lnTo>
                  <a:lnTo>
                    <a:pt x="8" y="80"/>
                  </a:lnTo>
                  <a:lnTo>
                    <a:pt x="8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8" y="8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8"/>
                  </a:lnTo>
                  <a:lnTo>
                    <a:pt x="80" y="8"/>
                  </a:lnTo>
                  <a:lnTo>
                    <a:pt x="88" y="16"/>
                  </a:lnTo>
                  <a:lnTo>
                    <a:pt x="88" y="24"/>
                  </a:lnTo>
                  <a:lnTo>
                    <a:pt x="88" y="32"/>
                  </a:lnTo>
                  <a:lnTo>
                    <a:pt x="96" y="40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560760" y="347976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88" y="72"/>
                  </a:lnTo>
                  <a:lnTo>
                    <a:pt x="88" y="80"/>
                  </a:lnTo>
                  <a:lnTo>
                    <a:pt x="80" y="88"/>
                  </a:lnTo>
                  <a:lnTo>
                    <a:pt x="72" y="88"/>
                  </a:lnTo>
                  <a:lnTo>
                    <a:pt x="64" y="96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24" y="96"/>
                  </a:lnTo>
                  <a:lnTo>
                    <a:pt x="16" y="88"/>
                  </a:lnTo>
                  <a:lnTo>
                    <a:pt x="8" y="80"/>
                  </a:lnTo>
                  <a:lnTo>
                    <a:pt x="0" y="72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24" y="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8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8" y="24"/>
                  </a:lnTo>
                  <a:lnTo>
                    <a:pt x="88" y="32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675240" y="237348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88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72" y="88"/>
                  </a:lnTo>
                  <a:lnTo>
                    <a:pt x="64" y="96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32" y="96"/>
                  </a:lnTo>
                  <a:lnTo>
                    <a:pt x="24" y="88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8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8" y="24"/>
                  </a:lnTo>
                  <a:lnTo>
                    <a:pt x="88" y="32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789360" y="22464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88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72" y="88"/>
                  </a:lnTo>
                  <a:lnTo>
                    <a:pt x="64" y="88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32" y="88"/>
                  </a:lnTo>
                  <a:lnTo>
                    <a:pt x="24" y="88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8" y="16"/>
                  </a:lnTo>
                  <a:lnTo>
                    <a:pt x="88" y="24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903840" y="2589120"/>
              <a:ext cx="15228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96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72" y="88"/>
                  </a:lnTo>
                  <a:lnTo>
                    <a:pt x="64" y="88"/>
                  </a:lnTo>
                  <a:lnTo>
                    <a:pt x="56" y="88"/>
                  </a:lnTo>
                  <a:lnTo>
                    <a:pt x="48" y="96"/>
                  </a:lnTo>
                  <a:lnTo>
                    <a:pt x="40" y="88"/>
                  </a:lnTo>
                  <a:lnTo>
                    <a:pt x="32" y="88"/>
                  </a:lnTo>
                  <a:lnTo>
                    <a:pt x="24" y="88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8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8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8"/>
                  </a:lnTo>
                  <a:lnTo>
                    <a:pt x="80" y="8"/>
                  </a:lnTo>
                  <a:lnTo>
                    <a:pt x="88" y="16"/>
                  </a:lnTo>
                  <a:lnTo>
                    <a:pt x="96" y="24"/>
                  </a:lnTo>
                  <a:lnTo>
                    <a:pt x="96" y="32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017960" y="307188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96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72" y="88"/>
                  </a:lnTo>
                  <a:lnTo>
                    <a:pt x="64" y="88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32" y="88"/>
                  </a:lnTo>
                  <a:lnTo>
                    <a:pt x="24" y="88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8" y="24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8" y="16"/>
                  </a:lnTo>
                  <a:lnTo>
                    <a:pt x="96" y="24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132440" y="3632040"/>
              <a:ext cx="15228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96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80" y="88"/>
                  </a:lnTo>
                  <a:lnTo>
                    <a:pt x="72" y="88"/>
                  </a:lnTo>
                  <a:lnTo>
                    <a:pt x="56" y="88"/>
                  </a:lnTo>
                  <a:lnTo>
                    <a:pt x="48" y="96"/>
                  </a:lnTo>
                  <a:lnTo>
                    <a:pt x="40" y="88"/>
                  </a:lnTo>
                  <a:lnTo>
                    <a:pt x="32" y="88"/>
                  </a:lnTo>
                  <a:lnTo>
                    <a:pt x="24" y="88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8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8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72" y="0"/>
                  </a:lnTo>
                  <a:lnTo>
                    <a:pt x="80" y="8"/>
                  </a:lnTo>
                  <a:lnTo>
                    <a:pt x="88" y="16"/>
                  </a:lnTo>
                  <a:lnTo>
                    <a:pt x="96" y="24"/>
                  </a:lnTo>
                  <a:lnTo>
                    <a:pt x="96" y="32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246560" y="41148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96" y="64"/>
                  </a:lnTo>
                  <a:lnTo>
                    <a:pt x="88" y="72"/>
                  </a:lnTo>
                  <a:lnTo>
                    <a:pt x="88" y="80"/>
                  </a:lnTo>
                  <a:lnTo>
                    <a:pt x="80" y="88"/>
                  </a:lnTo>
                  <a:lnTo>
                    <a:pt x="72" y="88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32" y="88"/>
                  </a:lnTo>
                  <a:lnTo>
                    <a:pt x="24" y="88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8" y="24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72" y="0"/>
                  </a:lnTo>
                  <a:lnTo>
                    <a:pt x="80" y="8"/>
                  </a:lnTo>
                  <a:lnTo>
                    <a:pt x="88" y="16"/>
                  </a:lnTo>
                  <a:lnTo>
                    <a:pt x="96" y="24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361040" y="439416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64"/>
                  </a:lnTo>
                  <a:lnTo>
                    <a:pt x="96" y="72"/>
                  </a:lnTo>
                  <a:lnTo>
                    <a:pt x="88" y="80"/>
                  </a:lnTo>
                  <a:lnTo>
                    <a:pt x="88" y="88"/>
                  </a:lnTo>
                  <a:lnTo>
                    <a:pt x="80" y="88"/>
                  </a:lnTo>
                  <a:lnTo>
                    <a:pt x="72" y="96"/>
                  </a:lnTo>
                  <a:lnTo>
                    <a:pt x="64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32" y="96"/>
                  </a:lnTo>
                  <a:lnTo>
                    <a:pt x="24" y="88"/>
                  </a:lnTo>
                  <a:lnTo>
                    <a:pt x="16" y="88"/>
                  </a:lnTo>
                  <a:lnTo>
                    <a:pt x="8" y="80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0" y="48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8"/>
                  </a:lnTo>
                  <a:lnTo>
                    <a:pt x="80" y="8"/>
                  </a:lnTo>
                  <a:lnTo>
                    <a:pt x="88" y="16"/>
                  </a:lnTo>
                  <a:lnTo>
                    <a:pt x="88" y="24"/>
                  </a:lnTo>
                  <a:lnTo>
                    <a:pt x="96" y="32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487760" y="4622760"/>
              <a:ext cx="141480" cy="152280"/>
            </a:xfrm>
            <a:custGeom>
              <a:avLst/>
              <a:gdLst/>
              <a:ahLst/>
              <a:rect l="l" t="t" r="r" b="b"/>
              <a:pathLst>
                <a:path w="89" h="96">
                  <a:moveTo>
                    <a:pt x="89" y="48"/>
                  </a:moveTo>
                  <a:lnTo>
                    <a:pt x="89" y="56"/>
                  </a:lnTo>
                  <a:lnTo>
                    <a:pt x="89" y="64"/>
                  </a:lnTo>
                  <a:lnTo>
                    <a:pt x="81" y="72"/>
                  </a:lnTo>
                  <a:lnTo>
                    <a:pt x="81" y="80"/>
                  </a:lnTo>
                  <a:lnTo>
                    <a:pt x="73" y="88"/>
                  </a:lnTo>
                  <a:lnTo>
                    <a:pt x="65" y="88"/>
                  </a:lnTo>
                  <a:lnTo>
                    <a:pt x="57" y="88"/>
                  </a:lnTo>
                  <a:lnTo>
                    <a:pt x="40" y="96"/>
                  </a:lnTo>
                  <a:lnTo>
                    <a:pt x="32" y="88"/>
                  </a:lnTo>
                  <a:lnTo>
                    <a:pt x="24" y="88"/>
                  </a:lnTo>
                  <a:lnTo>
                    <a:pt x="16" y="88"/>
                  </a:lnTo>
                  <a:lnTo>
                    <a:pt x="8" y="80"/>
                  </a:lnTo>
                  <a:lnTo>
                    <a:pt x="8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8" y="8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3" y="8"/>
                  </a:lnTo>
                  <a:lnTo>
                    <a:pt x="81" y="8"/>
                  </a:lnTo>
                  <a:lnTo>
                    <a:pt x="81" y="16"/>
                  </a:lnTo>
                  <a:lnTo>
                    <a:pt x="89" y="24"/>
                  </a:lnTo>
                  <a:lnTo>
                    <a:pt x="89" y="32"/>
                  </a:lnTo>
                  <a:lnTo>
                    <a:pt x="89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603680" y="478800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88" y="56"/>
                  </a:lnTo>
                  <a:lnTo>
                    <a:pt x="88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72" y="88"/>
                  </a:lnTo>
                  <a:lnTo>
                    <a:pt x="64" y="96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32" y="96"/>
                  </a:lnTo>
                  <a:lnTo>
                    <a:pt x="24" y="96"/>
                  </a:lnTo>
                  <a:lnTo>
                    <a:pt x="16" y="88"/>
                  </a:lnTo>
                  <a:lnTo>
                    <a:pt x="8" y="80"/>
                  </a:lnTo>
                  <a:lnTo>
                    <a:pt x="8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8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8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8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8" y="24"/>
                  </a:lnTo>
                  <a:lnTo>
                    <a:pt x="88" y="32"/>
                  </a:lnTo>
                  <a:lnTo>
                    <a:pt x="88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718160" y="491508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88" y="56"/>
                  </a:lnTo>
                  <a:lnTo>
                    <a:pt x="88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72" y="88"/>
                  </a:lnTo>
                  <a:lnTo>
                    <a:pt x="64" y="88"/>
                  </a:lnTo>
                  <a:lnTo>
                    <a:pt x="56" y="88"/>
                  </a:lnTo>
                  <a:lnTo>
                    <a:pt x="48" y="96"/>
                  </a:lnTo>
                  <a:lnTo>
                    <a:pt x="32" y="88"/>
                  </a:lnTo>
                  <a:lnTo>
                    <a:pt x="24" y="88"/>
                  </a:lnTo>
                  <a:lnTo>
                    <a:pt x="16" y="88"/>
                  </a:lnTo>
                  <a:lnTo>
                    <a:pt x="8" y="80"/>
                  </a:lnTo>
                  <a:lnTo>
                    <a:pt x="8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8" y="8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8"/>
                  </a:lnTo>
                  <a:lnTo>
                    <a:pt x="80" y="8"/>
                  </a:lnTo>
                  <a:lnTo>
                    <a:pt x="88" y="16"/>
                  </a:lnTo>
                  <a:lnTo>
                    <a:pt x="88" y="24"/>
                  </a:lnTo>
                  <a:lnTo>
                    <a:pt x="88" y="32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832280" y="5003640"/>
              <a:ext cx="15264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64"/>
                  </a:lnTo>
                  <a:lnTo>
                    <a:pt x="88" y="72"/>
                  </a:lnTo>
                  <a:lnTo>
                    <a:pt x="88" y="80"/>
                  </a:lnTo>
                  <a:lnTo>
                    <a:pt x="80" y="88"/>
                  </a:lnTo>
                  <a:lnTo>
                    <a:pt x="72" y="88"/>
                  </a:lnTo>
                  <a:lnTo>
                    <a:pt x="64" y="96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24" y="96"/>
                  </a:lnTo>
                  <a:lnTo>
                    <a:pt x="16" y="88"/>
                  </a:lnTo>
                  <a:lnTo>
                    <a:pt x="8" y="80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24" y="8"/>
                  </a:lnTo>
                  <a:lnTo>
                    <a:pt x="40" y="8"/>
                  </a:lnTo>
                  <a:lnTo>
                    <a:pt x="48" y="0"/>
                  </a:lnTo>
                  <a:lnTo>
                    <a:pt x="56" y="8"/>
                  </a:lnTo>
                  <a:lnTo>
                    <a:pt x="64" y="8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8" y="24"/>
                  </a:lnTo>
                  <a:lnTo>
                    <a:pt x="88" y="32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946760" y="50166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88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72" y="88"/>
                  </a:lnTo>
                  <a:lnTo>
                    <a:pt x="64" y="88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32" y="88"/>
                  </a:lnTo>
                  <a:lnTo>
                    <a:pt x="16" y="88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8" y="16"/>
                  </a:lnTo>
                  <a:lnTo>
                    <a:pt x="88" y="24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289480" y="505476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96" y="72"/>
                  </a:lnTo>
                  <a:lnTo>
                    <a:pt x="88" y="80"/>
                  </a:lnTo>
                  <a:lnTo>
                    <a:pt x="80" y="80"/>
                  </a:lnTo>
                  <a:lnTo>
                    <a:pt x="72" y="88"/>
                  </a:lnTo>
                  <a:lnTo>
                    <a:pt x="64" y="96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32" y="96"/>
                  </a:lnTo>
                  <a:lnTo>
                    <a:pt x="24" y="88"/>
                  </a:lnTo>
                  <a:lnTo>
                    <a:pt x="16" y="80"/>
                  </a:lnTo>
                  <a:lnTo>
                    <a:pt x="8" y="80"/>
                  </a:lnTo>
                  <a:lnTo>
                    <a:pt x="8" y="72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8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8" y="24"/>
                  </a:lnTo>
                  <a:lnTo>
                    <a:pt x="96" y="32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175360" y="5041800"/>
              <a:ext cx="15228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96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72" y="88"/>
                  </a:lnTo>
                  <a:lnTo>
                    <a:pt x="64" y="88"/>
                  </a:lnTo>
                  <a:lnTo>
                    <a:pt x="56" y="88"/>
                  </a:lnTo>
                  <a:lnTo>
                    <a:pt x="48" y="96"/>
                  </a:lnTo>
                  <a:lnTo>
                    <a:pt x="40" y="88"/>
                  </a:lnTo>
                  <a:lnTo>
                    <a:pt x="32" y="88"/>
                  </a:lnTo>
                  <a:lnTo>
                    <a:pt x="24" y="88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8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8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8"/>
                  </a:lnTo>
                  <a:lnTo>
                    <a:pt x="80" y="8"/>
                  </a:lnTo>
                  <a:lnTo>
                    <a:pt x="88" y="16"/>
                  </a:lnTo>
                  <a:lnTo>
                    <a:pt x="96" y="24"/>
                  </a:lnTo>
                  <a:lnTo>
                    <a:pt x="96" y="32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060880" y="502920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64"/>
                  </a:lnTo>
                  <a:lnTo>
                    <a:pt x="88" y="72"/>
                  </a:lnTo>
                  <a:lnTo>
                    <a:pt x="88" y="80"/>
                  </a:lnTo>
                  <a:lnTo>
                    <a:pt x="80" y="88"/>
                  </a:lnTo>
                  <a:lnTo>
                    <a:pt x="72" y="88"/>
                  </a:lnTo>
                  <a:lnTo>
                    <a:pt x="64" y="96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32" y="96"/>
                  </a:lnTo>
                  <a:lnTo>
                    <a:pt x="24" y="88"/>
                  </a:lnTo>
                  <a:lnTo>
                    <a:pt x="16" y="88"/>
                  </a:lnTo>
                  <a:lnTo>
                    <a:pt x="8" y="80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8" y="0"/>
                  </a:lnTo>
                  <a:lnTo>
                    <a:pt x="56" y="8"/>
                  </a:lnTo>
                  <a:lnTo>
                    <a:pt x="64" y="8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8" y="24"/>
                  </a:lnTo>
                  <a:lnTo>
                    <a:pt x="88" y="32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403960" y="50292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96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80" y="88"/>
                  </a:lnTo>
                  <a:lnTo>
                    <a:pt x="72" y="96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32" y="96"/>
                  </a:lnTo>
                  <a:lnTo>
                    <a:pt x="24" y="88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72" y="8"/>
                  </a:lnTo>
                  <a:lnTo>
                    <a:pt x="80" y="8"/>
                  </a:lnTo>
                  <a:lnTo>
                    <a:pt x="80" y="16"/>
                  </a:lnTo>
                  <a:lnTo>
                    <a:pt x="88" y="24"/>
                  </a:lnTo>
                  <a:lnTo>
                    <a:pt x="96" y="32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18080" y="502920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96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80" y="88"/>
                  </a:lnTo>
                  <a:lnTo>
                    <a:pt x="72" y="96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32" y="96"/>
                  </a:lnTo>
                  <a:lnTo>
                    <a:pt x="24" y="88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72" y="8"/>
                  </a:lnTo>
                  <a:lnTo>
                    <a:pt x="80" y="8"/>
                  </a:lnTo>
                  <a:lnTo>
                    <a:pt x="80" y="16"/>
                  </a:lnTo>
                  <a:lnTo>
                    <a:pt x="88" y="24"/>
                  </a:lnTo>
                  <a:lnTo>
                    <a:pt x="96" y="32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632560" y="50292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96" y="64"/>
                  </a:lnTo>
                  <a:lnTo>
                    <a:pt x="88" y="72"/>
                  </a:lnTo>
                  <a:lnTo>
                    <a:pt x="88" y="80"/>
                  </a:lnTo>
                  <a:lnTo>
                    <a:pt x="80" y="88"/>
                  </a:lnTo>
                  <a:lnTo>
                    <a:pt x="72" y="88"/>
                  </a:lnTo>
                  <a:lnTo>
                    <a:pt x="64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32" y="88"/>
                  </a:lnTo>
                  <a:lnTo>
                    <a:pt x="24" y="88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8" y="56"/>
                  </a:lnTo>
                  <a:lnTo>
                    <a:pt x="0" y="48"/>
                  </a:lnTo>
                  <a:lnTo>
                    <a:pt x="8" y="40"/>
                  </a:lnTo>
                  <a:lnTo>
                    <a:pt x="8" y="24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0" y="8"/>
                  </a:lnTo>
                  <a:lnTo>
                    <a:pt x="88" y="16"/>
                  </a:lnTo>
                  <a:lnTo>
                    <a:pt x="96" y="24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746680" y="502920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96" y="64"/>
                  </a:lnTo>
                  <a:lnTo>
                    <a:pt x="88" y="72"/>
                  </a:lnTo>
                  <a:lnTo>
                    <a:pt x="88" y="80"/>
                  </a:lnTo>
                  <a:lnTo>
                    <a:pt x="80" y="88"/>
                  </a:lnTo>
                  <a:lnTo>
                    <a:pt x="72" y="96"/>
                  </a:lnTo>
                  <a:lnTo>
                    <a:pt x="64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32" y="96"/>
                  </a:lnTo>
                  <a:lnTo>
                    <a:pt x="24" y="88"/>
                  </a:lnTo>
                  <a:lnTo>
                    <a:pt x="16" y="80"/>
                  </a:lnTo>
                  <a:lnTo>
                    <a:pt x="16" y="72"/>
                  </a:lnTo>
                  <a:lnTo>
                    <a:pt x="8" y="64"/>
                  </a:lnTo>
                  <a:lnTo>
                    <a:pt x="8" y="56"/>
                  </a:lnTo>
                  <a:lnTo>
                    <a:pt x="0" y="48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8"/>
                  </a:lnTo>
                  <a:lnTo>
                    <a:pt x="80" y="8"/>
                  </a:lnTo>
                  <a:lnTo>
                    <a:pt x="88" y="16"/>
                  </a:lnTo>
                  <a:lnTo>
                    <a:pt x="88" y="24"/>
                  </a:lnTo>
                  <a:lnTo>
                    <a:pt x="96" y="32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873760" y="50292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88" y="56"/>
                  </a:lnTo>
                  <a:lnTo>
                    <a:pt x="88" y="64"/>
                  </a:lnTo>
                  <a:lnTo>
                    <a:pt x="80" y="72"/>
                  </a:lnTo>
                  <a:lnTo>
                    <a:pt x="80" y="80"/>
                  </a:lnTo>
                  <a:lnTo>
                    <a:pt x="72" y="88"/>
                  </a:lnTo>
                  <a:lnTo>
                    <a:pt x="64" y="88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32" y="96"/>
                  </a:lnTo>
                  <a:lnTo>
                    <a:pt x="24" y="88"/>
                  </a:lnTo>
                  <a:lnTo>
                    <a:pt x="16" y="88"/>
                  </a:lnTo>
                  <a:lnTo>
                    <a:pt x="8" y="80"/>
                  </a:lnTo>
                  <a:lnTo>
                    <a:pt x="8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8" y="24"/>
                  </a:lnTo>
                  <a:lnTo>
                    <a:pt x="88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987880" y="502920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88" y="56"/>
                  </a:lnTo>
                  <a:lnTo>
                    <a:pt x="88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72" y="88"/>
                  </a:lnTo>
                  <a:lnTo>
                    <a:pt x="64" y="88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32" y="96"/>
                  </a:lnTo>
                  <a:lnTo>
                    <a:pt x="24" y="88"/>
                  </a:lnTo>
                  <a:lnTo>
                    <a:pt x="16" y="88"/>
                  </a:lnTo>
                  <a:lnTo>
                    <a:pt x="8" y="80"/>
                  </a:lnTo>
                  <a:lnTo>
                    <a:pt x="8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8" y="16"/>
                  </a:lnTo>
                  <a:lnTo>
                    <a:pt x="88" y="24"/>
                  </a:lnTo>
                  <a:lnTo>
                    <a:pt x="88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102360" y="50292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88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72" y="88"/>
                  </a:lnTo>
                  <a:lnTo>
                    <a:pt x="64" y="88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24" y="88"/>
                  </a:lnTo>
                  <a:lnTo>
                    <a:pt x="16" y="88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8" y="16"/>
                  </a:lnTo>
                  <a:lnTo>
                    <a:pt x="88" y="24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216480" y="502920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88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72" y="88"/>
                  </a:lnTo>
                  <a:lnTo>
                    <a:pt x="64" y="88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24" y="88"/>
                  </a:lnTo>
                  <a:lnTo>
                    <a:pt x="16" y="88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8" y="16"/>
                  </a:lnTo>
                  <a:lnTo>
                    <a:pt x="88" y="24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330960" y="5003640"/>
              <a:ext cx="15228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88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72" y="88"/>
                  </a:lnTo>
                  <a:lnTo>
                    <a:pt x="64" y="96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32" y="96"/>
                  </a:lnTo>
                  <a:lnTo>
                    <a:pt x="24" y="88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8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8" y="24"/>
                  </a:lnTo>
                  <a:lnTo>
                    <a:pt x="88" y="32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445080" y="5003640"/>
              <a:ext cx="15264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88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72" y="88"/>
                  </a:lnTo>
                  <a:lnTo>
                    <a:pt x="64" y="96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32" y="96"/>
                  </a:lnTo>
                  <a:lnTo>
                    <a:pt x="24" y="88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8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8" y="24"/>
                  </a:lnTo>
                  <a:lnTo>
                    <a:pt x="88" y="32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559560" y="497844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96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72" y="88"/>
                  </a:lnTo>
                  <a:lnTo>
                    <a:pt x="64" y="88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32" y="88"/>
                  </a:lnTo>
                  <a:lnTo>
                    <a:pt x="24" y="88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8" y="24"/>
                  </a:lnTo>
                  <a:lnTo>
                    <a:pt x="96" y="32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673680" y="496584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96" y="72"/>
                  </a:lnTo>
                  <a:lnTo>
                    <a:pt x="88" y="80"/>
                  </a:lnTo>
                  <a:lnTo>
                    <a:pt x="80" y="80"/>
                  </a:lnTo>
                  <a:lnTo>
                    <a:pt x="80" y="88"/>
                  </a:lnTo>
                  <a:lnTo>
                    <a:pt x="64" y="96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32" y="96"/>
                  </a:lnTo>
                  <a:lnTo>
                    <a:pt x="24" y="88"/>
                  </a:lnTo>
                  <a:lnTo>
                    <a:pt x="16" y="80"/>
                  </a:lnTo>
                  <a:lnTo>
                    <a:pt x="8" y="80"/>
                  </a:lnTo>
                  <a:lnTo>
                    <a:pt x="8" y="72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8"/>
                  </a:lnTo>
                  <a:lnTo>
                    <a:pt x="80" y="8"/>
                  </a:lnTo>
                  <a:lnTo>
                    <a:pt x="80" y="16"/>
                  </a:lnTo>
                  <a:lnTo>
                    <a:pt x="88" y="24"/>
                  </a:lnTo>
                  <a:lnTo>
                    <a:pt x="96" y="32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788160" y="4952880"/>
              <a:ext cx="15228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96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80" y="88"/>
                  </a:lnTo>
                  <a:lnTo>
                    <a:pt x="72" y="88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32" y="88"/>
                  </a:lnTo>
                  <a:lnTo>
                    <a:pt x="24" y="88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8" y="24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72" y="0"/>
                  </a:lnTo>
                  <a:lnTo>
                    <a:pt x="80" y="8"/>
                  </a:lnTo>
                  <a:lnTo>
                    <a:pt x="80" y="16"/>
                  </a:lnTo>
                  <a:lnTo>
                    <a:pt x="88" y="16"/>
                  </a:lnTo>
                  <a:lnTo>
                    <a:pt x="96" y="24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902280" y="497844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96" y="64"/>
                  </a:lnTo>
                  <a:lnTo>
                    <a:pt x="88" y="72"/>
                  </a:lnTo>
                  <a:lnTo>
                    <a:pt x="88" y="80"/>
                  </a:lnTo>
                  <a:lnTo>
                    <a:pt x="80" y="88"/>
                  </a:lnTo>
                  <a:lnTo>
                    <a:pt x="72" y="88"/>
                  </a:lnTo>
                  <a:lnTo>
                    <a:pt x="64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32" y="88"/>
                  </a:lnTo>
                  <a:lnTo>
                    <a:pt x="24" y="88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8" y="56"/>
                  </a:lnTo>
                  <a:lnTo>
                    <a:pt x="0" y="48"/>
                  </a:lnTo>
                  <a:lnTo>
                    <a:pt x="8" y="40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0" y="8"/>
                  </a:lnTo>
                  <a:lnTo>
                    <a:pt x="88" y="16"/>
                  </a:lnTo>
                  <a:lnTo>
                    <a:pt x="88" y="24"/>
                  </a:lnTo>
                  <a:lnTo>
                    <a:pt x="96" y="32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016760" y="4952880"/>
              <a:ext cx="15228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96" y="64"/>
                  </a:lnTo>
                  <a:lnTo>
                    <a:pt x="88" y="72"/>
                  </a:lnTo>
                  <a:lnTo>
                    <a:pt x="88" y="80"/>
                  </a:lnTo>
                  <a:lnTo>
                    <a:pt x="80" y="88"/>
                  </a:lnTo>
                  <a:lnTo>
                    <a:pt x="72" y="88"/>
                  </a:lnTo>
                  <a:lnTo>
                    <a:pt x="64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32" y="88"/>
                  </a:lnTo>
                  <a:lnTo>
                    <a:pt x="24" y="88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8" y="56"/>
                  </a:lnTo>
                  <a:lnTo>
                    <a:pt x="0" y="48"/>
                  </a:lnTo>
                  <a:lnTo>
                    <a:pt x="8" y="40"/>
                  </a:lnTo>
                  <a:lnTo>
                    <a:pt x="8" y="24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0" y="8"/>
                  </a:lnTo>
                  <a:lnTo>
                    <a:pt x="88" y="16"/>
                  </a:lnTo>
                  <a:lnTo>
                    <a:pt x="96" y="24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143840" y="4940280"/>
              <a:ext cx="139680" cy="152280"/>
            </a:xfrm>
            <a:custGeom>
              <a:avLst/>
              <a:gdLst/>
              <a:ahLst/>
              <a:rect l="l" t="t" r="r" b="b"/>
              <a:pathLst>
                <a:path w="88" h="96">
                  <a:moveTo>
                    <a:pt x="88" y="48"/>
                  </a:moveTo>
                  <a:lnTo>
                    <a:pt x="88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80" y="88"/>
                  </a:lnTo>
                  <a:lnTo>
                    <a:pt x="72" y="88"/>
                  </a:lnTo>
                  <a:lnTo>
                    <a:pt x="64" y="96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32" y="96"/>
                  </a:lnTo>
                  <a:lnTo>
                    <a:pt x="24" y="96"/>
                  </a:lnTo>
                  <a:lnTo>
                    <a:pt x="16" y="88"/>
                  </a:lnTo>
                  <a:lnTo>
                    <a:pt x="8" y="88"/>
                  </a:lnTo>
                  <a:lnTo>
                    <a:pt x="8" y="80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8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56" y="8"/>
                  </a:lnTo>
                  <a:lnTo>
                    <a:pt x="64" y="8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0" y="24"/>
                  </a:lnTo>
                  <a:lnTo>
                    <a:pt x="88" y="32"/>
                  </a:lnTo>
                  <a:lnTo>
                    <a:pt x="88" y="40"/>
                  </a:lnTo>
                  <a:lnTo>
                    <a:pt x="88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257960" y="494028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88" y="64"/>
                  </a:lnTo>
                  <a:lnTo>
                    <a:pt x="88" y="72"/>
                  </a:lnTo>
                  <a:lnTo>
                    <a:pt x="88" y="80"/>
                  </a:lnTo>
                  <a:lnTo>
                    <a:pt x="80" y="88"/>
                  </a:lnTo>
                  <a:lnTo>
                    <a:pt x="72" y="88"/>
                  </a:lnTo>
                  <a:lnTo>
                    <a:pt x="64" y="96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32" y="96"/>
                  </a:lnTo>
                  <a:lnTo>
                    <a:pt x="24" y="96"/>
                  </a:lnTo>
                  <a:lnTo>
                    <a:pt x="16" y="88"/>
                  </a:lnTo>
                  <a:lnTo>
                    <a:pt x="8" y="88"/>
                  </a:lnTo>
                  <a:lnTo>
                    <a:pt x="8" y="80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8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56" y="8"/>
                  </a:lnTo>
                  <a:lnTo>
                    <a:pt x="64" y="8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8" y="24"/>
                  </a:lnTo>
                  <a:lnTo>
                    <a:pt x="88" y="32"/>
                  </a:lnTo>
                  <a:lnTo>
                    <a:pt x="88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372440" y="494028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64"/>
                  </a:lnTo>
                  <a:lnTo>
                    <a:pt x="88" y="72"/>
                  </a:lnTo>
                  <a:lnTo>
                    <a:pt x="88" y="80"/>
                  </a:lnTo>
                  <a:lnTo>
                    <a:pt x="80" y="88"/>
                  </a:lnTo>
                  <a:lnTo>
                    <a:pt x="72" y="88"/>
                  </a:lnTo>
                  <a:lnTo>
                    <a:pt x="64" y="96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24" y="96"/>
                  </a:lnTo>
                  <a:lnTo>
                    <a:pt x="16" y="88"/>
                  </a:lnTo>
                  <a:lnTo>
                    <a:pt x="8" y="88"/>
                  </a:lnTo>
                  <a:lnTo>
                    <a:pt x="8" y="80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8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8"/>
                  </a:lnTo>
                  <a:lnTo>
                    <a:pt x="40" y="8"/>
                  </a:lnTo>
                  <a:lnTo>
                    <a:pt x="48" y="0"/>
                  </a:lnTo>
                  <a:lnTo>
                    <a:pt x="56" y="8"/>
                  </a:lnTo>
                  <a:lnTo>
                    <a:pt x="64" y="8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8" y="24"/>
                  </a:lnTo>
                  <a:lnTo>
                    <a:pt x="88" y="32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601040" y="497844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88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72" y="80"/>
                  </a:lnTo>
                  <a:lnTo>
                    <a:pt x="64" y="88"/>
                  </a:lnTo>
                  <a:lnTo>
                    <a:pt x="56" y="88"/>
                  </a:lnTo>
                  <a:lnTo>
                    <a:pt x="48" y="96"/>
                  </a:lnTo>
                  <a:lnTo>
                    <a:pt x="40" y="88"/>
                  </a:lnTo>
                  <a:lnTo>
                    <a:pt x="32" y="88"/>
                  </a:lnTo>
                  <a:lnTo>
                    <a:pt x="24" y="80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8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8"/>
                  </a:lnTo>
                  <a:lnTo>
                    <a:pt x="80" y="8"/>
                  </a:lnTo>
                  <a:lnTo>
                    <a:pt x="88" y="16"/>
                  </a:lnTo>
                  <a:lnTo>
                    <a:pt x="88" y="24"/>
                  </a:lnTo>
                  <a:lnTo>
                    <a:pt x="96" y="32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715160" y="494028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64"/>
                  </a:lnTo>
                  <a:lnTo>
                    <a:pt x="88" y="72"/>
                  </a:lnTo>
                  <a:lnTo>
                    <a:pt x="88" y="80"/>
                  </a:lnTo>
                  <a:lnTo>
                    <a:pt x="80" y="88"/>
                  </a:lnTo>
                  <a:lnTo>
                    <a:pt x="72" y="88"/>
                  </a:lnTo>
                  <a:lnTo>
                    <a:pt x="64" y="96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32" y="96"/>
                  </a:lnTo>
                  <a:lnTo>
                    <a:pt x="24" y="88"/>
                  </a:lnTo>
                  <a:lnTo>
                    <a:pt x="16" y="88"/>
                  </a:lnTo>
                  <a:lnTo>
                    <a:pt x="8" y="80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8" y="0"/>
                  </a:lnTo>
                  <a:lnTo>
                    <a:pt x="56" y="8"/>
                  </a:lnTo>
                  <a:lnTo>
                    <a:pt x="64" y="8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8" y="24"/>
                  </a:lnTo>
                  <a:lnTo>
                    <a:pt x="88" y="32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486560" y="494028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64"/>
                  </a:lnTo>
                  <a:lnTo>
                    <a:pt x="88" y="72"/>
                  </a:lnTo>
                  <a:lnTo>
                    <a:pt x="88" y="80"/>
                  </a:lnTo>
                  <a:lnTo>
                    <a:pt x="80" y="88"/>
                  </a:lnTo>
                  <a:lnTo>
                    <a:pt x="72" y="88"/>
                  </a:lnTo>
                  <a:lnTo>
                    <a:pt x="64" y="96"/>
                  </a:lnTo>
                  <a:lnTo>
                    <a:pt x="56" y="96"/>
                  </a:lnTo>
                  <a:lnTo>
                    <a:pt x="48" y="96"/>
                  </a:lnTo>
                  <a:lnTo>
                    <a:pt x="40" y="96"/>
                  </a:lnTo>
                  <a:lnTo>
                    <a:pt x="24" y="96"/>
                  </a:lnTo>
                  <a:lnTo>
                    <a:pt x="16" y="88"/>
                  </a:lnTo>
                  <a:lnTo>
                    <a:pt x="8" y="80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24" y="8"/>
                  </a:lnTo>
                  <a:lnTo>
                    <a:pt x="40" y="8"/>
                  </a:lnTo>
                  <a:lnTo>
                    <a:pt x="48" y="0"/>
                  </a:lnTo>
                  <a:lnTo>
                    <a:pt x="56" y="8"/>
                  </a:lnTo>
                  <a:lnTo>
                    <a:pt x="64" y="8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8" y="24"/>
                  </a:lnTo>
                  <a:lnTo>
                    <a:pt x="88" y="32"/>
                  </a:lnTo>
                  <a:lnTo>
                    <a:pt x="96" y="40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829640" y="497844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6" y="48"/>
                  </a:moveTo>
                  <a:lnTo>
                    <a:pt x="96" y="56"/>
                  </a:lnTo>
                  <a:lnTo>
                    <a:pt x="96" y="64"/>
                  </a:lnTo>
                  <a:lnTo>
                    <a:pt x="88" y="72"/>
                  </a:lnTo>
                  <a:lnTo>
                    <a:pt x="80" y="80"/>
                  </a:lnTo>
                  <a:lnTo>
                    <a:pt x="72" y="80"/>
                  </a:lnTo>
                  <a:lnTo>
                    <a:pt x="64" y="88"/>
                  </a:lnTo>
                  <a:lnTo>
                    <a:pt x="56" y="88"/>
                  </a:lnTo>
                  <a:lnTo>
                    <a:pt x="48" y="96"/>
                  </a:lnTo>
                  <a:lnTo>
                    <a:pt x="40" y="88"/>
                  </a:lnTo>
                  <a:lnTo>
                    <a:pt x="32" y="88"/>
                  </a:lnTo>
                  <a:lnTo>
                    <a:pt x="24" y="80"/>
                  </a:lnTo>
                  <a:lnTo>
                    <a:pt x="16" y="80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8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8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8"/>
                  </a:lnTo>
                  <a:lnTo>
                    <a:pt x="80" y="8"/>
                  </a:lnTo>
                  <a:lnTo>
                    <a:pt x="88" y="16"/>
                  </a:lnTo>
                  <a:lnTo>
                    <a:pt x="96" y="24"/>
                  </a:lnTo>
                  <a:lnTo>
                    <a:pt x="96" y="32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a0b1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226120" y="3581280"/>
              <a:ext cx="114120" cy="1270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232240" y="3583080"/>
              <a:ext cx="114480" cy="1270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344760" y="5207040"/>
              <a:ext cx="114480" cy="1270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332160" y="5194440"/>
              <a:ext cx="114480" cy="12672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459240" y="4280040"/>
              <a:ext cx="114120" cy="11412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446640" y="4267080"/>
              <a:ext cx="114120" cy="1144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573360" y="2894040"/>
              <a:ext cx="114480" cy="1270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560760" y="2881440"/>
              <a:ext cx="114480" cy="12672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801960" y="1027080"/>
              <a:ext cx="127080" cy="1270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789360" y="1014480"/>
              <a:ext cx="127080" cy="1270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916440" y="1319040"/>
              <a:ext cx="127080" cy="1144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903840" y="1306440"/>
              <a:ext cx="126720" cy="1144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030560" y="1967040"/>
              <a:ext cx="127080" cy="12672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017960" y="1954080"/>
              <a:ext cx="127080" cy="1270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157640" y="2792520"/>
              <a:ext cx="114480" cy="12672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145040" y="2779560"/>
              <a:ext cx="114120" cy="1270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272120" y="3454560"/>
              <a:ext cx="114120" cy="11412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259160" y="3441600"/>
              <a:ext cx="114480" cy="1144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386240" y="3860640"/>
              <a:ext cx="114480" cy="1270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373640" y="3848040"/>
              <a:ext cx="114120" cy="1270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500720" y="4178160"/>
              <a:ext cx="115560" cy="1270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487760" y="4165560"/>
              <a:ext cx="115920" cy="1270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4616280" y="4368960"/>
              <a:ext cx="114480" cy="11412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4603680" y="4356000"/>
              <a:ext cx="114480" cy="1144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4730760" y="4635360"/>
              <a:ext cx="127080" cy="1144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718160" y="4622760"/>
              <a:ext cx="126720" cy="1144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844880" y="4788000"/>
              <a:ext cx="127080" cy="11412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832280" y="4775040"/>
              <a:ext cx="127080" cy="1144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959360" y="4851360"/>
              <a:ext cx="127080" cy="1270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946760" y="4838760"/>
              <a:ext cx="126720" cy="1270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073480" y="4762440"/>
              <a:ext cx="127080" cy="1144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060880" y="4749840"/>
              <a:ext cx="127080" cy="11412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187960" y="4851360"/>
              <a:ext cx="127080" cy="1270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175360" y="4838760"/>
              <a:ext cx="126720" cy="1270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315040" y="4813200"/>
              <a:ext cx="114120" cy="1144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302080" y="4800600"/>
              <a:ext cx="114480" cy="1144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429160" y="4673520"/>
              <a:ext cx="114480" cy="1144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416560" y="4660920"/>
              <a:ext cx="114120" cy="11412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543640" y="4788000"/>
              <a:ext cx="114120" cy="11412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530680" y="4775040"/>
              <a:ext cx="114480" cy="1144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772240" y="4813200"/>
              <a:ext cx="114120" cy="1270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759280" y="4800600"/>
              <a:ext cx="114480" cy="1270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657760" y="4813200"/>
              <a:ext cx="114480" cy="1144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645160" y="4800600"/>
              <a:ext cx="114120" cy="1144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886360" y="4762440"/>
              <a:ext cx="127080" cy="1144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873760" y="4749840"/>
              <a:ext cx="127080" cy="11412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000840" y="4749840"/>
              <a:ext cx="127080" cy="1270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987880" y="4737240"/>
              <a:ext cx="127080" cy="12672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114960" y="4775040"/>
              <a:ext cx="127080" cy="1144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102360" y="4762440"/>
              <a:ext cx="127080" cy="1144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229440" y="4724280"/>
              <a:ext cx="127080" cy="1270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216480" y="4711680"/>
              <a:ext cx="127080" cy="1270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343560" y="4673520"/>
              <a:ext cx="127080" cy="1144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330960" y="4660920"/>
              <a:ext cx="127080" cy="11412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470640" y="4648320"/>
              <a:ext cx="114480" cy="12672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458040" y="4635360"/>
              <a:ext cx="114120" cy="1270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585120" y="4584600"/>
              <a:ext cx="114120" cy="1144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572160" y="4572000"/>
              <a:ext cx="114480" cy="1144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699240" y="4584600"/>
              <a:ext cx="114480" cy="1144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686640" y="4572000"/>
              <a:ext cx="114120" cy="1144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813720" y="4495680"/>
              <a:ext cx="114120" cy="1270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00760" y="4483080"/>
              <a:ext cx="114480" cy="1270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27840" y="4483080"/>
              <a:ext cx="114480" cy="1144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15240" y="4470480"/>
              <a:ext cx="114120" cy="11412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042320" y="4533840"/>
              <a:ext cx="126720" cy="1144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029360" y="4521240"/>
              <a:ext cx="127080" cy="11412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156440" y="4457880"/>
              <a:ext cx="127080" cy="11412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143840" y="4444920"/>
              <a:ext cx="127080" cy="1144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270920" y="4483080"/>
              <a:ext cx="126720" cy="1144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257960" y="4470480"/>
              <a:ext cx="127080" cy="11412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385040" y="4457880"/>
              <a:ext cx="127080" cy="11412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372440" y="4444920"/>
              <a:ext cx="127080" cy="1144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626240" y="4483080"/>
              <a:ext cx="114480" cy="1144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613640" y="4470480"/>
              <a:ext cx="114480" cy="11412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499520" y="4508640"/>
              <a:ext cx="126720" cy="11412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486560" y="4495680"/>
              <a:ext cx="127080" cy="1144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54840" y="4622760"/>
              <a:ext cx="114480" cy="1144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842240" y="4610160"/>
              <a:ext cx="114480" cy="11412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740720" y="4470480"/>
              <a:ext cx="114120" cy="1270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728120" y="4457880"/>
              <a:ext cx="114120" cy="12672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687840" y="1344600"/>
              <a:ext cx="127080" cy="127080"/>
            </a:xfrm>
            <a:prstGeom prst="rect">
              <a:avLst/>
            </a:prstGeom>
            <a:solidFill>
              <a:srgbClr val="f7f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675240" y="1332000"/>
              <a:ext cx="126720" cy="127080"/>
            </a:xfrm>
            <a:prstGeom prst="rect">
              <a:avLst/>
            </a:prstGeom>
            <a:noFill/>
            <a:ln w="25560">
              <a:solidFill>
                <a:srgbClr val="080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138400" y="976320"/>
              <a:ext cx="5754600" cy="4281480"/>
            </a:xfrm>
            <a:custGeom>
              <a:avLst/>
              <a:gdLst/>
              <a:ahLst/>
              <a:rect l="l" t="t" r="r" b="b"/>
              <a:pathLst>
                <a:path w="3625" h="2697">
                  <a:moveTo>
                    <a:pt x="3625" y="2697"/>
                  </a:moveTo>
                  <a:lnTo>
                    <a:pt x="0" y="2697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138400" y="5079960"/>
              <a:ext cx="1440" cy="177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567240" y="6017400"/>
              <a:ext cx="295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me, second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932120" y="5472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962440" y="5472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187960" y="5472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388200" y="5472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589880" y="5472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986280" y="5472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488200" y="338688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lbumi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54200" y="387432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ndothelin-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rot="16200000">
              <a:off x="-890280" y="2811600"/>
              <a:ext cx="4054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Normalized outflow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oncentration, ml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Arial"/>
                </a:rPr>
                <a:t>–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690920" y="509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690920" y="3647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689120" y="2202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598400" y="7592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598400" y="14799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689120" y="2924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689120" y="4369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6" name=""/>
          <p:cNvGrpSpPr/>
          <p:nvPr/>
        </p:nvGrpSpPr>
        <p:grpSpPr>
          <a:xfrm>
            <a:off x="5565960" y="572040"/>
            <a:ext cx="3363120" cy="2750040"/>
            <a:chOff x="5565960" y="572040"/>
            <a:chExt cx="3363120" cy="2750040"/>
          </a:xfrm>
        </p:grpSpPr>
        <p:sp>
          <p:nvSpPr>
            <p:cNvPr id="2177" name=""/>
            <p:cNvSpPr/>
            <p:nvPr/>
          </p:nvSpPr>
          <p:spPr>
            <a:xfrm>
              <a:off x="6824520" y="925560"/>
              <a:ext cx="1892160" cy="914400"/>
            </a:xfrm>
            <a:custGeom>
              <a:avLst/>
              <a:gdLst/>
              <a:ahLst/>
              <a:rect l="l" t="t" r="r" b="b"/>
              <a:pathLst>
                <a:path w="1192" h="576">
                  <a:moveTo>
                    <a:pt x="0" y="576"/>
                  </a:moveTo>
                  <a:lnTo>
                    <a:pt x="1192" y="0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fa0b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V="1">
              <a:off x="6811920" y="912600"/>
              <a:ext cx="1892160" cy="9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799320" y="1712880"/>
              <a:ext cx="126720" cy="114120"/>
            </a:xfrm>
            <a:custGeom>
              <a:avLst/>
              <a:gdLst/>
              <a:ahLst/>
              <a:rect l="l" t="t" r="r" b="b"/>
              <a:pathLst>
                <a:path w="80" h="72">
                  <a:moveTo>
                    <a:pt x="80" y="40"/>
                  </a:moveTo>
                  <a:lnTo>
                    <a:pt x="80" y="48"/>
                  </a:lnTo>
                  <a:lnTo>
                    <a:pt x="80" y="56"/>
                  </a:lnTo>
                  <a:lnTo>
                    <a:pt x="72" y="56"/>
                  </a:lnTo>
                  <a:lnTo>
                    <a:pt x="72" y="64"/>
                  </a:lnTo>
                  <a:lnTo>
                    <a:pt x="64" y="72"/>
                  </a:lnTo>
                  <a:lnTo>
                    <a:pt x="56" y="72"/>
                  </a:lnTo>
                  <a:lnTo>
                    <a:pt x="48" y="72"/>
                  </a:lnTo>
                  <a:lnTo>
                    <a:pt x="40" y="72"/>
                  </a:lnTo>
                  <a:lnTo>
                    <a:pt x="32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64"/>
                  </a:lnTo>
                  <a:lnTo>
                    <a:pt x="8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8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80" y="24"/>
                  </a:lnTo>
                  <a:lnTo>
                    <a:pt x="80" y="32"/>
                  </a:lnTo>
                  <a:lnTo>
                    <a:pt x="80" y="40"/>
                  </a:lnTo>
                  <a:close/>
                </a:path>
              </a:pathLst>
            </a:custGeom>
            <a:solidFill>
              <a:srgbClr val="fc0a1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002360" y="1687320"/>
              <a:ext cx="127080" cy="114480"/>
            </a:xfrm>
            <a:custGeom>
              <a:avLst/>
              <a:gdLst/>
              <a:ahLst/>
              <a:rect l="l" t="t" r="r" b="b"/>
              <a:pathLst>
                <a:path w="80" h="72">
                  <a:moveTo>
                    <a:pt x="80" y="32"/>
                  </a:moveTo>
                  <a:lnTo>
                    <a:pt x="72" y="40"/>
                  </a:lnTo>
                  <a:lnTo>
                    <a:pt x="72" y="48"/>
                  </a:lnTo>
                  <a:lnTo>
                    <a:pt x="72" y="56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72"/>
                  </a:lnTo>
                  <a:lnTo>
                    <a:pt x="48" y="72"/>
                  </a:lnTo>
                  <a:lnTo>
                    <a:pt x="40" y="72"/>
                  </a:lnTo>
                  <a:lnTo>
                    <a:pt x="32" y="72"/>
                  </a:lnTo>
                  <a:lnTo>
                    <a:pt x="24" y="72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8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8" y="8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56" y="8"/>
                  </a:lnTo>
                  <a:lnTo>
                    <a:pt x="64" y="8"/>
                  </a:lnTo>
                  <a:lnTo>
                    <a:pt x="72" y="16"/>
                  </a:lnTo>
                  <a:lnTo>
                    <a:pt x="72" y="24"/>
                  </a:lnTo>
                  <a:lnTo>
                    <a:pt x="72" y="32"/>
                  </a:lnTo>
                  <a:lnTo>
                    <a:pt x="80" y="32"/>
                  </a:lnTo>
                  <a:close/>
                </a:path>
              </a:pathLst>
            </a:custGeom>
            <a:solidFill>
              <a:srgbClr val="fc0a1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218360" y="1585800"/>
              <a:ext cx="126720" cy="114480"/>
            </a:xfrm>
            <a:custGeom>
              <a:avLst/>
              <a:gdLst/>
              <a:ahLst/>
              <a:rect l="l" t="t" r="r" b="b"/>
              <a:pathLst>
                <a:path w="80" h="72">
                  <a:moveTo>
                    <a:pt x="80" y="32"/>
                  </a:moveTo>
                  <a:lnTo>
                    <a:pt x="72" y="40"/>
                  </a:lnTo>
                  <a:lnTo>
                    <a:pt x="72" y="48"/>
                  </a:lnTo>
                  <a:lnTo>
                    <a:pt x="72" y="56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72"/>
                  </a:lnTo>
                  <a:lnTo>
                    <a:pt x="48" y="72"/>
                  </a:lnTo>
                  <a:lnTo>
                    <a:pt x="40" y="72"/>
                  </a:lnTo>
                  <a:lnTo>
                    <a:pt x="32" y="72"/>
                  </a:lnTo>
                  <a:lnTo>
                    <a:pt x="24" y="72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8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8"/>
                  </a:lnTo>
                  <a:lnTo>
                    <a:pt x="72" y="16"/>
                  </a:lnTo>
                  <a:lnTo>
                    <a:pt x="72" y="24"/>
                  </a:lnTo>
                  <a:lnTo>
                    <a:pt x="80" y="32"/>
                  </a:lnTo>
                  <a:close/>
                </a:path>
              </a:pathLst>
            </a:custGeom>
            <a:solidFill>
              <a:srgbClr val="fc0a1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421400" y="1433520"/>
              <a:ext cx="127080" cy="114120"/>
            </a:xfrm>
            <a:custGeom>
              <a:avLst/>
              <a:gdLst/>
              <a:ahLst/>
              <a:rect l="l" t="t" r="r" b="b"/>
              <a:pathLst>
                <a:path w="80" h="72">
                  <a:moveTo>
                    <a:pt x="80" y="40"/>
                  </a:moveTo>
                  <a:lnTo>
                    <a:pt x="80" y="48"/>
                  </a:lnTo>
                  <a:lnTo>
                    <a:pt x="72" y="48"/>
                  </a:lnTo>
                  <a:lnTo>
                    <a:pt x="72" y="56"/>
                  </a:lnTo>
                  <a:lnTo>
                    <a:pt x="64" y="64"/>
                  </a:lnTo>
                  <a:lnTo>
                    <a:pt x="64" y="72"/>
                  </a:lnTo>
                  <a:lnTo>
                    <a:pt x="56" y="72"/>
                  </a:lnTo>
                  <a:lnTo>
                    <a:pt x="48" y="72"/>
                  </a:lnTo>
                  <a:lnTo>
                    <a:pt x="40" y="72"/>
                  </a:lnTo>
                  <a:lnTo>
                    <a:pt x="32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4"/>
                  </a:lnTo>
                  <a:lnTo>
                    <a:pt x="8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8" y="8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8"/>
                  </a:lnTo>
                  <a:lnTo>
                    <a:pt x="72" y="16"/>
                  </a:lnTo>
                  <a:lnTo>
                    <a:pt x="72" y="24"/>
                  </a:lnTo>
                  <a:lnTo>
                    <a:pt x="80" y="32"/>
                  </a:lnTo>
                  <a:lnTo>
                    <a:pt x="80" y="40"/>
                  </a:lnTo>
                  <a:close/>
                </a:path>
              </a:pathLst>
            </a:custGeom>
            <a:solidFill>
              <a:srgbClr val="fc0a1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624800" y="1357200"/>
              <a:ext cx="12672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lnTo>
                    <a:pt x="80" y="48"/>
                  </a:lnTo>
                  <a:lnTo>
                    <a:pt x="80" y="56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4" y="72"/>
                  </a:lnTo>
                  <a:lnTo>
                    <a:pt x="56" y="80"/>
                  </a:lnTo>
                  <a:lnTo>
                    <a:pt x="48" y="80"/>
                  </a:lnTo>
                  <a:lnTo>
                    <a:pt x="40" y="80"/>
                  </a:lnTo>
                  <a:lnTo>
                    <a:pt x="32" y="80"/>
                  </a:lnTo>
                  <a:lnTo>
                    <a:pt x="24" y="80"/>
                  </a:lnTo>
                  <a:lnTo>
                    <a:pt x="16" y="72"/>
                  </a:lnTo>
                  <a:lnTo>
                    <a:pt x="8" y="64"/>
                  </a:lnTo>
                  <a:lnTo>
                    <a:pt x="8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40" y="0"/>
                  </a:lnTo>
                  <a:lnTo>
                    <a:pt x="48" y="8"/>
                  </a:lnTo>
                  <a:lnTo>
                    <a:pt x="56" y="8"/>
                  </a:lnTo>
                  <a:lnTo>
                    <a:pt x="64" y="8"/>
                  </a:lnTo>
                  <a:lnTo>
                    <a:pt x="72" y="16"/>
                  </a:lnTo>
                  <a:lnTo>
                    <a:pt x="72" y="24"/>
                  </a:lnTo>
                  <a:lnTo>
                    <a:pt x="80" y="24"/>
                  </a:lnTo>
                  <a:lnTo>
                    <a:pt x="80" y="32"/>
                  </a:lnTo>
                  <a:lnTo>
                    <a:pt x="80" y="40"/>
                  </a:lnTo>
                  <a:close/>
                </a:path>
              </a:pathLst>
            </a:custGeom>
            <a:solidFill>
              <a:srgbClr val="fc0a1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7827840" y="1332000"/>
              <a:ext cx="114480" cy="12672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72" y="40"/>
                  </a:moveTo>
                  <a:lnTo>
                    <a:pt x="72" y="48"/>
                  </a:lnTo>
                  <a:lnTo>
                    <a:pt x="72" y="56"/>
                  </a:lnTo>
                  <a:lnTo>
                    <a:pt x="64" y="64"/>
                  </a:lnTo>
                  <a:lnTo>
                    <a:pt x="56" y="72"/>
                  </a:lnTo>
                  <a:lnTo>
                    <a:pt x="48" y="72"/>
                  </a:lnTo>
                  <a:lnTo>
                    <a:pt x="40" y="80"/>
                  </a:lnTo>
                  <a:lnTo>
                    <a:pt x="32" y="80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8" y="8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8"/>
                  </a:lnTo>
                  <a:lnTo>
                    <a:pt x="64" y="8"/>
                  </a:lnTo>
                  <a:lnTo>
                    <a:pt x="64" y="16"/>
                  </a:lnTo>
                  <a:lnTo>
                    <a:pt x="72" y="24"/>
                  </a:lnTo>
                  <a:lnTo>
                    <a:pt x="72" y="32"/>
                  </a:lnTo>
                  <a:lnTo>
                    <a:pt x="72" y="40"/>
                  </a:lnTo>
                  <a:close/>
                </a:path>
              </a:pathLst>
            </a:custGeom>
            <a:solidFill>
              <a:srgbClr val="fc0a1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8043840" y="1166760"/>
              <a:ext cx="114120" cy="12708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72" y="40"/>
                  </a:moveTo>
                  <a:lnTo>
                    <a:pt x="72" y="48"/>
                  </a:lnTo>
                  <a:lnTo>
                    <a:pt x="72" y="56"/>
                  </a:lnTo>
                  <a:lnTo>
                    <a:pt x="64" y="64"/>
                  </a:lnTo>
                  <a:lnTo>
                    <a:pt x="56" y="72"/>
                  </a:lnTo>
                  <a:lnTo>
                    <a:pt x="48" y="72"/>
                  </a:lnTo>
                  <a:lnTo>
                    <a:pt x="40" y="80"/>
                  </a:lnTo>
                  <a:lnTo>
                    <a:pt x="32" y="80"/>
                  </a:lnTo>
                  <a:lnTo>
                    <a:pt x="24" y="80"/>
                  </a:lnTo>
                  <a:lnTo>
                    <a:pt x="16" y="72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8"/>
                  </a:lnTo>
                  <a:lnTo>
                    <a:pt x="56" y="8"/>
                  </a:lnTo>
                  <a:lnTo>
                    <a:pt x="64" y="16"/>
                  </a:lnTo>
                  <a:lnTo>
                    <a:pt x="72" y="24"/>
                  </a:lnTo>
                  <a:lnTo>
                    <a:pt x="72" y="32"/>
                  </a:lnTo>
                  <a:lnTo>
                    <a:pt x="72" y="40"/>
                  </a:lnTo>
                  <a:close/>
                </a:path>
              </a:pathLst>
            </a:custGeom>
            <a:solidFill>
              <a:srgbClr val="fc0a1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8246880" y="1052640"/>
              <a:ext cx="127080" cy="12672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lnTo>
                    <a:pt x="80" y="48"/>
                  </a:lnTo>
                  <a:lnTo>
                    <a:pt x="72" y="56"/>
                  </a:lnTo>
                  <a:lnTo>
                    <a:pt x="72" y="64"/>
                  </a:lnTo>
                  <a:lnTo>
                    <a:pt x="64" y="72"/>
                  </a:lnTo>
                  <a:lnTo>
                    <a:pt x="56" y="80"/>
                  </a:lnTo>
                  <a:lnTo>
                    <a:pt x="48" y="80"/>
                  </a:lnTo>
                  <a:lnTo>
                    <a:pt x="40" y="80"/>
                  </a:lnTo>
                  <a:lnTo>
                    <a:pt x="32" y="80"/>
                  </a:lnTo>
                  <a:lnTo>
                    <a:pt x="24" y="80"/>
                  </a:lnTo>
                  <a:lnTo>
                    <a:pt x="16" y="72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40" y="0"/>
                  </a:lnTo>
                  <a:lnTo>
                    <a:pt x="48" y="8"/>
                  </a:lnTo>
                  <a:lnTo>
                    <a:pt x="56" y="8"/>
                  </a:lnTo>
                  <a:lnTo>
                    <a:pt x="64" y="8"/>
                  </a:lnTo>
                  <a:lnTo>
                    <a:pt x="64" y="16"/>
                  </a:lnTo>
                  <a:lnTo>
                    <a:pt x="72" y="24"/>
                  </a:lnTo>
                  <a:lnTo>
                    <a:pt x="80" y="32"/>
                  </a:lnTo>
                  <a:lnTo>
                    <a:pt x="80" y="40"/>
                  </a:lnTo>
                  <a:close/>
                </a:path>
              </a:pathLst>
            </a:custGeom>
            <a:solidFill>
              <a:srgbClr val="fc0a1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8450280" y="912600"/>
              <a:ext cx="11412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40"/>
                  </a:moveTo>
                  <a:lnTo>
                    <a:pt x="72" y="48"/>
                  </a:lnTo>
                  <a:lnTo>
                    <a:pt x="72" y="56"/>
                  </a:lnTo>
                  <a:lnTo>
                    <a:pt x="64" y="64"/>
                  </a:lnTo>
                  <a:lnTo>
                    <a:pt x="56" y="72"/>
                  </a:lnTo>
                  <a:lnTo>
                    <a:pt x="48" y="72"/>
                  </a:lnTo>
                  <a:lnTo>
                    <a:pt x="40" y="72"/>
                  </a:lnTo>
                  <a:lnTo>
                    <a:pt x="32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4"/>
                  </a:lnTo>
                  <a:lnTo>
                    <a:pt x="8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8" y="8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56" y="8"/>
                  </a:lnTo>
                  <a:lnTo>
                    <a:pt x="64" y="8"/>
                  </a:lnTo>
                  <a:lnTo>
                    <a:pt x="72" y="16"/>
                  </a:lnTo>
                  <a:lnTo>
                    <a:pt x="72" y="24"/>
                  </a:lnTo>
                  <a:lnTo>
                    <a:pt x="72" y="32"/>
                  </a:lnTo>
                  <a:lnTo>
                    <a:pt x="72" y="40"/>
                  </a:lnTo>
                  <a:close/>
                </a:path>
              </a:pathLst>
            </a:custGeom>
            <a:solidFill>
              <a:srgbClr val="fc0a1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866000" y="3084480"/>
              <a:ext cx="12600" cy="63360"/>
            </a:xfrm>
            <a:custGeom>
              <a:avLst/>
              <a:gdLst/>
              <a:ahLst/>
              <a:rect l="l" t="t" r="r" b="b"/>
              <a:pathLst>
                <a:path w="8" h="40">
                  <a:moveTo>
                    <a:pt x="0" y="32"/>
                  </a:moveTo>
                  <a:lnTo>
                    <a:pt x="0" y="24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634080" y="887400"/>
              <a:ext cx="889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H="1">
              <a:off x="6634080" y="1763640"/>
              <a:ext cx="6336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6634080" y="1179360"/>
              <a:ext cx="6336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H="1">
              <a:off x="6633720" y="2043000"/>
              <a:ext cx="88920" cy="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6633720" y="1471680"/>
              <a:ext cx="889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6634080" y="2335320"/>
              <a:ext cx="6336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H="1">
              <a:off x="6634080" y="2627280"/>
              <a:ext cx="6336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V="1">
              <a:off x="8285040" y="2538000"/>
              <a:ext cx="1440" cy="88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878600" y="2563920"/>
              <a:ext cx="1800" cy="63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7446960" y="2538360"/>
              <a:ext cx="1440" cy="88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053120" y="2563920"/>
              <a:ext cx="1440" cy="63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634080" y="887400"/>
              <a:ext cx="2070000" cy="17398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566040" y="292320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ime, second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467040" y="2640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246440" y="2640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8020080" y="26406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079680" y="2461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032520" y="1880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032520" y="12992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032520" y="719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590520" y="1838880"/>
              <a:ext cx="2338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S/V = 0.07 s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Arial"/>
                </a:rPr>
                <a:t>–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= 0.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rot="16200000">
              <a:off x="4648680" y="1488960"/>
              <a:ext cx="227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n C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ef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(t)/C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Pulmonary uptake of endothelin-1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Myocardial Uptake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jection of tracers into a coronary arter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ampling of the venous outflow at the nary sinu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neva"/>
              </a:rPr>
              <a:t>Rose, C. P. and C. A. Goresky</a:t>
            </a:r>
            <a:r>
              <a:rPr b="0" lang="en-US" sz="2000" spc="-1" strike="noStrike">
                <a:solidFill>
                  <a:srgbClr val="ffffff"/>
                </a:solidFill>
                <a:latin typeface="Geneva"/>
              </a:rPr>
              <a:t>. Vasomotor control of capillary transit time heterogeneity in the canine coronary circulation. </a:t>
            </a:r>
            <a:r>
              <a:rPr b="0" i="1" lang="en-US" sz="2000" spc="-1" strike="noStrike">
                <a:solidFill>
                  <a:srgbClr val="ffffff"/>
                </a:solidFill>
                <a:latin typeface="Geneva"/>
              </a:rPr>
              <a:t>Circ. Res.</a:t>
            </a:r>
            <a:r>
              <a:rPr b="0" lang="en-US" sz="2000" spc="-1" strike="noStrike">
                <a:solidFill>
                  <a:srgbClr val="ffffff"/>
                </a:solidFill>
                <a:latin typeface="Geneva"/>
              </a:rPr>
              <a:t> 39: 541-554, 1976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4" name="" descr=""/>
          <p:cNvPicPr/>
          <p:nvPr/>
        </p:nvPicPr>
        <p:blipFill>
          <a:blip r:embed="rId1"/>
          <a:stretch/>
        </p:blipFill>
        <p:spPr>
          <a:xfrm>
            <a:off x="819000" y="50760"/>
            <a:ext cx="7506000" cy="6756480"/>
          </a:xfrm>
          <a:prstGeom prst="rect">
            <a:avLst/>
          </a:prstGeom>
          <a:ln w="0">
            <a:noFill/>
          </a:ln>
        </p:spPr>
      </p:pic>
      <p:sp>
        <p:nvSpPr>
          <p:cNvPr id="2215" name=""/>
          <p:cNvSpPr/>
          <p:nvPr/>
        </p:nvSpPr>
        <p:spPr>
          <a:xfrm>
            <a:off x="8505720" y="518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6867360" y="533520"/>
            <a:ext cx="2276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utura"/>
              </a:rPr>
              <a:t>intracoronary infusion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Grande"/>
              </a:rPr>
              <a:t>α</a:t>
            </a:r>
            <a:r>
              <a:rPr b="0" lang="en-US" sz="2000" spc="-1" strike="noStrike">
                <a:solidFill>
                  <a:srgbClr val="000066"/>
                </a:solidFill>
                <a:latin typeface="Futura"/>
              </a:rPr>
              <a:t>-bromopalmit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041800" y="0"/>
            <a:ext cx="410220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5" dur="5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"/>
          <p:cNvSpPr/>
          <p:nvPr/>
        </p:nvSpPr>
        <p:spPr>
          <a:xfrm>
            <a:off x="2043360" y="-223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SOCONSTRI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5701320" y="-223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SODI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0" name="" descr=""/>
          <p:cNvPicPr/>
          <p:nvPr/>
        </p:nvPicPr>
        <p:blipFill>
          <a:blip r:embed="rId1"/>
          <a:stretch/>
        </p:blipFill>
        <p:spPr>
          <a:xfrm>
            <a:off x="755640" y="762120"/>
            <a:ext cx="7607160" cy="5308560"/>
          </a:xfrm>
          <a:prstGeom prst="rect">
            <a:avLst/>
          </a:prstGeom>
          <a:ln w="0">
            <a:noFill/>
          </a:ln>
        </p:spPr>
      </p:pic>
      <p:sp>
        <p:nvSpPr>
          <p:cNvPr id="2221" name=""/>
          <p:cNvSpPr/>
          <p:nvPr/>
        </p:nvSpPr>
        <p:spPr>
          <a:xfrm>
            <a:off x="5648400" y="1104840"/>
            <a:ext cx="2276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utura"/>
              </a:rPr>
              <a:t>intracoronary infusion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Grande"/>
              </a:rPr>
              <a:t>α</a:t>
            </a:r>
            <a:r>
              <a:rPr b="0" lang="en-US" sz="2000" spc="-1" strike="noStrike">
                <a:solidFill>
                  <a:srgbClr val="000066"/>
                </a:solidFill>
                <a:latin typeface="Futura"/>
              </a:rPr>
              <a:t>-bromopalmit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3" name="" descr=""/>
          <p:cNvPicPr/>
          <p:nvPr/>
        </p:nvPicPr>
        <p:blipFill>
          <a:blip r:embed="rId1"/>
          <a:stretch/>
        </p:blipFill>
        <p:spPr>
          <a:xfrm>
            <a:off x="1397160" y="0"/>
            <a:ext cx="6087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1062000" y="418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Appropriate reference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225" name=""/>
          <p:cNvSpPr/>
          <p:nvPr/>
        </p:nvSpPr>
        <p:spPr>
          <a:xfrm>
            <a:off x="-269280" y="1959120"/>
            <a:ext cx="631440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8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re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= 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u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  + (1 –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Al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6" name=""/>
          <p:cNvGrpSpPr/>
          <p:nvPr/>
        </p:nvGrpSpPr>
        <p:grpSpPr>
          <a:xfrm>
            <a:off x="792720" y="4727520"/>
            <a:ext cx="6141600" cy="1437120"/>
            <a:chOff x="792720" y="4727520"/>
            <a:chExt cx="6141600" cy="1437120"/>
          </a:xfrm>
        </p:grpSpPr>
        <p:sp>
          <p:nvSpPr>
            <p:cNvPr id="2227" name=""/>
            <p:cNvSpPr/>
            <p:nvPr/>
          </p:nvSpPr>
          <p:spPr>
            <a:xfrm>
              <a:off x="1115640" y="4727520"/>
              <a:ext cx="40392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259280" y="4849920"/>
              <a:ext cx="364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307880" y="472752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92720" y="524196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5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945360" y="5477040"/>
              <a:ext cx="730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e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326240" y="524196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463400" y="524196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5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624680" y="524196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935000" y="524196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813040" y="505764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330280" y="549900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679480" y="549900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986560" y="5499000"/>
              <a:ext cx="43308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3116880" y="5664240"/>
              <a:ext cx="79884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rel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462040" y="5600880"/>
              <a:ext cx="1187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3630960" y="524196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5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878640" y="5477040"/>
              <a:ext cx="730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u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819320" y="494820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5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091120" y="494820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376600" y="494820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5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580360" y="5148360"/>
              <a:ext cx="38736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82880" y="549900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030640" y="549900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339160" y="5499000"/>
              <a:ext cx="43308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469840" y="5664240"/>
              <a:ext cx="79884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rel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815000" y="5600880"/>
              <a:ext cx="1189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72120" y="524196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379920" y="524196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5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546960" y="5443560"/>
              <a:ext cx="38736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643280" y="4832280"/>
              <a:ext cx="307800" cy="118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1"/>
                  </a:moveTo>
                  <a:arcTo wR="10800" hR="10800" stAng="-10790795" swAng="535540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1"/>
                  </a:moveTo>
                  <a:arcTo wR="10800" hR="10800" stAng="-10790795" swAng="5355404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643280" y="4832640"/>
              <a:ext cx="307800" cy="1183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92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9205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613560" y="4830840"/>
              <a:ext cx="307440" cy="118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9" y="1"/>
                  </a:moveTo>
                  <a:arcTo wR="10800" hR="10800" stAng="-5435392" swAng="5426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9" y="1"/>
                  </a:moveTo>
                  <a:arcTo wR="10800" hR="10800" stAng="-5435392" swAng="5426188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611760" y="4832640"/>
              <a:ext cx="307800" cy="1183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71"/>
                  </a:moveTo>
                  <a:arcTo wR="10800" hR="10800" stAng="-9204" swAng="540920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71"/>
                  </a:moveTo>
                  <a:arcTo wR="10800" hR="10800" stAng="-9204" swAng="5409204"/>
                </a:path>
              </a:pathLst>
            </a:custGeom>
            <a:noFill/>
            <a:ln cap="rnd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0" name=""/>
          <p:cNvGrpSpPr/>
          <p:nvPr/>
        </p:nvGrpSpPr>
        <p:grpSpPr>
          <a:xfrm>
            <a:off x="743400" y="3173400"/>
            <a:ext cx="3444840" cy="1294920"/>
            <a:chOff x="743400" y="3173400"/>
            <a:chExt cx="3444840" cy="1294920"/>
          </a:xfrm>
        </p:grpSpPr>
        <p:sp>
          <p:nvSpPr>
            <p:cNvPr id="2261" name=""/>
            <p:cNvSpPr/>
            <p:nvPr/>
          </p:nvSpPr>
          <p:spPr>
            <a:xfrm>
              <a:off x="1104480" y="3421080"/>
              <a:ext cx="3567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147680" y="3284640"/>
              <a:ext cx="40392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743400" y="3470400"/>
              <a:ext cx="43308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857880" y="3718080"/>
              <a:ext cx="7074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rel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412640" y="347040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888920" y="317340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242800" y="317340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594160" y="3173400"/>
              <a:ext cx="43308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716560" y="3421080"/>
              <a:ext cx="7074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ref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801800" y="378144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155680" y="378144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507040" y="3781440"/>
              <a:ext cx="43308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686680" y="4029120"/>
              <a:ext cx="70740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Suc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908000" y="3822840"/>
              <a:ext cx="1435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400200" y="347040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Times New Roman"/>
                </a:rPr>
                <a:t>–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740040" y="3470400"/>
              <a:ext cx="44820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Carl Arthur Goresk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1932—1996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967120" y="2033640"/>
            <a:ext cx="3265560" cy="38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"/>
          <p:cNvSpPr/>
          <p:nvPr/>
        </p:nvSpPr>
        <p:spPr>
          <a:xfrm>
            <a:off x="4151160" y="2089080"/>
            <a:ext cx="3726000" cy="3589560"/>
          </a:xfrm>
          <a:custGeom>
            <a:avLst/>
            <a:gdLst/>
            <a:ahLst/>
            <a:rect l="l" t="t" r="r" b="b"/>
            <a:pathLst>
              <a:path w="1585" h="1512">
                <a:moveTo>
                  <a:pt x="120" y="0"/>
                </a:moveTo>
                <a:lnTo>
                  <a:pt x="1465" y="0"/>
                </a:lnTo>
                <a:lnTo>
                  <a:pt x="1489" y="0"/>
                </a:lnTo>
                <a:lnTo>
                  <a:pt x="1513" y="8"/>
                </a:lnTo>
                <a:lnTo>
                  <a:pt x="1537" y="16"/>
                </a:lnTo>
                <a:lnTo>
                  <a:pt x="1553" y="32"/>
                </a:lnTo>
                <a:lnTo>
                  <a:pt x="1569" y="48"/>
                </a:lnTo>
                <a:lnTo>
                  <a:pt x="1577" y="72"/>
                </a:lnTo>
                <a:lnTo>
                  <a:pt x="1585" y="96"/>
                </a:lnTo>
                <a:lnTo>
                  <a:pt x="1585" y="120"/>
                </a:lnTo>
                <a:lnTo>
                  <a:pt x="1585" y="1384"/>
                </a:lnTo>
                <a:lnTo>
                  <a:pt x="1585" y="1408"/>
                </a:lnTo>
                <a:lnTo>
                  <a:pt x="1577" y="1432"/>
                </a:lnTo>
                <a:lnTo>
                  <a:pt x="1569" y="1456"/>
                </a:lnTo>
                <a:lnTo>
                  <a:pt x="1553" y="1472"/>
                </a:lnTo>
                <a:lnTo>
                  <a:pt x="1537" y="1488"/>
                </a:lnTo>
                <a:lnTo>
                  <a:pt x="1513" y="1496"/>
                </a:lnTo>
                <a:lnTo>
                  <a:pt x="1489" y="1504"/>
                </a:lnTo>
                <a:lnTo>
                  <a:pt x="1465" y="1512"/>
                </a:lnTo>
                <a:lnTo>
                  <a:pt x="120" y="1512"/>
                </a:lnTo>
                <a:lnTo>
                  <a:pt x="96" y="1504"/>
                </a:lnTo>
                <a:lnTo>
                  <a:pt x="72" y="1496"/>
                </a:lnTo>
                <a:lnTo>
                  <a:pt x="48" y="1488"/>
                </a:lnTo>
                <a:lnTo>
                  <a:pt x="32" y="1472"/>
                </a:lnTo>
                <a:lnTo>
                  <a:pt x="16" y="1456"/>
                </a:lnTo>
                <a:lnTo>
                  <a:pt x="8" y="1432"/>
                </a:lnTo>
                <a:lnTo>
                  <a:pt x="0" y="1408"/>
                </a:lnTo>
                <a:lnTo>
                  <a:pt x="0" y="1384"/>
                </a:lnTo>
                <a:lnTo>
                  <a:pt x="0" y="120"/>
                </a:lnTo>
                <a:lnTo>
                  <a:pt x="0" y="96"/>
                </a:lnTo>
                <a:lnTo>
                  <a:pt x="8" y="72"/>
                </a:lnTo>
                <a:lnTo>
                  <a:pt x="16" y="48"/>
                </a:lnTo>
                <a:lnTo>
                  <a:pt x="32" y="32"/>
                </a:lnTo>
                <a:lnTo>
                  <a:pt x="48" y="16"/>
                </a:lnTo>
                <a:lnTo>
                  <a:pt x="72" y="8"/>
                </a:lnTo>
                <a:lnTo>
                  <a:pt x="96" y="0"/>
                </a:lnTo>
                <a:lnTo>
                  <a:pt x="120" y="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902280" y="1155600"/>
            <a:ext cx="127080" cy="127080"/>
          </a:xfrm>
          <a:custGeom>
            <a:avLst/>
            <a:gdLst/>
            <a:ahLst/>
            <a:rect l="l" t="t" r="r" b="b"/>
            <a:pathLst>
              <a:path w="80" h="80">
                <a:moveTo>
                  <a:pt x="0" y="40"/>
                </a:moveTo>
                <a:lnTo>
                  <a:pt x="40" y="0"/>
                </a:lnTo>
                <a:lnTo>
                  <a:pt x="80" y="40"/>
                </a:lnTo>
                <a:lnTo>
                  <a:pt x="40" y="80"/>
                </a:lnTo>
                <a:lnTo>
                  <a:pt x="0" y="4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V="1">
            <a:off x="2922480" y="2050560"/>
            <a:ext cx="3240" cy="3627720"/>
          </a:xfrm>
          <a:prstGeom prst="line">
            <a:avLst/>
          </a:prstGeom>
          <a:ln w="50760">
            <a:solidFill>
              <a:srgbClr val="ff0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1176480" y="3201840"/>
            <a:ext cx="2417760" cy="13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680120" y="3384720"/>
            <a:ext cx="2721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b12ff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954080" y="373068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12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362560" y="3201840"/>
            <a:ext cx="1381320" cy="13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3691080" y="3989520"/>
            <a:ext cx="249120" cy="153720"/>
          </a:xfrm>
          <a:custGeom>
            <a:avLst/>
            <a:gdLst/>
            <a:ahLst/>
            <a:rect l="l" t="t" r="r" b="b"/>
            <a:pathLst>
              <a:path w="104" h="64">
                <a:moveTo>
                  <a:pt x="0" y="32"/>
                </a:moveTo>
                <a:lnTo>
                  <a:pt x="104" y="0"/>
                </a:lnTo>
                <a:lnTo>
                  <a:pt x="104" y="32"/>
                </a:lnTo>
                <a:lnTo>
                  <a:pt x="104" y="64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 flipH="1">
            <a:off x="3940200" y="4065480"/>
            <a:ext cx="12492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4921200" y="3643200"/>
            <a:ext cx="268200" cy="154080"/>
          </a:xfrm>
          <a:custGeom>
            <a:avLst/>
            <a:gdLst/>
            <a:ahLst/>
            <a:rect l="l" t="t" r="r" b="b"/>
            <a:pathLst>
              <a:path w="112" h="64">
                <a:moveTo>
                  <a:pt x="112" y="32"/>
                </a:moveTo>
                <a:lnTo>
                  <a:pt x="0" y="64"/>
                </a:lnTo>
                <a:lnTo>
                  <a:pt x="0" y="32"/>
                </a:lnTo>
                <a:lnTo>
                  <a:pt x="0" y="0"/>
                </a:lnTo>
                <a:lnTo>
                  <a:pt x="11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3690720" y="3720960"/>
            <a:ext cx="1230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4312800" y="3124080"/>
            <a:ext cx="18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912ff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4585680" y="3432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2ff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7607160" y="3816360"/>
            <a:ext cx="270000" cy="154080"/>
          </a:xfrm>
          <a:custGeom>
            <a:avLst/>
            <a:gdLst/>
            <a:ahLst/>
            <a:rect l="l" t="t" r="r" b="b"/>
            <a:pathLst>
              <a:path w="112" h="64">
                <a:moveTo>
                  <a:pt x="112" y="32"/>
                </a:moveTo>
                <a:lnTo>
                  <a:pt x="0" y="64"/>
                </a:lnTo>
                <a:lnTo>
                  <a:pt x="0" y="32"/>
                </a:lnTo>
                <a:lnTo>
                  <a:pt x="0" y="0"/>
                </a:lnTo>
                <a:lnTo>
                  <a:pt x="11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 flipH="1">
            <a:off x="6878520" y="3892680"/>
            <a:ext cx="72864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6938640" y="3328920"/>
            <a:ext cx="18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912ff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7212960" y="363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2ff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4312800" y="4172040"/>
            <a:ext cx="18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912ff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4585680" y="4479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2ff"/>
                </a:solidFill>
                <a:latin typeface="Times New Roman"/>
              </a:rPr>
              <a:t>2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4410720" y="2309760"/>
            <a:ext cx="1646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12ff"/>
                </a:solidFill>
                <a:latin typeface="Trebuchet MS"/>
              </a:rPr>
              <a:t>Cellul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623480" y="2558880"/>
            <a:ext cx="91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12ff"/>
                </a:solidFill>
                <a:latin typeface="Trebuchet MS"/>
              </a:rPr>
              <a:t>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075480" y="2309760"/>
            <a:ext cx="91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i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075480" y="2558880"/>
            <a:ext cx="91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1347480" y="2309760"/>
            <a:ext cx="109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Plas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345320" y="2558880"/>
            <a:ext cx="91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944720" y="5083200"/>
            <a:ext cx="344520" cy="69048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40" y="0"/>
                </a:moveTo>
                <a:lnTo>
                  <a:pt x="40" y="80"/>
                </a:lnTo>
                <a:lnTo>
                  <a:pt x="40" y="168"/>
                </a:lnTo>
                <a:lnTo>
                  <a:pt x="16" y="168"/>
                </a:lnTo>
                <a:lnTo>
                  <a:pt x="0" y="168"/>
                </a:lnTo>
                <a:lnTo>
                  <a:pt x="40" y="224"/>
                </a:lnTo>
                <a:lnTo>
                  <a:pt x="80" y="288"/>
                </a:lnTo>
                <a:lnTo>
                  <a:pt x="112" y="224"/>
                </a:lnTo>
                <a:lnTo>
                  <a:pt x="144" y="168"/>
                </a:lnTo>
                <a:lnTo>
                  <a:pt x="120" y="168"/>
                </a:lnTo>
                <a:lnTo>
                  <a:pt x="104" y="168"/>
                </a:lnTo>
                <a:lnTo>
                  <a:pt x="104" y="80"/>
                </a:lnTo>
                <a:lnTo>
                  <a:pt x="104" y="0"/>
                </a:lnTo>
                <a:lnTo>
                  <a:pt x="72" y="0"/>
                </a:lnTo>
                <a:lnTo>
                  <a:pt x="4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828400" y="3384720"/>
            <a:ext cx="2721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b12ff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097320" y="373068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12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Space-distributed Model for Barrier-limited Uptake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9840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Barrier-limited model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Single capillary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06080" y="1980720"/>
            <a:ext cx="82803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concentrations in plasma,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rebuchet MS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and in tissue,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, follow the following system of two differential equations in time,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, and space,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= linear velocity of the tracer the sinusoidal plasma,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rebuchet MS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= transfer coefficients (rate constants), defining the transfer of tracer between plasma and tissu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rebuchet MS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= transfer coefficient of sequestration due to metabolism and/or biliary excretion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308" name=""/>
          <p:cNvGraphicFramePr/>
          <p:nvPr/>
        </p:nvGraphicFramePr>
        <p:xfrm>
          <a:off x="2768760" y="2851200"/>
          <a:ext cx="3195360" cy="14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8760" y="2851200"/>
                    <a:ext cx="319536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Whole organ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685440" y="1434600"/>
            <a:ext cx="800100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Let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(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rebuchet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) be the fraction of total organ blood flow emerging from paths with sinusoidal transit times between 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rebuchet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and 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rebuchet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+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rebuchet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. The mixed outflow concentration from the whole organ,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), will then be the flow-weighted average of the outflow concentrations, according to the integrala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r the reference tracer (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.g.,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ucrose), the normalized concentration at the portal vein is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rebuchet MS"/>
              </a:rPr>
              <a:t>ref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) =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(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rebuchet MS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+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rebuchet MS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). Thus,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312" name=""/>
          <p:cNvGraphicFramePr/>
          <p:nvPr/>
        </p:nvGraphicFramePr>
        <p:xfrm>
          <a:off x="2606760" y="3097080"/>
          <a:ext cx="3771720" cy="9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6760" y="3097080"/>
                    <a:ext cx="377172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4" name=""/>
          <p:cNvGraphicFramePr/>
          <p:nvPr/>
        </p:nvGraphicFramePr>
        <p:xfrm>
          <a:off x="2698920" y="4951440"/>
          <a:ext cx="4400280" cy="87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8920" y="4951440"/>
                    <a:ext cx="44002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1395000" y="419040"/>
            <a:ext cx="6326280" cy="74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Barrier-limited Transport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317" name=""/>
          <p:cNvSpPr/>
          <p:nvPr/>
        </p:nvSpPr>
        <p:spPr>
          <a:xfrm>
            <a:off x="1769760" y="1630440"/>
            <a:ext cx="4708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2114640" y="3087720"/>
            <a:ext cx="339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2203920" y="315612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2238120" y="308772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1972080" y="332892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038320" y="3478320"/>
            <a:ext cx="760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diff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2461320" y="332892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(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2419920" y="3328920"/>
            <a:ext cx="943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3054960" y="332892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3232440" y="315612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–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322440" y="315612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452400" y="3305160"/>
            <a:ext cx="280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620880" y="315612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3662640" y="315612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3765240" y="315612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3853440" y="315612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955680" y="3305160"/>
            <a:ext cx="280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4003560" y="315612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4166280" y="332892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4264920" y="3478320"/>
            <a:ext cx="6159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ref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615560" y="332892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(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4654440" y="332892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4736160" y="332892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1810440" y="434808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2007360" y="434808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2154600" y="4175280"/>
            <a:ext cx="4708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2347560" y="417528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453760" y="4297320"/>
            <a:ext cx="280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649960" y="417528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2801520" y="417528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2931840" y="4297320"/>
            <a:ext cx="280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3028680" y="417528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3149280" y="417528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3189600" y="417528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3312000" y="417528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–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451680" y="417528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530160" y="4297320"/>
            <a:ext cx="280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579480" y="417528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4362840" y="434808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4461840" y="4470480"/>
            <a:ext cx="6159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ref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4763160" y="434808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(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876920" y="4348080"/>
            <a:ext cx="320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051880" y="434808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5211720" y="434808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5348880" y="452772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10800" y="434808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5568120" y="434808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5715360" y="4175280"/>
            <a:ext cx="4708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–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908320" y="417528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040080" y="4297320"/>
            <a:ext cx="280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6210720" y="417528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6314760" y="417528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446520" y="4297320"/>
            <a:ext cx="280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6642720" y="417528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6770520" y="417528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900480" y="4297320"/>
            <a:ext cx="280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7021080" y="417528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123320" y="4200480"/>
            <a:ext cx="286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3795480" y="4780080"/>
            <a:ext cx="280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835800" y="406872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3981960" y="406872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–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4097880" y="406872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4201920" y="4189320"/>
            <a:ext cx="280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2520000" y="534996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2699280" y="547200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2902680" y="534996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3057840" y="547200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3333960" y="5349960"/>
            <a:ext cx="320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2546280" y="5407200"/>
            <a:ext cx="158760" cy="38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3"/>
                </a:moveTo>
                <a:arcTo wR="10800" hR="10800" stAng="-10772164" swAng="5311030"/>
                <a:lnTo>
                  <a:pt x="10800" y="10800"/>
                </a:lnTo>
                <a:close/>
              </a:path>
              <a:path fill="none" w="21600" h="21600">
                <a:moveTo>
                  <a:pt x="0" y="10713"/>
                </a:moveTo>
                <a:arcTo wR="10800" hR="10800" stAng="-10772164" swAng="5311030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546280" y="5407560"/>
            <a:ext cx="158760" cy="389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7836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7836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3483000" y="5405400"/>
            <a:ext cx="15516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06" y="2"/>
                </a:moveTo>
                <a:arcTo wR="10800" hR="10800" stAng="-5461685" swAng="5433596"/>
                <a:lnTo>
                  <a:pt x="10800" y="10800"/>
                </a:lnTo>
                <a:close/>
              </a:path>
              <a:path fill="none" w="21600" h="21600">
                <a:moveTo>
                  <a:pt x="10606" y="2"/>
                </a:moveTo>
                <a:arcTo wR="10800" hR="10800" stAng="-5461685" swAng="5433596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79400" y="5403960"/>
            <a:ext cx="158760" cy="39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12"/>
                </a:moveTo>
                <a:arcTo wR="10800" hR="10800" stAng="-28088" swAng="5490275"/>
                <a:lnTo>
                  <a:pt x="10800" y="10800"/>
                </a:lnTo>
                <a:close/>
              </a:path>
              <a:path fill="none" w="21600" h="21600">
                <a:moveTo>
                  <a:pt x="21600" y="10712"/>
                </a:moveTo>
                <a:arcTo wR="10800" hR="10800" stAng="-28088" swAng="5490275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3632760" y="514980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3786120" y="534996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3940200" y="534996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–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4120920" y="534996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258800" y="5540400"/>
            <a:ext cx="280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4395600" y="534996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–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4604040" y="5349960"/>
            <a:ext cx="320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863880" y="5407200"/>
            <a:ext cx="107640" cy="3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699"/>
                </a:moveTo>
                <a:arcTo wR="10800" hR="10800" stAng="-10767721" swAng="5280005"/>
                <a:lnTo>
                  <a:pt x="10800" y="10800"/>
                </a:lnTo>
                <a:close/>
              </a:path>
              <a:path fill="none" w="21600" h="21600">
                <a:moveTo>
                  <a:pt x="0" y="10699"/>
                </a:moveTo>
                <a:arcTo wR="10800" hR="10800" stAng="-10767721" swAng="5280005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3863880" y="5407560"/>
            <a:ext cx="107640" cy="335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32279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32279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4728960" y="5405400"/>
            <a:ext cx="104760" cy="33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21" y="4"/>
                </a:moveTo>
                <a:arcTo wR="10800" hR="10800" stAng="-5488855" swAng="5456152"/>
                <a:lnTo>
                  <a:pt x="10800" y="10800"/>
                </a:lnTo>
                <a:close/>
              </a:path>
              <a:path fill="none" w="21600" h="21600">
                <a:moveTo>
                  <a:pt x="10521" y="4"/>
                </a:moveTo>
                <a:arcTo wR="10800" hR="10800" stAng="-5488855" swAng="5456152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4725360" y="5403960"/>
            <a:ext cx="108360" cy="33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7"/>
                </a:moveTo>
                <a:arcTo wR="10800" hR="10800" stAng="-32703" swAng="5522395"/>
                <a:lnTo>
                  <a:pt x="10800" y="10800"/>
                </a:lnTo>
                <a:close/>
              </a:path>
              <a:path fill="none" w="21600" h="21600">
                <a:moveTo>
                  <a:pt x="21600" y="10697"/>
                </a:moveTo>
                <a:arcTo wR="10800" hR="10800" stAng="-32703" swAng="5522395"/>
              </a:path>
            </a:pathLst>
          </a:custGeom>
          <a:noFill/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4853520" y="514980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4997880" y="514980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–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5164560" y="514980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3294000" y="583236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3410640" y="583236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3566160" y="5832360"/>
            <a:ext cx="5623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(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868560" y="583236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–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3974040" y="5832360"/>
            <a:ext cx="753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1)!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2496960" y="5886360"/>
            <a:ext cx="28400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5352840" y="5618160"/>
            <a:ext cx="3718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5511960" y="5618160"/>
            <a:ext cx="320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1970280" y="5522760"/>
            <a:ext cx="472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∑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886400" y="606276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2061000" y="606276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2196000" y="6062760"/>
            <a:ext cx="326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2036520" y="5230800"/>
            <a:ext cx="3628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797280" y="4245120"/>
            <a:ext cx="4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2150640" y="1920960"/>
            <a:ext cx="4814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ytical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8" name=""/>
          <p:cNvGrpSpPr/>
          <p:nvPr/>
        </p:nvGrpSpPr>
        <p:grpSpPr>
          <a:xfrm>
            <a:off x="1486080" y="1814400"/>
            <a:ext cx="7179480" cy="4114800"/>
            <a:chOff x="1486080" y="1814400"/>
            <a:chExt cx="7179480" cy="4114800"/>
          </a:xfrm>
        </p:grpSpPr>
        <p:sp>
          <p:nvSpPr>
            <p:cNvPr id="2419" name=""/>
            <p:cNvSpPr/>
            <p:nvPr/>
          </p:nvSpPr>
          <p:spPr>
            <a:xfrm>
              <a:off x="6688080" y="1969920"/>
              <a:ext cx="4986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7249680" y="1814400"/>
              <a:ext cx="1415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rebuchet MS"/>
                </a:rPr>
                <a:t>Referen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1486080" y="3327480"/>
              <a:ext cx="3751200" cy="2601720"/>
            </a:xfrm>
            <a:custGeom>
              <a:avLst/>
              <a:gdLst/>
              <a:ahLst/>
              <a:rect l="l" t="t" r="r" b="b"/>
              <a:pathLst>
                <a:path w="2659" h="1639">
                  <a:moveTo>
                    <a:pt x="0" y="1638"/>
                  </a:moveTo>
                  <a:lnTo>
                    <a:pt x="43" y="1436"/>
                  </a:lnTo>
                  <a:lnTo>
                    <a:pt x="75" y="1266"/>
                  </a:lnTo>
                  <a:lnTo>
                    <a:pt x="97" y="1064"/>
                  </a:lnTo>
                  <a:lnTo>
                    <a:pt x="129" y="894"/>
                  </a:lnTo>
                  <a:lnTo>
                    <a:pt x="150" y="745"/>
                  </a:lnTo>
                  <a:lnTo>
                    <a:pt x="161" y="628"/>
                  </a:lnTo>
                  <a:lnTo>
                    <a:pt x="171" y="521"/>
                  </a:lnTo>
                  <a:lnTo>
                    <a:pt x="182" y="436"/>
                  </a:lnTo>
                  <a:lnTo>
                    <a:pt x="193" y="372"/>
                  </a:lnTo>
                  <a:lnTo>
                    <a:pt x="203" y="330"/>
                  </a:lnTo>
                  <a:lnTo>
                    <a:pt x="214" y="223"/>
                  </a:lnTo>
                  <a:lnTo>
                    <a:pt x="235" y="117"/>
                  </a:lnTo>
                  <a:lnTo>
                    <a:pt x="268" y="32"/>
                  </a:lnTo>
                  <a:lnTo>
                    <a:pt x="279" y="0"/>
                  </a:lnTo>
                  <a:lnTo>
                    <a:pt x="300" y="0"/>
                  </a:lnTo>
                  <a:lnTo>
                    <a:pt x="321" y="21"/>
                  </a:lnTo>
                  <a:lnTo>
                    <a:pt x="353" y="85"/>
                  </a:lnTo>
                  <a:lnTo>
                    <a:pt x="397" y="191"/>
                  </a:lnTo>
                  <a:lnTo>
                    <a:pt x="450" y="330"/>
                  </a:lnTo>
                  <a:lnTo>
                    <a:pt x="482" y="447"/>
                  </a:lnTo>
                  <a:lnTo>
                    <a:pt x="525" y="553"/>
                  </a:lnTo>
                  <a:lnTo>
                    <a:pt x="589" y="724"/>
                  </a:lnTo>
                  <a:lnTo>
                    <a:pt x="653" y="851"/>
                  </a:lnTo>
                  <a:lnTo>
                    <a:pt x="718" y="957"/>
                  </a:lnTo>
                  <a:lnTo>
                    <a:pt x="782" y="1032"/>
                  </a:lnTo>
                  <a:lnTo>
                    <a:pt x="858" y="1128"/>
                  </a:lnTo>
                  <a:lnTo>
                    <a:pt x="943" y="1212"/>
                  </a:lnTo>
                  <a:lnTo>
                    <a:pt x="1029" y="1287"/>
                  </a:lnTo>
                  <a:lnTo>
                    <a:pt x="1168" y="1382"/>
                  </a:lnTo>
                  <a:lnTo>
                    <a:pt x="1318" y="1447"/>
                  </a:lnTo>
                  <a:lnTo>
                    <a:pt x="1468" y="1500"/>
                  </a:lnTo>
                  <a:lnTo>
                    <a:pt x="1640" y="1553"/>
                  </a:lnTo>
                  <a:lnTo>
                    <a:pt x="1854" y="1585"/>
                  </a:lnTo>
                  <a:lnTo>
                    <a:pt x="2101" y="1606"/>
                  </a:lnTo>
                  <a:lnTo>
                    <a:pt x="2369" y="1617"/>
                  </a:lnTo>
                  <a:lnTo>
                    <a:pt x="2658" y="1627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2" name=""/>
          <p:cNvGrpSpPr/>
          <p:nvPr/>
        </p:nvGrpSpPr>
        <p:grpSpPr>
          <a:xfrm>
            <a:off x="1501920" y="2444760"/>
            <a:ext cx="7298640" cy="3500280"/>
            <a:chOff x="1501920" y="2444760"/>
            <a:chExt cx="7298640" cy="3500280"/>
          </a:xfrm>
        </p:grpSpPr>
        <p:sp>
          <p:nvSpPr>
            <p:cNvPr id="2423" name=""/>
            <p:cNvSpPr/>
            <p:nvPr/>
          </p:nvSpPr>
          <p:spPr>
            <a:xfrm>
              <a:off x="7247520" y="2444760"/>
              <a:ext cx="1553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ff"/>
                  </a:solidFill>
                  <a:latin typeface="Trebuchet MS"/>
                </a:rPr>
                <a:t>Through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724800" y="2556000"/>
              <a:ext cx="423720" cy="1522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501920" y="4543560"/>
              <a:ext cx="2360520" cy="1401480"/>
            </a:xfrm>
            <a:custGeom>
              <a:avLst/>
              <a:gdLst/>
              <a:ahLst/>
              <a:rect l="l" t="t" r="r" b="b"/>
              <a:pathLst>
                <a:path w="1674" h="883">
                  <a:moveTo>
                    <a:pt x="0" y="882"/>
                  </a:moveTo>
                  <a:lnTo>
                    <a:pt x="53" y="627"/>
                  </a:lnTo>
                  <a:lnTo>
                    <a:pt x="97" y="425"/>
                  </a:lnTo>
                  <a:lnTo>
                    <a:pt x="129" y="276"/>
                  </a:lnTo>
                  <a:lnTo>
                    <a:pt x="161" y="170"/>
                  </a:lnTo>
                  <a:lnTo>
                    <a:pt x="171" y="95"/>
                  </a:lnTo>
                  <a:lnTo>
                    <a:pt x="193" y="42"/>
                  </a:lnTo>
                  <a:lnTo>
                    <a:pt x="214" y="11"/>
                  </a:lnTo>
                  <a:lnTo>
                    <a:pt x="236" y="0"/>
                  </a:lnTo>
                  <a:lnTo>
                    <a:pt x="247" y="0"/>
                  </a:lnTo>
                  <a:lnTo>
                    <a:pt x="279" y="32"/>
                  </a:lnTo>
                  <a:lnTo>
                    <a:pt x="311" y="85"/>
                  </a:lnTo>
                  <a:lnTo>
                    <a:pt x="354" y="159"/>
                  </a:lnTo>
                  <a:lnTo>
                    <a:pt x="418" y="308"/>
                  </a:lnTo>
                  <a:lnTo>
                    <a:pt x="482" y="435"/>
                  </a:lnTo>
                  <a:lnTo>
                    <a:pt x="536" y="542"/>
                  </a:lnTo>
                  <a:lnTo>
                    <a:pt x="600" y="627"/>
                  </a:lnTo>
                  <a:lnTo>
                    <a:pt x="718" y="723"/>
                  </a:lnTo>
                  <a:lnTo>
                    <a:pt x="847" y="787"/>
                  </a:lnTo>
                  <a:lnTo>
                    <a:pt x="976" y="829"/>
                  </a:lnTo>
                  <a:lnTo>
                    <a:pt x="1126" y="850"/>
                  </a:lnTo>
                  <a:lnTo>
                    <a:pt x="1222" y="850"/>
                  </a:lnTo>
                  <a:lnTo>
                    <a:pt x="1297" y="861"/>
                  </a:lnTo>
                  <a:lnTo>
                    <a:pt x="1426" y="871"/>
                  </a:lnTo>
                  <a:lnTo>
                    <a:pt x="1534" y="871"/>
                  </a:lnTo>
                  <a:lnTo>
                    <a:pt x="1673" y="88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6" name=""/>
          <p:cNvGrpSpPr/>
          <p:nvPr/>
        </p:nvGrpSpPr>
        <p:grpSpPr>
          <a:xfrm>
            <a:off x="1622520" y="2735280"/>
            <a:ext cx="7017480" cy="3209760"/>
            <a:chOff x="1622520" y="2735280"/>
            <a:chExt cx="7017480" cy="3209760"/>
          </a:xfrm>
        </p:grpSpPr>
        <p:sp>
          <p:nvSpPr>
            <p:cNvPr id="2427" name=""/>
            <p:cNvSpPr/>
            <p:nvPr/>
          </p:nvSpPr>
          <p:spPr>
            <a:xfrm>
              <a:off x="6705720" y="2922480"/>
              <a:ext cx="463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224120" y="2735280"/>
              <a:ext cx="1415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Return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1622520" y="5370480"/>
              <a:ext cx="2374920" cy="574560"/>
            </a:xfrm>
            <a:custGeom>
              <a:avLst/>
              <a:gdLst/>
              <a:ahLst/>
              <a:rect l="l" t="t" r="r" b="b"/>
              <a:pathLst>
                <a:path w="1683" h="362">
                  <a:moveTo>
                    <a:pt x="0" y="361"/>
                  </a:moveTo>
                  <a:lnTo>
                    <a:pt x="43" y="340"/>
                  </a:lnTo>
                  <a:lnTo>
                    <a:pt x="75" y="329"/>
                  </a:lnTo>
                  <a:lnTo>
                    <a:pt x="107" y="298"/>
                  </a:lnTo>
                  <a:lnTo>
                    <a:pt x="161" y="255"/>
                  </a:lnTo>
                  <a:lnTo>
                    <a:pt x="225" y="191"/>
                  </a:lnTo>
                  <a:lnTo>
                    <a:pt x="311" y="117"/>
                  </a:lnTo>
                  <a:lnTo>
                    <a:pt x="407" y="53"/>
                  </a:lnTo>
                  <a:lnTo>
                    <a:pt x="525" y="21"/>
                  </a:lnTo>
                  <a:lnTo>
                    <a:pt x="643" y="0"/>
                  </a:lnTo>
                  <a:lnTo>
                    <a:pt x="771" y="0"/>
                  </a:lnTo>
                  <a:lnTo>
                    <a:pt x="911" y="21"/>
                  </a:lnTo>
                  <a:lnTo>
                    <a:pt x="1039" y="42"/>
                  </a:lnTo>
                  <a:lnTo>
                    <a:pt x="1221" y="63"/>
                  </a:lnTo>
                  <a:lnTo>
                    <a:pt x="1371" y="95"/>
                  </a:lnTo>
                  <a:lnTo>
                    <a:pt x="1521" y="117"/>
                  </a:lnTo>
                  <a:lnTo>
                    <a:pt x="1682" y="149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1486080" y="2108160"/>
            <a:ext cx="6761520" cy="3836880"/>
            <a:chOff x="1486080" y="2108160"/>
            <a:chExt cx="6761520" cy="3836880"/>
          </a:xfrm>
        </p:grpSpPr>
        <p:sp>
          <p:nvSpPr>
            <p:cNvPr id="2431" name=""/>
            <p:cNvSpPr/>
            <p:nvPr/>
          </p:nvSpPr>
          <p:spPr>
            <a:xfrm>
              <a:off x="6688080" y="2295360"/>
              <a:ext cx="4986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243200" y="2108160"/>
              <a:ext cx="100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Trebuchet MS"/>
                </a:rPr>
                <a:t>Fit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486080" y="4375080"/>
              <a:ext cx="3720960" cy="1569960"/>
            </a:xfrm>
            <a:custGeom>
              <a:avLst/>
              <a:gdLst/>
              <a:ahLst/>
              <a:rect l="l" t="t" r="r" b="b"/>
              <a:pathLst>
                <a:path w="2638" h="989">
                  <a:moveTo>
                    <a:pt x="0" y="988"/>
                  </a:moveTo>
                  <a:lnTo>
                    <a:pt x="32" y="871"/>
                  </a:lnTo>
                  <a:lnTo>
                    <a:pt x="64" y="733"/>
                  </a:lnTo>
                  <a:lnTo>
                    <a:pt x="118" y="468"/>
                  </a:lnTo>
                  <a:lnTo>
                    <a:pt x="139" y="340"/>
                  </a:lnTo>
                  <a:lnTo>
                    <a:pt x="161" y="234"/>
                  </a:lnTo>
                  <a:lnTo>
                    <a:pt x="182" y="149"/>
                  </a:lnTo>
                  <a:lnTo>
                    <a:pt x="203" y="106"/>
                  </a:lnTo>
                  <a:lnTo>
                    <a:pt x="214" y="75"/>
                  </a:lnTo>
                  <a:lnTo>
                    <a:pt x="225" y="42"/>
                  </a:lnTo>
                  <a:lnTo>
                    <a:pt x="247" y="11"/>
                  </a:lnTo>
                  <a:lnTo>
                    <a:pt x="279" y="0"/>
                  </a:lnTo>
                  <a:lnTo>
                    <a:pt x="311" y="11"/>
                  </a:lnTo>
                  <a:lnTo>
                    <a:pt x="353" y="53"/>
                  </a:lnTo>
                  <a:lnTo>
                    <a:pt x="386" y="96"/>
                  </a:lnTo>
                  <a:lnTo>
                    <a:pt x="407" y="138"/>
                  </a:lnTo>
                  <a:lnTo>
                    <a:pt x="440" y="202"/>
                  </a:lnTo>
                  <a:lnTo>
                    <a:pt x="504" y="287"/>
                  </a:lnTo>
                  <a:lnTo>
                    <a:pt x="568" y="372"/>
                  </a:lnTo>
                  <a:lnTo>
                    <a:pt x="643" y="436"/>
                  </a:lnTo>
                  <a:lnTo>
                    <a:pt x="718" y="478"/>
                  </a:lnTo>
                  <a:lnTo>
                    <a:pt x="836" y="531"/>
                  </a:lnTo>
                  <a:lnTo>
                    <a:pt x="965" y="585"/>
                  </a:lnTo>
                  <a:lnTo>
                    <a:pt x="1082" y="627"/>
                  </a:lnTo>
                  <a:lnTo>
                    <a:pt x="1437" y="701"/>
                  </a:lnTo>
                  <a:lnTo>
                    <a:pt x="1747" y="776"/>
                  </a:lnTo>
                  <a:lnTo>
                    <a:pt x="1908" y="797"/>
                  </a:lnTo>
                  <a:lnTo>
                    <a:pt x="2123" y="829"/>
                  </a:lnTo>
                  <a:lnTo>
                    <a:pt x="2369" y="860"/>
                  </a:lnTo>
                  <a:lnTo>
                    <a:pt x="2637" y="882"/>
                  </a:lnTo>
                </a:path>
              </a:pathLst>
            </a:custGeom>
            <a:noFill/>
            <a:ln cap="rnd" w="255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4" name=""/>
          <p:cNvGrpSpPr/>
          <p:nvPr/>
        </p:nvGrpSpPr>
        <p:grpSpPr>
          <a:xfrm>
            <a:off x="5119560" y="1852560"/>
            <a:ext cx="3652920" cy="2652840"/>
            <a:chOff x="5119560" y="1852560"/>
            <a:chExt cx="3652920" cy="2652840"/>
          </a:xfrm>
        </p:grpSpPr>
        <p:sp>
          <p:nvSpPr>
            <p:cNvPr id="2435" name=""/>
            <p:cNvSpPr/>
            <p:nvPr/>
          </p:nvSpPr>
          <p:spPr>
            <a:xfrm>
              <a:off x="5119560" y="1852560"/>
              <a:ext cx="3652920" cy="2652840"/>
            </a:xfrm>
            <a:custGeom>
              <a:avLst/>
              <a:gdLst/>
              <a:ahLst/>
              <a:rect l="l" t="t" r="r" b="b"/>
              <a:pathLst>
                <a:path w="2589" h="1671">
                  <a:moveTo>
                    <a:pt x="0" y="1670"/>
                  </a:moveTo>
                  <a:lnTo>
                    <a:pt x="34" y="1604"/>
                  </a:lnTo>
                  <a:lnTo>
                    <a:pt x="83" y="1431"/>
                  </a:lnTo>
                  <a:lnTo>
                    <a:pt x="124" y="1150"/>
                  </a:lnTo>
                  <a:lnTo>
                    <a:pt x="166" y="777"/>
                  </a:lnTo>
                  <a:lnTo>
                    <a:pt x="207" y="414"/>
                  </a:lnTo>
                  <a:lnTo>
                    <a:pt x="257" y="132"/>
                  </a:lnTo>
                  <a:lnTo>
                    <a:pt x="298" y="0"/>
                  </a:lnTo>
                  <a:lnTo>
                    <a:pt x="339" y="0"/>
                  </a:lnTo>
                  <a:lnTo>
                    <a:pt x="389" y="33"/>
                  </a:lnTo>
                  <a:lnTo>
                    <a:pt x="430" y="74"/>
                  </a:lnTo>
                  <a:lnTo>
                    <a:pt x="472" y="165"/>
                  </a:lnTo>
                  <a:lnTo>
                    <a:pt x="513" y="289"/>
                  </a:lnTo>
                  <a:lnTo>
                    <a:pt x="563" y="422"/>
                  </a:lnTo>
                  <a:lnTo>
                    <a:pt x="604" y="538"/>
                  </a:lnTo>
                  <a:lnTo>
                    <a:pt x="645" y="653"/>
                  </a:lnTo>
                  <a:lnTo>
                    <a:pt x="695" y="753"/>
                  </a:lnTo>
                  <a:lnTo>
                    <a:pt x="736" y="844"/>
                  </a:lnTo>
                  <a:lnTo>
                    <a:pt x="777" y="926"/>
                  </a:lnTo>
                  <a:lnTo>
                    <a:pt x="819" y="1009"/>
                  </a:lnTo>
                  <a:lnTo>
                    <a:pt x="868" y="1075"/>
                  </a:lnTo>
                  <a:lnTo>
                    <a:pt x="910" y="1141"/>
                  </a:lnTo>
                  <a:lnTo>
                    <a:pt x="951" y="1191"/>
                  </a:lnTo>
                  <a:lnTo>
                    <a:pt x="1001" y="1240"/>
                  </a:lnTo>
                  <a:lnTo>
                    <a:pt x="1042" y="1282"/>
                  </a:lnTo>
                  <a:lnTo>
                    <a:pt x="1083" y="1323"/>
                  </a:lnTo>
                  <a:lnTo>
                    <a:pt x="1125" y="1356"/>
                  </a:lnTo>
                  <a:lnTo>
                    <a:pt x="1174" y="1389"/>
                  </a:lnTo>
                  <a:lnTo>
                    <a:pt x="1216" y="1414"/>
                  </a:lnTo>
                  <a:lnTo>
                    <a:pt x="1257" y="1431"/>
                  </a:lnTo>
                  <a:lnTo>
                    <a:pt x="1307" y="1455"/>
                  </a:lnTo>
                  <a:lnTo>
                    <a:pt x="1348" y="1472"/>
                  </a:lnTo>
                  <a:lnTo>
                    <a:pt x="1389" y="1489"/>
                  </a:lnTo>
                  <a:lnTo>
                    <a:pt x="1431" y="1505"/>
                  </a:lnTo>
                  <a:lnTo>
                    <a:pt x="1480" y="1522"/>
                  </a:lnTo>
                  <a:lnTo>
                    <a:pt x="1521" y="1538"/>
                  </a:lnTo>
                  <a:lnTo>
                    <a:pt x="1563" y="1546"/>
                  </a:lnTo>
                  <a:lnTo>
                    <a:pt x="1612" y="1563"/>
                  </a:lnTo>
                  <a:lnTo>
                    <a:pt x="1654" y="1571"/>
                  </a:lnTo>
                  <a:lnTo>
                    <a:pt x="1695" y="1580"/>
                  </a:lnTo>
                  <a:lnTo>
                    <a:pt x="1736" y="1588"/>
                  </a:lnTo>
                  <a:lnTo>
                    <a:pt x="1786" y="1596"/>
                  </a:lnTo>
                  <a:lnTo>
                    <a:pt x="1827" y="1604"/>
                  </a:lnTo>
                  <a:lnTo>
                    <a:pt x="1869" y="1613"/>
                  </a:lnTo>
                  <a:lnTo>
                    <a:pt x="1918" y="1613"/>
                  </a:lnTo>
                  <a:lnTo>
                    <a:pt x="1960" y="1621"/>
                  </a:lnTo>
                  <a:lnTo>
                    <a:pt x="2001" y="1629"/>
                  </a:lnTo>
                  <a:lnTo>
                    <a:pt x="2042" y="1629"/>
                  </a:lnTo>
                  <a:lnTo>
                    <a:pt x="2092" y="1629"/>
                  </a:lnTo>
                  <a:lnTo>
                    <a:pt x="2133" y="1637"/>
                  </a:lnTo>
                  <a:lnTo>
                    <a:pt x="2174" y="1637"/>
                  </a:lnTo>
                  <a:lnTo>
                    <a:pt x="2224" y="1646"/>
                  </a:lnTo>
                  <a:lnTo>
                    <a:pt x="2265" y="1646"/>
                  </a:lnTo>
                  <a:lnTo>
                    <a:pt x="2307" y="1646"/>
                  </a:lnTo>
                  <a:lnTo>
                    <a:pt x="2348" y="1646"/>
                  </a:lnTo>
                  <a:lnTo>
                    <a:pt x="2398" y="1654"/>
                  </a:lnTo>
                  <a:lnTo>
                    <a:pt x="2439" y="1654"/>
                  </a:lnTo>
                  <a:lnTo>
                    <a:pt x="2480" y="1654"/>
                  </a:lnTo>
                  <a:lnTo>
                    <a:pt x="2530" y="1654"/>
                  </a:lnTo>
                  <a:lnTo>
                    <a:pt x="2571" y="1662"/>
                  </a:lnTo>
                  <a:lnTo>
                    <a:pt x="2588" y="1662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119560" y="1984320"/>
              <a:ext cx="3652920" cy="2521080"/>
            </a:xfrm>
            <a:custGeom>
              <a:avLst/>
              <a:gdLst/>
              <a:ahLst/>
              <a:rect l="l" t="t" r="r" b="b"/>
              <a:pathLst>
                <a:path w="2589" h="1588">
                  <a:moveTo>
                    <a:pt x="0" y="1587"/>
                  </a:moveTo>
                  <a:lnTo>
                    <a:pt x="34" y="1521"/>
                  </a:lnTo>
                  <a:lnTo>
                    <a:pt x="83" y="1356"/>
                  </a:lnTo>
                  <a:lnTo>
                    <a:pt x="124" y="1083"/>
                  </a:lnTo>
                  <a:lnTo>
                    <a:pt x="166" y="727"/>
                  </a:lnTo>
                  <a:lnTo>
                    <a:pt x="207" y="380"/>
                  </a:lnTo>
                  <a:lnTo>
                    <a:pt x="257" y="116"/>
                  </a:lnTo>
                  <a:lnTo>
                    <a:pt x="298" y="0"/>
                  </a:lnTo>
                  <a:lnTo>
                    <a:pt x="339" y="8"/>
                  </a:lnTo>
                  <a:lnTo>
                    <a:pt x="389" y="49"/>
                  </a:lnTo>
                  <a:lnTo>
                    <a:pt x="430" y="99"/>
                  </a:lnTo>
                  <a:lnTo>
                    <a:pt x="472" y="190"/>
                  </a:lnTo>
                  <a:lnTo>
                    <a:pt x="513" y="314"/>
                  </a:lnTo>
                  <a:lnTo>
                    <a:pt x="563" y="438"/>
                  </a:lnTo>
                  <a:lnTo>
                    <a:pt x="604" y="554"/>
                  </a:lnTo>
                  <a:lnTo>
                    <a:pt x="645" y="661"/>
                  </a:lnTo>
                  <a:lnTo>
                    <a:pt x="695" y="752"/>
                  </a:lnTo>
                  <a:lnTo>
                    <a:pt x="736" y="843"/>
                  </a:lnTo>
                  <a:lnTo>
                    <a:pt x="777" y="926"/>
                  </a:lnTo>
                  <a:lnTo>
                    <a:pt x="819" y="1000"/>
                  </a:lnTo>
                  <a:lnTo>
                    <a:pt x="868" y="1067"/>
                  </a:lnTo>
                  <a:lnTo>
                    <a:pt x="910" y="1116"/>
                  </a:lnTo>
                  <a:lnTo>
                    <a:pt x="951" y="1174"/>
                  </a:lnTo>
                  <a:lnTo>
                    <a:pt x="1001" y="1215"/>
                  </a:lnTo>
                  <a:lnTo>
                    <a:pt x="1042" y="1257"/>
                  </a:lnTo>
                  <a:lnTo>
                    <a:pt x="1083" y="1290"/>
                  </a:lnTo>
                  <a:lnTo>
                    <a:pt x="1125" y="1323"/>
                  </a:lnTo>
                  <a:lnTo>
                    <a:pt x="1174" y="1348"/>
                  </a:lnTo>
                  <a:lnTo>
                    <a:pt x="1216" y="1372"/>
                  </a:lnTo>
                  <a:lnTo>
                    <a:pt x="1257" y="1389"/>
                  </a:lnTo>
                  <a:lnTo>
                    <a:pt x="1307" y="1406"/>
                  </a:lnTo>
                  <a:lnTo>
                    <a:pt x="1348" y="1422"/>
                  </a:lnTo>
                  <a:lnTo>
                    <a:pt x="1389" y="1439"/>
                  </a:lnTo>
                  <a:lnTo>
                    <a:pt x="1431" y="1455"/>
                  </a:lnTo>
                  <a:lnTo>
                    <a:pt x="1480" y="1472"/>
                  </a:lnTo>
                  <a:lnTo>
                    <a:pt x="1521" y="1480"/>
                  </a:lnTo>
                  <a:lnTo>
                    <a:pt x="1563" y="1488"/>
                  </a:lnTo>
                  <a:lnTo>
                    <a:pt x="1612" y="1505"/>
                  </a:lnTo>
                  <a:lnTo>
                    <a:pt x="1654" y="1513"/>
                  </a:lnTo>
                  <a:lnTo>
                    <a:pt x="1695" y="1521"/>
                  </a:lnTo>
                  <a:lnTo>
                    <a:pt x="1736" y="1521"/>
                  </a:lnTo>
                  <a:lnTo>
                    <a:pt x="1786" y="1530"/>
                  </a:lnTo>
                  <a:lnTo>
                    <a:pt x="1827" y="1538"/>
                  </a:lnTo>
                  <a:lnTo>
                    <a:pt x="1869" y="1546"/>
                  </a:lnTo>
                  <a:lnTo>
                    <a:pt x="1918" y="1546"/>
                  </a:lnTo>
                  <a:lnTo>
                    <a:pt x="1960" y="1554"/>
                  </a:lnTo>
                  <a:lnTo>
                    <a:pt x="2001" y="1554"/>
                  </a:lnTo>
                  <a:lnTo>
                    <a:pt x="2042" y="1554"/>
                  </a:lnTo>
                  <a:lnTo>
                    <a:pt x="2092" y="1563"/>
                  </a:lnTo>
                  <a:lnTo>
                    <a:pt x="2133" y="1563"/>
                  </a:lnTo>
                  <a:lnTo>
                    <a:pt x="2174" y="1563"/>
                  </a:lnTo>
                  <a:lnTo>
                    <a:pt x="2224" y="1571"/>
                  </a:lnTo>
                  <a:lnTo>
                    <a:pt x="2265" y="1571"/>
                  </a:lnTo>
                  <a:lnTo>
                    <a:pt x="2307" y="1571"/>
                  </a:lnTo>
                  <a:lnTo>
                    <a:pt x="2348" y="1571"/>
                  </a:lnTo>
                  <a:lnTo>
                    <a:pt x="2398" y="1579"/>
                  </a:lnTo>
                  <a:lnTo>
                    <a:pt x="2439" y="1579"/>
                  </a:lnTo>
                  <a:lnTo>
                    <a:pt x="2480" y="1579"/>
                  </a:lnTo>
                  <a:lnTo>
                    <a:pt x="2530" y="1579"/>
                  </a:lnTo>
                  <a:lnTo>
                    <a:pt x="2571" y="1579"/>
                  </a:lnTo>
                  <a:lnTo>
                    <a:pt x="2588" y="1579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029280" y="4503600"/>
              <a:ext cx="2743200" cy="1800"/>
            </a:xfrm>
            <a:custGeom>
              <a:avLst/>
              <a:gdLst/>
              <a:ahLst/>
              <a:rect l="l" t="t" r="r" b="b"/>
              <a:pathLst>
                <a:path w="1944" h="1">
                  <a:moveTo>
                    <a:pt x="0" y="0"/>
                  </a:moveTo>
                  <a:lnTo>
                    <a:pt x="50" y="0"/>
                  </a:lnTo>
                  <a:lnTo>
                    <a:pt x="91" y="0"/>
                  </a:lnTo>
                  <a:lnTo>
                    <a:pt x="132" y="0"/>
                  </a:lnTo>
                  <a:lnTo>
                    <a:pt x="174" y="0"/>
                  </a:lnTo>
                  <a:lnTo>
                    <a:pt x="223" y="0"/>
                  </a:lnTo>
                  <a:lnTo>
                    <a:pt x="265" y="0"/>
                  </a:lnTo>
                  <a:lnTo>
                    <a:pt x="306" y="0"/>
                  </a:lnTo>
                  <a:lnTo>
                    <a:pt x="356" y="0"/>
                  </a:lnTo>
                  <a:lnTo>
                    <a:pt x="397" y="0"/>
                  </a:lnTo>
                  <a:lnTo>
                    <a:pt x="438" y="0"/>
                  </a:lnTo>
                  <a:lnTo>
                    <a:pt x="480" y="0"/>
                  </a:lnTo>
                  <a:lnTo>
                    <a:pt x="529" y="0"/>
                  </a:lnTo>
                  <a:lnTo>
                    <a:pt x="571" y="0"/>
                  </a:lnTo>
                  <a:lnTo>
                    <a:pt x="612" y="0"/>
                  </a:lnTo>
                  <a:lnTo>
                    <a:pt x="662" y="0"/>
                  </a:lnTo>
                  <a:lnTo>
                    <a:pt x="703" y="0"/>
                  </a:lnTo>
                  <a:lnTo>
                    <a:pt x="744" y="0"/>
                  </a:lnTo>
                  <a:lnTo>
                    <a:pt x="786" y="0"/>
                  </a:lnTo>
                  <a:lnTo>
                    <a:pt x="835" y="0"/>
                  </a:lnTo>
                  <a:lnTo>
                    <a:pt x="876" y="0"/>
                  </a:lnTo>
                  <a:lnTo>
                    <a:pt x="918" y="0"/>
                  </a:lnTo>
                  <a:lnTo>
                    <a:pt x="967" y="0"/>
                  </a:lnTo>
                  <a:lnTo>
                    <a:pt x="1009" y="0"/>
                  </a:lnTo>
                  <a:lnTo>
                    <a:pt x="1050" y="0"/>
                  </a:lnTo>
                  <a:lnTo>
                    <a:pt x="1091" y="0"/>
                  </a:lnTo>
                  <a:lnTo>
                    <a:pt x="1141" y="0"/>
                  </a:lnTo>
                  <a:lnTo>
                    <a:pt x="1182" y="0"/>
                  </a:lnTo>
                  <a:lnTo>
                    <a:pt x="1224" y="0"/>
                  </a:lnTo>
                  <a:lnTo>
                    <a:pt x="1273" y="0"/>
                  </a:lnTo>
                  <a:lnTo>
                    <a:pt x="1315" y="0"/>
                  </a:lnTo>
                  <a:lnTo>
                    <a:pt x="1356" y="0"/>
                  </a:lnTo>
                  <a:lnTo>
                    <a:pt x="1397" y="0"/>
                  </a:lnTo>
                  <a:lnTo>
                    <a:pt x="1447" y="0"/>
                  </a:lnTo>
                  <a:lnTo>
                    <a:pt x="1488" y="0"/>
                  </a:lnTo>
                  <a:lnTo>
                    <a:pt x="1529" y="0"/>
                  </a:lnTo>
                  <a:lnTo>
                    <a:pt x="1579" y="0"/>
                  </a:lnTo>
                  <a:lnTo>
                    <a:pt x="1620" y="0"/>
                  </a:lnTo>
                  <a:lnTo>
                    <a:pt x="1662" y="0"/>
                  </a:lnTo>
                  <a:lnTo>
                    <a:pt x="1703" y="0"/>
                  </a:lnTo>
                  <a:lnTo>
                    <a:pt x="1753" y="0"/>
                  </a:lnTo>
                  <a:lnTo>
                    <a:pt x="1794" y="0"/>
                  </a:lnTo>
                  <a:lnTo>
                    <a:pt x="1835" y="0"/>
                  </a:lnTo>
                  <a:lnTo>
                    <a:pt x="1885" y="0"/>
                  </a:lnTo>
                  <a:lnTo>
                    <a:pt x="1926" y="0"/>
                  </a:lnTo>
                  <a:lnTo>
                    <a:pt x="1943" y="0"/>
                  </a:lnTo>
                </a:path>
              </a:pathLst>
            </a:custGeom>
            <a:noFill/>
            <a:ln cap="rnd"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119560" y="1984320"/>
              <a:ext cx="3652920" cy="2521080"/>
            </a:xfrm>
            <a:custGeom>
              <a:avLst/>
              <a:gdLst/>
              <a:ahLst/>
              <a:rect l="l" t="t" r="r" b="b"/>
              <a:pathLst>
                <a:path w="2589" h="1588">
                  <a:moveTo>
                    <a:pt x="0" y="1587"/>
                  </a:moveTo>
                  <a:lnTo>
                    <a:pt x="34" y="1521"/>
                  </a:lnTo>
                  <a:lnTo>
                    <a:pt x="83" y="1356"/>
                  </a:lnTo>
                  <a:lnTo>
                    <a:pt x="124" y="1083"/>
                  </a:lnTo>
                  <a:lnTo>
                    <a:pt x="166" y="727"/>
                  </a:lnTo>
                  <a:lnTo>
                    <a:pt x="207" y="380"/>
                  </a:lnTo>
                  <a:lnTo>
                    <a:pt x="257" y="116"/>
                  </a:lnTo>
                  <a:lnTo>
                    <a:pt x="298" y="0"/>
                  </a:lnTo>
                  <a:lnTo>
                    <a:pt x="339" y="8"/>
                  </a:lnTo>
                  <a:lnTo>
                    <a:pt x="389" y="49"/>
                  </a:lnTo>
                  <a:lnTo>
                    <a:pt x="430" y="99"/>
                  </a:lnTo>
                  <a:lnTo>
                    <a:pt x="472" y="182"/>
                  </a:lnTo>
                  <a:lnTo>
                    <a:pt x="513" y="306"/>
                  </a:lnTo>
                  <a:lnTo>
                    <a:pt x="563" y="430"/>
                  </a:lnTo>
                  <a:lnTo>
                    <a:pt x="604" y="546"/>
                  </a:lnTo>
                  <a:lnTo>
                    <a:pt x="645" y="653"/>
                  </a:lnTo>
                  <a:lnTo>
                    <a:pt x="695" y="752"/>
                  </a:lnTo>
                  <a:lnTo>
                    <a:pt x="736" y="843"/>
                  </a:lnTo>
                  <a:lnTo>
                    <a:pt x="777" y="918"/>
                  </a:lnTo>
                  <a:lnTo>
                    <a:pt x="819" y="992"/>
                  </a:lnTo>
                  <a:lnTo>
                    <a:pt x="868" y="1058"/>
                  </a:lnTo>
                  <a:lnTo>
                    <a:pt x="910" y="1116"/>
                  </a:lnTo>
                  <a:lnTo>
                    <a:pt x="951" y="1166"/>
                  </a:lnTo>
                  <a:lnTo>
                    <a:pt x="1001" y="1207"/>
                  </a:lnTo>
                  <a:lnTo>
                    <a:pt x="1042" y="1248"/>
                  </a:lnTo>
                  <a:lnTo>
                    <a:pt x="1083" y="1282"/>
                  </a:lnTo>
                  <a:lnTo>
                    <a:pt x="1125" y="1315"/>
                  </a:lnTo>
                  <a:lnTo>
                    <a:pt x="1174" y="1339"/>
                  </a:lnTo>
                  <a:lnTo>
                    <a:pt x="1216" y="1364"/>
                  </a:lnTo>
                  <a:lnTo>
                    <a:pt x="1257" y="1381"/>
                  </a:lnTo>
                  <a:lnTo>
                    <a:pt x="1307" y="1397"/>
                  </a:lnTo>
                  <a:lnTo>
                    <a:pt x="1348" y="1414"/>
                  </a:lnTo>
                  <a:lnTo>
                    <a:pt x="1389" y="1430"/>
                  </a:lnTo>
                  <a:lnTo>
                    <a:pt x="1431" y="1447"/>
                  </a:lnTo>
                  <a:lnTo>
                    <a:pt x="1480" y="1463"/>
                  </a:lnTo>
                  <a:lnTo>
                    <a:pt x="1521" y="1472"/>
                  </a:lnTo>
                  <a:lnTo>
                    <a:pt x="1563" y="1480"/>
                  </a:lnTo>
                  <a:lnTo>
                    <a:pt x="1612" y="1497"/>
                  </a:lnTo>
                  <a:lnTo>
                    <a:pt x="1654" y="1505"/>
                  </a:lnTo>
                  <a:lnTo>
                    <a:pt x="1695" y="1513"/>
                  </a:lnTo>
                  <a:lnTo>
                    <a:pt x="1736" y="1513"/>
                  </a:lnTo>
                  <a:lnTo>
                    <a:pt x="1786" y="1521"/>
                  </a:lnTo>
                  <a:lnTo>
                    <a:pt x="1827" y="1530"/>
                  </a:lnTo>
                  <a:lnTo>
                    <a:pt x="1869" y="1530"/>
                  </a:lnTo>
                  <a:lnTo>
                    <a:pt x="1918" y="1538"/>
                  </a:lnTo>
                  <a:lnTo>
                    <a:pt x="1960" y="1538"/>
                  </a:lnTo>
                  <a:lnTo>
                    <a:pt x="2001" y="1546"/>
                  </a:lnTo>
                  <a:lnTo>
                    <a:pt x="2042" y="1546"/>
                  </a:lnTo>
                  <a:lnTo>
                    <a:pt x="2092" y="1554"/>
                  </a:lnTo>
                  <a:lnTo>
                    <a:pt x="2133" y="1554"/>
                  </a:lnTo>
                  <a:lnTo>
                    <a:pt x="2174" y="1554"/>
                  </a:lnTo>
                  <a:lnTo>
                    <a:pt x="2224" y="1563"/>
                  </a:lnTo>
                  <a:lnTo>
                    <a:pt x="2265" y="1563"/>
                  </a:lnTo>
                  <a:lnTo>
                    <a:pt x="2307" y="1563"/>
                  </a:lnTo>
                  <a:lnTo>
                    <a:pt x="2348" y="1563"/>
                  </a:lnTo>
                  <a:lnTo>
                    <a:pt x="2398" y="1563"/>
                  </a:lnTo>
                  <a:lnTo>
                    <a:pt x="2439" y="1571"/>
                  </a:lnTo>
                  <a:lnTo>
                    <a:pt x="2480" y="1571"/>
                  </a:lnTo>
                  <a:lnTo>
                    <a:pt x="2530" y="1571"/>
                  </a:lnTo>
                  <a:lnTo>
                    <a:pt x="2571" y="1571"/>
                  </a:lnTo>
                  <a:lnTo>
                    <a:pt x="2588" y="1571"/>
                  </a:lnTo>
                </a:path>
              </a:pathLst>
            </a:custGeom>
            <a:noFill/>
            <a:ln cap="rnd" w="255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9" name=""/>
          <p:cNvGrpSpPr/>
          <p:nvPr/>
        </p:nvGrpSpPr>
        <p:grpSpPr>
          <a:xfrm>
            <a:off x="3554280" y="816120"/>
            <a:ext cx="5493240" cy="4176360"/>
            <a:chOff x="3554280" y="816120"/>
            <a:chExt cx="5493240" cy="4176360"/>
          </a:xfrm>
        </p:grpSpPr>
        <p:grpSp>
          <p:nvGrpSpPr>
            <p:cNvPr id="2440" name=""/>
            <p:cNvGrpSpPr/>
            <p:nvPr/>
          </p:nvGrpSpPr>
          <p:grpSpPr>
            <a:xfrm>
              <a:off x="4443480" y="1714680"/>
              <a:ext cx="69840" cy="2809800"/>
              <a:chOff x="4443480" y="1714680"/>
              <a:chExt cx="69840" cy="2809800"/>
            </a:xfrm>
          </p:grpSpPr>
          <p:sp>
            <p:nvSpPr>
              <p:cNvPr id="2441" name=""/>
              <p:cNvSpPr/>
              <p:nvPr/>
            </p:nvSpPr>
            <p:spPr>
              <a:xfrm>
                <a:off x="4443480" y="4524480"/>
                <a:ext cx="698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443480" y="3827520"/>
                <a:ext cx="698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4443480" y="3119400"/>
                <a:ext cx="698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4443480" y="2424240"/>
                <a:ext cx="698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4443480" y="1714680"/>
                <a:ext cx="698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4443480" y="4168800"/>
                <a:ext cx="46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4443480" y="3473280"/>
                <a:ext cx="46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443480" y="2765520"/>
                <a:ext cx="46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4443480" y="2068560"/>
                <a:ext cx="46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0" name=""/>
            <p:cNvGrpSpPr/>
            <p:nvPr/>
          </p:nvGrpSpPr>
          <p:grpSpPr>
            <a:xfrm>
              <a:off x="4432320" y="4419360"/>
              <a:ext cx="4351320" cy="104760"/>
              <a:chOff x="4432320" y="4419360"/>
              <a:chExt cx="4351320" cy="104760"/>
            </a:xfrm>
          </p:grpSpPr>
          <p:sp>
            <p:nvSpPr>
              <p:cNvPr id="2451" name=""/>
              <p:cNvSpPr/>
              <p:nvPr/>
            </p:nvSpPr>
            <p:spPr>
              <a:xfrm flipV="1">
                <a:off x="4432320" y="4419360"/>
                <a:ext cx="0" cy="104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5154840" y="4419360"/>
                <a:ext cx="0" cy="104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5878800" y="4419360"/>
                <a:ext cx="0" cy="104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601680" y="4419360"/>
                <a:ext cx="0" cy="104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7336800" y="4419360"/>
                <a:ext cx="0" cy="104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8060760" y="4419360"/>
                <a:ext cx="0" cy="104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8783640" y="4419360"/>
                <a:ext cx="0" cy="104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4793400" y="4444560"/>
                <a:ext cx="0" cy="7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5517360" y="4444560"/>
                <a:ext cx="0" cy="7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6240240" y="4444560"/>
                <a:ext cx="0" cy="7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6975360" y="4444560"/>
                <a:ext cx="0" cy="7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7698240" y="4444560"/>
                <a:ext cx="0" cy="7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8422200" y="4444560"/>
                <a:ext cx="0" cy="7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4" name=""/>
            <p:cNvSpPr/>
            <p:nvPr/>
          </p:nvSpPr>
          <p:spPr>
            <a:xfrm flipV="1">
              <a:off x="4432320" y="1714320"/>
              <a:ext cx="0" cy="280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443480" y="4524480"/>
              <a:ext cx="4327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66" name=""/>
            <p:cNvGrpSpPr/>
            <p:nvPr/>
          </p:nvGrpSpPr>
          <p:grpSpPr>
            <a:xfrm>
              <a:off x="5078520" y="1963800"/>
              <a:ext cx="3744360" cy="2574720"/>
              <a:chOff x="5078520" y="1963800"/>
              <a:chExt cx="3744360" cy="2574720"/>
            </a:xfrm>
          </p:grpSpPr>
          <p:sp>
            <p:nvSpPr>
              <p:cNvPr id="2467" name=""/>
              <p:cNvSpPr/>
              <p:nvPr/>
            </p:nvSpPr>
            <p:spPr>
              <a:xfrm>
                <a:off x="5078520" y="4444920"/>
                <a:ext cx="83160" cy="936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5148720" y="4300560"/>
                <a:ext cx="81720" cy="936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5219280" y="3867120"/>
                <a:ext cx="81360" cy="936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5299920" y="3316320"/>
                <a:ext cx="83160" cy="92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5370120" y="2673360"/>
                <a:ext cx="81720" cy="92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441040" y="2147760"/>
                <a:ext cx="81720" cy="92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510160" y="1963800"/>
                <a:ext cx="83160" cy="936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591880" y="2068560"/>
                <a:ext cx="83160" cy="936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662440" y="2055960"/>
                <a:ext cx="81720" cy="936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731560" y="2279520"/>
                <a:ext cx="83160" cy="92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802120" y="2489040"/>
                <a:ext cx="81720" cy="92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871240" y="2698920"/>
                <a:ext cx="83160" cy="936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953320" y="2922480"/>
                <a:ext cx="83160" cy="92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6023520" y="3106800"/>
                <a:ext cx="81720" cy="92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6094440" y="3276720"/>
                <a:ext cx="81360" cy="936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163560" y="3343320"/>
                <a:ext cx="83160" cy="92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233760" y="3552840"/>
                <a:ext cx="81720" cy="92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315840" y="3684600"/>
                <a:ext cx="81720" cy="92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384960" y="3774960"/>
                <a:ext cx="83160" cy="936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455160" y="3854520"/>
                <a:ext cx="81720" cy="92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524640" y="3906720"/>
                <a:ext cx="83160" cy="939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606360" y="3971880"/>
                <a:ext cx="83160" cy="936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676920" y="4025880"/>
                <a:ext cx="81720" cy="92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746040" y="4078440"/>
                <a:ext cx="83160" cy="918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816600" y="4116240"/>
                <a:ext cx="81720" cy="939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887160" y="4156200"/>
                <a:ext cx="81720" cy="936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002720" y="4222800"/>
                <a:ext cx="83160" cy="92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143840" y="4248000"/>
                <a:ext cx="81720" cy="939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295040" y="4300560"/>
                <a:ext cx="81720" cy="936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434720" y="4327560"/>
                <a:ext cx="83160" cy="92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574040" y="4340160"/>
                <a:ext cx="83160" cy="92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726680" y="4367160"/>
                <a:ext cx="81360" cy="92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866360" y="4392720"/>
                <a:ext cx="81720" cy="918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8017560" y="4405320"/>
                <a:ext cx="83160" cy="936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8158320" y="4405320"/>
                <a:ext cx="81720" cy="936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8309520" y="4419720"/>
                <a:ext cx="83160" cy="918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8449200" y="4432320"/>
                <a:ext cx="83160" cy="92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8601840" y="4432320"/>
                <a:ext cx="81360" cy="92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8741160" y="4432320"/>
                <a:ext cx="81720" cy="921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06" name=""/>
            <p:cNvGrpSpPr/>
            <p:nvPr/>
          </p:nvGrpSpPr>
          <p:grpSpPr>
            <a:xfrm>
              <a:off x="3873960" y="1496880"/>
              <a:ext cx="592920" cy="3171600"/>
              <a:chOff x="3873960" y="1496880"/>
              <a:chExt cx="592920" cy="3171600"/>
            </a:xfrm>
          </p:grpSpPr>
          <p:sp>
            <p:nvSpPr>
              <p:cNvPr id="2507" name=""/>
              <p:cNvSpPr/>
              <p:nvPr/>
            </p:nvSpPr>
            <p:spPr>
              <a:xfrm>
                <a:off x="4061880" y="430524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3873960" y="361008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</a:rPr>
                  <a:t>0.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3873960" y="290052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</a:rPr>
                  <a:t>0.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3873960" y="220500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</a:rPr>
                  <a:t>0.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3873960" y="149688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</a:rPr>
                  <a:t>0.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12" name=""/>
            <p:cNvGrpSpPr/>
            <p:nvPr/>
          </p:nvGrpSpPr>
          <p:grpSpPr>
            <a:xfrm>
              <a:off x="5072040" y="1803240"/>
              <a:ext cx="3758760" cy="2745000"/>
              <a:chOff x="5072040" y="1803240"/>
              <a:chExt cx="3758760" cy="2745000"/>
            </a:xfrm>
          </p:grpSpPr>
          <p:sp>
            <p:nvSpPr>
              <p:cNvPr id="2513" name=""/>
              <p:cNvSpPr/>
              <p:nvPr/>
            </p:nvSpPr>
            <p:spPr>
              <a:xfrm>
                <a:off x="5072040" y="4441680"/>
                <a:ext cx="95760" cy="10656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0" y="66"/>
                    </a:moveTo>
                    <a:lnTo>
                      <a:pt x="33" y="0"/>
                    </a:lnTo>
                    <a:lnTo>
                      <a:pt x="67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5142240" y="4311720"/>
                <a:ext cx="94680" cy="10476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0" y="65"/>
                    </a:moveTo>
                    <a:lnTo>
                      <a:pt x="33" y="0"/>
                    </a:lnTo>
                    <a:lnTo>
                      <a:pt x="66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5213160" y="3903840"/>
                <a:ext cx="9432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6"/>
                    </a:moveTo>
                    <a:lnTo>
                      <a:pt x="33" y="0"/>
                    </a:lnTo>
                    <a:lnTo>
                      <a:pt x="66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293440" y="3340080"/>
                <a:ext cx="95760" cy="104760"/>
              </a:xfrm>
              <a:custGeom>
                <a:avLst/>
                <a:gdLst/>
                <a:ahLst/>
                <a:rect l="l" t="t" r="r" b="b"/>
                <a:pathLst>
                  <a:path w="68" h="66">
                    <a:moveTo>
                      <a:pt x="0" y="65"/>
                    </a:moveTo>
                    <a:lnTo>
                      <a:pt x="34" y="0"/>
                    </a:lnTo>
                    <a:lnTo>
                      <a:pt x="67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5364000" y="2682720"/>
                <a:ext cx="94320" cy="10656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6"/>
                    </a:moveTo>
                    <a:lnTo>
                      <a:pt x="33" y="0"/>
                    </a:lnTo>
                    <a:lnTo>
                      <a:pt x="66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5434560" y="2052720"/>
                <a:ext cx="9468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6"/>
                    </a:moveTo>
                    <a:lnTo>
                      <a:pt x="33" y="0"/>
                    </a:lnTo>
                    <a:lnTo>
                      <a:pt x="66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5503680" y="1830240"/>
                <a:ext cx="94680" cy="10476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0" y="65"/>
                    </a:moveTo>
                    <a:lnTo>
                      <a:pt x="33" y="0"/>
                    </a:lnTo>
                    <a:lnTo>
                      <a:pt x="66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5585760" y="1870200"/>
                <a:ext cx="94680" cy="10476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0" y="65"/>
                    </a:moveTo>
                    <a:lnTo>
                      <a:pt x="33" y="0"/>
                    </a:lnTo>
                    <a:lnTo>
                      <a:pt x="66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5656320" y="1803240"/>
                <a:ext cx="94320" cy="10656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6"/>
                    </a:moveTo>
                    <a:lnTo>
                      <a:pt x="33" y="0"/>
                    </a:lnTo>
                    <a:lnTo>
                      <a:pt x="66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5725440" y="2014560"/>
                <a:ext cx="94320" cy="10476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0" y="65"/>
                    </a:moveTo>
                    <a:lnTo>
                      <a:pt x="33" y="0"/>
                    </a:lnTo>
                    <a:lnTo>
                      <a:pt x="66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5796000" y="2144880"/>
                <a:ext cx="9468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6"/>
                    </a:moveTo>
                    <a:lnTo>
                      <a:pt x="33" y="0"/>
                    </a:lnTo>
                    <a:lnTo>
                      <a:pt x="66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5865120" y="2433600"/>
                <a:ext cx="95760" cy="10656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0" y="66"/>
                    </a:moveTo>
                    <a:lnTo>
                      <a:pt x="34" y="0"/>
                    </a:lnTo>
                    <a:lnTo>
                      <a:pt x="67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947200" y="2643120"/>
                <a:ext cx="94320" cy="10656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6"/>
                    </a:moveTo>
                    <a:lnTo>
                      <a:pt x="33" y="0"/>
                    </a:lnTo>
                    <a:lnTo>
                      <a:pt x="66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6017400" y="2854440"/>
                <a:ext cx="94680" cy="10476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0" y="65"/>
                    </a:moveTo>
                    <a:lnTo>
                      <a:pt x="33" y="0"/>
                    </a:lnTo>
                    <a:lnTo>
                      <a:pt x="66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6088320" y="3024360"/>
                <a:ext cx="9432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6"/>
                    </a:moveTo>
                    <a:lnTo>
                      <a:pt x="33" y="0"/>
                    </a:lnTo>
                    <a:lnTo>
                      <a:pt x="66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6157440" y="3063960"/>
                <a:ext cx="9432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6"/>
                    </a:moveTo>
                    <a:lnTo>
                      <a:pt x="33" y="0"/>
                    </a:lnTo>
                    <a:lnTo>
                      <a:pt x="66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6228000" y="3365640"/>
                <a:ext cx="9432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6"/>
                    </a:moveTo>
                    <a:lnTo>
                      <a:pt x="33" y="0"/>
                    </a:lnTo>
                    <a:lnTo>
                      <a:pt x="66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6309720" y="3484440"/>
                <a:ext cx="94680" cy="10476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0" y="65"/>
                    </a:moveTo>
                    <a:lnTo>
                      <a:pt x="33" y="0"/>
                    </a:lnTo>
                    <a:lnTo>
                      <a:pt x="66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6378840" y="3602160"/>
                <a:ext cx="9468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6"/>
                    </a:moveTo>
                    <a:lnTo>
                      <a:pt x="33" y="0"/>
                    </a:lnTo>
                    <a:lnTo>
                      <a:pt x="66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6449760" y="3693960"/>
                <a:ext cx="94320" cy="10656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6"/>
                    </a:moveTo>
                    <a:lnTo>
                      <a:pt x="33" y="0"/>
                    </a:lnTo>
                    <a:lnTo>
                      <a:pt x="66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6518880" y="3786120"/>
                <a:ext cx="95760" cy="10656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0" y="66"/>
                    </a:moveTo>
                    <a:lnTo>
                      <a:pt x="33" y="0"/>
                    </a:lnTo>
                    <a:lnTo>
                      <a:pt x="67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6600600" y="3838680"/>
                <a:ext cx="9432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6"/>
                    </a:moveTo>
                    <a:lnTo>
                      <a:pt x="33" y="0"/>
                    </a:lnTo>
                    <a:lnTo>
                      <a:pt x="66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6671160" y="3917880"/>
                <a:ext cx="94680" cy="10476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0" y="65"/>
                    </a:moveTo>
                    <a:lnTo>
                      <a:pt x="33" y="0"/>
                    </a:lnTo>
                    <a:lnTo>
                      <a:pt x="66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6740280" y="3956040"/>
                <a:ext cx="95760" cy="10620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0" y="66"/>
                    </a:moveTo>
                    <a:lnTo>
                      <a:pt x="34" y="0"/>
                    </a:lnTo>
                    <a:lnTo>
                      <a:pt x="67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6811200" y="4010040"/>
                <a:ext cx="94320" cy="10476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0" y="65"/>
                    </a:moveTo>
                    <a:lnTo>
                      <a:pt x="33" y="0"/>
                    </a:lnTo>
                    <a:lnTo>
                      <a:pt x="66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6881400" y="4062240"/>
                <a:ext cx="94680" cy="10512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0" y="65"/>
                    </a:moveTo>
                    <a:lnTo>
                      <a:pt x="33" y="0"/>
                    </a:lnTo>
                    <a:lnTo>
                      <a:pt x="66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6997320" y="4140360"/>
                <a:ext cx="9432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6"/>
                    </a:moveTo>
                    <a:lnTo>
                      <a:pt x="33" y="0"/>
                    </a:lnTo>
                    <a:lnTo>
                      <a:pt x="66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7138440" y="4192560"/>
                <a:ext cx="94320" cy="10656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6"/>
                    </a:moveTo>
                    <a:lnTo>
                      <a:pt x="33" y="0"/>
                    </a:lnTo>
                    <a:lnTo>
                      <a:pt x="66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7289640" y="4245120"/>
                <a:ext cx="9432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6"/>
                    </a:moveTo>
                    <a:lnTo>
                      <a:pt x="33" y="0"/>
                    </a:lnTo>
                    <a:lnTo>
                      <a:pt x="66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7429320" y="4284720"/>
                <a:ext cx="9468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6"/>
                    </a:moveTo>
                    <a:lnTo>
                      <a:pt x="33" y="0"/>
                    </a:lnTo>
                    <a:lnTo>
                      <a:pt x="66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7569000" y="4311720"/>
                <a:ext cx="94320" cy="10476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0" y="65"/>
                    </a:moveTo>
                    <a:lnTo>
                      <a:pt x="33" y="0"/>
                    </a:lnTo>
                    <a:lnTo>
                      <a:pt x="66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7721640" y="4351320"/>
                <a:ext cx="94320" cy="10476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0" y="65"/>
                    </a:moveTo>
                    <a:lnTo>
                      <a:pt x="33" y="0"/>
                    </a:lnTo>
                    <a:lnTo>
                      <a:pt x="66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7861320" y="4363920"/>
                <a:ext cx="94320" cy="10476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0" y="65"/>
                    </a:moveTo>
                    <a:lnTo>
                      <a:pt x="33" y="0"/>
                    </a:lnTo>
                    <a:lnTo>
                      <a:pt x="66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8012160" y="4389480"/>
                <a:ext cx="95760" cy="10620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0" y="66"/>
                    </a:moveTo>
                    <a:lnTo>
                      <a:pt x="34" y="0"/>
                    </a:lnTo>
                    <a:lnTo>
                      <a:pt x="67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8153280" y="4403880"/>
                <a:ext cx="94680" cy="10476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0" y="65"/>
                    </a:moveTo>
                    <a:lnTo>
                      <a:pt x="33" y="0"/>
                    </a:lnTo>
                    <a:lnTo>
                      <a:pt x="66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8304480" y="4416480"/>
                <a:ext cx="94680" cy="10476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0" y="65"/>
                    </a:moveTo>
                    <a:lnTo>
                      <a:pt x="33" y="0"/>
                    </a:lnTo>
                    <a:lnTo>
                      <a:pt x="66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8444160" y="4416480"/>
                <a:ext cx="94320" cy="10476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0" y="65"/>
                    </a:moveTo>
                    <a:lnTo>
                      <a:pt x="33" y="0"/>
                    </a:lnTo>
                    <a:lnTo>
                      <a:pt x="66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8596800" y="4429080"/>
                <a:ext cx="94320" cy="10656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6"/>
                    </a:moveTo>
                    <a:lnTo>
                      <a:pt x="33" y="0"/>
                    </a:lnTo>
                    <a:lnTo>
                      <a:pt x="66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8736480" y="4429080"/>
                <a:ext cx="94320" cy="10656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6"/>
                    </a:moveTo>
                    <a:lnTo>
                      <a:pt x="33" y="0"/>
                    </a:lnTo>
                    <a:lnTo>
                      <a:pt x="66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2" name=""/>
            <p:cNvGrpSpPr/>
            <p:nvPr/>
          </p:nvGrpSpPr>
          <p:grpSpPr>
            <a:xfrm>
              <a:off x="4296960" y="4629240"/>
              <a:ext cx="4750560" cy="363240"/>
              <a:chOff x="4296960" y="4629240"/>
              <a:chExt cx="4750560" cy="363240"/>
            </a:xfrm>
          </p:grpSpPr>
          <p:sp>
            <p:nvSpPr>
              <p:cNvPr id="2553" name=""/>
              <p:cNvSpPr/>
              <p:nvPr/>
            </p:nvSpPr>
            <p:spPr>
              <a:xfrm>
                <a:off x="4296960" y="462924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4964760" y="4629240"/>
                <a:ext cx="45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</a:rPr>
                  <a:t>1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688720" y="4629240"/>
                <a:ext cx="45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</a:rPr>
                  <a:t>2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421320" y="4629240"/>
                <a:ext cx="45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</a:rPr>
                  <a:t>3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7145280" y="4629240"/>
                <a:ext cx="45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</a:rPr>
                  <a:t>4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7867800" y="4629240"/>
                <a:ext cx="45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</a:rPr>
                  <a:t>5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8591760" y="4629240"/>
                <a:ext cx="45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rebuchet MS"/>
                  </a:rPr>
                  <a:t>6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0" name=""/>
            <p:cNvSpPr/>
            <p:nvPr/>
          </p:nvSpPr>
          <p:spPr>
            <a:xfrm>
              <a:off x="3554280" y="816120"/>
              <a:ext cx="3537000" cy="10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rebuchet MS"/>
                </a:rPr>
                <a:t>Acetaminophen sulf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rebuchet MS"/>
                </a:rPr>
                <a:t>PS = 0.13 ml min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Trebuchet MS"/>
                </a:rPr>
                <a:t>–1 </a:t>
              </a:r>
              <a:r>
                <a:rPr b="0" lang="en-US" sz="1800" spc="-1" strike="noStrike">
                  <a:solidFill>
                    <a:srgbClr val="ffff00"/>
                  </a:solidFill>
                  <a:latin typeface="Trebuchet MS"/>
                </a:rPr>
                <a:t>g</a:t>
              </a:r>
              <a:r>
                <a:rPr b="0" lang="en-US" sz="1800" spc="-1" strike="noStrike" baseline="30000">
                  <a:solidFill>
                    <a:srgbClr val="ffff00"/>
                  </a:solidFill>
                  <a:latin typeface="Trebuchet MS"/>
                </a:rPr>
                <a:t>–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8122320" y="118728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99"/>
                  </a:solidFill>
                  <a:latin typeface="Trebuchet MS"/>
                </a:rPr>
                <a:t>or 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2" name=""/>
          <p:cNvGrpSpPr/>
          <p:nvPr/>
        </p:nvGrpSpPr>
        <p:grpSpPr>
          <a:xfrm>
            <a:off x="144360" y="1187280"/>
            <a:ext cx="8250480" cy="5526720"/>
            <a:chOff x="144360" y="1187280"/>
            <a:chExt cx="8250480" cy="5526720"/>
          </a:xfrm>
        </p:grpSpPr>
        <p:grpSp>
          <p:nvGrpSpPr>
            <p:cNvPr id="2563" name=""/>
            <p:cNvGrpSpPr/>
            <p:nvPr/>
          </p:nvGrpSpPr>
          <p:grpSpPr>
            <a:xfrm>
              <a:off x="6905520" y="1187280"/>
              <a:ext cx="1163880" cy="363240"/>
              <a:chOff x="6905520" y="1187280"/>
              <a:chExt cx="1163880" cy="363240"/>
            </a:xfrm>
          </p:grpSpPr>
          <p:sp>
            <p:nvSpPr>
              <p:cNvPr id="2564" name=""/>
              <p:cNvSpPr/>
              <p:nvPr/>
            </p:nvSpPr>
            <p:spPr>
              <a:xfrm>
                <a:off x="7339320" y="1187280"/>
                <a:ext cx="7300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cc99"/>
                    </a:solidFill>
                    <a:latin typeface="Trebuchet MS"/>
                  </a:rPr>
                  <a:t>SAM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6905520" y="1328760"/>
                <a:ext cx="81000" cy="9360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6" name=""/>
            <p:cNvGrpSpPr/>
            <p:nvPr/>
          </p:nvGrpSpPr>
          <p:grpSpPr>
            <a:xfrm>
              <a:off x="144360" y="1512720"/>
              <a:ext cx="8250480" cy="5201280"/>
              <a:chOff x="144360" y="1512720"/>
              <a:chExt cx="8250480" cy="5201280"/>
            </a:xfrm>
          </p:grpSpPr>
          <p:sp>
            <p:nvSpPr>
              <p:cNvPr id="2567" name=""/>
              <p:cNvSpPr/>
              <p:nvPr/>
            </p:nvSpPr>
            <p:spPr>
              <a:xfrm>
                <a:off x="7253280" y="1512720"/>
                <a:ext cx="1141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cf305"/>
                    </a:solidFill>
                    <a:latin typeface="Trebuchet MS"/>
                  </a:rPr>
                  <a:t>Sucro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889680" y="164952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0" y="65"/>
                    </a:moveTo>
                    <a:lnTo>
                      <a:pt x="33" y="0"/>
                    </a:lnTo>
                    <a:lnTo>
                      <a:pt x="66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69" name=""/>
              <p:cNvGrpSpPr/>
              <p:nvPr/>
            </p:nvGrpSpPr>
            <p:grpSpPr>
              <a:xfrm>
                <a:off x="144360" y="2972880"/>
                <a:ext cx="5312160" cy="3741120"/>
                <a:chOff x="144360" y="2972880"/>
                <a:chExt cx="5312160" cy="3741120"/>
              </a:xfrm>
            </p:grpSpPr>
            <p:sp>
              <p:nvSpPr>
                <p:cNvPr id="2570" name=""/>
                <p:cNvSpPr/>
                <p:nvPr/>
              </p:nvSpPr>
              <p:spPr>
                <a:xfrm>
                  <a:off x="563040" y="3029040"/>
                  <a:ext cx="356760" cy="43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000000"/>
                      </a:solidFill>
                      <a:latin typeface="Trebuchet MS"/>
                    </a:rPr>
                    <a:t>.</a:t>
                  </a:r>
                  <a:endParaRPr b="0" lang="en-US" sz="2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4467240" y="5826240"/>
                  <a:ext cx="92160" cy="102960"/>
                </a:xfrm>
                <a:custGeom>
                  <a:avLst/>
                  <a:gdLst/>
                  <a:ahLst/>
                  <a:rect l="l" t="t" r="r" b="b"/>
                  <a:pathLst>
                    <a:path w="65" h="65">
                      <a:moveTo>
                        <a:pt x="32" y="0"/>
                      </a:moveTo>
                      <a:lnTo>
                        <a:pt x="64" y="64"/>
                      </a:lnTo>
                      <a:lnTo>
                        <a:pt x="0" y="64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3060720" y="5403960"/>
                  <a:ext cx="90360" cy="101520"/>
                </a:xfrm>
                <a:custGeom>
                  <a:avLst/>
                  <a:gdLst/>
                  <a:ahLst/>
                  <a:rect l="l" t="t" r="r" b="b"/>
                  <a:pathLst>
                    <a:path w="64" h="64">
                      <a:moveTo>
                        <a:pt x="32" y="0"/>
                      </a:moveTo>
                      <a:lnTo>
                        <a:pt x="63" y="63"/>
                      </a:lnTo>
                      <a:lnTo>
                        <a:pt x="0" y="63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2909880" y="5284800"/>
                  <a:ext cx="88920" cy="103320"/>
                </a:xfrm>
                <a:custGeom>
                  <a:avLst/>
                  <a:gdLst/>
                  <a:ahLst/>
                  <a:rect l="l" t="t" r="r" b="b"/>
                  <a:pathLst>
                    <a:path w="64" h="65">
                      <a:moveTo>
                        <a:pt x="32" y="0"/>
                      </a:moveTo>
                      <a:lnTo>
                        <a:pt x="63" y="64"/>
                      </a:lnTo>
                      <a:lnTo>
                        <a:pt x="0" y="64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>
                  <a:off x="2982960" y="5370480"/>
                  <a:ext cx="92160" cy="101520"/>
                </a:xfrm>
                <a:custGeom>
                  <a:avLst/>
                  <a:gdLst/>
                  <a:ahLst/>
                  <a:rect l="l" t="t" r="r" b="b"/>
                  <a:pathLst>
                    <a:path w="66" h="64">
                      <a:moveTo>
                        <a:pt x="32" y="0"/>
                      </a:moveTo>
                      <a:lnTo>
                        <a:pt x="65" y="63"/>
                      </a:lnTo>
                      <a:lnTo>
                        <a:pt x="0" y="63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1604880" y="4930920"/>
                  <a:ext cx="92160" cy="102960"/>
                </a:xfrm>
                <a:custGeom>
                  <a:avLst/>
                  <a:gdLst/>
                  <a:ahLst/>
                  <a:rect l="l" t="t" r="r" b="b"/>
                  <a:pathLst>
                    <a:path w="65" h="65">
                      <a:moveTo>
                        <a:pt x="32" y="0"/>
                      </a:moveTo>
                      <a:lnTo>
                        <a:pt x="64" y="64"/>
                      </a:lnTo>
                      <a:lnTo>
                        <a:pt x="0" y="64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1469880" y="5810400"/>
                  <a:ext cx="93960" cy="101520"/>
                </a:xfrm>
                <a:custGeom>
                  <a:avLst/>
                  <a:gdLst/>
                  <a:ahLst/>
                  <a:rect l="l" t="t" r="r" b="b"/>
                  <a:pathLst>
                    <a:path w="66" h="64">
                      <a:moveTo>
                        <a:pt x="33" y="0"/>
                      </a:moveTo>
                      <a:lnTo>
                        <a:pt x="65" y="63"/>
                      </a:lnTo>
                      <a:lnTo>
                        <a:pt x="0" y="6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1530360" y="5556240"/>
                  <a:ext cx="93600" cy="103320"/>
                </a:xfrm>
                <a:custGeom>
                  <a:avLst/>
                  <a:gdLst/>
                  <a:ahLst/>
                  <a:rect l="l" t="t" r="r" b="b"/>
                  <a:pathLst>
                    <a:path w="66" h="65">
                      <a:moveTo>
                        <a:pt x="32" y="0"/>
                      </a:moveTo>
                      <a:lnTo>
                        <a:pt x="65" y="64"/>
                      </a:lnTo>
                      <a:lnTo>
                        <a:pt x="0" y="64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1682640" y="4307040"/>
                  <a:ext cx="90720" cy="104760"/>
                </a:xfrm>
                <a:custGeom>
                  <a:avLst/>
                  <a:gdLst/>
                  <a:ahLst/>
                  <a:rect l="l" t="t" r="r" b="b"/>
                  <a:pathLst>
                    <a:path w="64" h="66">
                      <a:moveTo>
                        <a:pt x="32" y="0"/>
                      </a:moveTo>
                      <a:lnTo>
                        <a:pt x="63" y="65"/>
                      </a:lnTo>
                      <a:lnTo>
                        <a:pt x="0" y="65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1757520" y="3833640"/>
                  <a:ext cx="93600" cy="103320"/>
                </a:xfrm>
                <a:custGeom>
                  <a:avLst/>
                  <a:gdLst/>
                  <a:ahLst/>
                  <a:rect l="l" t="t" r="r" b="b"/>
                  <a:pathLst>
                    <a:path w="66" h="65">
                      <a:moveTo>
                        <a:pt x="32" y="0"/>
                      </a:moveTo>
                      <a:lnTo>
                        <a:pt x="65" y="64"/>
                      </a:lnTo>
                      <a:lnTo>
                        <a:pt x="0" y="64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1833480" y="3513240"/>
                  <a:ext cx="90720" cy="102960"/>
                </a:xfrm>
                <a:custGeom>
                  <a:avLst/>
                  <a:gdLst/>
                  <a:ahLst/>
                  <a:rect l="l" t="t" r="r" b="b"/>
                  <a:pathLst>
                    <a:path w="64" h="65">
                      <a:moveTo>
                        <a:pt x="32" y="0"/>
                      </a:moveTo>
                      <a:lnTo>
                        <a:pt x="63" y="64"/>
                      </a:lnTo>
                      <a:lnTo>
                        <a:pt x="0" y="64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1893960" y="3430440"/>
                  <a:ext cx="90360" cy="103320"/>
                </a:xfrm>
                <a:custGeom>
                  <a:avLst/>
                  <a:gdLst/>
                  <a:ahLst/>
                  <a:rect l="l" t="t" r="r" b="b"/>
                  <a:pathLst>
                    <a:path w="65" h="65">
                      <a:moveTo>
                        <a:pt x="32" y="0"/>
                      </a:moveTo>
                      <a:lnTo>
                        <a:pt x="64" y="64"/>
                      </a:lnTo>
                      <a:lnTo>
                        <a:pt x="0" y="64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1969920" y="3564000"/>
                  <a:ext cx="92160" cy="102960"/>
                </a:xfrm>
                <a:custGeom>
                  <a:avLst/>
                  <a:gdLst/>
                  <a:ahLst/>
                  <a:rect l="l" t="t" r="r" b="b"/>
                  <a:pathLst>
                    <a:path w="66" h="65">
                      <a:moveTo>
                        <a:pt x="32" y="0"/>
                      </a:moveTo>
                      <a:lnTo>
                        <a:pt x="65" y="64"/>
                      </a:lnTo>
                      <a:lnTo>
                        <a:pt x="0" y="64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>
                  <a:off x="2046240" y="3683160"/>
                  <a:ext cx="90360" cy="102960"/>
                </a:xfrm>
                <a:custGeom>
                  <a:avLst/>
                  <a:gdLst/>
                  <a:ahLst/>
                  <a:rect l="l" t="t" r="r" b="b"/>
                  <a:pathLst>
                    <a:path w="65" h="65">
                      <a:moveTo>
                        <a:pt x="32" y="0"/>
                      </a:moveTo>
                      <a:lnTo>
                        <a:pt x="64" y="64"/>
                      </a:lnTo>
                      <a:lnTo>
                        <a:pt x="0" y="64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>
                  <a:off x="2120760" y="3986280"/>
                  <a:ext cx="92160" cy="101520"/>
                </a:xfrm>
                <a:custGeom>
                  <a:avLst/>
                  <a:gdLst/>
                  <a:ahLst/>
                  <a:rect l="l" t="t" r="r" b="b"/>
                  <a:pathLst>
                    <a:path w="65" h="64">
                      <a:moveTo>
                        <a:pt x="32" y="0"/>
                      </a:moveTo>
                      <a:lnTo>
                        <a:pt x="64" y="63"/>
                      </a:lnTo>
                      <a:lnTo>
                        <a:pt x="0" y="63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2181240" y="4172040"/>
                  <a:ext cx="92160" cy="101520"/>
                </a:xfrm>
                <a:custGeom>
                  <a:avLst/>
                  <a:gdLst/>
                  <a:ahLst/>
                  <a:rect l="l" t="t" r="r" b="b"/>
                  <a:pathLst>
                    <a:path w="65" h="64">
                      <a:moveTo>
                        <a:pt x="32" y="0"/>
                      </a:moveTo>
                      <a:lnTo>
                        <a:pt x="64" y="63"/>
                      </a:lnTo>
                      <a:lnTo>
                        <a:pt x="0" y="63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2257560" y="4357800"/>
                  <a:ext cx="91800" cy="102960"/>
                </a:xfrm>
                <a:custGeom>
                  <a:avLst/>
                  <a:gdLst/>
                  <a:ahLst/>
                  <a:rect l="l" t="t" r="r" b="b"/>
                  <a:pathLst>
                    <a:path w="65" h="65">
                      <a:moveTo>
                        <a:pt x="32" y="0"/>
                      </a:moveTo>
                      <a:lnTo>
                        <a:pt x="64" y="64"/>
                      </a:lnTo>
                      <a:lnTo>
                        <a:pt x="0" y="64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>
                  <a:off x="2333520" y="4525920"/>
                  <a:ext cx="90720" cy="103320"/>
                </a:xfrm>
                <a:custGeom>
                  <a:avLst/>
                  <a:gdLst/>
                  <a:ahLst/>
                  <a:rect l="l" t="t" r="r" b="b"/>
                  <a:pathLst>
                    <a:path w="64" h="65">
                      <a:moveTo>
                        <a:pt x="32" y="0"/>
                      </a:moveTo>
                      <a:lnTo>
                        <a:pt x="63" y="64"/>
                      </a:lnTo>
                      <a:lnTo>
                        <a:pt x="0" y="64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2408400" y="4660920"/>
                  <a:ext cx="91800" cy="103320"/>
                </a:xfrm>
                <a:custGeom>
                  <a:avLst/>
                  <a:gdLst/>
                  <a:ahLst/>
                  <a:rect l="l" t="t" r="r" b="b"/>
                  <a:pathLst>
                    <a:path w="65" h="65">
                      <a:moveTo>
                        <a:pt x="32" y="0"/>
                      </a:moveTo>
                      <a:lnTo>
                        <a:pt x="64" y="64"/>
                      </a:lnTo>
                      <a:lnTo>
                        <a:pt x="0" y="64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2484360" y="4797360"/>
                  <a:ext cx="92160" cy="101520"/>
                </a:xfrm>
                <a:custGeom>
                  <a:avLst/>
                  <a:gdLst/>
                  <a:ahLst/>
                  <a:rect l="l" t="t" r="r" b="b"/>
                  <a:pathLst>
                    <a:path w="65" h="64">
                      <a:moveTo>
                        <a:pt x="32" y="0"/>
                      </a:moveTo>
                      <a:lnTo>
                        <a:pt x="64" y="63"/>
                      </a:lnTo>
                      <a:lnTo>
                        <a:pt x="0" y="63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2543040" y="4848120"/>
                  <a:ext cx="93960" cy="101880"/>
                </a:xfrm>
                <a:custGeom>
                  <a:avLst/>
                  <a:gdLst/>
                  <a:ahLst/>
                  <a:rect l="l" t="t" r="r" b="b"/>
                  <a:pathLst>
                    <a:path w="66" h="64">
                      <a:moveTo>
                        <a:pt x="32" y="0"/>
                      </a:moveTo>
                      <a:lnTo>
                        <a:pt x="65" y="63"/>
                      </a:lnTo>
                      <a:lnTo>
                        <a:pt x="0" y="63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2620800" y="5016600"/>
                  <a:ext cx="92160" cy="101520"/>
                </a:xfrm>
                <a:custGeom>
                  <a:avLst/>
                  <a:gdLst/>
                  <a:ahLst/>
                  <a:rect l="l" t="t" r="r" b="b"/>
                  <a:pathLst>
                    <a:path w="65" h="64">
                      <a:moveTo>
                        <a:pt x="32" y="0"/>
                      </a:moveTo>
                      <a:lnTo>
                        <a:pt x="64" y="63"/>
                      </a:lnTo>
                      <a:lnTo>
                        <a:pt x="0" y="63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2695680" y="5116680"/>
                  <a:ext cx="91800" cy="102960"/>
                </a:xfrm>
                <a:custGeom>
                  <a:avLst/>
                  <a:gdLst/>
                  <a:ahLst/>
                  <a:rect l="l" t="t" r="r" b="b"/>
                  <a:pathLst>
                    <a:path w="66" h="65">
                      <a:moveTo>
                        <a:pt x="33" y="0"/>
                      </a:moveTo>
                      <a:lnTo>
                        <a:pt x="65" y="64"/>
                      </a:lnTo>
                      <a:lnTo>
                        <a:pt x="0" y="64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2771640" y="5184720"/>
                  <a:ext cx="92160" cy="101520"/>
                </a:xfrm>
                <a:custGeom>
                  <a:avLst/>
                  <a:gdLst/>
                  <a:ahLst/>
                  <a:rect l="l" t="t" r="r" b="b"/>
                  <a:pathLst>
                    <a:path w="66" h="64">
                      <a:moveTo>
                        <a:pt x="32" y="0"/>
                      </a:moveTo>
                      <a:lnTo>
                        <a:pt x="65" y="63"/>
                      </a:lnTo>
                      <a:lnTo>
                        <a:pt x="0" y="63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3135240" y="5454720"/>
                  <a:ext cx="92160" cy="102960"/>
                </a:xfrm>
                <a:custGeom>
                  <a:avLst/>
                  <a:gdLst/>
                  <a:ahLst/>
                  <a:rect l="l" t="t" r="r" b="b"/>
                  <a:pathLst>
                    <a:path w="65" h="65">
                      <a:moveTo>
                        <a:pt x="32" y="0"/>
                      </a:moveTo>
                      <a:lnTo>
                        <a:pt x="64" y="64"/>
                      </a:lnTo>
                      <a:lnTo>
                        <a:pt x="0" y="64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3209760" y="5522760"/>
                  <a:ext cx="93960" cy="101880"/>
                </a:xfrm>
                <a:custGeom>
                  <a:avLst/>
                  <a:gdLst/>
                  <a:ahLst/>
                  <a:rect l="l" t="t" r="r" b="b"/>
                  <a:pathLst>
                    <a:path w="66" h="64">
                      <a:moveTo>
                        <a:pt x="33" y="0"/>
                      </a:moveTo>
                      <a:lnTo>
                        <a:pt x="65" y="63"/>
                      </a:lnTo>
                      <a:lnTo>
                        <a:pt x="0" y="6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3270240" y="5522760"/>
                  <a:ext cx="92160" cy="101880"/>
                </a:xfrm>
                <a:custGeom>
                  <a:avLst/>
                  <a:gdLst/>
                  <a:ahLst/>
                  <a:rect l="l" t="t" r="r" b="b"/>
                  <a:pathLst>
                    <a:path w="65" h="64">
                      <a:moveTo>
                        <a:pt x="32" y="0"/>
                      </a:moveTo>
                      <a:lnTo>
                        <a:pt x="64" y="63"/>
                      </a:lnTo>
                      <a:lnTo>
                        <a:pt x="0" y="63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3346560" y="5573880"/>
                  <a:ext cx="91800" cy="101520"/>
                </a:xfrm>
                <a:custGeom>
                  <a:avLst/>
                  <a:gdLst/>
                  <a:ahLst/>
                  <a:rect l="l" t="t" r="r" b="b"/>
                  <a:pathLst>
                    <a:path w="65" h="64">
                      <a:moveTo>
                        <a:pt x="32" y="0"/>
                      </a:moveTo>
                      <a:lnTo>
                        <a:pt x="64" y="63"/>
                      </a:lnTo>
                      <a:lnTo>
                        <a:pt x="0" y="63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3452760" y="5640480"/>
                  <a:ext cx="92160" cy="102960"/>
                </a:xfrm>
                <a:custGeom>
                  <a:avLst/>
                  <a:gdLst/>
                  <a:ahLst/>
                  <a:rect l="l" t="t" r="r" b="b"/>
                  <a:pathLst>
                    <a:path w="65" h="65">
                      <a:moveTo>
                        <a:pt x="32" y="0"/>
                      </a:moveTo>
                      <a:lnTo>
                        <a:pt x="64" y="64"/>
                      </a:lnTo>
                      <a:lnTo>
                        <a:pt x="0" y="64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3603600" y="5673600"/>
                  <a:ext cx="92160" cy="101880"/>
                </a:xfrm>
                <a:custGeom>
                  <a:avLst/>
                  <a:gdLst/>
                  <a:ahLst/>
                  <a:rect l="l" t="t" r="r" b="b"/>
                  <a:pathLst>
                    <a:path w="65" h="64">
                      <a:moveTo>
                        <a:pt x="32" y="0"/>
                      </a:moveTo>
                      <a:lnTo>
                        <a:pt x="64" y="63"/>
                      </a:lnTo>
                      <a:lnTo>
                        <a:pt x="0" y="63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3738600" y="5722920"/>
                  <a:ext cx="93600" cy="104760"/>
                </a:xfrm>
                <a:custGeom>
                  <a:avLst/>
                  <a:gdLst/>
                  <a:ahLst/>
                  <a:rect l="l" t="t" r="r" b="b"/>
                  <a:pathLst>
                    <a:path w="66" h="66">
                      <a:moveTo>
                        <a:pt x="33" y="0"/>
                      </a:moveTo>
                      <a:lnTo>
                        <a:pt x="65" y="65"/>
                      </a:lnTo>
                      <a:lnTo>
                        <a:pt x="0" y="65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3890880" y="5742000"/>
                  <a:ext cx="92160" cy="103320"/>
                </a:xfrm>
                <a:custGeom>
                  <a:avLst/>
                  <a:gdLst/>
                  <a:ahLst/>
                  <a:rect l="l" t="t" r="r" b="b"/>
                  <a:pathLst>
                    <a:path w="65" h="65">
                      <a:moveTo>
                        <a:pt x="32" y="0"/>
                      </a:moveTo>
                      <a:lnTo>
                        <a:pt x="64" y="64"/>
                      </a:lnTo>
                      <a:lnTo>
                        <a:pt x="0" y="64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4040280" y="5773680"/>
                  <a:ext cx="95040" cy="103320"/>
                </a:xfrm>
                <a:custGeom>
                  <a:avLst/>
                  <a:gdLst/>
                  <a:ahLst/>
                  <a:rect l="l" t="t" r="r" b="b"/>
                  <a:pathLst>
                    <a:path w="67" h="65">
                      <a:moveTo>
                        <a:pt x="33" y="0"/>
                      </a:moveTo>
                      <a:lnTo>
                        <a:pt x="66" y="64"/>
                      </a:lnTo>
                      <a:lnTo>
                        <a:pt x="0" y="64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4178160" y="5792760"/>
                  <a:ext cx="92160" cy="103320"/>
                </a:xfrm>
                <a:custGeom>
                  <a:avLst/>
                  <a:gdLst/>
                  <a:ahLst/>
                  <a:rect l="l" t="t" r="r" b="b"/>
                  <a:pathLst>
                    <a:path w="65" h="65">
                      <a:moveTo>
                        <a:pt x="32" y="0"/>
                      </a:moveTo>
                      <a:lnTo>
                        <a:pt x="64" y="64"/>
                      </a:lnTo>
                      <a:lnTo>
                        <a:pt x="0" y="64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4330800" y="5810400"/>
                  <a:ext cx="88920" cy="101520"/>
                </a:xfrm>
                <a:custGeom>
                  <a:avLst/>
                  <a:gdLst/>
                  <a:ahLst/>
                  <a:rect l="l" t="t" r="r" b="b"/>
                  <a:pathLst>
                    <a:path w="64" h="64">
                      <a:moveTo>
                        <a:pt x="32" y="0"/>
                      </a:moveTo>
                      <a:lnTo>
                        <a:pt x="63" y="63"/>
                      </a:lnTo>
                      <a:lnTo>
                        <a:pt x="0" y="63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4616280" y="5843520"/>
                  <a:ext cx="92160" cy="101520"/>
                </a:xfrm>
                <a:custGeom>
                  <a:avLst/>
                  <a:gdLst/>
                  <a:ahLst/>
                  <a:rect l="l" t="t" r="r" b="b"/>
                  <a:pathLst>
                    <a:path w="65" h="64">
                      <a:moveTo>
                        <a:pt x="32" y="0"/>
                      </a:moveTo>
                      <a:lnTo>
                        <a:pt x="64" y="63"/>
                      </a:lnTo>
                      <a:lnTo>
                        <a:pt x="0" y="63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4753080" y="5843520"/>
                  <a:ext cx="91800" cy="101520"/>
                </a:xfrm>
                <a:custGeom>
                  <a:avLst/>
                  <a:gdLst/>
                  <a:ahLst/>
                  <a:rect l="l" t="t" r="r" b="b"/>
                  <a:pathLst>
                    <a:path w="65" h="64">
                      <a:moveTo>
                        <a:pt x="32" y="0"/>
                      </a:moveTo>
                      <a:lnTo>
                        <a:pt x="64" y="63"/>
                      </a:lnTo>
                      <a:lnTo>
                        <a:pt x="0" y="63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>
                  <a:off x="4905360" y="5861160"/>
                  <a:ext cx="90360" cy="101520"/>
                </a:xfrm>
                <a:custGeom>
                  <a:avLst/>
                  <a:gdLst/>
                  <a:ahLst/>
                  <a:rect l="l" t="t" r="r" b="b"/>
                  <a:pathLst>
                    <a:path w="64" h="64">
                      <a:moveTo>
                        <a:pt x="32" y="0"/>
                      </a:moveTo>
                      <a:lnTo>
                        <a:pt x="63" y="63"/>
                      </a:lnTo>
                      <a:lnTo>
                        <a:pt x="0" y="63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5054760" y="5861160"/>
                  <a:ext cx="91800" cy="101520"/>
                </a:xfrm>
                <a:custGeom>
                  <a:avLst/>
                  <a:gdLst/>
                  <a:ahLst/>
                  <a:rect l="l" t="t" r="r" b="b"/>
                  <a:pathLst>
                    <a:path w="65" h="64">
                      <a:moveTo>
                        <a:pt x="32" y="0"/>
                      </a:moveTo>
                      <a:lnTo>
                        <a:pt x="64" y="63"/>
                      </a:lnTo>
                      <a:lnTo>
                        <a:pt x="0" y="63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5192640" y="5861160"/>
                  <a:ext cx="90720" cy="101520"/>
                </a:xfrm>
                <a:custGeom>
                  <a:avLst/>
                  <a:gdLst/>
                  <a:ahLst/>
                  <a:rect l="l" t="t" r="r" b="b"/>
                  <a:pathLst>
                    <a:path w="65" h="64">
                      <a:moveTo>
                        <a:pt x="32" y="0"/>
                      </a:moveTo>
                      <a:lnTo>
                        <a:pt x="64" y="63"/>
                      </a:lnTo>
                      <a:lnTo>
                        <a:pt x="0" y="63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677880" y="3048120"/>
                  <a:ext cx="204840" cy="29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1319040" y="5894280"/>
                  <a:ext cx="90720" cy="101880"/>
                </a:xfrm>
                <a:custGeom>
                  <a:avLst/>
                  <a:gdLst/>
                  <a:ahLst/>
                  <a:rect l="l" t="t" r="r" b="b"/>
                  <a:pathLst>
                    <a:path w="64" h="64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63" y="63"/>
                      </a:lnTo>
                      <a:lnTo>
                        <a:pt x="0" y="63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1395360" y="5875200"/>
                  <a:ext cx="92160" cy="103320"/>
                </a:xfrm>
                <a:custGeom>
                  <a:avLst/>
                  <a:gdLst/>
                  <a:ahLst/>
                  <a:rect l="l" t="t" r="r" b="b"/>
                  <a:pathLst>
                    <a:path w="65" h="65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64" y="64"/>
                      </a:lnTo>
                      <a:lnTo>
                        <a:pt x="0" y="64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 flipV="1">
                  <a:off x="887400" y="3158640"/>
                  <a:ext cx="0" cy="27846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898560" y="5943600"/>
                  <a:ext cx="316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898560" y="5589720"/>
                  <a:ext cx="316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898560" y="5251320"/>
                  <a:ext cx="316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898560" y="4897440"/>
                  <a:ext cx="316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898560" y="4543560"/>
                  <a:ext cx="316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>
                  <a:off x="898560" y="4205160"/>
                  <a:ext cx="316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>
                  <a:off x="898560" y="3851280"/>
                  <a:ext cx="316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898560" y="3513240"/>
                  <a:ext cx="316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898560" y="3159000"/>
                  <a:ext cx="316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898560" y="5943600"/>
                  <a:ext cx="316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898560" y="5251320"/>
                  <a:ext cx="6012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898560" y="4543560"/>
                  <a:ext cx="6012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898560" y="3851280"/>
                  <a:ext cx="6012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898560" y="3159000"/>
                  <a:ext cx="6012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898560" y="5943600"/>
                  <a:ext cx="432576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flipV="1">
                  <a:off x="887400" y="5893920"/>
                  <a:ext cx="0" cy="4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V="1">
                  <a:off x="1251000" y="5893920"/>
                  <a:ext cx="0" cy="4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 flipV="1">
                  <a:off x="1616040" y="5893920"/>
                  <a:ext cx="0" cy="49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 flipV="1">
                  <a:off x="1976400" y="5893920"/>
                  <a:ext cx="0" cy="4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flipV="1">
                  <a:off x="2340000" y="5893920"/>
                  <a:ext cx="0" cy="49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 flipV="1">
                  <a:off x="2701800" y="5893920"/>
                  <a:ext cx="0" cy="4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 flipV="1">
                  <a:off x="3067200" y="5893920"/>
                  <a:ext cx="0" cy="49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flipV="1">
                  <a:off x="3414600" y="5893920"/>
                  <a:ext cx="0" cy="4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 flipV="1">
                  <a:off x="3776760" y="5893920"/>
                  <a:ext cx="0" cy="49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 flipV="1">
                  <a:off x="4140360" y="5893920"/>
                  <a:ext cx="0" cy="4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flipV="1">
                  <a:off x="4503600" y="5893920"/>
                  <a:ext cx="0" cy="49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 flipV="1">
                  <a:off x="4867200" y="5893920"/>
                  <a:ext cx="0" cy="4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 flipV="1">
                  <a:off x="887400" y="5893920"/>
                  <a:ext cx="0" cy="4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flipV="1">
                  <a:off x="1616040" y="5860800"/>
                  <a:ext cx="0" cy="82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 flipV="1">
                  <a:off x="2340000" y="5860800"/>
                  <a:ext cx="0" cy="82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 flipV="1">
                  <a:off x="3067200" y="5860800"/>
                  <a:ext cx="0" cy="82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flipV="1">
                  <a:off x="3776760" y="5860800"/>
                  <a:ext cx="0" cy="82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 flipV="1">
                  <a:off x="4503600" y="5860800"/>
                  <a:ext cx="0" cy="82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7" name=""/>
                <p:cNvGrpSpPr/>
                <p:nvPr/>
              </p:nvGrpSpPr>
              <p:grpSpPr>
                <a:xfrm>
                  <a:off x="1311120" y="4356000"/>
                  <a:ext cx="3954240" cy="1614600"/>
                  <a:chOff x="1311120" y="4356000"/>
                  <a:chExt cx="3954240" cy="1614600"/>
                </a:xfrm>
              </p:grpSpPr>
              <p:sp>
                <p:nvSpPr>
                  <p:cNvPr id="2648" name=""/>
                  <p:cNvSpPr/>
                  <p:nvPr/>
                </p:nvSpPr>
                <p:spPr>
                  <a:xfrm>
                    <a:off x="2845800" y="5284800"/>
                    <a:ext cx="70560" cy="792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9" name=""/>
                  <p:cNvSpPr/>
                  <p:nvPr/>
                </p:nvSpPr>
                <p:spPr>
                  <a:xfrm>
                    <a:off x="1311120" y="5891040"/>
                    <a:ext cx="81360" cy="7956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0" name=""/>
                  <p:cNvSpPr/>
                  <p:nvPr/>
                </p:nvSpPr>
                <p:spPr>
                  <a:xfrm>
                    <a:off x="1385640" y="5891040"/>
                    <a:ext cx="81720" cy="7956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1" name=""/>
                  <p:cNvSpPr/>
                  <p:nvPr/>
                </p:nvSpPr>
                <p:spPr>
                  <a:xfrm>
                    <a:off x="1463400" y="5773680"/>
                    <a:ext cx="80280" cy="810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>
                    <a:off x="1522440" y="5451480"/>
                    <a:ext cx="81720" cy="824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>
                    <a:off x="1598400" y="4962600"/>
                    <a:ext cx="81720" cy="810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>
                    <a:off x="1674720" y="4592520"/>
                    <a:ext cx="80280" cy="7956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>
                    <a:off x="1749600" y="4473720"/>
                    <a:ext cx="81720" cy="792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>
                    <a:off x="1827360" y="4356000"/>
                    <a:ext cx="80280" cy="7956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>
                    <a:off x="1886400" y="4406760"/>
                    <a:ext cx="80280" cy="7956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>
                    <a:off x="1961280" y="4491000"/>
                    <a:ext cx="81360" cy="7956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>
                    <a:off x="2037600" y="4608360"/>
                    <a:ext cx="80280" cy="810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0" name=""/>
                  <p:cNvSpPr/>
                  <p:nvPr/>
                </p:nvSpPr>
                <p:spPr>
                  <a:xfrm>
                    <a:off x="2113560" y="4726080"/>
                    <a:ext cx="78840" cy="810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1" name=""/>
                  <p:cNvSpPr/>
                  <p:nvPr/>
                </p:nvSpPr>
                <p:spPr>
                  <a:xfrm>
                    <a:off x="2174040" y="4811760"/>
                    <a:ext cx="80280" cy="792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>
                    <a:off x="2248920" y="4929120"/>
                    <a:ext cx="81720" cy="810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3" name=""/>
                  <p:cNvSpPr/>
                  <p:nvPr/>
                </p:nvSpPr>
                <p:spPr>
                  <a:xfrm>
                    <a:off x="2325240" y="4997520"/>
                    <a:ext cx="80280" cy="810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4" name=""/>
                  <p:cNvSpPr/>
                  <p:nvPr/>
                </p:nvSpPr>
                <p:spPr>
                  <a:xfrm>
                    <a:off x="2401200" y="5065560"/>
                    <a:ext cx="80280" cy="781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5" name=""/>
                  <p:cNvSpPr/>
                  <p:nvPr/>
                </p:nvSpPr>
                <p:spPr>
                  <a:xfrm>
                    <a:off x="2476080" y="5081760"/>
                    <a:ext cx="81720" cy="80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6" name=""/>
                  <p:cNvSpPr/>
                  <p:nvPr/>
                </p:nvSpPr>
                <p:spPr>
                  <a:xfrm>
                    <a:off x="2535480" y="5114880"/>
                    <a:ext cx="83160" cy="7956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7" name=""/>
                  <p:cNvSpPr/>
                  <p:nvPr/>
                </p:nvSpPr>
                <p:spPr>
                  <a:xfrm>
                    <a:off x="2611440" y="5181480"/>
                    <a:ext cx="80280" cy="828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8" name=""/>
                  <p:cNvSpPr/>
                  <p:nvPr/>
                </p:nvSpPr>
                <p:spPr>
                  <a:xfrm>
                    <a:off x="2689200" y="5234040"/>
                    <a:ext cx="78840" cy="810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9" name=""/>
                  <p:cNvSpPr/>
                  <p:nvPr/>
                </p:nvSpPr>
                <p:spPr>
                  <a:xfrm>
                    <a:off x="2762640" y="5267160"/>
                    <a:ext cx="83160" cy="810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>
                    <a:off x="2900880" y="5318280"/>
                    <a:ext cx="78840" cy="792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1" name=""/>
                  <p:cNvSpPr/>
                  <p:nvPr/>
                </p:nvSpPr>
                <p:spPr>
                  <a:xfrm>
                    <a:off x="2975760" y="5335560"/>
                    <a:ext cx="81720" cy="7956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2" name=""/>
                  <p:cNvSpPr/>
                  <p:nvPr/>
                </p:nvSpPr>
                <p:spPr>
                  <a:xfrm>
                    <a:off x="3050640" y="5367240"/>
                    <a:ext cx="83160" cy="810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>
                    <a:off x="3126600" y="5367240"/>
                    <a:ext cx="80280" cy="810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4" name=""/>
                  <p:cNvSpPr/>
                  <p:nvPr/>
                </p:nvSpPr>
                <p:spPr>
                  <a:xfrm>
                    <a:off x="3202920" y="5400720"/>
                    <a:ext cx="81720" cy="810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5" name=""/>
                  <p:cNvSpPr/>
                  <p:nvPr/>
                </p:nvSpPr>
                <p:spPr>
                  <a:xfrm>
                    <a:off x="3263760" y="5419800"/>
                    <a:ext cx="80280" cy="7776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6" name=""/>
                  <p:cNvSpPr/>
                  <p:nvPr/>
                </p:nvSpPr>
                <p:spPr>
                  <a:xfrm>
                    <a:off x="3338280" y="5435640"/>
                    <a:ext cx="78840" cy="810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>
                    <a:off x="3445560" y="5470560"/>
                    <a:ext cx="78480" cy="792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8" name=""/>
                  <p:cNvSpPr/>
                  <p:nvPr/>
                </p:nvSpPr>
                <p:spPr>
                  <a:xfrm>
                    <a:off x="3594960" y="5504040"/>
                    <a:ext cx="81720" cy="792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9" name=""/>
                  <p:cNvSpPr/>
                  <p:nvPr/>
                </p:nvSpPr>
                <p:spPr>
                  <a:xfrm>
                    <a:off x="3737520" y="5537160"/>
                    <a:ext cx="71640" cy="7956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0" name=""/>
                  <p:cNvSpPr/>
                  <p:nvPr/>
                </p:nvSpPr>
                <p:spPr>
                  <a:xfrm>
                    <a:off x="3882960" y="5553000"/>
                    <a:ext cx="80280" cy="810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1" name=""/>
                  <p:cNvSpPr/>
                  <p:nvPr/>
                </p:nvSpPr>
                <p:spPr>
                  <a:xfrm>
                    <a:off x="4032360" y="5586480"/>
                    <a:ext cx="83160" cy="810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2" name=""/>
                  <p:cNvSpPr/>
                  <p:nvPr/>
                </p:nvSpPr>
                <p:spPr>
                  <a:xfrm>
                    <a:off x="4170600" y="5605560"/>
                    <a:ext cx="80280" cy="7776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3" name=""/>
                  <p:cNvSpPr/>
                  <p:nvPr/>
                </p:nvSpPr>
                <p:spPr>
                  <a:xfrm>
                    <a:off x="4320360" y="5637240"/>
                    <a:ext cx="83160" cy="792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4" name=""/>
                  <p:cNvSpPr/>
                  <p:nvPr/>
                </p:nvSpPr>
                <p:spPr>
                  <a:xfrm>
                    <a:off x="4458600" y="5654520"/>
                    <a:ext cx="78840" cy="810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5" name=""/>
                  <p:cNvSpPr/>
                  <p:nvPr/>
                </p:nvSpPr>
                <p:spPr>
                  <a:xfrm>
                    <a:off x="4608000" y="5672160"/>
                    <a:ext cx="83160" cy="792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6" name=""/>
                  <p:cNvSpPr/>
                  <p:nvPr/>
                </p:nvSpPr>
                <p:spPr>
                  <a:xfrm>
                    <a:off x="4746240" y="5689440"/>
                    <a:ext cx="78840" cy="7956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7" name=""/>
                  <p:cNvSpPr/>
                  <p:nvPr/>
                </p:nvSpPr>
                <p:spPr>
                  <a:xfrm>
                    <a:off x="4896000" y="5689440"/>
                    <a:ext cx="81720" cy="7956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8" name=""/>
                  <p:cNvSpPr/>
                  <p:nvPr/>
                </p:nvSpPr>
                <p:spPr>
                  <a:xfrm>
                    <a:off x="5048280" y="5705640"/>
                    <a:ext cx="81720" cy="80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9" name=""/>
                  <p:cNvSpPr/>
                  <p:nvPr/>
                </p:nvSpPr>
                <p:spPr>
                  <a:xfrm>
                    <a:off x="5183640" y="5722920"/>
                    <a:ext cx="81720" cy="8100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cc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0" name=""/>
                <p:cNvSpPr/>
                <p:nvPr/>
              </p:nvSpPr>
              <p:spPr>
                <a:xfrm>
                  <a:off x="1757520" y="3833640"/>
                  <a:ext cx="93600" cy="103320"/>
                </a:xfrm>
                <a:custGeom>
                  <a:avLst/>
                  <a:gdLst/>
                  <a:ahLst/>
                  <a:rect l="l" t="t" r="r" b="b"/>
                  <a:pathLst>
                    <a:path w="66" h="65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65" y="64"/>
                      </a:lnTo>
                      <a:lnTo>
                        <a:pt x="0" y="64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1833480" y="3513240"/>
                  <a:ext cx="90720" cy="102960"/>
                </a:xfrm>
                <a:custGeom>
                  <a:avLst/>
                  <a:gdLst/>
                  <a:ahLst/>
                  <a:rect l="l" t="t" r="r" b="b"/>
                  <a:pathLst>
                    <a:path w="64" h="65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63" y="64"/>
                      </a:lnTo>
                      <a:lnTo>
                        <a:pt x="0" y="64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1893960" y="3430440"/>
                  <a:ext cx="90360" cy="103320"/>
                </a:xfrm>
                <a:custGeom>
                  <a:avLst/>
                  <a:gdLst/>
                  <a:ahLst/>
                  <a:rect l="l" t="t" r="r" b="b"/>
                  <a:pathLst>
                    <a:path w="65" h="65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64" y="64"/>
                      </a:lnTo>
                      <a:lnTo>
                        <a:pt x="0" y="64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1969920" y="3564000"/>
                  <a:ext cx="92160" cy="102960"/>
                </a:xfrm>
                <a:custGeom>
                  <a:avLst/>
                  <a:gdLst/>
                  <a:ahLst/>
                  <a:rect l="l" t="t" r="r" b="b"/>
                  <a:pathLst>
                    <a:path w="66" h="65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65" y="64"/>
                      </a:lnTo>
                      <a:lnTo>
                        <a:pt x="0" y="64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2046240" y="3683160"/>
                  <a:ext cx="90360" cy="102960"/>
                </a:xfrm>
                <a:custGeom>
                  <a:avLst/>
                  <a:gdLst/>
                  <a:ahLst/>
                  <a:rect l="l" t="t" r="r" b="b"/>
                  <a:pathLst>
                    <a:path w="65" h="65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64" y="64"/>
                      </a:lnTo>
                      <a:lnTo>
                        <a:pt x="0" y="64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2120760" y="3986280"/>
                  <a:ext cx="92160" cy="101520"/>
                </a:xfrm>
                <a:custGeom>
                  <a:avLst/>
                  <a:gdLst/>
                  <a:ahLst/>
                  <a:rect l="l" t="t" r="r" b="b"/>
                  <a:pathLst>
                    <a:path w="65" h="64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64" y="63"/>
                      </a:lnTo>
                      <a:lnTo>
                        <a:pt x="0" y="63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cap="rnd" w="12600">
                  <a:solidFill>
                    <a:srgbClr val="00ae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6" name=""/>
                <p:cNvGrpSpPr/>
                <p:nvPr/>
              </p:nvGrpSpPr>
              <p:grpSpPr>
                <a:xfrm>
                  <a:off x="707400" y="6039000"/>
                  <a:ext cx="4749120" cy="363240"/>
                  <a:chOff x="707400" y="6039000"/>
                  <a:chExt cx="4749120" cy="363240"/>
                </a:xfrm>
              </p:grpSpPr>
              <p:sp>
                <p:nvSpPr>
                  <p:cNvPr id="2697" name=""/>
                  <p:cNvSpPr/>
                  <p:nvPr/>
                </p:nvSpPr>
                <p:spPr>
                  <a:xfrm>
                    <a:off x="707400" y="6039000"/>
                    <a:ext cx="31860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Trebuchet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8" name=""/>
                  <p:cNvSpPr/>
                  <p:nvPr/>
                </p:nvSpPr>
                <p:spPr>
                  <a:xfrm>
                    <a:off x="1376640" y="6039000"/>
                    <a:ext cx="45576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Trebuchet MS"/>
                      </a:rPr>
                      <a:t>1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9" name=""/>
                  <p:cNvSpPr/>
                  <p:nvPr/>
                </p:nvSpPr>
                <p:spPr>
                  <a:xfrm>
                    <a:off x="2099160" y="6039000"/>
                    <a:ext cx="45576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Trebuchet MS"/>
                      </a:rPr>
                      <a:t>2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0" name=""/>
                  <p:cNvSpPr/>
                  <p:nvPr/>
                </p:nvSpPr>
                <p:spPr>
                  <a:xfrm>
                    <a:off x="2831760" y="6039000"/>
                    <a:ext cx="45576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Trebuchet MS"/>
                      </a:rPr>
                      <a:t>3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1" name=""/>
                  <p:cNvSpPr/>
                  <p:nvPr/>
                </p:nvSpPr>
                <p:spPr>
                  <a:xfrm>
                    <a:off x="3556440" y="6039000"/>
                    <a:ext cx="45576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Trebuchet MS"/>
                      </a:rPr>
                      <a:t>4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2" name=""/>
                  <p:cNvSpPr/>
                  <p:nvPr/>
                </p:nvSpPr>
                <p:spPr>
                  <a:xfrm>
                    <a:off x="4278600" y="6039000"/>
                    <a:ext cx="45576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Trebuchet MS"/>
                      </a:rPr>
                      <a:t>5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3" name=""/>
                  <p:cNvSpPr/>
                  <p:nvPr/>
                </p:nvSpPr>
                <p:spPr>
                  <a:xfrm>
                    <a:off x="5000760" y="6039000"/>
                    <a:ext cx="45576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Trebuchet MS"/>
                      </a:rPr>
                      <a:t>6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4" name=""/>
                <p:cNvGrpSpPr/>
                <p:nvPr/>
              </p:nvGrpSpPr>
              <p:grpSpPr>
                <a:xfrm>
                  <a:off x="425880" y="2982960"/>
                  <a:ext cx="592920" cy="3171600"/>
                  <a:chOff x="425880" y="2982960"/>
                  <a:chExt cx="592920" cy="3171600"/>
                </a:xfrm>
              </p:grpSpPr>
              <p:sp>
                <p:nvSpPr>
                  <p:cNvPr id="2705" name=""/>
                  <p:cNvSpPr/>
                  <p:nvPr/>
                </p:nvSpPr>
                <p:spPr>
                  <a:xfrm>
                    <a:off x="613800" y="5791320"/>
                    <a:ext cx="31860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Trebuchet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6" name=""/>
                  <p:cNvSpPr/>
                  <p:nvPr/>
                </p:nvSpPr>
                <p:spPr>
                  <a:xfrm>
                    <a:off x="425880" y="5095800"/>
                    <a:ext cx="5929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Trebuchet MS"/>
                      </a:rPr>
                      <a:t>0.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7" name=""/>
                  <p:cNvSpPr/>
                  <p:nvPr/>
                </p:nvSpPr>
                <p:spPr>
                  <a:xfrm>
                    <a:off x="425880" y="4386240"/>
                    <a:ext cx="5929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Trebuchet MS"/>
                      </a:rPr>
                      <a:t>0.2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8" name=""/>
                  <p:cNvSpPr/>
                  <p:nvPr/>
                </p:nvSpPr>
                <p:spPr>
                  <a:xfrm>
                    <a:off x="425880" y="3691080"/>
                    <a:ext cx="5929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Trebuchet MS"/>
                      </a:rPr>
                      <a:t>0.3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9" name=""/>
                  <p:cNvSpPr/>
                  <p:nvPr/>
                </p:nvSpPr>
                <p:spPr>
                  <a:xfrm>
                    <a:off x="425880" y="2982960"/>
                    <a:ext cx="5929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Trebuchet MS"/>
                      </a:rPr>
                      <a:t>0.4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0" name=""/>
                <p:cNvSpPr/>
                <p:nvPr/>
              </p:nvSpPr>
              <p:spPr>
                <a:xfrm flipV="1">
                  <a:off x="5229360" y="5860800"/>
                  <a:ext cx="0" cy="824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2558520" y="6381720"/>
                  <a:ext cx="1035000" cy="33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rebuchet MS"/>
                    </a:rPr>
                    <a:t>Time, 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 rot="16200000">
                  <a:off x="-1252080" y="4369320"/>
                  <a:ext cx="3125520" cy="33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rebuchet MS"/>
                    </a:rPr>
                    <a:t>Fractional recovery, ml</a:t>
                  </a:r>
                  <a:r>
                    <a:rPr b="1" lang="en-US" sz="1600" spc="-1" strike="noStrike" baseline="30000">
                      <a:solidFill>
                        <a:srgbClr val="ffffff"/>
                      </a:solidFill>
                      <a:latin typeface="Trebuchet MS"/>
                    </a:rPr>
                    <a:t>–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3" name=""/>
              <p:cNvSpPr/>
              <p:nvPr/>
            </p:nvSpPr>
            <p:spPr>
              <a:xfrm>
                <a:off x="249120" y="2265480"/>
                <a:ext cx="383904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rebuchet MS"/>
                  </a:rPr>
                  <a:t>Salicylamide sulf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rebuchet MS"/>
                  </a:rPr>
                  <a:t>PS = 1.8 ml min</a:t>
                </a:r>
                <a:r>
                  <a:rPr b="0" lang="en-US" sz="1800" spc="-1" strike="noStrike" baseline="30000">
                    <a:solidFill>
                      <a:srgbClr val="ffff00"/>
                    </a:solidFill>
                    <a:latin typeface="Trebuchet MS"/>
                  </a:rPr>
                  <a:t>–1 </a:t>
                </a:r>
                <a:r>
                  <a:rPr b="0" lang="en-US" sz="1800" spc="-1" strike="noStrike">
                    <a:solidFill>
                      <a:srgbClr val="ffff00"/>
                    </a:solidFill>
                    <a:latin typeface="Trebuchet MS"/>
                  </a:rPr>
                  <a:t>g</a:t>
                </a:r>
                <a:r>
                  <a:rPr b="0" lang="en-US" sz="1800" spc="-1" strike="noStrike" baseline="30000">
                    <a:solidFill>
                      <a:srgbClr val="ffff00"/>
                    </a:solidFill>
                    <a:latin typeface="Trebuchet MS"/>
                  </a:rPr>
                  <a:t>–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Barrier-limited Transport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715" name=""/>
          <p:cNvSpPr/>
          <p:nvPr/>
        </p:nvSpPr>
        <p:spPr>
          <a:xfrm>
            <a:off x="5318280" y="4979880"/>
            <a:ext cx="330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5575320" y="6273720"/>
            <a:ext cx="3568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Xu X; Schwab A J; Barker F; Goresky C A; Pang K</a:t>
            </a: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.S. </a:t>
            </a:r>
            <a:r>
              <a:rPr b="0" i="1" lang="en-US" sz="1100" spc="-1" strike="noStrike">
                <a:solidFill>
                  <a:srgbClr val="ffffff"/>
                </a:solidFill>
                <a:latin typeface="Times New Roman"/>
              </a:rPr>
              <a:t>Hepatology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 19:229-44, 1994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5575320" y="5181480"/>
            <a:ext cx="35686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Goresky CA, Pang KS, Schwab AJ, Barker F 3rd, Cherry WF, Bach GG. </a:t>
            </a:r>
            <a:r>
              <a:rPr b="0" i="1" lang="en-US" sz="1100" spc="-1" strike="noStrike">
                <a:solidFill>
                  <a:srgbClr val="ffffff"/>
                </a:solidFill>
                <a:latin typeface="Times New Roman"/>
              </a:rPr>
              <a:t>Hepatology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. 16:173-90, 1992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2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2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19" name=""/>
          <p:cNvGrpSpPr/>
          <p:nvPr/>
        </p:nvGrpSpPr>
        <p:grpSpPr>
          <a:xfrm>
            <a:off x="4927680" y="2286000"/>
            <a:ext cx="3809880" cy="4292640"/>
            <a:chOff x="4927680" y="2286000"/>
            <a:chExt cx="3809880" cy="4292640"/>
          </a:xfrm>
        </p:grpSpPr>
        <p:sp>
          <p:nvSpPr>
            <p:cNvPr id="2720" name=""/>
            <p:cNvSpPr/>
            <p:nvPr/>
          </p:nvSpPr>
          <p:spPr>
            <a:xfrm>
              <a:off x="4940280" y="3619440"/>
              <a:ext cx="3797280" cy="295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927680" y="2286000"/>
              <a:ext cx="1981080" cy="152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7" dur="5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" descr=""/>
          <p:cNvPicPr/>
          <p:nvPr/>
        </p:nvPicPr>
        <p:blipFill>
          <a:blip r:embed="rId1"/>
          <a:stretch/>
        </p:blipFill>
        <p:spPr>
          <a:xfrm>
            <a:off x="-272880" y="0"/>
            <a:ext cx="9416880" cy="7062840"/>
          </a:xfrm>
          <a:prstGeom prst="rect">
            <a:avLst/>
          </a:prstGeom>
          <a:ln w="0">
            <a:noFill/>
          </a:ln>
        </p:spPr>
      </p:pic>
      <p:sp>
        <p:nvSpPr>
          <p:cNvPr id="2723" name=""/>
          <p:cNvSpPr/>
          <p:nvPr/>
        </p:nvSpPr>
        <p:spPr>
          <a:xfrm>
            <a:off x="0" y="3975120"/>
            <a:ext cx="6197760" cy="264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4" dur="500"/>
                                        <p:tgtEl>
                                          <p:spTgt spid="2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rebuchet MS"/>
              </a:rPr>
              <a:t>Hepatic Outflow Profiles of ET-1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pic>
        <p:nvPicPr>
          <p:cNvPr id="2725" name="" descr=""/>
          <p:cNvPicPr/>
          <p:nvPr/>
        </p:nvPicPr>
        <p:blipFill>
          <a:blip r:embed="rId1"/>
          <a:stretch/>
        </p:blipFill>
        <p:spPr>
          <a:xfrm>
            <a:off x="214200" y="1782720"/>
            <a:ext cx="8607600" cy="3429000"/>
          </a:xfrm>
          <a:prstGeom prst="rect">
            <a:avLst/>
          </a:prstGeom>
          <a:ln w="0">
            <a:noFill/>
          </a:ln>
        </p:spPr>
      </p:pic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685800" y="5360760"/>
            <a:ext cx="77724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rebuchet MS"/>
              </a:rPr>
              <a:t>A, control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284400" indent="-284400">
              <a:spcBef>
                <a:spcPts val="451"/>
              </a:spcBef>
              <a:buClr>
                <a:srgbClr val="3333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rebuchet MS"/>
              </a:rPr>
              <a:t>B, after administration of the nonspecific receptor antagonis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7" name=""/>
          <p:cNvSpPr/>
          <p:nvPr/>
        </p:nvSpPr>
        <p:spPr>
          <a:xfrm>
            <a:off x="1190520" y="6008760"/>
            <a:ext cx="638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1282680" y="6222960"/>
            <a:ext cx="6807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upuis J, Schwab AJ, Simard A, Cernacek P, Stewart DJ, Goresky CA.Am J Physiol. 277:G905-914, 1999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9" name="" descr=""/>
          <p:cNvPicPr/>
          <p:nvPr/>
        </p:nvPicPr>
        <p:blipFill>
          <a:blip r:embed="rId1"/>
          <a:stretch/>
        </p:blipFill>
        <p:spPr>
          <a:xfrm>
            <a:off x="2795760" y="1638360"/>
            <a:ext cx="4079880" cy="4683240"/>
          </a:xfrm>
          <a:prstGeom prst="rect">
            <a:avLst/>
          </a:prstGeom>
          <a:ln w="0">
            <a:noFill/>
          </a:ln>
        </p:spPr>
      </p:pic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rebuchet MS"/>
              </a:rPr>
              <a:t>Model for Hepatic ET-1 Binding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pic>
        <p:nvPicPr>
          <p:cNvPr id="2732" name="" descr=""/>
          <p:cNvPicPr/>
          <p:nvPr/>
        </p:nvPicPr>
        <p:blipFill>
          <a:blip r:embed="rId1"/>
          <a:stretch/>
        </p:blipFill>
        <p:spPr>
          <a:xfrm>
            <a:off x="504720" y="398520"/>
            <a:ext cx="7783560" cy="59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rebuchet MS"/>
              </a:rPr>
              <a:t>Multiple Indicator Dilution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rebuchet MS"/>
              </a:rPr>
              <a:t>Dog liver </a:t>
            </a:r>
            <a:r>
              <a:rPr b="1" i="1" lang="en-US" sz="3600" spc="-1" strike="noStrike">
                <a:solidFill>
                  <a:srgbClr val="3333cc"/>
                </a:solidFill>
                <a:latin typeface="Trebuchet MS"/>
              </a:rPr>
              <a:t>in vivo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486080" y="3460680"/>
            <a:ext cx="4622760" cy="2965680"/>
            <a:chOff x="1486080" y="3460680"/>
            <a:chExt cx="4622760" cy="296568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486080" y="3460680"/>
              <a:ext cx="4622760" cy="28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898800" y="5918040"/>
              <a:ext cx="914400" cy="5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492360" y="1914480"/>
            <a:ext cx="5852520" cy="4255200"/>
            <a:chOff x="3492360" y="1914480"/>
            <a:chExt cx="5852520" cy="4255200"/>
          </a:xfrm>
        </p:grpSpPr>
        <p:grpSp>
          <p:nvGrpSpPr>
            <p:cNvPr id="139" name=""/>
            <p:cNvGrpSpPr/>
            <p:nvPr/>
          </p:nvGrpSpPr>
          <p:grpSpPr>
            <a:xfrm>
              <a:off x="5871600" y="4254480"/>
              <a:ext cx="3473280" cy="1915200"/>
              <a:chOff x="5871600" y="4254480"/>
              <a:chExt cx="3473280" cy="1915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02400" y="5635440"/>
                <a:ext cx="188604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871600" y="5715000"/>
                <a:ext cx="34732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rebuchet MS"/>
                  </a:rPr>
                  <a:t>Fraction collecto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72240" y="4335480"/>
                <a:ext cx="177840" cy="865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796160" y="4335480"/>
                <a:ext cx="181080" cy="865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23320" y="4335480"/>
                <a:ext cx="182520" cy="865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247240" y="4335480"/>
                <a:ext cx="180720" cy="865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657840" y="5230800"/>
                <a:ext cx="181080" cy="176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880320" y="5230800"/>
                <a:ext cx="182520" cy="176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108920" y="5230800"/>
                <a:ext cx="180720" cy="176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335720" y="5230800"/>
                <a:ext cx="177840" cy="1760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566120" y="5230800"/>
                <a:ext cx="177840" cy="176040"/>
              </a:xfrm>
              <a:prstGeom prst="ellipse">
                <a:avLst/>
              </a:prstGeom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90040" y="5230800"/>
                <a:ext cx="180720" cy="176040"/>
              </a:xfrm>
              <a:prstGeom prst="ellipse">
                <a:avLst/>
              </a:prstGeom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016840" y="5230800"/>
                <a:ext cx="182520" cy="176040"/>
              </a:xfrm>
              <a:prstGeom prst="ellipse">
                <a:avLst/>
              </a:prstGeom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240760" y="5230800"/>
                <a:ext cx="181080" cy="176040"/>
              </a:xfrm>
              <a:prstGeom prst="ellipse">
                <a:avLst/>
              </a:prstGeom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572240" y="4843440"/>
                <a:ext cx="177840" cy="474480"/>
              </a:xfrm>
              <a:prstGeom prst="rect">
                <a:avLst/>
              </a:prstGeom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796160" y="4506840"/>
                <a:ext cx="181080" cy="811080"/>
              </a:xfrm>
              <a:prstGeom prst="rect">
                <a:avLst/>
              </a:prstGeom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023320" y="4506840"/>
                <a:ext cx="182520" cy="811080"/>
              </a:xfrm>
              <a:prstGeom prst="rect">
                <a:avLst/>
              </a:prstGeom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47240" y="4506840"/>
                <a:ext cx="180720" cy="811080"/>
              </a:xfrm>
              <a:prstGeom prst="rect">
                <a:avLst/>
              </a:prstGeom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570800" y="4803840"/>
                <a:ext cx="179280" cy="74520"/>
              </a:xfrm>
              <a:prstGeom prst="ellipse">
                <a:avLst/>
              </a:prstGeom>
              <a:gradFill rotWithShape="0">
                <a:gsLst>
                  <a:gs pos="0">
                    <a:srgbClr val="4b2829"/>
                  </a:gs>
                  <a:gs pos="50000">
                    <a:srgbClr val="ff878d"/>
                  </a:gs>
                  <a:gs pos="100000">
                    <a:srgbClr val="4b28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799400" y="4465440"/>
                <a:ext cx="179280" cy="74880"/>
              </a:xfrm>
              <a:prstGeom prst="ellipse">
                <a:avLst/>
              </a:prstGeom>
              <a:gradFill rotWithShape="0">
                <a:gsLst>
                  <a:gs pos="0">
                    <a:srgbClr val="4b2829"/>
                  </a:gs>
                  <a:gs pos="50000">
                    <a:srgbClr val="ff878d"/>
                  </a:gs>
                  <a:gs pos="100000">
                    <a:srgbClr val="4b28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021520" y="4465440"/>
                <a:ext cx="181080" cy="74880"/>
              </a:xfrm>
              <a:prstGeom prst="ellipse">
                <a:avLst/>
              </a:prstGeom>
              <a:gradFill rotWithShape="0">
                <a:gsLst>
                  <a:gs pos="0">
                    <a:srgbClr val="4b2829"/>
                  </a:gs>
                  <a:gs pos="50000">
                    <a:srgbClr val="ff878d"/>
                  </a:gs>
                  <a:gs pos="100000">
                    <a:srgbClr val="4b28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244000" y="4465440"/>
                <a:ext cx="180720" cy="74880"/>
              </a:xfrm>
              <a:prstGeom prst="ellipse">
                <a:avLst/>
              </a:prstGeom>
              <a:gradFill rotWithShape="0">
                <a:gsLst>
                  <a:gs pos="0">
                    <a:srgbClr val="4b2829"/>
                  </a:gs>
                  <a:gs pos="50000">
                    <a:srgbClr val="ff878d"/>
                  </a:gs>
                  <a:gs pos="100000">
                    <a:srgbClr val="4b28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799400" y="4295520"/>
                <a:ext cx="17928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021520" y="4295520"/>
                <a:ext cx="18108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44000" y="4295520"/>
                <a:ext cx="18072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572240" y="4295520"/>
                <a:ext cx="18108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892920" y="4327560"/>
                <a:ext cx="18108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5040" y="4327560"/>
                <a:ext cx="18108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38960" y="4327560"/>
                <a:ext cx="18108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67560" y="4327560"/>
                <a:ext cx="18108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631280" y="4254480"/>
                <a:ext cx="60120" cy="82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631280" y="4492440"/>
                <a:ext cx="60120" cy="828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631280" y="4752720"/>
                <a:ext cx="60120" cy="828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664320" y="4335480"/>
                <a:ext cx="181080" cy="9856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86440" y="4335480"/>
                <a:ext cx="182880" cy="9856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15040" y="4335480"/>
                <a:ext cx="181080" cy="9856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342200" y="4335480"/>
                <a:ext cx="177840" cy="9856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91480" y="4295520"/>
                <a:ext cx="17928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113600" y="4295520"/>
                <a:ext cx="18108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335720" y="4295520"/>
                <a:ext cx="18108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664320" y="4295520"/>
                <a:ext cx="181080" cy="74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492360" y="2730240"/>
              <a:ext cx="4197600" cy="1638360"/>
            </a:xfrm>
            <a:custGeom>
              <a:avLst/>
              <a:gdLst/>
              <a:ahLst/>
              <a:rect l="l" t="t" r="r" b="b"/>
              <a:pathLst>
                <a:path w="2644" h="1032">
                  <a:moveTo>
                    <a:pt x="0" y="1032"/>
                  </a:moveTo>
                  <a:cubicBezTo>
                    <a:pt x="52" y="895"/>
                    <a:pt x="128" y="377"/>
                    <a:pt x="304" y="208"/>
                  </a:cubicBezTo>
                  <a:cubicBezTo>
                    <a:pt x="480" y="39"/>
                    <a:pt x="769" y="32"/>
                    <a:pt x="1056" y="16"/>
                  </a:cubicBezTo>
                  <a:cubicBezTo>
                    <a:pt x="1343" y="0"/>
                    <a:pt x="1776" y="48"/>
                    <a:pt x="2024" y="112"/>
                  </a:cubicBezTo>
                  <a:cubicBezTo>
                    <a:pt x="2272" y="176"/>
                    <a:pt x="2444" y="285"/>
                    <a:pt x="2544" y="400"/>
                  </a:cubicBezTo>
                  <a:cubicBezTo>
                    <a:pt x="2644" y="515"/>
                    <a:pt x="2607" y="717"/>
                    <a:pt x="2624" y="8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94480" y="1914480"/>
              <a:ext cx="3449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rebuchet MS"/>
                </a:rPr>
                <a:t>Collection of samples from the hepatic ve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7040" y="1941480"/>
            <a:ext cx="3235320" cy="2859120"/>
            <a:chOff x="527040" y="1941480"/>
            <a:chExt cx="3235320" cy="2859120"/>
          </a:xfrm>
        </p:grpSpPr>
        <p:grpSp>
          <p:nvGrpSpPr>
            <p:cNvPr id="184" name=""/>
            <p:cNvGrpSpPr/>
            <p:nvPr/>
          </p:nvGrpSpPr>
          <p:grpSpPr>
            <a:xfrm>
              <a:off x="615960" y="3049560"/>
              <a:ext cx="1066680" cy="171360"/>
              <a:chOff x="615960" y="3049560"/>
              <a:chExt cx="1066680" cy="171360"/>
            </a:xfrm>
          </p:grpSpPr>
          <p:sp>
            <p:nvSpPr>
              <p:cNvPr id="185" name=""/>
              <p:cNvSpPr/>
              <p:nvPr/>
            </p:nvSpPr>
            <p:spPr>
              <a:xfrm rot="16200000">
                <a:off x="1177920" y="2716200"/>
                <a:ext cx="171360" cy="838080"/>
              </a:xfrm>
              <a:custGeom>
                <a:avLst/>
                <a:gdLst/>
                <a:ahLst/>
                <a:rect l="l" t="t" r="r" b="b"/>
                <a:pathLst>
                  <a:path w="144" h="528">
                    <a:moveTo>
                      <a:pt x="0" y="0"/>
                    </a:moveTo>
                    <a:lnTo>
                      <a:pt x="0" y="432"/>
                    </a:lnTo>
                    <a:lnTo>
                      <a:pt x="48" y="480"/>
                    </a:lnTo>
                    <a:lnTo>
                      <a:pt x="48" y="528"/>
                    </a:lnTo>
                    <a:lnTo>
                      <a:pt x="96" y="528"/>
                    </a:lnTo>
                    <a:lnTo>
                      <a:pt x="96" y="480"/>
                    </a:lnTo>
                    <a:lnTo>
                      <a:pt x="144" y="432"/>
                    </a:lnTo>
                    <a:lnTo>
                      <a:pt x="1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200000">
                <a:off x="1349280" y="2887560"/>
                <a:ext cx="171360" cy="495000"/>
              </a:xfrm>
              <a:custGeom>
                <a:avLst/>
                <a:gdLst/>
                <a:ahLst/>
                <a:rect l="l" t="t" r="r" b="b"/>
                <a:pathLst>
                  <a:path w="144" h="312">
                    <a:moveTo>
                      <a:pt x="0" y="0"/>
                    </a:moveTo>
                    <a:lnTo>
                      <a:pt x="0" y="216"/>
                    </a:lnTo>
                    <a:lnTo>
                      <a:pt x="48" y="264"/>
                    </a:lnTo>
                    <a:lnTo>
                      <a:pt x="48" y="312"/>
                    </a:lnTo>
                    <a:lnTo>
                      <a:pt x="96" y="312"/>
                    </a:lnTo>
                    <a:lnTo>
                      <a:pt x="96" y="264"/>
                    </a:lnTo>
                    <a:lnTo>
                      <a:pt x="144" y="216"/>
                    </a:lnTo>
                    <a:lnTo>
                      <a:pt x="1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9c9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200000">
                <a:off x="834840" y="2830320"/>
                <a:ext cx="171360" cy="609480"/>
              </a:xfrm>
              <a:custGeom>
                <a:avLst/>
                <a:gdLst/>
                <a:ahLst/>
                <a:rect l="l" t="t" r="r" b="b"/>
                <a:pathLst>
                  <a:path w="144" h="384">
                    <a:moveTo>
                      <a:pt x="0" y="0"/>
                    </a:moveTo>
                    <a:lnTo>
                      <a:pt x="144" y="0"/>
                    </a:lnTo>
                    <a:lnTo>
                      <a:pt x="144" y="48"/>
                    </a:lnTo>
                    <a:lnTo>
                      <a:pt x="96" y="48"/>
                    </a:lnTo>
                    <a:lnTo>
                      <a:pt x="96" y="336"/>
                    </a:lnTo>
                    <a:lnTo>
                      <a:pt x="144" y="336"/>
                    </a:lnTo>
                    <a:lnTo>
                      <a:pt x="144" y="384"/>
                    </a:lnTo>
                    <a:lnTo>
                      <a:pt x="0" y="384"/>
                    </a:lnTo>
                    <a:lnTo>
                      <a:pt x="0" y="336"/>
                    </a:lnTo>
                    <a:lnTo>
                      <a:pt x="48" y="336"/>
                    </a:lnTo>
                    <a:lnTo>
                      <a:pt x="48" y="48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4fb4"/>
              </a:solidFill>
              <a:ln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676520" y="3112920"/>
              <a:ext cx="1701720" cy="1687680"/>
            </a:xfrm>
            <a:custGeom>
              <a:avLst/>
              <a:gdLst/>
              <a:ahLst/>
              <a:rect l="l" t="t" r="r" b="b"/>
              <a:pathLst>
                <a:path w="1072" h="1063">
                  <a:moveTo>
                    <a:pt x="0" y="23"/>
                  </a:moveTo>
                  <a:cubicBezTo>
                    <a:pt x="67" y="27"/>
                    <a:pt x="253" y="0"/>
                    <a:pt x="400" y="47"/>
                  </a:cubicBezTo>
                  <a:cubicBezTo>
                    <a:pt x="547" y="94"/>
                    <a:pt x="768" y="134"/>
                    <a:pt x="880" y="303"/>
                  </a:cubicBezTo>
                  <a:cubicBezTo>
                    <a:pt x="992" y="472"/>
                    <a:pt x="1032" y="905"/>
                    <a:pt x="1072" y="1063"/>
                  </a:cubicBezTo>
                </a:path>
              </a:pathLst>
            </a:custGeom>
            <a:noFill/>
            <a:ln w="57240">
              <a:solidFill>
                <a:srgbClr val="ff79c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7040" y="1941480"/>
              <a:ext cx="323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rebuchet MS"/>
                </a:rPr>
                <a:t>Injection of tracers into the portal ve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Metabolism of Benzoate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grpSp>
        <p:nvGrpSpPr>
          <p:cNvPr id="2734" name=""/>
          <p:cNvGrpSpPr/>
          <p:nvPr/>
        </p:nvGrpSpPr>
        <p:grpSpPr>
          <a:xfrm>
            <a:off x="1212840" y="1771560"/>
            <a:ext cx="6408720" cy="2019960"/>
            <a:chOff x="1212840" y="1771560"/>
            <a:chExt cx="6408720" cy="2019960"/>
          </a:xfrm>
        </p:grpSpPr>
        <p:grpSp>
          <p:nvGrpSpPr>
            <p:cNvPr id="2735" name=""/>
            <p:cNvGrpSpPr/>
            <p:nvPr/>
          </p:nvGrpSpPr>
          <p:grpSpPr>
            <a:xfrm>
              <a:off x="1606680" y="1943280"/>
              <a:ext cx="888120" cy="1252080"/>
              <a:chOff x="1606680" y="1943280"/>
              <a:chExt cx="888120" cy="1252080"/>
            </a:xfrm>
          </p:grpSpPr>
          <p:sp>
            <p:nvSpPr>
              <p:cNvPr id="2736" name=""/>
              <p:cNvSpPr/>
              <p:nvPr/>
            </p:nvSpPr>
            <p:spPr>
              <a:xfrm>
                <a:off x="1665000" y="2701080"/>
                <a:ext cx="1800" cy="329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1719720" y="2733840"/>
                <a:ext cx="2520" cy="263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1665000" y="3030480"/>
                <a:ext cx="627120" cy="164880"/>
              </a:xfrm>
              <a:custGeom>
                <a:avLst/>
                <a:gdLst/>
                <a:ahLst/>
                <a:rect l="l" t="t" r="r" b="b"/>
                <a:pathLst>
                  <a:path w="272" h="80">
                    <a:moveTo>
                      <a:pt x="0" y="0"/>
                    </a:moveTo>
                    <a:lnTo>
                      <a:pt x="136" y="80"/>
                    </a:lnTo>
                    <a:lnTo>
                      <a:pt x="272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V="1">
                <a:off x="1978200" y="2997360"/>
                <a:ext cx="240120" cy="1314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1978200" y="2536200"/>
                <a:ext cx="313560" cy="493920"/>
              </a:xfrm>
              <a:custGeom>
                <a:avLst/>
                <a:gdLst/>
                <a:ahLst/>
                <a:rect l="l" t="t" r="r" b="b"/>
                <a:pathLst>
                  <a:path w="136" h="240">
                    <a:moveTo>
                      <a:pt x="136" y="240"/>
                    </a:moveTo>
                    <a:lnTo>
                      <a:pt x="136" y="8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 flipH="1" flipV="1">
                <a:off x="1977840" y="2601720"/>
                <a:ext cx="240120" cy="1314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>
                <a:off x="1665000" y="2536200"/>
                <a:ext cx="313200" cy="164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 flipV="1">
                <a:off x="1978200" y="2206440"/>
                <a:ext cx="2520" cy="329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2234160" y="19843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2403000" y="1943280"/>
                <a:ext cx="91800" cy="18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 flipV="1">
                <a:off x="1978200" y="2091240"/>
                <a:ext cx="202680" cy="1152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1606680" y="19843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 flipH="1" flipV="1">
                <a:off x="1793880" y="2074680"/>
                <a:ext cx="202680" cy="1152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 flipV="1">
                <a:off x="1756440" y="2124360"/>
                <a:ext cx="202680" cy="1152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50" name=""/>
            <p:cNvSpPr/>
            <p:nvPr/>
          </p:nvSpPr>
          <p:spPr>
            <a:xfrm>
              <a:off x="3401640" y="243216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CoAS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51" name=""/>
            <p:cNvGrpSpPr/>
            <p:nvPr/>
          </p:nvGrpSpPr>
          <p:grpSpPr>
            <a:xfrm>
              <a:off x="4460760" y="2544840"/>
              <a:ext cx="507960" cy="50760"/>
              <a:chOff x="4460760" y="2544840"/>
              <a:chExt cx="507960" cy="50760"/>
            </a:xfrm>
          </p:grpSpPr>
          <p:sp>
            <p:nvSpPr>
              <p:cNvPr id="2752" name=""/>
              <p:cNvSpPr/>
              <p:nvPr/>
            </p:nvSpPr>
            <p:spPr>
              <a:xfrm>
                <a:off x="4460760" y="2570040"/>
                <a:ext cx="507960" cy="18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4794120" y="2544840"/>
                <a:ext cx="101880" cy="50760"/>
              </a:xfrm>
              <a:custGeom>
                <a:avLst/>
                <a:gdLst/>
                <a:ahLst/>
                <a:rect l="l" t="t" r="r" b="b"/>
                <a:pathLst>
                  <a:path w="64" h="32">
                    <a:moveTo>
                      <a:pt x="0" y="16"/>
                    </a:moveTo>
                    <a:lnTo>
                      <a:pt x="24" y="16"/>
                    </a:lnTo>
                    <a:lnTo>
                      <a:pt x="0" y="0"/>
                    </a:lnTo>
                    <a:lnTo>
                      <a:pt x="64" y="16"/>
                    </a:lnTo>
                    <a:lnTo>
                      <a:pt x="0" y="32"/>
                    </a:lnTo>
                    <a:lnTo>
                      <a:pt x="24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5367600" y="1771560"/>
              <a:ext cx="980280" cy="1595520"/>
              <a:chOff x="5367600" y="1771560"/>
              <a:chExt cx="980280" cy="1595520"/>
            </a:xfrm>
          </p:grpSpPr>
          <p:sp>
            <p:nvSpPr>
              <p:cNvPr id="2755" name=""/>
              <p:cNvSpPr/>
              <p:nvPr/>
            </p:nvSpPr>
            <p:spPr>
              <a:xfrm>
                <a:off x="5425920" y="2871720"/>
                <a:ext cx="1080" cy="330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5481360" y="2905200"/>
                <a:ext cx="1080" cy="247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5425920" y="3201840"/>
                <a:ext cx="626760" cy="165240"/>
              </a:xfrm>
              <a:custGeom>
                <a:avLst/>
                <a:gdLst/>
                <a:ahLst/>
                <a:rect l="l" t="t" r="r" b="b"/>
                <a:pathLst>
                  <a:path w="272" h="80">
                    <a:moveTo>
                      <a:pt x="0" y="0"/>
                    </a:moveTo>
                    <a:lnTo>
                      <a:pt x="136" y="80"/>
                    </a:lnTo>
                    <a:lnTo>
                      <a:pt x="272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 flipV="1">
                <a:off x="5738400" y="3168720"/>
                <a:ext cx="241200" cy="1159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5738400" y="2708280"/>
                <a:ext cx="314280" cy="493560"/>
              </a:xfrm>
              <a:custGeom>
                <a:avLst/>
                <a:gdLst/>
                <a:ahLst/>
                <a:rect l="l" t="t" r="r" b="b"/>
                <a:pathLst>
                  <a:path w="136" h="240">
                    <a:moveTo>
                      <a:pt x="136" y="240"/>
                    </a:moveTo>
                    <a:lnTo>
                      <a:pt x="136" y="8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H="1" flipV="1">
                <a:off x="5738400" y="2773440"/>
                <a:ext cx="241200" cy="131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 flipH="1">
                <a:off x="5425560" y="2708280"/>
                <a:ext cx="312120" cy="163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V="1">
                <a:off x="5738400" y="2377800"/>
                <a:ext cx="2880" cy="330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5977080" y="21556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V="1">
                <a:off x="5738400" y="2262240"/>
                <a:ext cx="222120" cy="1159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5367600" y="215568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 flipH="1" flipV="1">
                <a:off x="5536800" y="2246400"/>
                <a:ext cx="220320" cy="1159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5517720" y="2295360"/>
                <a:ext cx="202680" cy="115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5981400" y="1771560"/>
                <a:ext cx="366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Co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V="1">
                <a:off x="6053040" y="1982880"/>
                <a:ext cx="2520" cy="147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0" name=""/>
            <p:cNvSpPr/>
            <p:nvPr/>
          </p:nvSpPr>
          <p:spPr>
            <a:xfrm>
              <a:off x="7267320" y="2432160"/>
              <a:ext cx="35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OH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Trebuchet MS"/>
                </a:rPr>
                <a:t>–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2875680" y="2409840"/>
              <a:ext cx="160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rebuchet MS"/>
                </a:rPr>
                <a:t>+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6722280" y="2409840"/>
              <a:ext cx="160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rebuchet MS"/>
                </a:rPr>
                <a:t>+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212840" y="339264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Benzoa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829240" y="339264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Coenzyme 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926960" y="339264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BenzoylCo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6" name=""/>
          <p:cNvGrpSpPr/>
          <p:nvPr/>
        </p:nvGrpSpPr>
        <p:grpSpPr>
          <a:xfrm>
            <a:off x="659880" y="3865680"/>
            <a:ext cx="7564680" cy="2553120"/>
            <a:chOff x="659880" y="3865680"/>
            <a:chExt cx="7564680" cy="2553120"/>
          </a:xfrm>
        </p:grpSpPr>
        <p:grpSp>
          <p:nvGrpSpPr>
            <p:cNvPr id="2777" name=""/>
            <p:cNvGrpSpPr/>
            <p:nvPr/>
          </p:nvGrpSpPr>
          <p:grpSpPr>
            <a:xfrm>
              <a:off x="1073520" y="4038480"/>
              <a:ext cx="991440" cy="1658880"/>
              <a:chOff x="1073520" y="4038480"/>
              <a:chExt cx="991440" cy="1658880"/>
            </a:xfrm>
          </p:grpSpPr>
          <p:sp>
            <p:nvSpPr>
              <p:cNvPr id="2778" name=""/>
              <p:cNvSpPr/>
              <p:nvPr/>
            </p:nvSpPr>
            <p:spPr>
              <a:xfrm>
                <a:off x="1131480" y="5202000"/>
                <a:ext cx="1800" cy="3304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1187280" y="5235480"/>
                <a:ext cx="1440" cy="2635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1131480" y="5532480"/>
                <a:ext cx="627120" cy="164880"/>
              </a:xfrm>
              <a:custGeom>
                <a:avLst/>
                <a:gdLst/>
                <a:ahLst/>
                <a:rect l="l" t="t" r="r" b="b"/>
                <a:pathLst>
                  <a:path w="272" h="80">
                    <a:moveTo>
                      <a:pt x="0" y="0"/>
                    </a:moveTo>
                    <a:lnTo>
                      <a:pt x="136" y="80"/>
                    </a:lnTo>
                    <a:lnTo>
                      <a:pt x="272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 flipV="1">
                <a:off x="1444320" y="5499000"/>
                <a:ext cx="241200" cy="1159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1444320" y="5038560"/>
                <a:ext cx="314280" cy="493920"/>
              </a:xfrm>
              <a:custGeom>
                <a:avLst/>
                <a:gdLst/>
                <a:ahLst/>
                <a:rect l="l" t="t" r="r" b="b"/>
                <a:pathLst>
                  <a:path w="136" h="240">
                    <a:moveTo>
                      <a:pt x="136" y="240"/>
                    </a:moveTo>
                    <a:lnTo>
                      <a:pt x="136" y="8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 flipH="1" flipV="1">
                <a:off x="1444320" y="5103720"/>
                <a:ext cx="241200" cy="131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1131120" y="5038560"/>
                <a:ext cx="312840" cy="163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1444320" y="4708080"/>
                <a:ext cx="3240" cy="330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1683000" y="44863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 flipV="1">
                <a:off x="1444320" y="4592520"/>
                <a:ext cx="222120" cy="1159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1073520" y="44863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 flipH="1" flipV="1">
                <a:off x="1242360" y="4576680"/>
                <a:ext cx="220680" cy="1159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 flipH="1" flipV="1">
                <a:off x="1223280" y="4626000"/>
                <a:ext cx="203400" cy="1159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1698480" y="4038480"/>
                <a:ext cx="366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Co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flipV="1">
                <a:off x="1758600" y="4313160"/>
                <a:ext cx="3240" cy="147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3" name=""/>
            <p:cNvGrpSpPr/>
            <p:nvPr/>
          </p:nvGrpSpPr>
          <p:grpSpPr>
            <a:xfrm>
              <a:off x="2658960" y="4137120"/>
              <a:ext cx="1122840" cy="1434240"/>
              <a:chOff x="2658960" y="4137120"/>
              <a:chExt cx="1122840" cy="1434240"/>
            </a:xfrm>
          </p:grpSpPr>
          <p:sp>
            <p:nvSpPr>
              <p:cNvPr id="2794" name=""/>
              <p:cNvSpPr/>
              <p:nvPr/>
            </p:nvSpPr>
            <p:spPr>
              <a:xfrm>
                <a:off x="2658960" y="4137120"/>
                <a:ext cx="15228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3304440" y="5029200"/>
                <a:ext cx="10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rebuchet MS"/>
                  </a:rPr>
                  <a:t>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2993400" y="4221000"/>
                <a:ext cx="10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rebuchet MS"/>
                  </a:rPr>
                  <a:t>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3052800" y="4608360"/>
                <a:ext cx="312480" cy="395280"/>
              </a:xfrm>
              <a:custGeom>
                <a:avLst/>
                <a:gdLst/>
                <a:ahLst/>
                <a:rect l="l" t="t" r="r" b="b"/>
                <a:pathLst>
                  <a:path w="136" h="192">
                    <a:moveTo>
                      <a:pt x="136" y="192"/>
                    </a:moveTo>
                    <a:lnTo>
                      <a:pt x="136" y="8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flipV="1">
                <a:off x="3089160" y="4377960"/>
                <a:ext cx="1440" cy="230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 flipV="1">
                <a:off x="3014640" y="4377960"/>
                <a:ext cx="3240" cy="230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2669400" y="4714920"/>
                <a:ext cx="169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30000">
                    <a:solidFill>
                      <a:srgbClr val="ffffff"/>
                    </a:solidFill>
                    <a:latin typeface="Trebuchet MS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rebuchet MS"/>
                  </a:rPr>
                  <a:t>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H="1">
                <a:off x="2859120" y="4608360"/>
                <a:ext cx="193680" cy="1159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3306240" y="5357880"/>
                <a:ext cx="10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rebuchet MS"/>
                  </a:rPr>
                  <a:t>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3365280" y="5202360"/>
                <a:ext cx="3240" cy="131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3674520" y="5029200"/>
                <a:ext cx="10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rebuchet MS"/>
                  </a:rPr>
                  <a:t>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3457440" y="5102280"/>
                <a:ext cx="185760" cy="3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2936160" y="5029200"/>
                <a:ext cx="10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rebuchet MS"/>
                  </a:rPr>
                  <a:t>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 flipH="1">
                <a:off x="3106440" y="5102280"/>
                <a:ext cx="166680" cy="32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8" name=""/>
            <p:cNvGrpSpPr/>
            <p:nvPr/>
          </p:nvGrpSpPr>
          <p:grpSpPr>
            <a:xfrm>
              <a:off x="4016520" y="4870440"/>
              <a:ext cx="507960" cy="50760"/>
              <a:chOff x="4016520" y="4870440"/>
              <a:chExt cx="507960" cy="50760"/>
            </a:xfrm>
          </p:grpSpPr>
          <p:sp>
            <p:nvSpPr>
              <p:cNvPr id="2809" name=""/>
              <p:cNvSpPr/>
              <p:nvPr/>
            </p:nvSpPr>
            <p:spPr>
              <a:xfrm>
                <a:off x="4016520" y="4896000"/>
                <a:ext cx="40644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422960" y="4870440"/>
                <a:ext cx="101520" cy="50760"/>
              </a:xfrm>
              <a:custGeom>
                <a:avLst/>
                <a:gdLst/>
                <a:ahLst/>
                <a:rect l="l" t="t" r="r" b="b"/>
                <a:pathLst>
                  <a:path w="64" h="32">
                    <a:moveTo>
                      <a:pt x="0" y="16"/>
                    </a:moveTo>
                    <a:lnTo>
                      <a:pt x="16" y="16"/>
                    </a:lnTo>
                    <a:lnTo>
                      <a:pt x="0" y="0"/>
                    </a:lnTo>
                    <a:lnTo>
                      <a:pt x="64" y="16"/>
                    </a:lnTo>
                    <a:lnTo>
                      <a:pt x="0" y="32"/>
                    </a:lnTo>
                    <a:lnTo>
                      <a:pt x="16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11" name=""/>
            <p:cNvGrpSpPr/>
            <p:nvPr/>
          </p:nvGrpSpPr>
          <p:grpSpPr>
            <a:xfrm>
              <a:off x="4761000" y="3865680"/>
              <a:ext cx="1378440" cy="2059560"/>
              <a:chOff x="4761000" y="3865680"/>
              <a:chExt cx="1378440" cy="2059560"/>
            </a:xfrm>
          </p:grpSpPr>
          <p:sp>
            <p:nvSpPr>
              <p:cNvPr id="2812" name=""/>
              <p:cNvSpPr/>
              <p:nvPr/>
            </p:nvSpPr>
            <p:spPr>
              <a:xfrm>
                <a:off x="5386320" y="473076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6016680" y="440100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5446800" y="4294080"/>
                <a:ext cx="313920" cy="395640"/>
              </a:xfrm>
              <a:custGeom>
                <a:avLst/>
                <a:gdLst/>
                <a:ahLst/>
                <a:rect l="l" t="t" r="r" b="b"/>
                <a:pathLst>
                  <a:path w="136" h="192">
                    <a:moveTo>
                      <a:pt x="0" y="192"/>
                    </a:moveTo>
                    <a:lnTo>
                      <a:pt x="0" y="80"/>
                    </a:lnTo>
                    <a:lnTo>
                      <a:pt x="136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5742720" y="4327200"/>
                <a:ext cx="221400" cy="98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779440" y="4277520"/>
                <a:ext cx="203040" cy="98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5702760" y="390672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5871960" y="3865680"/>
                <a:ext cx="91800" cy="18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flipV="1">
                <a:off x="5761080" y="4062960"/>
                <a:ext cx="1800" cy="230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700240" y="489600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5539680" y="4838040"/>
                <a:ext cx="128520" cy="658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4819320" y="5447520"/>
                <a:ext cx="1800" cy="3132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874760" y="5481000"/>
                <a:ext cx="1800" cy="2469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4819320" y="5761080"/>
                <a:ext cx="627480" cy="164160"/>
              </a:xfrm>
              <a:custGeom>
                <a:avLst/>
                <a:gdLst/>
                <a:ahLst/>
                <a:rect l="l" t="t" r="r" b="b"/>
                <a:pathLst>
                  <a:path w="272" h="80">
                    <a:moveTo>
                      <a:pt x="0" y="0"/>
                    </a:moveTo>
                    <a:lnTo>
                      <a:pt x="136" y="80"/>
                    </a:lnTo>
                    <a:lnTo>
                      <a:pt x="272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 flipV="1">
                <a:off x="5132880" y="5744520"/>
                <a:ext cx="240120" cy="1152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5132880" y="5283360"/>
                <a:ext cx="313920" cy="477720"/>
              </a:xfrm>
              <a:custGeom>
                <a:avLst/>
                <a:gdLst/>
                <a:ahLst/>
                <a:rect l="l" t="t" r="r" b="b"/>
                <a:pathLst>
                  <a:path w="136" h="232">
                    <a:moveTo>
                      <a:pt x="136" y="232"/>
                    </a:moveTo>
                    <a:lnTo>
                      <a:pt x="136" y="80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H="1" flipV="1">
                <a:off x="5132520" y="5349240"/>
                <a:ext cx="240120" cy="1152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 flipH="1">
                <a:off x="4818960" y="5283360"/>
                <a:ext cx="313560" cy="1641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V="1">
                <a:off x="5132880" y="4953240"/>
                <a:ext cx="2520" cy="329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4761000" y="4730760"/>
                <a:ext cx="122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rebuchet MS"/>
                  </a:rPr>
                  <a:t>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 flipH="1" flipV="1">
                <a:off x="4929840" y="4821480"/>
                <a:ext cx="221760" cy="1152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 flipH="1" flipV="1">
                <a:off x="4911480" y="4871160"/>
                <a:ext cx="203040" cy="1152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H="1">
                <a:off x="5132880" y="4838040"/>
                <a:ext cx="221760" cy="1152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34" name=""/>
            <p:cNvSpPr/>
            <p:nvPr/>
          </p:nvSpPr>
          <p:spPr>
            <a:xfrm>
              <a:off x="8007480" y="472428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H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Trebuchet MS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278800" y="4735440"/>
              <a:ext cx="160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rebuchet MS"/>
                </a:rPr>
                <a:t>+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6366600" y="4735440"/>
              <a:ext cx="160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rebuchet MS"/>
                </a:rPr>
                <a:t>+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619040" y="4735440"/>
              <a:ext cx="160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rebuchet MS"/>
                </a:rPr>
                <a:t>+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659880" y="601992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BenzoylCo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2642040" y="60199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Gluc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682520" y="601992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Hippura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730560" y="475920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CoAS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2" name=""/>
          <p:cNvGrpSpPr/>
          <p:nvPr/>
        </p:nvGrpSpPr>
        <p:grpSpPr>
          <a:xfrm>
            <a:off x="5936760" y="1103400"/>
            <a:ext cx="2864880" cy="2608560"/>
            <a:chOff x="5936760" y="1103400"/>
            <a:chExt cx="2864880" cy="2608560"/>
          </a:xfrm>
        </p:grpSpPr>
        <p:sp>
          <p:nvSpPr>
            <p:cNvPr id="2843" name=""/>
            <p:cNvSpPr/>
            <p:nvPr/>
          </p:nvSpPr>
          <p:spPr>
            <a:xfrm>
              <a:off x="6235560" y="2671920"/>
              <a:ext cx="2463840" cy="698400"/>
            </a:xfrm>
            <a:custGeom>
              <a:avLst/>
              <a:gdLst/>
              <a:ahLst/>
              <a:rect l="l" t="t" r="r" b="b"/>
              <a:pathLst>
                <a:path w="1552" h="440">
                  <a:moveTo>
                    <a:pt x="0" y="440"/>
                  </a:moveTo>
                  <a:lnTo>
                    <a:pt x="8" y="432"/>
                  </a:lnTo>
                  <a:lnTo>
                    <a:pt x="16" y="424"/>
                  </a:lnTo>
                  <a:lnTo>
                    <a:pt x="24" y="408"/>
                  </a:lnTo>
                  <a:lnTo>
                    <a:pt x="32" y="400"/>
                  </a:lnTo>
                  <a:lnTo>
                    <a:pt x="48" y="384"/>
                  </a:lnTo>
                  <a:lnTo>
                    <a:pt x="56" y="368"/>
                  </a:lnTo>
                  <a:lnTo>
                    <a:pt x="64" y="352"/>
                  </a:lnTo>
                  <a:lnTo>
                    <a:pt x="80" y="328"/>
                  </a:lnTo>
                  <a:lnTo>
                    <a:pt x="88" y="312"/>
                  </a:lnTo>
                  <a:lnTo>
                    <a:pt x="96" y="296"/>
                  </a:lnTo>
                  <a:lnTo>
                    <a:pt x="112" y="280"/>
                  </a:lnTo>
                  <a:lnTo>
                    <a:pt x="120" y="264"/>
                  </a:lnTo>
                  <a:lnTo>
                    <a:pt x="128" y="240"/>
                  </a:lnTo>
                  <a:lnTo>
                    <a:pt x="136" y="224"/>
                  </a:lnTo>
                  <a:lnTo>
                    <a:pt x="152" y="208"/>
                  </a:lnTo>
                  <a:lnTo>
                    <a:pt x="160" y="192"/>
                  </a:lnTo>
                  <a:lnTo>
                    <a:pt x="168" y="184"/>
                  </a:lnTo>
                  <a:lnTo>
                    <a:pt x="176" y="168"/>
                  </a:lnTo>
                  <a:lnTo>
                    <a:pt x="176" y="160"/>
                  </a:lnTo>
                  <a:lnTo>
                    <a:pt x="184" y="152"/>
                  </a:lnTo>
                  <a:lnTo>
                    <a:pt x="192" y="144"/>
                  </a:lnTo>
                  <a:lnTo>
                    <a:pt x="192" y="136"/>
                  </a:lnTo>
                  <a:lnTo>
                    <a:pt x="200" y="128"/>
                  </a:lnTo>
                  <a:lnTo>
                    <a:pt x="208" y="120"/>
                  </a:lnTo>
                  <a:lnTo>
                    <a:pt x="216" y="112"/>
                  </a:lnTo>
                  <a:lnTo>
                    <a:pt x="224" y="96"/>
                  </a:lnTo>
                  <a:lnTo>
                    <a:pt x="232" y="88"/>
                  </a:lnTo>
                  <a:lnTo>
                    <a:pt x="248" y="80"/>
                  </a:lnTo>
                  <a:lnTo>
                    <a:pt x="256" y="64"/>
                  </a:lnTo>
                  <a:lnTo>
                    <a:pt x="264" y="56"/>
                  </a:lnTo>
                  <a:lnTo>
                    <a:pt x="272" y="48"/>
                  </a:lnTo>
                  <a:lnTo>
                    <a:pt x="288" y="40"/>
                  </a:lnTo>
                  <a:lnTo>
                    <a:pt x="296" y="32"/>
                  </a:lnTo>
                  <a:lnTo>
                    <a:pt x="312" y="24"/>
                  </a:lnTo>
                  <a:lnTo>
                    <a:pt x="320" y="16"/>
                  </a:lnTo>
                  <a:lnTo>
                    <a:pt x="328" y="8"/>
                  </a:lnTo>
                  <a:lnTo>
                    <a:pt x="344" y="8"/>
                  </a:lnTo>
                  <a:lnTo>
                    <a:pt x="352" y="0"/>
                  </a:lnTo>
                  <a:lnTo>
                    <a:pt x="368" y="0"/>
                  </a:lnTo>
                  <a:lnTo>
                    <a:pt x="376" y="0"/>
                  </a:lnTo>
                  <a:lnTo>
                    <a:pt x="392" y="0"/>
                  </a:lnTo>
                  <a:lnTo>
                    <a:pt x="408" y="0"/>
                  </a:lnTo>
                  <a:lnTo>
                    <a:pt x="424" y="8"/>
                  </a:lnTo>
                  <a:lnTo>
                    <a:pt x="440" y="8"/>
                  </a:lnTo>
                  <a:lnTo>
                    <a:pt x="456" y="16"/>
                  </a:lnTo>
                  <a:lnTo>
                    <a:pt x="464" y="16"/>
                  </a:lnTo>
                  <a:lnTo>
                    <a:pt x="480" y="24"/>
                  </a:lnTo>
                  <a:lnTo>
                    <a:pt x="496" y="32"/>
                  </a:lnTo>
                  <a:lnTo>
                    <a:pt x="512" y="40"/>
                  </a:lnTo>
                  <a:lnTo>
                    <a:pt x="520" y="48"/>
                  </a:lnTo>
                  <a:lnTo>
                    <a:pt x="536" y="56"/>
                  </a:lnTo>
                  <a:lnTo>
                    <a:pt x="544" y="64"/>
                  </a:lnTo>
                  <a:lnTo>
                    <a:pt x="560" y="72"/>
                  </a:lnTo>
                  <a:lnTo>
                    <a:pt x="568" y="80"/>
                  </a:lnTo>
                  <a:lnTo>
                    <a:pt x="584" y="88"/>
                  </a:lnTo>
                  <a:lnTo>
                    <a:pt x="600" y="96"/>
                  </a:lnTo>
                  <a:lnTo>
                    <a:pt x="608" y="104"/>
                  </a:lnTo>
                  <a:lnTo>
                    <a:pt x="624" y="112"/>
                  </a:lnTo>
                  <a:lnTo>
                    <a:pt x="632" y="120"/>
                  </a:lnTo>
                  <a:lnTo>
                    <a:pt x="648" y="128"/>
                  </a:lnTo>
                  <a:lnTo>
                    <a:pt x="664" y="136"/>
                  </a:lnTo>
                  <a:lnTo>
                    <a:pt x="672" y="144"/>
                  </a:lnTo>
                  <a:lnTo>
                    <a:pt x="688" y="152"/>
                  </a:lnTo>
                  <a:lnTo>
                    <a:pt x="704" y="160"/>
                  </a:lnTo>
                  <a:lnTo>
                    <a:pt x="712" y="168"/>
                  </a:lnTo>
                  <a:lnTo>
                    <a:pt x="728" y="176"/>
                  </a:lnTo>
                  <a:lnTo>
                    <a:pt x="744" y="184"/>
                  </a:lnTo>
                  <a:lnTo>
                    <a:pt x="760" y="184"/>
                  </a:lnTo>
                  <a:lnTo>
                    <a:pt x="776" y="192"/>
                  </a:lnTo>
                  <a:lnTo>
                    <a:pt x="792" y="200"/>
                  </a:lnTo>
                  <a:lnTo>
                    <a:pt x="808" y="208"/>
                  </a:lnTo>
                  <a:lnTo>
                    <a:pt x="824" y="216"/>
                  </a:lnTo>
                  <a:lnTo>
                    <a:pt x="840" y="224"/>
                  </a:lnTo>
                  <a:lnTo>
                    <a:pt x="856" y="232"/>
                  </a:lnTo>
                  <a:lnTo>
                    <a:pt x="872" y="240"/>
                  </a:lnTo>
                  <a:lnTo>
                    <a:pt x="888" y="248"/>
                  </a:lnTo>
                  <a:lnTo>
                    <a:pt x="904" y="256"/>
                  </a:lnTo>
                  <a:lnTo>
                    <a:pt x="920" y="256"/>
                  </a:lnTo>
                  <a:lnTo>
                    <a:pt x="944" y="264"/>
                  </a:lnTo>
                  <a:lnTo>
                    <a:pt x="960" y="272"/>
                  </a:lnTo>
                  <a:lnTo>
                    <a:pt x="992" y="280"/>
                  </a:lnTo>
                  <a:lnTo>
                    <a:pt x="1032" y="296"/>
                  </a:lnTo>
                  <a:lnTo>
                    <a:pt x="1064" y="304"/>
                  </a:lnTo>
                  <a:lnTo>
                    <a:pt x="1104" y="312"/>
                  </a:lnTo>
                  <a:lnTo>
                    <a:pt x="1144" y="320"/>
                  </a:lnTo>
                  <a:lnTo>
                    <a:pt x="1184" y="328"/>
                  </a:lnTo>
                  <a:lnTo>
                    <a:pt x="1224" y="336"/>
                  </a:lnTo>
                  <a:lnTo>
                    <a:pt x="1264" y="344"/>
                  </a:lnTo>
                  <a:lnTo>
                    <a:pt x="1296" y="352"/>
                  </a:lnTo>
                  <a:lnTo>
                    <a:pt x="1336" y="360"/>
                  </a:lnTo>
                  <a:lnTo>
                    <a:pt x="1376" y="368"/>
                  </a:lnTo>
                  <a:lnTo>
                    <a:pt x="1408" y="368"/>
                  </a:lnTo>
                  <a:lnTo>
                    <a:pt x="1440" y="376"/>
                  </a:lnTo>
                  <a:lnTo>
                    <a:pt x="1464" y="376"/>
                  </a:lnTo>
                  <a:lnTo>
                    <a:pt x="1488" y="384"/>
                  </a:lnTo>
                  <a:lnTo>
                    <a:pt x="1512" y="384"/>
                  </a:lnTo>
                  <a:lnTo>
                    <a:pt x="1528" y="392"/>
                  </a:lnTo>
                  <a:lnTo>
                    <a:pt x="1544" y="392"/>
                  </a:lnTo>
                  <a:lnTo>
                    <a:pt x="1552" y="39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6210360" y="2570040"/>
              <a:ext cx="2502000" cy="800280"/>
            </a:xfrm>
            <a:custGeom>
              <a:avLst/>
              <a:gdLst/>
              <a:ahLst/>
              <a:rect l="l" t="t" r="r" b="b"/>
              <a:pathLst>
                <a:path w="1576" h="504">
                  <a:moveTo>
                    <a:pt x="0" y="504"/>
                  </a:moveTo>
                  <a:lnTo>
                    <a:pt x="0" y="496"/>
                  </a:lnTo>
                  <a:lnTo>
                    <a:pt x="8" y="488"/>
                  </a:lnTo>
                  <a:lnTo>
                    <a:pt x="8" y="472"/>
                  </a:lnTo>
                  <a:lnTo>
                    <a:pt x="16" y="456"/>
                  </a:lnTo>
                  <a:lnTo>
                    <a:pt x="24" y="440"/>
                  </a:lnTo>
                  <a:lnTo>
                    <a:pt x="32" y="424"/>
                  </a:lnTo>
                  <a:lnTo>
                    <a:pt x="40" y="400"/>
                  </a:lnTo>
                  <a:lnTo>
                    <a:pt x="48" y="384"/>
                  </a:lnTo>
                  <a:lnTo>
                    <a:pt x="56" y="360"/>
                  </a:lnTo>
                  <a:lnTo>
                    <a:pt x="64" y="336"/>
                  </a:lnTo>
                  <a:lnTo>
                    <a:pt x="72" y="312"/>
                  </a:lnTo>
                  <a:lnTo>
                    <a:pt x="80" y="296"/>
                  </a:lnTo>
                  <a:lnTo>
                    <a:pt x="88" y="272"/>
                  </a:lnTo>
                  <a:lnTo>
                    <a:pt x="96" y="248"/>
                  </a:lnTo>
                  <a:lnTo>
                    <a:pt x="104" y="232"/>
                  </a:lnTo>
                  <a:lnTo>
                    <a:pt x="112" y="208"/>
                  </a:lnTo>
                  <a:lnTo>
                    <a:pt x="120" y="192"/>
                  </a:lnTo>
                  <a:lnTo>
                    <a:pt x="128" y="176"/>
                  </a:lnTo>
                  <a:lnTo>
                    <a:pt x="128" y="160"/>
                  </a:lnTo>
                  <a:lnTo>
                    <a:pt x="136" y="152"/>
                  </a:lnTo>
                  <a:lnTo>
                    <a:pt x="136" y="144"/>
                  </a:lnTo>
                  <a:lnTo>
                    <a:pt x="144" y="136"/>
                  </a:lnTo>
                  <a:lnTo>
                    <a:pt x="144" y="120"/>
                  </a:lnTo>
                  <a:lnTo>
                    <a:pt x="152" y="112"/>
                  </a:lnTo>
                  <a:lnTo>
                    <a:pt x="160" y="104"/>
                  </a:lnTo>
                  <a:lnTo>
                    <a:pt x="160" y="96"/>
                  </a:lnTo>
                  <a:lnTo>
                    <a:pt x="168" y="80"/>
                  </a:lnTo>
                  <a:lnTo>
                    <a:pt x="176" y="72"/>
                  </a:lnTo>
                  <a:lnTo>
                    <a:pt x="176" y="64"/>
                  </a:lnTo>
                  <a:lnTo>
                    <a:pt x="184" y="56"/>
                  </a:lnTo>
                  <a:lnTo>
                    <a:pt x="192" y="48"/>
                  </a:lnTo>
                  <a:lnTo>
                    <a:pt x="200" y="40"/>
                  </a:lnTo>
                  <a:lnTo>
                    <a:pt x="208" y="32"/>
                  </a:lnTo>
                  <a:lnTo>
                    <a:pt x="216" y="24"/>
                  </a:lnTo>
                  <a:lnTo>
                    <a:pt x="224" y="16"/>
                  </a:lnTo>
                  <a:lnTo>
                    <a:pt x="232" y="16"/>
                  </a:lnTo>
                  <a:lnTo>
                    <a:pt x="240" y="8"/>
                  </a:lnTo>
                  <a:lnTo>
                    <a:pt x="248" y="8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80" y="0"/>
                  </a:lnTo>
                  <a:lnTo>
                    <a:pt x="288" y="0"/>
                  </a:lnTo>
                  <a:lnTo>
                    <a:pt x="304" y="0"/>
                  </a:lnTo>
                  <a:lnTo>
                    <a:pt x="312" y="8"/>
                  </a:lnTo>
                  <a:lnTo>
                    <a:pt x="328" y="16"/>
                  </a:lnTo>
                  <a:lnTo>
                    <a:pt x="344" y="24"/>
                  </a:lnTo>
                  <a:lnTo>
                    <a:pt x="360" y="32"/>
                  </a:lnTo>
                  <a:lnTo>
                    <a:pt x="368" y="40"/>
                  </a:lnTo>
                  <a:lnTo>
                    <a:pt x="384" y="48"/>
                  </a:lnTo>
                  <a:lnTo>
                    <a:pt x="400" y="56"/>
                  </a:lnTo>
                  <a:lnTo>
                    <a:pt x="416" y="64"/>
                  </a:lnTo>
                  <a:lnTo>
                    <a:pt x="424" y="80"/>
                  </a:lnTo>
                  <a:lnTo>
                    <a:pt x="440" y="88"/>
                  </a:lnTo>
                  <a:lnTo>
                    <a:pt x="456" y="96"/>
                  </a:lnTo>
                  <a:lnTo>
                    <a:pt x="464" y="112"/>
                  </a:lnTo>
                  <a:lnTo>
                    <a:pt x="480" y="120"/>
                  </a:lnTo>
                  <a:lnTo>
                    <a:pt x="496" y="128"/>
                  </a:lnTo>
                  <a:lnTo>
                    <a:pt x="504" y="144"/>
                  </a:lnTo>
                  <a:lnTo>
                    <a:pt x="520" y="152"/>
                  </a:lnTo>
                  <a:lnTo>
                    <a:pt x="528" y="160"/>
                  </a:lnTo>
                  <a:lnTo>
                    <a:pt x="536" y="168"/>
                  </a:lnTo>
                  <a:lnTo>
                    <a:pt x="552" y="176"/>
                  </a:lnTo>
                  <a:lnTo>
                    <a:pt x="568" y="192"/>
                  </a:lnTo>
                  <a:lnTo>
                    <a:pt x="576" y="200"/>
                  </a:lnTo>
                  <a:lnTo>
                    <a:pt x="592" y="208"/>
                  </a:lnTo>
                  <a:lnTo>
                    <a:pt x="608" y="224"/>
                  </a:lnTo>
                  <a:lnTo>
                    <a:pt x="624" y="232"/>
                  </a:lnTo>
                  <a:lnTo>
                    <a:pt x="640" y="240"/>
                  </a:lnTo>
                  <a:lnTo>
                    <a:pt x="656" y="248"/>
                  </a:lnTo>
                  <a:lnTo>
                    <a:pt x="680" y="264"/>
                  </a:lnTo>
                  <a:lnTo>
                    <a:pt x="696" y="272"/>
                  </a:lnTo>
                  <a:lnTo>
                    <a:pt x="712" y="280"/>
                  </a:lnTo>
                  <a:lnTo>
                    <a:pt x="728" y="288"/>
                  </a:lnTo>
                  <a:lnTo>
                    <a:pt x="752" y="296"/>
                  </a:lnTo>
                  <a:lnTo>
                    <a:pt x="768" y="304"/>
                  </a:lnTo>
                  <a:lnTo>
                    <a:pt x="784" y="312"/>
                  </a:lnTo>
                  <a:lnTo>
                    <a:pt x="800" y="320"/>
                  </a:lnTo>
                  <a:lnTo>
                    <a:pt x="824" y="328"/>
                  </a:lnTo>
                  <a:lnTo>
                    <a:pt x="840" y="336"/>
                  </a:lnTo>
                  <a:lnTo>
                    <a:pt x="856" y="344"/>
                  </a:lnTo>
                  <a:lnTo>
                    <a:pt x="872" y="352"/>
                  </a:lnTo>
                  <a:lnTo>
                    <a:pt x="888" y="352"/>
                  </a:lnTo>
                  <a:lnTo>
                    <a:pt x="912" y="360"/>
                  </a:lnTo>
                  <a:lnTo>
                    <a:pt x="928" y="368"/>
                  </a:lnTo>
                  <a:lnTo>
                    <a:pt x="944" y="376"/>
                  </a:lnTo>
                  <a:lnTo>
                    <a:pt x="960" y="376"/>
                  </a:lnTo>
                  <a:lnTo>
                    <a:pt x="984" y="384"/>
                  </a:lnTo>
                  <a:lnTo>
                    <a:pt x="1000" y="384"/>
                  </a:lnTo>
                  <a:lnTo>
                    <a:pt x="1016" y="392"/>
                  </a:lnTo>
                  <a:lnTo>
                    <a:pt x="1032" y="400"/>
                  </a:lnTo>
                  <a:lnTo>
                    <a:pt x="1048" y="400"/>
                  </a:lnTo>
                  <a:lnTo>
                    <a:pt x="1064" y="408"/>
                  </a:lnTo>
                  <a:lnTo>
                    <a:pt x="1080" y="408"/>
                  </a:lnTo>
                  <a:lnTo>
                    <a:pt x="1096" y="416"/>
                  </a:lnTo>
                  <a:lnTo>
                    <a:pt x="1112" y="416"/>
                  </a:lnTo>
                  <a:lnTo>
                    <a:pt x="1128" y="424"/>
                  </a:lnTo>
                  <a:lnTo>
                    <a:pt x="1144" y="424"/>
                  </a:lnTo>
                  <a:lnTo>
                    <a:pt x="1160" y="424"/>
                  </a:lnTo>
                  <a:lnTo>
                    <a:pt x="1176" y="432"/>
                  </a:lnTo>
                  <a:lnTo>
                    <a:pt x="1192" y="432"/>
                  </a:lnTo>
                  <a:lnTo>
                    <a:pt x="1208" y="432"/>
                  </a:lnTo>
                  <a:lnTo>
                    <a:pt x="1224" y="440"/>
                  </a:lnTo>
                  <a:lnTo>
                    <a:pt x="1248" y="440"/>
                  </a:lnTo>
                  <a:lnTo>
                    <a:pt x="1272" y="448"/>
                  </a:lnTo>
                  <a:lnTo>
                    <a:pt x="1296" y="448"/>
                  </a:lnTo>
                  <a:lnTo>
                    <a:pt x="1320" y="448"/>
                  </a:lnTo>
                  <a:lnTo>
                    <a:pt x="1344" y="456"/>
                  </a:lnTo>
                  <a:lnTo>
                    <a:pt x="1368" y="456"/>
                  </a:lnTo>
                  <a:lnTo>
                    <a:pt x="1392" y="456"/>
                  </a:lnTo>
                  <a:lnTo>
                    <a:pt x="1424" y="464"/>
                  </a:lnTo>
                  <a:lnTo>
                    <a:pt x="1448" y="464"/>
                  </a:lnTo>
                  <a:lnTo>
                    <a:pt x="1472" y="464"/>
                  </a:lnTo>
                  <a:lnTo>
                    <a:pt x="1488" y="464"/>
                  </a:lnTo>
                  <a:lnTo>
                    <a:pt x="1512" y="464"/>
                  </a:lnTo>
                  <a:lnTo>
                    <a:pt x="1528" y="472"/>
                  </a:lnTo>
                  <a:lnTo>
                    <a:pt x="1544" y="472"/>
                  </a:lnTo>
                  <a:lnTo>
                    <a:pt x="1560" y="472"/>
                  </a:lnTo>
                  <a:lnTo>
                    <a:pt x="1568" y="472"/>
                  </a:lnTo>
                  <a:lnTo>
                    <a:pt x="1576" y="472"/>
                  </a:lnTo>
                </a:path>
              </a:pathLst>
            </a:custGeom>
            <a:noFill/>
            <a:ln w="19080">
              <a:solidFill>
                <a:srgbClr val="fcf3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159600" y="2087640"/>
              <a:ext cx="2539800" cy="1282680"/>
            </a:xfrm>
            <a:custGeom>
              <a:avLst/>
              <a:gdLst/>
              <a:ahLst/>
              <a:rect l="l" t="t" r="r" b="b"/>
              <a:pathLst>
                <a:path w="1600" h="808">
                  <a:moveTo>
                    <a:pt x="0" y="808"/>
                  </a:moveTo>
                  <a:lnTo>
                    <a:pt x="0" y="792"/>
                  </a:lnTo>
                  <a:lnTo>
                    <a:pt x="8" y="776"/>
                  </a:lnTo>
                  <a:lnTo>
                    <a:pt x="8" y="760"/>
                  </a:lnTo>
                  <a:lnTo>
                    <a:pt x="16" y="736"/>
                  </a:lnTo>
                  <a:lnTo>
                    <a:pt x="16" y="712"/>
                  </a:lnTo>
                  <a:lnTo>
                    <a:pt x="24" y="680"/>
                  </a:lnTo>
                  <a:lnTo>
                    <a:pt x="32" y="656"/>
                  </a:lnTo>
                  <a:lnTo>
                    <a:pt x="32" y="624"/>
                  </a:lnTo>
                  <a:lnTo>
                    <a:pt x="40" y="592"/>
                  </a:lnTo>
                  <a:lnTo>
                    <a:pt x="48" y="560"/>
                  </a:lnTo>
                  <a:lnTo>
                    <a:pt x="48" y="528"/>
                  </a:lnTo>
                  <a:lnTo>
                    <a:pt x="56" y="496"/>
                  </a:lnTo>
                  <a:lnTo>
                    <a:pt x="56" y="464"/>
                  </a:lnTo>
                  <a:lnTo>
                    <a:pt x="64" y="440"/>
                  </a:lnTo>
                  <a:lnTo>
                    <a:pt x="72" y="408"/>
                  </a:lnTo>
                  <a:lnTo>
                    <a:pt x="72" y="384"/>
                  </a:lnTo>
                  <a:lnTo>
                    <a:pt x="80" y="360"/>
                  </a:lnTo>
                  <a:lnTo>
                    <a:pt x="80" y="336"/>
                  </a:lnTo>
                  <a:lnTo>
                    <a:pt x="88" y="312"/>
                  </a:lnTo>
                  <a:lnTo>
                    <a:pt x="88" y="296"/>
                  </a:lnTo>
                  <a:lnTo>
                    <a:pt x="88" y="280"/>
                  </a:lnTo>
                  <a:lnTo>
                    <a:pt x="88" y="264"/>
                  </a:lnTo>
                  <a:lnTo>
                    <a:pt x="96" y="240"/>
                  </a:lnTo>
                  <a:lnTo>
                    <a:pt x="96" y="224"/>
                  </a:lnTo>
                  <a:lnTo>
                    <a:pt x="104" y="200"/>
                  </a:lnTo>
                  <a:lnTo>
                    <a:pt x="104" y="184"/>
                  </a:lnTo>
                  <a:lnTo>
                    <a:pt x="112" y="160"/>
                  </a:lnTo>
                  <a:lnTo>
                    <a:pt x="120" y="144"/>
                  </a:lnTo>
                  <a:lnTo>
                    <a:pt x="120" y="128"/>
                  </a:lnTo>
                  <a:lnTo>
                    <a:pt x="128" y="104"/>
                  </a:lnTo>
                  <a:lnTo>
                    <a:pt x="136" y="88"/>
                  </a:lnTo>
                  <a:lnTo>
                    <a:pt x="136" y="72"/>
                  </a:lnTo>
                  <a:lnTo>
                    <a:pt x="144" y="56"/>
                  </a:lnTo>
                  <a:lnTo>
                    <a:pt x="152" y="40"/>
                  </a:lnTo>
                  <a:lnTo>
                    <a:pt x="160" y="32"/>
                  </a:lnTo>
                  <a:lnTo>
                    <a:pt x="160" y="24"/>
                  </a:lnTo>
                  <a:lnTo>
                    <a:pt x="168" y="8"/>
                  </a:lnTo>
                  <a:lnTo>
                    <a:pt x="176" y="8"/>
                  </a:lnTo>
                  <a:lnTo>
                    <a:pt x="176" y="0"/>
                  </a:lnTo>
                  <a:lnTo>
                    <a:pt x="184" y="0"/>
                  </a:lnTo>
                  <a:lnTo>
                    <a:pt x="192" y="0"/>
                  </a:lnTo>
                  <a:lnTo>
                    <a:pt x="200" y="8"/>
                  </a:lnTo>
                  <a:lnTo>
                    <a:pt x="216" y="16"/>
                  </a:lnTo>
                  <a:lnTo>
                    <a:pt x="224" y="24"/>
                  </a:lnTo>
                  <a:lnTo>
                    <a:pt x="232" y="40"/>
                  </a:lnTo>
                  <a:lnTo>
                    <a:pt x="240" y="48"/>
                  </a:lnTo>
                  <a:lnTo>
                    <a:pt x="256" y="64"/>
                  </a:lnTo>
                  <a:lnTo>
                    <a:pt x="264" y="80"/>
                  </a:lnTo>
                  <a:lnTo>
                    <a:pt x="272" y="104"/>
                  </a:lnTo>
                  <a:lnTo>
                    <a:pt x="280" y="120"/>
                  </a:lnTo>
                  <a:lnTo>
                    <a:pt x="288" y="136"/>
                  </a:lnTo>
                  <a:lnTo>
                    <a:pt x="296" y="160"/>
                  </a:lnTo>
                  <a:lnTo>
                    <a:pt x="304" y="176"/>
                  </a:lnTo>
                  <a:lnTo>
                    <a:pt x="312" y="200"/>
                  </a:lnTo>
                  <a:lnTo>
                    <a:pt x="320" y="216"/>
                  </a:lnTo>
                  <a:lnTo>
                    <a:pt x="328" y="232"/>
                  </a:lnTo>
                  <a:lnTo>
                    <a:pt x="336" y="248"/>
                  </a:lnTo>
                  <a:lnTo>
                    <a:pt x="344" y="264"/>
                  </a:lnTo>
                  <a:lnTo>
                    <a:pt x="344" y="280"/>
                  </a:lnTo>
                  <a:lnTo>
                    <a:pt x="352" y="288"/>
                  </a:lnTo>
                  <a:lnTo>
                    <a:pt x="360" y="296"/>
                  </a:lnTo>
                  <a:lnTo>
                    <a:pt x="368" y="312"/>
                  </a:lnTo>
                  <a:lnTo>
                    <a:pt x="376" y="328"/>
                  </a:lnTo>
                  <a:lnTo>
                    <a:pt x="384" y="344"/>
                  </a:lnTo>
                  <a:lnTo>
                    <a:pt x="392" y="360"/>
                  </a:lnTo>
                  <a:lnTo>
                    <a:pt x="400" y="376"/>
                  </a:lnTo>
                  <a:lnTo>
                    <a:pt x="416" y="392"/>
                  </a:lnTo>
                  <a:lnTo>
                    <a:pt x="424" y="408"/>
                  </a:lnTo>
                  <a:lnTo>
                    <a:pt x="440" y="424"/>
                  </a:lnTo>
                  <a:lnTo>
                    <a:pt x="448" y="448"/>
                  </a:lnTo>
                  <a:lnTo>
                    <a:pt x="464" y="464"/>
                  </a:lnTo>
                  <a:lnTo>
                    <a:pt x="480" y="480"/>
                  </a:lnTo>
                  <a:lnTo>
                    <a:pt x="488" y="496"/>
                  </a:lnTo>
                  <a:lnTo>
                    <a:pt x="504" y="512"/>
                  </a:lnTo>
                  <a:lnTo>
                    <a:pt x="520" y="528"/>
                  </a:lnTo>
                  <a:lnTo>
                    <a:pt x="536" y="544"/>
                  </a:lnTo>
                  <a:lnTo>
                    <a:pt x="552" y="560"/>
                  </a:lnTo>
                  <a:lnTo>
                    <a:pt x="560" y="568"/>
                  </a:lnTo>
                  <a:lnTo>
                    <a:pt x="576" y="584"/>
                  </a:lnTo>
                  <a:lnTo>
                    <a:pt x="592" y="592"/>
                  </a:lnTo>
                  <a:lnTo>
                    <a:pt x="608" y="600"/>
                  </a:lnTo>
                  <a:lnTo>
                    <a:pt x="624" y="608"/>
                  </a:lnTo>
                  <a:lnTo>
                    <a:pt x="640" y="624"/>
                  </a:lnTo>
                  <a:lnTo>
                    <a:pt x="656" y="632"/>
                  </a:lnTo>
                  <a:lnTo>
                    <a:pt x="672" y="640"/>
                  </a:lnTo>
                  <a:lnTo>
                    <a:pt x="688" y="648"/>
                  </a:lnTo>
                  <a:lnTo>
                    <a:pt x="712" y="656"/>
                  </a:lnTo>
                  <a:lnTo>
                    <a:pt x="728" y="664"/>
                  </a:lnTo>
                  <a:lnTo>
                    <a:pt x="752" y="672"/>
                  </a:lnTo>
                  <a:lnTo>
                    <a:pt x="768" y="688"/>
                  </a:lnTo>
                  <a:lnTo>
                    <a:pt x="792" y="696"/>
                  </a:lnTo>
                  <a:lnTo>
                    <a:pt x="816" y="704"/>
                  </a:lnTo>
                  <a:lnTo>
                    <a:pt x="832" y="712"/>
                  </a:lnTo>
                  <a:lnTo>
                    <a:pt x="856" y="712"/>
                  </a:lnTo>
                  <a:lnTo>
                    <a:pt x="880" y="720"/>
                  </a:lnTo>
                  <a:lnTo>
                    <a:pt x="904" y="728"/>
                  </a:lnTo>
                  <a:lnTo>
                    <a:pt x="928" y="736"/>
                  </a:lnTo>
                  <a:lnTo>
                    <a:pt x="960" y="744"/>
                  </a:lnTo>
                  <a:lnTo>
                    <a:pt x="984" y="744"/>
                  </a:lnTo>
                  <a:lnTo>
                    <a:pt x="1008" y="752"/>
                  </a:lnTo>
                  <a:lnTo>
                    <a:pt x="1040" y="760"/>
                  </a:lnTo>
                  <a:lnTo>
                    <a:pt x="1064" y="760"/>
                  </a:lnTo>
                  <a:lnTo>
                    <a:pt x="1104" y="768"/>
                  </a:lnTo>
                  <a:lnTo>
                    <a:pt x="1136" y="768"/>
                  </a:lnTo>
                  <a:lnTo>
                    <a:pt x="1176" y="768"/>
                  </a:lnTo>
                  <a:lnTo>
                    <a:pt x="1216" y="776"/>
                  </a:lnTo>
                  <a:lnTo>
                    <a:pt x="1256" y="776"/>
                  </a:lnTo>
                  <a:lnTo>
                    <a:pt x="1296" y="776"/>
                  </a:lnTo>
                  <a:lnTo>
                    <a:pt x="1328" y="784"/>
                  </a:lnTo>
                  <a:lnTo>
                    <a:pt x="1368" y="784"/>
                  </a:lnTo>
                  <a:lnTo>
                    <a:pt x="1408" y="784"/>
                  </a:lnTo>
                  <a:lnTo>
                    <a:pt x="1440" y="784"/>
                  </a:lnTo>
                  <a:lnTo>
                    <a:pt x="1472" y="792"/>
                  </a:lnTo>
                  <a:lnTo>
                    <a:pt x="1504" y="792"/>
                  </a:lnTo>
                  <a:lnTo>
                    <a:pt x="1536" y="792"/>
                  </a:lnTo>
                  <a:lnTo>
                    <a:pt x="1552" y="792"/>
                  </a:lnTo>
                  <a:lnTo>
                    <a:pt x="1576" y="792"/>
                  </a:lnTo>
                  <a:lnTo>
                    <a:pt x="1592" y="792"/>
                  </a:lnTo>
                  <a:lnTo>
                    <a:pt x="1600" y="792"/>
                  </a:lnTo>
                </a:path>
              </a:pathLst>
            </a:custGeom>
            <a:noFill/>
            <a:ln w="19080">
              <a:solidFill>
                <a:srgbClr val="d83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197760" y="3141720"/>
              <a:ext cx="2489040" cy="241200"/>
            </a:xfrm>
            <a:custGeom>
              <a:avLst/>
              <a:gdLst/>
              <a:ahLst/>
              <a:rect l="l" t="t" r="r" b="b"/>
              <a:pathLst>
                <a:path w="1568" h="152">
                  <a:moveTo>
                    <a:pt x="0" y="152"/>
                  </a:moveTo>
                  <a:lnTo>
                    <a:pt x="8" y="144"/>
                  </a:lnTo>
                  <a:lnTo>
                    <a:pt x="24" y="144"/>
                  </a:lnTo>
                  <a:lnTo>
                    <a:pt x="32" y="136"/>
                  </a:lnTo>
                  <a:lnTo>
                    <a:pt x="40" y="128"/>
                  </a:lnTo>
                  <a:lnTo>
                    <a:pt x="48" y="120"/>
                  </a:lnTo>
                  <a:lnTo>
                    <a:pt x="64" y="120"/>
                  </a:lnTo>
                  <a:lnTo>
                    <a:pt x="72" y="112"/>
                  </a:lnTo>
                  <a:lnTo>
                    <a:pt x="80" y="104"/>
                  </a:lnTo>
                  <a:lnTo>
                    <a:pt x="88" y="96"/>
                  </a:lnTo>
                  <a:lnTo>
                    <a:pt x="104" y="96"/>
                  </a:lnTo>
                  <a:lnTo>
                    <a:pt x="112" y="88"/>
                  </a:lnTo>
                  <a:lnTo>
                    <a:pt x="120" y="80"/>
                  </a:lnTo>
                  <a:lnTo>
                    <a:pt x="136" y="80"/>
                  </a:lnTo>
                  <a:lnTo>
                    <a:pt x="144" y="72"/>
                  </a:lnTo>
                  <a:lnTo>
                    <a:pt x="160" y="64"/>
                  </a:lnTo>
                  <a:lnTo>
                    <a:pt x="168" y="64"/>
                  </a:lnTo>
                  <a:lnTo>
                    <a:pt x="184" y="56"/>
                  </a:lnTo>
                  <a:lnTo>
                    <a:pt x="200" y="48"/>
                  </a:lnTo>
                  <a:lnTo>
                    <a:pt x="216" y="48"/>
                  </a:lnTo>
                  <a:lnTo>
                    <a:pt x="232" y="40"/>
                  </a:lnTo>
                  <a:lnTo>
                    <a:pt x="248" y="32"/>
                  </a:lnTo>
                  <a:lnTo>
                    <a:pt x="264" y="32"/>
                  </a:lnTo>
                  <a:lnTo>
                    <a:pt x="280" y="24"/>
                  </a:lnTo>
                  <a:lnTo>
                    <a:pt x="288" y="24"/>
                  </a:lnTo>
                  <a:lnTo>
                    <a:pt x="304" y="24"/>
                  </a:lnTo>
                  <a:lnTo>
                    <a:pt x="320" y="16"/>
                  </a:lnTo>
                  <a:lnTo>
                    <a:pt x="344" y="16"/>
                  </a:lnTo>
                  <a:lnTo>
                    <a:pt x="360" y="16"/>
                  </a:lnTo>
                  <a:lnTo>
                    <a:pt x="376" y="8"/>
                  </a:lnTo>
                  <a:lnTo>
                    <a:pt x="392" y="8"/>
                  </a:lnTo>
                  <a:lnTo>
                    <a:pt x="408" y="8"/>
                  </a:lnTo>
                  <a:lnTo>
                    <a:pt x="432" y="8"/>
                  </a:lnTo>
                  <a:lnTo>
                    <a:pt x="448" y="0"/>
                  </a:lnTo>
                  <a:lnTo>
                    <a:pt x="472" y="0"/>
                  </a:lnTo>
                  <a:lnTo>
                    <a:pt x="488" y="0"/>
                  </a:lnTo>
                  <a:lnTo>
                    <a:pt x="512" y="0"/>
                  </a:lnTo>
                  <a:lnTo>
                    <a:pt x="536" y="0"/>
                  </a:lnTo>
                  <a:lnTo>
                    <a:pt x="560" y="0"/>
                  </a:lnTo>
                  <a:lnTo>
                    <a:pt x="584" y="0"/>
                  </a:lnTo>
                  <a:lnTo>
                    <a:pt x="608" y="0"/>
                  </a:lnTo>
                  <a:lnTo>
                    <a:pt x="632" y="0"/>
                  </a:lnTo>
                  <a:lnTo>
                    <a:pt x="656" y="0"/>
                  </a:lnTo>
                  <a:lnTo>
                    <a:pt x="680" y="0"/>
                  </a:lnTo>
                  <a:lnTo>
                    <a:pt x="704" y="0"/>
                  </a:lnTo>
                  <a:lnTo>
                    <a:pt x="728" y="0"/>
                  </a:lnTo>
                  <a:lnTo>
                    <a:pt x="752" y="0"/>
                  </a:lnTo>
                  <a:lnTo>
                    <a:pt x="776" y="0"/>
                  </a:lnTo>
                  <a:lnTo>
                    <a:pt x="800" y="0"/>
                  </a:lnTo>
                  <a:lnTo>
                    <a:pt x="816" y="8"/>
                  </a:lnTo>
                  <a:lnTo>
                    <a:pt x="840" y="8"/>
                  </a:lnTo>
                  <a:lnTo>
                    <a:pt x="864" y="8"/>
                  </a:lnTo>
                  <a:lnTo>
                    <a:pt x="888" y="8"/>
                  </a:lnTo>
                  <a:lnTo>
                    <a:pt x="912" y="8"/>
                  </a:lnTo>
                  <a:lnTo>
                    <a:pt x="936" y="8"/>
                  </a:lnTo>
                  <a:lnTo>
                    <a:pt x="960" y="8"/>
                  </a:lnTo>
                  <a:lnTo>
                    <a:pt x="984" y="8"/>
                  </a:lnTo>
                  <a:lnTo>
                    <a:pt x="1008" y="16"/>
                  </a:lnTo>
                  <a:lnTo>
                    <a:pt x="1032" y="16"/>
                  </a:lnTo>
                  <a:lnTo>
                    <a:pt x="1064" y="16"/>
                  </a:lnTo>
                  <a:lnTo>
                    <a:pt x="1088" y="16"/>
                  </a:lnTo>
                  <a:lnTo>
                    <a:pt x="1120" y="16"/>
                  </a:lnTo>
                  <a:lnTo>
                    <a:pt x="1152" y="16"/>
                  </a:lnTo>
                  <a:lnTo>
                    <a:pt x="1176" y="24"/>
                  </a:lnTo>
                  <a:lnTo>
                    <a:pt x="1208" y="24"/>
                  </a:lnTo>
                  <a:lnTo>
                    <a:pt x="1248" y="24"/>
                  </a:lnTo>
                  <a:lnTo>
                    <a:pt x="1280" y="32"/>
                  </a:lnTo>
                  <a:lnTo>
                    <a:pt x="1312" y="32"/>
                  </a:lnTo>
                  <a:lnTo>
                    <a:pt x="1336" y="32"/>
                  </a:lnTo>
                  <a:lnTo>
                    <a:pt x="1368" y="40"/>
                  </a:lnTo>
                  <a:lnTo>
                    <a:pt x="1400" y="40"/>
                  </a:lnTo>
                  <a:lnTo>
                    <a:pt x="1432" y="40"/>
                  </a:lnTo>
                  <a:lnTo>
                    <a:pt x="1456" y="48"/>
                  </a:lnTo>
                  <a:lnTo>
                    <a:pt x="1480" y="48"/>
                  </a:lnTo>
                  <a:lnTo>
                    <a:pt x="1504" y="48"/>
                  </a:lnTo>
                  <a:lnTo>
                    <a:pt x="1520" y="48"/>
                  </a:lnTo>
                  <a:lnTo>
                    <a:pt x="1536" y="56"/>
                  </a:lnTo>
                  <a:lnTo>
                    <a:pt x="1552" y="56"/>
                  </a:lnTo>
                  <a:lnTo>
                    <a:pt x="1560" y="56"/>
                  </a:lnTo>
                  <a:lnTo>
                    <a:pt x="1568" y="56"/>
                  </a:lnTo>
                </a:path>
              </a:pathLst>
            </a:custGeom>
            <a:noFill/>
            <a:ln w="19080">
              <a:solidFill>
                <a:srgbClr val="7ffd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47" name=""/>
            <p:cNvGrpSpPr/>
            <p:nvPr/>
          </p:nvGrpSpPr>
          <p:grpSpPr>
            <a:xfrm>
              <a:off x="6019920" y="1465200"/>
              <a:ext cx="2781720" cy="2246760"/>
              <a:chOff x="6019920" y="1465200"/>
              <a:chExt cx="2781720" cy="2246760"/>
            </a:xfrm>
          </p:grpSpPr>
          <p:grpSp>
            <p:nvGrpSpPr>
              <p:cNvPr id="2848" name=""/>
              <p:cNvGrpSpPr/>
              <p:nvPr/>
            </p:nvGrpSpPr>
            <p:grpSpPr>
              <a:xfrm>
                <a:off x="6095880" y="1465200"/>
                <a:ext cx="88920" cy="1906560"/>
                <a:chOff x="6095880" y="1465200"/>
                <a:chExt cx="88920" cy="1906560"/>
              </a:xfrm>
            </p:grpSpPr>
            <p:sp>
              <p:nvSpPr>
                <p:cNvPr id="2849" name=""/>
                <p:cNvSpPr/>
                <p:nvPr/>
              </p:nvSpPr>
              <p:spPr>
                <a:xfrm>
                  <a:off x="6095880" y="3370320"/>
                  <a:ext cx="889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>
                  <a:off x="6095880" y="2951280"/>
                  <a:ext cx="889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6095880" y="2532240"/>
                  <a:ext cx="889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6095880" y="2100240"/>
                  <a:ext cx="889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>
                  <a:off x="6095880" y="1681200"/>
                  <a:ext cx="889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6095880" y="326880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6095880" y="3166920"/>
                  <a:ext cx="5076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6095880" y="305280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6095880" y="2849400"/>
                  <a:ext cx="5076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6095880" y="273528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>
                  <a:off x="6095880" y="263376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6095880" y="241776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6095880" y="231624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6095880" y="221472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6095880" y="199872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6095880" y="189720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6095880" y="1782720"/>
                  <a:ext cx="5076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6095880" y="157968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6095880" y="1465200"/>
                  <a:ext cx="5076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8" name=""/>
              <p:cNvGrpSpPr/>
              <p:nvPr/>
            </p:nvGrpSpPr>
            <p:grpSpPr>
              <a:xfrm>
                <a:off x="6095880" y="3294000"/>
                <a:ext cx="2656080" cy="76320"/>
                <a:chOff x="6095880" y="3294000"/>
                <a:chExt cx="2656080" cy="76320"/>
              </a:xfrm>
            </p:grpSpPr>
            <p:sp>
              <p:nvSpPr>
                <p:cNvPr id="2869" name=""/>
                <p:cNvSpPr/>
                <p:nvPr/>
              </p:nvSpPr>
              <p:spPr>
                <a:xfrm flipV="1">
                  <a:off x="6095880" y="3294000"/>
                  <a:ext cx="1800" cy="763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 flipV="1">
                  <a:off x="6985080" y="3294000"/>
                  <a:ext cx="1440" cy="763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 flipV="1">
                  <a:off x="7873920" y="3294000"/>
                  <a:ext cx="1800" cy="763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 flipV="1">
                  <a:off x="8750160" y="3294000"/>
                  <a:ext cx="1800" cy="763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 flipV="1">
                  <a:off x="6273720" y="3332160"/>
                  <a:ext cx="180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 flipV="1">
                  <a:off x="6451560" y="3332160"/>
                  <a:ext cx="180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 flipV="1">
                  <a:off x="6629400" y="3332160"/>
                  <a:ext cx="144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 flipV="1">
                  <a:off x="6807240" y="3332160"/>
                  <a:ext cx="144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 flipV="1">
                  <a:off x="7162920" y="3332160"/>
                  <a:ext cx="144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 flipV="1">
                  <a:off x="7340760" y="3332160"/>
                  <a:ext cx="144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 flipV="1">
                  <a:off x="7518240" y="3332160"/>
                  <a:ext cx="180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 flipV="1">
                  <a:off x="7696080" y="3332160"/>
                  <a:ext cx="180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 flipV="1">
                  <a:off x="8051760" y="3332160"/>
                  <a:ext cx="180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 flipV="1">
                  <a:off x="8229600" y="3332160"/>
                  <a:ext cx="144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 flipV="1">
                  <a:off x="8407440" y="3332160"/>
                  <a:ext cx="144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 flipV="1">
                  <a:off x="8572680" y="3332160"/>
                  <a:ext cx="144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5" name=""/>
              <p:cNvSpPr/>
              <p:nvPr/>
            </p:nvSpPr>
            <p:spPr>
              <a:xfrm flipV="1">
                <a:off x="6095880" y="1465200"/>
                <a:ext cx="1800" cy="19051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095880" y="3370320"/>
                <a:ext cx="265428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146640" y="3192480"/>
                <a:ext cx="6372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6235560" y="2722680"/>
                <a:ext cx="6372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6324480" y="2214720"/>
                <a:ext cx="6372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6413400" y="2062080"/>
                <a:ext cx="63720" cy="6372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6502320" y="2112840"/>
                <a:ext cx="63720" cy="6372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6591240" y="2328840"/>
                <a:ext cx="6372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6680160" y="2481120"/>
                <a:ext cx="63720" cy="6372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6769080" y="264636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6858000" y="278604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6946920" y="2849400"/>
                <a:ext cx="63360" cy="6372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7035840" y="295128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124760" y="3027240"/>
                <a:ext cx="63360" cy="6372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213680" y="309096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302600" y="312912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391520" y="3166920"/>
                <a:ext cx="63360" cy="6372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480440" y="319248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569360" y="321804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658280" y="321804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746840" y="3255840"/>
                <a:ext cx="63720" cy="6372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835760" y="3268800"/>
                <a:ext cx="6372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912080" y="328140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8001000" y="3294000"/>
                <a:ext cx="63360" cy="6372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8089920" y="3294000"/>
                <a:ext cx="63360" cy="6372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8178840" y="3306600"/>
                <a:ext cx="63360" cy="6372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8267760" y="3306600"/>
                <a:ext cx="63360" cy="6372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8356680" y="3306600"/>
                <a:ext cx="63360" cy="6372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8445600" y="331956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8534520" y="331956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8674200" y="333216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146640" y="3332160"/>
                <a:ext cx="6372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235560" y="3205080"/>
                <a:ext cx="6372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6324480" y="2963880"/>
                <a:ext cx="6372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6413400" y="2735280"/>
                <a:ext cx="6372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6502320" y="2595600"/>
                <a:ext cx="6372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6591240" y="2532240"/>
                <a:ext cx="6372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6680160" y="2557440"/>
                <a:ext cx="6372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6769080" y="2620800"/>
                <a:ext cx="6336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6858000" y="2697120"/>
                <a:ext cx="6336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6946920" y="273528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035840" y="2798640"/>
                <a:ext cx="6336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124760" y="287496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213680" y="2938320"/>
                <a:ext cx="6336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302600" y="2976480"/>
                <a:ext cx="6336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7391520" y="3027240"/>
                <a:ext cx="6336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480440" y="305280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569360" y="309096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658280" y="3116160"/>
                <a:ext cx="6336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746840" y="3154320"/>
                <a:ext cx="6372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835760" y="3166920"/>
                <a:ext cx="6372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7912080" y="319248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8001000" y="3205080"/>
                <a:ext cx="6336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8089920" y="323064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8178840" y="324324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8267760" y="3255840"/>
                <a:ext cx="6336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8356680" y="326880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8445600" y="326880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8534520" y="328140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8674200" y="3294000"/>
                <a:ext cx="6336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6146640" y="3344760"/>
                <a:ext cx="6372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6235560" y="3294000"/>
                <a:ext cx="6372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6324480" y="3166920"/>
                <a:ext cx="6372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6413400" y="3002040"/>
                <a:ext cx="6372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6502320" y="2900520"/>
                <a:ext cx="6372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6591240" y="2747880"/>
                <a:ext cx="6372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6680160" y="2697120"/>
                <a:ext cx="6372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6769080" y="264636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6858000" y="2658960"/>
                <a:ext cx="6336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6946920" y="2658960"/>
                <a:ext cx="6336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7035840" y="272268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7124760" y="2798640"/>
                <a:ext cx="6336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7213680" y="2836800"/>
                <a:ext cx="6336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7302600" y="2887560"/>
                <a:ext cx="6336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7391520" y="2925720"/>
                <a:ext cx="6336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7480440" y="295128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7569360" y="301464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658280" y="304020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7746840" y="3078000"/>
                <a:ext cx="6372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7835760" y="3103560"/>
                <a:ext cx="6372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7912080" y="314172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8001000" y="314172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8089920" y="3166920"/>
                <a:ext cx="6336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8178840" y="319248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8267760" y="3205080"/>
                <a:ext cx="6336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8356680" y="323064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8445600" y="324324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8534520" y="326880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8674200" y="326880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8318520" y="3344760"/>
                <a:ext cx="63360" cy="63720"/>
              </a:xfrm>
              <a:prstGeom prst="ellipse">
                <a:avLst/>
              </a:prstGeom>
              <a:solidFill>
                <a:srgbClr val="27fc20"/>
              </a:solidFill>
              <a:ln w="1908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8496360" y="3344760"/>
                <a:ext cx="63360" cy="63720"/>
              </a:xfrm>
              <a:prstGeom prst="ellipse">
                <a:avLst/>
              </a:prstGeom>
              <a:solidFill>
                <a:srgbClr val="27fc20"/>
              </a:solidFill>
              <a:ln w="1908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8674200" y="3344760"/>
                <a:ext cx="63360" cy="63720"/>
              </a:xfrm>
              <a:prstGeom prst="ellipse">
                <a:avLst/>
              </a:prstGeom>
              <a:solidFill>
                <a:srgbClr val="27fc20"/>
              </a:solidFill>
              <a:ln w="1908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6184800" y="331956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6184800" y="3319560"/>
                <a:ext cx="76320" cy="7596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362640" y="323064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6362640" y="3230640"/>
                <a:ext cx="76320" cy="7596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6540480" y="315432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6540480" y="3154320"/>
                <a:ext cx="76320" cy="7632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705720" y="311616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6705720" y="3116160"/>
                <a:ext cx="75960" cy="7632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6883560" y="309096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6883560" y="3090960"/>
                <a:ext cx="75960" cy="7596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061040" y="310356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061040" y="3103560"/>
                <a:ext cx="76320" cy="7632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238880" y="310356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7238880" y="3103560"/>
                <a:ext cx="76320" cy="7632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7416720" y="310356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7416720" y="3103560"/>
                <a:ext cx="76320" cy="7632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594560" y="311616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7594560" y="3116160"/>
                <a:ext cx="76320" cy="7632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7772400" y="311616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7772400" y="3116160"/>
                <a:ext cx="76320" cy="7632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7950240" y="312912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7950240" y="3129120"/>
                <a:ext cx="76320" cy="7596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8128080" y="314172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8128080" y="3141720"/>
                <a:ext cx="75960" cy="7632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8305920" y="315432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8305920" y="3154320"/>
                <a:ext cx="75960" cy="7632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8483760" y="317988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8483760" y="3179880"/>
                <a:ext cx="75960" cy="7596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8661240" y="319248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8661240" y="3192480"/>
                <a:ext cx="76320" cy="7632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07" name=""/>
              <p:cNvGrpSpPr/>
              <p:nvPr/>
            </p:nvGrpSpPr>
            <p:grpSpPr>
              <a:xfrm>
                <a:off x="6019920" y="3529080"/>
                <a:ext cx="2781720" cy="182880"/>
                <a:chOff x="6019920" y="3529080"/>
                <a:chExt cx="2781720" cy="182880"/>
              </a:xfrm>
            </p:grpSpPr>
            <p:sp>
              <p:nvSpPr>
                <p:cNvPr id="3008" name=""/>
                <p:cNvSpPr/>
                <p:nvPr/>
              </p:nvSpPr>
              <p:spPr>
                <a:xfrm>
                  <a:off x="6019920" y="3529080"/>
                  <a:ext cx="921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6852960" y="3529080"/>
                  <a:ext cx="183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1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7729200" y="3529080"/>
                  <a:ext cx="183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2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8618040" y="3529080"/>
                  <a:ext cx="183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3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12" name=""/>
            <p:cNvSpPr/>
            <p:nvPr/>
          </p:nvSpPr>
          <p:spPr>
            <a:xfrm>
              <a:off x="5936760" y="1103400"/>
              <a:ext cx="213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f305"/>
                  </a:solidFill>
                  <a:latin typeface="Trebuchet MS"/>
                </a:rPr>
                <a:t>[Benzoate] =  873 µ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3" name=""/>
          <p:cNvGrpSpPr/>
          <p:nvPr/>
        </p:nvGrpSpPr>
        <p:grpSpPr>
          <a:xfrm>
            <a:off x="2478600" y="1103400"/>
            <a:ext cx="3033720" cy="2608560"/>
            <a:chOff x="2478600" y="1103400"/>
            <a:chExt cx="3033720" cy="2608560"/>
          </a:xfrm>
        </p:grpSpPr>
        <p:sp>
          <p:nvSpPr>
            <p:cNvPr id="3014" name=""/>
            <p:cNvSpPr/>
            <p:nvPr/>
          </p:nvSpPr>
          <p:spPr>
            <a:xfrm>
              <a:off x="3048120" y="3040200"/>
              <a:ext cx="2361960" cy="330120"/>
            </a:xfrm>
            <a:custGeom>
              <a:avLst/>
              <a:gdLst/>
              <a:ahLst/>
              <a:rect l="l" t="t" r="r" b="b"/>
              <a:pathLst>
                <a:path w="1488" h="208">
                  <a:moveTo>
                    <a:pt x="0" y="208"/>
                  </a:moveTo>
                  <a:lnTo>
                    <a:pt x="8" y="200"/>
                  </a:lnTo>
                  <a:lnTo>
                    <a:pt x="16" y="192"/>
                  </a:lnTo>
                  <a:lnTo>
                    <a:pt x="24" y="184"/>
                  </a:lnTo>
                  <a:lnTo>
                    <a:pt x="24" y="176"/>
                  </a:lnTo>
                  <a:lnTo>
                    <a:pt x="32" y="168"/>
                  </a:lnTo>
                  <a:lnTo>
                    <a:pt x="40" y="160"/>
                  </a:lnTo>
                  <a:lnTo>
                    <a:pt x="48" y="152"/>
                  </a:lnTo>
                  <a:lnTo>
                    <a:pt x="56" y="144"/>
                  </a:lnTo>
                  <a:lnTo>
                    <a:pt x="64" y="136"/>
                  </a:lnTo>
                  <a:lnTo>
                    <a:pt x="72" y="128"/>
                  </a:lnTo>
                  <a:lnTo>
                    <a:pt x="80" y="120"/>
                  </a:lnTo>
                  <a:lnTo>
                    <a:pt x="80" y="112"/>
                  </a:lnTo>
                  <a:lnTo>
                    <a:pt x="88" y="104"/>
                  </a:lnTo>
                  <a:lnTo>
                    <a:pt x="96" y="96"/>
                  </a:lnTo>
                  <a:lnTo>
                    <a:pt x="96" y="88"/>
                  </a:lnTo>
                  <a:lnTo>
                    <a:pt x="104" y="80"/>
                  </a:lnTo>
                  <a:lnTo>
                    <a:pt x="112" y="80"/>
                  </a:lnTo>
                  <a:lnTo>
                    <a:pt x="112" y="72"/>
                  </a:lnTo>
                  <a:lnTo>
                    <a:pt x="120" y="72"/>
                  </a:lnTo>
                  <a:lnTo>
                    <a:pt x="120" y="64"/>
                  </a:lnTo>
                  <a:lnTo>
                    <a:pt x="128" y="64"/>
                  </a:lnTo>
                  <a:lnTo>
                    <a:pt x="128" y="56"/>
                  </a:lnTo>
                  <a:lnTo>
                    <a:pt x="136" y="48"/>
                  </a:lnTo>
                  <a:lnTo>
                    <a:pt x="144" y="48"/>
                  </a:lnTo>
                  <a:lnTo>
                    <a:pt x="144" y="40"/>
                  </a:lnTo>
                  <a:lnTo>
                    <a:pt x="152" y="40"/>
                  </a:lnTo>
                  <a:lnTo>
                    <a:pt x="160" y="32"/>
                  </a:lnTo>
                  <a:lnTo>
                    <a:pt x="168" y="32"/>
                  </a:lnTo>
                  <a:lnTo>
                    <a:pt x="168" y="24"/>
                  </a:lnTo>
                  <a:lnTo>
                    <a:pt x="176" y="24"/>
                  </a:lnTo>
                  <a:lnTo>
                    <a:pt x="184" y="16"/>
                  </a:lnTo>
                  <a:lnTo>
                    <a:pt x="192" y="16"/>
                  </a:lnTo>
                  <a:lnTo>
                    <a:pt x="200" y="8"/>
                  </a:lnTo>
                  <a:lnTo>
                    <a:pt x="208" y="8"/>
                  </a:lnTo>
                  <a:lnTo>
                    <a:pt x="216" y="8"/>
                  </a:lnTo>
                  <a:lnTo>
                    <a:pt x="224" y="0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80" y="0"/>
                  </a:lnTo>
                  <a:lnTo>
                    <a:pt x="288" y="0"/>
                  </a:lnTo>
                  <a:lnTo>
                    <a:pt x="304" y="8"/>
                  </a:lnTo>
                  <a:lnTo>
                    <a:pt x="320" y="8"/>
                  </a:lnTo>
                  <a:lnTo>
                    <a:pt x="336" y="16"/>
                  </a:lnTo>
                  <a:lnTo>
                    <a:pt x="344" y="16"/>
                  </a:lnTo>
                  <a:lnTo>
                    <a:pt x="360" y="24"/>
                  </a:lnTo>
                  <a:lnTo>
                    <a:pt x="376" y="24"/>
                  </a:lnTo>
                  <a:lnTo>
                    <a:pt x="392" y="32"/>
                  </a:lnTo>
                  <a:lnTo>
                    <a:pt x="400" y="40"/>
                  </a:lnTo>
                  <a:lnTo>
                    <a:pt x="416" y="40"/>
                  </a:lnTo>
                  <a:lnTo>
                    <a:pt x="432" y="48"/>
                  </a:lnTo>
                  <a:lnTo>
                    <a:pt x="440" y="56"/>
                  </a:lnTo>
                  <a:lnTo>
                    <a:pt x="456" y="56"/>
                  </a:lnTo>
                  <a:lnTo>
                    <a:pt x="472" y="64"/>
                  </a:lnTo>
                  <a:lnTo>
                    <a:pt x="480" y="64"/>
                  </a:lnTo>
                  <a:lnTo>
                    <a:pt x="496" y="72"/>
                  </a:lnTo>
                  <a:lnTo>
                    <a:pt x="504" y="72"/>
                  </a:lnTo>
                  <a:lnTo>
                    <a:pt x="512" y="72"/>
                  </a:lnTo>
                  <a:lnTo>
                    <a:pt x="528" y="80"/>
                  </a:lnTo>
                  <a:lnTo>
                    <a:pt x="536" y="88"/>
                  </a:lnTo>
                  <a:lnTo>
                    <a:pt x="552" y="88"/>
                  </a:lnTo>
                  <a:lnTo>
                    <a:pt x="568" y="96"/>
                  </a:lnTo>
                  <a:lnTo>
                    <a:pt x="584" y="96"/>
                  </a:lnTo>
                  <a:lnTo>
                    <a:pt x="600" y="104"/>
                  </a:lnTo>
                  <a:lnTo>
                    <a:pt x="616" y="112"/>
                  </a:lnTo>
                  <a:lnTo>
                    <a:pt x="632" y="112"/>
                  </a:lnTo>
                  <a:lnTo>
                    <a:pt x="648" y="120"/>
                  </a:lnTo>
                  <a:lnTo>
                    <a:pt x="672" y="120"/>
                  </a:lnTo>
                  <a:lnTo>
                    <a:pt x="688" y="128"/>
                  </a:lnTo>
                  <a:lnTo>
                    <a:pt x="704" y="128"/>
                  </a:lnTo>
                  <a:lnTo>
                    <a:pt x="728" y="136"/>
                  </a:lnTo>
                  <a:lnTo>
                    <a:pt x="744" y="136"/>
                  </a:lnTo>
                  <a:lnTo>
                    <a:pt x="768" y="144"/>
                  </a:lnTo>
                  <a:lnTo>
                    <a:pt x="784" y="144"/>
                  </a:lnTo>
                  <a:lnTo>
                    <a:pt x="800" y="152"/>
                  </a:lnTo>
                  <a:lnTo>
                    <a:pt x="824" y="152"/>
                  </a:lnTo>
                  <a:lnTo>
                    <a:pt x="840" y="152"/>
                  </a:lnTo>
                  <a:lnTo>
                    <a:pt x="856" y="152"/>
                  </a:lnTo>
                  <a:lnTo>
                    <a:pt x="880" y="152"/>
                  </a:lnTo>
                  <a:lnTo>
                    <a:pt x="896" y="152"/>
                  </a:lnTo>
                  <a:lnTo>
                    <a:pt x="920" y="160"/>
                  </a:lnTo>
                  <a:lnTo>
                    <a:pt x="944" y="160"/>
                  </a:lnTo>
                  <a:lnTo>
                    <a:pt x="960" y="160"/>
                  </a:lnTo>
                  <a:lnTo>
                    <a:pt x="984" y="160"/>
                  </a:lnTo>
                  <a:lnTo>
                    <a:pt x="1000" y="160"/>
                  </a:lnTo>
                  <a:lnTo>
                    <a:pt x="1024" y="160"/>
                  </a:lnTo>
                  <a:lnTo>
                    <a:pt x="1040" y="160"/>
                  </a:lnTo>
                  <a:lnTo>
                    <a:pt x="1064" y="160"/>
                  </a:lnTo>
                  <a:lnTo>
                    <a:pt x="1080" y="168"/>
                  </a:lnTo>
                  <a:lnTo>
                    <a:pt x="1104" y="168"/>
                  </a:lnTo>
                  <a:lnTo>
                    <a:pt x="1120" y="168"/>
                  </a:lnTo>
                  <a:lnTo>
                    <a:pt x="1136" y="168"/>
                  </a:lnTo>
                  <a:lnTo>
                    <a:pt x="1152" y="168"/>
                  </a:lnTo>
                  <a:lnTo>
                    <a:pt x="1168" y="168"/>
                  </a:lnTo>
                  <a:lnTo>
                    <a:pt x="1184" y="168"/>
                  </a:lnTo>
                  <a:lnTo>
                    <a:pt x="1200" y="168"/>
                  </a:lnTo>
                  <a:lnTo>
                    <a:pt x="1216" y="168"/>
                  </a:lnTo>
                  <a:lnTo>
                    <a:pt x="1232" y="168"/>
                  </a:lnTo>
                  <a:lnTo>
                    <a:pt x="1248" y="168"/>
                  </a:lnTo>
                  <a:lnTo>
                    <a:pt x="1264" y="168"/>
                  </a:lnTo>
                  <a:lnTo>
                    <a:pt x="1280" y="168"/>
                  </a:lnTo>
                  <a:lnTo>
                    <a:pt x="1296" y="168"/>
                  </a:lnTo>
                  <a:lnTo>
                    <a:pt x="1312" y="168"/>
                  </a:lnTo>
                  <a:lnTo>
                    <a:pt x="1328" y="168"/>
                  </a:lnTo>
                  <a:lnTo>
                    <a:pt x="1352" y="168"/>
                  </a:lnTo>
                  <a:lnTo>
                    <a:pt x="1368" y="168"/>
                  </a:lnTo>
                  <a:lnTo>
                    <a:pt x="1384" y="176"/>
                  </a:lnTo>
                  <a:lnTo>
                    <a:pt x="1400" y="176"/>
                  </a:lnTo>
                  <a:lnTo>
                    <a:pt x="1416" y="176"/>
                  </a:lnTo>
                  <a:lnTo>
                    <a:pt x="1432" y="176"/>
                  </a:lnTo>
                  <a:lnTo>
                    <a:pt x="1448" y="176"/>
                  </a:lnTo>
                  <a:lnTo>
                    <a:pt x="1456" y="176"/>
                  </a:lnTo>
                  <a:lnTo>
                    <a:pt x="1472" y="176"/>
                  </a:lnTo>
                  <a:lnTo>
                    <a:pt x="1480" y="176"/>
                  </a:lnTo>
                  <a:lnTo>
                    <a:pt x="1488" y="176"/>
                  </a:lnTo>
                </a:path>
              </a:pathLst>
            </a:custGeom>
            <a:noFill/>
            <a:ln w="19080">
              <a:solidFill>
                <a:srgbClr val="7ffd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3073320" y="2544840"/>
              <a:ext cx="2210040" cy="825480"/>
            </a:xfrm>
            <a:custGeom>
              <a:avLst/>
              <a:gdLst/>
              <a:ahLst/>
              <a:rect l="l" t="t" r="r" b="b"/>
              <a:pathLst>
                <a:path w="1392" h="520">
                  <a:moveTo>
                    <a:pt x="0" y="520"/>
                  </a:moveTo>
                  <a:lnTo>
                    <a:pt x="8" y="512"/>
                  </a:lnTo>
                  <a:lnTo>
                    <a:pt x="8" y="504"/>
                  </a:lnTo>
                  <a:lnTo>
                    <a:pt x="16" y="488"/>
                  </a:lnTo>
                  <a:lnTo>
                    <a:pt x="24" y="472"/>
                  </a:lnTo>
                  <a:lnTo>
                    <a:pt x="32" y="456"/>
                  </a:lnTo>
                  <a:lnTo>
                    <a:pt x="48" y="432"/>
                  </a:lnTo>
                  <a:lnTo>
                    <a:pt x="56" y="416"/>
                  </a:lnTo>
                  <a:lnTo>
                    <a:pt x="64" y="392"/>
                  </a:lnTo>
                  <a:lnTo>
                    <a:pt x="72" y="376"/>
                  </a:lnTo>
                  <a:lnTo>
                    <a:pt x="80" y="352"/>
                  </a:lnTo>
                  <a:lnTo>
                    <a:pt x="96" y="328"/>
                  </a:lnTo>
                  <a:lnTo>
                    <a:pt x="104" y="304"/>
                  </a:lnTo>
                  <a:lnTo>
                    <a:pt x="112" y="288"/>
                  </a:lnTo>
                  <a:lnTo>
                    <a:pt x="120" y="264"/>
                  </a:lnTo>
                  <a:lnTo>
                    <a:pt x="128" y="240"/>
                  </a:lnTo>
                  <a:lnTo>
                    <a:pt x="136" y="224"/>
                  </a:lnTo>
                  <a:lnTo>
                    <a:pt x="144" y="208"/>
                  </a:lnTo>
                  <a:lnTo>
                    <a:pt x="152" y="192"/>
                  </a:lnTo>
                  <a:lnTo>
                    <a:pt x="152" y="176"/>
                  </a:lnTo>
                  <a:lnTo>
                    <a:pt x="160" y="168"/>
                  </a:lnTo>
                  <a:lnTo>
                    <a:pt x="160" y="160"/>
                  </a:lnTo>
                  <a:lnTo>
                    <a:pt x="168" y="152"/>
                  </a:lnTo>
                  <a:lnTo>
                    <a:pt x="176" y="136"/>
                  </a:lnTo>
                  <a:lnTo>
                    <a:pt x="176" y="128"/>
                  </a:lnTo>
                  <a:lnTo>
                    <a:pt x="184" y="120"/>
                  </a:lnTo>
                  <a:lnTo>
                    <a:pt x="192" y="104"/>
                  </a:lnTo>
                  <a:lnTo>
                    <a:pt x="192" y="96"/>
                  </a:lnTo>
                  <a:lnTo>
                    <a:pt x="200" y="88"/>
                  </a:lnTo>
                  <a:lnTo>
                    <a:pt x="208" y="72"/>
                  </a:lnTo>
                  <a:lnTo>
                    <a:pt x="216" y="64"/>
                  </a:lnTo>
                  <a:lnTo>
                    <a:pt x="224" y="56"/>
                  </a:lnTo>
                  <a:lnTo>
                    <a:pt x="232" y="40"/>
                  </a:lnTo>
                  <a:lnTo>
                    <a:pt x="240" y="32"/>
                  </a:lnTo>
                  <a:lnTo>
                    <a:pt x="248" y="24"/>
                  </a:lnTo>
                  <a:lnTo>
                    <a:pt x="256" y="16"/>
                  </a:lnTo>
                  <a:lnTo>
                    <a:pt x="264" y="16"/>
                  </a:lnTo>
                  <a:lnTo>
                    <a:pt x="272" y="8"/>
                  </a:lnTo>
                  <a:lnTo>
                    <a:pt x="288" y="0"/>
                  </a:lnTo>
                  <a:lnTo>
                    <a:pt x="296" y="0"/>
                  </a:lnTo>
                  <a:lnTo>
                    <a:pt x="304" y="0"/>
                  </a:lnTo>
                  <a:lnTo>
                    <a:pt x="312" y="0"/>
                  </a:lnTo>
                  <a:lnTo>
                    <a:pt x="328" y="0"/>
                  </a:lnTo>
                  <a:lnTo>
                    <a:pt x="336" y="0"/>
                  </a:lnTo>
                  <a:lnTo>
                    <a:pt x="352" y="8"/>
                  </a:lnTo>
                  <a:lnTo>
                    <a:pt x="368" y="16"/>
                  </a:lnTo>
                  <a:lnTo>
                    <a:pt x="376" y="24"/>
                  </a:lnTo>
                  <a:lnTo>
                    <a:pt x="392" y="24"/>
                  </a:lnTo>
                  <a:lnTo>
                    <a:pt x="408" y="40"/>
                  </a:lnTo>
                  <a:lnTo>
                    <a:pt x="424" y="48"/>
                  </a:lnTo>
                  <a:lnTo>
                    <a:pt x="432" y="56"/>
                  </a:lnTo>
                  <a:lnTo>
                    <a:pt x="448" y="64"/>
                  </a:lnTo>
                  <a:lnTo>
                    <a:pt x="464" y="72"/>
                  </a:lnTo>
                  <a:lnTo>
                    <a:pt x="472" y="88"/>
                  </a:lnTo>
                  <a:lnTo>
                    <a:pt x="488" y="96"/>
                  </a:lnTo>
                  <a:lnTo>
                    <a:pt x="496" y="104"/>
                  </a:lnTo>
                  <a:lnTo>
                    <a:pt x="512" y="120"/>
                  </a:lnTo>
                  <a:lnTo>
                    <a:pt x="520" y="128"/>
                  </a:lnTo>
                  <a:lnTo>
                    <a:pt x="536" y="136"/>
                  </a:lnTo>
                  <a:lnTo>
                    <a:pt x="544" y="144"/>
                  </a:lnTo>
                  <a:lnTo>
                    <a:pt x="552" y="152"/>
                  </a:lnTo>
                  <a:lnTo>
                    <a:pt x="560" y="160"/>
                  </a:lnTo>
                  <a:lnTo>
                    <a:pt x="568" y="168"/>
                  </a:lnTo>
                  <a:lnTo>
                    <a:pt x="576" y="176"/>
                  </a:lnTo>
                  <a:lnTo>
                    <a:pt x="592" y="184"/>
                  </a:lnTo>
                  <a:lnTo>
                    <a:pt x="600" y="192"/>
                  </a:lnTo>
                  <a:lnTo>
                    <a:pt x="608" y="200"/>
                  </a:lnTo>
                  <a:lnTo>
                    <a:pt x="616" y="208"/>
                  </a:lnTo>
                  <a:lnTo>
                    <a:pt x="632" y="216"/>
                  </a:lnTo>
                  <a:lnTo>
                    <a:pt x="640" y="224"/>
                  </a:lnTo>
                  <a:lnTo>
                    <a:pt x="656" y="232"/>
                  </a:lnTo>
                  <a:lnTo>
                    <a:pt x="664" y="240"/>
                  </a:lnTo>
                  <a:lnTo>
                    <a:pt x="680" y="248"/>
                  </a:lnTo>
                  <a:lnTo>
                    <a:pt x="688" y="256"/>
                  </a:lnTo>
                  <a:lnTo>
                    <a:pt x="704" y="264"/>
                  </a:lnTo>
                  <a:lnTo>
                    <a:pt x="712" y="272"/>
                  </a:lnTo>
                  <a:lnTo>
                    <a:pt x="728" y="280"/>
                  </a:lnTo>
                  <a:lnTo>
                    <a:pt x="744" y="288"/>
                  </a:lnTo>
                  <a:lnTo>
                    <a:pt x="752" y="296"/>
                  </a:lnTo>
                  <a:lnTo>
                    <a:pt x="768" y="304"/>
                  </a:lnTo>
                  <a:lnTo>
                    <a:pt x="784" y="312"/>
                  </a:lnTo>
                  <a:lnTo>
                    <a:pt x="800" y="320"/>
                  </a:lnTo>
                  <a:lnTo>
                    <a:pt x="816" y="328"/>
                  </a:lnTo>
                  <a:lnTo>
                    <a:pt x="832" y="336"/>
                  </a:lnTo>
                  <a:lnTo>
                    <a:pt x="848" y="336"/>
                  </a:lnTo>
                  <a:lnTo>
                    <a:pt x="864" y="344"/>
                  </a:lnTo>
                  <a:lnTo>
                    <a:pt x="880" y="352"/>
                  </a:lnTo>
                  <a:lnTo>
                    <a:pt x="896" y="360"/>
                  </a:lnTo>
                  <a:lnTo>
                    <a:pt x="912" y="368"/>
                  </a:lnTo>
                  <a:lnTo>
                    <a:pt x="928" y="368"/>
                  </a:lnTo>
                  <a:lnTo>
                    <a:pt x="944" y="376"/>
                  </a:lnTo>
                  <a:lnTo>
                    <a:pt x="960" y="384"/>
                  </a:lnTo>
                  <a:lnTo>
                    <a:pt x="976" y="392"/>
                  </a:lnTo>
                  <a:lnTo>
                    <a:pt x="1000" y="392"/>
                  </a:lnTo>
                  <a:lnTo>
                    <a:pt x="1016" y="400"/>
                  </a:lnTo>
                  <a:lnTo>
                    <a:pt x="1032" y="400"/>
                  </a:lnTo>
                  <a:lnTo>
                    <a:pt x="1040" y="408"/>
                  </a:lnTo>
                  <a:lnTo>
                    <a:pt x="1056" y="416"/>
                  </a:lnTo>
                  <a:lnTo>
                    <a:pt x="1072" y="416"/>
                  </a:lnTo>
                  <a:lnTo>
                    <a:pt x="1088" y="424"/>
                  </a:lnTo>
                  <a:lnTo>
                    <a:pt x="1104" y="424"/>
                  </a:lnTo>
                  <a:lnTo>
                    <a:pt x="1120" y="424"/>
                  </a:lnTo>
                  <a:lnTo>
                    <a:pt x="1136" y="432"/>
                  </a:lnTo>
                  <a:lnTo>
                    <a:pt x="1152" y="432"/>
                  </a:lnTo>
                  <a:lnTo>
                    <a:pt x="1168" y="432"/>
                  </a:lnTo>
                  <a:lnTo>
                    <a:pt x="1184" y="440"/>
                  </a:lnTo>
                  <a:lnTo>
                    <a:pt x="1208" y="440"/>
                  </a:lnTo>
                  <a:lnTo>
                    <a:pt x="1224" y="448"/>
                  </a:lnTo>
                  <a:lnTo>
                    <a:pt x="1240" y="448"/>
                  </a:lnTo>
                  <a:lnTo>
                    <a:pt x="1264" y="448"/>
                  </a:lnTo>
                  <a:lnTo>
                    <a:pt x="1280" y="456"/>
                  </a:lnTo>
                  <a:lnTo>
                    <a:pt x="1296" y="456"/>
                  </a:lnTo>
                  <a:lnTo>
                    <a:pt x="1312" y="456"/>
                  </a:lnTo>
                  <a:lnTo>
                    <a:pt x="1328" y="464"/>
                  </a:lnTo>
                  <a:lnTo>
                    <a:pt x="1344" y="464"/>
                  </a:lnTo>
                  <a:lnTo>
                    <a:pt x="1360" y="464"/>
                  </a:lnTo>
                  <a:lnTo>
                    <a:pt x="1368" y="472"/>
                  </a:lnTo>
                  <a:lnTo>
                    <a:pt x="1376" y="472"/>
                  </a:lnTo>
                  <a:lnTo>
                    <a:pt x="1384" y="472"/>
                  </a:lnTo>
                  <a:lnTo>
                    <a:pt x="1392" y="472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3035160" y="2354400"/>
              <a:ext cx="2273400" cy="1015920"/>
            </a:xfrm>
            <a:custGeom>
              <a:avLst/>
              <a:gdLst/>
              <a:ahLst/>
              <a:rect l="l" t="t" r="r" b="b"/>
              <a:pathLst>
                <a:path w="1432" h="640">
                  <a:moveTo>
                    <a:pt x="0" y="640"/>
                  </a:moveTo>
                  <a:lnTo>
                    <a:pt x="8" y="624"/>
                  </a:lnTo>
                  <a:lnTo>
                    <a:pt x="16" y="608"/>
                  </a:lnTo>
                  <a:lnTo>
                    <a:pt x="16" y="592"/>
                  </a:lnTo>
                  <a:lnTo>
                    <a:pt x="24" y="576"/>
                  </a:lnTo>
                  <a:lnTo>
                    <a:pt x="32" y="552"/>
                  </a:lnTo>
                  <a:lnTo>
                    <a:pt x="40" y="536"/>
                  </a:lnTo>
                  <a:lnTo>
                    <a:pt x="40" y="512"/>
                  </a:lnTo>
                  <a:lnTo>
                    <a:pt x="48" y="488"/>
                  </a:lnTo>
                  <a:lnTo>
                    <a:pt x="56" y="464"/>
                  </a:lnTo>
                  <a:lnTo>
                    <a:pt x="64" y="440"/>
                  </a:lnTo>
                  <a:lnTo>
                    <a:pt x="64" y="416"/>
                  </a:lnTo>
                  <a:lnTo>
                    <a:pt x="72" y="392"/>
                  </a:lnTo>
                  <a:lnTo>
                    <a:pt x="80" y="368"/>
                  </a:lnTo>
                  <a:lnTo>
                    <a:pt x="88" y="344"/>
                  </a:lnTo>
                  <a:lnTo>
                    <a:pt x="88" y="320"/>
                  </a:lnTo>
                  <a:lnTo>
                    <a:pt x="96" y="304"/>
                  </a:lnTo>
                  <a:lnTo>
                    <a:pt x="104" y="280"/>
                  </a:lnTo>
                  <a:lnTo>
                    <a:pt x="112" y="264"/>
                  </a:lnTo>
                  <a:lnTo>
                    <a:pt x="112" y="240"/>
                  </a:lnTo>
                  <a:lnTo>
                    <a:pt x="120" y="224"/>
                  </a:lnTo>
                  <a:lnTo>
                    <a:pt x="128" y="208"/>
                  </a:lnTo>
                  <a:lnTo>
                    <a:pt x="128" y="192"/>
                  </a:lnTo>
                  <a:lnTo>
                    <a:pt x="136" y="168"/>
                  </a:lnTo>
                  <a:lnTo>
                    <a:pt x="144" y="152"/>
                  </a:lnTo>
                  <a:lnTo>
                    <a:pt x="144" y="136"/>
                  </a:lnTo>
                  <a:lnTo>
                    <a:pt x="152" y="128"/>
                  </a:lnTo>
                  <a:lnTo>
                    <a:pt x="160" y="112"/>
                  </a:lnTo>
                  <a:lnTo>
                    <a:pt x="160" y="96"/>
                  </a:lnTo>
                  <a:lnTo>
                    <a:pt x="168" y="80"/>
                  </a:lnTo>
                  <a:lnTo>
                    <a:pt x="176" y="72"/>
                  </a:lnTo>
                  <a:lnTo>
                    <a:pt x="176" y="56"/>
                  </a:lnTo>
                  <a:lnTo>
                    <a:pt x="184" y="48"/>
                  </a:lnTo>
                  <a:lnTo>
                    <a:pt x="192" y="40"/>
                  </a:lnTo>
                  <a:lnTo>
                    <a:pt x="200" y="32"/>
                  </a:lnTo>
                  <a:lnTo>
                    <a:pt x="200" y="24"/>
                  </a:lnTo>
                  <a:lnTo>
                    <a:pt x="208" y="16"/>
                  </a:lnTo>
                  <a:lnTo>
                    <a:pt x="216" y="8"/>
                  </a:lnTo>
                  <a:lnTo>
                    <a:pt x="224" y="8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48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2" y="8"/>
                  </a:lnTo>
                  <a:lnTo>
                    <a:pt x="280" y="16"/>
                  </a:lnTo>
                  <a:lnTo>
                    <a:pt x="296" y="24"/>
                  </a:lnTo>
                  <a:lnTo>
                    <a:pt x="304" y="32"/>
                  </a:lnTo>
                  <a:lnTo>
                    <a:pt x="312" y="40"/>
                  </a:lnTo>
                  <a:lnTo>
                    <a:pt x="320" y="48"/>
                  </a:lnTo>
                  <a:lnTo>
                    <a:pt x="328" y="56"/>
                  </a:lnTo>
                  <a:lnTo>
                    <a:pt x="336" y="72"/>
                  </a:lnTo>
                  <a:lnTo>
                    <a:pt x="344" y="80"/>
                  </a:lnTo>
                  <a:lnTo>
                    <a:pt x="352" y="96"/>
                  </a:lnTo>
                  <a:lnTo>
                    <a:pt x="360" y="104"/>
                  </a:lnTo>
                  <a:lnTo>
                    <a:pt x="376" y="120"/>
                  </a:lnTo>
                  <a:lnTo>
                    <a:pt x="384" y="128"/>
                  </a:lnTo>
                  <a:lnTo>
                    <a:pt x="392" y="144"/>
                  </a:lnTo>
                  <a:lnTo>
                    <a:pt x="400" y="152"/>
                  </a:lnTo>
                  <a:lnTo>
                    <a:pt x="408" y="168"/>
                  </a:lnTo>
                  <a:lnTo>
                    <a:pt x="416" y="176"/>
                  </a:lnTo>
                  <a:lnTo>
                    <a:pt x="424" y="184"/>
                  </a:lnTo>
                  <a:lnTo>
                    <a:pt x="432" y="200"/>
                  </a:lnTo>
                  <a:lnTo>
                    <a:pt x="440" y="208"/>
                  </a:lnTo>
                  <a:lnTo>
                    <a:pt x="456" y="224"/>
                  </a:lnTo>
                  <a:lnTo>
                    <a:pt x="464" y="240"/>
                  </a:lnTo>
                  <a:lnTo>
                    <a:pt x="472" y="256"/>
                  </a:lnTo>
                  <a:lnTo>
                    <a:pt x="488" y="264"/>
                  </a:lnTo>
                  <a:lnTo>
                    <a:pt x="496" y="280"/>
                  </a:lnTo>
                  <a:lnTo>
                    <a:pt x="512" y="296"/>
                  </a:lnTo>
                  <a:lnTo>
                    <a:pt x="528" y="312"/>
                  </a:lnTo>
                  <a:lnTo>
                    <a:pt x="536" y="328"/>
                  </a:lnTo>
                  <a:lnTo>
                    <a:pt x="552" y="344"/>
                  </a:lnTo>
                  <a:lnTo>
                    <a:pt x="568" y="352"/>
                  </a:lnTo>
                  <a:lnTo>
                    <a:pt x="584" y="368"/>
                  </a:lnTo>
                  <a:lnTo>
                    <a:pt x="600" y="384"/>
                  </a:lnTo>
                  <a:lnTo>
                    <a:pt x="616" y="392"/>
                  </a:lnTo>
                  <a:lnTo>
                    <a:pt x="632" y="408"/>
                  </a:lnTo>
                  <a:lnTo>
                    <a:pt x="648" y="416"/>
                  </a:lnTo>
                  <a:lnTo>
                    <a:pt x="672" y="432"/>
                  </a:lnTo>
                  <a:lnTo>
                    <a:pt x="688" y="440"/>
                  </a:lnTo>
                  <a:lnTo>
                    <a:pt x="712" y="448"/>
                  </a:lnTo>
                  <a:lnTo>
                    <a:pt x="728" y="464"/>
                  </a:lnTo>
                  <a:lnTo>
                    <a:pt x="744" y="472"/>
                  </a:lnTo>
                  <a:lnTo>
                    <a:pt x="768" y="480"/>
                  </a:lnTo>
                  <a:lnTo>
                    <a:pt x="784" y="488"/>
                  </a:lnTo>
                  <a:lnTo>
                    <a:pt x="800" y="496"/>
                  </a:lnTo>
                  <a:lnTo>
                    <a:pt x="824" y="504"/>
                  </a:lnTo>
                  <a:lnTo>
                    <a:pt x="840" y="512"/>
                  </a:lnTo>
                  <a:lnTo>
                    <a:pt x="856" y="512"/>
                  </a:lnTo>
                  <a:lnTo>
                    <a:pt x="872" y="520"/>
                  </a:lnTo>
                  <a:lnTo>
                    <a:pt x="888" y="528"/>
                  </a:lnTo>
                  <a:lnTo>
                    <a:pt x="904" y="528"/>
                  </a:lnTo>
                  <a:lnTo>
                    <a:pt x="920" y="536"/>
                  </a:lnTo>
                  <a:lnTo>
                    <a:pt x="944" y="544"/>
                  </a:lnTo>
                  <a:lnTo>
                    <a:pt x="960" y="544"/>
                  </a:lnTo>
                  <a:lnTo>
                    <a:pt x="976" y="552"/>
                  </a:lnTo>
                  <a:lnTo>
                    <a:pt x="992" y="552"/>
                  </a:lnTo>
                  <a:lnTo>
                    <a:pt x="1008" y="552"/>
                  </a:lnTo>
                  <a:lnTo>
                    <a:pt x="1024" y="560"/>
                  </a:lnTo>
                  <a:lnTo>
                    <a:pt x="1040" y="560"/>
                  </a:lnTo>
                  <a:lnTo>
                    <a:pt x="1056" y="560"/>
                  </a:lnTo>
                  <a:lnTo>
                    <a:pt x="1080" y="568"/>
                  </a:lnTo>
                  <a:lnTo>
                    <a:pt x="1104" y="568"/>
                  </a:lnTo>
                  <a:lnTo>
                    <a:pt x="1120" y="576"/>
                  </a:lnTo>
                  <a:lnTo>
                    <a:pt x="1152" y="576"/>
                  </a:lnTo>
                  <a:lnTo>
                    <a:pt x="1176" y="584"/>
                  </a:lnTo>
                  <a:lnTo>
                    <a:pt x="1200" y="584"/>
                  </a:lnTo>
                  <a:lnTo>
                    <a:pt x="1224" y="584"/>
                  </a:lnTo>
                  <a:lnTo>
                    <a:pt x="1256" y="592"/>
                  </a:lnTo>
                  <a:lnTo>
                    <a:pt x="1280" y="592"/>
                  </a:lnTo>
                  <a:lnTo>
                    <a:pt x="1304" y="592"/>
                  </a:lnTo>
                  <a:lnTo>
                    <a:pt x="1328" y="600"/>
                  </a:lnTo>
                  <a:lnTo>
                    <a:pt x="1352" y="600"/>
                  </a:lnTo>
                  <a:lnTo>
                    <a:pt x="1368" y="600"/>
                  </a:lnTo>
                  <a:lnTo>
                    <a:pt x="1384" y="600"/>
                  </a:lnTo>
                  <a:lnTo>
                    <a:pt x="1400" y="608"/>
                  </a:lnTo>
                  <a:lnTo>
                    <a:pt x="1416" y="608"/>
                  </a:lnTo>
                  <a:lnTo>
                    <a:pt x="1424" y="608"/>
                  </a:lnTo>
                  <a:lnTo>
                    <a:pt x="1432" y="608"/>
                  </a:lnTo>
                </a:path>
              </a:pathLst>
            </a:custGeom>
            <a:noFill/>
            <a:ln w="19080">
              <a:solidFill>
                <a:srgbClr val="fcf3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2997360" y="1579680"/>
              <a:ext cx="2298600" cy="1790640"/>
            </a:xfrm>
            <a:custGeom>
              <a:avLst/>
              <a:gdLst/>
              <a:ahLst/>
              <a:rect l="l" t="t" r="r" b="b"/>
              <a:pathLst>
                <a:path w="1448" h="1128">
                  <a:moveTo>
                    <a:pt x="0" y="1128"/>
                  </a:moveTo>
                  <a:lnTo>
                    <a:pt x="0" y="1112"/>
                  </a:lnTo>
                  <a:lnTo>
                    <a:pt x="0" y="1088"/>
                  </a:lnTo>
                  <a:lnTo>
                    <a:pt x="8" y="1064"/>
                  </a:lnTo>
                  <a:lnTo>
                    <a:pt x="8" y="1032"/>
                  </a:lnTo>
                  <a:lnTo>
                    <a:pt x="16" y="992"/>
                  </a:lnTo>
                  <a:lnTo>
                    <a:pt x="16" y="952"/>
                  </a:lnTo>
                  <a:lnTo>
                    <a:pt x="24" y="912"/>
                  </a:lnTo>
                  <a:lnTo>
                    <a:pt x="24" y="864"/>
                  </a:lnTo>
                  <a:lnTo>
                    <a:pt x="32" y="824"/>
                  </a:lnTo>
                  <a:lnTo>
                    <a:pt x="32" y="776"/>
                  </a:lnTo>
                  <a:lnTo>
                    <a:pt x="40" y="728"/>
                  </a:lnTo>
                  <a:lnTo>
                    <a:pt x="40" y="680"/>
                  </a:lnTo>
                  <a:lnTo>
                    <a:pt x="48" y="640"/>
                  </a:lnTo>
                  <a:lnTo>
                    <a:pt x="48" y="600"/>
                  </a:lnTo>
                  <a:lnTo>
                    <a:pt x="56" y="560"/>
                  </a:lnTo>
                  <a:lnTo>
                    <a:pt x="56" y="520"/>
                  </a:lnTo>
                  <a:lnTo>
                    <a:pt x="64" y="496"/>
                  </a:lnTo>
                  <a:lnTo>
                    <a:pt x="64" y="464"/>
                  </a:lnTo>
                  <a:lnTo>
                    <a:pt x="72" y="448"/>
                  </a:lnTo>
                  <a:lnTo>
                    <a:pt x="72" y="432"/>
                  </a:lnTo>
                  <a:lnTo>
                    <a:pt x="72" y="424"/>
                  </a:lnTo>
                  <a:lnTo>
                    <a:pt x="72" y="408"/>
                  </a:lnTo>
                  <a:lnTo>
                    <a:pt x="80" y="384"/>
                  </a:lnTo>
                  <a:lnTo>
                    <a:pt x="80" y="360"/>
                  </a:lnTo>
                  <a:lnTo>
                    <a:pt x="80" y="336"/>
                  </a:lnTo>
                  <a:lnTo>
                    <a:pt x="80" y="312"/>
                  </a:lnTo>
                  <a:lnTo>
                    <a:pt x="88" y="280"/>
                  </a:lnTo>
                  <a:lnTo>
                    <a:pt x="88" y="256"/>
                  </a:lnTo>
                  <a:lnTo>
                    <a:pt x="96" y="224"/>
                  </a:lnTo>
                  <a:lnTo>
                    <a:pt x="96" y="192"/>
                  </a:lnTo>
                  <a:lnTo>
                    <a:pt x="96" y="160"/>
                  </a:lnTo>
                  <a:lnTo>
                    <a:pt x="104" y="136"/>
                  </a:lnTo>
                  <a:lnTo>
                    <a:pt x="104" y="104"/>
                  </a:lnTo>
                  <a:lnTo>
                    <a:pt x="112" y="80"/>
                  </a:lnTo>
                  <a:lnTo>
                    <a:pt x="120" y="56"/>
                  </a:lnTo>
                  <a:lnTo>
                    <a:pt x="120" y="40"/>
                  </a:lnTo>
                  <a:lnTo>
                    <a:pt x="128" y="24"/>
                  </a:lnTo>
                  <a:lnTo>
                    <a:pt x="136" y="8"/>
                  </a:lnTo>
                  <a:lnTo>
                    <a:pt x="136" y="0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60" y="8"/>
                  </a:lnTo>
                  <a:lnTo>
                    <a:pt x="168" y="16"/>
                  </a:lnTo>
                  <a:lnTo>
                    <a:pt x="184" y="24"/>
                  </a:lnTo>
                  <a:lnTo>
                    <a:pt x="192" y="40"/>
                  </a:lnTo>
                  <a:lnTo>
                    <a:pt x="200" y="56"/>
                  </a:lnTo>
                  <a:lnTo>
                    <a:pt x="208" y="80"/>
                  </a:lnTo>
                  <a:lnTo>
                    <a:pt x="216" y="96"/>
                  </a:lnTo>
                  <a:lnTo>
                    <a:pt x="216" y="120"/>
                  </a:lnTo>
                  <a:lnTo>
                    <a:pt x="224" y="144"/>
                  </a:lnTo>
                  <a:lnTo>
                    <a:pt x="232" y="168"/>
                  </a:lnTo>
                  <a:lnTo>
                    <a:pt x="240" y="192"/>
                  </a:lnTo>
                  <a:lnTo>
                    <a:pt x="248" y="216"/>
                  </a:lnTo>
                  <a:lnTo>
                    <a:pt x="248" y="240"/>
                  </a:lnTo>
                  <a:lnTo>
                    <a:pt x="256" y="264"/>
                  </a:lnTo>
                  <a:lnTo>
                    <a:pt x="256" y="280"/>
                  </a:lnTo>
                  <a:lnTo>
                    <a:pt x="264" y="304"/>
                  </a:lnTo>
                  <a:lnTo>
                    <a:pt x="264" y="320"/>
                  </a:lnTo>
                  <a:lnTo>
                    <a:pt x="272" y="336"/>
                  </a:lnTo>
                  <a:lnTo>
                    <a:pt x="272" y="344"/>
                  </a:lnTo>
                  <a:lnTo>
                    <a:pt x="272" y="352"/>
                  </a:lnTo>
                  <a:lnTo>
                    <a:pt x="280" y="376"/>
                  </a:lnTo>
                  <a:lnTo>
                    <a:pt x="280" y="392"/>
                  </a:lnTo>
                  <a:lnTo>
                    <a:pt x="288" y="416"/>
                  </a:lnTo>
                  <a:lnTo>
                    <a:pt x="296" y="440"/>
                  </a:lnTo>
                  <a:lnTo>
                    <a:pt x="304" y="472"/>
                  </a:lnTo>
                  <a:lnTo>
                    <a:pt x="312" y="504"/>
                  </a:lnTo>
                  <a:lnTo>
                    <a:pt x="328" y="536"/>
                  </a:lnTo>
                  <a:lnTo>
                    <a:pt x="336" y="568"/>
                  </a:lnTo>
                  <a:lnTo>
                    <a:pt x="352" y="608"/>
                  </a:lnTo>
                  <a:lnTo>
                    <a:pt x="368" y="640"/>
                  </a:lnTo>
                  <a:lnTo>
                    <a:pt x="376" y="672"/>
                  </a:lnTo>
                  <a:lnTo>
                    <a:pt x="392" y="712"/>
                  </a:lnTo>
                  <a:lnTo>
                    <a:pt x="408" y="744"/>
                  </a:lnTo>
                  <a:lnTo>
                    <a:pt x="424" y="776"/>
                  </a:lnTo>
                  <a:lnTo>
                    <a:pt x="440" y="808"/>
                  </a:lnTo>
                  <a:lnTo>
                    <a:pt x="448" y="832"/>
                  </a:lnTo>
                  <a:lnTo>
                    <a:pt x="464" y="856"/>
                  </a:lnTo>
                  <a:lnTo>
                    <a:pt x="480" y="880"/>
                  </a:lnTo>
                  <a:lnTo>
                    <a:pt x="496" y="896"/>
                  </a:lnTo>
                  <a:lnTo>
                    <a:pt x="512" y="912"/>
                  </a:lnTo>
                  <a:lnTo>
                    <a:pt x="528" y="928"/>
                  </a:lnTo>
                  <a:lnTo>
                    <a:pt x="544" y="936"/>
                  </a:lnTo>
                  <a:lnTo>
                    <a:pt x="560" y="952"/>
                  </a:lnTo>
                  <a:lnTo>
                    <a:pt x="584" y="968"/>
                  </a:lnTo>
                  <a:lnTo>
                    <a:pt x="600" y="976"/>
                  </a:lnTo>
                  <a:lnTo>
                    <a:pt x="616" y="992"/>
                  </a:lnTo>
                  <a:lnTo>
                    <a:pt x="640" y="1000"/>
                  </a:lnTo>
                  <a:lnTo>
                    <a:pt x="656" y="1016"/>
                  </a:lnTo>
                  <a:lnTo>
                    <a:pt x="680" y="1024"/>
                  </a:lnTo>
                  <a:lnTo>
                    <a:pt x="696" y="1032"/>
                  </a:lnTo>
                  <a:lnTo>
                    <a:pt x="720" y="1048"/>
                  </a:lnTo>
                  <a:lnTo>
                    <a:pt x="744" y="1056"/>
                  </a:lnTo>
                  <a:lnTo>
                    <a:pt x="768" y="1064"/>
                  </a:lnTo>
                  <a:lnTo>
                    <a:pt x="784" y="1072"/>
                  </a:lnTo>
                  <a:lnTo>
                    <a:pt x="808" y="1072"/>
                  </a:lnTo>
                  <a:lnTo>
                    <a:pt x="832" y="1080"/>
                  </a:lnTo>
                  <a:lnTo>
                    <a:pt x="864" y="1080"/>
                  </a:lnTo>
                  <a:lnTo>
                    <a:pt x="888" y="1088"/>
                  </a:lnTo>
                  <a:lnTo>
                    <a:pt x="912" y="1088"/>
                  </a:lnTo>
                  <a:lnTo>
                    <a:pt x="936" y="1088"/>
                  </a:lnTo>
                  <a:lnTo>
                    <a:pt x="968" y="1096"/>
                  </a:lnTo>
                  <a:lnTo>
                    <a:pt x="1000" y="1096"/>
                  </a:lnTo>
                  <a:lnTo>
                    <a:pt x="1032" y="1096"/>
                  </a:lnTo>
                  <a:lnTo>
                    <a:pt x="1064" y="1096"/>
                  </a:lnTo>
                  <a:lnTo>
                    <a:pt x="1104" y="1104"/>
                  </a:lnTo>
                  <a:lnTo>
                    <a:pt x="1136" y="1104"/>
                  </a:lnTo>
                  <a:lnTo>
                    <a:pt x="1176" y="1104"/>
                  </a:lnTo>
                  <a:lnTo>
                    <a:pt x="1208" y="1112"/>
                  </a:lnTo>
                  <a:lnTo>
                    <a:pt x="1240" y="1112"/>
                  </a:lnTo>
                  <a:lnTo>
                    <a:pt x="1280" y="1112"/>
                  </a:lnTo>
                  <a:lnTo>
                    <a:pt x="1304" y="1112"/>
                  </a:lnTo>
                  <a:lnTo>
                    <a:pt x="1336" y="1112"/>
                  </a:lnTo>
                  <a:lnTo>
                    <a:pt x="1360" y="1120"/>
                  </a:lnTo>
                  <a:lnTo>
                    <a:pt x="1384" y="1120"/>
                  </a:lnTo>
                  <a:lnTo>
                    <a:pt x="1408" y="1120"/>
                  </a:lnTo>
                  <a:lnTo>
                    <a:pt x="1424" y="1120"/>
                  </a:lnTo>
                  <a:lnTo>
                    <a:pt x="1440" y="1120"/>
                  </a:lnTo>
                  <a:lnTo>
                    <a:pt x="1448" y="1120"/>
                  </a:lnTo>
                </a:path>
              </a:pathLst>
            </a:custGeom>
            <a:noFill/>
            <a:ln w="19080">
              <a:solidFill>
                <a:srgbClr val="d83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8" name=""/>
            <p:cNvGrpSpPr/>
            <p:nvPr/>
          </p:nvGrpSpPr>
          <p:grpSpPr>
            <a:xfrm>
              <a:off x="2478600" y="1465200"/>
              <a:ext cx="3033720" cy="2246760"/>
              <a:chOff x="2478600" y="1465200"/>
              <a:chExt cx="3033720" cy="2246760"/>
            </a:xfrm>
          </p:grpSpPr>
          <p:grpSp>
            <p:nvGrpSpPr>
              <p:cNvPr id="3019" name=""/>
              <p:cNvGrpSpPr/>
              <p:nvPr/>
            </p:nvGrpSpPr>
            <p:grpSpPr>
              <a:xfrm>
                <a:off x="2806560" y="1465200"/>
                <a:ext cx="88920" cy="1906560"/>
                <a:chOff x="2806560" y="1465200"/>
                <a:chExt cx="88920" cy="1906560"/>
              </a:xfrm>
            </p:grpSpPr>
            <p:sp>
              <p:nvSpPr>
                <p:cNvPr id="3020" name=""/>
                <p:cNvSpPr/>
                <p:nvPr/>
              </p:nvSpPr>
              <p:spPr>
                <a:xfrm>
                  <a:off x="2806560" y="3370320"/>
                  <a:ext cx="889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2806560" y="2951280"/>
                  <a:ext cx="889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2806560" y="2532240"/>
                  <a:ext cx="889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2806560" y="2100240"/>
                  <a:ext cx="889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2806560" y="1681200"/>
                  <a:ext cx="889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2806560" y="326880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2806560" y="3166920"/>
                  <a:ext cx="511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2806560" y="305280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2806560" y="2849400"/>
                  <a:ext cx="511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2806560" y="273528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2806560" y="263376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2806560" y="241776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2806560" y="231624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2806560" y="221472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2806560" y="199872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2806560" y="189720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2806560" y="1782720"/>
                  <a:ext cx="511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2806560" y="157968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2806560" y="1465200"/>
                  <a:ext cx="511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9" name=""/>
              <p:cNvGrpSpPr/>
              <p:nvPr/>
            </p:nvGrpSpPr>
            <p:grpSpPr>
              <a:xfrm>
                <a:off x="2806560" y="3294000"/>
                <a:ext cx="2656080" cy="76320"/>
                <a:chOff x="2806560" y="3294000"/>
                <a:chExt cx="2656080" cy="76320"/>
              </a:xfrm>
            </p:grpSpPr>
            <p:sp>
              <p:nvSpPr>
                <p:cNvPr id="3040" name=""/>
                <p:cNvSpPr/>
                <p:nvPr/>
              </p:nvSpPr>
              <p:spPr>
                <a:xfrm flipV="1">
                  <a:off x="2806560" y="3294000"/>
                  <a:ext cx="1800" cy="763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 flipV="1">
                  <a:off x="3695760" y="3294000"/>
                  <a:ext cx="1440" cy="763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 flipV="1">
                  <a:off x="4584600" y="3294000"/>
                  <a:ext cx="1800" cy="763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 flipV="1">
                  <a:off x="5460840" y="3294000"/>
                  <a:ext cx="1800" cy="763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 flipV="1">
                  <a:off x="2984400" y="3332160"/>
                  <a:ext cx="180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 flipV="1">
                  <a:off x="3162240" y="3332160"/>
                  <a:ext cx="180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 flipV="1">
                  <a:off x="3340080" y="3332160"/>
                  <a:ext cx="144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 flipV="1">
                  <a:off x="3517920" y="3332160"/>
                  <a:ext cx="144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 flipV="1">
                  <a:off x="3873600" y="3332160"/>
                  <a:ext cx="144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 flipV="1">
                  <a:off x="4051440" y="3332160"/>
                  <a:ext cx="144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 flipV="1">
                  <a:off x="4229280" y="3332160"/>
                  <a:ext cx="144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 flipV="1">
                  <a:off x="4406760" y="3332160"/>
                  <a:ext cx="180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 flipV="1">
                  <a:off x="4762440" y="3332160"/>
                  <a:ext cx="180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 flipV="1">
                  <a:off x="4940280" y="3332160"/>
                  <a:ext cx="144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 flipV="1">
                  <a:off x="5118120" y="3332160"/>
                  <a:ext cx="144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 flipV="1">
                  <a:off x="5283360" y="3332160"/>
                  <a:ext cx="1440" cy="381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6" name=""/>
              <p:cNvSpPr/>
              <p:nvPr/>
            </p:nvSpPr>
            <p:spPr>
              <a:xfrm flipV="1">
                <a:off x="2806560" y="1465200"/>
                <a:ext cx="1800" cy="19051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806560" y="3370320"/>
                <a:ext cx="265428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857680" y="3344760"/>
                <a:ext cx="63360" cy="6372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946240" y="3294000"/>
                <a:ext cx="63720" cy="6372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3035160" y="2583000"/>
                <a:ext cx="6372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3124080" y="2036880"/>
                <a:ext cx="6372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3213000" y="1528920"/>
                <a:ext cx="6372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301920" y="1897200"/>
                <a:ext cx="6372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390840" y="2087640"/>
                <a:ext cx="6372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3479760" y="2252520"/>
                <a:ext cx="63720" cy="6372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568680" y="263376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3657600" y="287496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3746520" y="295128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835440" y="3065400"/>
                <a:ext cx="63360" cy="6372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3924360" y="312912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4013280" y="304020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4102200" y="3154320"/>
                <a:ext cx="63360" cy="6372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4191120" y="323064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4280040" y="3255840"/>
                <a:ext cx="63360" cy="6372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4368960" y="328140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4457880" y="3294000"/>
                <a:ext cx="63360" cy="6372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4546440" y="3281400"/>
                <a:ext cx="6372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4622760" y="3281400"/>
                <a:ext cx="6372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4711680" y="331956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4800600" y="331956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4889520" y="331956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4978440" y="331956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5067360" y="331956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5156280" y="333216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5245200" y="333216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5384880" y="3332160"/>
                <a:ext cx="63360" cy="63360"/>
              </a:xfrm>
              <a:prstGeom prst="ellipse">
                <a:avLst/>
              </a:prstGeom>
              <a:solidFill>
                <a:srgbClr val="d83903"/>
              </a:solidFill>
              <a:ln w="19080">
                <a:solidFill>
                  <a:srgbClr val="d839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2857680" y="3344760"/>
                <a:ext cx="6336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2946240" y="3344760"/>
                <a:ext cx="6372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3035160" y="3268800"/>
                <a:ext cx="6372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3124080" y="3002040"/>
                <a:ext cx="6372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3213000" y="2671920"/>
                <a:ext cx="6372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3301920" y="2379600"/>
                <a:ext cx="6372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3390840" y="2316240"/>
                <a:ext cx="6372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3479760" y="2392200"/>
                <a:ext cx="6372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3568680" y="245592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3657600" y="2570040"/>
                <a:ext cx="6336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3746520" y="268452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3835440" y="276084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3924360" y="291312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4013280" y="296388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4102200" y="301464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4191120" y="305280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4280040" y="309096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4368960" y="312912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4457880" y="3166920"/>
                <a:ext cx="6336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4546440" y="3192480"/>
                <a:ext cx="6372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4622760" y="3218040"/>
                <a:ext cx="6372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4711680" y="323064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4800600" y="324324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4889520" y="3255840"/>
                <a:ext cx="6336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4978440" y="3294000"/>
                <a:ext cx="6336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5067360" y="326880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5156280" y="3281400"/>
                <a:ext cx="63360" cy="6336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5245200" y="3294000"/>
                <a:ext cx="6336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5384880" y="3294000"/>
                <a:ext cx="63360" cy="63720"/>
              </a:xfrm>
              <a:prstGeom prst="ellipse">
                <a:avLst/>
              </a:prstGeom>
              <a:solidFill>
                <a:srgbClr val="fcf305"/>
              </a:solidFill>
              <a:ln w="19080">
                <a:solidFill>
                  <a:srgbClr val="fcf3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2946240" y="3344760"/>
                <a:ext cx="6372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3035160" y="3319560"/>
                <a:ext cx="6372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3124080" y="3230640"/>
                <a:ext cx="6372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3213000" y="3040200"/>
                <a:ext cx="6372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3301920" y="2798640"/>
                <a:ext cx="6372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3390840" y="2658960"/>
                <a:ext cx="6372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3479760" y="2532240"/>
                <a:ext cx="6372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3568680" y="250668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3657600" y="2570040"/>
                <a:ext cx="6336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3746520" y="263376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3835440" y="2697120"/>
                <a:ext cx="6336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3924360" y="2747880"/>
                <a:ext cx="6336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4013280" y="2836800"/>
                <a:ext cx="6336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4102200" y="2925720"/>
                <a:ext cx="6336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4191120" y="296388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4280040" y="301464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4368960" y="3027240"/>
                <a:ext cx="6336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4457880" y="3078000"/>
                <a:ext cx="6336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4546440" y="3103560"/>
                <a:ext cx="6372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4622760" y="3141720"/>
                <a:ext cx="6372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4711680" y="3166920"/>
                <a:ext cx="6336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4800600" y="319248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4889520" y="3205080"/>
                <a:ext cx="6336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4978440" y="321804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5067360" y="324324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5156280" y="3255840"/>
                <a:ext cx="63360" cy="63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5245200" y="326880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5384880" y="3281400"/>
                <a:ext cx="63360" cy="63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3606840" y="3344760"/>
                <a:ext cx="63360" cy="63720"/>
              </a:xfrm>
              <a:prstGeom prst="ellipse">
                <a:avLst/>
              </a:prstGeom>
              <a:solidFill>
                <a:srgbClr val="27fc20"/>
              </a:solidFill>
              <a:ln w="1908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3784680" y="3344760"/>
                <a:ext cx="63360" cy="63720"/>
              </a:xfrm>
              <a:prstGeom prst="ellipse">
                <a:avLst/>
              </a:prstGeom>
              <a:solidFill>
                <a:srgbClr val="27fc20"/>
              </a:solidFill>
              <a:ln w="1908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3962520" y="3332160"/>
                <a:ext cx="63360" cy="63360"/>
              </a:xfrm>
              <a:prstGeom prst="ellipse">
                <a:avLst/>
              </a:prstGeom>
              <a:solidFill>
                <a:srgbClr val="27fc20"/>
              </a:solidFill>
              <a:ln w="1908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4140360" y="3332160"/>
                <a:ext cx="63360" cy="63360"/>
              </a:xfrm>
              <a:prstGeom prst="ellipse">
                <a:avLst/>
              </a:prstGeom>
              <a:solidFill>
                <a:srgbClr val="27fc20"/>
              </a:solidFill>
              <a:ln w="1908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4317840" y="3319560"/>
                <a:ext cx="63720" cy="63360"/>
              </a:xfrm>
              <a:prstGeom prst="ellipse">
                <a:avLst/>
              </a:prstGeom>
              <a:solidFill>
                <a:srgbClr val="27fc20"/>
              </a:solidFill>
              <a:ln w="1908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495680" y="3306600"/>
                <a:ext cx="63720" cy="63720"/>
              </a:xfrm>
              <a:prstGeom prst="ellipse">
                <a:avLst/>
              </a:prstGeom>
              <a:solidFill>
                <a:srgbClr val="27fc20"/>
              </a:solidFill>
              <a:ln w="1908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673520" y="3306600"/>
                <a:ext cx="63720" cy="63720"/>
              </a:xfrm>
              <a:prstGeom prst="ellipse">
                <a:avLst/>
              </a:prstGeom>
              <a:solidFill>
                <a:srgbClr val="27fc20"/>
              </a:solidFill>
              <a:ln w="1908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4851360" y="3294000"/>
                <a:ext cx="63720" cy="63720"/>
              </a:xfrm>
              <a:prstGeom prst="ellipse">
                <a:avLst/>
              </a:prstGeom>
              <a:solidFill>
                <a:srgbClr val="27fc20"/>
              </a:solidFill>
              <a:ln w="1908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5029200" y="3281400"/>
                <a:ext cx="63360" cy="63360"/>
              </a:xfrm>
              <a:prstGeom prst="ellipse">
                <a:avLst/>
              </a:prstGeom>
              <a:solidFill>
                <a:srgbClr val="27fc20"/>
              </a:solidFill>
              <a:ln w="1908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5207040" y="3281400"/>
                <a:ext cx="63360" cy="63360"/>
              </a:xfrm>
              <a:prstGeom prst="ellipse">
                <a:avLst/>
              </a:prstGeom>
              <a:solidFill>
                <a:srgbClr val="27fc20"/>
              </a:solidFill>
              <a:ln w="1908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5384880" y="3281400"/>
                <a:ext cx="63360" cy="63360"/>
              </a:xfrm>
              <a:prstGeom prst="ellipse">
                <a:avLst/>
              </a:prstGeom>
              <a:solidFill>
                <a:srgbClr val="27fc20"/>
              </a:solidFill>
              <a:ln w="1908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3073320" y="325584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073320" y="3255840"/>
                <a:ext cx="76320" cy="7632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251160" y="305280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3251160" y="3052800"/>
                <a:ext cx="76320" cy="7632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3416400" y="300204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3416400" y="3002040"/>
                <a:ext cx="75960" cy="7596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3594240" y="306540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3594240" y="3065400"/>
                <a:ext cx="75960" cy="7632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3772080" y="3129120"/>
                <a:ext cx="8856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3772080" y="3129120"/>
                <a:ext cx="75960" cy="7596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3949560" y="317988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3949560" y="3179880"/>
                <a:ext cx="76320" cy="7596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4127400" y="3218040"/>
                <a:ext cx="88920" cy="8856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4127400" y="3218040"/>
                <a:ext cx="76320" cy="7596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4305240" y="324324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4305240" y="3243240"/>
                <a:ext cx="76320" cy="7632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4483080" y="325584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4483080" y="3255840"/>
                <a:ext cx="76320" cy="7632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4660920" y="326880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4660920" y="3268800"/>
                <a:ext cx="76320" cy="7596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4838760" y="326880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4838760" y="3268800"/>
                <a:ext cx="76320" cy="7596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5016600" y="328140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5016600" y="3281400"/>
                <a:ext cx="75960" cy="7632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5194440" y="3294000"/>
                <a:ext cx="8892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5194440" y="3294000"/>
                <a:ext cx="75960" cy="7632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5372280" y="3294000"/>
                <a:ext cx="88560" cy="889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5372280" y="3294000"/>
                <a:ext cx="75960" cy="7632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83" name=""/>
              <p:cNvGrpSpPr/>
              <p:nvPr/>
            </p:nvGrpSpPr>
            <p:grpSpPr>
              <a:xfrm>
                <a:off x="2730600" y="3529080"/>
                <a:ext cx="2781720" cy="182880"/>
                <a:chOff x="2730600" y="3529080"/>
                <a:chExt cx="2781720" cy="182880"/>
              </a:xfrm>
            </p:grpSpPr>
            <p:sp>
              <p:nvSpPr>
                <p:cNvPr id="3184" name=""/>
                <p:cNvSpPr/>
                <p:nvPr/>
              </p:nvSpPr>
              <p:spPr>
                <a:xfrm>
                  <a:off x="2730600" y="3529080"/>
                  <a:ext cx="921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>
                  <a:off x="3563640" y="3529080"/>
                  <a:ext cx="183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1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>
                  <a:off x="4439880" y="3529080"/>
                  <a:ext cx="183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2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>
                  <a:off x="5328720" y="3529080"/>
                  <a:ext cx="183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3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8" name=""/>
              <p:cNvGrpSpPr/>
              <p:nvPr/>
            </p:nvGrpSpPr>
            <p:grpSpPr>
              <a:xfrm>
                <a:off x="2478600" y="1611360"/>
                <a:ext cx="275040" cy="1872000"/>
                <a:chOff x="2478600" y="1611360"/>
                <a:chExt cx="275040" cy="1872000"/>
              </a:xfrm>
            </p:grpSpPr>
            <p:sp>
              <p:nvSpPr>
                <p:cNvPr id="3189" name=""/>
                <p:cNvSpPr/>
                <p:nvPr/>
              </p:nvSpPr>
              <p:spPr>
                <a:xfrm>
                  <a:off x="2629080" y="3300480"/>
                  <a:ext cx="921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>
                  <a:off x="2478600" y="2881440"/>
                  <a:ext cx="275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0.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>
                  <a:off x="2478600" y="2462040"/>
                  <a:ext cx="275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0.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>
                  <a:off x="2478600" y="2030400"/>
                  <a:ext cx="275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0.6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>
                  <a:off x="2478600" y="1611360"/>
                  <a:ext cx="275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0.8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94" name=""/>
            <p:cNvSpPr/>
            <p:nvPr/>
          </p:nvSpPr>
          <p:spPr>
            <a:xfrm>
              <a:off x="2649600" y="1103400"/>
              <a:ext cx="202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f305"/>
                  </a:solidFill>
                  <a:latin typeface="Trebuchet MS"/>
                </a:rPr>
                <a:t>[Benzoate] =  10 µ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5" name=""/>
          <p:cNvGrpSpPr/>
          <p:nvPr/>
        </p:nvGrpSpPr>
        <p:grpSpPr>
          <a:xfrm>
            <a:off x="2194920" y="3821040"/>
            <a:ext cx="3364560" cy="2316600"/>
            <a:chOff x="2194920" y="3821040"/>
            <a:chExt cx="3364560" cy="2316600"/>
          </a:xfrm>
        </p:grpSpPr>
        <p:sp>
          <p:nvSpPr>
            <p:cNvPr id="3196" name=""/>
            <p:cNvSpPr/>
            <p:nvPr/>
          </p:nvSpPr>
          <p:spPr>
            <a:xfrm>
              <a:off x="2806560" y="4017960"/>
              <a:ext cx="2171880" cy="1778040"/>
            </a:xfrm>
            <a:custGeom>
              <a:avLst/>
              <a:gdLst/>
              <a:ahLst/>
              <a:rect l="l" t="t" r="r" b="b"/>
              <a:pathLst>
                <a:path w="1368" h="1120">
                  <a:moveTo>
                    <a:pt x="0" y="896"/>
                  </a:moveTo>
                  <a:lnTo>
                    <a:pt x="0" y="872"/>
                  </a:lnTo>
                  <a:lnTo>
                    <a:pt x="0" y="840"/>
                  </a:lnTo>
                  <a:lnTo>
                    <a:pt x="0" y="800"/>
                  </a:lnTo>
                  <a:lnTo>
                    <a:pt x="8" y="760"/>
                  </a:lnTo>
                  <a:lnTo>
                    <a:pt x="8" y="720"/>
                  </a:lnTo>
                  <a:lnTo>
                    <a:pt x="8" y="672"/>
                  </a:lnTo>
                  <a:lnTo>
                    <a:pt x="8" y="616"/>
                  </a:lnTo>
                  <a:lnTo>
                    <a:pt x="8" y="568"/>
                  </a:lnTo>
                  <a:lnTo>
                    <a:pt x="8" y="512"/>
                  </a:lnTo>
                  <a:lnTo>
                    <a:pt x="8" y="464"/>
                  </a:lnTo>
                  <a:lnTo>
                    <a:pt x="8" y="408"/>
                  </a:lnTo>
                  <a:lnTo>
                    <a:pt x="8" y="360"/>
                  </a:lnTo>
                  <a:lnTo>
                    <a:pt x="16" y="312"/>
                  </a:lnTo>
                  <a:lnTo>
                    <a:pt x="16" y="264"/>
                  </a:lnTo>
                  <a:lnTo>
                    <a:pt x="16" y="224"/>
                  </a:lnTo>
                  <a:lnTo>
                    <a:pt x="16" y="184"/>
                  </a:lnTo>
                  <a:lnTo>
                    <a:pt x="16" y="152"/>
                  </a:lnTo>
                  <a:lnTo>
                    <a:pt x="16" y="128"/>
                  </a:lnTo>
                  <a:lnTo>
                    <a:pt x="24" y="104"/>
                  </a:lnTo>
                  <a:lnTo>
                    <a:pt x="24" y="96"/>
                  </a:lnTo>
                  <a:lnTo>
                    <a:pt x="24" y="88"/>
                  </a:lnTo>
                  <a:lnTo>
                    <a:pt x="24" y="80"/>
                  </a:lnTo>
                  <a:lnTo>
                    <a:pt x="32" y="80"/>
                  </a:lnTo>
                  <a:lnTo>
                    <a:pt x="32" y="72"/>
                  </a:lnTo>
                  <a:lnTo>
                    <a:pt x="32" y="64"/>
                  </a:lnTo>
                  <a:lnTo>
                    <a:pt x="32" y="56"/>
                  </a:lnTo>
                  <a:lnTo>
                    <a:pt x="32" y="48"/>
                  </a:lnTo>
                  <a:lnTo>
                    <a:pt x="32" y="40"/>
                  </a:lnTo>
                  <a:lnTo>
                    <a:pt x="32" y="32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8"/>
                  </a:lnTo>
                  <a:lnTo>
                    <a:pt x="48" y="16"/>
                  </a:lnTo>
                  <a:lnTo>
                    <a:pt x="56" y="24"/>
                  </a:lnTo>
                  <a:lnTo>
                    <a:pt x="56" y="40"/>
                  </a:lnTo>
                  <a:lnTo>
                    <a:pt x="64" y="56"/>
                  </a:lnTo>
                  <a:lnTo>
                    <a:pt x="72" y="72"/>
                  </a:lnTo>
                  <a:lnTo>
                    <a:pt x="72" y="88"/>
                  </a:lnTo>
                  <a:lnTo>
                    <a:pt x="80" y="104"/>
                  </a:lnTo>
                  <a:lnTo>
                    <a:pt x="88" y="128"/>
                  </a:lnTo>
                  <a:lnTo>
                    <a:pt x="96" y="144"/>
                  </a:lnTo>
                  <a:lnTo>
                    <a:pt x="104" y="168"/>
                  </a:lnTo>
                  <a:lnTo>
                    <a:pt x="112" y="184"/>
                  </a:lnTo>
                  <a:lnTo>
                    <a:pt x="112" y="200"/>
                  </a:lnTo>
                  <a:lnTo>
                    <a:pt x="120" y="216"/>
                  </a:lnTo>
                  <a:lnTo>
                    <a:pt x="128" y="232"/>
                  </a:lnTo>
                  <a:lnTo>
                    <a:pt x="136" y="248"/>
                  </a:lnTo>
                  <a:lnTo>
                    <a:pt x="136" y="264"/>
                  </a:lnTo>
                  <a:lnTo>
                    <a:pt x="144" y="272"/>
                  </a:lnTo>
                  <a:lnTo>
                    <a:pt x="144" y="280"/>
                  </a:lnTo>
                  <a:lnTo>
                    <a:pt x="152" y="288"/>
                  </a:lnTo>
                  <a:lnTo>
                    <a:pt x="152" y="296"/>
                  </a:lnTo>
                  <a:lnTo>
                    <a:pt x="160" y="312"/>
                  </a:lnTo>
                  <a:lnTo>
                    <a:pt x="168" y="328"/>
                  </a:lnTo>
                  <a:lnTo>
                    <a:pt x="176" y="344"/>
                  </a:lnTo>
                  <a:lnTo>
                    <a:pt x="192" y="360"/>
                  </a:lnTo>
                  <a:lnTo>
                    <a:pt x="200" y="376"/>
                  </a:lnTo>
                  <a:lnTo>
                    <a:pt x="208" y="400"/>
                  </a:lnTo>
                  <a:lnTo>
                    <a:pt x="224" y="416"/>
                  </a:lnTo>
                  <a:lnTo>
                    <a:pt x="240" y="440"/>
                  </a:lnTo>
                  <a:lnTo>
                    <a:pt x="248" y="464"/>
                  </a:lnTo>
                  <a:lnTo>
                    <a:pt x="264" y="480"/>
                  </a:lnTo>
                  <a:lnTo>
                    <a:pt x="280" y="504"/>
                  </a:lnTo>
                  <a:lnTo>
                    <a:pt x="288" y="520"/>
                  </a:lnTo>
                  <a:lnTo>
                    <a:pt x="304" y="544"/>
                  </a:lnTo>
                  <a:lnTo>
                    <a:pt x="320" y="560"/>
                  </a:lnTo>
                  <a:lnTo>
                    <a:pt x="336" y="576"/>
                  </a:lnTo>
                  <a:lnTo>
                    <a:pt x="352" y="592"/>
                  </a:lnTo>
                  <a:lnTo>
                    <a:pt x="360" y="608"/>
                  </a:lnTo>
                  <a:lnTo>
                    <a:pt x="376" y="616"/>
                  </a:lnTo>
                  <a:lnTo>
                    <a:pt x="392" y="624"/>
                  </a:lnTo>
                  <a:lnTo>
                    <a:pt x="408" y="640"/>
                  </a:lnTo>
                  <a:lnTo>
                    <a:pt x="424" y="648"/>
                  </a:lnTo>
                  <a:lnTo>
                    <a:pt x="440" y="664"/>
                  </a:lnTo>
                  <a:lnTo>
                    <a:pt x="464" y="680"/>
                  </a:lnTo>
                  <a:lnTo>
                    <a:pt x="488" y="696"/>
                  </a:lnTo>
                  <a:lnTo>
                    <a:pt x="504" y="712"/>
                  </a:lnTo>
                  <a:lnTo>
                    <a:pt x="528" y="736"/>
                  </a:lnTo>
                  <a:lnTo>
                    <a:pt x="552" y="752"/>
                  </a:lnTo>
                  <a:lnTo>
                    <a:pt x="576" y="768"/>
                  </a:lnTo>
                  <a:lnTo>
                    <a:pt x="600" y="792"/>
                  </a:lnTo>
                  <a:lnTo>
                    <a:pt x="624" y="808"/>
                  </a:lnTo>
                  <a:lnTo>
                    <a:pt x="648" y="824"/>
                  </a:lnTo>
                  <a:lnTo>
                    <a:pt x="672" y="840"/>
                  </a:lnTo>
                  <a:lnTo>
                    <a:pt x="696" y="864"/>
                  </a:lnTo>
                  <a:lnTo>
                    <a:pt x="720" y="872"/>
                  </a:lnTo>
                  <a:lnTo>
                    <a:pt x="744" y="888"/>
                  </a:lnTo>
                  <a:lnTo>
                    <a:pt x="760" y="904"/>
                  </a:lnTo>
                  <a:lnTo>
                    <a:pt x="784" y="912"/>
                  </a:lnTo>
                  <a:lnTo>
                    <a:pt x="800" y="920"/>
                  </a:lnTo>
                  <a:lnTo>
                    <a:pt x="816" y="928"/>
                  </a:lnTo>
                  <a:lnTo>
                    <a:pt x="840" y="936"/>
                  </a:lnTo>
                  <a:lnTo>
                    <a:pt x="856" y="952"/>
                  </a:lnTo>
                  <a:lnTo>
                    <a:pt x="880" y="960"/>
                  </a:lnTo>
                  <a:lnTo>
                    <a:pt x="896" y="968"/>
                  </a:lnTo>
                  <a:lnTo>
                    <a:pt x="920" y="976"/>
                  </a:lnTo>
                  <a:lnTo>
                    <a:pt x="944" y="984"/>
                  </a:lnTo>
                  <a:lnTo>
                    <a:pt x="960" y="992"/>
                  </a:lnTo>
                  <a:lnTo>
                    <a:pt x="984" y="1000"/>
                  </a:lnTo>
                  <a:lnTo>
                    <a:pt x="1008" y="1008"/>
                  </a:lnTo>
                  <a:lnTo>
                    <a:pt x="1024" y="1016"/>
                  </a:lnTo>
                  <a:lnTo>
                    <a:pt x="1048" y="1024"/>
                  </a:lnTo>
                  <a:lnTo>
                    <a:pt x="1064" y="1032"/>
                  </a:lnTo>
                  <a:lnTo>
                    <a:pt x="1088" y="1032"/>
                  </a:lnTo>
                  <a:lnTo>
                    <a:pt x="1104" y="1040"/>
                  </a:lnTo>
                  <a:lnTo>
                    <a:pt x="1120" y="1048"/>
                  </a:lnTo>
                  <a:lnTo>
                    <a:pt x="1136" y="1048"/>
                  </a:lnTo>
                  <a:lnTo>
                    <a:pt x="1152" y="1056"/>
                  </a:lnTo>
                  <a:lnTo>
                    <a:pt x="1168" y="1064"/>
                  </a:lnTo>
                  <a:lnTo>
                    <a:pt x="1184" y="1064"/>
                  </a:lnTo>
                  <a:lnTo>
                    <a:pt x="1200" y="1064"/>
                  </a:lnTo>
                  <a:lnTo>
                    <a:pt x="1208" y="1072"/>
                  </a:lnTo>
                  <a:lnTo>
                    <a:pt x="1224" y="1072"/>
                  </a:lnTo>
                  <a:lnTo>
                    <a:pt x="1240" y="1080"/>
                  </a:lnTo>
                  <a:lnTo>
                    <a:pt x="1248" y="1080"/>
                  </a:lnTo>
                  <a:lnTo>
                    <a:pt x="1264" y="1088"/>
                  </a:lnTo>
                  <a:lnTo>
                    <a:pt x="1272" y="1088"/>
                  </a:lnTo>
                  <a:lnTo>
                    <a:pt x="1288" y="1096"/>
                  </a:lnTo>
                  <a:lnTo>
                    <a:pt x="1296" y="1096"/>
                  </a:lnTo>
                  <a:lnTo>
                    <a:pt x="1312" y="1104"/>
                  </a:lnTo>
                  <a:lnTo>
                    <a:pt x="1320" y="1104"/>
                  </a:lnTo>
                  <a:lnTo>
                    <a:pt x="1328" y="1104"/>
                  </a:lnTo>
                  <a:lnTo>
                    <a:pt x="1336" y="1112"/>
                  </a:lnTo>
                  <a:lnTo>
                    <a:pt x="1344" y="1112"/>
                  </a:lnTo>
                  <a:lnTo>
                    <a:pt x="1352" y="1112"/>
                  </a:lnTo>
                  <a:lnTo>
                    <a:pt x="1360" y="1120"/>
                  </a:lnTo>
                  <a:lnTo>
                    <a:pt x="1368" y="1120"/>
                  </a:lnTo>
                </a:path>
              </a:pathLst>
            </a:custGeom>
            <a:noFill/>
            <a:ln w="19080">
              <a:solidFill>
                <a:srgbClr val="fcf3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819520" y="3916440"/>
              <a:ext cx="355320" cy="1384200"/>
            </a:xfrm>
            <a:custGeom>
              <a:avLst/>
              <a:gdLst/>
              <a:ahLst/>
              <a:rect l="l" t="t" r="r" b="b"/>
              <a:pathLst>
                <a:path w="224" h="872">
                  <a:moveTo>
                    <a:pt x="0" y="872"/>
                  </a:moveTo>
                  <a:lnTo>
                    <a:pt x="0" y="840"/>
                  </a:lnTo>
                  <a:lnTo>
                    <a:pt x="0" y="808"/>
                  </a:lnTo>
                  <a:lnTo>
                    <a:pt x="0" y="768"/>
                  </a:lnTo>
                  <a:lnTo>
                    <a:pt x="0" y="728"/>
                  </a:lnTo>
                  <a:lnTo>
                    <a:pt x="0" y="688"/>
                  </a:lnTo>
                  <a:lnTo>
                    <a:pt x="0" y="648"/>
                  </a:lnTo>
                  <a:lnTo>
                    <a:pt x="0" y="600"/>
                  </a:lnTo>
                  <a:lnTo>
                    <a:pt x="0" y="552"/>
                  </a:lnTo>
                  <a:lnTo>
                    <a:pt x="0" y="512"/>
                  </a:lnTo>
                  <a:lnTo>
                    <a:pt x="8" y="464"/>
                  </a:lnTo>
                  <a:lnTo>
                    <a:pt x="8" y="424"/>
                  </a:lnTo>
                  <a:lnTo>
                    <a:pt x="8" y="376"/>
                  </a:lnTo>
                  <a:lnTo>
                    <a:pt x="8" y="336"/>
                  </a:lnTo>
                  <a:lnTo>
                    <a:pt x="8" y="304"/>
                  </a:lnTo>
                  <a:lnTo>
                    <a:pt x="8" y="264"/>
                  </a:lnTo>
                  <a:lnTo>
                    <a:pt x="8" y="240"/>
                  </a:lnTo>
                  <a:lnTo>
                    <a:pt x="8" y="208"/>
                  </a:lnTo>
                  <a:lnTo>
                    <a:pt x="8" y="192"/>
                  </a:lnTo>
                  <a:lnTo>
                    <a:pt x="8" y="168"/>
                  </a:lnTo>
                  <a:lnTo>
                    <a:pt x="8" y="160"/>
                  </a:lnTo>
                  <a:lnTo>
                    <a:pt x="8" y="152"/>
                  </a:lnTo>
                  <a:lnTo>
                    <a:pt x="8" y="136"/>
                  </a:lnTo>
                  <a:lnTo>
                    <a:pt x="8" y="128"/>
                  </a:lnTo>
                  <a:lnTo>
                    <a:pt x="8" y="120"/>
                  </a:lnTo>
                  <a:lnTo>
                    <a:pt x="16" y="112"/>
                  </a:lnTo>
                  <a:lnTo>
                    <a:pt x="16" y="96"/>
                  </a:lnTo>
                  <a:lnTo>
                    <a:pt x="16" y="88"/>
                  </a:lnTo>
                  <a:lnTo>
                    <a:pt x="16" y="80"/>
                  </a:lnTo>
                  <a:lnTo>
                    <a:pt x="16" y="64"/>
                  </a:lnTo>
                  <a:lnTo>
                    <a:pt x="16" y="56"/>
                  </a:lnTo>
                  <a:lnTo>
                    <a:pt x="16" y="48"/>
                  </a:lnTo>
                  <a:lnTo>
                    <a:pt x="16" y="40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32" y="8"/>
                  </a:lnTo>
                  <a:lnTo>
                    <a:pt x="32" y="16"/>
                  </a:lnTo>
                  <a:lnTo>
                    <a:pt x="32" y="24"/>
                  </a:lnTo>
                  <a:lnTo>
                    <a:pt x="32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0" y="72"/>
                  </a:lnTo>
                  <a:lnTo>
                    <a:pt x="48" y="80"/>
                  </a:lnTo>
                  <a:lnTo>
                    <a:pt x="48" y="88"/>
                  </a:lnTo>
                  <a:lnTo>
                    <a:pt x="48" y="96"/>
                  </a:lnTo>
                  <a:lnTo>
                    <a:pt x="48" y="104"/>
                  </a:lnTo>
                  <a:lnTo>
                    <a:pt x="48" y="112"/>
                  </a:lnTo>
                  <a:lnTo>
                    <a:pt x="56" y="120"/>
                  </a:lnTo>
                  <a:lnTo>
                    <a:pt x="56" y="128"/>
                  </a:lnTo>
                  <a:lnTo>
                    <a:pt x="56" y="136"/>
                  </a:lnTo>
                  <a:lnTo>
                    <a:pt x="56" y="144"/>
                  </a:lnTo>
                  <a:lnTo>
                    <a:pt x="64" y="152"/>
                  </a:lnTo>
                  <a:lnTo>
                    <a:pt x="64" y="168"/>
                  </a:lnTo>
                  <a:lnTo>
                    <a:pt x="64" y="176"/>
                  </a:lnTo>
                  <a:lnTo>
                    <a:pt x="72" y="192"/>
                  </a:lnTo>
                  <a:lnTo>
                    <a:pt x="72" y="208"/>
                  </a:lnTo>
                  <a:lnTo>
                    <a:pt x="80" y="224"/>
                  </a:lnTo>
                  <a:lnTo>
                    <a:pt x="80" y="248"/>
                  </a:lnTo>
                  <a:lnTo>
                    <a:pt x="88" y="264"/>
                  </a:lnTo>
                  <a:lnTo>
                    <a:pt x="88" y="280"/>
                  </a:lnTo>
                  <a:lnTo>
                    <a:pt x="88" y="304"/>
                  </a:lnTo>
                  <a:lnTo>
                    <a:pt x="96" y="320"/>
                  </a:lnTo>
                  <a:lnTo>
                    <a:pt x="96" y="336"/>
                  </a:lnTo>
                  <a:lnTo>
                    <a:pt x="104" y="352"/>
                  </a:lnTo>
                  <a:lnTo>
                    <a:pt x="104" y="376"/>
                  </a:lnTo>
                  <a:lnTo>
                    <a:pt x="112" y="392"/>
                  </a:lnTo>
                  <a:lnTo>
                    <a:pt x="112" y="400"/>
                  </a:lnTo>
                  <a:lnTo>
                    <a:pt x="112" y="416"/>
                  </a:lnTo>
                  <a:lnTo>
                    <a:pt x="120" y="432"/>
                  </a:lnTo>
                  <a:lnTo>
                    <a:pt x="120" y="440"/>
                  </a:lnTo>
                  <a:lnTo>
                    <a:pt x="128" y="464"/>
                  </a:lnTo>
                  <a:lnTo>
                    <a:pt x="136" y="480"/>
                  </a:lnTo>
                  <a:lnTo>
                    <a:pt x="144" y="496"/>
                  </a:lnTo>
                  <a:lnTo>
                    <a:pt x="152" y="520"/>
                  </a:lnTo>
                  <a:lnTo>
                    <a:pt x="160" y="536"/>
                  </a:lnTo>
                  <a:lnTo>
                    <a:pt x="160" y="552"/>
                  </a:lnTo>
                  <a:lnTo>
                    <a:pt x="168" y="568"/>
                  </a:lnTo>
                  <a:lnTo>
                    <a:pt x="176" y="584"/>
                  </a:lnTo>
                  <a:lnTo>
                    <a:pt x="184" y="600"/>
                  </a:lnTo>
                  <a:lnTo>
                    <a:pt x="192" y="608"/>
                  </a:lnTo>
                  <a:lnTo>
                    <a:pt x="192" y="624"/>
                  </a:lnTo>
                  <a:lnTo>
                    <a:pt x="200" y="632"/>
                  </a:lnTo>
                  <a:lnTo>
                    <a:pt x="208" y="648"/>
                  </a:lnTo>
                  <a:lnTo>
                    <a:pt x="208" y="656"/>
                  </a:lnTo>
                  <a:lnTo>
                    <a:pt x="216" y="664"/>
                  </a:lnTo>
                  <a:lnTo>
                    <a:pt x="216" y="672"/>
                  </a:lnTo>
                  <a:lnTo>
                    <a:pt x="224" y="672"/>
                  </a:lnTo>
                  <a:lnTo>
                    <a:pt x="224" y="680"/>
                  </a:lnTo>
                </a:path>
              </a:pathLst>
            </a:custGeom>
            <a:noFill/>
            <a:ln w="19080">
              <a:solidFill>
                <a:srgbClr val="d83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8" name=""/>
            <p:cNvGrpSpPr/>
            <p:nvPr/>
          </p:nvGrpSpPr>
          <p:grpSpPr>
            <a:xfrm>
              <a:off x="2194920" y="3821040"/>
              <a:ext cx="3364560" cy="2316600"/>
              <a:chOff x="2194920" y="3821040"/>
              <a:chExt cx="3364560" cy="2316600"/>
            </a:xfrm>
          </p:grpSpPr>
          <p:grpSp>
            <p:nvGrpSpPr>
              <p:cNvPr id="3199" name=""/>
              <p:cNvGrpSpPr/>
              <p:nvPr/>
            </p:nvGrpSpPr>
            <p:grpSpPr>
              <a:xfrm>
                <a:off x="2806560" y="3890880"/>
                <a:ext cx="88920" cy="1906560"/>
                <a:chOff x="2806560" y="3890880"/>
                <a:chExt cx="88920" cy="1906560"/>
              </a:xfrm>
            </p:grpSpPr>
            <p:sp>
              <p:nvSpPr>
                <p:cNvPr id="3200" name=""/>
                <p:cNvSpPr/>
                <p:nvPr/>
              </p:nvSpPr>
              <p:spPr>
                <a:xfrm>
                  <a:off x="2806560" y="5504040"/>
                  <a:ext cx="889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2806560" y="5110200"/>
                  <a:ext cx="889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>
                  <a:off x="2806560" y="4703760"/>
                  <a:ext cx="889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>
                  <a:off x="2806560" y="4297320"/>
                  <a:ext cx="889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>
                  <a:off x="2806560" y="3890880"/>
                  <a:ext cx="889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>
                  <a:off x="2806560" y="579600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>
                  <a:off x="2806560" y="5719680"/>
                  <a:ext cx="511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>
                  <a:off x="2806560" y="5668920"/>
                  <a:ext cx="511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>
                  <a:off x="2806560" y="5630760"/>
                  <a:ext cx="511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2806560" y="560556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0" name=""/>
                <p:cNvSpPr/>
                <p:nvPr/>
              </p:nvSpPr>
              <p:spPr>
                <a:xfrm>
                  <a:off x="2806560" y="556740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1" name=""/>
                <p:cNvSpPr/>
                <p:nvPr/>
              </p:nvSpPr>
              <p:spPr>
                <a:xfrm>
                  <a:off x="2806560" y="555480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>
                  <a:off x="2806560" y="552924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>
                  <a:off x="2806560" y="538956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4" name=""/>
                <p:cNvSpPr/>
                <p:nvPr/>
              </p:nvSpPr>
              <p:spPr>
                <a:xfrm>
                  <a:off x="2806560" y="5313240"/>
                  <a:ext cx="511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>
                  <a:off x="2806560" y="5262480"/>
                  <a:ext cx="511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>
                  <a:off x="2806560" y="5224320"/>
                  <a:ext cx="511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>
                  <a:off x="2806560" y="519912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>
                  <a:off x="2806560" y="516096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>
                  <a:off x="2806560" y="514836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>
                  <a:off x="2806560" y="5122800"/>
                  <a:ext cx="511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>
                  <a:off x="2806560" y="4983120"/>
                  <a:ext cx="511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2" name=""/>
                <p:cNvSpPr/>
                <p:nvPr/>
              </p:nvSpPr>
              <p:spPr>
                <a:xfrm>
                  <a:off x="2806560" y="4906800"/>
                  <a:ext cx="511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3" name=""/>
                <p:cNvSpPr/>
                <p:nvPr/>
              </p:nvSpPr>
              <p:spPr>
                <a:xfrm>
                  <a:off x="2806560" y="4856040"/>
                  <a:ext cx="511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>
                  <a:off x="2806560" y="481824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>
                  <a:off x="2806560" y="479268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6" name=""/>
                <p:cNvSpPr/>
                <p:nvPr/>
              </p:nvSpPr>
              <p:spPr>
                <a:xfrm>
                  <a:off x="2806560" y="4767120"/>
                  <a:ext cx="511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>
                  <a:off x="2806560" y="474192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8" name=""/>
                <p:cNvSpPr/>
                <p:nvPr/>
              </p:nvSpPr>
              <p:spPr>
                <a:xfrm>
                  <a:off x="2806560" y="4716360"/>
                  <a:ext cx="511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9" name=""/>
                <p:cNvSpPr/>
                <p:nvPr/>
              </p:nvSpPr>
              <p:spPr>
                <a:xfrm>
                  <a:off x="2806560" y="4576680"/>
                  <a:ext cx="511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0" name=""/>
                <p:cNvSpPr/>
                <p:nvPr/>
              </p:nvSpPr>
              <p:spPr>
                <a:xfrm>
                  <a:off x="2806560" y="450072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1" name=""/>
                <p:cNvSpPr/>
                <p:nvPr/>
              </p:nvSpPr>
              <p:spPr>
                <a:xfrm>
                  <a:off x="2806560" y="4449600"/>
                  <a:ext cx="511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2" name=""/>
                <p:cNvSpPr/>
                <p:nvPr/>
              </p:nvSpPr>
              <p:spPr>
                <a:xfrm>
                  <a:off x="2806560" y="441180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>
                  <a:off x="2806560" y="438624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>
                  <a:off x="2806560" y="436104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5" name=""/>
                <p:cNvSpPr/>
                <p:nvPr/>
              </p:nvSpPr>
              <p:spPr>
                <a:xfrm>
                  <a:off x="2806560" y="433548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>
                  <a:off x="2806560" y="4309920"/>
                  <a:ext cx="511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>
                  <a:off x="2806560" y="4170240"/>
                  <a:ext cx="511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>
                  <a:off x="2806560" y="409428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>
                  <a:off x="2806560" y="404352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>
                  <a:off x="2806560" y="400536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1" name=""/>
                <p:cNvSpPr/>
                <p:nvPr/>
              </p:nvSpPr>
              <p:spPr>
                <a:xfrm>
                  <a:off x="2806560" y="3979800"/>
                  <a:ext cx="511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2" name=""/>
                <p:cNvSpPr/>
                <p:nvPr/>
              </p:nvSpPr>
              <p:spPr>
                <a:xfrm>
                  <a:off x="2806560" y="395460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>
                  <a:off x="2806560" y="392904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>
                  <a:off x="2806560" y="3903840"/>
                  <a:ext cx="511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5" name=""/>
              <p:cNvGrpSpPr/>
              <p:nvPr/>
            </p:nvGrpSpPr>
            <p:grpSpPr>
              <a:xfrm>
                <a:off x="2806560" y="5706720"/>
                <a:ext cx="2656080" cy="88920"/>
                <a:chOff x="2806560" y="5706720"/>
                <a:chExt cx="2656080" cy="88920"/>
              </a:xfrm>
            </p:grpSpPr>
            <p:sp>
              <p:nvSpPr>
                <p:cNvPr id="3246" name=""/>
                <p:cNvSpPr/>
                <p:nvPr/>
              </p:nvSpPr>
              <p:spPr>
                <a:xfrm flipV="1">
                  <a:off x="2806560" y="5706720"/>
                  <a:ext cx="1800" cy="889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7" name=""/>
                <p:cNvSpPr/>
                <p:nvPr/>
              </p:nvSpPr>
              <p:spPr>
                <a:xfrm flipV="1">
                  <a:off x="3251160" y="5706720"/>
                  <a:ext cx="1800" cy="889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8" name=""/>
                <p:cNvSpPr/>
                <p:nvPr/>
              </p:nvSpPr>
              <p:spPr>
                <a:xfrm flipV="1">
                  <a:off x="3695760" y="5706720"/>
                  <a:ext cx="1440" cy="889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 flipV="1">
                  <a:off x="4140360" y="5706720"/>
                  <a:ext cx="1440" cy="889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0" name=""/>
                <p:cNvSpPr/>
                <p:nvPr/>
              </p:nvSpPr>
              <p:spPr>
                <a:xfrm flipV="1">
                  <a:off x="4584600" y="5706720"/>
                  <a:ext cx="1800" cy="889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 flipV="1">
                  <a:off x="5029200" y="5706720"/>
                  <a:ext cx="1440" cy="889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 flipV="1">
                  <a:off x="5460840" y="5706720"/>
                  <a:ext cx="1800" cy="889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 flipV="1">
                  <a:off x="2895480" y="5744880"/>
                  <a:ext cx="180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 flipV="1">
                  <a:off x="2984400" y="5744880"/>
                  <a:ext cx="180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 flipV="1">
                  <a:off x="3073320" y="5744880"/>
                  <a:ext cx="180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 flipV="1">
                  <a:off x="3162240" y="5744880"/>
                  <a:ext cx="180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7" name=""/>
                <p:cNvSpPr/>
                <p:nvPr/>
              </p:nvSpPr>
              <p:spPr>
                <a:xfrm flipV="1">
                  <a:off x="334008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 flipV="1">
                  <a:off x="342900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 flipV="1">
                  <a:off x="351792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 flipV="1">
                  <a:off x="360684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 flipV="1">
                  <a:off x="378468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 flipV="1">
                  <a:off x="387360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 flipV="1">
                  <a:off x="396252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 flipV="1">
                  <a:off x="405144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 flipV="1">
                  <a:off x="422928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 flipV="1">
                  <a:off x="4317840" y="5744880"/>
                  <a:ext cx="180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 flipV="1">
                  <a:off x="4406760" y="5744880"/>
                  <a:ext cx="180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 flipV="1">
                  <a:off x="4495680" y="5744880"/>
                  <a:ext cx="180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 flipV="1">
                  <a:off x="4673520" y="5744880"/>
                  <a:ext cx="180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 flipV="1">
                  <a:off x="4762440" y="5744880"/>
                  <a:ext cx="180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1" name=""/>
                <p:cNvSpPr/>
                <p:nvPr/>
              </p:nvSpPr>
              <p:spPr>
                <a:xfrm flipV="1">
                  <a:off x="4851360" y="5744880"/>
                  <a:ext cx="180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2" name=""/>
                <p:cNvSpPr/>
                <p:nvPr/>
              </p:nvSpPr>
              <p:spPr>
                <a:xfrm flipV="1">
                  <a:off x="494028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 flipV="1">
                  <a:off x="511812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4" name=""/>
                <p:cNvSpPr/>
                <p:nvPr/>
              </p:nvSpPr>
              <p:spPr>
                <a:xfrm flipV="1">
                  <a:off x="519444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5" name=""/>
                <p:cNvSpPr/>
                <p:nvPr/>
              </p:nvSpPr>
              <p:spPr>
                <a:xfrm flipV="1">
                  <a:off x="528336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 flipV="1">
                  <a:off x="537228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7" name=""/>
              <p:cNvGrpSpPr/>
              <p:nvPr/>
            </p:nvGrpSpPr>
            <p:grpSpPr>
              <a:xfrm>
                <a:off x="2806560" y="3890880"/>
                <a:ext cx="2654280" cy="1906560"/>
                <a:chOff x="2806560" y="3890880"/>
                <a:chExt cx="2654280" cy="1906560"/>
              </a:xfrm>
            </p:grpSpPr>
            <p:sp>
              <p:nvSpPr>
                <p:cNvPr id="3278" name=""/>
                <p:cNvSpPr/>
                <p:nvPr/>
              </p:nvSpPr>
              <p:spPr>
                <a:xfrm flipV="1">
                  <a:off x="2806560" y="3890880"/>
                  <a:ext cx="1800" cy="19051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>
                  <a:off x="2806560" y="5796000"/>
                  <a:ext cx="265428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>
                  <a:off x="2806560" y="522432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1" name=""/>
                <p:cNvSpPr/>
                <p:nvPr/>
              </p:nvSpPr>
              <p:spPr>
                <a:xfrm>
                  <a:off x="2819520" y="452592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2819520" y="405612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>
                  <a:off x="2832120" y="396720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>
                  <a:off x="2844720" y="3903840"/>
                  <a:ext cx="38160" cy="3780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2844720" y="394164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>
                  <a:off x="2857680" y="3967200"/>
                  <a:ext cx="3780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>
                  <a:off x="2870280" y="399240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2882880" y="406872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>
                  <a:off x="2882880" y="4132440"/>
                  <a:ext cx="38160" cy="3780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>
                  <a:off x="2895480" y="417024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2908440" y="4221000"/>
                  <a:ext cx="3780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2" name=""/>
                <p:cNvSpPr/>
                <p:nvPr/>
              </p:nvSpPr>
              <p:spPr>
                <a:xfrm>
                  <a:off x="2908440" y="4272120"/>
                  <a:ext cx="37800" cy="3780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>
                  <a:off x="2921040" y="420840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2933640" y="429732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>
                  <a:off x="2933640" y="437364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6" name=""/>
                <p:cNvSpPr/>
                <p:nvPr/>
              </p:nvSpPr>
              <p:spPr>
                <a:xfrm>
                  <a:off x="2946240" y="442440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2959200" y="446256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>
                  <a:off x="2959200" y="451332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>
                  <a:off x="2971800" y="448776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2984400" y="447516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2997360" y="4589640"/>
                  <a:ext cx="37800" cy="3780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>
                  <a:off x="2997360" y="4614840"/>
                  <a:ext cx="3780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3009960" y="4640400"/>
                  <a:ext cx="38160" cy="3780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4" name=""/>
                <p:cNvSpPr/>
                <p:nvPr/>
              </p:nvSpPr>
              <p:spPr>
                <a:xfrm>
                  <a:off x="3022560" y="462744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5" name=""/>
                <p:cNvSpPr/>
                <p:nvPr/>
              </p:nvSpPr>
              <p:spPr>
                <a:xfrm>
                  <a:off x="3022560" y="4640400"/>
                  <a:ext cx="38160" cy="3780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>
                  <a:off x="3035160" y="471636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7" name=""/>
                <p:cNvSpPr/>
                <p:nvPr/>
              </p:nvSpPr>
              <p:spPr>
                <a:xfrm>
                  <a:off x="3048120" y="474192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8" name=""/>
                <p:cNvSpPr/>
                <p:nvPr/>
              </p:nvSpPr>
              <p:spPr>
                <a:xfrm>
                  <a:off x="3060720" y="475452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>
                  <a:off x="3073320" y="4818240"/>
                  <a:ext cx="38160" cy="3780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0" name=""/>
                <p:cNvSpPr/>
                <p:nvPr/>
              </p:nvSpPr>
              <p:spPr>
                <a:xfrm>
                  <a:off x="3098880" y="484344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1" name=""/>
                <p:cNvSpPr/>
                <p:nvPr/>
              </p:nvSpPr>
              <p:spPr>
                <a:xfrm>
                  <a:off x="3111480" y="488160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>
                  <a:off x="3124080" y="490680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3" name=""/>
                <p:cNvSpPr/>
                <p:nvPr/>
              </p:nvSpPr>
              <p:spPr>
                <a:xfrm>
                  <a:off x="3149640" y="491976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4" name=""/>
                <p:cNvSpPr/>
                <p:nvPr/>
              </p:nvSpPr>
              <p:spPr>
                <a:xfrm>
                  <a:off x="3162240" y="494496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>
                  <a:off x="2806560" y="569448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6" name=""/>
                <p:cNvSpPr/>
                <p:nvPr/>
              </p:nvSpPr>
              <p:spPr>
                <a:xfrm>
                  <a:off x="2819520" y="491976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7" name=""/>
                <p:cNvSpPr/>
                <p:nvPr/>
              </p:nvSpPr>
              <p:spPr>
                <a:xfrm>
                  <a:off x="2819520" y="44496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>
                  <a:off x="2832120" y="41958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>
                  <a:off x="2844720" y="40687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0" name=""/>
                <p:cNvSpPr/>
                <p:nvPr/>
              </p:nvSpPr>
              <p:spPr>
                <a:xfrm>
                  <a:off x="2844720" y="401796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>
                  <a:off x="2857680" y="4005360"/>
                  <a:ext cx="3780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2" name=""/>
                <p:cNvSpPr/>
                <p:nvPr/>
              </p:nvSpPr>
              <p:spPr>
                <a:xfrm>
                  <a:off x="2870280" y="401796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3" name=""/>
                <p:cNvSpPr/>
                <p:nvPr/>
              </p:nvSpPr>
              <p:spPr>
                <a:xfrm>
                  <a:off x="2882880" y="403056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>
                  <a:off x="2882880" y="40561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5" name=""/>
                <p:cNvSpPr/>
                <p:nvPr/>
              </p:nvSpPr>
              <p:spPr>
                <a:xfrm>
                  <a:off x="2895480" y="40813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6" name=""/>
                <p:cNvSpPr/>
                <p:nvPr/>
              </p:nvSpPr>
              <p:spPr>
                <a:xfrm>
                  <a:off x="2908440" y="4094280"/>
                  <a:ext cx="3780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>
                  <a:off x="2908440" y="4157640"/>
                  <a:ext cx="3780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8" name=""/>
                <p:cNvSpPr/>
                <p:nvPr/>
              </p:nvSpPr>
              <p:spPr>
                <a:xfrm>
                  <a:off x="2921040" y="418320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9" name=""/>
                <p:cNvSpPr/>
                <p:nvPr/>
              </p:nvSpPr>
              <p:spPr>
                <a:xfrm>
                  <a:off x="2933640" y="41958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0" name=""/>
                <p:cNvSpPr/>
                <p:nvPr/>
              </p:nvSpPr>
              <p:spPr>
                <a:xfrm>
                  <a:off x="2933640" y="42210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1" name=""/>
                <p:cNvSpPr/>
                <p:nvPr/>
              </p:nvSpPr>
              <p:spPr>
                <a:xfrm>
                  <a:off x="2946240" y="424656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2" name=""/>
                <p:cNvSpPr/>
                <p:nvPr/>
              </p:nvSpPr>
              <p:spPr>
                <a:xfrm>
                  <a:off x="2959200" y="427212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3" name=""/>
                <p:cNvSpPr/>
                <p:nvPr/>
              </p:nvSpPr>
              <p:spPr>
                <a:xfrm>
                  <a:off x="2959200" y="43099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4" name=""/>
                <p:cNvSpPr/>
                <p:nvPr/>
              </p:nvSpPr>
              <p:spPr>
                <a:xfrm>
                  <a:off x="2971800" y="432288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5" name=""/>
                <p:cNvSpPr/>
                <p:nvPr/>
              </p:nvSpPr>
              <p:spPr>
                <a:xfrm>
                  <a:off x="2984400" y="436104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6" name=""/>
                <p:cNvSpPr/>
                <p:nvPr/>
              </p:nvSpPr>
              <p:spPr>
                <a:xfrm>
                  <a:off x="2997360" y="4373640"/>
                  <a:ext cx="3780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7" name=""/>
                <p:cNvSpPr/>
                <p:nvPr/>
              </p:nvSpPr>
              <p:spPr>
                <a:xfrm>
                  <a:off x="2997360" y="4398840"/>
                  <a:ext cx="3780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8" name=""/>
                <p:cNvSpPr/>
                <p:nvPr/>
              </p:nvSpPr>
              <p:spPr>
                <a:xfrm>
                  <a:off x="3009960" y="441180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9" name=""/>
                <p:cNvSpPr/>
                <p:nvPr/>
              </p:nvSpPr>
              <p:spPr>
                <a:xfrm>
                  <a:off x="3022560" y="450072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0" name=""/>
                <p:cNvSpPr/>
                <p:nvPr/>
              </p:nvSpPr>
              <p:spPr>
                <a:xfrm>
                  <a:off x="3022560" y="446256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1" name=""/>
                <p:cNvSpPr/>
                <p:nvPr/>
              </p:nvSpPr>
              <p:spPr>
                <a:xfrm>
                  <a:off x="3035160" y="448776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2" name=""/>
                <p:cNvSpPr/>
                <p:nvPr/>
              </p:nvSpPr>
              <p:spPr>
                <a:xfrm>
                  <a:off x="3048120" y="450072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3" name=""/>
                <p:cNvSpPr/>
                <p:nvPr/>
              </p:nvSpPr>
              <p:spPr>
                <a:xfrm>
                  <a:off x="3060720" y="45259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4" name=""/>
                <p:cNvSpPr/>
                <p:nvPr/>
              </p:nvSpPr>
              <p:spPr>
                <a:xfrm>
                  <a:off x="3073320" y="457668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5" name=""/>
                <p:cNvSpPr/>
                <p:nvPr/>
              </p:nvSpPr>
              <p:spPr>
                <a:xfrm>
                  <a:off x="3098880" y="460224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6" name=""/>
                <p:cNvSpPr/>
                <p:nvPr/>
              </p:nvSpPr>
              <p:spPr>
                <a:xfrm>
                  <a:off x="3111480" y="462744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7" name=""/>
                <p:cNvSpPr/>
                <p:nvPr/>
              </p:nvSpPr>
              <p:spPr>
                <a:xfrm>
                  <a:off x="3124080" y="46656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8" name=""/>
                <p:cNvSpPr/>
                <p:nvPr/>
              </p:nvSpPr>
              <p:spPr>
                <a:xfrm>
                  <a:off x="3149640" y="469116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9" name=""/>
                <p:cNvSpPr/>
                <p:nvPr/>
              </p:nvSpPr>
              <p:spPr>
                <a:xfrm>
                  <a:off x="3162240" y="471636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0" name=""/>
                <p:cNvSpPr/>
                <p:nvPr/>
              </p:nvSpPr>
              <p:spPr>
                <a:xfrm>
                  <a:off x="3187800" y="47671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1" name=""/>
                <p:cNvSpPr/>
                <p:nvPr/>
              </p:nvSpPr>
              <p:spPr>
                <a:xfrm>
                  <a:off x="3200400" y="47671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2" name=""/>
                <p:cNvSpPr/>
                <p:nvPr/>
              </p:nvSpPr>
              <p:spPr>
                <a:xfrm>
                  <a:off x="3213000" y="479268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3" name=""/>
                <p:cNvSpPr/>
                <p:nvPr/>
              </p:nvSpPr>
              <p:spPr>
                <a:xfrm>
                  <a:off x="3238560" y="483084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4" name=""/>
                <p:cNvSpPr/>
                <p:nvPr/>
              </p:nvSpPr>
              <p:spPr>
                <a:xfrm>
                  <a:off x="3251160" y="483084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5" name=""/>
                <p:cNvSpPr/>
                <p:nvPr/>
              </p:nvSpPr>
              <p:spPr>
                <a:xfrm>
                  <a:off x="3276720" y="486900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6" name=""/>
                <p:cNvSpPr/>
                <p:nvPr/>
              </p:nvSpPr>
              <p:spPr>
                <a:xfrm>
                  <a:off x="3289320" y="48942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7" name=""/>
                <p:cNvSpPr/>
                <p:nvPr/>
              </p:nvSpPr>
              <p:spPr>
                <a:xfrm>
                  <a:off x="3301920" y="49068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8" name=""/>
                <p:cNvSpPr/>
                <p:nvPr/>
              </p:nvSpPr>
              <p:spPr>
                <a:xfrm>
                  <a:off x="3327480" y="49068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9" name=""/>
                <p:cNvSpPr/>
                <p:nvPr/>
              </p:nvSpPr>
              <p:spPr>
                <a:xfrm>
                  <a:off x="3340080" y="495792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0" name=""/>
                <p:cNvSpPr/>
                <p:nvPr/>
              </p:nvSpPr>
              <p:spPr>
                <a:xfrm>
                  <a:off x="3352680" y="49831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1" name=""/>
                <p:cNvSpPr/>
                <p:nvPr/>
              </p:nvSpPr>
              <p:spPr>
                <a:xfrm>
                  <a:off x="3378240" y="49957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2" name=""/>
                <p:cNvSpPr/>
                <p:nvPr/>
              </p:nvSpPr>
              <p:spPr>
                <a:xfrm>
                  <a:off x="3390840" y="502128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3" name=""/>
                <p:cNvSpPr/>
                <p:nvPr/>
              </p:nvSpPr>
              <p:spPr>
                <a:xfrm>
                  <a:off x="3416400" y="502128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4" name=""/>
                <p:cNvSpPr/>
                <p:nvPr/>
              </p:nvSpPr>
              <p:spPr>
                <a:xfrm>
                  <a:off x="3429000" y="504684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5" name=""/>
                <p:cNvSpPr/>
                <p:nvPr/>
              </p:nvSpPr>
              <p:spPr>
                <a:xfrm>
                  <a:off x="3441600" y="507204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6" name=""/>
                <p:cNvSpPr/>
                <p:nvPr/>
              </p:nvSpPr>
              <p:spPr>
                <a:xfrm>
                  <a:off x="3467160" y="507204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7" name=""/>
                <p:cNvSpPr/>
                <p:nvPr/>
              </p:nvSpPr>
              <p:spPr>
                <a:xfrm>
                  <a:off x="3479760" y="504684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8" name=""/>
                <p:cNvSpPr/>
                <p:nvPr/>
              </p:nvSpPr>
              <p:spPr>
                <a:xfrm>
                  <a:off x="3505320" y="51102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>
                  <a:off x="3517920" y="51102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3530520" y="51354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1" name=""/>
                <p:cNvSpPr/>
                <p:nvPr/>
              </p:nvSpPr>
              <p:spPr>
                <a:xfrm>
                  <a:off x="3556080" y="51354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2" name=""/>
                <p:cNvSpPr/>
                <p:nvPr/>
              </p:nvSpPr>
              <p:spPr>
                <a:xfrm>
                  <a:off x="3568680" y="516096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>
                  <a:off x="3594240" y="5173560"/>
                  <a:ext cx="3780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4" name=""/>
                <p:cNvSpPr/>
                <p:nvPr/>
              </p:nvSpPr>
              <p:spPr>
                <a:xfrm>
                  <a:off x="3606840" y="51991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"/>
                <p:cNvSpPr/>
                <p:nvPr/>
              </p:nvSpPr>
              <p:spPr>
                <a:xfrm>
                  <a:off x="3619440" y="51991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6" name=""/>
                <p:cNvSpPr/>
                <p:nvPr/>
              </p:nvSpPr>
              <p:spPr>
                <a:xfrm>
                  <a:off x="3645000" y="526248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7" name=""/>
                <p:cNvSpPr/>
                <p:nvPr/>
              </p:nvSpPr>
              <p:spPr>
                <a:xfrm>
                  <a:off x="3657600" y="52243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>
                  <a:off x="3683160" y="5237280"/>
                  <a:ext cx="3780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>
                  <a:off x="3708360" y="526248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>
                  <a:off x="3733920" y="528804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>
                  <a:off x="3759120" y="531324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3784680" y="531324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3" name=""/>
                <p:cNvSpPr/>
                <p:nvPr/>
              </p:nvSpPr>
              <p:spPr>
                <a:xfrm>
                  <a:off x="3809880" y="53388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>
                  <a:off x="3835440" y="53640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>
                  <a:off x="3873600" y="537696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>
                  <a:off x="3898800" y="538956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3924360" y="540216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4051440" y="5465880"/>
                  <a:ext cx="3780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9" name=""/>
                <p:cNvSpPr/>
                <p:nvPr/>
              </p:nvSpPr>
              <p:spPr>
                <a:xfrm>
                  <a:off x="4191120" y="555480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0" name=""/>
                <p:cNvSpPr/>
                <p:nvPr/>
              </p:nvSpPr>
              <p:spPr>
                <a:xfrm>
                  <a:off x="4317840" y="561816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>
                  <a:off x="4533840" y="55926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>
                  <a:off x="4749840" y="573264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>
                  <a:off x="4978440" y="575784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4" name=""/>
                <p:cNvSpPr/>
                <p:nvPr/>
              </p:nvSpPr>
              <p:spPr>
                <a:xfrm>
                  <a:off x="2819520" y="51991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5" name=""/>
                <p:cNvSpPr/>
                <p:nvPr/>
              </p:nvSpPr>
              <p:spPr>
                <a:xfrm>
                  <a:off x="2819520" y="46530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>
                  <a:off x="2832120" y="43862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>
                  <a:off x="2844720" y="42210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8" name=""/>
                <p:cNvSpPr/>
                <p:nvPr/>
              </p:nvSpPr>
              <p:spPr>
                <a:xfrm>
                  <a:off x="2844720" y="41068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"/>
                <p:cNvSpPr/>
                <p:nvPr/>
              </p:nvSpPr>
              <p:spPr>
                <a:xfrm>
                  <a:off x="2857680" y="406872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0" name=""/>
                <p:cNvSpPr/>
                <p:nvPr/>
              </p:nvSpPr>
              <p:spPr>
                <a:xfrm>
                  <a:off x="2870280" y="404352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>
                  <a:off x="2882880" y="40305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2882880" y="40561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>
                  <a:off x="2895480" y="40687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"/>
                <p:cNvSpPr/>
                <p:nvPr/>
              </p:nvSpPr>
              <p:spPr>
                <a:xfrm>
                  <a:off x="2908440" y="408132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>
                  <a:off x="2908440" y="409428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6" name=""/>
                <p:cNvSpPr/>
                <p:nvPr/>
              </p:nvSpPr>
              <p:spPr>
                <a:xfrm>
                  <a:off x="2921040" y="41194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7" name=""/>
                <p:cNvSpPr/>
                <p:nvPr/>
              </p:nvSpPr>
              <p:spPr>
                <a:xfrm>
                  <a:off x="2933640" y="41576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8" name=""/>
                <p:cNvSpPr/>
                <p:nvPr/>
              </p:nvSpPr>
              <p:spPr>
                <a:xfrm>
                  <a:off x="2933640" y="41702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9" name=""/>
                <p:cNvSpPr/>
                <p:nvPr/>
              </p:nvSpPr>
              <p:spPr>
                <a:xfrm>
                  <a:off x="2946240" y="41958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0" name=""/>
                <p:cNvSpPr/>
                <p:nvPr/>
              </p:nvSpPr>
              <p:spPr>
                <a:xfrm>
                  <a:off x="2959200" y="42084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1" name=""/>
                <p:cNvSpPr/>
                <p:nvPr/>
              </p:nvSpPr>
              <p:spPr>
                <a:xfrm>
                  <a:off x="2959200" y="42339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2" name=""/>
                <p:cNvSpPr/>
                <p:nvPr/>
              </p:nvSpPr>
              <p:spPr>
                <a:xfrm>
                  <a:off x="2971800" y="42591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3" name=""/>
                <p:cNvSpPr/>
                <p:nvPr/>
              </p:nvSpPr>
              <p:spPr>
                <a:xfrm>
                  <a:off x="2984400" y="427212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2997360" y="430992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5" name=""/>
                <p:cNvSpPr/>
                <p:nvPr/>
              </p:nvSpPr>
              <p:spPr>
                <a:xfrm>
                  <a:off x="2997360" y="433548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6" name=""/>
                <p:cNvSpPr/>
                <p:nvPr/>
              </p:nvSpPr>
              <p:spPr>
                <a:xfrm>
                  <a:off x="3009960" y="43480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7" name=""/>
                <p:cNvSpPr/>
                <p:nvPr/>
              </p:nvSpPr>
              <p:spPr>
                <a:xfrm>
                  <a:off x="3022560" y="43736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8" name=""/>
                <p:cNvSpPr/>
                <p:nvPr/>
              </p:nvSpPr>
              <p:spPr>
                <a:xfrm>
                  <a:off x="3022560" y="43988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>
                  <a:off x="3035160" y="44244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>
                  <a:off x="3048120" y="44370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1" name=""/>
                <p:cNvSpPr/>
                <p:nvPr/>
              </p:nvSpPr>
              <p:spPr>
                <a:xfrm>
                  <a:off x="3060720" y="44751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>
                  <a:off x="3073320" y="450072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>
                  <a:off x="3098880" y="45385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>
                  <a:off x="3111480" y="45766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>
                  <a:off x="3124080" y="46148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>
                  <a:off x="3149640" y="464040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7" name=""/>
                <p:cNvSpPr/>
                <p:nvPr/>
              </p:nvSpPr>
              <p:spPr>
                <a:xfrm>
                  <a:off x="3162240" y="46656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>
                  <a:off x="3187800" y="47163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3200400" y="47545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0" name=""/>
                <p:cNvSpPr/>
                <p:nvPr/>
              </p:nvSpPr>
              <p:spPr>
                <a:xfrm>
                  <a:off x="3213000" y="47800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>
                  <a:off x="3238560" y="48052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>
                  <a:off x="3251160" y="48052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>
                  <a:off x="3276720" y="48434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3289320" y="486900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3301920" y="49197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6" name=""/>
                <p:cNvSpPr/>
                <p:nvPr/>
              </p:nvSpPr>
              <p:spPr>
                <a:xfrm>
                  <a:off x="3327480" y="49323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7" name=""/>
                <p:cNvSpPr/>
                <p:nvPr/>
              </p:nvSpPr>
              <p:spPr>
                <a:xfrm>
                  <a:off x="3340080" y="495792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3352680" y="49705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>
                  <a:off x="3378240" y="49705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0" name=""/>
                <p:cNvSpPr/>
                <p:nvPr/>
              </p:nvSpPr>
              <p:spPr>
                <a:xfrm>
                  <a:off x="3390840" y="49831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>
                  <a:off x="3416400" y="50212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2" name=""/>
                <p:cNvSpPr/>
                <p:nvPr/>
              </p:nvSpPr>
              <p:spPr>
                <a:xfrm>
                  <a:off x="3429000" y="50212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>
                  <a:off x="3441600" y="50086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>
                  <a:off x="3467160" y="50594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>
                  <a:off x="3479760" y="50594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>
                  <a:off x="3505320" y="50594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7" name=""/>
                <p:cNvSpPr/>
                <p:nvPr/>
              </p:nvSpPr>
              <p:spPr>
                <a:xfrm>
                  <a:off x="3517920" y="509760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>
                  <a:off x="3530520" y="509760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>
                  <a:off x="3556080" y="51228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>
                  <a:off x="3568680" y="51228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1" name=""/>
                <p:cNvSpPr/>
                <p:nvPr/>
              </p:nvSpPr>
              <p:spPr>
                <a:xfrm>
                  <a:off x="3594240" y="517356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3606840" y="51354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>
                  <a:off x="3619440" y="51735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>
                  <a:off x="3645000" y="51354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>
                  <a:off x="3657600" y="52498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>
                  <a:off x="3683160" y="519912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>
                  <a:off x="3708360" y="51735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3733920" y="51735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3759120" y="518652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>
                  <a:off x="3784680" y="52498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>
                  <a:off x="3809880" y="52372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>
                  <a:off x="3835440" y="52372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>
                  <a:off x="3873600" y="51991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3898800" y="52498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3924360" y="527544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>
                  <a:off x="3949560" y="53388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>
                  <a:off x="3975120" y="53388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4000680" y="530064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>
                  <a:off x="4025880" y="527544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>
                  <a:off x="4051440" y="5275440"/>
                  <a:ext cx="3780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>
                  <a:off x="4076640" y="53006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2" name=""/>
                <p:cNvSpPr/>
                <p:nvPr/>
              </p:nvSpPr>
              <p:spPr>
                <a:xfrm>
                  <a:off x="4102200" y="53514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4127400" y="53132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4165560" y="54021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4191120" y="53769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4216320" y="54403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4241880" y="53769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8" name=""/>
              <p:cNvGrpSpPr/>
              <p:nvPr/>
            </p:nvGrpSpPr>
            <p:grpSpPr>
              <a:xfrm>
                <a:off x="2793960" y="4195800"/>
                <a:ext cx="2438280" cy="1511280"/>
                <a:chOff x="2793960" y="4195800"/>
                <a:chExt cx="2438280" cy="1511280"/>
              </a:xfrm>
            </p:grpSpPr>
            <p:sp>
              <p:nvSpPr>
                <p:cNvPr id="3479" name=""/>
                <p:cNvSpPr/>
                <p:nvPr/>
              </p:nvSpPr>
              <p:spPr>
                <a:xfrm>
                  <a:off x="4267080" y="53640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4292640" y="541512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>
                  <a:off x="4317840" y="53388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4356000" y="53640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>
                  <a:off x="4394160" y="54277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4444920" y="54277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4483080" y="54403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4533840" y="541512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>
                  <a:off x="4572000" y="54658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4622760" y="54277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4660920" y="54910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4711680" y="54658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4749840" y="54403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2" name=""/>
                <p:cNvSpPr/>
                <p:nvPr/>
              </p:nvSpPr>
              <p:spPr>
                <a:xfrm>
                  <a:off x="4800600" y="54658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3" name=""/>
                <p:cNvSpPr/>
                <p:nvPr/>
              </p:nvSpPr>
              <p:spPr>
                <a:xfrm>
                  <a:off x="4838760" y="55292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4" name=""/>
                <p:cNvSpPr/>
                <p:nvPr/>
              </p:nvSpPr>
              <p:spPr>
                <a:xfrm>
                  <a:off x="4889520" y="550404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5" name=""/>
                <p:cNvSpPr/>
                <p:nvPr/>
              </p:nvSpPr>
              <p:spPr>
                <a:xfrm>
                  <a:off x="4927680" y="54529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6" name=""/>
                <p:cNvSpPr/>
                <p:nvPr/>
              </p:nvSpPr>
              <p:spPr>
                <a:xfrm>
                  <a:off x="4978440" y="555480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7" name=""/>
                <p:cNvSpPr/>
                <p:nvPr/>
              </p:nvSpPr>
              <p:spPr>
                <a:xfrm>
                  <a:off x="5016600" y="55800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8" name=""/>
                <p:cNvSpPr/>
                <p:nvPr/>
              </p:nvSpPr>
              <p:spPr>
                <a:xfrm>
                  <a:off x="5067360" y="56181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9" name=""/>
                <p:cNvSpPr/>
                <p:nvPr/>
              </p:nvSpPr>
              <p:spPr>
                <a:xfrm>
                  <a:off x="5105520" y="555480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0" name=""/>
                <p:cNvSpPr/>
                <p:nvPr/>
              </p:nvSpPr>
              <p:spPr>
                <a:xfrm>
                  <a:off x="5156280" y="56689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1" name=""/>
                <p:cNvSpPr/>
                <p:nvPr/>
              </p:nvSpPr>
              <p:spPr>
                <a:xfrm>
                  <a:off x="5194440" y="560556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2" name=""/>
                <p:cNvSpPr/>
                <p:nvPr/>
              </p:nvSpPr>
              <p:spPr>
                <a:xfrm>
                  <a:off x="2832120" y="56181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3" name=""/>
                <p:cNvSpPr/>
                <p:nvPr/>
              </p:nvSpPr>
              <p:spPr>
                <a:xfrm>
                  <a:off x="2844720" y="524988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4" name=""/>
                <p:cNvSpPr/>
                <p:nvPr/>
              </p:nvSpPr>
              <p:spPr>
                <a:xfrm>
                  <a:off x="2857680" y="5148360"/>
                  <a:ext cx="3780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5" name=""/>
                <p:cNvSpPr/>
                <p:nvPr/>
              </p:nvSpPr>
              <p:spPr>
                <a:xfrm>
                  <a:off x="2882880" y="498312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6" name=""/>
                <p:cNvSpPr/>
                <p:nvPr/>
              </p:nvSpPr>
              <p:spPr>
                <a:xfrm>
                  <a:off x="2895480" y="485604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7" name=""/>
                <p:cNvSpPr/>
                <p:nvPr/>
              </p:nvSpPr>
              <p:spPr>
                <a:xfrm>
                  <a:off x="2921040" y="476712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8" name=""/>
                <p:cNvSpPr/>
                <p:nvPr/>
              </p:nvSpPr>
              <p:spPr>
                <a:xfrm>
                  <a:off x="2933640" y="46911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9" name=""/>
                <p:cNvSpPr/>
                <p:nvPr/>
              </p:nvSpPr>
              <p:spPr>
                <a:xfrm>
                  <a:off x="2946240" y="461484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0" name=""/>
                <p:cNvSpPr/>
                <p:nvPr/>
              </p:nvSpPr>
              <p:spPr>
                <a:xfrm>
                  <a:off x="2971800" y="4589640"/>
                  <a:ext cx="38160" cy="3780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1" name=""/>
                <p:cNvSpPr/>
                <p:nvPr/>
              </p:nvSpPr>
              <p:spPr>
                <a:xfrm>
                  <a:off x="2984400" y="455148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2" name=""/>
                <p:cNvSpPr/>
                <p:nvPr/>
              </p:nvSpPr>
              <p:spPr>
                <a:xfrm>
                  <a:off x="3009960" y="451332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3" name=""/>
                <p:cNvSpPr/>
                <p:nvPr/>
              </p:nvSpPr>
              <p:spPr>
                <a:xfrm>
                  <a:off x="3022560" y="4500720"/>
                  <a:ext cx="38160" cy="3780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4" name=""/>
                <p:cNvSpPr/>
                <p:nvPr/>
              </p:nvSpPr>
              <p:spPr>
                <a:xfrm>
                  <a:off x="3035160" y="44877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5" name=""/>
                <p:cNvSpPr/>
                <p:nvPr/>
              </p:nvSpPr>
              <p:spPr>
                <a:xfrm>
                  <a:off x="3060720" y="44751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6" name=""/>
                <p:cNvSpPr/>
                <p:nvPr/>
              </p:nvSpPr>
              <p:spPr>
                <a:xfrm>
                  <a:off x="3073320" y="44625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7" name=""/>
                <p:cNvSpPr/>
                <p:nvPr/>
              </p:nvSpPr>
              <p:spPr>
                <a:xfrm>
                  <a:off x="3098880" y="44625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8" name=""/>
                <p:cNvSpPr/>
                <p:nvPr/>
              </p:nvSpPr>
              <p:spPr>
                <a:xfrm>
                  <a:off x="3111480" y="44496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"/>
                <p:cNvSpPr/>
                <p:nvPr/>
              </p:nvSpPr>
              <p:spPr>
                <a:xfrm>
                  <a:off x="3124080" y="44496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0" name=""/>
                <p:cNvSpPr/>
                <p:nvPr/>
              </p:nvSpPr>
              <p:spPr>
                <a:xfrm>
                  <a:off x="3149640" y="44496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1" name=""/>
                <p:cNvSpPr/>
                <p:nvPr/>
              </p:nvSpPr>
              <p:spPr>
                <a:xfrm>
                  <a:off x="3162240" y="44496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"/>
                <p:cNvSpPr/>
                <p:nvPr/>
              </p:nvSpPr>
              <p:spPr>
                <a:xfrm>
                  <a:off x="3187800" y="44496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3" name=""/>
                <p:cNvSpPr/>
                <p:nvPr/>
              </p:nvSpPr>
              <p:spPr>
                <a:xfrm>
                  <a:off x="3200400" y="44625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"/>
                <p:cNvSpPr/>
                <p:nvPr/>
              </p:nvSpPr>
              <p:spPr>
                <a:xfrm>
                  <a:off x="3213000" y="44625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5" name=""/>
                <p:cNvSpPr/>
                <p:nvPr/>
              </p:nvSpPr>
              <p:spPr>
                <a:xfrm>
                  <a:off x="3238560" y="44625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6" name=""/>
                <p:cNvSpPr/>
                <p:nvPr/>
              </p:nvSpPr>
              <p:spPr>
                <a:xfrm>
                  <a:off x="3251160" y="44751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7" name=""/>
                <p:cNvSpPr/>
                <p:nvPr/>
              </p:nvSpPr>
              <p:spPr>
                <a:xfrm>
                  <a:off x="3276720" y="44751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8" name=""/>
                <p:cNvSpPr/>
                <p:nvPr/>
              </p:nvSpPr>
              <p:spPr>
                <a:xfrm>
                  <a:off x="3289320" y="44877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9" name=""/>
                <p:cNvSpPr/>
                <p:nvPr/>
              </p:nvSpPr>
              <p:spPr>
                <a:xfrm>
                  <a:off x="3301920" y="4500720"/>
                  <a:ext cx="38160" cy="3780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0" name=""/>
                <p:cNvSpPr/>
                <p:nvPr/>
              </p:nvSpPr>
              <p:spPr>
                <a:xfrm>
                  <a:off x="3327480" y="44877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1" name=""/>
                <p:cNvSpPr/>
                <p:nvPr/>
              </p:nvSpPr>
              <p:spPr>
                <a:xfrm>
                  <a:off x="3340080" y="44877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2" name=""/>
                <p:cNvSpPr/>
                <p:nvPr/>
              </p:nvSpPr>
              <p:spPr>
                <a:xfrm>
                  <a:off x="3352680" y="44877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3" name=""/>
                <p:cNvSpPr/>
                <p:nvPr/>
              </p:nvSpPr>
              <p:spPr>
                <a:xfrm>
                  <a:off x="3378240" y="4500720"/>
                  <a:ext cx="38160" cy="3780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4" name=""/>
                <p:cNvSpPr/>
                <p:nvPr/>
              </p:nvSpPr>
              <p:spPr>
                <a:xfrm>
                  <a:off x="3390840" y="451332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5" name=""/>
                <p:cNvSpPr/>
                <p:nvPr/>
              </p:nvSpPr>
              <p:spPr>
                <a:xfrm>
                  <a:off x="3416400" y="451332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6" name=""/>
                <p:cNvSpPr/>
                <p:nvPr/>
              </p:nvSpPr>
              <p:spPr>
                <a:xfrm>
                  <a:off x="3429000" y="451332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7" name=""/>
                <p:cNvSpPr/>
                <p:nvPr/>
              </p:nvSpPr>
              <p:spPr>
                <a:xfrm>
                  <a:off x="3441600" y="452592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8" name=""/>
                <p:cNvSpPr/>
                <p:nvPr/>
              </p:nvSpPr>
              <p:spPr>
                <a:xfrm>
                  <a:off x="3467160" y="452592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9" name=""/>
                <p:cNvSpPr/>
                <p:nvPr/>
              </p:nvSpPr>
              <p:spPr>
                <a:xfrm>
                  <a:off x="3479760" y="453852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0" name=""/>
                <p:cNvSpPr/>
                <p:nvPr/>
              </p:nvSpPr>
              <p:spPr>
                <a:xfrm>
                  <a:off x="3505320" y="453852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1" name=""/>
                <p:cNvSpPr/>
                <p:nvPr/>
              </p:nvSpPr>
              <p:spPr>
                <a:xfrm>
                  <a:off x="3517920" y="453852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2" name=""/>
                <p:cNvSpPr/>
                <p:nvPr/>
              </p:nvSpPr>
              <p:spPr>
                <a:xfrm>
                  <a:off x="3530520" y="455148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3" name=""/>
                <p:cNvSpPr/>
                <p:nvPr/>
              </p:nvSpPr>
              <p:spPr>
                <a:xfrm>
                  <a:off x="3556080" y="456408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4" name=""/>
                <p:cNvSpPr/>
                <p:nvPr/>
              </p:nvSpPr>
              <p:spPr>
                <a:xfrm>
                  <a:off x="3568680" y="456408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5" name=""/>
                <p:cNvSpPr/>
                <p:nvPr/>
              </p:nvSpPr>
              <p:spPr>
                <a:xfrm>
                  <a:off x="3594240" y="4576680"/>
                  <a:ext cx="3780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6" name=""/>
                <p:cNvSpPr/>
                <p:nvPr/>
              </p:nvSpPr>
              <p:spPr>
                <a:xfrm>
                  <a:off x="3606840" y="457668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7" name=""/>
                <p:cNvSpPr/>
                <p:nvPr/>
              </p:nvSpPr>
              <p:spPr>
                <a:xfrm>
                  <a:off x="3619440" y="4589640"/>
                  <a:ext cx="38160" cy="3780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8" name=""/>
                <p:cNvSpPr/>
                <p:nvPr/>
              </p:nvSpPr>
              <p:spPr>
                <a:xfrm>
                  <a:off x="3645000" y="460224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9" name=""/>
                <p:cNvSpPr/>
                <p:nvPr/>
              </p:nvSpPr>
              <p:spPr>
                <a:xfrm>
                  <a:off x="3657600" y="4589640"/>
                  <a:ext cx="38160" cy="3780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0" name=""/>
                <p:cNvSpPr/>
                <p:nvPr/>
              </p:nvSpPr>
              <p:spPr>
                <a:xfrm>
                  <a:off x="3683160" y="4602240"/>
                  <a:ext cx="3780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1" name=""/>
                <p:cNvSpPr/>
                <p:nvPr/>
              </p:nvSpPr>
              <p:spPr>
                <a:xfrm>
                  <a:off x="3733920" y="461484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2" name=""/>
                <p:cNvSpPr/>
                <p:nvPr/>
              </p:nvSpPr>
              <p:spPr>
                <a:xfrm>
                  <a:off x="3784680" y="46656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3" name=""/>
                <p:cNvSpPr/>
                <p:nvPr/>
              </p:nvSpPr>
              <p:spPr>
                <a:xfrm>
                  <a:off x="3835440" y="46782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4" name=""/>
                <p:cNvSpPr/>
                <p:nvPr/>
              </p:nvSpPr>
              <p:spPr>
                <a:xfrm>
                  <a:off x="3898800" y="47037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5" name=""/>
                <p:cNvSpPr/>
                <p:nvPr/>
              </p:nvSpPr>
              <p:spPr>
                <a:xfrm>
                  <a:off x="3949560" y="4729320"/>
                  <a:ext cx="38160" cy="3780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6" name=""/>
                <p:cNvSpPr/>
                <p:nvPr/>
              </p:nvSpPr>
              <p:spPr>
                <a:xfrm>
                  <a:off x="4000680" y="4767120"/>
                  <a:ext cx="3780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7" name=""/>
                <p:cNvSpPr/>
                <p:nvPr/>
              </p:nvSpPr>
              <p:spPr>
                <a:xfrm>
                  <a:off x="4051440" y="4780080"/>
                  <a:ext cx="3780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8" name=""/>
                <p:cNvSpPr/>
                <p:nvPr/>
              </p:nvSpPr>
              <p:spPr>
                <a:xfrm>
                  <a:off x="4102200" y="480528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9" name=""/>
                <p:cNvSpPr/>
                <p:nvPr/>
              </p:nvSpPr>
              <p:spPr>
                <a:xfrm>
                  <a:off x="4165560" y="484344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0" name=""/>
                <p:cNvSpPr/>
                <p:nvPr/>
              </p:nvSpPr>
              <p:spPr>
                <a:xfrm>
                  <a:off x="4216320" y="4869000"/>
                  <a:ext cx="38160" cy="3780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1" name=""/>
                <p:cNvSpPr/>
                <p:nvPr/>
              </p:nvSpPr>
              <p:spPr>
                <a:xfrm>
                  <a:off x="4267080" y="49068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2" name=""/>
                <p:cNvSpPr/>
                <p:nvPr/>
              </p:nvSpPr>
              <p:spPr>
                <a:xfrm>
                  <a:off x="4317840" y="49323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3" name=""/>
                <p:cNvSpPr/>
                <p:nvPr/>
              </p:nvSpPr>
              <p:spPr>
                <a:xfrm>
                  <a:off x="4394160" y="497052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4" name=""/>
                <p:cNvSpPr/>
                <p:nvPr/>
              </p:nvSpPr>
              <p:spPr>
                <a:xfrm>
                  <a:off x="4533840" y="5046840"/>
                  <a:ext cx="38160" cy="3780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5" name=""/>
                <p:cNvSpPr/>
                <p:nvPr/>
              </p:nvSpPr>
              <p:spPr>
                <a:xfrm>
                  <a:off x="4660920" y="5097600"/>
                  <a:ext cx="38160" cy="3780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6" name=""/>
                <p:cNvSpPr/>
                <p:nvPr/>
              </p:nvSpPr>
              <p:spPr>
                <a:xfrm>
                  <a:off x="4800600" y="51609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7" name=""/>
                <p:cNvSpPr/>
                <p:nvPr/>
              </p:nvSpPr>
              <p:spPr>
                <a:xfrm>
                  <a:off x="4927680" y="519912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8" name=""/>
                <p:cNvSpPr/>
                <p:nvPr/>
              </p:nvSpPr>
              <p:spPr>
                <a:xfrm>
                  <a:off x="5067360" y="522432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9" name=""/>
                <p:cNvSpPr/>
                <p:nvPr/>
              </p:nvSpPr>
              <p:spPr>
                <a:xfrm>
                  <a:off x="5194440" y="5262480"/>
                  <a:ext cx="3780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0" name=""/>
                <p:cNvSpPr/>
                <p:nvPr/>
              </p:nvSpPr>
              <p:spPr>
                <a:xfrm>
                  <a:off x="2793960" y="5148360"/>
                  <a:ext cx="6372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1" name=""/>
                <p:cNvSpPr/>
                <p:nvPr/>
              </p:nvSpPr>
              <p:spPr>
                <a:xfrm>
                  <a:off x="2793960" y="51483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2" name=""/>
                <p:cNvSpPr/>
                <p:nvPr/>
              </p:nvSpPr>
              <p:spPr>
                <a:xfrm>
                  <a:off x="2819520" y="443700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3" name=""/>
                <p:cNvSpPr/>
                <p:nvPr/>
              </p:nvSpPr>
              <p:spPr>
                <a:xfrm>
                  <a:off x="2819520" y="443700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4" name=""/>
                <p:cNvSpPr/>
                <p:nvPr/>
              </p:nvSpPr>
              <p:spPr>
                <a:xfrm>
                  <a:off x="2832120" y="420840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5" name=""/>
                <p:cNvSpPr/>
                <p:nvPr/>
              </p:nvSpPr>
              <p:spPr>
                <a:xfrm>
                  <a:off x="2832120" y="420840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6" name=""/>
                <p:cNvSpPr/>
                <p:nvPr/>
              </p:nvSpPr>
              <p:spPr>
                <a:xfrm>
                  <a:off x="2844720" y="4195800"/>
                  <a:ext cx="6372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7" name=""/>
                <p:cNvSpPr/>
                <p:nvPr/>
              </p:nvSpPr>
              <p:spPr>
                <a:xfrm>
                  <a:off x="2844720" y="419580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8" name=""/>
                <p:cNvSpPr/>
                <p:nvPr/>
              </p:nvSpPr>
              <p:spPr>
                <a:xfrm>
                  <a:off x="2870280" y="422100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9" name=""/>
                <p:cNvSpPr/>
                <p:nvPr/>
              </p:nvSpPr>
              <p:spPr>
                <a:xfrm>
                  <a:off x="2870280" y="4221000"/>
                  <a:ext cx="50760" cy="5112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0" name=""/>
                <p:cNvSpPr/>
                <p:nvPr/>
              </p:nvSpPr>
              <p:spPr>
                <a:xfrm>
                  <a:off x="2882880" y="427212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1" name=""/>
                <p:cNvSpPr/>
                <p:nvPr/>
              </p:nvSpPr>
              <p:spPr>
                <a:xfrm>
                  <a:off x="2882880" y="427212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2" name=""/>
                <p:cNvSpPr/>
                <p:nvPr/>
              </p:nvSpPr>
              <p:spPr>
                <a:xfrm>
                  <a:off x="2908440" y="430992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3" name=""/>
                <p:cNvSpPr/>
                <p:nvPr/>
              </p:nvSpPr>
              <p:spPr>
                <a:xfrm>
                  <a:off x="2908440" y="4309920"/>
                  <a:ext cx="50760" cy="5112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4" name=""/>
                <p:cNvSpPr/>
                <p:nvPr/>
              </p:nvSpPr>
              <p:spPr>
                <a:xfrm>
                  <a:off x="2921040" y="437364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5" name=""/>
                <p:cNvSpPr/>
                <p:nvPr/>
              </p:nvSpPr>
              <p:spPr>
                <a:xfrm>
                  <a:off x="2921040" y="437364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6" name=""/>
                <p:cNvSpPr/>
                <p:nvPr/>
              </p:nvSpPr>
              <p:spPr>
                <a:xfrm>
                  <a:off x="2933640" y="4398840"/>
                  <a:ext cx="637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7" name=""/>
                <p:cNvSpPr/>
                <p:nvPr/>
              </p:nvSpPr>
              <p:spPr>
                <a:xfrm>
                  <a:off x="2933640" y="439884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8" name=""/>
                <p:cNvSpPr/>
                <p:nvPr/>
              </p:nvSpPr>
              <p:spPr>
                <a:xfrm>
                  <a:off x="2959200" y="443700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9" name=""/>
                <p:cNvSpPr/>
                <p:nvPr/>
              </p:nvSpPr>
              <p:spPr>
                <a:xfrm>
                  <a:off x="2959200" y="443700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0" name=""/>
                <p:cNvSpPr/>
                <p:nvPr/>
              </p:nvSpPr>
              <p:spPr>
                <a:xfrm>
                  <a:off x="2971800" y="446256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1" name=""/>
                <p:cNvSpPr/>
                <p:nvPr/>
              </p:nvSpPr>
              <p:spPr>
                <a:xfrm>
                  <a:off x="2971800" y="44625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2" name=""/>
                <p:cNvSpPr/>
                <p:nvPr/>
              </p:nvSpPr>
              <p:spPr>
                <a:xfrm>
                  <a:off x="2997360" y="448776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3" name=""/>
                <p:cNvSpPr/>
                <p:nvPr/>
              </p:nvSpPr>
              <p:spPr>
                <a:xfrm>
                  <a:off x="2997360" y="44877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4" name=""/>
                <p:cNvSpPr/>
                <p:nvPr/>
              </p:nvSpPr>
              <p:spPr>
                <a:xfrm>
                  <a:off x="3009960" y="451332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5" name=""/>
                <p:cNvSpPr/>
                <p:nvPr/>
              </p:nvSpPr>
              <p:spPr>
                <a:xfrm>
                  <a:off x="3009960" y="451332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6" name=""/>
                <p:cNvSpPr/>
                <p:nvPr/>
              </p:nvSpPr>
              <p:spPr>
                <a:xfrm>
                  <a:off x="3022560" y="4538520"/>
                  <a:ext cx="637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7" name=""/>
                <p:cNvSpPr/>
                <p:nvPr/>
              </p:nvSpPr>
              <p:spPr>
                <a:xfrm>
                  <a:off x="3022560" y="4538520"/>
                  <a:ext cx="50760" cy="5112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8" name=""/>
                <p:cNvSpPr/>
                <p:nvPr/>
              </p:nvSpPr>
              <p:spPr>
                <a:xfrm>
                  <a:off x="3048120" y="456408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9" name=""/>
                <p:cNvSpPr/>
                <p:nvPr/>
              </p:nvSpPr>
              <p:spPr>
                <a:xfrm>
                  <a:off x="3048120" y="456408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0" name=""/>
                <p:cNvSpPr/>
                <p:nvPr/>
              </p:nvSpPr>
              <p:spPr>
                <a:xfrm>
                  <a:off x="3060720" y="457668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1" name=""/>
                <p:cNvSpPr/>
                <p:nvPr/>
              </p:nvSpPr>
              <p:spPr>
                <a:xfrm>
                  <a:off x="3060720" y="457668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2" name=""/>
                <p:cNvSpPr/>
                <p:nvPr/>
              </p:nvSpPr>
              <p:spPr>
                <a:xfrm>
                  <a:off x="3086280" y="461484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3" name=""/>
                <p:cNvSpPr/>
                <p:nvPr/>
              </p:nvSpPr>
              <p:spPr>
                <a:xfrm>
                  <a:off x="3086280" y="461484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4" name=""/>
                <p:cNvSpPr/>
                <p:nvPr/>
              </p:nvSpPr>
              <p:spPr>
                <a:xfrm>
                  <a:off x="3098880" y="464040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5" name=""/>
                <p:cNvSpPr/>
                <p:nvPr/>
              </p:nvSpPr>
              <p:spPr>
                <a:xfrm>
                  <a:off x="3098880" y="464040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6" name=""/>
                <p:cNvSpPr/>
                <p:nvPr/>
              </p:nvSpPr>
              <p:spPr>
                <a:xfrm>
                  <a:off x="3111480" y="465300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7" name=""/>
                <p:cNvSpPr/>
                <p:nvPr/>
              </p:nvSpPr>
              <p:spPr>
                <a:xfrm>
                  <a:off x="3111480" y="465300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8" name=""/>
                <p:cNvSpPr/>
                <p:nvPr/>
              </p:nvSpPr>
              <p:spPr>
                <a:xfrm>
                  <a:off x="3137040" y="469116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9" name=""/>
                <p:cNvSpPr/>
                <p:nvPr/>
              </p:nvSpPr>
              <p:spPr>
                <a:xfrm>
                  <a:off x="3137040" y="46911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0" name=""/>
                <p:cNvSpPr/>
                <p:nvPr/>
              </p:nvSpPr>
              <p:spPr>
                <a:xfrm>
                  <a:off x="3149640" y="471636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1" name=""/>
                <p:cNvSpPr/>
                <p:nvPr/>
              </p:nvSpPr>
              <p:spPr>
                <a:xfrm>
                  <a:off x="3149640" y="47163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2" name=""/>
                <p:cNvSpPr/>
                <p:nvPr/>
              </p:nvSpPr>
              <p:spPr>
                <a:xfrm>
                  <a:off x="3174840" y="4767120"/>
                  <a:ext cx="637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3" name=""/>
                <p:cNvSpPr/>
                <p:nvPr/>
              </p:nvSpPr>
              <p:spPr>
                <a:xfrm>
                  <a:off x="3174840" y="4767120"/>
                  <a:ext cx="51120" cy="5112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4" name=""/>
                <p:cNvSpPr/>
                <p:nvPr/>
              </p:nvSpPr>
              <p:spPr>
                <a:xfrm>
                  <a:off x="3187800" y="479268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5" name=""/>
                <p:cNvSpPr/>
                <p:nvPr/>
              </p:nvSpPr>
              <p:spPr>
                <a:xfrm>
                  <a:off x="3187800" y="479268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6" name=""/>
                <p:cNvSpPr/>
                <p:nvPr/>
              </p:nvSpPr>
              <p:spPr>
                <a:xfrm>
                  <a:off x="3200400" y="480528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7" name=""/>
                <p:cNvSpPr/>
                <p:nvPr/>
              </p:nvSpPr>
              <p:spPr>
                <a:xfrm>
                  <a:off x="3200400" y="480528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8" name=""/>
                <p:cNvSpPr/>
                <p:nvPr/>
              </p:nvSpPr>
              <p:spPr>
                <a:xfrm>
                  <a:off x="3225960" y="484344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9" name=""/>
                <p:cNvSpPr/>
                <p:nvPr/>
              </p:nvSpPr>
              <p:spPr>
                <a:xfrm>
                  <a:off x="3225960" y="484344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0" name=""/>
                <p:cNvSpPr/>
                <p:nvPr/>
              </p:nvSpPr>
              <p:spPr>
                <a:xfrm>
                  <a:off x="3238560" y="485604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1" name=""/>
                <p:cNvSpPr/>
                <p:nvPr/>
              </p:nvSpPr>
              <p:spPr>
                <a:xfrm>
                  <a:off x="3238560" y="485604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2" name=""/>
                <p:cNvSpPr/>
                <p:nvPr/>
              </p:nvSpPr>
              <p:spPr>
                <a:xfrm>
                  <a:off x="3263760" y="4906800"/>
                  <a:ext cx="637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3" name=""/>
                <p:cNvSpPr/>
                <p:nvPr/>
              </p:nvSpPr>
              <p:spPr>
                <a:xfrm>
                  <a:off x="3263760" y="4906800"/>
                  <a:ext cx="51120" cy="5112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4" name=""/>
                <p:cNvSpPr/>
                <p:nvPr/>
              </p:nvSpPr>
              <p:spPr>
                <a:xfrm>
                  <a:off x="3276720" y="491976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5" name=""/>
                <p:cNvSpPr/>
                <p:nvPr/>
              </p:nvSpPr>
              <p:spPr>
                <a:xfrm>
                  <a:off x="3276720" y="49197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6" name=""/>
                <p:cNvSpPr/>
                <p:nvPr/>
              </p:nvSpPr>
              <p:spPr>
                <a:xfrm>
                  <a:off x="3289320" y="495792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7" name=""/>
                <p:cNvSpPr/>
                <p:nvPr/>
              </p:nvSpPr>
              <p:spPr>
                <a:xfrm>
                  <a:off x="3289320" y="495792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8" name=""/>
                <p:cNvSpPr/>
                <p:nvPr/>
              </p:nvSpPr>
              <p:spPr>
                <a:xfrm>
                  <a:off x="3314880" y="497052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9" name=""/>
                <p:cNvSpPr/>
                <p:nvPr/>
              </p:nvSpPr>
              <p:spPr>
                <a:xfrm>
                  <a:off x="3314880" y="497052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0" name=""/>
                <p:cNvSpPr/>
                <p:nvPr/>
              </p:nvSpPr>
              <p:spPr>
                <a:xfrm>
                  <a:off x="3327480" y="498312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1" name=""/>
                <p:cNvSpPr/>
                <p:nvPr/>
              </p:nvSpPr>
              <p:spPr>
                <a:xfrm>
                  <a:off x="3327480" y="498312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2" name=""/>
                <p:cNvSpPr/>
                <p:nvPr/>
              </p:nvSpPr>
              <p:spPr>
                <a:xfrm>
                  <a:off x="3340080" y="500868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3" name=""/>
                <p:cNvSpPr/>
                <p:nvPr/>
              </p:nvSpPr>
              <p:spPr>
                <a:xfrm>
                  <a:off x="3340080" y="500868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4" name=""/>
                <p:cNvSpPr/>
                <p:nvPr/>
              </p:nvSpPr>
              <p:spPr>
                <a:xfrm>
                  <a:off x="3365640" y="502128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5" name=""/>
                <p:cNvSpPr/>
                <p:nvPr/>
              </p:nvSpPr>
              <p:spPr>
                <a:xfrm>
                  <a:off x="3365640" y="502128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6" name=""/>
                <p:cNvSpPr/>
                <p:nvPr/>
              </p:nvSpPr>
              <p:spPr>
                <a:xfrm>
                  <a:off x="3378240" y="503388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7" name=""/>
                <p:cNvSpPr/>
                <p:nvPr/>
              </p:nvSpPr>
              <p:spPr>
                <a:xfrm>
                  <a:off x="3378240" y="503388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8" name=""/>
                <p:cNvSpPr/>
                <p:nvPr/>
              </p:nvSpPr>
              <p:spPr>
                <a:xfrm>
                  <a:off x="3403440" y="5059440"/>
                  <a:ext cx="6372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9" name=""/>
                <p:cNvSpPr/>
                <p:nvPr/>
              </p:nvSpPr>
              <p:spPr>
                <a:xfrm>
                  <a:off x="3403440" y="5059440"/>
                  <a:ext cx="5112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0" name=""/>
                <p:cNvSpPr/>
                <p:nvPr/>
              </p:nvSpPr>
              <p:spPr>
                <a:xfrm>
                  <a:off x="3416400" y="509760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1" name=""/>
                <p:cNvSpPr/>
                <p:nvPr/>
              </p:nvSpPr>
              <p:spPr>
                <a:xfrm>
                  <a:off x="3416400" y="509760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2" name=""/>
                <p:cNvSpPr/>
                <p:nvPr/>
              </p:nvSpPr>
              <p:spPr>
                <a:xfrm>
                  <a:off x="3429000" y="509760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3" name=""/>
                <p:cNvSpPr/>
                <p:nvPr/>
              </p:nvSpPr>
              <p:spPr>
                <a:xfrm>
                  <a:off x="3429000" y="509760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4" name=""/>
                <p:cNvSpPr/>
                <p:nvPr/>
              </p:nvSpPr>
              <p:spPr>
                <a:xfrm>
                  <a:off x="3454560" y="512280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5" name=""/>
                <p:cNvSpPr/>
                <p:nvPr/>
              </p:nvSpPr>
              <p:spPr>
                <a:xfrm>
                  <a:off x="3454560" y="512280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6" name=""/>
                <p:cNvSpPr/>
                <p:nvPr/>
              </p:nvSpPr>
              <p:spPr>
                <a:xfrm>
                  <a:off x="3467160" y="511020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7" name=""/>
                <p:cNvSpPr/>
                <p:nvPr/>
              </p:nvSpPr>
              <p:spPr>
                <a:xfrm>
                  <a:off x="3467160" y="511020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8" name=""/>
                <p:cNvSpPr/>
                <p:nvPr/>
              </p:nvSpPr>
              <p:spPr>
                <a:xfrm>
                  <a:off x="3492360" y="5122800"/>
                  <a:ext cx="637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9" name=""/>
                <p:cNvSpPr/>
                <p:nvPr/>
              </p:nvSpPr>
              <p:spPr>
                <a:xfrm>
                  <a:off x="3492360" y="5122800"/>
                  <a:ext cx="5112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0" name=""/>
                <p:cNvSpPr/>
                <p:nvPr/>
              </p:nvSpPr>
              <p:spPr>
                <a:xfrm>
                  <a:off x="3505320" y="513540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1" name=""/>
                <p:cNvSpPr/>
                <p:nvPr/>
              </p:nvSpPr>
              <p:spPr>
                <a:xfrm>
                  <a:off x="3505320" y="5135400"/>
                  <a:ext cx="50760" cy="5112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2" name=""/>
                <p:cNvSpPr/>
                <p:nvPr/>
              </p:nvSpPr>
              <p:spPr>
                <a:xfrm>
                  <a:off x="3517920" y="514836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3" name=""/>
                <p:cNvSpPr/>
                <p:nvPr/>
              </p:nvSpPr>
              <p:spPr>
                <a:xfrm>
                  <a:off x="3517920" y="51483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4" name=""/>
                <p:cNvSpPr/>
                <p:nvPr/>
              </p:nvSpPr>
              <p:spPr>
                <a:xfrm>
                  <a:off x="3543480" y="517356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5" name=""/>
                <p:cNvSpPr/>
                <p:nvPr/>
              </p:nvSpPr>
              <p:spPr>
                <a:xfrm>
                  <a:off x="3543480" y="51735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6" name=""/>
                <p:cNvSpPr/>
                <p:nvPr/>
              </p:nvSpPr>
              <p:spPr>
                <a:xfrm>
                  <a:off x="3556080" y="518652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7" name=""/>
                <p:cNvSpPr/>
                <p:nvPr/>
              </p:nvSpPr>
              <p:spPr>
                <a:xfrm>
                  <a:off x="3556080" y="518652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8" name=""/>
                <p:cNvSpPr/>
                <p:nvPr/>
              </p:nvSpPr>
              <p:spPr>
                <a:xfrm>
                  <a:off x="3581280" y="5173560"/>
                  <a:ext cx="637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9" name=""/>
                <p:cNvSpPr/>
                <p:nvPr/>
              </p:nvSpPr>
              <p:spPr>
                <a:xfrm>
                  <a:off x="3581280" y="51735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0" name=""/>
                <p:cNvSpPr/>
                <p:nvPr/>
              </p:nvSpPr>
              <p:spPr>
                <a:xfrm>
                  <a:off x="3594240" y="521172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1" name=""/>
                <p:cNvSpPr/>
                <p:nvPr/>
              </p:nvSpPr>
              <p:spPr>
                <a:xfrm>
                  <a:off x="3594240" y="521172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2" name=""/>
                <p:cNvSpPr/>
                <p:nvPr/>
              </p:nvSpPr>
              <p:spPr>
                <a:xfrm>
                  <a:off x="3606840" y="522432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3" name=""/>
                <p:cNvSpPr/>
                <p:nvPr/>
              </p:nvSpPr>
              <p:spPr>
                <a:xfrm>
                  <a:off x="3606840" y="5224320"/>
                  <a:ext cx="50760" cy="5112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4" name=""/>
                <p:cNvSpPr/>
                <p:nvPr/>
              </p:nvSpPr>
              <p:spPr>
                <a:xfrm>
                  <a:off x="3632040" y="5262480"/>
                  <a:ext cx="637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5" name=""/>
                <p:cNvSpPr/>
                <p:nvPr/>
              </p:nvSpPr>
              <p:spPr>
                <a:xfrm>
                  <a:off x="3632040" y="5262480"/>
                  <a:ext cx="5112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6" name=""/>
                <p:cNvSpPr/>
                <p:nvPr/>
              </p:nvSpPr>
              <p:spPr>
                <a:xfrm>
                  <a:off x="3645000" y="522432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7" name=""/>
                <p:cNvSpPr/>
                <p:nvPr/>
              </p:nvSpPr>
              <p:spPr>
                <a:xfrm>
                  <a:off x="3645000" y="5224320"/>
                  <a:ext cx="50760" cy="5112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8" name=""/>
                <p:cNvSpPr/>
                <p:nvPr/>
              </p:nvSpPr>
              <p:spPr>
                <a:xfrm>
                  <a:off x="3670200" y="5249880"/>
                  <a:ext cx="6372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9" name=""/>
                <p:cNvSpPr/>
                <p:nvPr/>
              </p:nvSpPr>
              <p:spPr>
                <a:xfrm>
                  <a:off x="3670200" y="524988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0" name=""/>
                <p:cNvSpPr/>
                <p:nvPr/>
              </p:nvSpPr>
              <p:spPr>
                <a:xfrm>
                  <a:off x="3720960" y="5288040"/>
                  <a:ext cx="6372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1" name=""/>
                <p:cNvSpPr/>
                <p:nvPr/>
              </p:nvSpPr>
              <p:spPr>
                <a:xfrm>
                  <a:off x="3720960" y="5288040"/>
                  <a:ext cx="5112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2" name=""/>
                <p:cNvSpPr/>
                <p:nvPr/>
              </p:nvSpPr>
              <p:spPr>
                <a:xfrm>
                  <a:off x="3772080" y="537696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3" name=""/>
                <p:cNvSpPr/>
                <p:nvPr/>
              </p:nvSpPr>
              <p:spPr>
                <a:xfrm>
                  <a:off x="3772080" y="53769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4" name=""/>
                <p:cNvSpPr/>
                <p:nvPr/>
              </p:nvSpPr>
              <p:spPr>
                <a:xfrm>
                  <a:off x="3822840" y="552924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5" name=""/>
                <p:cNvSpPr/>
                <p:nvPr/>
              </p:nvSpPr>
              <p:spPr>
                <a:xfrm>
                  <a:off x="3822840" y="552924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6" name=""/>
                <p:cNvSpPr/>
                <p:nvPr/>
              </p:nvSpPr>
              <p:spPr>
                <a:xfrm>
                  <a:off x="3886200" y="544032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7" name=""/>
                <p:cNvSpPr/>
                <p:nvPr/>
              </p:nvSpPr>
              <p:spPr>
                <a:xfrm>
                  <a:off x="3886200" y="544032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8" name=""/>
                <p:cNvSpPr/>
                <p:nvPr/>
              </p:nvSpPr>
              <p:spPr>
                <a:xfrm>
                  <a:off x="3936960" y="5491080"/>
                  <a:ext cx="637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79" name=""/>
              <p:cNvSpPr/>
              <p:nvPr/>
            </p:nvSpPr>
            <p:spPr>
              <a:xfrm>
                <a:off x="3936960" y="5491080"/>
                <a:ext cx="50760" cy="5076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3987720" y="5478480"/>
                <a:ext cx="63720" cy="6336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3987720" y="5478480"/>
                <a:ext cx="50760" cy="5076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82" name=""/>
              <p:cNvGrpSpPr/>
              <p:nvPr/>
            </p:nvGrpSpPr>
            <p:grpSpPr>
              <a:xfrm>
                <a:off x="2730600" y="5954760"/>
                <a:ext cx="2828880" cy="182880"/>
                <a:chOff x="2730600" y="5954760"/>
                <a:chExt cx="2828880" cy="182880"/>
              </a:xfrm>
            </p:grpSpPr>
            <p:sp>
              <p:nvSpPr>
                <p:cNvPr id="3683" name=""/>
                <p:cNvSpPr/>
                <p:nvPr/>
              </p:nvSpPr>
              <p:spPr>
                <a:xfrm>
                  <a:off x="2730600" y="5954760"/>
                  <a:ext cx="921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4" name=""/>
                <p:cNvSpPr/>
                <p:nvPr/>
              </p:nvSpPr>
              <p:spPr>
                <a:xfrm>
                  <a:off x="3119040" y="5954760"/>
                  <a:ext cx="183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5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5" name=""/>
                <p:cNvSpPr/>
                <p:nvPr/>
              </p:nvSpPr>
              <p:spPr>
                <a:xfrm>
                  <a:off x="3519360" y="5954760"/>
                  <a:ext cx="275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10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6" name=""/>
                <p:cNvSpPr/>
                <p:nvPr/>
              </p:nvSpPr>
              <p:spPr>
                <a:xfrm>
                  <a:off x="3951000" y="5954760"/>
                  <a:ext cx="275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15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7" name=""/>
                <p:cNvSpPr/>
                <p:nvPr/>
              </p:nvSpPr>
              <p:spPr>
                <a:xfrm>
                  <a:off x="4395600" y="5954760"/>
                  <a:ext cx="275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20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8" name=""/>
                <p:cNvSpPr/>
                <p:nvPr/>
              </p:nvSpPr>
              <p:spPr>
                <a:xfrm>
                  <a:off x="4840200" y="5954760"/>
                  <a:ext cx="275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25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>
                  <a:off x="5284440" y="5954760"/>
                  <a:ext cx="275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30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0" name=""/>
              <p:cNvGrpSpPr/>
              <p:nvPr/>
            </p:nvGrpSpPr>
            <p:grpSpPr>
              <a:xfrm>
                <a:off x="2194920" y="3821040"/>
                <a:ext cx="558720" cy="1795680"/>
                <a:chOff x="2194920" y="3821040"/>
                <a:chExt cx="558720" cy="1795680"/>
              </a:xfrm>
            </p:grpSpPr>
            <p:sp>
              <p:nvSpPr>
                <p:cNvPr id="3691" name=""/>
                <p:cNvSpPr/>
                <p:nvPr/>
              </p:nvSpPr>
              <p:spPr>
                <a:xfrm>
                  <a:off x="2194920" y="5433840"/>
                  <a:ext cx="549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0.000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2" name=""/>
                <p:cNvSpPr/>
                <p:nvPr/>
              </p:nvSpPr>
              <p:spPr>
                <a:xfrm>
                  <a:off x="2289600" y="5027760"/>
                  <a:ext cx="457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0.00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3" name=""/>
                <p:cNvSpPr/>
                <p:nvPr/>
              </p:nvSpPr>
              <p:spPr>
                <a:xfrm>
                  <a:off x="2383920" y="4633920"/>
                  <a:ext cx="366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0.0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4" name=""/>
                <p:cNvSpPr/>
                <p:nvPr/>
              </p:nvSpPr>
              <p:spPr>
                <a:xfrm>
                  <a:off x="2478600" y="4227480"/>
                  <a:ext cx="275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0.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5" name=""/>
                <p:cNvSpPr/>
                <p:nvPr/>
              </p:nvSpPr>
              <p:spPr>
                <a:xfrm>
                  <a:off x="2629080" y="3821040"/>
                  <a:ext cx="921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96" name=""/>
            <p:cNvSpPr/>
            <p:nvPr/>
          </p:nvSpPr>
          <p:spPr>
            <a:xfrm>
              <a:off x="2819520" y="4056120"/>
              <a:ext cx="2400120" cy="1549440"/>
            </a:xfrm>
            <a:custGeom>
              <a:avLst/>
              <a:gdLst/>
              <a:ahLst/>
              <a:rect l="l" t="t" r="r" b="b"/>
              <a:pathLst>
                <a:path w="1512" h="976">
                  <a:moveTo>
                    <a:pt x="8" y="696"/>
                  </a:moveTo>
                  <a:lnTo>
                    <a:pt x="8" y="672"/>
                  </a:lnTo>
                  <a:lnTo>
                    <a:pt x="8" y="656"/>
                  </a:lnTo>
                  <a:lnTo>
                    <a:pt x="8" y="632"/>
                  </a:lnTo>
                  <a:lnTo>
                    <a:pt x="8" y="600"/>
                  </a:lnTo>
                  <a:lnTo>
                    <a:pt x="8" y="576"/>
                  </a:lnTo>
                  <a:lnTo>
                    <a:pt x="8" y="552"/>
                  </a:lnTo>
                  <a:lnTo>
                    <a:pt x="8" y="520"/>
                  </a:lnTo>
                  <a:lnTo>
                    <a:pt x="0" y="488"/>
                  </a:lnTo>
                  <a:lnTo>
                    <a:pt x="0" y="464"/>
                  </a:lnTo>
                  <a:lnTo>
                    <a:pt x="0" y="432"/>
                  </a:lnTo>
                  <a:lnTo>
                    <a:pt x="0" y="408"/>
                  </a:lnTo>
                  <a:lnTo>
                    <a:pt x="0" y="376"/>
                  </a:lnTo>
                  <a:lnTo>
                    <a:pt x="0" y="352"/>
                  </a:lnTo>
                  <a:lnTo>
                    <a:pt x="0" y="320"/>
                  </a:lnTo>
                  <a:lnTo>
                    <a:pt x="8" y="296"/>
                  </a:lnTo>
                  <a:lnTo>
                    <a:pt x="8" y="272"/>
                  </a:lnTo>
                  <a:lnTo>
                    <a:pt x="8" y="248"/>
                  </a:lnTo>
                  <a:lnTo>
                    <a:pt x="8" y="232"/>
                  </a:lnTo>
                  <a:lnTo>
                    <a:pt x="16" y="216"/>
                  </a:lnTo>
                  <a:lnTo>
                    <a:pt x="16" y="200"/>
                  </a:lnTo>
                  <a:lnTo>
                    <a:pt x="16" y="184"/>
                  </a:lnTo>
                  <a:lnTo>
                    <a:pt x="24" y="176"/>
                  </a:lnTo>
                  <a:lnTo>
                    <a:pt x="24" y="160"/>
                  </a:lnTo>
                  <a:lnTo>
                    <a:pt x="24" y="152"/>
                  </a:lnTo>
                  <a:lnTo>
                    <a:pt x="24" y="136"/>
                  </a:lnTo>
                  <a:lnTo>
                    <a:pt x="24" y="120"/>
                  </a:lnTo>
                  <a:lnTo>
                    <a:pt x="24" y="112"/>
                  </a:lnTo>
                  <a:lnTo>
                    <a:pt x="24" y="96"/>
                  </a:lnTo>
                  <a:lnTo>
                    <a:pt x="24" y="88"/>
                  </a:lnTo>
                  <a:lnTo>
                    <a:pt x="24" y="72"/>
                  </a:lnTo>
                  <a:lnTo>
                    <a:pt x="24" y="64"/>
                  </a:lnTo>
                  <a:lnTo>
                    <a:pt x="24" y="48"/>
                  </a:lnTo>
                  <a:lnTo>
                    <a:pt x="24" y="40"/>
                  </a:lnTo>
                  <a:lnTo>
                    <a:pt x="32" y="32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56" y="8"/>
                  </a:lnTo>
                  <a:lnTo>
                    <a:pt x="64" y="8"/>
                  </a:lnTo>
                  <a:lnTo>
                    <a:pt x="64" y="16"/>
                  </a:lnTo>
                  <a:lnTo>
                    <a:pt x="72" y="16"/>
                  </a:lnTo>
                  <a:lnTo>
                    <a:pt x="72" y="24"/>
                  </a:lnTo>
                  <a:lnTo>
                    <a:pt x="72" y="32"/>
                  </a:lnTo>
                  <a:lnTo>
                    <a:pt x="80" y="40"/>
                  </a:lnTo>
                  <a:lnTo>
                    <a:pt x="80" y="48"/>
                  </a:lnTo>
                  <a:lnTo>
                    <a:pt x="80" y="56"/>
                  </a:lnTo>
                  <a:lnTo>
                    <a:pt x="88" y="64"/>
                  </a:lnTo>
                  <a:lnTo>
                    <a:pt x="88" y="80"/>
                  </a:lnTo>
                  <a:lnTo>
                    <a:pt x="96" y="96"/>
                  </a:lnTo>
                  <a:lnTo>
                    <a:pt x="104" y="112"/>
                  </a:lnTo>
                  <a:lnTo>
                    <a:pt x="104" y="128"/>
                  </a:lnTo>
                  <a:lnTo>
                    <a:pt x="112" y="152"/>
                  </a:lnTo>
                  <a:lnTo>
                    <a:pt x="120" y="168"/>
                  </a:lnTo>
                  <a:lnTo>
                    <a:pt x="128" y="192"/>
                  </a:lnTo>
                  <a:lnTo>
                    <a:pt x="136" y="216"/>
                  </a:lnTo>
                  <a:lnTo>
                    <a:pt x="144" y="232"/>
                  </a:lnTo>
                  <a:lnTo>
                    <a:pt x="160" y="256"/>
                  </a:lnTo>
                  <a:lnTo>
                    <a:pt x="168" y="272"/>
                  </a:lnTo>
                  <a:lnTo>
                    <a:pt x="176" y="296"/>
                  </a:lnTo>
                  <a:lnTo>
                    <a:pt x="184" y="312"/>
                  </a:lnTo>
                  <a:lnTo>
                    <a:pt x="192" y="336"/>
                  </a:lnTo>
                  <a:lnTo>
                    <a:pt x="200" y="352"/>
                  </a:lnTo>
                  <a:lnTo>
                    <a:pt x="208" y="360"/>
                  </a:lnTo>
                  <a:lnTo>
                    <a:pt x="208" y="376"/>
                  </a:lnTo>
                  <a:lnTo>
                    <a:pt x="216" y="384"/>
                  </a:lnTo>
                  <a:lnTo>
                    <a:pt x="224" y="392"/>
                  </a:lnTo>
                  <a:lnTo>
                    <a:pt x="232" y="408"/>
                  </a:lnTo>
                  <a:lnTo>
                    <a:pt x="240" y="416"/>
                  </a:lnTo>
                  <a:lnTo>
                    <a:pt x="248" y="432"/>
                  </a:lnTo>
                  <a:lnTo>
                    <a:pt x="256" y="448"/>
                  </a:lnTo>
                  <a:lnTo>
                    <a:pt x="264" y="456"/>
                  </a:lnTo>
                  <a:lnTo>
                    <a:pt x="280" y="472"/>
                  </a:lnTo>
                  <a:lnTo>
                    <a:pt x="288" y="488"/>
                  </a:lnTo>
                  <a:lnTo>
                    <a:pt x="296" y="504"/>
                  </a:lnTo>
                  <a:lnTo>
                    <a:pt x="312" y="520"/>
                  </a:lnTo>
                  <a:lnTo>
                    <a:pt x="320" y="536"/>
                  </a:lnTo>
                  <a:lnTo>
                    <a:pt x="336" y="552"/>
                  </a:lnTo>
                  <a:lnTo>
                    <a:pt x="352" y="568"/>
                  </a:lnTo>
                  <a:lnTo>
                    <a:pt x="360" y="576"/>
                  </a:lnTo>
                  <a:lnTo>
                    <a:pt x="376" y="592"/>
                  </a:lnTo>
                  <a:lnTo>
                    <a:pt x="392" y="608"/>
                  </a:lnTo>
                  <a:lnTo>
                    <a:pt x="408" y="616"/>
                  </a:lnTo>
                  <a:lnTo>
                    <a:pt x="416" y="632"/>
                  </a:lnTo>
                  <a:lnTo>
                    <a:pt x="432" y="640"/>
                  </a:lnTo>
                  <a:lnTo>
                    <a:pt x="448" y="648"/>
                  </a:lnTo>
                  <a:lnTo>
                    <a:pt x="464" y="656"/>
                  </a:lnTo>
                  <a:lnTo>
                    <a:pt x="480" y="664"/>
                  </a:lnTo>
                  <a:lnTo>
                    <a:pt x="496" y="672"/>
                  </a:lnTo>
                  <a:lnTo>
                    <a:pt x="512" y="688"/>
                  </a:lnTo>
                  <a:lnTo>
                    <a:pt x="528" y="696"/>
                  </a:lnTo>
                  <a:lnTo>
                    <a:pt x="552" y="704"/>
                  </a:lnTo>
                  <a:lnTo>
                    <a:pt x="568" y="712"/>
                  </a:lnTo>
                  <a:lnTo>
                    <a:pt x="584" y="720"/>
                  </a:lnTo>
                  <a:lnTo>
                    <a:pt x="600" y="728"/>
                  </a:lnTo>
                  <a:lnTo>
                    <a:pt x="624" y="736"/>
                  </a:lnTo>
                  <a:lnTo>
                    <a:pt x="640" y="744"/>
                  </a:lnTo>
                  <a:lnTo>
                    <a:pt x="664" y="752"/>
                  </a:lnTo>
                  <a:lnTo>
                    <a:pt x="680" y="760"/>
                  </a:lnTo>
                  <a:lnTo>
                    <a:pt x="704" y="768"/>
                  </a:lnTo>
                  <a:lnTo>
                    <a:pt x="720" y="768"/>
                  </a:lnTo>
                  <a:lnTo>
                    <a:pt x="744" y="776"/>
                  </a:lnTo>
                  <a:lnTo>
                    <a:pt x="768" y="784"/>
                  </a:lnTo>
                  <a:lnTo>
                    <a:pt x="784" y="792"/>
                  </a:lnTo>
                  <a:lnTo>
                    <a:pt x="808" y="800"/>
                  </a:lnTo>
                  <a:lnTo>
                    <a:pt x="832" y="808"/>
                  </a:lnTo>
                  <a:lnTo>
                    <a:pt x="856" y="816"/>
                  </a:lnTo>
                  <a:lnTo>
                    <a:pt x="888" y="824"/>
                  </a:lnTo>
                  <a:lnTo>
                    <a:pt x="928" y="840"/>
                  </a:lnTo>
                  <a:lnTo>
                    <a:pt x="968" y="848"/>
                  </a:lnTo>
                  <a:lnTo>
                    <a:pt x="1008" y="856"/>
                  </a:lnTo>
                  <a:lnTo>
                    <a:pt x="1048" y="872"/>
                  </a:lnTo>
                  <a:lnTo>
                    <a:pt x="1096" y="880"/>
                  </a:lnTo>
                  <a:lnTo>
                    <a:pt x="1144" y="888"/>
                  </a:lnTo>
                  <a:lnTo>
                    <a:pt x="1184" y="904"/>
                  </a:lnTo>
                  <a:lnTo>
                    <a:pt x="1232" y="912"/>
                  </a:lnTo>
                  <a:lnTo>
                    <a:pt x="1280" y="920"/>
                  </a:lnTo>
                  <a:lnTo>
                    <a:pt x="1320" y="936"/>
                  </a:lnTo>
                  <a:lnTo>
                    <a:pt x="1360" y="944"/>
                  </a:lnTo>
                  <a:lnTo>
                    <a:pt x="1392" y="952"/>
                  </a:lnTo>
                  <a:lnTo>
                    <a:pt x="1432" y="960"/>
                  </a:lnTo>
                  <a:lnTo>
                    <a:pt x="1456" y="960"/>
                  </a:lnTo>
                  <a:lnTo>
                    <a:pt x="1480" y="968"/>
                  </a:lnTo>
                  <a:lnTo>
                    <a:pt x="1496" y="976"/>
                  </a:lnTo>
                  <a:lnTo>
                    <a:pt x="1512" y="97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2882880" y="4475160"/>
              <a:ext cx="2336760" cy="851040"/>
            </a:xfrm>
            <a:custGeom>
              <a:avLst/>
              <a:gdLst/>
              <a:ahLst/>
              <a:rect l="l" t="t" r="r" b="b"/>
              <a:pathLst>
                <a:path w="1472" h="536">
                  <a:moveTo>
                    <a:pt x="0" y="296"/>
                  </a:moveTo>
                  <a:lnTo>
                    <a:pt x="0" y="272"/>
                  </a:lnTo>
                  <a:lnTo>
                    <a:pt x="8" y="256"/>
                  </a:lnTo>
                  <a:lnTo>
                    <a:pt x="8" y="240"/>
                  </a:lnTo>
                  <a:lnTo>
                    <a:pt x="8" y="232"/>
                  </a:lnTo>
                  <a:lnTo>
                    <a:pt x="8" y="216"/>
                  </a:lnTo>
                  <a:lnTo>
                    <a:pt x="16" y="208"/>
                  </a:lnTo>
                  <a:lnTo>
                    <a:pt x="16" y="200"/>
                  </a:lnTo>
                  <a:lnTo>
                    <a:pt x="16" y="192"/>
                  </a:lnTo>
                  <a:lnTo>
                    <a:pt x="16" y="184"/>
                  </a:lnTo>
                  <a:lnTo>
                    <a:pt x="16" y="176"/>
                  </a:lnTo>
                  <a:lnTo>
                    <a:pt x="24" y="176"/>
                  </a:lnTo>
                  <a:lnTo>
                    <a:pt x="24" y="168"/>
                  </a:lnTo>
                  <a:lnTo>
                    <a:pt x="32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0" y="144"/>
                  </a:lnTo>
                  <a:lnTo>
                    <a:pt x="48" y="136"/>
                  </a:lnTo>
                  <a:lnTo>
                    <a:pt x="48" y="128"/>
                  </a:lnTo>
                  <a:lnTo>
                    <a:pt x="56" y="120"/>
                  </a:lnTo>
                  <a:lnTo>
                    <a:pt x="56" y="112"/>
                  </a:lnTo>
                  <a:lnTo>
                    <a:pt x="56" y="104"/>
                  </a:lnTo>
                  <a:lnTo>
                    <a:pt x="64" y="96"/>
                  </a:lnTo>
                  <a:lnTo>
                    <a:pt x="64" y="88"/>
                  </a:lnTo>
                  <a:lnTo>
                    <a:pt x="72" y="80"/>
                  </a:lnTo>
                  <a:lnTo>
                    <a:pt x="72" y="72"/>
                  </a:lnTo>
                  <a:lnTo>
                    <a:pt x="72" y="56"/>
                  </a:lnTo>
                  <a:lnTo>
                    <a:pt x="80" y="48"/>
                  </a:lnTo>
                  <a:lnTo>
                    <a:pt x="88" y="48"/>
                  </a:lnTo>
                  <a:lnTo>
                    <a:pt x="88" y="40"/>
                  </a:lnTo>
                  <a:lnTo>
                    <a:pt x="96" y="32"/>
                  </a:lnTo>
                  <a:lnTo>
                    <a:pt x="96" y="24"/>
                  </a:lnTo>
                  <a:lnTo>
                    <a:pt x="104" y="16"/>
                  </a:lnTo>
                  <a:lnTo>
                    <a:pt x="112" y="16"/>
                  </a:lnTo>
                  <a:lnTo>
                    <a:pt x="120" y="8"/>
                  </a:lnTo>
                  <a:lnTo>
                    <a:pt x="128" y="8"/>
                  </a:lnTo>
                  <a:lnTo>
                    <a:pt x="136" y="8"/>
                  </a:lnTo>
                  <a:lnTo>
                    <a:pt x="144" y="8"/>
                  </a:lnTo>
                  <a:lnTo>
                    <a:pt x="152" y="0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76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8" y="0"/>
                  </a:lnTo>
                  <a:lnTo>
                    <a:pt x="224" y="8"/>
                  </a:lnTo>
                  <a:lnTo>
                    <a:pt x="232" y="8"/>
                  </a:lnTo>
                  <a:lnTo>
                    <a:pt x="240" y="8"/>
                  </a:lnTo>
                  <a:lnTo>
                    <a:pt x="256" y="8"/>
                  </a:lnTo>
                  <a:lnTo>
                    <a:pt x="264" y="16"/>
                  </a:lnTo>
                  <a:lnTo>
                    <a:pt x="280" y="16"/>
                  </a:lnTo>
                  <a:lnTo>
                    <a:pt x="296" y="16"/>
                  </a:lnTo>
                  <a:lnTo>
                    <a:pt x="304" y="24"/>
                  </a:lnTo>
                  <a:lnTo>
                    <a:pt x="320" y="24"/>
                  </a:lnTo>
                  <a:lnTo>
                    <a:pt x="328" y="32"/>
                  </a:lnTo>
                  <a:lnTo>
                    <a:pt x="344" y="32"/>
                  </a:lnTo>
                  <a:lnTo>
                    <a:pt x="360" y="40"/>
                  </a:lnTo>
                  <a:lnTo>
                    <a:pt x="384" y="48"/>
                  </a:lnTo>
                  <a:lnTo>
                    <a:pt x="408" y="56"/>
                  </a:lnTo>
                  <a:lnTo>
                    <a:pt x="424" y="64"/>
                  </a:lnTo>
                  <a:lnTo>
                    <a:pt x="448" y="72"/>
                  </a:lnTo>
                  <a:lnTo>
                    <a:pt x="472" y="80"/>
                  </a:lnTo>
                  <a:lnTo>
                    <a:pt x="496" y="88"/>
                  </a:lnTo>
                  <a:lnTo>
                    <a:pt x="520" y="96"/>
                  </a:lnTo>
                  <a:lnTo>
                    <a:pt x="544" y="112"/>
                  </a:lnTo>
                  <a:lnTo>
                    <a:pt x="568" y="120"/>
                  </a:lnTo>
                  <a:lnTo>
                    <a:pt x="592" y="136"/>
                  </a:lnTo>
                  <a:lnTo>
                    <a:pt x="616" y="144"/>
                  </a:lnTo>
                  <a:lnTo>
                    <a:pt x="640" y="152"/>
                  </a:lnTo>
                  <a:lnTo>
                    <a:pt x="664" y="168"/>
                  </a:lnTo>
                  <a:lnTo>
                    <a:pt x="688" y="176"/>
                  </a:lnTo>
                  <a:lnTo>
                    <a:pt x="712" y="192"/>
                  </a:lnTo>
                  <a:lnTo>
                    <a:pt x="736" y="200"/>
                  </a:lnTo>
                  <a:lnTo>
                    <a:pt x="760" y="216"/>
                  </a:lnTo>
                  <a:lnTo>
                    <a:pt x="784" y="224"/>
                  </a:lnTo>
                  <a:lnTo>
                    <a:pt x="808" y="240"/>
                  </a:lnTo>
                  <a:lnTo>
                    <a:pt x="832" y="256"/>
                  </a:lnTo>
                  <a:lnTo>
                    <a:pt x="856" y="264"/>
                  </a:lnTo>
                  <a:lnTo>
                    <a:pt x="880" y="280"/>
                  </a:lnTo>
                  <a:lnTo>
                    <a:pt x="896" y="288"/>
                  </a:lnTo>
                  <a:lnTo>
                    <a:pt x="920" y="304"/>
                  </a:lnTo>
                  <a:lnTo>
                    <a:pt x="944" y="312"/>
                  </a:lnTo>
                  <a:lnTo>
                    <a:pt x="968" y="328"/>
                  </a:lnTo>
                  <a:lnTo>
                    <a:pt x="984" y="336"/>
                  </a:lnTo>
                  <a:lnTo>
                    <a:pt x="1008" y="344"/>
                  </a:lnTo>
                  <a:lnTo>
                    <a:pt x="1032" y="360"/>
                  </a:lnTo>
                  <a:lnTo>
                    <a:pt x="1048" y="368"/>
                  </a:lnTo>
                  <a:lnTo>
                    <a:pt x="1072" y="376"/>
                  </a:lnTo>
                  <a:lnTo>
                    <a:pt x="1088" y="384"/>
                  </a:lnTo>
                  <a:lnTo>
                    <a:pt x="1104" y="392"/>
                  </a:lnTo>
                  <a:lnTo>
                    <a:pt x="1128" y="400"/>
                  </a:lnTo>
                  <a:lnTo>
                    <a:pt x="1144" y="408"/>
                  </a:lnTo>
                  <a:lnTo>
                    <a:pt x="1160" y="416"/>
                  </a:lnTo>
                  <a:lnTo>
                    <a:pt x="1176" y="424"/>
                  </a:lnTo>
                  <a:lnTo>
                    <a:pt x="1192" y="424"/>
                  </a:lnTo>
                  <a:lnTo>
                    <a:pt x="1208" y="432"/>
                  </a:lnTo>
                  <a:lnTo>
                    <a:pt x="1224" y="440"/>
                  </a:lnTo>
                  <a:lnTo>
                    <a:pt x="1240" y="448"/>
                  </a:lnTo>
                  <a:lnTo>
                    <a:pt x="1256" y="448"/>
                  </a:lnTo>
                  <a:lnTo>
                    <a:pt x="1272" y="456"/>
                  </a:lnTo>
                  <a:lnTo>
                    <a:pt x="1296" y="464"/>
                  </a:lnTo>
                  <a:lnTo>
                    <a:pt x="1312" y="472"/>
                  </a:lnTo>
                  <a:lnTo>
                    <a:pt x="1328" y="480"/>
                  </a:lnTo>
                  <a:lnTo>
                    <a:pt x="1344" y="488"/>
                  </a:lnTo>
                  <a:lnTo>
                    <a:pt x="1360" y="496"/>
                  </a:lnTo>
                  <a:lnTo>
                    <a:pt x="1376" y="496"/>
                  </a:lnTo>
                  <a:lnTo>
                    <a:pt x="1392" y="504"/>
                  </a:lnTo>
                  <a:lnTo>
                    <a:pt x="1408" y="512"/>
                  </a:lnTo>
                  <a:lnTo>
                    <a:pt x="1424" y="520"/>
                  </a:lnTo>
                  <a:lnTo>
                    <a:pt x="1432" y="520"/>
                  </a:lnTo>
                  <a:lnTo>
                    <a:pt x="1448" y="528"/>
                  </a:lnTo>
                  <a:lnTo>
                    <a:pt x="1456" y="528"/>
                  </a:lnTo>
                  <a:lnTo>
                    <a:pt x="1464" y="528"/>
                  </a:lnTo>
                  <a:lnTo>
                    <a:pt x="1464" y="536"/>
                  </a:lnTo>
                  <a:lnTo>
                    <a:pt x="1472" y="536"/>
                  </a:lnTo>
                </a:path>
              </a:pathLst>
            </a:custGeom>
            <a:noFill/>
            <a:ln w="19080">
              <a:solidFill>
                <a:srgbClr val="27fc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3174840" y="4995720"/>
              <a:ext cx="12960" cy="1296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3213000" y="5046840"/>
              <a:ext cx="1296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238560" y="5084640"/>
              <a:ext cx="12600" cy="1296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3263760" y="5122800"/>
              <a:ext cx="1296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3289320" y="5173560"/>
              <a:ext cx="12600" cy="1296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3314880" y="5211720"/>
              <a:ext cx="1260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3340080" y="5249880"/>
              <a:ext cx="1260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3365640" y="5300640"/>
              <a:ext cx="1260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3390840" y="5338800"/>
              <a:ext cx="1260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416400" y="5389560"/>
              <a:ext cx="1260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441600" y="5427720"/>
              <a:ext cx="1296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3467160" y="5465880"/>
              <a:ext cx="1260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3492360" y="5516640"/>
              <a:ext cx="1296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3517920" y="5554800"/>
              <a:ext cx="1260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3543480" y="5592600"/>
              <a:ext cx="12600" cy="1296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3568680" y="5643720"/>
              <a:ext cx="1260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3594240" y="5681520"/>
              <a:ext cx="12600" cy="1296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632040" y="5732640"/>
              <a:ext cx="180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3657600" y="5770440"/>
              <a:ext cx="1440" cy="1296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5232240" y="5605560"/>
              <a:ext cx="1296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5283360" y="5605560"/>
              <a:ext cx="126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5334120" y="5618160"/>
              <a:ext cx="126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5372280" y="5618160"/>
              <a:ext cx="126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410080" y="5630760"/>
              <a:ext cx="1296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460840" y="5643720"/>
              <a:ext cx="1296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2832120" y="4221000"/>
              <a:ext cx="1181160" cy="1320840"/>
            </a:xfrm>
            <a:custGeom>
              <a:avLst/>
              <a:gdLst/>
              <a:ahLst/>
              <a:rect l="l" t="t" r="r" b="b"/>
              <a:pathLst>
                <a:path w="744" h="832">
                  <a:moveTo>
                    <a:pt x="0" y="152"/>
                  </a:moveTo>
                  <a:lnTo>
                    <a:pt x="0" y="144"/>
                  </a:lnTo>
                  <a:lnTo>
                    <a:pt x="0" y="136"/>
                  </a:lnTo>
                  <a:lnTo>
                    <a:pt x="0" y="128"/>
                  </a:lnTo>
                  <a:lnTo>
                    <a:pt x="8" y="112"/>
                  </a:lnTo>
                  <a:lnTo>
                    <a:pt x="8" y="104"/>
                  </a:lnTo>
                  <a:lnTo>
                    <a:pt x="8" y="96"/>
                  </a:lnTo>
                  <a:lnTo>
                    <a:pt x="8" y="80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16" y="56"/>
                  </a:lnTo>
                  <a:lnTo>
                    <a:pt x="16" y="40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32" y="16"/>
                  </a:lnTo>
                  <a:lnTo>
                    <a:pt x="32" y="24"/>
                  </a:lnTo>
                  <a:lnTo>
                    <a:pt x="40" y="32"/>
                  </a:lnTo>
                  <a:lnTo>
                    <a:pt x="48" y="40"/>
                  </a:lnTo>
                  <a:lnTo>
                    <a:pt x="48" y="48"/>
                  </a:lnTo>
                  <a:lnTo>
                    <a:pt x="56" y="56"/>
                  </a:lnTo>
                  <a:lnTo>
                    <a:pt x="56" y="64"/>
                  </a:lnTo>
                  <a:lnTo>
                    <a:pt x="64" y="72"/>
                  </a:lnTo>
                  <a:lnTo>
                    <a:pt x="72" y="80"/>
                  </a:lnTo>
                  <a:lnTo>
                    <a:pt x="72" y="88"/>
                  </a:lnTo>
                  <a:lnTo>
                    <a:pt x="72" y="96"/>
                  </a:lnTo>
                  <a:lnTo>
                    <a:pt x="80" y="104"/>
                  </a:lnTo>
                  <a:lnTo>
                    <a:pt x="80" y="112"/>
                  </a:lnTo>
                  <a:lnTo>
                    <a:pt x="80" y="120"/>
                  </a:lnTo>
                  <a:lnTo>
                    <a:pt x="88" y="128"/>
                  </a:lnTo>
                  <a:lnTo>
                    <a:pt x="88" y="136"/>
                  </a:lnTo>
                  <a:lnTo>
                    <a:pt x="96" y="144"/>
                  </a:lnTo>
                  <a:lnTo>
                    <a:pt x="96" y="152"/>
                  </a:lnTo>
                  <a:lnTo>
                    <a:pt x="104" y="168"/>
                  </a:lnTo>
                  <a:lnTo>
                    <a:pt x="112" y="176"/>
                  </a:lnTo>
                  <a:lnTo>
                    <a:pt x="112" y="184"/>
                  </a:lnTo>
                  <a:lnTo>
                    <a:pt x="120" y="192"/>
                  </a:lnTo>
                  <a:lnTo>
                    <a:pt x="128" y="208"/>
                  </a:lnTo>
                  <a:lnTo>
                    <a:pt x="128" y="216"/>
                  </a:lnTo>
                  <a:lnTo>
                    <a:pt x="136" y="232"/>
                  </a:lnTo>
                  <a:lnTo>
                    <a:pt x="144" y="240"/>
                  </a:lnTo>
                  <a:lnTo>
                    <a:pt x="152" y="256"/>
                  </a:lnTo>
                  <a:lnTo>
                    <a:pt x="160" y="264"/>
                  </a:lnTo>
                  <a:lnTo>
                    <a:pt x="168" y="272"/>
                  </a:lnTo>
                  <a:lnTo>
                    <a:pt x="176" y="288"/>
                  </a:lnTo>
                  <a:lnTo>
                    <a:pt x="184" y="296"/>
                  </a:lnTo>
                  <a:lnTo>
                    <a:pt x="192" y="312"/>
                  </a:lnTo>
                  <a:lnTo>
                    <a:pt x="200" y="320"/>
                  </a:lnTo>
                  <a:lnTo>
                    <a:pt x="208" y="336"/>
                  </a:lnTo>
                  <a:lnTo>
                    <a:pt x="224" y="344"/>
                  </a:lnTo>
                  <a:lnTo>
                    <a:pt x="232" y="360"/>
                  </a:lnTo>
                  <a:lnTo>
                    <a:pt x="248" y="376"/>
                  </a:lnTo>
                  <a:lnTo>
                    <a:pt x="256" y="392"/>
                  </a:lnTo>
                  <a:lnTo>
                    <a:pt x="272" y="400"/>
                  </a:lnTo>
                  <a:lnTo>
                    <a:pt x="288" y="416"/>
                  </a:lnTo>
                  <a:lnTo>
                    <a:pt x="296" y="432"/>
                  </a:lnTo>
                  <a:lnTo>
                    <a:pt x="312" y="448"/>
                  </a:lnTo>
                  <a:lnTo>
                    <a:pt x="328" y="464"/>
                  </a:lnTo>
                  <a:lnTo>
                    <a:pt x="336" y="480"/>
                  </a:lnTo>
                  <a:lnTo>
                    <a:pt x="352" y="496"/>
                  </a:lnTo>
                  <a:lnTo>
                    <a:pt x="360" y="512"/>
                  </a:lnTo>
                  <a:lnTo>
                    <a:pt x="376" y="520"/>
                  </a:lnTo>
                  <a:lnTo>
                    <a:pt x="392" y="536"/>
                  </a:lnTo>
                  <a:lnTo>
                    <a:pt x="400" y="552"/>
                  </a:lnTo>
                  <a:lnTo>
                    <a:pt x="416" y="560"/>
                  </a:lnTo>
                  <a:lnTo>
                    <a:pt x="424" y="576"/>
                  </a:lnTo>
                  <a:lnTo>
                    <a:pt x="440" y="584"/>
                  </a:lnTo>
                  <a:lnTo>
                    <a:pt x="448" y="592"/>
                  </a:lnTo>
                  <a:lnTo>
                    <a:pt x="456" y="600"/>
                  </a:lnTo>
                  <a:lnTo>
                    <a:pt x="472" y="616"/>
                  </a:lnTo>
                  <a:lnTo>
                    <a:pt x="488" y="624"/>
                  </a:lnTo>
                  <a:lnTo>
                    <a:pt x="504" y="640"/>
                  </a:lnTo>
                  <a:lnTo>
                    <a:pt x="528" y="656"/>
                  </a:lnTo>
                  <a:lnTo>
                    <a:pt x="544" y="672"/>
                  </a:lnTo>
                  <a:lnTo>
                    <a:pt x="560" y="688"/>
                  </a:lnTo>
                  <a:lnTo>
                    <a:pt x="584" y="704"/>
                  </a:lnTo>
                  <a:lnTo>
                    <a:pt x="600" y="720"/>
                  </a:lnTo>
                  <a:lnTo>
                    <a:pt x="624" y="736"/>
                  </a:lnTo>
                  <a:lnTo>
                    <a:pt x="640" y="752"/>
                  </a:lnTo>
                  <a:lnTo>
                    <a:pt x="664" y="768"/>
                  </a:lnTo>
                  <a:lnTo>
                    <a:pt x="680" y="776"/>
                  </a:lnTo>
                  <a:lnTo>
                    <a:pt x="696" y="792"/>
                  </a:lnTo>
                  <a:lnTo>
                    <a:pt x="704" y="800"/>
                  </a:lnTo>
                  <a:lnTo>
                    <a:pt x="720" y="816"/>
                  </a:lnTo>
                  <a:lnTo>
                    <a:pt x="728" y="824"/>
                  </a:lnTo>
                  <a:lnTo>
                    <a:pt x="736" y="824"/>
                  </a:lnTo>
                  <a:lnTo>
                    <a:pt x="744" y="832"/>
                  </a:lnTo>
                </a:path>
              </a:pathLst>
            </a:custGeom>
            <a:noFill/>
            <a:ln w="19080">
              <a:solidFill>
                <a:srgbClr val="7ffd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24" name=""/>
          <p:cNvGrpSpPr/>
          <p:nvPr/>
        </p:nvGrpSpPr>
        <p:grpSpPr>
          <a:xfrm>
            <a:off x="6019920" y="3890880"/>
            <a:ext cx="2828880" cy="2246760"/>
            <a:chOff x="6019920" y="3890880"/>
            <a:chExt cx="2828880" cy="2246760"/>
          </a:xfrm>
        </p:grpSpPr>
        <p:sp>
          <p:nvSpPr>
            <p:cNvPr id="3725" name=""/>
            <p:cNvSpPr/>
            <p:nvPr/>
          </p:nvSpPr>
          <p:spPr>
            <a:xfrm>
              <a:off x="6108840" y="4068720"/>
              <a:ext cx="2361960" cy="1587600"/>
            </a:xfrm>
            <a:custGeom>
              <a:avLst/>
              <a:gdLst/>
              <a:ahLst/>
              <a:rect l="l" t="t" r="r" b="b"/>
              <a:pathLst>
                <a:path w="1488" h="1000">
                  <a:moveTo>
                    <a:pt x="0" y="512"/>
                  </a:moveTo>
                  <a:lnTo>
                    <a:pt x="0" y="496"/>
                  </a:lnTo>
                  <a:lnTo>
                    <a:pt x="0" y="480"/>
                  </a:lnTo>
                  <a:lnTo>
                    <a:pt x="0" y="464"/>
                  </a:lnTo>
                  <a:lnTo>
                    <a:pt x="0" y="440"/>
                  </a:lnTo>
                  <a:lnTo>
                    <a:pt x="0" y="416"/>
                  </a:lnTo>
                  <a:lnTo>
                    <a:pt x="0" y="384"/>
                  </a:lnTo>
                  <a:lnTo>
                    <a:pt x="0" y="360"/>
                  </a:lnTo>
                  <a:lnTo>
                    <a:pt x="0" y="336"/>
                  </a:lnTo>
                  <a:lnTo>
                    <a:pt x="0" y="304"/>
                  </a:lnTo>
                  <a:lnTo>
                    <a:pt x="0" y="272"/>
                  </a:lnTo>
                  <a:lnTo>
                    <a:pt x="0" y="248"/>
                  </a:lnTo>
                  <a:lnTo>
                    <a:pt x="0" y="216"/>
                  </a:lnTo>
                  <a:lnTo>
                    <a:pt x="8" y="192"/>
                  </a:lnTo>
                  <a:lnTo>
                    <a:pt x="8" y="168"/>
                  </a:lnTo>
                  <a:lnTo>
                    <a:pt x="8" y="144"/>
                  </a:lnTo>
                  <a:lnTo>
                    <a:pt x="8" y="128"/>
                  </a:lnTo>
                  <a:lnTo>
                    <a:pt x="8" y="112"/>
                  </a:lnTo>
                  <a:lnTo>
                    <a:pt x="8" y="96"/>
                  </a:lnTo>
                  <a:lnTo>
                    <a:pt x="16" y="88"/>
                  </a:lnTo>
                  <a:lnTo>
                    <a:pt x="16" y="80"/>
                  </a:lnTo>
                  <a:lnTo>
                    <a:pt x="16" y="72"/>
                  </a:lnTo>
                  <a:lnTo>
                    <a:pt x="24" y="64"/>
                  </a:lnTo>
                  <a:lnTo>
                    <a:pt x="24" y="56"/>
                  </a:lnTo>
                  <a:lnTo>
                    <a:pt x="24" y="48"/>
                  </a:lnTo>
                  <a:lnTo>
                    <a:pt x="24" y="40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56" y="32"/>
                  </a:lnTo>
                  <a:lnTo>
                    <a:pt x="64" y="40"/>
                  </a:lnTo>
                  <a:lnTo>
                    <a:pt x="72" y="48"/>
                  </a:lnTo>
                  <a:lnTo>
                    <a:pt x="72" y="64"/>
                  </a:lnTo>
                  <a:lnTo>
                    <a:pt x="80" y="72"/>
                  </a:lnTo>
                  <a:lnTo>
                    <a:pt x="88" y="88"/>
                  </a:lnTo>
                  <a:lnTo>
                    <a:pt x="96" y="104"/>
                  </a:lnTo>
                  <a:lnTo>
                    <a:pt x="96" y="112"/>
                  </a:lnTo>
                  <a:lnTo>
                    <a:pt x="104" y="128"/>
                  </a:lnTo>
                  <a:lnTo>
                    <a:pt x="112" y="144"/>
                  </a:lnTo>
                  <a:lnTo>
                    <a:pt x="120" y="152"/>
                  </a:lnTo>
                  <a:lnTo>
                    <a:pt x="120" y="168"/>
                  </a:lnTo>
                  <a:lnTo>
                    <a:pt x="128" y="176"/>
                  </a:lnTo>
                  <a:lnTo>
                    <a:pt x="128" y="184"/>
                  </a:lnTo>
                  <a:lnTo>
                    <a:pt x="136" y="192"/>
                  </a:lnTo>
                  <a:lnTo>
                    <a:pt x="136" y="200"/>
                  </a:lnTo>
                  <a:lnTo>
                    <a:pt x="136" y="208"/>
                  </a:lnTo>
                  <a:lnTo>
                    <a:pt x="144" y="216"/>
                  </a:lnTo>
                  <a:lnTo>
                    <a:pt x="144" y="224"/>
                  </a:lnTo>
                  <a:lnTo>
                    <a:pt x="152" y="240"/>
                  </a:lnTo>
                  <a:lnTo>
                    <a:pt x="160" y="256"/>
                  </a:lnTo>
                  <a:lnTo>
                    <a:pt x="168" y="264"/>
                  </a:lnTo>
                  <a:lnTo>
                    <a:pt x="176" y="280"/>
                  </a:lnTo>
                  <a:lnTo>
                    <a:pt x="184" y="296"/>
                  </a:lnTo>
                  <a:lnTo>
                    <a:pt x="192" y="320"/>
                  </a:lnTo>
                  <a:lnTo>
                    <a:pt x="200" y="336"/>
                  </a:lnTo>
                  <a:lnTo>
                    <a:pt x="208" y="352"/>
                  </a:lnTo>
                  <a:lnTo>
                    <a:pt x="216" y="368"/>
                  </a:lnTo>
                  <a:lnTo>
                    <a:pt x="224" y="384"/>
                  </a:lnTo>
                  <a:lnTo>
                    <a:pt x="232" y="400"/>
                  </a:lnTo>
                  <a:lnTo>
                    <a:pt x="240" y="416"/>
                  </a:lnTo>
                  <a:lnTo>
                    <a:pt x="248" y="432"/>
                  </a:lnTo>
                  <a:lnTo>
                    <a:pt x="256" y="448"/>
                  </a:lnTo>
                  <a:lnTo>
                    <a:pt x="264" y="456"/>
                  </a:lnTo>
                  <a:lnTo>
                    <a:pt x="272" y="472"/>
                  </a:lnTo>
                  <a:lnTo>
                    <a:pt x="280" y="480"/>
                  </a:lnTo>
                  <a:lnTo>
                    <a:pt x="288" y="488"/>
                  </a:lnTo>
                  <a:lnTo>
                    <a:pt x="296" y="496"/>
                  </a:lnTo>
                  <a:lnTo>
                    <a:pt x="304" y="512"/>
                  </a:lnTo>
                  <a:lnTo>
                    <a:pt x="320" y="528"/>
                  </a:lnTo>
                  <a:lnTo>
                    <a:pt x="328" y="536"/>
                  </a:lnTo>
                  <a:lnTo>
                    <a:pt x="344" y="552"/>
                  </a:lnTo>
                  <a:lnTo>
                    <a:pt x="360" y="568"/>
                  </a:lnTo>
                  <a:lnTo>
                    <a:pt x="376" y="584"/>
                  </a:lnTo>
                  <a:lnTo>
                    <a:pt x="392" y="600"/>
                  </a:lnTo>
                  <a:lnTo>
                    <a:pt x="416" y="616"/>
                  </a:lnTo>
                  <a:lnTo>
                    <a:pt x="432" y="640"/>
                  </a:lnTo>
                  <a:lnTo>
                    <a:pt x="456" y="656"/>
                  </a:lnTo>
                  <a:lnTo>
                    <a:pt x="472" y="672"/>
                  </a:lnTo>
                  <a:lnTo>
                    <a:pt x="496" y="688"/>
                  </a:lnTo>
                  <a:lnTo>
                    <a:pt x="512" y="704"/>
                  </a:lnTo>
                  <a:lnTo>
                    <a:pt x="536" y="720"/>
                  </a:lnTo>
                  <a:lnTo>
                    <a:pt x="560" y="736"/>
                  </a:lnTo>
                  <a:lnTo>
                    <a:pt x="584" y="752"/>
                  </a:lnTo>
                  <a:lnTo>
                    <a:pt x="600" y="760"/>
                  </a:lnTo>
                  <a:lnTo>
                    <a:pt x="624" y="776"/>
                  </a:lnTo>
                  <a:lnTo>
                    <a:pt x="648" y="784"/>
                  </a:lnTo>
                  <a:lnTo>
                    <a:pt x="672" y="800"/>
                  </a:lnTo>
                  <a:lnTo>
                    <a:pt x="688" y="808"/>
                  </a:lnTo>
                  <a:lnTo>
                    <a:pt x="712" y="816"/>
                  </a:lnTo>
                  <a:lnTo>
                    <a:pt x="728" y="824"/>
                  </a:lnTo>
                  <a:lnTo>
                    <a:pt x="752" y="832"/>
                  </a:lnTo>
                  <a:lnTo>
                    <a:pt x="768" y="840"/>
                  </a:lnTo>
                  <a:lnTo>
                    <a:pt x="784" y="848"/>
                  </a:lnTo>
                  <a:lnTo>
                    <a:pt x="808" y="856"/>
                  </a:lnTo>
                  <a:lnTo>
                    <a:pt x="824" y="864"/>
                  </a:lnTo>
                  <a:lnTo>
                    <a:pt x="840" y="872"/>
                  </a:lnTo>
                  <a:lnTo>
                    <a:pt x="864" y="872"/>
                  </a:lnTo>
                  <a:lnTo>
                    <a:pt x="880" y="880"/>
                  </a:lnTo>
                  <a:lnTo>
                    <a:pt x="904" y="888"/>
                  </a:lnTo>
                  <a:lnTo>
                    <a:pt x="920" y="888"/>
                  </a:lnTo>
                  <a:lnTo>
                    <a:pt x="944" y="896"/>
                  </a:lnTo>
                  <a:lnTo>
                    <a:pt x="960" y="904"/>
                  </a:lnTo>
                  <a:lnTo>
                    <a:pt x="984" y="912"/>
                  </a:lnTo>
                  <a:lnTo>
                    <a:pt x="1008" y="912"/>
                  </a:lnTo>
                  <a:lnTo>
                    <a:pt x="1032" y="920"/>
                  </a:lnTo>
                  <a:lnTo>
                    <a:pt x="1056" y="928"/>
                  </a:lnTo>
                  <a:lnTo>
                    <a:pt x="1080" y="928"/>
                  </a:lnTo>
                  <a:lnTo>
                    <a:pt x="1112" y="936"/>
                  </a:lnTo>
                  <a:lnTo>
                    <a:pt x="1136" y="944"/>
                  </a:lnTo>
                  <a:lnTo>
                    <a:pt x="1168" y="944"/>
                  </a:lnTo>
                  <a:lnTo>
                    <a:pt x="1200" y="952"/>
                  </a:lnTo>
                  <a:lnTo>
                    <a:pt x="1224" y="960"/>
                  </a:lnTo>
                  <a:lnTo>
                    <a:pt x="1256" y="960"/>
                  </a:lnTo>
                  <a:lnTo>
                    <a:pt x="1288" y="968"/>
                  </a:lnTo>
                  <a:lnTo>
                    <a:pt x="1312" y="968"/>
                  </a:lnTo>
                  <a:lnTo>
                    <a:pt x="1336" y="968"/>
                  </a:lnTo>
                  <a:lnTo>
                    <a:pt x="1368" y="976"/>
                  </a:lnTo>
                  <a:lnTo>
                    <a:pt x="1392" y="976"/>
                  </a:lnTo>
                  <a:lnTo>
                    <a:pt x="1408" y="984"/>
                  </a:lnTo>
                  <a:lnTo>
                    <a:pt x="1432" y="984"/>
                  </a:lnTo>
                  <a:lnTo>
                    <a:pt x="1448" y="984"/>
                  </a:lnTo>
                  <a:lnTo>
                    <a:pt x="1456" y="984"/>
                  </a:lnTo>
                  <a:lnTo>
                    <a:pt x="1472" y="992"/>
                  </a:lnTo>
                  <a:lnTo>
                    <a:pt x="1480" y="992"/>
                  </a:lnTo>
                  <a:lnTo>
                    <a:pt x="1488" y="1000"/>
                  </a:lnTo>
                  <a:lnTo>
                    <a:pt x="1480" y="1000"/>
                  </a:lnTo>
                  <a:lnTo>
                    <a:pt x="1480" y="992"/>
                  </a:lnTo>
                  <a:lnTo>
                    <a:pt x="1472" y="992"/>
                  </a:lnTo>
                </a:path>
              </a:pathLst>
            </a:custGeom>
            <a:noFill/>
            <a:ln w="19080">
              <a:solidFill>
                <a:srgbClr val="fcf3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6095880" y="3967200"/>
              <a:ext cx="419400" cy="990720"/>
            </a:xfrm>
            <a:custGeom>
              <a:avLst/>
              <a:gdLst/>
              <a:ahLst/>
              <a:rect l="l" t="t" r="r" b="b"/>
              <a:pathLst>
                <a:path w="264" h="624">
                  <a:moveTo>
                    <a:pt x="0" y="440"/>
                  </a:moveTo>
                  <a:lnTo>
                    <a:pt x="0" y="424"/>
                  </a:lnTo>
                  <a:lnTo>
                    <a:pt x="0" y="408"/>
                  </a:lnTo>
                  <a:lnTo>
                    <a:pt x="0" y="392"/>
                  </a:lnTo>
                  <a:lnTo>
                    <a:pt x="0" y="368"/>
                  </a:lnTo>
                  <a:lnTo>
                    <a:pt x="8" y="352"/>
                  </a:lnTo>
                  <a:lnTo>
                    <a:pt x="8" y="328"/>
                  </a:lnTo>
                  <a:lnTo>
                    <a:pt x="8" y="304"/>
                  </a:lnTo>
                  <a:lnTo>
                    <a:pt x="8" y="288"/>
                  </a:lnTo>
                  <a:lnTo>
                    <a:pt x="8" y="264"/>
                  </a:lnTo>
                  <a:lnTo>
                    <a:pt x="8" y="240"/>
                  </a:lnTo>
                  <a:lnTo>
                    <a:pt x="8" y="224"/>
                  </a:lnTo>
                  <a:lnTo>
                    <a:pt x="8" y="200"/>
                  </a:lnTo>
                  <a:lnTo>
                    <a:pt x="8" y="184"/>
                  </a:lnTo>
                  <a:lnTo>
                    <a:pt x="8" y="160"/>
                  </a:lnTo>
                  <a:lnTo>
                    <a:pt x="8" y="144"/>
                  </a:lnTo>
                  <a:lnTo>
                    <a:pt x="8" y="128"/>
                  </a:lnTo>
                  <a:lnTo>
                    <a:pt x="8" y="120"/>
                  </a:lnTo>
                  <a:lnTo>
                    <a:pt x="8" y="104"/>
                  </a:lnTo>
                  <a:lnTo>
                    <a:pt x="8" y="96"/>
                  </a:lnTo>
                  <a:lnTo>
                    <a:pt x="8" y="88"/>
                  </a:lnTo>
                  <a:lnTo>
                    <a:pt x="8" y="80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8" y="56"/>
                  </a:lnTo>
                  <a:lnTo>
                    <a:pt x="16" y="48"/>
                  </a:lnTo>
                  <a:lnTo>
                    <a:pt x="16" y="40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32" y="16"/>
                  </a:lnTo>
                  <a:lnTo>
                    <a:pt x="32" y="24"/>
                  </a:lnTo>
                  <a:lnTo>
                    <a:pt x="32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56" y="88"/>
                  </a:lnTo>
                  <a:lnTo>
                    <a:pt x="56" y="96"/>
                  </a:lnTo>
                  <a:lnTo>
                    <a:pt x="56" y="112"/>
                  </a:lnTo>
                  <a:lnTo>
                    <a:pt x="64" y="120"/>
                  </a:lnTo>
                  <a:lnTo>
                    <a:pt x="64" y="128"/>
                  </a:lnTo>
                  <a:lnTo>
                    <a:pt x="64" y="136"/>
                  </a:lnTo>
                  <a:lnTo>
                    <a:pt x="72" y="144"/>
                  </a:lnTo>
                  <a:lnTo>
                    <a:pt x="72" y="160"/>
                  </a:lnTo>
                  <a:lnTo>
                    <a:pt x="72" y="168"/>
                  </a:lnTo>
                  <a:lnTo>
                    <a:pt x="80" y="184"/>
                  </a:lnTo>
                  <a:lnTo>
                    <a:pt x="80" y="192"/>
                  </a:lnTo>
                  <a:lnTo>
                    <a:pt x="88" y="208"/>
                  </a:lnTo>
                  <a:lnTo>
                    <a:pt x="88" y="224"/>
                  </a:lnTo>
                  <a:lnTo>
                    <a:pt x="88" y="240"/>
                  </a:lnTo>
                  <a:lnTo>
                    <a:pt x="96" y="256"/>
                  </a:lnTo>
                  <a:lnTo>
                    <a:pt x="104" y="272"/>
                  </a:lnTo>
                  <a:lnTo>
                    <a:pt x="104" y="288"/>
                  </a:lnTo>
                  <a:lnTo>
                    <a:pt x="112" y="304"/>
                  </a:lnTo>
                  <a:lnTo>
                    <a:pt x="112" y="320"/>
                  </a:lnTo>
                  <a:lnTo>
                    <a:pt x="120" y="336"/>
                  </a:lnTo>
                  <a:lnTo>
                    <a:pt x="128" y="352"/>
                  </a:lnTo>
                  <a:lnTo>
                    <a:pt x="128" y="368"/>
                  </a:lnTo>
                  <a:lnTo>
                    <a:pt x="136" y="384"/>
                  </a:lnTo>
                  <a:lnTo>
                    <a:pt x="144" y="400"/>
                  </a:lnTo>
                  <a:lnTo>
                    <a:pt x="152" y="416"/>
                  </a:lnTo>
                  <a:lnTo>
                    <a:pt x="160" y="432"/>
                  </a:lnTo>
                  <a:lnTo>
                    <a:pt x="168" y="448"/>
                  </a:lnTo>
                  <a:lnTo>
                    <a:pt x="176" y="464"/>
                  </a:lnTo>
                  <a:lnTo>
                    <a:pt x="184" y="480"/>
                  </a:lnTo>
                  <a:lnTo>
                    <a:pt x="192" y="496"/>
                  </a:lnTo>
                  <a:lnTo>
                    <a:pt x="200" y="504"/>
                  </a:lnTo>
                  <a:lnTo>
                    <a:pt x="208" y="520"/>
                  </a:lnTo>
                  <a:lnTo>
                    <a:pt x="216" y="536"/>
                  </a:lnTo>
                  <a:lnTo>
                    <a:pt x="216" y="544"/>
                  </a:lnTo>
                  <a:lnTo>
                    <a:pt x="224" y="560"/>
                  </a:lnTo>
                  <a:lnTo>
                    <a:pt x="232" y="568"/>
                  </a:lnTo>
                  <a:lnTo>
                    <a:pt x="240" y="584"/>
                  </a:lnTo>
                  <a:lnTo>
                    <a:pt x="240" y="592"/>
                  </a:lnTo>
                  <a:lnTo>
                    <a:pt x="248" y="600"/>
                  </a:lnTo>
                  <a:lnTo>
                    <a:pt x="256" y="608"/>
                  </a:lnTo>
                  <a:lnTo>
                    <a:pt x="256" y="616"/>
                  </a:lnTo>
                  <a:lnTo>
                    <a:pt x="264" y="624"/>
                  </a:lnTo>
                </a:path>
              </a:pathLst>
            </a:custGeom>
            <a:noFill/>
            <a:ln w="19080">
              <a:solidFill>
                <a:srgbClr val="d83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27" name=""/>
            <p:cNvGrpSpPr/>
            <p:nvPr/>
          </p:nvGrpSpPr>
          <p:grpSpPr>
            <a:xfrm>
              <a:off x="6019920" y="3890880"/>
              <a:ext cx="2828880" cy="2246760"/>
              <a:chOff x="6019920" y="3890880"/>
              <a:chExt cx="2828880" cy="2246760"/>
            </a:xfrm>
          </p:grpSpPr>
          <p:grpSp>
            <p:nvGrpSpPr>
              <p:cNvPr id="3728" name=""/>
              <p:cNvGrpSpPr/>
              <p:nvPr/>
            </p:nvGrpSpPr>
            <p:grpSpPr>
              <a:xfrm>
                <a:off x="6095880" y="3890880"/>
                <a:ext cx="88920" cy="1906560"/>
                <a:chOff x="6095880" y="3890880"/>
                <a:chExt cx="88920" cy="1906560"/>
              </a:xfrm>
            </p:grpSpPr>
            <p:sp>
              <p:nvSpPr>
                <p:cNvPr id="3729" name=""/>
                <p:cNvSpPr/>
                <p:nvPr/>
              </p:nvSpPr>
              <p:spPr>
                <a:xfrm>
                  <a:off x="6095880" y="5504040"/>
                  <a:ext cx="889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0" name=""/>
                <p:cNvSpPr/>
                <p:nvPr/>
              </p:nvSpPr>
              <p:spPr>
                <a:xfrm>
                  <a:off x="6095880" y="5110200"/>
                  <a:ext cx="889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1" name=""/>
                <p:cNvSpPr/>
                <p:nvPr/>
              </p:nvSpPr>
              <p:spPr>
                <a:xfrm>
                  <a:off x="6095880" y="4703760"/>
                  <a:ext cx="8892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2" name=""/>
                <p:cNvSpPr/>
                <p:nvPr/>
              </p:nvSpPr>
              <p:spPr>
                <a:xfrm>
                  <a:off x="6095880" y="4297320"/>
                  <a:ext cx="889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3" name=""/>
                <p:cNvSpPr/>
                <p:nvPr/>
              </p:nvSpPr>
              <p:spPr>
                <a:xfrm>
                  <a:off x="6095880" y="3890880"/>
                  <a:ext cx="8892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"/>
                <p:cNvSpPr/>
                <p:nvPr/>
              </p:nvSpPr>
              <p:spPr>
                <a:xfrm>
                  <a:off x="6095880" y="579600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>
                  <a:off x="6095880" y="5719680"/>
                  <a:ext cx="5076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6" name=""/>
                <p:cNvSpPr/>
                <p:nvPr/>
              </p:nvSpPr>
              <p:spPr>
                <a:xfrm>
                  <a:off x="6095880" y="5668920"/>
                  <a:ext cx="5076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7" name=""/>
                <p:cNvSpPr/>
                <p:nvPr/>
              </p:nvSpPr>
              <p:spPr>
                <a:xfrm>
                  <a:off x="6095880" y="5630760"/>
                  <a:ext cx="5076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8" name=""/>
                <p:cNvSpPr/>
                <p:nvPr/>
              </p:nvSpPr>
              <p:spPr>
                <a:xfrm>
                  <a:off x="6095880" y="560556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9" name=""/>
                <p:cNvSpPr/>
                <p:nvPr/>
              </p:nvSpPr>
              <p:spPr>
                <a:xfrm>
                  <a:off x="6095880" y="556740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"/>
                <p:cNvSpPr/>
                <p:nvPr/>
              </p:nvSpPr>
              <p:spPr>
                <a:xfrm>
                  <a:off x="6095880" y="555480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"/>
                <p:cNvSpPr/>
                <p:nvPr/>
              </p:nvSpPr>
              <p:spPr>
                <a:xfrm>
                  <a:off x="6095880" y="552924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2" name=""/>
                <p:cNvSpPr/>
                <p:nvPr/>
              </p:nvSpPr>
              <p:spPr>
                <a:xfrm>
                  <a:off x="6095880" y="538956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3" name=""/>
                <p:cNvSpPr/>
                <p:nvPr/>
              </p:nvSpPr>
              <p:spPr>
                <a:xfrm>
                  <a:off x="6095880" y="5313240"/>
                  <a:ext cx="5076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4" name=""/>
                <p:cNvSpPr/>
                <p:nvPr/>
              </p:nvSpPr>
              <p:spPr>
                <a:xfrm>
                  <a:off x="6095880" y="5262480"/>
                  <a:ext cx="5076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5" name=""/>
                <p:cNvSpPr/>
                <p:nvPr/>
              </p:nvSpPr>
              <p:spPr>
                <a:xfrm>
                  <a:off x="6095880" y="5224320"/>
                  <a:ext cx="5076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6" name=""/>
                <p:cNvSpPr/>
                <p:nvPr/>
              </p:nvSpPr>
              <p:spPr>
                <a:xfrm>
                  <a:off x="6095880" y="519912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7" name=""/>
                <p:cNvSpPr/>
                <p:nvPr/>
              </p:nvSpPr>
              <p:spPr>
                <a:xfrm>
                  <a:off x="6095880" y="516096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8" name=""/>
                <p:cNvSpPr/>
                <p:nvPr/>
              </p:nvSpPr>
              <p:spPr>
                <a:xfrm>
                  <a:off x="6095880" y="514836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9" name=""/>
                <p:cNvSpPr/>
                <p:nvPr/>
              </p:nvSpPr>
              <p:spPr>
                <a:xfrm>
                  <a:off x="6095880" y="5122800"/>
                  <a:ext cx="5076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0" name=""/>
                <p:cNvSpPr/>
                <p:nvPr/>
              </p:nvSpPr>
              <p:spPr>
                <a:xfrm>
                  <a:off x="6095880" y="4983120"/>
                  <a:ext cx="5076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1" name=""/>
                <p:cNvSpPr/>
                <p:nvPr/>
              </p:nvSpPr>
              <p:spPr>
                <a:xfrm>
                  <a:off x="6095880" y="4906800"/>
                  <a:ext cx="5076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2" name=""/>
                <p:cNvSpPr/>
                <p:nvPr/>
              </p:nvSpPr>
              <p:spPr>
                <a:xfrm>
                  <a:off x="6095880" y="4856040"/>
                  <a:ext cx="5076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3" name=""/>
                <p:cNvSpPr/>
                <p:nvPr/>
              </p:nvSpPr>
              <p:spPr>
                <a:xfrm>
                  <a:off x="6095880" y="481824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4" name=""/>
                <p:cNvSpPr/>
                <p:nvPr/>
              </p:nvSpPr>
              <p:spPr>
                <a:xfrm>
                  <a:off x="6095880" y="479268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5" name=""/>
                <p:cNvSpPr/>
                <p:nvPr/>
              </p:nvSpPr>
              <p:spPr>
                <a:xfrm>
                  <a:off x="6095880" y="4767120"/>
                  <a:ext cx="5076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6" name=""/>
                <p:cNvSpPr/>
                <p:nvPr/>
              </p:nvSpPr>
              <p:spPr>
                <a:xfrm>
                  <a:off x="6095880" y="474192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7" name=""/>
                <p:cNvSpPr/>
                <p:nvPr/>
              </p:nvSpPr>
              <p:spPr>
                <a:xfrm>
                  <a:off x="6095880" y="4716360"/>
                  <a:ext cx="5076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8" name=""/>
                <p:cNvSpPr/>
                <p:nvPr/>
              </p:nvSpPr>
              <p:spPr>
                <a:xfrm>
                  <a:off x="6095880" y="4576680"/>
                  <a:ext cx="5076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9" name=""/>
                <p:cNvSpPr/>
                <p:nvPr/>
              </p:nvSpPr>
              <p:spPr>
                <a:xfrm>
                  <a:off x="6095880" y="450072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0" name=""/>
                <p:cNvSpPr/>
                <p:nvPr/>
              </p:nvSpPr>
              <p:spPr>
                <a:xfrm>
                  <a:off x="6095880" y="4449600"/>
                  <a:ext cx="5076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1" name=""/>
                <p:cNvSpPr/>
                <p:nvPr/>
              </p:nvSpPr>
              <p:spPr>
                <a:xfrm>
                  <a:off x="6095880" y="441180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2" name=""/>
                <p:cNvSpPr/>
                <p:nvPr/>
              </p:nvSpPr>
              <p:spPr>
                <a:xfrm>
                  <a:off x="6095880" y="438624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3" name=""/>
                <p:cNvSpPr/>
                <p:nvPr/>
              </p:nvSpPr>
              <p:spPr>
                <a:xfrm>
                  <a:off x="6095880" y="436104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4" name=""/>
                <p:cNvSpPr/>
                <p:nvPr/>
              </p:nvSpPr>
              <p:spPr>
                <a:xfrm>
                  <a:off x="6095880" y="433548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5" name=""/>
                <p:cNvSpPr/>
                <p:nvPr/>
              </p:nvSpPr>
              <p:spPr>
                <a:xfrm>
                  <a:off x="6095880" y="4309920"/>
                  <a:ext cx="5076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6" name=""/>
                <p:cNvSpPr/>
                <p:nvPr/>
              </p:nvSpPr>
              <p:spPr>
                <a:xfrm>
                  <a:off x="6095880" y="4170240"/>
                  <a:ext cx="5076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7" name=""/>
                <p:cNvSpPr/>
                <p:nvPr/>
              </p:nvSpPr>
              <p:spPr>
                <a:xfrm>
                  <a:off x="6095880" y="409428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8" name=""/>
                <p:cNvSpPr/>
                <p:nvPr/>
              </p:nvSpPr>
              <p:spPr>
                <a:xfrm>
                  <a:off x="6095880" y="404352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9" name=""/>
                <p:cNvSpPr/>
                <p:nvPr/>
              </p:nvSpPr>
              <p:spPr>
                <a:xfrm>
                  <a:off x="6095880" y="400536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0" name=""/>
                <p:cNvSpPr/>
                <p:nvPr/>
              </p:nvSpPr>
              <p:spPr>
                <a:xfrm>
                  <a:off x="6095880" y="3979800"/>
                  <a:ext cx="50760" cy="180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1" name=""/>
                <p:cNvSpPr/>
                <p:nvPr/>
              </p:nvSpPr>
              <p:spPr>
                <a:xfrm>
                  <a:off x="6095880" y="395460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2" name=""/>
                <p:cNvSpPr/>
                <p:nvPr/>
              </p:nvSpPr>
              <p:spPr>
                <a:xfrm>
                  <a:off x="6095880" y="392904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3" name=""/>
                <p:cNvSpPr/>
                <p:nvPr/>
              </p:nvSpPr>
              <p:spPr>
                <a:xfrm>
                  <a:off x="6095880" y="3903840"/>
                  <a:ext cx="5076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4" name=""/>
              <p:cNvGrpSpPr/>
              <p:nvPr/>
            </p:nvGrpSpPr>
            <p:grpSpPr>
              <a:xfrm>
                <a:off x="6095880" y="5706720"/>
                <a:ext cx="2656080" cy="88920"/>
                <a:chOff x="6095880" y="5706720"/>
                <a:chExt cx="2656080" cy="88920"/>
              </a:xfrm>
            </p:grpSpPr>
            <p:sp>
              <p:nvSpPr>
                <p:cNvPr id="3775" name=""/>
                <p:cNvSpPr/>
                <p:nvPr/>
              </p:nvSpPr>
              <p:spPr>
                <a:xfrm flipV="1">
                  <a:off x="6095880" y="5706720"/>
                  <a:ext cx="1800" cy="889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6" name=""/>
                <p:cNvSpPr/>
                <p:nvPr/>
              </p:nvSpPr>
              <p:spPr>
                <a:xfrm flipV="1">
                  <a:off x="6540480" y="5706720"/>
                  <a:ext cx="1440" cy="889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7" name=""/>
                <p:cNvSpPr/>
                <p:nvPr/>
              </p:nvSpPr>
              <p:spPr>
                <a:xfrm flipV="1">
                  <a:off x="6985080" y="5706720"/>
                  <a:ext cx="1440" cy="889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8" name=""/>
                <p:cNvSpPr/>
                <p:nvPr/>
              </p:nvSpPr>
              <p:spPr>
                <a:xfrm flipV="1">
                  <a:off x="7429680" y="5706720"/>
                  <a:ext cx="1440" cy="889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9" name=""/>
                <p:cNvSpPr/>
                <p:nvPr/>
              </p:nvSpPr>
              <p:spPr>
                <a:xfrm flipV="1">
                  <a:off x="7873920" y="5706720"/>
                  <a:ext cx="1800" cy="889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0" name=""/>
                <p:cNvSpPr/>
                <p:nvPr/>
              </p:nvSpPr>
              <p:spPr>
                <a:xfrm flipV="1">
                  <a:off x="8318520" y="5706720"/>
                  <a:ext cx="1440" cy="889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1" name=""/>
                <p:cNvSpPr/>
                <p:nvPr/>
              </p:nvSpPr>
              <p:spPr>
                <a:xfrm flipV="1">
                  <a:off x="8750160" y="5706720"/>
                  <a:ext cx="1800" cy="889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2" name=""/>
                <p:cNvSpPr/>
                <p:nvPr/>
              </p:nvSpPr>
              <p:spPr>
                <a:xfrm flipV="1">
                  <a:off x="6184800" y="5744880"/>
                  <a:ext cx="180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3" name=""/>
                <p:cNvSpPr/>
                <p:nvPr/>
              </p:nvSpPr>
              <p:spPr>
                <a:xfrm flipV="1">
                  <a:off x="6273720" y="5744880"/>
                  <a:ext cx="180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4" name=""/>
                <p:cNvSpPr/>
                <p:nvPr/>
              </p:nvSpPr>
              <p:spPr>
                <a:xfrm flipV="1">
                  <a:off x="6362640" y="5744880"/>
                  <a:ext cx="180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5" name=""/>
                <p:cNvSpPr/>
                <p:nvPr/>
              </p:nvSpPr>
              <p:spPr>
                <a:xfrm flipV="1">
                  <a:off x="6451560" y="5744880"/>
                  <a:ext cx="180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6" name=""/>
                <p:cNvSpPr/>
                <p:nvPr/>
              </p:nvSpPr>
              <p:spPr>
                <a:xfrm flipV="1">
                  <a:off x="662940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7" name=""/>
                <p:cNvSpPr/>
                <p:nvPr/>
              </p:nvSpPr>
              <p:spPr>
                <a:xfrm flipV="1">
                  <a:off x="671832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8" name=""/>
                <p:cNvSpPr/>
                <p:nvPr/>
              </p:nvSpPr>
              <p:spPr>
                <a:xfrm flipV="1">
                  <a:off x="680724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9" name=""/>
                <p:cNvSpPr/>
                <p:nvPr/>
              </p:nvSpPr>
              <p:spPr>
                <a:xfrm flipV="1">
                  <a:off x="689616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0" name=""/>
                <p:cNvSpPr/>
                <p:nvPr/>
              </p:nvSpPr>
              <p:spPr>
                <a:xfrm flipV="1">
                  <a:off x="707400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1" name=""/>
                <p:cNvSpPr/>
                <p:nvPr/>
              </p:nvSpPr>
              <p:spPr>
                <a:xfrm flipV="1">
                  <a:off x="716292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2" name=""/>
                <p:cNvSpPr/>
                <p:nvPr/>
              </p:nvSpPr>
              <p:spPr>
                <a:xfrm flipV="1">
                  <a:off x="725184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3" name=""/>
                <p:cNvSpPr/>
                <p:nvPr/>
              </p:nvSpPr>
              <p:spPr>
                <a:xfrm flipV="1">
                  <a:off x="734076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4" name=""/>
                <p:cNvSpPr/>
                <p:nvPr/>
              </p:nvSpPr>
              <p:spPr>
                <a:xfrm flipV="1">
                  <a:off x="7518240" y="5744880"/>
                  <a:ext cx="180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5" name=""/>
                <p:cNvSpPr/>
                <p:nvPr/>
              </p:nvSpPr>
              <p:spPr>
                <a:xfrm flipV="1">
                  <a:off x="7607160" y="5744880"/>
                  <a:ext cx="180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6" name=""/>
                <p:cNvSpPr/>
                <p:nvPr/>
              </p:nvSpPr>
              <p:spPr>
                <a:xfrm flipV="1">
                  <a:off x="7696080" y="5744880"/>
                  <a:ext cx="180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7" name=""/>
                <p:cNvSpPr/>
                <p:nvPr/>
              </p:nvSpPr>
              <p:spPr>
                <a:xfrm flipV="1">
                  <a:off x="7785000" y="5744880"/>
                  <a:ext cx="180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8" name=""/>
                <p:cNvSpPr/>
                <p:nvPr/>
              </p:nvSpPr>
              <p:spPr>
                <a:xfrm flipV="1">
                  <a:off x="7962840" y="5744880"/>
                  <a:ext cx="180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9" name=""/>
                <p:cNvSpPr/>
                <p:nvPr/>
              </p:nvSpPr>
              <p:spPr>
                <a:xfrm flipV="1">
                  <a:off x="8051760" y="5744880"/>
                  <a:ext cx="180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0" name=""/>
                <p:cNvSpPr/>
                <p:nvPr/>
              </p:nvSpPr>
              <p:spPr>
                <a:xfrm flipV="1">
                  <a:off x="814068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1" name=""/>
                <p:cNvSpPr/>
                <p:nvPr/>
              </p:nvSpPr>
              <p:spPr>
                <a:xfrm flipV="1">
                  <a:off x="822960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2" name=""/>
                <p:cNvSpPr/>
                <p:nvPr/>
              </p:nvSpPr>
              <p:spPr>
                <a:xfrm flipV="1">
                  <a:off x="840744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3" name=""/>
                <p:cNvSpPr/>
                <p:nvPr/>
              </p:nvSpPr>
              <p:spPr>
                <a:xfrm flipV="1">
                  <a:off x="848376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4" name=""/>
                <p:cNvSpPr/>
                <p:nvPr/>
              </p:nvSpPr>
              <p:spPr>
                <a:xfrm flipV="1">
                  <a:off x="8572680" y="5744880"/>
                  <a:ext cx="144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5" name=""/>
                <p:cNvSpPr/>
                <p:nvPr/>
              </p:nvSpPr>
              <p:spPr>
                <a:xfrm flipV="1">
                  <a:off x="8661240" y="5744880"/>
                  <a:ext cx="1800" cy="5076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6" name=""/>
              <p:cNvGrpSpPr/>
              <p:nvPr/>
            </p:nvGrpSpPr>
            <p:grpSpPr>
              <a:xfrm>
                <a:off x="6095880" y="3890880"/>
                <a:ext cx="2654280" cy="1906560"/>
                <a:chOff x="6095880" y="3890880"/>
                <a:chExt cx="2654280" cy="1906560"/>
              </a:xfrm>
            </p:grpSpPr>
            <p:sp>
              <p:nvSpPr>
                <p:cNvPr id="3807" name=""/>
                <p:cNvSpPr/>
                <p:nvPr/>
              </p:nvSpPr>
              <p:spPr>
                <a:xfrm flipV="1">
                  <a:off x="6095880" y="3890880"/>
                  <a:ext cx="1800" cy="190512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8" name=""/>
                <p:cNvSpPr/>
                <p:nvPr/>
              </p:nvSpPr>
              <p:spPr>
                <a:xfrm>
                  <a:off x="6095880" y="5796000"/>
                  <a:ext cx="2654280" cy="1440"/>
                </a:xfrm>
                <a:prstGeom prst="line">
                  <a:avLst/>
                </a:prstGeom>
                <a:ln w="1908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9" name=""/>
                <p:cNvSpPr/>
                <p:nvPr/>
              </p:nvSpPr>
              <p:spPr>
                <a:xfrm>
                  <a:off x="6095880" y="433548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0" name=""/>
                <p:cNvSpPr/>
                <p:nvPr/>
              </p:nvSpPr>
              <p:spPr>
                <a:xfrm>
                  <a:off x="6108840" y="4094280"/>
                  <a:ext cx="3780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1" name=""/>
                <p:cNvSpPr/>
                <p:nvPr/>
              </p:nvSpPr>
              <p:spPr>
                <a:xfrm>
                  <a:off x="6108840" y="3979800"/>
                  <a:ext cx="3780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2" name=""/>
                <p:cNvSpPr/>
                <p:nvPr/>
              </p:nvSpPr>
              <p:spPr>
                <a:xfrm>
                  <a:off x="6121440" y="396720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3" name=""/>
                <p:cNvSpPr/>
                <p:nvPr/>
              </p:nvSpPr>
              <p:spPr>
                <a:xfrm>
                  <a:off x="6134040" y="396720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4" name=""/>
                <p:cNvSpPr/>
                <p:nvPr/>
              </p:nvSpPr>
              <p:spPr>
                <a:xfrm>
                  <a:off x="6134040" y="400536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5" name=""/>
                <p:cNvSpPr/>
                <p:nvPr/>
              </p:nvSpPr>
              <p:spPr>
                <a:xfrm>
                  <a:off x="6146640" y="403056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6" name=""/>
                <p:cNvSpPr/>
                <p:nvPr/>
              </p:nvSpPr>
              <p:spPr>
                <a:xfrm>
                  <a:off x="6159600" y="406872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7" name=""/>
                <p:cNvSpPr/>
                <p:nvPr/>
              </p:nvSpPr>
              <p:spPr>
                <a:xfrm>
                  <a:off x="6172200" y="410688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8" name=""/>
                <p:cNvSpPr/>
                <p:nvPr/>
              </p:nvSpPr>
              <p:spPr>
                <a:xfrm>
                  <a:off x="6172200" y="4132440"/>
                  <a:ext cx="38160" cy="3780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9" name=""/>
                <p:cNvSpPr/>
                <p:nvPr/>
              </p:nvSpPr>
              <p:spPr>
                <a:xfrm>
                  <a:off x="6184800" y="417024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0" name=""/>
                <p:cNvSpPr/>
                <p:nvPr/>
              </p:nvSpPr>
              <p:spPr>
                <a:xfrm>
                  <a:off x="6197760" y="4208400"/>
                  <a:ext cx="3780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1" name=""/>
                <p:cNvSpPr/>
                <p:nvPr/>
              </p:nvSpPr>
              <p:spPr>
                <a:xfrm>
                  <a:off x="6197760" y="4246560"/>
                  <a:ext cx="3780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2" name=""/>
                <p:cNvSpPr/>
                <p:nvPr/>
              </p:nvSpPr>
              <p:spPr>
                <a:xfrm>
                  <a:off x="6210360" y="4272120"/>
                  <a:ext cx="38160" cy="3780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3" name=""/>
                <p:cNvSpPr/>
                <p:nvPr/>
              </p:nvSpPr>
              <p:spPr>
                <a:xfrm>
                  <a:off x="6222960" y="430992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4" name=""/>
                <p:cNvSpPr/>
                <p:nvPr/>
              </p:nvSpPr>
              <p:spPr>
                <a:xfrm>
                  <a:off x="6222960" y="432288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5" name=""/>
                <p:cNvSpPr/>
                <p:nvPr/>
              </p:nvSpPr>
              <p:spPr>
                <a:xfrm>
                  <a:off x="6235560" y="4361040"/>
                  <a:ext cx="38160" cy="3780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6" name=""/>
                <p:cNvSpPr/>
                <p:nvPr/>
              </p:nvSpPr>
              <p:spPr>
                <a:xfrm>
                  <a:off x="6248520" y="437364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7" name=""/>
                <p:cNvSpPr/>
                <p:nvPr/>
              </p:nvSpPr>
              <p:spPr>
                <a:xfrm>
                  <a:off x="6248520" y="442440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8" name=""/>
                <p:cNvSpPr/>
                <p:nvPr/>
              </p:nvSpPr>
              <p:spPr>
                <a:xfrm>
                  <a:off x="6261120" y="444960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9" name=""/>
                <p:cNvSpPr/>
                <p:nvPr/>
              </p:nvSpPr>
              <p:spPr>
                <a:xfrm>
                  <a:off x="6273720" y="447516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0" name=""/>
                <p:cNvSpPr/>
                <p:nvPr/>
              </p:nvSpPr>
              <p:spPr>
                <a:xfrm>
                  <a:off x="6286680" y="4500720"/>
                  <a:ext cx="37800" cy="3780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1" name=""/>
                <p:cNvSpPr/>
                <p:nvPr/>
              </p:nvSpPr>
              <p:spPr>
                <a:xfrm>
                  <a:off x="6286680" y="4538520"/>
                  <a:ext cx="3780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2" name=""/>
                <p:cNvSpPr/>
                <p:nvPr/>
              </p:nvSpPr>
              <p:spPr>
                <a:xfrm>
                  <a:off x="6299280" y="453852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3" name=""/>
                <p:cNvSpPr/>
                <p:nvPr/>
              </p:nvSpPr>
              <p:spPr>
                <a:xfrm>
                  <a:off x="6311880" y="456408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4" name=""/>
                <p:cNvSpPr/>
                <p:nvPr/>
              </p:nvSpPr>
              <p:spPr>
                <a:xfrm>
                  <a:off x="6311880" y="4589640"/>
                  <a:ext cx="38160" cy="3780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5" name=""/>
                <p:cNvSpPr/>
                <p:nvPr/>
              </p:nvSpPr>
              <p:spPr>
                <a:xfrm>
                  <a:off x="6324480" y="461484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6" name=""/>
                <p:cNvSpPr/>
                <p:nvPr/>
              </p:nvSpPr>
              <p:spPr>
                <a:xfrm>
                  <a:off x="6337440" y="4627440"/>
                  <a:ext cx="3780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7" name=""/>
                <p:cNvSpPr/>
                <p:nvPr/>
              </p:nvSpPr>
              <p:spPr>
                <a:xfrm>
                  <a:off x="6350040" y="466560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8" name=""/>
                <p:cNvSpPr/>
                <p:nvPr/>
              </p:nvSpPr>
              <p:spPr>
                <a:xfrm>
                  <a:off x="6362640" y="470376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9" name=""/>
                <p:cNvSpPr/>
                <p:nvPr/>
              </p:nvSpPr>
              <p:spPr>
                <a:xfrm>
                  <a:off x="6388200" y="475452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0" name=""/>
                <p:cNvSpPr/>
                <p:nvPr/>
              </p:nvSpPr>
              <p:spPr>
                <a:xfrm>
                  <a:off x="6400800" y="478008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1" name=""/>
                <p:cNvSpPr/>
                <p:nvPr/>
              </p:nvSpPr>
              <p:spPr>
                <a:xfrm>
                  <a:off x="6413400" y="480528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2" name=""/>
                <p:cNvSpPr/>
                <p:nvPr/>
              </p:nvSpPr>
              <p:spPr>
                <a:xfrm>
                  <a:off x="6438960" y="483084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3" name=""/>
                <p:cNvSpPr/>
                <p:nvPr/>
              </p:nvSpPr>
              <p:spPr>
                <a:xfrm>
                  <a:off x="6451560" y="4869000"/>
                  <a:ext cx="38160" cy="3780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4" name=""/>
                <p:cNvSpPr/>
                <p:nvPr/>
              </p:nvSpPr>
              <p:spPr>
                <a:xfrm>
                  <a:off x="6477120" y="488160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5" name=""/>
                <p:cNvSpPr/>
                <p:nvPr/>
              </p:nvSpPr>
              <p:spPr>
                <a:xfrm>
                  <a:off x="6489720" y="490680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6" name=""/>
                <p:cNvSpPr/>
                <p:nvPr/>
              </p:nvSpPr>
              <p:spPr>
                <a:xfrm>
                  <a:off x="6502320" y="4932360"/>
                  <a:ext cx="38160" cy="38160"/>
                </a:xfrm>
                <a:prstGeom prst="ellipse">
                  <a:avLst/>
                </a:prstGeom>
                <a:solidFill>
                  <a:srgbClr val="d83903"/>
                </a:solidFill>
                <a:ln w="19080">
                  <a:solidFill>
                    <a:srgbClr val="d839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7" name=""/>
                <p:cNvSpPr/>
                <p:nvPr/>
              </p:nvSpPr>
              <p:spPr>
                <a:xfrm>
                  <a:off x="6095880" y="46656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8" name=""/>
                <p:cNvSpPr/>
                <p:nvPr/>
              </p:nvSpPr>
              <p:spPr>
                <a:xfrm>
                  <a:off x="6108840" y="4348080"/>
                  <a:ext cx="3780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9" name=""/>
                <p:cNvSpPr/>
                <p:nvPr/>
              </p:nvSpPr>
              <p:spPr>
                <a:xfrm>
                  <a:off x="6108840" y="4170240"/>
                  <a:ext cx="3780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0" name=""/>
                <p:cNvSpPr/>
                <p:nvPr/>
              </p:nvSpPr>
              <p:spPr>
                <a:xfrm>
                  <a:off x="6121440" y="409428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1" name=""/>
                <p:cNvSpPr/>
                <p:nvPr/>
              </p:nvSpPr>
              <p:spPr>
                <a:xfrm>
                  <a:off x="6134040" y="40561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2" name=""/>
                <p:cNvSpPr/>
                <p:nvPr/>
              </p:nvSpPr>
              <p:spPr>
                <a:xfrm>
                  <a:off x="6134040" y="404352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3" name=""/>
                <p:cNvSpPr/>
                <p:nvPr/>
              </p:nvSpPr>
              <p:spPr>
                <a:xfrm>
                  <a:off x="6146640" y="404352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4" name=""/>
                <p:cNvSpPr/>
                <p:nvPr/>
              </p:nvSpPr>
              <p:spPr>
                <a:xfrm>
                  <a:off x="6159600" y="40687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5" name=""/>
                <p:cNvSpPr/>
                <p:nvPr/>
              </p:nvSpPr>
              <p:spPr>
                <a:xfrm>
                  <a:off x="6172200" y="40813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6" name=""/>
                <p:cNvSpPr/>
                <p:nvPr/>
              </p:nvSpPr>
              <p:spPr>
                <a:xfrm>
                  <a:off x="6172200" y="409428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7" name=""/>
                <p:cNvSpPr/>
                <p:nvPr/>
              </p:nvSpPr>
              <p:spPr>
                <a:xfrm>
                  <a:off x="6184800" y="410688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8" name=""/>
                <p:cNvSpPr/>
                <p:nvPr/>
              </p:nvSpPr>
              <p:spPr>
                <a:xfrm>
                  <a:off x="6197760" y="4132440"/>
                  <a:ext cx="3780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9" name=""/>
                <p:cNvSpPr/>
                <p:nvPr/>
              </p:nvSpPr>
              <p:spPr>
                <a:xfrm>
                  <a:off x="6197760" y="4157640"/>
                  <a:ext cx="3780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0" name=""/>
                <p:cNvSpPr/>
                <p:nvPr/>
              </p:nvSpPr>
              <p:spPr>
                <a:xfrm>
                  <a:off x="6210360" y="418320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1" name=""/>
                <p:cNvSpPr/>
                <p:nvPr/>
              </p:nvSpPr>
              <p:spPr>
                <a:xfrm>
                  <a:off x="6222960" y="42084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2" name=""/>
                <p:cNvSpPr/>
                <p:nvPr/>
              </p:nvSpPr>
              <p:spPr>
                <a:xfrm>
                  <a:off x="6222960" y="42210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3" name=""/>
                <p:cNvSpPr/>
                <p:nvPr/>
              </p:nvSpPr>
              <p:spPr>
                <a:xfrm>
                  <a:off x="6235560" y="424656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4" name=""/>
                <p:cNvSpPr/>
                <p:nvPr/>
              </p:nvSpPr>
              <p:spPr>
                <a:xfrm>
                  <a:off x="6248520" y="425916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5" name=""/>
                <p:cNvSpPr/>
                <p:nvPr/>
              </p:nvSpPr>
              <p:spPr>
                <a:xfrm>
                  <a:off x="6248520" y="42973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6" name=""/>
                <p:cNvSpPr/>
                <p:nvPr/>
              </p:nvSpPr>
              <p:spPr>
                <a:xfrm>
                  <a:off x="6261120" y="43099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7" name=""/>
                <p:cNvSpPr/>
                <p:nvPr/>
              </p:nvSpPr>
              <p:spPr>
                <a:xfrm>
                  <a:off x="6273720" y="433548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8" name=""/>
                <p:cNvSpPr/>
                <p:nvPr/>
              </p:nvSpPr>
              <p:spPr>
                <a:xfrm>
                  <a:off x="6286680" y="4361040"/>
                  <a:ext cx="3780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9" name=""/>
                <p:cNvSpPr/>
                <p:nvPr/>
              </p:nvSpPr>
              <p:spPr>
                <a:xfrm>
                  <a:off x="6286680" y="4373640"/>
                  <a:ext cx="3780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0" name=""/>
                <p:cNvSpPr/>
                <p:nvPr/>
              </p:nvSpPr>
              <p:spPr>
                <a:xfrm>
                  <a:off x="6299280" y="439884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1" name=""/>
                <p:cNvSpPr/>
                <p:nvPr/>
              </p:nvSpPr>
              <p:spPr>
                <a:xfrm>
                  <a:off x="6311880" y="441180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2" name=""/>
                <p:cNvSpPr/>
                <p:nvPr/>
              </p:nvSpPr>
              <p:spPr>
                <a:xfrm>
                  <a:off x="6311880" y="44370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3" name=""/>
                <p:cNvSpPr/>
                <p:nvPr/>
              </p:nvSpPr>
              <p:spPr>
                <a:xfrm>
                  <a:off x="6324480" y="44496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4" name=""/>
                <p:cNvSpPr/>
                <p:nvPr/>
              </p:nvSpPr>
              <p:spPr>
                <a:xfrm>
                  <a:off x="6337440" y="4462560"/>
                  <a:ext cx="3780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5" name=""/>
                <p:cNvSpPr/>
                <p:nvPr/>
              </p:nvSpPr>
              <p:spPr>
                <a:xfrm>
                  <a:off x="6350040" y="450072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6" name=""/>
                <p:cNvSpPr/>
                <p:nvPr/>
              </p:nvSpPr>
              <p:spPr>
                <a:xfrm>
                  <a:off x="6362640" y="45385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7" name=""/>
                <p:cNvSpPr/>
                <p:nvPr/>
              </p:nvSpPr>
              <p:spPr>
                <a:xfrm>
                  <a:off x="6388200" y="456408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8" name=""/>
                <p:cNvSpPr/>
                <p:nvPr/>
              </p:nvSpPr>
              <p:spPr>
                <a:xfrm>
                  <a:off x="6400800" y="458964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9" name=""/>
                <p:cNvSpPr/>
                <p:nvPr/>
              </p:nvSpPr>
              <p:spPr>
                <a:xfrm>
                  <a:off x="6413400" y="462744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"/>
                <p:cNvSpPr/>
                <p:nvPr/>
              </p:nvSpPr>
              <p:spPr>
                <a:xfrm>
                  <a:off x="6438960" y="464040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1" name=""/>
                <p:cNvSpPr/>
                <p:nvPr/>
              </p:nvSpPr>
              <p:spPr>
                <a:xfrm>
                  <a:off x="6451560" y="46782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>
                  <a:off x="6477120" y="470376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3" name=""/>
                <p:cNvSpPr/>
                <p:nvPr/>
              </p:nvSpPr>
              <p:spPr>
                <a:xfrm>
                  <a:off x="6489720" y="472932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"/>
                <p:cNvSpPr/>
                <p:nvPr/>
              </p:nvSpPr>
              <p:spPr>
                <a:xfrm>
                  <a:off x="6502320" y="47419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"/>
                <p:cNvSpPr/>
                <p:nvPr/>
              </p:nvSpPr>
              <p:spPr>
                <a:xfrm>
                  <a:off x="6527880" y="47671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6" name=""/>
                <p:cNvSpPr/>
                <p:nvPr/>
              </p:nvSpPr>
              <p:spPr>
                <a:xfrm>
                  <a:off x="6540480" y="479268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>
                  <a:off x="6566040" y="4818240"/>
                  <a:ext cx="3780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8" name=""/>
                <p:cNvSpPr/>
                <p:nvPr/>
              </p:nvSpPr>
              <p:spPr>
                <a:xfrm>
                  <a:off x="6578640" y="483084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9" name=""/>
                <p:cNvSpPr/>
                <p:nvPr/>
              </p:nvSpPr>
              <p:spPr>
                <a:xfrm>
                  <a:off x="6591240" y="485604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0" name=""/>
                <p:cNvSpPr/>
                <p:nvPr/>
              </p:nvSpPr>
              <p:spPr>
                <a:xfrm>
                  <a:off x="6616800" y="48816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1" name=""/>
                <p:cNvSpPr/>
                <p:nvPr/>
              </p:nvSpPr>
              <p:spPr>
                <a:xfrm>
                  <a:off x="6629400" y="48942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2" name=""/>
                <p:cNvSpPr/>
                <p:nvPr/>
              </p:nvSpPr>
              <p:spPr>
                <a:xfrm>
                  <a:off x="6642000" y="49068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3" name=""/>
                <p:cNvSpPr/>
                <p:nvPr/>
              </p:nvSpPr>
              <p:spPr>
                <a:xfrm>
                  <a:off x="6667560" y="493236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4" name=""/>
                <p:cNvSpPr/>
                <p:nvPr/>
              </p:nvSpPr>
              <p:spPr>
                <a:xfrm>
                  <a:off x="6680160" y="494496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5" name=""/>
                <p:cNvSpPr/>
                <p:nvPr/>
              </p:nvSpPr>
              <p:spPr>
                <a:xfrm>
                  <a:off x="6705720" y="49705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6" name=""/>
                <p:cNvSpPr/>
                <p:nvPr/>
              </p:nvSpPr>
              <p:spPr>
                <a:xfrm>
                  <a:off x="6718320" y="49705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7" name=""/>
                <p:cNvSpPr/>
                <p:nvPr/>
              </p:nvSpPr>
              <p:spPr>
                <a:xfrm>
                  <a:off x="6730920" y="49957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8" name=""/>
                <p:cNvSpPr/>
                <p:nvPr/>
              </p:nvSpPr>
              <p:spPr>
                <a:xfrm>
                  <a:off x="6756480" y="502128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9" name=""/>
                <p:cNvSpPr/>
                <p:nvPr/>
              </p:nvSpPr>
              <p:spPr>
                <a:xfrm>
                  <a:off x="6769080" y="503388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>
                  <a:off x="6794640" y="5046840"/>
                  <a:ext cx="3780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>
                  <a:off x="6807240" y="505944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2" name=""/>
                <p:cNvSpPr/>
                <p:nvPr/>
              </p:nvSpPr>
              <p:spPr>
                <a:xfrm>
                  <a:off x="6819840" y="508464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3" name=""/>
                <p:cNvSpPr/>
                <p:nvPr/>
              </p:nvSpPr>
              <p:spPr>
                <a:xfrm>
                  <a:off x="6845400" y="509760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4" name=""/>
                <p:cNvSpPr/>
                <p:nvPr/>
              </p:nvSpPr>
              <p:spPr>
                <a:xfrm>
                  <a:off x="6858000" y="509760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5" name=""/>
                <p:cNvSpPr/>
                <p:nvPr/>
              </p:nvSpPr>
              <p:spPr>
                <a:xfrm>
                  <a:off x="6883560" y="5122800"/>
                  <a:ext cx="3780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6" name=""/>
                <p:cNvSpPr/>
                <p:nvPr/>
              </p:nvSpPr>
              <p:spPr>
                <a:xfrm>
                  <a:off x="6896160" y="51354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>
                  <a:off x="6908760" y="51354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8" name=""/>
                <p:cNvSpPr/>
                <p:nvPr/>
              </p:nvSpPr>
              <p:spPr>
                <a:xfrm>
                  <a:off x="6934320" y="516096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9" name=""/>
                <p:cNvSpPr/>
                <p:nvPr/>
              </p:nvSpPr>
              <p:spPr>
                <a:xfrm>
                  <a:off x="6946920" y="517356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>
                  <a:off x="6972480" y="5186520"/>
                  <a:ext cx="3780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1" name=""/>
                <p:cNvSpPr/>
                <p:nvPr/>
              </p:nvSpPr>
              <p:spPr>
                <a:xfrm>
                  <a:off x="6997680" y="519912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>
                  <a:off x="7023240" y="5211720"/>
                  <a:ext cx="3780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>
                  <a:off x="7048440" y="523728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4" name=""/>
                <p:cNvSpPr/>
                <p:nvPr/>
              </p:nvSpPr>
              <p:spPr>
                <a:xfrm>
                  <a:off x="7074000" y="524988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5" name=""/>
                <p:cNvSpPr/>
                <p:nvPr/>
              </p:nvSpPr>
              <p:spPr>
                <a:xfrm>
                  <a:off x="7099200" y="526248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6" name=""/>
                <p:cNvSpPr/>
                <p:nvPr/>
              </p:nvSpPr>
              <p:spPr>
                <a:xfrm>
                  <a:off x="7124760" y="527544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7" name=""/>
                <p:cNvSpPr/>
                <p:nvPr/>
              </p:nvSpPr>
              <p:spPr>
                <a:xfrm>
                  <a:off x="7162920" y="528804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8" name=""/>
                <p:cNvSpPr/>
                <p:nvPr/>
              </p:nvSpPr>
              <p:spPr>
                <a:xfrm>
                  <a:off x="7188120" y="530064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9" name=""/>
                <p:cNvSpPr/>
                <p:nvPr/>
              </p:nvSpPr>
              <p:spPr>
                <a:xfrm>
                  <a:off x="7213680" y="5326200"/>
                  <a:ext cx="3816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>
                  <a:off x="7340760" y="5376960"/>
                  <a:ext cx="3780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"/>
                <p:cNvSpPr/>
                <p:nvPr/>
              </p:nvSpPr>
              <p:spPr>
                <a:xfrm>
                  <a:off x="7480440" y="5415120"/>
                  <a:ext cx="37800" cy="3780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>
                  <a:off x="7607160" y="546588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3" name=""/>
                <p:cNvSpPr/>
                <p:nvPr/>
              </p:nvSpPr>
              <p:spPr>
                <a:xfrm>
                  <a:off x="7823160" y="552924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"/>
                <p:cNvSpPr/>
                <p:nvPr/>
              </p:nvSpPr>
              <p:spPr>
                <a:xfrm>
                  <a:off x="8039160" y="558000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>
                  <a:off x="8267760" y="5630760"/>
                  <a:ext cx="3816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6" name=""/>
                <p:cNvSpPr/>
                <p:nvPr/>
              </p:nvSpPr>
              <p:spPr>
                <a:xfrm>
                  <a:off x="8483760" y="5681520"/>
                  <a:ext cx="37800" cy="38160"/>
                </a:xfrm>
                <a:prstGeom prst="ellipse">
                  <a:avLst/>
                </a:prstGeom>
                <a:solidFill>
                  <a:srgbClr val="fcf305"/>
                </a:solidFill>
                <a:ln w="19080">
                  <a:solidFill>
                    <a:srgbClr val="fcf3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7" name=""/>
                <p:cNvSpPr/>
                <p:nvPr/>
              </p:nvSpPr>
              <p:spPr>
                <a:xfrm>
                  <a:off x="6095880" y="486900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8" name=""/>
                <p:cNvSpPr/>
                <p:nvPr/>
              </p:nvSpPr>
              <p:spPr>
                <a:xfrm>
                  <a:off x="6108840" y="452592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9" name=""/>
                <p:cNvSpPr/>
                <p:nvPr/>
              </p:nvSpPr>
              <p:spPr>
                <a:xfrm>
                  <a:off x="6108840" y="430992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0" name=""/>
                <p:cNvSpPr/>
                <p:nvPr/>
              </p:nvSpPr>
              <p:spPr>
                <a:xfrm>
                  <a:off x="6121440" y="41958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1" name=""/>
                <p:cNvSpPr/>
                <p:nvPr/>
              </p:nvSpPr>
              <p:spPr>
                <a:xfrm>
                  <a:off x="6134040" y="41450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2" name=""/>
                <p:cNvSpPr/>
                <p:nvPr/>
              </p:nvSpPr>
              <p:spPr>
                <a:xfrm>
                  <a:off x="6134040" y="40942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3" name=""/>
                <p:cNvSpPr/>
                <p:nvPr/>
              </p:nvSpPr>
              <p:spPr>
                <a:xfrm>
                  <a:off x="6146640" y="40813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4" name=""/>
                <p:cNvSpPr/>
                <p:nvPr/>
              </p:nvSpPr>
              <p:spPr>
                <a:xfrm>
                  <a:off x="6159600" y="40687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5" name=""/>
                <p:cNvSpPr/>
                <p:nvPr/>
              </p:nvSpPr>
              <p:spPr>
                <a:xfrm>
                  <a:off x="6172200" y="40687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6" name=""/>
                <p:cNvSpPr/>
                <p:nvPr/>
              </p:nvSpPr>
              <p:spPr>
                <a:xfrm>
                  <a:off x="6184800" y="40942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7" name=""/>
                <p:cNvSpPr/>
                <p:nvPr/>
              </p:nvSpPr>
              <p:spPr>
                <a:xfrm>
                  <a:off x="6197760" y="410688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8" name=""/>
                <p:cNvSpPr/>
                <p:nvPr/>
              </p:nvSpPr>
              <p:spPr>
                <a:xfrm>
                  <a:off x="6197760" y="411948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9" name=""/>
                <p:cNvSpPr/>
                <p:nvPr/>
              </p:nvSpPr>
              <p:spPr>
                <a:xfrm>
                  <a:off x="6210360" y="41450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0" name=""/>
                <p:cNvSpPr/>
                <p:nvPr/>
              </p:nvSpPr>
              <p:spPr>
                <a:xfrm>
                  <a:off x="6222960" y="41576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1" name=""/>
                <p:cNvSpPr/>
                <p:nvPr/>
              </p:nvSpPr>
              <p:spPr>
                <a:xfrm>
                  <a:off x="6222960" y="41702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2" name=""/>
                <p:cNvSpPr/>
                <p:nvPr/>
              </p:nvSpPr>
              <p:spPr>
                <a:xfrm>
                  <a:off x="6235560" y="41958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3" name=""/>
                <p:cNvSpPr/>
                <p:nvPr/>
              </p:nvSpPr>
              <p:spPr>
                <a:xfrm>
                  <a:off x="6248520" y="42210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4" name=""/>
                <p:cNvSpPr/>
                <p:nvPr/>
              </p:nvSpPr>
              <p:spPr>
                <a:xfrm>
                  <a:off x="6248520" y="42339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5" name=""/>
                <p:cNvSpPr/>
                <p:nvPr/>
              </p:nvSpPr>
              <p:spPr>
                <a:xfrm>
                  <a:off x="6261120" y="42591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>
                  <a:off x="6273720" y="427212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7" name=""/>
                <p:cNvSpPr/>
                <p:nvPr/>
              </p:nvSpPr>
              <p:spPr>
                <a:xfrm>
                  <a:off x="6286680" y="428472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8" name=""/>
                <p:cNvSpPr/>
                <p:nvPr/>
              </p:nvSpPr>
              <p:spPr>
                <a:xfrm>
                  <a:off x="6286680" y="430992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9" name=""/>
                <p:cNvSpPr/>
                <p:nvPr/>
              </p:nvSpPr>
              <p:spPr>
                <a:xfrm>
                  <a:off x="6299280" y="43354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0" name=""/>
                <p:cNvSpPr/>
                <p:nvPr/>
              </p:nvSpPr>
              <p:spPr>
                <a:xfrm>
                  <a:off x="6311880" y="43480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1" name=""/>
                <p:cNvSpPr/>
                <p:nvPr/>
              </p:nvSpPr>
              <p:spPr>
                <a:xfrm>
                  <a:off x="6311880" y="43862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2" name=""/>
                <p:cNvSpPr/>
                <p:nvPr/>
              </p:nvSpPr>
              <p:spPr>
                <a:xfrm>
                  <a:off x="6324480" y="43988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3" name=""/>
                <p:cNvSpPr/>
                <p:nvPr/>
              </p:nvSpPr>
              <p:spPr>
                <a:xfrm>
                  <a:off x="6337440" y="446256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4" name=""/>
                <p:cNvSpPr/>
                <p:nvPr/>
              </p:nvSpPr>
              <p:spPr>
                <a:xfrm>
                  <a:off x="6350040" y="44496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5" name=""/>
                <p:cNvSpPr/>
                <p:nvPr/>
              </p:nvSpPr>
              <p:spPr>
                <a:xfrm>
                  <a:off x="6362640" y="44877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6" name=""/>
                <p:cNvSpPr/>
                <p:nvPr/>
              </p:nvSpPr>
              <p:spPr>
                <a:xfrm>
                  <a:off x="6388200" y="45514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7" name=""/>
                <p:cNvSpPr/>
                <p:nvPr/>
              </p:nvSpPr>
              <p:spPr>
                <a:xfrm>
                  <a:off x="6400800" y="45766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>
                  <a:off x="6413400" y="458964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9" name=""/>
                <p:cNvSpPr/>
                <p:nvPr/>
              </p:nvSpPr>
              <p:spPr>
                <a:xfrm>
                  <a:off x="6438960" y="464040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0" name=""/>
                <p:cNvSpPr/>
                <p:nvPr/>
              </p:nvSpPr>
              <p:spPr>
                <a:xfrm>
                  <a:off x="6451560" y="46530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1" name=""/>
                <p:cNvSpPr/>
                <p:nvPr/>
              </p:nvSpPr>
              <p:spPr>
                <a:xfrm>
                  <a:off x="6477120" y="47037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2" name=""/>
                <p:cNvSpPr/>
                <p:nvPr/>
              </p:nvSpPr>
              <p:spPr>
                <a:xfrm>
                  <a:off x="6489720" y="47163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3" name=""/>
                <p:cNvSpPr/>
                <p:nvPr/>
              </p:nvSpPr>
              <p:spPr>
                <a:xfrm>
                  <a:off x="6502320" y="47545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4" name=""/>
                <p:cNvSpPr/>
                <p:nvPr/>
              </p:nvSpPr>
              <p:spPr>
                <a:xfrm>
                  <a:off x="6527880" y="47671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5" name=""/>
                <p:cNvSpPr/>
                <p:nvPr/>
              </p:nvSpPr>
              <p:spPr>
                <a:xfrm>
                  <a:off x="6540480" y="48052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>
                  <a:off x="6566040" y="483084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7" name=""/>
                <p:cNvSpPr/>
                <p:nvPr/>
              </p:nvSpPr>
              <p:spPr>
                <a:xfrm>
                  <a:off x="6578640" y="48560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8" name=""/>
                <p:cNvSpPr/>
                <p:nvPr/>
              </p:nvSpPr>
              <p:spPr>
                <a:xfrm>
                  <a:off x="6591240" y="486900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9" name=""/>
                <p:cNvSpPr/>
                <p:nvPr/>
              </p:nvSpPr>
              <p:spPr>
                <a:xfrm>
                  <a:off x="6616800" y="49197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0" name=""/>
                <p:cNvSpPr/>
                <p:nvPr/>
              </p:nvSpPr>
              <p:spPr>
                <a:xfrm>
                  <a:off x="6629400" y="49323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>
                  <a:off x="6642000" y="49323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"/>
                <p:cNvSpPr/>
                <p:nvPr/>
              </p:nvSpPr>
              <p:spPr>
                <a:xfrm>
                  <a:off x="6667560" y="495792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"/>
                <p:cNvSpPr/>
                <p:nvPr/>
              </p:nvSpPr>
              <p:spPr>
                <a:xfrm>
                  <a:off x="6680160" y="49705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4" name=""/>
                <p:cNvSpPr/>
                <p:nvPr/>
              </p:nvSpPr>
              <p:spPr>
                <a:xfrm>
                  <a:off x="6705720" y="49957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5" name=""/>
                <p:cNvSpPr/>
                <p:nvPr/>
              </p:nvSpPr>
              <p:spPr>
                <a:xfrm>
                  <a:off x="6718320" y="50338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>
                  <a:off x="6730920" y="504684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"/>
                <p:cNvSpPr/>
                <p:nvPr/>
              </p:nvSpPr>
              <p:spPr>
                <a:xfrm>
                  <a:off x="6756480" y="50594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"/>
                <p:cNvSpPr/>
                <p:nvPr/>
              </p:nvSpPr>
              <p:spPr>
                <a:xfrm>
                  <a:off x="6769080" y="50846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9" name=""/>
                <p:cNvSpPr/>
                <p:nvPr/>
              </p:nvSpPr>
              <p:spPr>
                <a:xfrm>
                  <a:off x="6794640" y="505944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0" name=""/>
                <p:cNvSpPr/>
                <p:nvPr/>
              </p:nvSpPr>
              <p:spPr>
                <a:xfrm>
                  <a:off x="6807240" y="50846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>
                  <a:off x="6819840" y="51102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2" name=""/>
                <p:cNvSpPr/>
                <p:nvPr/>
              </p:nvSpPr>
              <p:spPr>
                <a:xfrm>
                  <a:off x="6845400" y="51228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3" name=""/>
                <p:cNvSpPr/>
                <p:nvPr/>
              </p:nvSpPr>
              <p:spPr>
                <a:xfrm>
                  <a:off x="6858000" y="51483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"/>
                <p:cNvSpPr/>
                <p:nvPr/>
              </p:nvSpPr>
              <p:spPr>
                <a:xfrm>
                  <a:off x="6883560" y="513540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5" name=""/>
                <p:cNvSpPr/>
                <p:nvPr/>
              </p:nvSpPr>
              <p:spPr>
                <a:xfrm>
                  <a:off x="6896160" y="51735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6" name=""/>
                <p:cNvSpPr/>
                <p:nvPr/>
              </p:nvSpPr>
              <p:spPr>
                <a:xfrm>
                  <a:off x="6908760" y="51483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7" name=""/>
                <p:cNvSpPr/>
                <p:nvPr/>
              </p:nvSpPr>
              <p:spPr>
                <a:xfrm>
                  <a:off x="6934320" y="51991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8" name=""/>
                <p:cNvSpPr/>
                <p:nvPr/>
              </p:nvSpPr>
              <p:spPr>
                <a:xfrm>
                  <a:off x="6946920" y="51991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9" name=""/>
                <p:cNvSpPr/>
                <p:nvPr/>
              </p:nvSpPr>
              <p:spPr>
                <a:xfrm>
                  <a:off x="6972480" y="522432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"/>
                <p:cNvSpPr/>
                <p:nvPr/>
              </p:nvSpPr>
              <p:spPr>
                <a:xfrm>
                  <a:off x="6997680" y="52498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1" name=""/>
                <p:cNvSpPr/>
                <p:nvPr/>
              </p:nvSpPr>
              <p:spPr>
                <a:xfrm>
                  <a:off x="7023240" y="522432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2" name=""/>
                <p:cNvSpPr/>
                <p:nvPr/>
              </p:nvSpPr>
              <p:spPr>
                <a:xfrm>
                  <a:off x="7048440" y="52624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3" name=""/>
                <p:cNvSpPr/>
                <p:nvPr/>
              </p:nvSpPr>
              <p:spPr>
                <a:xfrm>
                  <a:off x="7074000" y="52498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4" name=""/>
                <p:cNvSpPr/>
                <p:nvPr/>
              </p:nvSpPr>
              <p:spPr>
                <a:xfrm>
                  <a:off x="7099200" y="52372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5" name=""/>
                <p:cNvSpPr/>
                <p:nvPr/>
              </p:nvSpPr>
              <p:spPr>
                <a:xfrm>
                  <a:off x="7124760" y="53132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6" name=""/>
                <p:cNvSpPr/>
                <p:nvPr/>
              </p:nvSpPr>
              <p:spPr>
                <a:xfrm>
                  <a:off x="7162920" y="532620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>
                  <a:off x="7188120" y="53132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8" name=""/>
                <p:cNvSpPr/>
                <p:nvPr/>
              </p:nvSpPr>
              <p:spPr>
                <a:xfrm>
                  <a:off x="7213680" y="532620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"/>
                <p:cNvSpPr/>
                <p:nvPr/>
              </p:nvSpPr>
              <p:spPr>
                <a:xfrm>
                  <a:off x="7238880" y="53769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0" name=""/>
                <p:cNvSpPr/>
                <p:nvPr/>
              </p:nvSpPr>
              <p:spPr>
                <a:xfrm>
                  <a:off x="7264440" y="53006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1" name=""/>
                <p:cNvSpPr/>
                <p:nvPr/>
              </p:nvSpPr>
              <p:spPr>
                <a:xfrm>
                  <a:off x="7289640" y="53640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>
                  <a:off x="7315200" y="53640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3" name=""/>
                <p:cNvSpPr/>
                <p:nvPr/>
              </p:nvSpPr>
              <p:spPr>
                <a:xfrm>
                  <a:off x="7340760" y="537696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4" name=""/>
                <p:cNvSpPr/>
                <p:nvPr/>
              </p:nvSpPr>
              <p:spPr>
                <a:xfrm>
                  <a:off x="7365960" y="535140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>
                  <a:off x="7391520" y="54277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6" name=""/>
                <p:cNvSpPr/>
                <p:nvPr/>
              </p:nvSpPr>
              <p:spPr>
                <a:xfrm>
                  <a:off x="7416720" y="54277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7" name=""/>
              <p:cNvGrpSpPr/>
              <p:nvPr/>
            </p:nvGrpSpPr>
            <p:grpSpPr>
              <a:xfrm>
                <a:off x="6083280" y="4246560"/>
                <a:ext cx="2438280" cy="1447920"/>
                <a:chOff x="6083280" y="4246560"/>
                <a:chExt cx="2438280" cy="1447920"/>
              </a:xfrm>
            </p:grpSpPr>
            <p:sp>
              <p:nvSpPr>
                <p:cNvPr id="4008" name=""/>
                <p:cNvSpPr/>
                <p:nvPr/>
              </p:nvSpPr>
              <p:spPr>
                <a:xfrm>
                  <a:off x="7454880" y="54021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9" name=""/>
                <p:cNvSpPr/>
                <p:nvPr/>
              </p:nvSpPr>
              <p:spPr>
                <a:xfrm>
                  <a:off x="7480440" y="537696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0" name=""/>
                <p:cNvSpPr/>
                <p:nvPr/>
              </p:nvSpPr>
              <p:spPr>
                <a:xfrm>
                  <a:off x="7505640" y="541512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>
                  <a:off x="7531200" y="54658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2" name=""/>
                <p:cNvSpPr/>
                <p:nvPr/>
              </p:nvSpPr>
              <p:spPr>
                <a:xfrm>
                  <a:off x="7556400" y="54784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3" name=""/>
                <p:cNvSpPr/>
                <p:nvPr/>
              </p:nvSpPr>
              <p:spPr>
                <a:xfrm>
                  <a:off x="7581960" y="54910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>
                  <a:off x="7607160" y="54658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5" name=""/>
                <p:cNvSpPr/>
                <p:nvPr/>
              </p:nvSpPr>
              <p:spPr>
                <a:xfrm>
                  <a:off x="7645320" y="550404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6" name=""/>
                <p:cNvSpPr/>
                <p:nvPr/>
              </p:nvSpPr>
              <p:spPr>
                <a:xfrm>
                  <a:off x="7683480" y="54784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>
                  <a:off x="7734240" y="54784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8" name=""/>
                <p:cNvSpPr/>
                <p:nvPr/>
              </p:nvSpPr>
              <p:spPr>
                <a:xfrm>
                  <a:off x="7772400" y="55166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9" name=""/>
                <p:cNvSpPr/>
                <p:nvPr/>
              </p:nvSpPr>
              <p:spPr>
                <a:xfrm>
                  <a:off x="7823160" y="54784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>
                  <a:off x="7861320" y="55418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1" name=""/>
                <p:cNvSpPr/>
                <p:nvPr/>
              </p:nvSpPr>
              <p:spPr>
                <a:xfrm>
                  <a:off x="7912080" y="55418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2" name=""/>
                <p:cNvSpPr/>
                <p:nvPr/>
              </p:nvSpPr>
              <p:spPr>
                <a:xfrm>
                  <a:off x="7950240" y="56055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3" name=""/>
                <p:cNvSpPr/>
                <p:nvPr/>
              </p:nvSpPr>
              <p:spPr>
                <a:xfrm>
                  <a:off x="8001000" y="549108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4" name=""/>
                <p:cNvSpPr/>
                <p:nvPr/>
              </p:nvSpPr>
              <p:spPr>
                <a:xfrm>
                  <a:off x="8039160" y="551664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5" name=""/>
                <p:cNvSpPr/>
                <p:nvPr/>
              </p:nvSpPr>
              <p:spPr>
                <a:xfrm>
                  <a:off x="8089920" y="565632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>
                  <a:off x="8128080" y="56307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7" name=""/>
                <p:cNvSpPr/>
                <p:nvPr/>
              </p:nvSpPr>
              <p:spPr>
                <a:xfrm>
                  <a:off x="8178840" y="56181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8" name=""/>
                <p:cNvSpPr/>
                <p:nvPr/>
              </p:nvSpPr>
              <p:spPr>
                <a:xfrm>
                  <a:off x="8217000" y="56181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>
                  <a:off x="8267760" y="56055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0" name=""/>
                <p:cNvSpPr/>
                <p:nvPr/>
              </p:nvSpPr>
              <p:spPr>
                <a:xfrm>
                  <a:off x="8305920" y="56055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1" name=""/>
                <p:cNvSpPr/>
                <p:nvPr/>
              </p:nvSpPr>
              <p:spPr>
                <a:xfrm>
                  <a:off x="8356680" y="555480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>
                  <a:off x="8394840" y="5643720"/>
                  <a:ext cx="37800" cy="3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>
                  <a:off x="8445600" y="5630760"/>
                  <a:ext cx="3816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4" name=""/>
                <p:cNvSpPr/>
                <p:nvPr/>
              </p:nvSpPr>
              <p:spPr>
                <a:xfrm>
                  <a:off x="8483760" y="558000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>
                  <a:off x="6311880" y="51735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6" name=""/>
                <p:cNvSpPr/>
                <p:nvPr/>
              </p:nvSpPr>
              <p:spPr>
                <a:xfrm>
                  <a:off x="6324480" y="519912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7" name=""/>
                <p:cNvSpPr/>
                <p:nvPr/>
              </p:nvSpPr>
              <p:spPr>
                <a:xfrm>
                  <a:off x="6350040" y="51483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>
                  <a:off x="6362640" y="51228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9" name=""/>
                <p:cNvSpPr/>
                <p:nvPr/>
              </p:nvSpPr>
              <p:spPr>
                <a:xfrm>
                  <a:off x="6388200" y="51102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0" name=""/>
                <p:cNvSpPr/>
                <p:nvPr/>
              </p:nvSpPr>
              <p:spPr>
                <a:xfrm>
                  <a:off x="6400800" y="5046840"/>
                  <a:ext cx="38160" cy="3780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>
                  <a:off x="6413400" y="503388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2" name=""/>
                <p:cNvSpPr/>
                <p:nvPr/>
              </p:nvSpPr>
              <p:spPr>
                <a:xfrm>
                  <a:off x="6438960" y="500868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3" name=""/>
                <p:cNvSpPr/>
                <p:nvPr/>
              </p:nvSpPr>
              <p:spPr>
                <a:xfrm>
                  <a:off x="6451560" y="500868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"/>
                <p:cNvSpPr/>
                <p:nvPr/>
              </p:nvSpPr>
              <p:spPr>
                <a:xfrm>
                  <a:off x="6477120" y="498312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5" name=""/>
                <p:cNvSpPr/>
                <p:nvPr/>
              </p:nvSpPr>
              <p:spPr>
                <a:xfrm>
                  <a:off x="6489720" y="4957920"/>
                  <a:ext cx="38160" cy="3780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6" name=""/>
                <p:cNvSpPr/>
                <p:nvPr/>
              </p:nvSpPr>
              <p:spPr>
                <a:xfrm>
                  <a:off x="6502320" y="49323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>
                  <a:off x="6527880" y="4957920"/>
                  <a:ext cx="38160" cy="3780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8" name=""/>
                <p:cNvSpPr/>
                <p:nvPr/>
              </p:nvSpPr>
              <p:spPr>
                <a:xfrm>
                  <a:off x="6540480" y="49197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9" name=""/>
                <p:cNvSpPr/>
                <p:nvPr/>
              </p:nvSpPr>
              <p:spPr>
                <a:xfrm>
                  <a:off x="6566040" y="4906800"/>
                  <a:ext cx="3780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0" name=""/>
                <p:cNvSpPr/>
                <p:nvPr/>
              </p:nvSpPr>
              <p:spPr>
                <a:xfrm>
                  <a:off x="6578640" y="49068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1" name=""/>
                <p:cNvSpPr/>
                <p:nvPr/>
              </p:nvSpPr>
              <p:spPr>
                <a:xfrm>
                  <a:off x="6591240" y="49068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2" name=""/>
                <p:cNvSpPr/>
                <p:nvPr/>
              </p:nvSpPr>
              <p:spPr>
                <a:xfrm>
                  <a:off x="6616800" y="49197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3" name=""/>
                <p:cNvSpPr/>
                <p:nvPr/>
              </p:nvSpPr>
              <p:spPr>
                <a:xfrm>
                  <a:off x="6629400" y="49197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4" name=""/>
                <p:cNvSpPr/>
                <p:nvPr/>
              </p:nvSpPr>
              <p:spPr>
                <a:xfrm>
                  <a:off x="6642000" y="48942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5" name=""/>
                <p:cNvSpPr/>
                <p:nvPr/>
              </p:nvSpPr>
              <p:spPr>
                <a:xfrm>
                  <a:off x="6667560" y="48942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6" name=""/>
                <p:cNvSpPr/>
                <p:nvPr/>
              </p:nvSpPr>
              <p:spPr>
                <a:xfrm>
                  <a:off x="6680160" y="48942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7" name=""/>
                <p:cNvSpPr/>
                <p:nvPr/>
              </p:nvSpPr>
              <p:spPr>
                <a:xfrm>
                  <a:off x="6705720" y="48942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8" name=""/>
                <p:cNvSpPr/>
                <p:nvPr/>
              </p:nvSpPr>
              <p:spPr>
                <a:xfrm>
                  <a:off x="6718320" y="49068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9" name=""/>
                <p:cNvSpPr/>
                <p:nvPr/>
              </p:nvSpPr>
              <p:spPr>
                <a:xfrm>
                  <a:off x="6730920" y="48942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0" name=""/>
                <p:cNvSpPr/>
                <p:nvPr/>
              </p:nvSpPr>
              <p:spPr>
                <a:xfrm>
                  <a:off x="6756480" y="48942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1" name=""/>
                <p:cNvSpPr/>
                <p:nvPr/>
              </p:nvSpPr>
              <p:spPr>
                <a:xfrm>
                  <a:off x="6769080" y="48942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2" name=""/>
                <p:cNvSpPr/>
                <p:nvPr/>
              </p:nvSpPr>
              <p:spPr>
                <a:xfrm>
                  <a:off x="6794640" y="4881600"/>
                  <a:ext cx="3780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3" name=""/>
                <p:cNvSpPr/>
                <p:nvPr/>
              </p:nvSpPr>
              <p:spPr>
                <a:xfrm>
                  <a:off x="6807240" y="48942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4" name=""/>
                <p:cNvSpPr/>
                <p:nvPr/>
              </p:nvSpPr>
              <p:spPr>
                <a:xfrm>
                  <a:off x="6819840" y="48816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5" name=""/>
                <p:cNvSpPr/>
                <p:nvPr/>
              </p:nvSpPr>
              <p:spPr>
                <a:xfrm>
                  <a:off x="6845400" y="4869000"/>
                  <a:ext cx="38160" cy="3780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6" name=""/>
                <p:cNvSpPr/>
                <p:nvPr/>
              </p:nvSpPr>
              <p:spPr>
                <a:xfrm>
                  <a:off x="6858000" y="48816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7" name=""/>
                <p:cNvSpPr/>
                <p:nvPr/>
              </p:nvSpPr>
              <p:spPr>
                <a:xfrm>
                  <a:off x="6883560" y="4881600"/>
                  <a:ext cx="3780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8" name=""/>
                <p:cNvSpPr/>
                <p:nvPr/>
              </p:nvSpPr>
              <p:spPr>
                <a:xfrm>
                  <a:off x="6896160" y="48816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9" name=""/>
                <p:cNvSpPr/>
                <p:nvPr/>
              </p:nvSpPr>
              <p:spPr>
                <a:xfrm>
                  <a:off x="6908760" y="48816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0" name=""/>
                <p:cNvSpPr/>
                <p:nvPr/>
              </p:nvSpPr>
              <p:spPr>
                <a:xfrm>
                  <a:off x="6934320" y="48942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1" name=""/>
                <p:cNvSpPr/>
                <p:nvPr/>
              </p:nvSpPr>
              <p:spPr>
                <a:xfrm>
                  <a:off x="6946920" y="48816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2" name=""/>
                <p:cNvSpPr/>
                <p:nvPr/>
              </p:nvSpPr>
              <p:spPr>
                <a:xfrm>
                  <a:off x="6972480" y="4881600"/>
                  <a:ext cx="3780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3" name=""/>
                <p:cNvSpPr/>
                <p:nvPr/>
              </p:nvSpPr>
              <p:spPr>
                <a:xfrm>
                  <a:off x="7023240" y="4906800"/>
                  <a:ext cx="3780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4" name=""/>
                <p:cNvSpPr/>
                <p:nvPr/>
              </p:nvSpPr>
              <p:spPr>
                <a:xfrm>
                  <a:off x="7074000" y="489420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5" name=""/>
                <p:cNvSpPr/>
                <p:nvPr/>
              </p:nvSpPr>
              <p:spPr>
                <a:xfrm>
                  <a:off x="7124760" y="49323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6" name=""/>
                <p:cNvSpPr/>
                <p:nvPr/>
              </p:nvSpPr>
              <p:spPr>
                <a:xfrm>
                  <a:off x="7188120" y="49197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7" name=""/>
                <p:cNvSpPr/>
                <p:nvPr/>
              </p:nvSpPr>
              <p:spPr>
                <a:xfrm>
                  <a:off x="7238880" y="49449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8" name=""/>
                <p:cNvSpPr/>
                <p:nvPr/>
              </p:nvSpPr>
              <p:spPr>
                <a:xfrm>
                  <a:off x="7289640" y="49449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9" name=""/>
                <p:cNvSpPr/>
                <p:nvPr/>
              </p:nvSpPr>
              <p:spPr>
                <a:xfrm>
                  <a:off x="7340760" y="4957920"/>
                  <a:ext cx="37800" cy="3780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0" name=""/>
                <p:cNvSpPr/>
                <p:nvPr/>
              </p:nvSpPr>
              <p:spPr>
                <a:xfrm>
                  <a:off x="7391520" y="49449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1" name=""/>
                <p:cNvSpPr/>
                <p:nvPr/>
              </p:nvSpPr>
              <p:spPr>
                <a:xfrm>
                  <a:off x="7454880" y="498312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2" name=""/>
                <p:cNvSpPr/>
                <p:nvPr/>
              </p:nvSpPr>
              <p:spPr>
                <a:xfrm>
                  <a:off x="7505640" y="500868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3" name=""/>
                <p:cNvSpPr/>
                <p:nvPr/>
              </p:nvSpPr>
              <p:spPr>
                <a:xfrm>
                  <a:off x="7556400" y="502128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4" name=""/>
                <p:cNvSpPr/>
                <p:nvPr/>
              </p:nvSpPr>
              <p:spPr>
                <a:xfrm>
                  <a:off x="7607160" y="502128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5" name=""/>
                <p:cNvSpPr/>
                <p:nvPr/>
              </p:nvSpPr>
              <p:spPr>
                <a:xfrm>
                  <a:off x="7683480" y="505944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6" name=""/>
                <p:cNvSpPr/>
                <p:nvPr/>
              </p:nvSpPr>
              <p:spPr>
                <a:xfrm>
                  <a:off x="7823160" y="508464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7" name=""/>
                <p:cNvSpPr/>
                <p:nvPr/>
              </p:nvSpPr>
              <p:spPr>
                <a:xfrm>
                  <a:off x="7950240" y="514836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8" name=""/>
                <p:cNvSpPr/>
                <p:nvPr/>
              </p:nvSpPr>
              <p:spPr>
                <a:xfrm>
                  <a:off x="8039160" y="5186520"/>
                  <a:ext cx="38160" cy="3780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9" name=""/>
                <p:cNvSpPr/>
                <p:nvPr/>
              </p:nvSpPr>
              <p:spPr>
                <a:xfrm>
                  <a:off x="8217000" y="5186520"/>
                  <a:ext cx="38160" cy="3780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0" name=""/>
                <p:cNvSpPr/>
                <p:nvPr/>
              </p:nvSpPr>
              <p:spPr>
                <a:xfrm>
                  <a:off x="8356680" y="5237280"/>
                  <a:ext cx="3816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1" name=""/>
                <p:cNvSpPr/>
                <p:nvPr/>
              </p:nvSpPr>
              <p:spPr>
                <a:xfrm>
                  <a:off x="8483760" y="5249880"/>
                  <a:ext cx="37800" cy="38160"/>
                </a:xfrm>
                <a:prstGeom prst="ellipse">
                  <a:avLst/>
                </a:prstGeom>
                <a:solidFill>
                  <a:srgbClr val="27fc20"/>
                </a:solidFill>
                <a:ln w="1908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2" name=""/>
                <p:cNvSpPr/>
                <p:nvPr/>
              </p:nvSpPr>
              <p:spPr>
                <a:xfrm>
                  <a:off x="6083280" y="466560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3" name=""/>
                <p:cNvSpPr/>
                <p:nvPr/>
              </p:nvSpPr>
              <p:spPr>
                <a:xfrm>
                  <a:off x="6083280" y="466560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4" name=""/>
                <p:cNvSpPr/>
                <p:nvPr/>
              </p:nvSpPr>
              <p:spPr>
                <a:xfrm>
                  <a:off x="6108840" y="437364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5" name=""/>
                <p:cNvSpPr/>
                <p:nvPr/>
              </p:nvSpPr>
              <p:spPr>
                <a:xfrm>
                  <a:off x="6108840" y="437364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6" name=""/>
                <p:cNvSpPr/>
                <p:nvPr/>
              </p:nvSpPr>
              <p:spPr>
                <a:xfrm>
                  <a:off x="6121440" y="429732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7" name=""/>
                <p:cNvSpPr/>
                <p:nvPr/>
              </p:nvSpPr>
              <p:spPr>
                <a:xfrm>
                  <a:off x="6121440" y="429732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8" name=""/>
                <p:cNvSpPr/>
                <p:nvPr/>
              </p:nvSpPr>
              <p:spPr>
                <a:xfrm>
                  <a:off x="6134040" y="4259160"/>
                  <a:ext cx="637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9" name=""/>
                <p:cNvSpPr/>
                <p:nvPr/>
              </p:nvSpPr>
              <p:spPr>
                <a:xfrm>
                  <a:off x="6134040" y="42591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0" name=""/>
                <p:cNvSpPr/>
                <p:nvPr/>
              </p:nvSpPr>
              <p:spPr>
                <a:xfrm>
                  <a:off x="6159600" y="424656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1" name=""/>
                <p:cNvSpPr/>
                <p:nvPr/>
              </p:nvSpPr>
              <p:spPr>
                <a:xfrm>
                  <a:off x="6159600" y="42465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2" name=""/>
                <p:cNvSpPr/>
                <p:nvPr/>
              </p:nvSpPr>
              <p:spPr>
                <a:xfrm>
                  <a:off x="6172200" y="424656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3" name=""/>
                <p:cNvSpPr/>
                <p:nvPr/>
              </p:nvSpPr>
              <p:spPr>
                <a:xfrm>
                  <a:off x="6172200" y="42465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4" name=""/>
                <p:cNvSpPr/>
                <p:nvPr/>
              </p:nvSpPr>
              <p:spPr>
                <a:xfrm>
                  <a:off x="6197760" y="424656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5" name=""/>
                <p:cNvSpPr/>
                <p:nvPr/>
              </p:nvSpPr>
              <p:spPr>
                <a:xfrm>
                  <a:off x="6197760" y="42465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6" name=""/>
                <p:cNvSpPr/>
                <p:nvPr/>
              </p:nvSpPr>
              <p:spPr>
                <a:xfrm>
                  <a:off x="6210360" y="424656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7" name=""/>
                <p:cNvSpPr/>
                <p:nvPr/>
              </p:nvSpPr>
              <p:spPr>
                <a:xfrm>
                  <a:off x="6210360" y="42465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8" name=""/>
                <p:cNvSpPr/>
                <p:nvPr/>
              </p:nvSpPr>
              <p:spPr>
                <a:xfrm>
                  <a:off x="6222960" y="4259160"/>
                  <a:ext cx="637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9" name=""/>
                <p:cNvSpPr/>
                <p:nvPr/>
              </p:nvSpPr>
              <p:spPr>
                <a:xfrm>
                  <a:off x="6222960" y="42591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0" name=""/>
                <p:cNvSpPr/>
                <p:nvPr/>
              </p:nvSpPr>
              <p:spPr>
                <a:xfrm>
                  <a:off x="6248520" y="425916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1" name=""/>
                <p:cNvSpPr/>
                <p:nvPr/>
              </p:nvSpPr>
              <p:spPr>
                <a:xfrm>
                  <a:off x="6248520" y="42591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2" name=""/>
                <p:cNvSpPr/>
                <p:nvPr/>
              </p:nvSpPr>
              <p:spPr>
                <a:xfrm>
                  <a:off x="6261120" y="427212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3" name=""/>
                <p:cNvSpPr/>
                <p:nvPr/>
              </p:nvSpPr>
              <p:spPr>
                <a:xfrm>
                  <a:off x="6261120" y="427212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4" name=""/>
                <p:cNvSpPr/>
                <p:nvPr/>
              </p:nvSpPr>
              <p:spPr>
                <a:xfrm>
                  <a:off x="6286680" y="428472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5" name=""/>
                <p:cNvSpPr/>
                <p:nvPr/>
              </p:nvSpPr>
              <p:spPr>
                <a:xfrm>
                  <a:off x="6286680" y="428472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6" name=""/>
                <p:cNvSpPr/>
                <p:nvPr/>
              </p:nvSpPr>
              <p:spPr>
                <a:xfrm>
                  <a:off x="6299280" y="429732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7" name=""/>
                <p:cNvSpPr/>
                <p:nvPr/>
              </p:nvSpPr>
              <p:spPr>
                <a:xfrm>
                  <a:off x="6299280" y="429732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8" name=""/>
                <p:cNvSpPr/>
                <p:nvPr/>
              </p:nvSpPr>
              <p:spPr>
                <a:xfrm>
                  <a:off x="6311880" y="432288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9" name=""/>
                <p:cNvSpPr/>
                <p:nvPr/>
              </p:nvSpPr>
              <p:spPr>
                <a:xfrm>
                  <a:off x="6311880" y="432288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0" name=""/>
                <p:cNvSpPr/>
                <p:nvPr/>
              </p:nvSpPr>
              <p:spPr>
                <a:xfrm>
                  <a:off x="6337440" y="432288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1" name=""/>
                <p:cNvSpPr/>
                <p:nvPr/>
              </p:nvSpPr>
              <p:spPr>
                <a:xfrm>
                  <a:off x="6337440" y="432288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2" name=""/>
                <p:cNvSpPr/>
                <p:nvPr/>
              </p:nvSpPr>
              <p:spPr>
                <a:xfrm>
                  <a:off x="6350040" y="433548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3" name=""/>
                <p:cNvSpPr/>
                <p:nvPr/>
              </p:nvSpPr>
              <p:spPr>
                <a:xfrm>
                  <a:off x="6350040" y="433548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4" name=""/>
                <p:cNvSpPr/>
                <p:nvPr/>
              </p:nvSpPr>
              <p:spPr>
                <a:xfrm>
                  <a:off x="6375240" y="4361040"/>
                  <a:ext cx="6372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5" name=""/>
                <p:cNvSpPr/>
                <p:nvPr/>
              </p:nvSpPr>
              <p:spPr>
                <a:xfrm>
                  <a:off x="6375240" y="4361040"/>
                  <a:ext cx="5112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6" name=""/>
                <p:cNvSpPr/>
                <p:nvPr/>
              </p:nvSpPr>
              <p:spPr>
                <a:xfrm>
                  <a:off x="6388200" y="436104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7" name=""/>
                <p:cNvSpPr/>
                <p:nvPr/>
              </p:nvSpPr>
              <p:spPr>
                <a:xfrm>
                  <a:off x="6388200" y="436104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8" name=""/>
                <p:cNvSpPr/>
                <p:nvPr/>
              </p:nvSpPr>
              <p:spPr>
                <a:xfrm>
                  <a:off x="6400800" y="437364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9" name=""/>
                <p:cNvSpPr/>
                <p:nvPr/>
              </p:nvSpPr>
              <p:spPr>
                <a:xfrm>
                  <a:off x="6400800" y="437364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0" name=""/>
                <p:cNvSpPr/>
                <p:nvPr/>
              </p:nvSpPr>
              <p:spPr>
                <a:xfrm>
                  <a:off x="6426360" y="439884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1" name=""/>
                <p:cNvSpPr/>
                <p:nvPr/>
              </p:nvSpPr>
              <p:spPr>
                <a:xfrm>
                  <a:off x="6426360" y="439884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2" name=""/>
                <p:cNvSpPr/>
                <p:nvPr/>
              </p:nvSpPr>
              <p:spPr>
                <a:xfrm>
                  <a:off x="6438960" y="439884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3" name=""/>
                <p:cNvSpPr/>
                <p:nvPr/>
              </p:nvSpPr>
              <p:spPr>
                <a:xfrm>
                  <a:off x="6438960" y="439884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4" name=""/>
                <p:cNvSpPr/>
                <p:nvPr/>
              </p:nvSpPr>
              <p:spPr>
                <a:xfrm>
                  <a:off x="6464160" y="4424400"/>
                  <a:ext cx="6372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5" name=""/>
                <p:cNvSpPr/>
                <p:nvPr/>
              </p:nvSpPr>
              <p:spPr>
                <a:xfrm>
                  <a:off x="6464160" y="4424400"/>
                  <a:ext cx="5112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6" name=""/>
                <p:cNvSpPr/>
                <p:nvPr/>
              </p:nvSpPr>
              <p:spPr>
                <a:xfrm>
                  <a:off x="6477120" y="442440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7" name=""/>
                <p:cNvSpPr/>
                <p:nvPr/>
              </p:nvSpPr>
              <p:spPr>
                <a:xfrm>
                  <a:off x="6477120" y="442440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8" name=""/>
                <p:cNvSpPr/>
                <p:nvPr/>
              </p:nvSpPr>
              <p:spPr>
                <a:xfrm>
                  <a:off x="6489720" y="443700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9" name=""/>
                <p:cNvSpPr/>
                <p:nvPr/>
              </p:nvSpPr>
              <p:spPr>
                <a:xfrm>
                  <a:off x="6489720" y="443700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0" name=""/>
                <p:cNvSpPr/>
                <p:nvPr/>
              </p:nvSpPr>
              <p:spPr>
                <a:xfrm>
                  <a:off x="6515280" y="444960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1" name=""/>
                <p:cNvSpPr/>
                <p:nvPr/>
              </p:nvSpPr>
              <p:spPr>
                <a:xfrm>
                  <a:off x="6515280" y="4449600"/>
                  <a:ext cx="50760" cy="5112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2" name=""/>
                <p:cNvSpPr/>
                <p:nvPr/>
              </p:nvSpPr>
              <p:spPr>
                <a:xfrm>
                  <a:off x="6527880" y="446256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3" name=""/>
                <p:cNvSpPr/>
                <p:nvPr/>
              </p:nvSpPr>
              <p:spPr>
                <a:xfrm>
                  <a:off x="6527880" y="44625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4" name=""/>
                <p:cNvSpPr/>
                <p:nvPr/>
              </p:nvSpPr>
              <p:spPr>
                <a:xfrm>
                  <a:off x="6553080" y="4487760"/>
                  <a:ext cx="637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5" name=""/>
                <p:cNvSpPr/>
                <p:nvPr/>
              </p:nvSpPr>
              <p:spPr>
                <a:xfrm>
                  <a:off x="6553080" y="44877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6" name=""/>
                <p:cNvSpPr/>
                <p:nvPr/>
              </p:nvSpPr>
              <p:spPr>
                <a:xfrm>
                  <a:off x="6566040" y="450072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7" name=""/>
                <p:cNvSpPr/>
                <p:nvPr/>
              </p:nvSpPr>
              <p:spPr>
                <a:xfrm>
                  <a:off x="6566040" y="450072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8" name=""/>
                <p:cNvSpPr/>
                <p:nvPr/>
              </p:nvSpPr>
              <p:spPr>
                <a:xfrm>
                  <a:off x="6578640" y="451332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9" name=""/>
                <p:cNvSpPr/>
                <p:nvPr/>
              </p:nvSpPr>
              <p:spPr>
                <a:xfrm>
                  <a:off x="6578640" y="451332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0" name=""/>
                <p:cNvSpPr/>
                <p:nvPr/>
              </p:nvSpPr>
              <p:spPr>
                <a:xfrm>
                  <a:off x="6603840" y="4525920"/>
                  <a:ext cx="637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1" name=""/>
                <p:cNvSpPr/>
                <p:nvPr/>
              </p:nvSpPr>
              <p:spPr>
                <a:xfrm>
                  <a:off x="6603840" y="4525920"/>
                  <a:ext cx="5112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2" name=""/>
                <p:cNvSpPr/>
                <p:nvPr/>
              </p:nvSpPr>
              <p:spPr>
                <a:xfrm>
                  <a:off x="6616800" y="453852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3" name=""/>
                <p:cNvSpPr/>
                <p:nvPr/>
              </p:nvSpPr>
              <p:spPr>
                <a:xfrm>
                  <a:off x="6616800" y="4538520"/>
                  <a:ext cx="50760" cy="5112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4" name=""/>
                <p:cNvSpPr/>
                <p:nvPr/>
              </p:nvSpPr>
              <p:spPr>
                <a:xfrm>
                  <a:off x="6629400" y="455148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5" name=""/>
                <p:cNvSpPr/>
                <p:nvPr/>
              </p:nvSpPr>
              <p:spPr>
                <a:xfrm>
                  <a:off x="6629400" y="455148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6" name=""/>
                <p:cNvSpPr/>
                <p:nvPr/>
              </p:nvSpPr>
              <p:spPr>
                <a:xfrm>
                  <a:off x="6654960" y="456408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7" name=""/>
                <p:cNvSpPr/>
                <p:nvPr/>
              </p:nvSpPr>
              <p:spPr>
                <a:xfrm>
                  <a:off x="6654960" y="456408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8" name=""/>
                <p:cNvSpPr/>
                <p:nvPr/>
              </p:nvSpPr>
              <p:spPr>
                <a:xfrm>
                  <a:off x="6667560" y="457668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9" name=""/>
                <p:cNvSpPr/>
                <p:nvPr/>
              </p:nvSpPr>
              <p:spPr>
                <a:xfrm>
                  <a:off x="6667560" y="457668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0" name=""/>
                <p:cNvSpPr/>
                <p:nvPr/>
              </p:nvSpPr>
              <p:spPr>
                <a:xfrm>
                  <a:off x="6692760" y="4589640"/>
                  <a:ext cx="6372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1" name=""/>
                <p:cNvSpPr/>
                <p:nvPr/>
              </p:nvSpPr>
              <p:spPr>
                <a:xfrm>
                  <a:off x="6692760" y="4589640"/>
                  <a:ext cx="5112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2" name=""/>
                <p:cNvSpPr/>
                <p:nvPr/>
              </p:nvSpPr>
              <p:spPr>
                <a:xfrm>
                  <a:off x="6705720" y="461484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3" name=""/>
                <p:cNvSpPr/>
                <p:nvPr/>
              </p:nvSpPr>
              <p:spPr>
                <a:xfrm>
                  <a:off x="6705720" y="461484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4" name=""/>
                <p:cNvSpPr/>
                <p:nvPr/>
              </p:nvSpPr>
              <p:spPr>
                <a:xfrm>
                  <a:off x="6718320" y="462744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5" name=""/>
                <p:cNvSpPr/>
                <p:nvPr/>
              </p:nvSpPr>
              <p:spPr>
                <a:xfrm>
                  <a:off x="6718320" y="462744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6" name=""/>
                <p:cNvSpPr/>
                <p:nvPr/>
              </p:nvSpPr>
              <p:spPr>
                <a:xfrm>
                  <a:off x="6743880" y="464040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7" name=""/>
                <p:cNvSpPr/>
                <p:nvPr/>
              </p:nvSpPr>
              <p:spPr>
                <a:xfrm>
                  <a:off x="6743880" y="464040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8" name=""/>
                <p:cNvSpPr/>
                <p:nvPr/>
              </p:nvSpPr>
              <p:spPr>
                <a:xfrm>
                  <a:off x="6756480" y="464040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9" name=""/>
                <p:cNvSpPr/>
                <p:nvPr/>
              </p:nvSpPr>
              <p:spPr>
                <a:xfrm>
                  <a:off x="6756480" y="464040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0" name=""/>
                <p:cNvSpPr/>
                <p:nvPr/>
              </p:nvSpPr>
              <p:spPr>
                <a:xfrm>
                  <a:off x="6781680" y="4665600"/>
                  <a:ext cx="637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1" name=""/>
                <p:cNvSpPr/>
                <p:nvPr/>
              </p:nvSpPr>
              <p:spPr>
                <a:xfrm>
                  <a:off x="6781680" y="466560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2" name=""/>
                <p:cNvSpPr/>
                <p:nvPr/>
              </p:nvSpPr>
              <p:spPr>
                <a:xfrm>
                  <a:off x="6794640" y="467820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3" name=""/>
                <p:cNvSpPr/>
                <p:nvPr/>
              </p:nvSpPr>
              <p:spPr>
                <a:xfrm>
                  <a:off x="6794640" y="4678200"/>
                  <a:ext cx="50760" cy="5112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4" name=""/>
                <p:cNvSpPr/>
                <p:nvPr/>
              </p:nvSpPr>
              <p:spPr>
                <a:xfrm>
                  <a:off x="6807240" y="469116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5" name=""/>
                <p:cNvSpPr/>
                <p:nvPr/>
              </p:nvSpPr>
              <p:spPr>
                <a:xfrm>
                  <a:off x="6807240" y="46911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6" name=""/>
                <p:cNvSpPr/>
                <p:nvPr/>
              </p:nvSpPr>
              <p:spPr>
                <a:xfrm>
                  <a:off x="6832440" y="4703760"/>
                  <a:ext cx="6372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7" name=""/>
                <p:cNvSpPr/>
                <p:nvPr/>
              </p:nvSpPr>
              <p:spPr>
                <a:xfrm>
                  <a:off x="6832440" y="4703760"/>
                  <a:ext cx="5112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8" name=""/>
                <p:cNvSpPr/>
                <p:nvPr/>
              </p:nvSpPr>
              <p:spPr>
                <a:xfrm>
                  <a:off x="6845400" y="470376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9" name=""/>
                <p:cNvSpPr/>
                <p:nvPr/>
              </p:nvSpPr>
              <p:spPr>
                <a:xfrm>
                  <a:off x="6845400" y="47037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0" name=""/>
                <p:cNvSpPr/>
                <p:nvPr/>
              </p:nvSpPr>
              <p:spPr>
                <a:xfrm>
                  <a:off x="6870600" y="4729320"/>
                  <a:ext cx="6372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1" name=""/>
                <p:cNvSpPr/>
                <p:nvPr/>
              </p:nvSpPr>
              <p:spPr>
                <a:xfrm>
                  <a:off x="6870600" y="472932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2" name=""/>
                <p:cNvSpPr/>
                <p:nvPr/>
              </p:nvSpPr>
              <p:spPr>
                <a:xfrm>
                  <a:off x="6883560" y="472932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3" name=""/>
                <p:cNvSpPr/>
                <p:nvPr/>
              </p:nvSpPr>
              <p:spPr>
                <a:xfrm>
                  <a:off x="6883560" y="472932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4" name=""/>
                <p:cNvSpPr/>
                <p:nvPr/>
              </p:nvSpPr>
              <p:spPr>
                <a:xfrm>
                  <a:off x="6896160" y="475452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5" name=""/>
                <p:cNvSpPr/>
                <p:nvPr/>
              </p:nvSpPr>
              <p:spPr>
                <a:xfrm>
                  <a:off x="6896160" y="475452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6" name=""/>
                <p:cNvSpPr/>
                <p:nvPr/>
              </p:nvSpPr>
              <p:spPr>
                <a:xfrm>
                  <a:off x="6921360" y="4754520"/>
                  <a:ext cx="637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7" name=""/>
                <p:cNvSpPr/>
                <p:nvPr/>
              </p:nvSpPr>
              <p:spPr>
                <a:xfrm>
                  <a:off x="6921360" y="4754520"/>
                  <a:ext cx="5112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8" name=""/>
                <p:cNvSpPr/>
                <p:nvPr/>
              </p:nvSpPr>
              <p:spPr>
                <a:xfrm>
                  <a:off x="6934320" y="476712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9" name=""/>
                <p:cNvSpPr/>
                <p:nvPr/>
              </p:nvSpPr>
              <p:spPr>
                <a:xfrm>
                  <a:off x="6934320" y="4767120"/>
                  <a:ext cx="50760" cy="5112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0" name=""/>
                <p:cNvSpPr/>
                <p:nvPr/>
              </p:nvSpPr>
              <p:spPr>
                <a:xfrm>
                  <a:off x="6959520" y="4780080"/>
                  <a:ext cx="6372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1" name=""/>
                <p:cNvSpPr/>
                <p:nvPr/>
              </p:nvSpPr>
              <p:spPr>
                <a:xfrm>
                  <a:off x="6959520" y="478008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2" name=""/>
                <p:cNvSpPr/>
                <p:nvPr/>
              </p:nvSpPr>
              <p:spPr>
                <a:xfrm>
                  <a:off x="7010280" y="4805280"/>
                  <a:ext cx="637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3" name=""/>
                <p:cNvSpPr/>
                <p:nvPr/>
              </p:nvSpPr>
              <p:spPr>
                <a:xfrm>
                  <a:off x="7010280" y="480528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4" name=""/>
                <p:cNvSpPr/>
                <p:nvPr/>
              </p:nvSpPr>
              <p:spPr>
                <a:xfrm>
                  <a:off x="7061040" y="4843440"/>
                  <a:ext cx="6372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5" name=""/>
                <p:cNvSpPr/>
                <p:nvPr/>
              </p:nvSpPr>
              <p:spPr>
                <a:xfrm>
                  <a:off x="7061040" y="4843440"/>
                  <a:ext cx="5112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6" name=""/>
                <p:cNvSpPr/>
                <p:nvPr/>
              </p:nvSpPr>
              <p:spPr>
                <a:xfrm>
                  <a:off x="7112160" y="4856040"/>
                  <a:ext cx="6336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7" name=""/>
                <p:cNvSpPr/>
                <p:nvPr/>
              </p:nvSpPr>
              <p:spPr>
                <a:xfrm>
                  <a:off x="7112160" y="485604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8" name=""/>
                <p:cNvSpPr/>
                <p:nvPr/>
              </p:nvSpPr>
              <p:spPr>
                <a:xfrm>
                  <a:off x="7175520" y="488160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9" name=""/>
                <p:cNvSpPr/>
                <p:nvPr/>
              </p:nvSpPr>
              <p:spPr>
                <a:xfrm>
                  <a:off x="7175520" y="488160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0" name=""/>
                <p:cNvSpPr/>
                <p:nvPr/>
              </p:nvSpPr>
              <p:spPr>
                <a:xfrm>
                  <a:off x="7226280" y="4919760"/>
                  <a:ext cx="6336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1" name=""/>
                <p:cNvSpPr/>
                <p:nvPr/>
              </p:nvSpPr>
              <p:spPr>
                <a:xfrm>
                  <a:off x="7226280" y="49197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2" name=""/>
                <p:cNvSpPr/>
                <p:nvPr/>
              </p:nvSpPr>
              <p:spPr>
                <a:xfrm>
                  <a:off x="7277040" y="4919760"/>
                  <a:ext cx="6372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3" name=""/>
                <p:cNvSpPr/>
                <p:nvPr/>
              </p:nvSpPr>
              <p:spPr>
                <a:xfrm>
                  <a:off x="7277040" y="49197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4" name=""/>
                <p:cNvSpPr/>
                <p:nvPr/>
              </p:nvSpPr>
              <p:spPr>
                <a:xfrm>
                  <a:off x="7327800" y="4932360"/>
                  <a:ext cx="6372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5" name=""/>
                <p:cNvSpPr/>
                <p:nvPr/>
              </p:nvSpPr>
              <p:spPr>
                <a:xfrm>
                  <a:off x="7327800" y="4932360"/>
                  <a:ext cx="5076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6" name=""/>
                <p:cNvSpPr/>
                <p:nvPr/>
              </p:nvSpPr>
              <p:spPr>
                <a:xfrm>
                  <a:off x="7378560" y="4957920"/>
                  <a:ext cx="63720" cy="633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7" name=""/>
                <p:cNvSpPr/>
                <p:nvPr/>
              </p:nvSpPr>
              <p:spPr>
                <a:xfrm>
                  <a:off x="7378560" y="4957920"/>
                  <a:ext cx="51120" cy="50760"/>
                </a:xfrm>
                <a:prstGeom prst="rect">
                  <a:avLst/>
                </a:prstGeom>
                <a:noFill/>
                <a:ln w="1908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08" name=""/>
              <p:cNvSpPr/>
              <p:nvPr/>
            </p:nvSpPr>
            <p:spPr>
              <a:xfrm>
                <a:off x="7442280" y="5008680"/>
                <a:ext cx="63360" cy="6336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7442280" y="5008680"/>
                <a:ext cx="50760" cy="5076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7493040" y="4995720"/>
                <a:ext cx="63360" cy="637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7493040" y="4995720"/>
                <a:ext cx="50760" cy="5112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7543800" y="5008680"/>
                <a:ext cx="63360" cy="6336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7543800" y="5008680"/>
                <a:ext cx="50760" cy="5076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7594560" y="5033880"/>
                <a:ext cx="63720" cy="637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7594560" y="5033880"/>
                <a:ext cx="50760" cy="5076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7670880" y="5059440"/>
                <a:ext cx="63360" cy="6336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7670880" y="5059440"/>
                <a:ext cx="50760" cy="5076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7810560" y="5084640"/>
                <a:ext cx="63360" cy="637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7810560" y="5084640"/>
                <a:ext cx="50760" cy="5076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7937640" y="5160960"/>
                <a:ext cx="63360" cy="6336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7937640" y="5160960"/>
                <a:ext cx="50760" cy="5076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8026560" y="5186520"/>
                <a:ext cx="63360" cy="6336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8026560" y="5186520"/>
                <a:ext cx="50760" cy="5076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8204040" y="5199120"/>
                <a:ext cx="63720" cy="6336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8204040" y="5199120"/>
                <a:ext cx="51120" cy="5076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8344080" y="5224320"/>
                <a:ext cx="63360" cy="6372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8344080" y="5224320"/>
                <a:ext cx="50760" cy="5112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8470800" y="5249880"/>
                <a:ext cx="63720" cy="6336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8470800" y="5249880"/>
                <a:ext cx="50760" cy="50760"/>
              </a:xfrm>
              <a:prstGeom prst="rect">
                <a:avLst/>
              </a:prstGeom>
              <a:noFill/>
              <a:ln w="1908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30" name=""/>
              <p:cNvGrpSpPr/>
              <p:nvPr/>
            </p:nvGrpSpPr>
            <p:grpSpPr>
              <a:xfrm>
                <a:off x="6019920" y="5954760"/>
                <a:ext cx="2828880" cy="182880"/>
                <a:chOff x="6019920" y="5954760"/>
                <a:chExt cx="2828880" cy="182880"/>
              </a:xfrm>
            </p:grpSpPr>
            <p:sp>
              <p:nvSpPr>
                <p:cNvPr id="4231" name=""/>
                <p:cNvSpPr/>
                <p:nvPr/>
              </p:nvSpPr>
              <p:spPr>
                <a:xfrm>
                  <a:off x="6019920" y="5954760"/>
                  <a:ext cx="921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2" name=""/>
                <p:cNvSpPr/>
                <p:nvPr/>
              </p:nvSpPr>
              <p:spPr>
                <a:xfrm>
                  <a:off x="6408360" y="5954760"/>
                  <a:ext cx="183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5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3" name=""/>
                <p:cNvSpPr/>
                <p:nvPr/>
              </p:nvSpPr>
              <p:spPr>
                <a:xfrm>
                  <a:off x="6808680" y="5954760"/>
                  <a:ext cx="275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10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4" name=""/>
                <p:cNvSpPr/>
                <p:nvPr/>
              </p:nvSpPr>
              <p:spPr>
                <a:xfrm>
                  <a:off x="7240320" y="5954760"/>
                  <a:ext cx="275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15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5" name=""/>
                <p:cNvSpPr/>
                <p:nvPr/>
              </p:nvSpPr>
              <p:spPr>
                <a:xfrm>
                  <a:off x="7684920" y="5954760"/>
                  <a:ext cx="275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20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6" name=""/>
                <p:cNvSpPr/>
                <p:nvPr/>
              </p:nvSpPr>
              <p:spPr>
                <a:xfrm>
                  <a:off x="8129520" y="5954760"/>
                  <a:ext cx="275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25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7" name=""/>
                <p:cNvSpPr/>
                <p:nvPr/>
              </p:nvSpPr>
              <p:spPr>
                <a:xfrm>
                  <a:off x="8573760" y="5954760"/>
                  <a:ext cx="275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cf305"/>
                      </a:solidFill>
                      <a:latin typeface="Trebuchet MS"/>
                    </a:rPr>
                    <a:t>30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38" name=""/>
            <p:cNvSpPr/>
            <p:nvPr/>
          </p:nvSpPr>
          <p:spPr>
            <a:xfrm>
              <a:off x="6108840" y="4043520"/>
              <a:ext cx="2387520" cy="1650960"/>
            </a:xfrm>
            <a:custGeom>
              <a:avLst/>
              <a:gdLst/>
              <a:ahLst/>
              <a:rect l="l" t="t" r="r" b="b"/>
              <a:pathLst>
                <a:path w="1504" h="1040">
                  <a:moveTo>
                    <a:pt x="0" y="424"/>
                  </a:moveTo>
                  <a:lnTo>
                    <a:pt x="0" y="408"/>
                  </a:lnTo>
                  <a:lnTo>
                    <a:pt x="0" y="400"/>
                  </a:lnTo>
                  <a:lnTo>
                    <a:pt x="0" y="384"/>
                  </a:lnTo>
                  <a:lnTo>
                    <a:pt x="0" y="360"/>
                  </a:lnTo>
                  <a:lnTo>
                    <a:pt x="0" y="344"/>
                  </a:lnTo>
                  <a:lnTo>
                    <a:pt x="0" y="320"/>
                  </a:lnTo>
                  <a:lnTo>
                    <a:pt x="0" y="296"/>
                  </a:lnTo>
                  <a:lnTo>
                    <a:pt x="0" y="272"/>
                  </a:lnTo>
                  <a:lnTo>
                    <a:pt x="0" y="248"/>
                  </a:lnTo>
                  <a:lnTo>
                    <a:pt x="8" y="224"/>
                  </a:lnTo>
                  <a:lnTo>
                    <a:pt x="8" y="208"/>
                  </a:lnTo>
                  <a:lnTo>
                    <a:pt x="8" y="184"/>
                  </a:lnTo>
                  <a:lnTo>
                    <a:pt x="8" y="160"/>
                  </a:lnTo>
                  <a:lnTo>
                    <a:pt x="8" y="144"/>
                  </a:lnTo>
                  <a:lnTo>
                    <a:pt x="8" y="120"/>
                  </a:lnTo>
                  <a:lnTo>
                    <a:pt x="8" y="104"/>
                  </a:lnTo>
                  <a:lnTo>
                    <a:pt x="8" y="96"/>
                  </a:lnTo>
                  <a:lnTo>
                    <a:pt x="8" y="80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8" y="56"/>
                  </a:lnTo>
                  <a:lnTo>
                    <a:pt x="8" y="48"/>
                  </a:lnTo>
                  <a:lnTo>
                    <a:pt x="16" y="40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24"/>
                  </a:lnTo>
                  <a:lnTo>
                    <a:pt x="40" y="32"/>
                  </a:lnTo>
                  <a:lnTo>
                    <a:pt x="48" y="40"/>
                  </a:lnTo>
                  <a:lnTo>
                    <a:pt x="56" y="56"/>
                  </a:lnTo>
                  <a:lnTo>
                    <a:pt x="56" y="72"/>
                  </a:lnTo>
                  <a:lnTo>
                    <a:pt x="64" y="88"/>
                  </a:lnTo>
                  <a:lnTo>
                    <a:pt x="72" y="104"/>
                  </a:lnTo>
                  <a:lnTo>
                    <a:pt x="80" y="112"/>
                  </a:lnTo>
                  <a:lnTo>
                    <a:pt x="80" y="128"/>
                  </a:lnTo>
                  <a:lnTo>
                    <a:pt x="88" y="144"/>
                  </a:lnTo>
                  <a:lnTo>
                    <a:pt x="96" y="160"/>
                  </a:lnTo>
                  <a:lnTo>
                    <a:pt x="96" y="176"/>
                  </a:lnTo>
                  <a:lnTo>
                    <a:pt x="104" y="192"/>
                  </a:lnTo>
                  <a:lnTo>
                    <a:pt x="112" y="200"/>
                  </a:lnTo>
                  <a:lnTo>
                    <a:pt x="112" y="208"/>
                  </a:lnTo>
                  <a:lnTo>
                    <a:pt x="120" y="216"/>
                  </a:lnTo>
                  <a:lnTo>
                    <a:pt x="120" y="224"/>
                  </a:lnTo>
                  <a:lnTo>
                    <a:pt x="120" y="232"/>
                  </a:lnTo>
                  <a:lnTo>
                    <a:pt x="128" y="240"/>
                  </a:lnTo>
                  <a:lnTo>
                    <a:pt x="128" y="248"/>
                  </a:lnTo>
                  <a:lnTo>
                    <a:pt x="136" y="264"/>
                  </a:lnTo>
                  <a:lnTo>
                    <a:pt x="144" y="280"/>
                  </a:lnTo>
                  <a:lnTo>
                    <a:pt x="152" y="296"/>
                  </a:lnTo>
                  <a:lnTo>
                    <a:pt x="168" y="312"/>
                  </a:lnTo>
                  <a:lnTo>
                    <a:pt x="176" y="336"/>
                  </a:lnTo>
                  <a:lnTo>
                    <a:pt x="184" y="352"/>
                  </a:lnTo>
                  <a:lnTo>
                    <a:pt x="200" y="376"/>
                  </a:lnTo>
                  <a:lnTo>
                    <a:pt x="216" y="392"/>
                  </a:lnTo>
                  <a:lnTo>
                    <a:pt x="224" y="416"/>
                  </a:lnTo>
                  <a:lnTo>
                    <a:pt x="240" y="432"/>
                  </a:lnTo>
                  <a:lnTo>
                    <a:pt x="256" y="456"/>
                  </a:lnTo>
                  <a:lnTo>
                    <a:pt x="264" y="472"/>
                  </a:lnTo>
                  <a:lnTo>
                    <a:pt x="280" y="488"/>
                  </a:lnTo>
                  <a:lnTo>
                    <a:pt x="296" y="504"/>
                  </a:lnTo>
                  <a:lnTo>
                    <a:pt x="304" y="520"/>
                  </a:lnTo>
                  <a:lnTo>
                    <a:pt x="320" y="536"/>
                  </a:lnTo>
                  <a:lnTo>
                    <a:pt x="328" y="544"/>
                  </a:lnTo>
                  <a:lnTo>
                    <a:pt x="336" y="552"/>
                  </a:lnTo>
                  <a:lnTo>
                    <a:pt x="352" y="560"/>
                  </a:lnTo>
                  <a:lnTo>
                    <a:pt x="360" y="576"/>
                  </a:lnTo>
                  <a:lnTo>
                    <a:pt x="376" y="584"/>
                  </a:lnTo>
                  <a:lnTo>
                    <a:pt x="392" y="600"/>
                  </a:lnTo>
                  <a:lnTo>
                    <a:pt x="400" y="616"/>
                  </a:lnTo>
                  <a:lnTo>
                    <a:pt x="416" y="624"/>
                  </a:lnTo>
                  <a:lnTo>
                    <a:pt x="432" y="640"/>
                  </a:lnTo>
                  <a:lnTo>
                    <a:pt x="448" y="656"/>
                  </a:lnTo>
                  <a:lnTo>
                    <a:pt x="464" y="672"/>
                  </a:lnTo>
                  <a:lnTo>
                    <a:pt x="488" y="688"/>
                  </a:lnTo>
                  <a:lnTo>
                    <a:pt x="504" y="704"/>
                  </a:lnTo>
                  <a:lnTo>
                    <a:pt x="528" y="720"/>
                  </a:lnTo>
                  <a:lnTo>
                    <a:pt x="544" y="736"/>
                  </a:lnTo>
                  <a:lnTo>
                    <a:pt x="568" y="744"/>
                  </a:lnTo>
                  <a:lnTo>
                    <a:pt x="592" y="760"/>
                  </a:lnTo>
                  <a:lnTo>
                    <a:pt x="616" y="776"/>
                  </a:lnTo>
                  <a:lnTo>
                    <a:pt x="640" y="792"/>
                  </a:lnTo>
                  <a:lnTo>
                    <a:pt x="664" y="800"/>
                  </a:lnTo>
                  <a:lnTo>
                    <a:pt x="696" y="816"/>
                  </a:lnTo>
                  <a:lnTo>
                    <a:pt x="720" y="824"/>
                  </a:lnTo>
                  <a:lnTo>
                    <a:pt x="752" y="840"/>
                  </a:lnTo>
                  <a:lnTo>
                    <a:pt x="776" y="848"/>
                  </a:lnTo>
                  <a:lnTo>
                    <a:pt x="800" y="856"/>
                  </a:lnTo>
                  <a:lnTo>
                    <a:pt x="824" y="864"/>
                  </a:lnTo>
                  <a:lnTo>
                    <a:pt x="848" y="880"/>
                  </a:lnTo>
                  <a:lnTo>
                    <a:pt x="872" y="888"/>
                  </a:lnTo>
                  <a:lnTo>
                    <a:pt x="896" y="896"/>
                  </a:lnTo>
                  <a:lnTo>
                    <a:pt x="912" y="904"/>
                  </a:lnTo>
                  <a:lnTo>
                    <a:pt x="936" y="912"/>
                  </a:lnTo>
                  <a:lnTo>
                    <a:pt x="952" y="920"/>
                  </a:lnTo>
                  <a:lnTo>
                    <a:pt x="976" y="928"/>
                  </a:lnTo>
                  <a:lnTo>
                    <a:pt x="992" y="928"/>
                  </a:lnTo>
                  <a:lnTo>
                    <a:pt x="1016" y="936"/>
                  </a:lnTo>
                  <a:lnTo>
                    <a:pt x="1032" y="944"/>
                  </a:lnTo>
                  <a:lnTo>
                    <a:pt x="1048" y="952"/>
                  </a:lnTo>
                  <a:lnTo>
                    <a:pt x="1072" y="952"/>
                  </a:lnTo>
                  <a:lnTo>
                    <a:pt x="1088" y="960"/>
                  </a:lnTo>
                  <a:lnTo>
                    <a:pt x="1104" y="968"/>
                  </a:lnTo>
                  <a:lnTo>
                    <a:pt x="1120" y="968"/>
                  </a:lnTo>
                  <a:lnTo>
                    <a:pt x="1136" y="976"/>
                  </a:lnTo>
                  <a:lnTo>
                    <a:pt x="1160" y="976"/>
                  </a:lnTo>
                  <a:lnTo>
                    <a:pt x="1176" y="984"/>
                  </a:lnTo>
                  <a:lnTo>
                    <a:pt x="1200" y="984"/>
                  </a:lnTo>
                  <a:lnTo>
                    <a:pt x="1224" y="992"/>
                  </a:lnTo>
                  <a:lnTo>
                    <a:pt x="1256" y="1000"/>
                  </a:lnTo>
                  <a:lnTo>
                    <a:pt x="1280" y="1000"/>
                  </a:lnTo>
                  <a:lnTo>
                    <a:pt x="1304" y="1008"/>
                  </a:lnTo>
                  <a:lnTo>
                    <a:pt x="1328" y="1008"/>
                  </a:lnTo>
                  <a:lnTo>
                    <a:pt x="1352" y="1016"/>
                  </a:lnTo>
                  <a:lnTo>
                    <a:pt x="1376" y="1024"/>
                  </a:lnTo>
                  <a:lnTo>
                    <a:pt x="1400" y="1024"/>
                  </a:lnTo>
                  <a:lnTo>
                    <a:pt x="1424" y="1024"/>
                  </a:lnTo>
                  <a:lnTo>
                    <a:pt x="1440" y="1032"/>
                  </a:lnTo>
                  <a:lnTo>
                    <a:pt x="1456" y="1032"/>
                  </a:lnTo>
                  <a:lnTo>
                    <a:pt x="1472" y="1032"/>
                  </a:lnTo>
                  <a:lnTo>
                    <a:pt x="1488" y="1040"/>
                  </a:lnTo>
                  <a:lnTo>
                    <a:pt x="1496" y="1040"/>
                  </a:lnTo>
                  <a:lnTo>
                    <a:pt x="1504" y="104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6527880" y="4970520"/>
              <a:ext cx="1260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6566040" y="5021280"/>
              <a:ext cx="1260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6603840" y="5059440"/>
              <a:ext cx="1296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6642000" y="5097600"/>
              <a:ext cx="1296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6680160" y="5148360"/>
              <a:ext cx="1260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6718320" y="5186520"/>
              <a:ext cx="1260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6743880" y="5224320"/>
              <a:ext cx="12600" cy="1296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6769080" y="5275440"/>
              <a:ext cx="1260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6794640" y="5313240"/>
              <a:ext cx="12600" cy="1296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6832440" y="5364000"/>
              <a:ext cx="12960" cy="1296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6870600" y="5402160"/>
              <a:ext cx="12960" cy="1296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6908760" y="5440320"/>
              <a:ext cx="1260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6946920" y="5491080"/>
              <a:ext cx="12600" cy="1296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6972480" y="5529240"/>
              <a:ext cx="1260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6997680" y="5567400"/>
              <a:ext cx="1260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7023240" y="5618160"/>
              <a:ext cx="1260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7048440" y="5656320"/>
              <a:ext cx="1260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7086600" y="5707080"/>
              <a:ext cx="1260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7124760" y="5757840"/>
              <a:ext cx="12600" cy="12600"/>
            </a:xfrm>
            <a:prstGeom prst="line">
              <a:avLst/>
            </a:prstGeom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8496360" y="5656320"/>
              <a:ext cx="12600" cy="1440"/>
            </a:xfrm>
            <a:prstGeom prst="line">
              <a:avLst/>
            </a:prstGeom>
            <a:ln w="1908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8547120" y="5656320"/>
              <a:ext cx="12600" cy="1440"/>
            </a:xfrm>
            <a:prstGeom prst="line">
              <a:avLst/>
            </a:prstGeom>
            <a:ln w="1908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8597880" y="5656320"/>
              <a:ext cx="12600" cy="1440"/>
            </a:xfrm>
            <a:prstGeom prst="line">
              <a:avLst/>
            </a:prstGeom>
            <a:ln w="1908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8636040" y="5656320"/>
              <a:ext cx="12600" cy="1440"/>
            </a:xfrm>
            <a:prstGeom prst="line">
              <a:avLst/>
            </a:prstGeom>
            <a:ln w="1908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8674200" y="5668920"/>
              <a:ext cx="12600" cy="1800"/>
            </a:xfrm>
            <a:prstGeom prst="line">
              <a:avLst/>
            </a:prstGeom>
            <a:ln w="1908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8724960" y="5681520"/>
              <a:ext cx="12600" cy="1800"/>
            </a:xfrm>
            <a:prstGeom prst="line">
              <a:avLst/>
            </a:prstGeom>
            <a:ln w="1908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8508960" y="5694480"/>
              <a:ext cx="126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8559720" y="5694480"/>
              <a:ext cx="1296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8597880" y="5707080"/>
              <a:ext cx="126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8648640" y="5707080"/>
              <a:ext cx="126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8686800" y="5719680"/>
              <a:ext cx="126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8724960" y="5732640"/>
              <a:ext cx="126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6108840" y="4272120"/>
              <a:ext cx="2387520" cy="1015920"/>
            </a:xfrm>
            <a:custGeom>
              <a:avLst/>
              <a:gdLst/>
              <a:ahLst/>
              <a:rect l="l" t="t" r="r" b="b"/>
              <a:pathLst>
                <a:path w="1504" h="640">
                  <a:moveTo>
                    <a:pt x="0" y="272"/>
                  </a:moveTo>
                  <a:lnTo>
                    <a:pt x="0" y="264"/>
                  </a:lnTo>
                  <a:lnTo>
                    <a:pt x="0" y="248"/>
                  </a:lnTo>
                  <a:lnTo>
                    <a:pt x="0" y="240"/>
                  </a:lnTo>
                  <a:lnTo>
                    <a:pt x="8" y="224"/>
                  </a:lnTo>
                  <a:lnTo>
                    <a:pt x="8" y="208"/>
                  </a:lnTo>
                  <a:lnTo>
                    <a:pt x="8" y="200"/>
                  </a:lnTo>
                  <a:lnTo>
                    <a:pt x="8" y="184"/>
                  </a:lnTo>
                  <a:lnTo>
                    <a:pt x="8" y="168"/>
                  </a:lnTo>
                  <a:lnTo>
                    <a:pt x="8" y="152"/>
                  </a:lnTo>
                  <a:lnTo>
                    <a:pt x="8" y="144"/>
                  </a:lnTo>
                  <a:lnTo>
                    <a:pt x="8" y="128"/>
                  </a:lnTo>
                  <a:lnTo>
                    <a:pt x="8" y="112"/>
                  </a:lnTo>
                  <a:lnTo>
                    <a:pt x="16" y="104"/>
                  </a:lnTo>
                  <a:lnTo>
                    <a:pt x="16" y="88"/>
                  </a:lnTo>
                  <a:lnTo>
                    <a:pt x="16" y="80"/>
                  </a:lnTo>
                  <a:lnTo>
                    <a:pt x="16" y="72"/>
                  </a:lnTo>
                  <a:lnTo>
                    <a:pt x="16" y="64"/>
                  </a:lnTo>
                  <a:lnTo>
                    <a:pt x="16" y="56"/>
                  </a:lnTo>
                  <a:lnTo>
                    <a:pt x="24" y="48"/>
                  </a:lnTo>
                  <a:lnTo>
                    <a:pt x="24" y="40"/>
                  </a:lnTo>
                  <a:lnTo>
                    <a:pt x="24" y="32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40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64" y="8"/>
                  </a:lnTo>
                  <a:lnTo>
                    <a:pt x="72" y="8"/>
                  </a:lnTo>
                  <a:lnTo>
                    <a:pt x="80" y="16"/>
                  </a:lnTo>
                  <a:lnTo>
                    <a:pt x="88" y="16"/>
                  </a:lnTo>
                  <a:lnTo>
                    <a:pt x="96" y="16"/>
                  </a:lnTo>
                  <a:lnTo>
                    <a:pt x="104" y="24"/>
                  </a:lnTo>
                  <a:lnTo>
                    <a:pt x="112" y="32"/>
                  </a:lnTo>
                  <a:lnTo>
                    <a:pt x="120" y="32"/>
                  </a:lnTo>
                  <a:lnTo>
                    <a:pt x="128" y="40"/>
                  </a:lnTo>
                  <a:lnTo>
                    <a:pt x="136" y="40"/>
                  </a:lnTo>
                  <a:lnTo>
                    <a:pt x="144" y="40"/>
                  </a:lnTo>
                  <a:lnTo>
                    <a:pt x="152" y="48"/>
                  </a:lnTo>
                  <a:lnTo>
                    <a:pt x="160" y="48"/>
                  </a:lnTo>
                  <a:lnTo>
                    <a:pt x="160" y="56"/>
                  </a:lnTo>
                  <a:lnTo>
                    <a:pt x="168" y="56"/>
                  </a:lnTo>
                  <a:lnTo>
                    <a:pt x="176" y="56"/>
                  </a:lnTo>
                  <a:lnTo>
                    <a:pt x="176" y="64"/>
                  </a:lnTo>
                  <a:lnTo>
                    <a:pt x="184" y="72"/>
                  </a:lnTo>
                  <a:lnTo>
                    <a:pt x="192" y="80"/>
                  </a:lnTo>
                  <a:lnTo>
                    <a:pt x="208" y="88"/>
                  </a:lnTo>
                  <a:lnTo>
                    <a:pt x="216" y="96"/>
                  </a:lnTo>
                  <a:lnTo>
                    <a:pt x="232" y="104"/>
                  </a:lnTo>
                  <a:lnTo>
                    <a:pt x="240" y="112"/>
                  </a:lnTo>
                  <a:lnTo>
                    <a:pt x="256" y="128"/>
                  </a:lnTo>
                  <a:lnTo>
                    <a:pt x="272" y="136"/>
                  </a:lnTo>
                  <a:lnTo>
                    <a:pt x="280" y="144"/>
                  </a:lnTo>
                  <a:lnTo>
                    <a:pt x="296" y="152"/>
                  </a:lnTo>
                  <a:lnTo>
                    <a:pt x="304" y="160"/>
                  </a:lnTo>
                  <a:lnTo>
                    <a:pt x="320" y="168"/>
                  </a:lnTo>
                  <a:lnTo>
                    <a:pt x="328" y="176"/>
                  </a:lnTo>
                  <a:lnTo>
                    <a:pt x="336" y="184"/>
                  </a:lnTo>
                  <a:lnTo>
                    <a:pt x="336" y="192"/>
                  </a:lnTo>
                  <a:lnTo>
                    <a:pt x="344" y="192"/>
                  </a:lnTo>
                  <a:lnTo>
                    <a:pt x="352" y="192"/>
                  </a:lnTo>
                  <a:lnTo>
                    <a:pt x="352" y="200"/>
                  </a:lnTo>
                  <a:lnTo>
                    <a:pt x="360" y="208"/>
                  </a:lnTo>
                  <a:lnTo>
                    <a:pt x="368" y="208"/>
                  </a:lnTo>
                  <a:lnTo>
                    <a:pt x="384" y="216"/>
                  </a:lnTo>
                  <a:lnTo>
                    <a:pt x="392" y="224"/>
                  </a:lnTo>
                  <a:lnTo>
                    <a:pt x="400" y="232"/>
                  </a:lnTo>
                  <a:lnTo>
                    <a:pt x="416" y="240"/>
                  </a:lnTo>
                  <a:lnTo>
                    <a:pt x="432" y="256"/>
                  </a:lnTo>
                  <a:lnTo>
                    <a:pt x="440" y="264"/>
                  </a:lnTo>
                  <a:lnTo>
                    <a:pt x="456" y="272"/>
                  </a:lnTo>
                  <a:lnTo>
                    <a:pt x="464" y="280"/>
                  </a:lnTo>
                  <a:lnTo>
                    <a:pt x="472" y="288"/>
                  </a:lnTo>
                  <a:lnTo>
                    <a:pt x="488" y="296"/>
                  </a:lnTo>
                  <a:lnTo>
                    <a:pt x="496" y="296"/>
                  </a:lnTo>
                  <a:lnTo>
                    <a:pt x="504" y="304"/>
                  </a:lnTo>
                  <a:lnTo>
                    <a:pt x="504" y="312"/>
                  </a:lnTo>
                  <a:lnTo>
                    <a:pt x="512" y="312"/>
                  </a:lnTo>
                  <a:lnTo>
                    <a:pt x="520" y="320"/>
                  </a:lnTo>
                  <a:lnTo>
                    <a:pt x="528" y="320"/>
                  </a:lnTo>
                  <a:lnTo>
                    <a:pt x="536" y="320"/>
                  </a:lnTo>
                  <a:lnTo>
                    <a:pt x="544" y="328"/>
                  </a:lnTo>
                  <a:lnTo>
                    <a:pt x="552" y="336"/>
                  </a:lnTo>
                  <a:lnTo>
                    <a:pt x="568" y="336"/>
                  </a:lnTo>
                  <a:lnTo>
                    <a:pt x="576" y="344"/>
                  </a:lnTo>
                  <a:lnTo>
                    <a:pt x="592" y="352"/>
                  </a:lnTo>
                  <a:lnTo>
                    <a:pt x="608" y="360"/>
                  </a:lnTo>
                  <a:lnTo>
                    <a:pt x="624" y="368"/>
                  </a:lnTo>
                  <a:lnTo>
                    <a:pt x="640" y="376"/>
                  </a:lnTo>
                  <a:lnTo>
                    <a:pt x="648" y="384"/>
                  </a:lnTo>
                  <a:lnTo>
                    <a:pt x="664" y="392"/>
                  </a:lnTo>
                  <a:lnTo>
                    <a:pt x="680" y="400"/>
                  </a:lnTo>
                  <a:lnTo>
                    <a:pt x="696" y="408"/>
                  </a:lnTo>
                  <a:lnTo>
                    <a:pt x="712" y="408"/>
                  </a:lnTo>
                  <a:lnTo>
                    <a:pt x="728" y="416"/>
                  </a:lnTo>
                  <a:lnTo>
                    <a:pt x="744" y="424"/>
                  </a:lnTo>
                  <a:lnTo>
                    <a:pt x="760" y="432"/>
                  </a:lnTo>
                  <a:lnTo>
                    <a:pt x="776" y="440"/>
                  </a:lnTo>
                  <a:lnTo>
                    <a:pt x="792" y="440"/>
                  </a:lnTo>
                  <a:lnTo>
                    <a:pt x="808" y="448"/>
                  </a:lnTo>
                  <a:lnTo>
                    <a:pt x="832" y="456"/>
                  </a:lnTo>
                  <a:lnTo>
                    <a:pt x="848" y="464"/>
                  </a:lnTo>
                  <a:lnTo>
                    <a:pt x="864" y="472"/>
                  </a:lnTo>
                  <a:lnTo>
                    <a:pt x="888" y="480"/>
                  </a:lnTo>
                  <a:lnTo>
                    <a:pt x="912" y="488"/>
                  </a:lnTo>
                  <a:lnTo>
                    <a:pt x="928" y="488"/>
                  </a:lnTo>
                  <a:lnTo>
                    <a:pt x="952" y="496"/>
                  </a:lnTo>
                  <a:lnTo>
                    <a:pt x="968" y="504"/>
                  </a:lnTo>
                  <a:lnTo>
                    <a:pt x="992" y="512"/>
                  </a:lnTo>
                  <a:lnTo>
                    <a:pt x="1008" y="520"/>
                  </a:lnTo>
                  <a:lnTo>
                    <a:pt x="1032" y="528"/>
                  </a:lnTo>
                  <a:lnTo>
                    <a:pt x="1048" y="528"/>
                  </a:lnTo>
                  <a:lnTo>
                    <a:pt x="1072" y="536"/>
                  </a:lnTo>
                  <a:lnTo>
                    <a:pt x="1088" y="544"/>
                  </a:lnTo>
                  <a:lnTo>
                    <a:pt x="1104" y="544"/>
                  </a:lnTo>
                  <a:lnTo>
                    <a:pt x="1120" y="552"/>
                  </a:lnTo>
                  <a:lnTo>
                    <a:pt x="1136" y="560"/>
                  </a:lnTo>
                  <a:lnTo>
                    <a:pt x="1160" y="560"/>
                  </a:lnTo>
                  <a:lnTo>
                    <a:pt x="1176" y="568"/>
                  </a:lnTo>
                  <a:lnTo>
                    <a:pt x="1200" y="576"/>
                  </a:lnTo>
                  <a:lnTo>
                    <a:pt x="1224" y="576"/>
                  </a:lnTo>
                  <a:lnTo>
                    <a:pt x="1248" y="584"/>
                  </a:lnTo>
                  <a:lnTo>
                    <a:pt x="1272" y="592"/>
                  </a:lnTo>
                  <a:lnTo>
                    <a:pt x="1304" y="600"/>
                  </a:lnTo>
                  <a:lnTo>
                    <a:pt x="1328" y="600"/>
                  </a:lnTo>
                  <a:lnTo>
                    <a:pt x="1352" y="608"/>
                  </a:lnTo>
                  <a:lnTo>
                    <a:pt x="1376" y="616"/>
                  </a:lnTo>
                  <a:lnTo>
                    <a:pt x="1400" y="616"/>
                  </a:lnTo>
                  <a:lnTo>
                    <a:pt x="1424" y="624"/>
                  </a:lnTo>
                  <a:lnTo>
                    <a:pt x="1440" y="624"/>
                  </a:lnTo>
                  <a:lnTo>
                    <a:pt x="1456" y="632"/>
                  </a:lnTo>
                  <a:lnTo>
                    <a:pt x="1472" y="632"/>
                  </a:lnTo>
                  <a:lnTo>
                    <a:pt x="1488" y="640"/>
                  </a:lnTo>
                  <a:lnTo>
                    <a:pt x="1496" y="640"/>
                  </a:lnTo>
                  <a:lnTo>
                    <a:pt x="1504" y="640"/>
                  </a:lnTo>
                </a:path>
              </a:pathLst>
            </a:custGeom>
            <a:noFill/>
            <a:ln w="19080">
              <a:solidFill>
                <a:srgbClr val="7ffd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6324480" y="4894200"/>
              <a:ext cx="2184480" cy="393840"/>
            </a:xfrm>
            <a:custGeom>
              <a:avLst/>
              <a:gdLst/>
              <a:ahLst/>
              <a:rect l="l" t="t" r="r" b="b"/>
              <a:pathLst>
                <a:path w="1376" h="248">
                  <a:moveTo>
                    <a:pt x="0" y="208"/>
                  </a:moveTo>
                  <a:lnTo>
                    <a:pt x="0" y="200"/>
                  </a:lnTo>
                  <a:lnTo>
                    <a:pt x="8" y="192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16" y="168"/>
                  </a:lnTo>
                  <a:lnTo>
                    <a:pt x="24" y="168"/>
                  </a:lnTo>
                  <a:lnTo>
                    <a:pt x="24" y="160"/>
                  </a:lnTo>
                  <a:lnTo>
                    <a:pt x="24" y="152"/>
                  </a:lnTo>
                  <a:lnTo>
                    <a:pt x="32" y="144"/>
                  </a:lnTo>
                  <a:lnTo>
                    <a:pt x="40" y="136"/>
                  </a:lnTo>
                  <a:lnTo>
                    <a:pt x="40" y="128"/>
                  </a:lnTo>
                  <a:lnTo>
                    <a:pt x="48" y="128"/>
                  </a:lnTo>
                  <a:lnTo>
                    <a:pt x="48" y="120"/>
                  </a:lnTo>
                  <a:lnTo>
                    <a:pt x="56" y="112"/>
                  </a:lnTo>
                  <a:lnTo>
                    <a:pt x="64" y="104"/>
                  </a:lnTo>
                  <a:lnTo>
                    <a:pt x="72" y="96"/>
                  </a:lnTo>
                  <a:lnTo>
                    <a:pt x="80" y="88"/>
                  </a:lnTo>
                  <a:lnTo>
                    <a:pt x="88" y="88"/>
                  </a:lnTo>
                  <a:lnTo>
                    <a:pt x="88" y="80"/>
                  </a:lnTo>
                  <a:lnTo>
                    <a:pt x="96" y="72"/>
                  </a:lnTo>
                  <a:lnTo>
                    <a:pt x="104" y="64"/>
                  </a:lnTo>
                  <a:lnTo>
                    <a:pt x="112" y="64"/>
                  </a:lnTo>
                  <a:lnTo>
                    <a:pt x="120" y="56"/>
                  </a:lnTo>
                  <a:lnTo>
                    <a:pt x="128" y="48"/>
                  </a:lnTo>
                  <a:lnTo>
                    <a:pt x="136" y="48"/>
                  </a:lnTo>
                  <a:lnTo>
                    <a:pt x="144" y="40"/>
                  </a:lnTo>
                  <a:lnTo>
                    <a:pt x="152" y="32"/>
                  </a:lnTo>
                  <a:lnTo>
                    <a:pt x="160" y="32"/>
                  </a:lnTo>
                  <a:lnTo>
                    <a:pt x="176" y="24"/>
                  </a:lnTo>
                  <a:lnTo>
                    <a:pt x="184" y="24"/>
                  </a:lnTo>
                  <a:lnTo>
                    <a:pt x="192" y="16"/>
                  </a:lnTo>
                  <a:lnTo>
                    <a:pt x="208" y="16"/>
                  </a:lnTo>
                  <a:lnTo>
                    <a:pt x="224" y="16"/>
                  </a:lnTo>
                  <a:lnTo>
                    <a:pt x="232" y="16"/>
                  </a:lnTo>
                  <a:lnTo>
                    <a:pt x="248" y="8"/>
                  </a:lnTo>
                  <a:lnTo>
                    <a:pt x="256" y="8"/>
                  </a:lnTo>
                  <a:lnTo>
                    <a:pt x="264" y="8"/>
                  </a:lnTo>
                  <a:lnTo>
                    <a:pt x="272" y="8"/>
                  </a:lnTo>
                  <a:lnTo>
                    <a:pt x="280" y="8"/>
                  </a:lnTo>
                  <a:lnTo>
                    <a:pt x="288" y="0"/>
                  </a:lnTo>
                  <a:lnTo>
                    <a:pt x="296" y="0"/>
                  </a:lnTo>
                  <a:lnTo>
                    <a:pt x="304" y="0"/>
                  </a:lnTo>
                  <a:lnTo>
                    <a:pt x="312" y="0"/>
                  </a:lnTo>
                  <a:lnTo>
                    <a:pt x="320" y="0"/>
                  </a:lnTo>
                  <a:lnTo>
                    <a:pt x="336" y="0"/>
                  </a:lnTo>
                  <a:lnTo>
                    <a:pt x="344" y="0"/>
                  </a:lnTo>
                  <a:lnTo>
                    <a:pt x="360" y="0"/>
                  </a:lnTo>
                  <a:lnTo>
                    <a:pt x="368" y="0"/>
                  </a:lnTo>
                  <a:lnTo>
                    <a:pt x="384" y="8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48" y="16"/>
                  </a:lnTo>
                  <a:lnTo>
                    <a:pt x="472" y="16"/>
                  </a:lnTo>
                  <a:lnTo>
                    <a:pt x="496" y="24"/>
                  </a:lnTo>
                  <a:lnTo>
                    <a:pt x="520" y="24"/>
                  </a:lnTo>
                  <a:lnTo>
                    <a:pt x="536" y="32"/>
                  </a:lnTo>
                  <a:lnTo>
                    <a:pt x="552" y="32"/>
                  </a:lnTo>
                  <a:lnTo>
                    <a:pt x="576" y="40"/>
                  </a:lnTo>
                  <a:lnTo>
                    <a:pt x="592" y="40"/>
                  </a:lnTo>
                  <a:lnTo>
                    <a:pt x="608" y="40"/>
                  </a:lnTo>
                  <a:lnTo>
                    <a:pt x="624" y="48"/>
                  </a:lnTo>
                  <a:lnTo>
                    <a:pt x="640" y="48"/>
                  </a:lnTo>
                  <a:lnTo>
                    <a:pt x="656" y="56"/>
                  </a:lnTo>
                  <a:lnTo>
                    <a:pt x="672" y="56"/>
                  </a:lnTo>
                  <a:lnTo>
                    <a:pt x="688" y="64"/>
                  </a:lnTo>
                  <a:lnTo>
                    <a:pt x="696" y="64"/>
                  </a:lnTo>
                  <a:lnTo>
                    <a:pt x="712" y="72"/>
                  </a:lnTo>
                  <a:lnTo>
                    <a:pt x="728" y="72"/>
                  </a:lnTo>
                  <a:lnTo>
                    <a:pt x="744" y="80"/>
                  </a:lnTo>
                  <a:lnTo>
                    <a:pt x="760" y="88"/>
                  </a:lnTo>
                  <a:lnTo>
                    <a:pt x="784" y="88"/>
                  </a:lnTo>
                  <a:lnTo>
                    <a:pt x="800" y="96"/>
                  </a:lnTo>
                  <a:lnTo>
                    <a:pt x="824" y="104"/>
                  </a:lnTo>
                  <a:lnTo>
                    <a:pt x="840" y="112"/>
                  </a:lnTo>
                  <a:lnTo>
                    <a:pt x="872" y="120"/>
                  </a:lnTo>
                  <a:lnTo>
                    <a:pt x="896" y="128"/>
                  </a:lnTo>
                  <a:lnTo>
                    <a:pt x="920" y="136"/>
                  </a:lnTo>
                  <a:lnTo>
                    <a:pt x="952" y="144"/>
                  </a:lnTo>
                  <a:lnTo>
                    <a:pt x="984" y="152"/>
                  </a:lnTo>
                  <a:lnTo>
                    <a:pt x="1008" y="160"/>
                  </a:lnTo>
                  <a:lnTo>
                    <a:pt x="1040" y="168"/>
                  </a:lnTo>
                  <a:lnTo>
                    <a:pt x="1072" y="176"/>
                  </a:lnTo>
                  <a:lnTo>
                    <a:pt x="1096" y="184"/>
                  </a:lnTo>
                  <a:lnTo>
                    <a:pt x="1120" y="192"/>
                  </a:lnTo>
                  <a:lnTo>
                    <a:pt x="1144" y="200"/>
                  </a:lnTo>
                  <a:lnTo>
                    <a:pt x="1168" y="200"/>
                  </a:lnTo>
                  <a:lnTo>
                    <a:pt x="1192" y="208"/>
                  </a:lnTo>
                  <a:lnTo>
                    <a:pt x="1208" y="216"/>
                  </a:lnTo>
                  <a:lnTo>
                    <a:pt x="1224" y="216"/>
                  </a:lnTo>
                  <a:lnTo>
                    <a:pt x="1232" y="224"/>
                  </a:lnTo>
                  <a:lnTo>
                    <a:pt x="1240" y="224"/>
                  </a:lnTo>
                  <a:lnTo>
                    <a:pt x="1248" y="224"/>
                  </a:lnTo>
                  <a:lnTo>
                    <a:pt x="1256" y="224"/>
                  </a:lnTo>
                  <a:lnTo>
                    <a:pt x="1264" y="224"/>
                  </a:lnTo>
                  <a:lnTo>
                    <a:pt x="1272" y="232"/>
                  </a:lnTo>
                  <a:lnTo>
                    <a:pt x="1280" y="232"/>
                  </a:lnTo>
                  <a:lnTo>
                    <a:pt x="1288" y="232"/>
                  </a:lnTo>
                  <a:lnTo>
                    <a:pt x="1296" y="232"/>
                  </a:lnTo>
                  <a:lnTo>
                    <a:pt x="1312" y="240"/>
                  </a:lnTo>
                  <a:lnTo>
                    <a:pt x="1320" y="240"/>
                  </a:lnTo>
                  <a:lnTo>
                    <a:pt x="1328" y="240"/>
                  </a:lnTo>
                  <a:lnTo>
                    <a:pt x="1336" y="240"/>
                  </a:lnTo>
                  <a:lnTo>
                    <a:pt x="1344" y="240"/>
                  </a:lnTo>
                  <a:lnTo>
                    <a:pt x="1352" y="248"/>
                  </a:lnTo>
                  <a:lnTo>
                    <a:pt x="1360" y="248"/>
                  </a:lnTo>
                  <a:lnTo>
                    <a:pt x="1368" y="248"/>
                  </a:lnTo>
                  <a:lnTo>
                    <a:pt x="1376" y="248"/>
                  </a:lnTo>
                </a:path>
              </a:pathLst>
            </a:custGeom>
            <a:noFill/>
            <a:ln w="19080">
              <a:solidFill>
                <a:srgbClr val="27fc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7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4114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ebuchet MS"/>
              </a:rPr>
              <a:t>Benzoate Injection</a:t>
            </a:r>
            <a:endParaRPr b="1" lang="en-US" sz="28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273" name=""/>
          <p:cNvSpPr/>
          <p:nvPr/>
        </p:nvSpPr>
        <p:spPr>
          <a:xfrm>
            <a:off x="4958640" y="6461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Time (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 rot="16216800">
            <a:off x="-372600" y="3292560"/>
            <a:ext cx="477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Normalized Concentration (ml</a:t>
            </a:r>
            <a:r>
              <a:rPr b="0" lang="en-US" sz="2000" spc="-1" strike="noStrike" baseline="30000">
                <a:solidFill>
                  <a:srgbClr val="ffff66"/>
                </a:solidFill>
                <a:latin typeface="Trebuchet MS"/>
              </a:rPr>
              <a:t>–1</a:t>
            </a: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75" name=""/>
          <p:cNvGrpSpPr/>
          <p:nvPr/>
        </p:nvGrpSpPr>
        <p:grpSpPr>
          <a:xfrm>
            <a:off x="255600" y="5510160"/>
            <a:ext cx="1479240" cy="1066680"/>
            <a:chOff x="255600" y="5510160"/>
            <a:chExt cx="1479240" cy="1066680"/>
          </a:xfrm>
        </p:grpSpPr>
        <p:sp>
          <p:nvSpPr>
            <p:cNvPr id="4276" name=""/>
            <p:cNvSpPr/>
            <p:nvPr/>
          </p:nvSpPr>
          <p:spPr>
            <a:xfrm>
              <a:off x="255600" y="5510160"/>
              <a:ext cx="1396800" cy="10666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509400" y="5599080"/>
              <a:ext cx="63360" cy="63360"/>
            </a:xfrm>
            <a:prstGeom prst="ellipse">
              <a:avLst/>
            </a:prstGeom>
            <a:solidFill>
              <a:srgbClr val="d83903"/>
            </a:solidFill>
            <a:ln w="19080">
              <a:solidFill>
                <a:srgbClr val="d83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636840" y="558000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83903"/>
                  </a:solidFill>
                  <a:latin typeface="Trebuchet MS"/>
                </a:rPr>
                <a:t>Erythrocyt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509400" y="5802120"/>
              <a:ext cx="63360" cy="63720"/>
            </a:xfrm>
            <a:prstGeom prst="ellipse">
              <a:avLst/>
            </a:prstGeom>
            <a:solidFill>
              <a:srgbClr val="fcf305"/>
            </a:solidFill>
            <a:ln w="19080">
              <a:solidFill>
                <a:srgbClr val="fcf3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714600" y="5783040"/>
              <a:ext cx="64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f305"/>
                  </a:solidFill>
                  <a:latin typeface="Trebuchet MS"/>
                </a:rPr>
                <a:t>Albumi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509400" y="6005520"/>
              <a:ext cx="63360" cy="63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695520" y="5986440"/>
              <a:ext cx="64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Sucros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509400" y="6208560"/>
              <a:ext cx="63360" cy="63720"/>
            </a:xfrm>
            <a:prstGeom prst="ellipse">
              <a:avLst/>
            </a:prstGeom>
            <a:solidFill>
              <a:srgbClr val="27fc20"/>
            </a:solidFill>
            <a:ln w="190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685080" y="618948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7fc20"/>
                  </a:solidFill>
                  <a:latin typeface="Trebuchet MS"/>
                </a:rPr>
                <a:t>Hippura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496800" y="6399000"/>
              <a:ext cx="88920" cy="88920"/>
            </a:xfrm>
            <a:prstGeom prst="rect">
              <a:avLst/>
            </a:prstGeom>
            <a:solidFill>
              <a:srgbClr val="7f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496800" y="6399000"/>
              <a:ext cx="75960" cy="76320"/>
            </a:xfrm>
            <a:prstGeom prst="rect">
              <a:avLst/>
            </a:prstGeom>
            <a:noFill/>
            <a:ln w="19080">
              <a:solidFill>
                <a:srgbClr val="7ff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706320" y="63928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ffdff"/>
                  </a:solidFill>
                  <a:latin typeface="Trebuchet MS"/>
                </a:rPr>
                <a:t>Benzoa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8" name="" descr=""/>
          <p:cNvPicPr/>
          <p:nvPr/>
        </p:nvPicPr>
        <p:blipFill>
          <a:blip r:embed="rId1"/>
          <a:stretch/>
        </p:blipFill>
        <p:spPr>
          <a:xfrm>
            <a:off x="-304920" y="1523880"/>
            <a:ext cx="4664160" cy="4876920"/>
          </a:xfrm>
          <a:prstGeom prst="rect">
            <a:avLst/>
          </a:prstGeom>
          <a:ln w="0">
            <a:noFill/>
          </a:ln>
        </p:spPr>
      </p:pic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417600" y="342720"/>
            <a:ext cx="364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1 Intracellular Benzoate Pool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grpSp>
        <p:nvGrpSpPr>
          <p:cNvPr id="4290" name=""/>
          <p:cNvGrpSpPr/>
          <p:nvPr/>
        </p:nvGrpSpPr>
        <p:grpSpPr>
          <a:xfrm>
            <a:off x="4560480" y="76320"/>
            <a:ext cx="4676040" cy="6723360"/>
            <a:chOff x="4560480" y="76320"/>
            <a:chExt cx="4676040" cy="6723360"/>
          </a:xfrm>
        </p:grpSpPr>
        <p:sp>
          <p:nvSpPr>
            <p:cNvPr id="4291" name=""/>
            <p:cNvSpPr/>
            <p:nvPr/>
          </p:nvSpPr>
          <p:spPr>
            <a:xfrm>
              <a:off x="6489000" y="640080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rebuchet MS"/>
                </a:rPr>
                <a:t>Time (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 rot="16216800">
              <a:off x="2382840" y="3391200"/>
              <a:ext cx="47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rebuchet MS"/>
                </a:rPr>
                <a:t>Normalized Concentration (ml</a:t>
              </a:r>
              <a:r>
                <a:rPr b="0" lang="en-US" sz="2000" spc="-1" strike="noStrike" baseline="30000">
                  <a:solidFill>
                    <a:srgbClr val="ffff66"/>
                  </a:solidFill>
                  <a:latin typeface="Trebuchet MS"/>
                </a:rPr>
                <a:t>–1</a:t>
              </a:r>
              <a:r>
                <a:rPr b="0" lang="en-US" sz="2000" spc="-1" strike="noStrike">
                  <a:solidFill>
                    <a:srgbClr val="ffff66"/>
                  </a:solidFill>
                  <a:latin typeface="Trebuchet MS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93" name=""/>
            <p:cNvGrpSpPr/>
            <p:nvPr/>
          </p:nvGrpSpPr>
          <p:grpSpPr>
            <a:xfrm>
              <a:off x="5055120" y="3768840"/>
              <a:ext cx="4005000" cy="2645640"/>
              <a:chOff x="5055120" y="3768840"/>
              <a:chExt cx="4005000" cy="2645640"/>
            </a:xfrm>
          </p:grpSpPr>
          <p:sp>
            <p:nvSpPr>
              <p:cNvPr id="4294" name=""/>
              <p:cNvSpPr/>
              <p:nvPr/>
            </p:nvSpPr>
            <p:spPr>
              <a:xfrm>
                <a:off x="5840640" y="4212360"/>
                <a:ext cx="2419200" cy="1235880"/>
              </a:xfrm>
              <a:custGeom>
                <a:avLst/>
                <a:gdLst/>
                <a:ahLst/>
                <a:rect l="l" t="t" r="r" b="b"/>
                <a:pathLst>
                  <a:path w="1110" h="537">
                    <a:moveTo>
                      <a:pt x="1110" y="537"/>
                    </a:moveTo>
                    <a:cubicBezTo>
                      <a:pt x="1045" y="513"/>
                      <a:pt x="980" y="490"/>
                      <a:pt x="926" y="465"/>
                    </a:cubicBezTo>
                    <a:cubicBezTo>
                      <a:pt x="871" y="439"/>
                      <a:pt x="833" y="416"/>
                      <a:pt x="780" y="385"/>
                    </a:cubicBezTo>
                    <a:cubicBezTo>
                      <a:pt x="726" y="353"/>
                      <a:pt x="665" y="313"/>
                      <a:pt x="606" y="275"/>
                    </a:cubicBezTo>
                    <a:cubicBezTo>
                      <a:pt x="546" y="236"/>
                      <a:pt x="479" y="187"/>
                      <a:pt x="424" y="151"/>
                    </a:cubicBezTo>
                    <a:cubicBezTo>
                      <a:pt x="368" y="114"/>
                      <a:pt x="314" y="76"/>
                      <a:pt x="270" y="53"/>
                    </a:cubicBezTo>
                    <a:cubicBezTo>
                      <a:pt x="225" y="29"/>
                      <a:pt x="185" y="14"/>
                      <a:pt x="154" y="7"/>
                    </a:cubicBezTo>
                    <a:cubicBezTo>
                      <a:pt x="122" y="0"/>
                      <a:pt x="100" y="4"/>
                      <a:pt x="82" y="11"/>
                    </a:cubicBezTo>
                    <a:cubicBezTo>
                      <a:pt x="63" y="17"/>
                      <a:pt x="53" y="34"/>
                      <a:pt x="44" y="49"/>
                    </a:cubicBezTo>
                    <a:cubicBezTo>
                      <a:pt x="34" y="63"/>
                      <a:pt x="29" y="77"/>
                      <a:pt x="24" y="97"/>
                    </a:cubicBezTo>
                    <a:cubicBezTo>
                      <a:pt x="18" y="116"/>
                      <a:pt x="12" y="144"/>
                      <a:pt x="8" y="167"/>
                    </a:cubicBezTo>
                    <a:cubicBezTo>
                      <a:pt x="4" y="190"/>
                      <a:pt x="2" y="212"/>
                      <a:pt x="0" y="235"/>
                    </a:cubicBezTo>
                  </a:path>
                </a:pathLst>
              </a:custGeom>
              <a:noFill/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5778720" y="3836520"/>
                <a:ext cx="1920960" cy="2194200"/>
              </a:xfrm>
              <a:custGeom>
                <a:avLst/>
                <a:gdLst/>
                <a:ahLst/>
                <a:rect l="l" t="t" r="r" b="b"/>
                <a:pathLst>
                  <a:path w="882" h="953">
                    <a:moveTo>
                      <a:pt x="882" y="953"/>
                    </a:moveTo>
                    <a:cubicBezTo>
                      <a:pt x="832" y="908"/>
                      <a:pt x="783" y="863"/>
                      <a:pt x="719" y="807"/>
                    </a:cubicBezTo>
                    <a:cubicBezTo>
                      <a:pt x="654" y="750"/>
                      <a:pt x="583" y="690"/>
                      <a:pt x="495" y="615"/>
                    </a:cubicBezTo>
                    <a:cubicBezTo>
                      <a:pt x="406" y="539"/>
                      <a:pt x="253" y="412"/>
                      <a:pt x="186" y="351"/>
                    </a:cubicBezTo>
                    <a:cubicBezTo>
                      <a:pt x="118" y="289"/>
                      <a:pt x="112" y="276"/>
                      <a:pt x="90" y="244"/>
                    </a:cubicBezTo>
                    <a:cubicBezTo>
                      <a:pt x="67" y="211"/>
                      <a:pt x="61" y="184"/>
                      <a:pt x="52" y="156"/>
                    </a:cubicBezTo>
                    <a:cubicBezTo>
                      <a:pt x="42" y="127"/>
                      <a:pt x="38" y="96"/>
                      <a:pt x="34" y="73"/>
                    </a:cubicBezTo>
                    <a:cubicBezTo>
                      <a:pt x="29" y="49"/>
                      <a:pt x="27" y="23"/>
                      <a:pt x="23" y="17"/>
                    </a:cubicBezTo>
                    <a:cubicBezTo>
                      <a:pt x="18" y="10"/>
                      <a:pt x="7" y="0"/>
                      <a:pt x="4" y="33"/>
                    </a:cubicBezTo>
                    <a:cubicBezTo>
                      <a:pt x="0" y="65"/>
                      <a:pt x="4" y="154"/>
                      <a:pt x="4" y="212"/>
                    </a:cubicBezTo>
                    <a:cubicBezTo>
                      <a:pt x="3" y="269"/>
                      <a:pt x="2" y="323"/>
                      <a:pt x="2" y="377"/>
                    </a:cubicBezTo>
                  </a:path>
                </a:pathLst>
              </a:custGeom>
              <a:noFill/>
              <a:ln w="9360">
                <a:solidFill>
                  <a:srgbClr val="66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96" name=""/>
              <p:cNvGrpSpPr/>
              <p:nvPr/>
            </p:nvGrpSpPr>
            <p:grpSpPr>
              <a:xfrm>
                <a:off x="5743800" y="3981600"/>
                <a:ext cx="99720" cy="2055240"/>
                <a:chOff x="5743800" y="3981600"/>
                <a:chExt cx="99720" cy="2055240"/>
              </a:xfrm>
            </p:grpSpPr>
            <p:sp>
              <p:nvSpPr>
                <p:cNvPr id="4297" name=""/>
                <p:cNvSpPr/>
                <p:nvPr/>
              </p:nvSpPr>
              <p:spPr>
                <a:xfrm>
                  <a:off x="5743800" y="5657040"/>
                  <a:ext cx="99720" cy="252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8" name=""/>
                <p:cNvSpPr/>
                <p:nvPr/>
              </p:nvSpPr>
              <p:spPr>
                <a:xfrm>
                  <a:off x="5743800" y="5090400"/>
                  <a:ext cx="99720" cy="252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9" name=""/>
                <p:cNvSpPr/>
                <p:nvPr/>
              </p:nvSpPr>
              <p:spPr>
                <a:xfrm>
                  <a:off x="5743800" y="4547880"/>
                  <a:ext cx="997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0" name=""/>
                <p:cNvSpPr/>
                <p:nvPr/>
              </p:nvSpPr>
              <p:spPr>
                <a:xfrm>
                  <a:off x="5743800" y="3981600"/>
                  <a:ext cx="997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1" name=""/>
                <p:cNvSpPr/>
                <p:nvPr/>
              </p:nvSpPr>
              <p:spPr>
                <a:xfrm>
                  <a:off x="5743800" y="6034320"/>
                  <a:ext cx="58320" cy="252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2" name=""/>
                <p:cNvSpPr/>
                <p:nvPr/>
              </p:nvSpPr>
              <p:spPr>
                <a:xfrm>
                  <a:off x="5743800" y="5949000"/>
                  <a:ext cx="58320" cy="252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3" name=""/>
                <p:cNvSpPr/>
                <p:nvPr/>
              </p:nvSpPr>
              <p:spPr>
                <a:xfrm>
                  <a:off x="5743800" y="5866560"/>
                  <a:ext cx="583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4" name=""/>
                <p:cNvSpPr/>
                <p:nvPr/>
              </p:nvSpPr>
              <p:spPr>
                <a:xfrm>
                  <a:off x="5743800" y="5824800"/>
                  <a:ext cx="58320" cy="252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5" name=""/>
                <p:cNvSpPr/>
                <p:nvPr/>
              </p:nvSpPr>
              <p:spPr>
                <a:xfrm>
                  <a:off x="5743800" y="5783760"/>
                  <a:ext cx="583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6" name=""/>
                <p:cNvSpPr/>
                <p:nvPr/>
              </p:nvSpPr>
              <p:spPr>
                <a:xfrm>
                  <a:off x="5743800" y="5739840"/>
                  <a:ext cx="583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7" name=""/>
                <p:cNvSpPr/>
                <p:nvPr/>
              </p:nvSpPr>
              <p:spPr>
                <a:xfrm>
                  <a:off x="5743800" y="5698800"/>
                  <a:ext cx="583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8" name=""/>
                <p:cNvSpPr/>
                <p:nvPr/>
              </p:nvSpPr>
              <p:spPr>
                <a:xfrm>
                  <a:off x="5743800" y="5677920"/>
                  <a:ext cx="583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9" name=""/>
                <p:cNvSpPr/>
                <p:nvPr/>
              </p:nvSpPr>
              <p:spPr>
                <a:xfrm>
                  <a:off x="5743800" y="5488920"/>
                  <a:ext cx="58320" cy="252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0" name=""/>
                <p:cNvSpPr/>
                <p:nvPr/>
              </p:nvSpPr>
              <p:spPr>
                <a:xfrm>
                  <a:off x="5743800" y="5385600"/>
                  <a:ext cx="583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1" name=""/>
                <p:cNvSpPr/>
                <p:nvPr/>
              </p:nvSpPr>
              <p:spPr>
                <a:xfrm>
                  <a:off x="5743800" y="5320800"/>
                  <a:ext cx="58320" cy="252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2" name=""/>
                <p:cNvSpPr/>
                <p:nvPr/>
              </p:nvSpPr>
              <p:spPr>
                <a:xfrm>
                  <a:off x="5743800" y="5258520"/>
                  <a:ext cx="58320" cy="252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3" name=""/>
                <p:cNvSpPr/>
                <p:nvPr/>
              </p:nvSpPr>
              <p:spPr>
                <a:xfrm>
                  <a:off x="5743800" y="5217480"/>
                  <a:ext cx="583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4" name=""/>
                <p:cNvSpPr/>
                <p:nvPr/>
              </p:nvSpPr>
              <p:spPr>
                <a:xfrm>
                  <a:off x="5743800" y="5176080"/>
                  <a:ext cx="583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5" name=""/>
                <p:cNvSpPr/>
                <p:nvPr/>
              </p:nvSpPr>
              <p:spPr>
                <a:xfrm>
                  <a:off x="5743800" y="5155200"/>
                  <a:ext cx="583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6" name=""/>
                <p:cNvSpPr/>
                <p:nvPr/>
              </p:nvSpPr>
              <p:spPr>
                <a:xfrm>
                  <a:off x="5743800" y="5134320"/>
                  <a:ext cx="58320" cy="252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7" name=""/>
                <p:cNvSpPr/>
                <p:nvPr/>
              </p:nvSpPr>
              <p:spPr>
                <a:xfrm>
                  <a:off x="5743800" y="4923000"/>
                  <a:ext cx="583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8" name=""/>
                <p:cNvSpPr/>
                <p:nvPr/>
              </p:nvSpPr>
              <p:spPr>
                <a:xfrm>
                  <a:off x="5743800" y="4840200"/>
                  <a:ext cx="583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9" name=""/>
                <p:cNvSpPr/>
                <p:nvPr/>
              </p:nvSpPr>
              <p:spPr>
                <a:xfrm>
                  <a:off x="5743800" y="4757040"/>
                  <a:ext cx="583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0" name=""/>
                <p:cNvSpPr/>
                <p:nvPr/>
              </p:nvSpPr>
              <p:spPr>
                <a:xfrm>
                  <a:off x="5743800" y="4713120"/>
                  <a:ext cx="58320" cy="252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1" name=""/>
                <p:cNvSpPr/>
                <p:nvPr/>
              </p:nvSpPr>
              <p:spPr>
                <a:xfrm>
                  <a:off x="5743800" y="4672080"/>
                  <a:ext cx="583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2" name=""/>
                <p:cNvSpPr/>
                <p:nvPr/>
              </p:nvSpPr>
              <p:spPr>
                <a:xfrm>
                  <a:off x="5743800" y="4630680"/>
                  <a:ext cx="583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3" name=""/>
                <p:cNvSpPr/>
                <p:nvPr/>
              </p:nvSpPr>
              <p:spPr>
                <a:xfrm>
                  <a:off x="5743800" y="4588920"/>
                  <a:ext cx="58320" cy="252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4" name=""/>
                <p:cNvSpPr/>
                <p:nvPr/>
              </p:nvSpPr>
              <p:spPr>
                <a:xfrm>
                  <a:off x="5743800" y="4568040"/>
                  <a:ext cx="58320" cy="252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5" name=""/>
                <p:cNvSpPr/>
                <p:nvPr/>
              </p:nvSpPr>
              <p:spPr>
                <a:xfrm>
                  <a:off x="5743800" y="4379760"/>
                  <a:ext cx="583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6" name=""/>
                <p:cNvSpPr/>
                <p:nvPr/>
              </p:nvSpPr>
              <p:spPr>
                <a:xfrm>
                  <a:off x="5743800" y="4273560"/>
                  <a:ext cx="583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7" name=""/>
                <p:cNvSpPr/>
                <p:nvPr/>
              </p:nvSpPr>
              <p:spPr>
                <a:xfrm>
                  <a:off x="5743800" y="4211640"/>
                  <a:ext cx="583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8" name=""/>
                <p:cNvSpPr/>
                <p:nvPr/>
              </p:nvSpPr>
              <p:spPr>
                <a:xfrm>
                  <a:off x="5743800" y="4149360"/>
                  <a:ext cx="583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9" name=""/>
                <p:cNvSpPr/>
                <p:nvPr/>
              </p:nvSpPr>
              <p:spPr>
                <a:xfrm>
                  <a:off x="5743800" y="4108320"/>
                  <a:ext cx="583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0" name=""/>
                <p:cNvSpPr/>
                <p:nvPr/>
              </p:nvSpPr>
              <p:spPr>
                <a:xfrm>
                  <a:off x="5743800" y="4064400"/>
                  <a:ext cx="583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1" name=""/>
                <p:cNvSpPr/>
                <p:nvPr/>
              </p:nvSpPr>
              <p:spPr>
                <a:xfrm>
                  <a:off x="5743800" y="4043520"/>
                  <a:ext cx="583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2" name=""/>
                <p:cNvSpPr/>
                <p:nvPr/>
              </p:nvSpPr>
              <p:spPr>
                <a:xfrm>
                  <a:off x="5743800" y="4022640"/>
                  <a:ext cx="58320" cy="252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3" name=""/>
              <p:cNvGrpSpPr/>
              <p:nvPr/>
            </p:nvGrpSpPr>
            <p:grpSpPr>
              <a:xfrm>
                <a:off x="5743800" y="5929560"/>
                <a:ext cx="2777760" cy="105840"/>
                <a:chOff x="5743800" y="5929560"/>
                <a:chExt cx="2777760" cy="105840"/>
              </a:xfrm>
            </p:grpSpPr>
            <p:sp>
              <p:nvSpPr>
                <p:cNvPr id="4334" name=""/>
                <p:cNvSpPr/>
                <p:nvPr/>
              </p:nvSpPr>
              <p:spPr>
                <a:xfrm flipV="1">
                  <a:off x="5743800" y="5929560"/>
                  <a:ext cx="1800" cy="10584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5" name=""/>
                <p:cNvSpPr/>
                <p:nvPr/>
              </p:nvSpPr>
              <p:spPr>
                <a:xfrm flipV="1">
                  <a:off x="6201360" y="5929560"/>
                  <a:ext cx="1800" cy="10584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6" name=""/>
                <p:cNvSpPr/>
                <p:nvPr/>
              </p:nvSpPr>
              <p:spPr>
                <a:xfrm flipV="1">
                  <a:off x="6676200" y="5929560"/>
                  <a:ext cx="2160" cy="10584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7" name=""/>
                <p:cNvSpPr/>
                <p:nvPr/>
              </p:nvSpPr>
              <p:spPr>
                <a:xfrm flipV="1">
                  <a:off x="7131600" y="5929560"/>
                  <a:ext cx="1800" cy="10584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8" name=""/>
                <p:cNvSpPr/>
                <p:nvPr/>
              </p:nvSpPr>
              <p:spPr>
                <a:xfrm flipV="1">
                  <a:off x="7589160" y="5929560"/>
                  <a:ext cx="1800" cy="10584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9" name=""/>
                <p:cNvSpPr/>
                <p:nvPr/>
              </p:nvSpPr>
              <p:spPr>
                <a:xfrm flipV="1">
                  <a:off x="8044920" y="5929560"/>
                  <a:ext cx="1800" cy="10584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0" name=""/>
                <p:cNvSpPr/>
                <p:nvPr/>
              </p:nvSpPr>
              <p:spPr>
                <a:xfrm flipV="1">
                  <a:off x="8519760" y="5929560"/>
                  <a:ext cx="1800" cy="10584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1" name=""/>
                <p:cNvSpPr/>
                <p:nvPr/>
              </p:nvSpPr>
              <p:spPr>
                <a:xfrm flipV="1">
                  <a:off x="5843880" y="5993640"/>
                  <a:ext cx="180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2" name=""/>
                <p:cNvSpPr/>
                <p:nvPr/>
              </p:nvSpPr>
              <p:spPr>
                <a:xfrm flipV="1">
                  <a:off x="5922000" y="5993640"/>
                  <a:ext cx="216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3" name=""/>
                <p:cNvSpPr/>
                <p:nvPr/>
              </p:nvSpPr>
              <p:spPr>
                <a:xfrm flipV="1">
                  <a:off x="6022440" y="5993640"/>
                  <a:ext cx="216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4" name=""/>
                <p:cNvSpPr/>
                <p:nvPr/>
              </p:nvSpPr>
              <p:spPr>
                <a:xfrm flipV="1">
                  <a:off x="6120720" y="5993640"/>
                  <a:ext cx="180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5" name=""/>
                <p:cNvSpPr/>
                <p:nvPr/>
              </p:nvSpPr>
              <p:spPr>
                <a:xfrm flipV="1">
                  <a:off x="6298920" y="5993640"/>
                  <a:ext cx="216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6" name=""/>
                <p:cNvSpPr/>
                <p:nvPr/>
              </p:nvSpPr>
              <p:spPr>
                <a:xfrm flipV="1">
                  <a:off x="6399360" y="5993640"/>
                  <a:ext cx="216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7" name=""/>
                <p:cNvSpPr/>
                <p:nvPr/>
              </p:nvSpPr>
              <p:spPr>
                <a:xfrm flipV="1">
                  <a:off x="6477840" y="5993640"/>
                  <a:ext cx="180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8" name=""/>
                <p:cNvSpPr/>
                <p:nvPr/>
              </p:nvSpPr>
              <p:spPr>
                <a:xfrm flipV="1">
                  <a:off x="6575760" y="5993640"/>
                  <a:ext cx="216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9" name=""/>
                <p:cNvSpPr/>
                <p:nvPr/>
              </p:nvSpPr>
              <p:spPr>
                <a:xfrm flipV="1">
                  <a:off x="6754680" y="5993640"/>
                  <a:ext cx="180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0" name=""/>
                <p:cNvSpPr/>
                <p:nvPr/>
              </p:nvSpPr>
              <p:spPr>
                <a:xfrm flipV="1">
                  <a:off x="6854760" y="5993640"/>
                  <a:ext cx="180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1" name=""/>
                <p:cNvSpPr/>
                <p:nvPr/>
              </p:nvSpPr>
              <p:spPr>
                <a:xfrm flipV="1">
                  <a:off x="6933600" y="5993640"/>
                  <a:ext cx="180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2" name=""/>
                <p:cNvSpPr/>
                <p:nvPr/>
              </p:nvSpPr>
              <p:spPr>
                <a:xfrm flipV="1">
                  <a:off x="7033320" y="5993640"/>
                  <a:ext cx="216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3" name=""/>
                <p:cNvSpPr/>
                <p:nvPr/>
              </p:nvSpPr>
              <p:spPr>
                <a:xfrm flipV="1">
                  <a:off x="7212240" y="5993640"/>
                  <a:ext cx="180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4" name=""/>
                <p:cNvSpPr/>
                <p:nvPr/>
              </p:nvSpPr>
              <p:spPr>
                <a:xfrm flipV="1">
                  <a:off x="7310160" y="5993640"/>
                  <a:ext cx="216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5" name=""/>
                <p:cNvSpPr/>
                <p:nvPr/>
              </p:nvSpPr>
              <p:spPr>
                <a:xfrm flipV="1">
                  <a:off x="7410240" y="5993640"/>
                  <a:ext cx="216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6" name=""/>
                <p:cNvSpPr/>
                <p:nvPr/>
              </p:nvSpPr>
              <p:spPr>
                <a:xfrm flipV="1">
                  <a:off x="7488720" y="5993640"/>
                  <a:ext cx="180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7" name=""/>
                <p:cNvSpPr/>
                <p:nvPr/>
              </p:nvSpPr>
              <p:spPr>
                <a:xfrm flipV="1">
                  <a:off x="7687080" y="5993640"/>
                  <a:ext cx="216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8" name=""/>
                <p:cNvSpPr/>
                <p:nvPr/>
              </p:nvSpPr>
              <p:spPr>
                <a:xfrm flipV="1">
                  <a:off x="7768080" y="5993640"/>
                  <a:ext cx="180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9" name=""/>
                <p:cNvSpPr/>
                <p:nvPr/>
              </p:nvSpPr>
              <p:spPr>
                <a:xfrm flipV="1">
                  <a:off x="7866000" y="5993640"/>
                  <a:ext cx="180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0" name=""/>
                <p:cNvSpPr/>
                <p:nvPr/>
              </p:nvSpPr>
              <p:spPr>
                <a:xfrm flipV="1">
                  <a:off x="7966080" y="5993640"/>
                  <a:ext cx="180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1" name=""/>
                <p:cNvSpPr/>
                <p:nvPr/>
              </p:nvSpPr>
              <p:spPr>
                <a:xfrm flipV="1">
                  <a:off x="8142480" y="5993640"/>
                  <a:ext cx="180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2" name=""/>
                <p:cNvSpPr/>
                <p:nvPr/>
              </p:nvSpPr>
              <p:spPr>
                <a:xfrm flipV="1">
                  <a:off x="8242920" y="5993640"/>
                  <a:ext cx="180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3" name=""/>
                <p:cNvSpPr/>
                <p:nvPr/>
              </p:nvSpPr>
              <p:spPr>
                <a:xfrm flipV="1">
                  <a:off x="8321400" y="5993640"/>
                  <a:ext cx="180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4" name=""/>
                <p:cNvSpPr/>
                <p:nvPr/>
              </p:nvSpPr>
              <p:spPr>
                <a:xfrm flipV="1">
                  <a:off x="8421120" y="5993640"/>
                  <a:ext cx="2160" cy="414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5" name=""/>
              <p:cNvSpPr/>
              <p:nvPr/>
            </p:nvSpPr>
            <p:spPr>
              <a:xfrm flipV="1">
                <a:off x="5743800" y="3813840"/>
                <a:ext cx="1440" cy="2221920"/>
              </a:xfrm>
              <a:prstGeom prst="line">
                <a:avLst/>
              </a:prstGeom>
              <a:ln w="2052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5743800" y="6035760"/>
                <a:ext cx="2776320" cy="1440"/>
              </a:xfrm>
              <a:prstGeom prst="line">
                <a:avLst/>
              </a:prstGeom>
              <a:ln w="2052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5843880" y="4630320"/>
                <a:ext cx="58680" cy="626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5862960" y="4527360"/>
                <a:ext cx="60120" cy="626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5883480" y="4422240"/>
                <a:ext cx="58680" cy="6120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5902560" y="4380120"/>
                <a:ext cx="58680" cy="6120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5923080" y="4338360"/>
                <a:ext cx="58680" cy="626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5942160" y="4294800"/>
                <a:ext cx="58680" cy="6408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5961240" y="4273560"/>
                <a:ext cx="61920" cy="644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5981760" y="4252680"/>
                <a:ext cx="60480" cy="6408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6000840" y="4233240"/>
                <a:ext cx="60480" cy="6120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6023160" y="4212360"/>
                <a:ext cx="58680" cy="608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6042240" y="4212360"/>
                <a:ext cx="58680" cy="608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6061320" y="4191480"/>
                <a:ext cx="58680" cy="6120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6081840" y="4212360"/>
                <a:ext cx="58680" cy="608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6100920" y="4191480"/>
                <a:ext cx="58680" cy="6120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6120000" y="4212360"/>
                <a:ext cx="58680" cy="608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6140520" y="4212360"/>
                <a:ext cx="60480" cy="608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6159600" y="4212360"/>
                <a:ext cx="61920" cy="608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6178680" y="4212360"/>
                <a:ext cx="61920" cy="608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6201000" y="4233240"/>
                <a:ext cx="58680" cy="6120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6221520" y="4233240"/>
                <a:ext cx="58680" cy="6120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6240600" y="4252680"/>
                <a:ext cx="58680" cy="6408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6259680" y="4252680"/>
                <a:ext cx="58680" cy="6408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6280200" y="4252680"/>
                <a:ext cx="59040" cy="6408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6299280" y="4252680"/>
                <a:ext cx="58680" cy="6408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6318360" y="4252680"/>
                <a:ext cx="58680" cy="6408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6318360" y="4273560"/>
                <a:ext cx="58680" cy="644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6339240" y="4294800"/>
                <a:ext cx="60120" cy="6408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6357960" y="4294800"/>
                <a:ext cx="60480" cy="6408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6377040" y="4294800"/>
                <a:ext cx="61920" cy="6408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6399360" y="4294800"/>
                <a:ext cx="58680" cy="6408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6418440" y="4317120"/>
                <a:ext cx="60480" cy="626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6438960" y="4317120"/>
                <a:ext cx="58680" cy="626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6458040" y="4317120"/>
                <a:ext cx="58680" cy="626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6478920" y="4338360"/>
                <a:ext cx="58680" cy="626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6497640" y="4338360"/>
                <a:ext cx="59040" cy="626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6516720" y="4359240"/>
                <a:ext cx="59040" cy="626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6537600" y="4359240"/>
                <a:ext cx="60120" cy="626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6556680" y="4380120"/>
                <a:ext cx="60120" cy="6120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6575760" y="4380120"/>
                <a:ext cx="61920" cy="6120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6597720" y="4401360"/>
                <a:ext cx="58680" cy="608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6616800" y="4401360"/>
                <a:ext cx="58680" cy="608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6637680" y="4422240"/>
                <a:ext cx="58680" cy="6120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6696360" y="4422240"/>
                <a:ext cx="58680" cy="6120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6755040" y="4483800"/>
                <a:ext cx="60120" cy="6408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6815160" y="4504680"/>
                <a:ext cx="59040" cy="6408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6874200" y="4548240"/>
                <a:ext cx="58680" cy="626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6913800" y="4590000"/>
                <a:ext cx="58680" cy="608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6972480" y="4630320"/>
                <a:ext cx="61920" cy="626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7034400" y="4651200"/>
                <a:ext cx="58680" cy="626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7093080" y="4693320"/>
                <a:ext cx="58680" cy="6408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7151760" y="4736880"/>
                <a:ext cx="60480" cy="626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7193160" y="4778640"/>
                <a:ext cx="58680" cy="6120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7251840" y="4819320"/>
                <a:ext cx="58680" cy="626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7310520" y="4861080"/>
                <a:ext cx="60480" cy="626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7391520" y="4923720"/>
                <a:ext cx="58680" cy="644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7527960" y="5007960"/>
                <a:ext cx="61920" cy="626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7667640" y="5091840"/>
                <a:ext cx="59040" cy="6408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7807680" y="5175720"/>
                <a:ext cx="58680" cy="626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7944120" y="5238720"/>
                <a:ext cx="61920" cy="626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8083800" y="5259960"/>
                <a:ext cx="58680" cy="608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8223480" y="5320800"/>
                <a:ext cx="58680" cy="644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5762880" y="4191480"/>
                <a:ext cx="61920" cy="6120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5762880" y="4191480"/>
                <a:ext cx="3960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5783400" y="3899160"/>
                <a:ext cx="60480" cy="6120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5783400" y="3899160"/>
                <a:ext cx="41400" cy="399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5783400" y="3855600"/>
                <a:ext cx="60480" cy="644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5783400" y="3855600"/>
                <a:ext cx="41400" cy="4320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5802480" y="3920400"/>
                <a:ext cx="60480" cy="608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5802480" y="3920400"/>
                <a:ext cx="41400" cy="399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5824800" y="3981600"/>
                <a:ext cx="58680" cy="626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5824800" y="3981600"/>
                <a:ext cx="3816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5843880" y="4023720"/>
                <a:ext cx="58680" cy="608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5843880" y="4023720"/>
                <a:ext cx="39600" cy="399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5862960" y="4109040"/>
                <a:ext cx="60120" cy="6120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5862960" y="4109040"/>
                <a:ext cx="39600" cy="4032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5883480" y="4149720"/>
                <a:ext cx="58680" cy="626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5883480" y="4149720"/>
                <a:ext cx="39600" cy="4140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5902560" y="4191480"/>
                <a:ext cx="58680" cy="6120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5902560" y="4191480"/>
                <a:ext cx="3960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5923080" y="4233240"/>
                <a:ext cx="58680" cy="6120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5923080" y="4233240"/>
                <a:ext cx="38160" cy="399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5942160" y="4273560"/>
                <a:ext cx="58680" cy="644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5942160" y="4273560"/>
                <a:ext cx="39600" cy="4320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5961240" y="4317120"/>
                <a:ext cx="61920" cy="626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5961240" y="4317120"/>
                <a:ext cx="3960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5981760" y="4338360"/>
                <a:ext cx="60480" cy="626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5981760" y="4338360"/>
                <a:ext cx="41400" cy="4140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6000840" y="4380120"/>
                <a:ext cx="60480" cy="6120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6000840" y="4380120"/>
                <a:ext cx="4140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6023160" y="4401360"/>
                <a:ext cx="58680" cy="608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6023160" y="4401360"/>
                <a:ext cx="38160" cy="399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6042240" y="4441680"/>
                <a:ext cx="58680" cy="626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6042240" y="4441680"/>
                <a:ext cx="3960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6042240" y="4462560"/>
                <a:ext cx="58680" cy="644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6042240" y="4462560"/>
                <a:ext cx="3960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6061320" y="4504680"/>
                <a:ext cx="58680" cy="6408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6061320" y="4504680"/>
                <a:ext cx="39600" cy="4320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6081840" y="4548240"/>
                <a:ext cx="58680" cy="626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6081840" y="4548240"/>
                <a:ext cx="3816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6100920" y="4568760"/>
                <a:ext cx="58680" cy="6120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6100920" y="4568760"/>
                <a:ext cx="3960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6120000" y="4651200"/>
                <a:ext cx="58680" cy="626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6120000" y="4651200"/>
                <a:ext cx="3960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6140520" y="4693320"/>
                <a:ext cx="60480" cy="6408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6140520" y="4693320"/>
                <a:ext cx="38160" cy="4320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6159600" y="4714200"/>
                <a:ext cx="61920" cy="6408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6159600" y="4714200"/>
                <a:ext cx="41400" cy="4320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6178680" y="4757760"/>
                <a:ext cx="61920" cy="6120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6178680" y="4757760"/>
                <a:ext cx="4284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6201000" y="4778640"/>
                <a:ext cx="58680" cy="6120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6201000" y="4778640"/>
                <a:ext cx="39600" cy="4032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6221520" y="4840200"/>
                <a:ext cx="58680" cy="626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6221520" y="4840200"/>
                <a:ext cx="3816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6240600" y="4861080"/>
                <a:ext cx="58680" cy="626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6240600" y="4861080"/>
                <a:ext cx="3960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6259680" y="4903200"/>
                <a:ext cx="58680" cy="6408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6259680" y="4903200"/>
                <a:ext cx="39600" cy="4320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6280200" y="4923720"/>
                <a:ext cx="59040" cy="644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6280200" y="4923720"/>
                <a:ext cx="38160" cy="4320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299280" y="4946400"/>
                <a:ext cx="58680" cy="6120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6299280" y="4946400"/>
                <a:ext cx="3996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6318360" y="4988520"/>
                <a:ext cx="58680" cy="608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6318360" y="4988520"/>
                <a:ext cx="39600" cy="399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6318360" y="5007960"/>
                <a:ext cx="58680" cy="626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6318360" y="5007960"/>
                <a:ext cx="39600" cy="4140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6339240" y="5007960"/>
                <a:ext cx="60120" cy="626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6339240" y="5007960"/>
                <a:ext cx="37800" cy="4140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6357960" y="5049720"/>
                <a:ext cx="60480" cy="626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6357960" y="5049720"/>
                <a:ext cx="4140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6377040" y="5091840"/>
                <a:ext cx="61920" cy="6408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6377040" y="5091840"/>
                <a:ext cx="41400" cy="4320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6399360" y="5112720"/>
                <a:ext cx="58680" cy="626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6399360" y="5112720"/>
                <a:ext cx="39600" cy="4320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6418440" y="5135400"/>
                <a:ext cx="60480" cy="6120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6418440" y="5135400"/>
                <a:ext cx="39600" cy="399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6438960" y="5112720"/>
                <a:ext cx="58680" cy="626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6438960" y="5112720"/>
                <a:ext cx="39960" cy="4320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6458040" y="5156280"/>
                <a:ext cx="58680" cy="6120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6458040" y="5156280"/>
                <a:ext cx="39600" cy="4032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6478920" y="5156280"/>
                <a:ext cx="58680" cy="6120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6478920" y="5156280"/>
                <a:ext cx="37800" cy="4032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6497640" y="5175720"/>
                <a:ext cx="59040" cy="626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6497640" y="5175720"/>
                <a:ext cx="3996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6516720" y="5217840"/>
                <a:ext cx="59040" cy="626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6516720" y="5217840"/>
                <a:ext cx="3996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6537600" y="5238720"/>
                <a:ext cx="60120" cy="626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6537600" y="5238720"/>
                <a:ext cx="3816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6556680" y="5217840"/>
                <a:ext cx="60120" cy="626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6556680" y="5217840"/>
                <a:ext cx="4104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6575760" y="5259960"/>
                <a:ext cx="61920" cy="608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6575760" y="5259960"/>
                <a:ext cx="41040" cy="4140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6575760" y="5280480"/>
                <a:ext cx="61920" cy="6408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6575760" y="5280480"/>
                <a:ext cx="41040" cy="399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6597720" y="5320800"/>
                <a:ext cx="58680" cy="644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6597720" y="5320800"/>
                <a:ext cx="39960" cy="4320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6616800" y="5280480"/>
                <a:ext cx="58680" cy="6408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6616800" y="5280480"/>
                <a:ext cx="39600" cy="399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6637680" y="5320800"/>
                <a:ext cx="58680" cy="644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6637680" y="5320800"/>
                <a:ext cx="37800" cy="4320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6696360" y="5364360"/>
                <a:ext cx="58680" cy="626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6696360" y="5364360"/>
                <a:ext cx="3960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6755040" y="5488920"/>
                <a:ext cx="60120" cy="6408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6755040" y="5488920"/>
                <a:ext cx="41400" cy="4140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6815160" y="5698440"/>
                <a:ext cx="59040" cy="6408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6815160" y="5698440"/>
                <a:ext cx="3996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6874200" y="5574240"/>
                <a:ext cx="58680" cy="626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6874200" y="5574240"/>
                <a:ext cx="3960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6913800" y="5658120"/>
                <a:ext cx="58680" cy="6084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6913800" y="5658120"/>
                <a:ext cx="39600" cy="399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6972480" y="5616360"/>
                <a:ext cx="61920" cy="6120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6972480" y="5616360"/>
                <a:ext cx="41400" cy="41760"/>
              </a:xfrm>
              <a:prstGeom prst="rect">
                <a:avLst/>
              </a:prstGeom>
              <a:noFill/>
              <a:ln w="2052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6453360" y="3768840"/>
                <a:ext cx="2606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cf305"/>
                    </a:solidFill>
                    <a:latin typeface="Trebuchet MS"/>
                  </a:rPr>
                  <a:t>[Benzoate] =  10 µ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39" name=""/>
              <p:cNvGrpSpPr/>
              <p:nvPr/>
            </p:nvGrpSpPr>
            <p:grpSpPr>
              <a:xfrm>
                <a:off x="5680800" y="6185880"/>
                <a:ext cx="2988360" cy="228600"/>
                <a:chOff x="5680800" y="6185880"/>
                <a:chExt cx="2988360" cy="228600"/>
              </a:xfrm>
            </p:grpSpPr>
            <p:sp>
              <p:nvSpPr>
                <p:cNvPr id="4540" name=""/>
                <p:cNvSpPr/>
                <p:nvPr/>
              </p:nvSpPr>
              <p:spPr>
                <a:xfrm>
                  <a:off x="5680800" y="6185880"/>
                  <a:ext cx="1152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1" name=""/>
                <p:cNvSpPr/>
                <p:nvPr/>
              </p:nvSpPr>
              <p:spPr>
                <a:xfrm>
                  <a:off x="6067440" y="6185880"/>
                  <a:ext cx="229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5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2" name=""/>
                <p:cNvSpPr/>
                <p:nvPr/>
              </p:nvSpPr>
              <p:spPr>
                <a:xfrm>
                  <a:off x="6474600" y="618588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10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3" name=""/>
                <p:cNvSpPr/>
                <p:nvPr/>
              </p:nvSpPr>
              <p:spPr>
                <a:xfrm>
                  <a:off x="6945840" y="618588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15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4" name=""/>
                <p:cNvSpPr/>
                <p:nvPr/>
              </p:nvSpPr>
              <p:spPr>
                <a:xfrm>
                  <a:off x="7399800" y="618588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20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5" name=""/>
                <p:cNvSpPr/>
                <p:nvPr/>
              </p:nvSpPr>
              <p:spPr>
                <a:xfrm>
                  <a:off x="7869960" y="618588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25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6" name=""/>
                <p:cNvSpPr/>
                <p:nvPr/>
              </p:nvSpPr>
              <p:spPr>
                <a:xfrm>
                  <a:off x="8325360" y="618588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30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7" name=""/>
              <p:cNvGrpSpPr/>
              <p:nvPr/>
            </p:nvGrpSpPr>
            <p:grpSpPr>
              <a:xfrm>
                <a:off x="5055120" y="3889800"/>
                <a:ext cx="686520" cy="1888200"/>
                <a:chOff x="5055120" y="3889800"/>
                <a:chExt cx="686520" cy="1888200"/>
              </a:xfrm>
            </p:grpSpPr>
            <p:sp>
              <p:nvSpPr>
                <p:cNvPr id="4548" name=""/>
                <p:cNvSpPr/>
                <p:nvPr/>
              </p:nvSpPr>
              <p:spPr>
                <a:xfrm>
                  <a:off x="5055120" y="5549400"/>
                  <a:ext cx="6865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.0001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9" name=""/>
                <p:cNvSpPr/>
                <p:nvPr/>
              </p:nvSpPr>
              <p:spPr>
                <a:xfrm>
                  <a:off x="5162400" y="4993200"/>
                  <a:ext cx="572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.001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0" name=""/>
                <p:cNvSpPr/>
                <p:nvPr/>
              </p:nvSpPr>
              <p:spPr>
                <a:xfrm>
                  <a:off x="5269680" y="4436640"/>
                  <a:ext cx="4579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.01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1" name=""/>
                <p:cNvSpPr/>
                <p:nvPr/>
              </p:nvSpPr>
              <p:spPr>
                <a:xfrm>
                  <a:off x="5376600" y="388980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.1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52" name=""/>
            <p:cNvGrpSpPr/>
            <p:nvPr/>
          </p:nvGrpSpPr>
          <p:grpSpPr>
            <a:xfrm>
              <a:off x="5055120" y="1301760"/>
              <a:ext cx="4181400" cy="2216160"/>
              <a:chOff x="5055120" y="1301760"/>
              <a:chExt cx="4181400" cy="2216160"/>
            </a:xfrm>
          </p:grpSpPr>
          <p:grpSp>
            <p:nvGrpSpPr>
              <p:cNvPr id="4553" name=""/>
              <p:cNvGrpSpPr/>
              <p:nvPr/>
            </p:nvGrpSpPr>
            <p:grpSpPr>
              <a:xfrm>
                <a:off x="5754960" y="1301760"/>
                <a:ext cx="3481560" cy="2216160"/>
                <a:chOff x="5754960" y="1301760"/>
                <a:chExt cx="3481560" cy="2216160"/>
              </a:xfrm>
            </p:grpSpPr>
            <p:sp>
              <p:nvSpPr>
                <p:cNvPr id="4554" name=""/>
                <p:cNvSpPr/>
                <p:nvPr/>
              </p:nvSpPr>
              <p:spPr>
                <a:xfrm>
                  <a:off x="5770800" y="1465200"/>
                  <a:ext cx="2511360" cy="1746360"/>
                </a:xfrm>
                <a:custGeom>
                  <a:avLst/>
                  <a:gdLst/>
                  <a:ahLst/>
                  <a:rect l="l" t="t" r="r" b="b"/>
                  <a:pathLst>
                    <a:path w="1153" h="772">
                      <a:moveTo>
                        <a:pt x="1153" y="772"/>
                      </a:moveTo>
                      <a:cubicBezTo>
                        <a:pt x="1082" y="739"/>
                        <a:pt x="1012" y="707"/>
                        <a:pt x="935" y="670"/>
                      </a:cubicBezTo>
                      <a:cubicBezTo>
                        <a:pt x="858" y="633"/>
                        <a:pt x="759" y="588"/>
                        <a:pt x="691" y="550"/>
                      </a:cubicBezTo>
                      <a:cubicBezTo>
                        <a:pt x="623" y="511"/>
                        <a:pt x="584" y="486"/>
                        <a:pt x="527" y="440"/>
                      </a:cubicBezTo>
                      <a:cubicBezTo>
                        <a:pt x="469" y="393"/>
                        <a:pt x="389" y="315"/>
                        <a:pt x="347" y="274"/>
                      </a:cubicBezTo>
                      <a:cubicBezTo>
                        <a:pt x="304" y="232"/>
                        <a:pt x="301" y="220"/>
                        <a:pt x="271" y="188"/>
                      </a:cubicBezTo>
                      <a:cubicBezTo>
                        <a:pt x="240" y="155"/>
                        <a:pt x="192" y="107"/>
                        <a:pt x="161" y="80"/>
                      </a:cubicBezTo>
                      <a:cubicBezTo>
                        <a:pt x="129" y="52"/>
                        <a:pt x="104" y="33"/>
                        <a:pt x="83" y="22"/>
                      </a:cubicBezTo>
                      <a:cubicBezTo>
                        <a:pt x="61" y="10"/>
                        <a:pt x="45" y="0"/>
                        <a:pt x="33" y="10"/>
                      </a:cubicBezTo>
                      <a:cubicBezTo>
                        <a:pt x="20" y="19"/>
                        <a:pt x="12" y="47"/>
                        <a:pt x="7" y="80"/>
                      </a:cubicBezTo>
                      <a:cubicBezTo>
                        <a:pt x="1" y="113"/>
                        <a:pt x="1" y="156"/>
                        <a:pt x="1" y="208"/>
                      </a:cubicBezTo>
                      <a:cubicBezTo>
                        <a:pt x="0" y="260"/>
                        <a:pt x="2" y="326"/>
                        <a:pt x="5" y="392"/>
                      </a:cubicBezTo>
                    </a:path>
                  </a:pathLst>
                </a:custGeom>
                <a:noFill/>
                <a:ln w="9360">
                  <a:solidFill>
                    <a:srgbClr val="66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5" name=""/>
                <p:cNvSpPr/>
                <p:nvPr/>
              </p:nvSpPr>
              <p:spPr>
                <a:xfrm>
                  <a:off x="5815080" y="2278080"/>
                  <a:ext cx="2460600" cy="1160280"/>
                </a:xfrm>
                <a:custGeom>
                  <a:avLst/>
                  <a:gdLst/>
                  <a:ahLst/>
                  <a:rect l="l" t="t" r="r" b="b"/>
                  <a:pathLst>
                    <a:path w="1130" h="513">
                      <a:moveTo>
                        <a:pt x="1130" y="481"/>
                      </a:moveTo>
                      <a:cubicBezTo>
                        <a:pt x="1036" y="446"/>
                        <a:pt x="943" y="412"/>
                        <a:pt x="858" y="377"/>
                      </a:cubicBezTo>
                      <a:cubicBezTo>
                        <a:pt x="772" y="341"/>
                        <a:pt x="690" y="308"/>
                        <a:pt x="614" y="269"/>
                      </a:cubicBezTo>
                      <a:cubicBezTo>
                        <a:pt x="537" y="229"/>
                        <a:pt x="455" y="172"/>
                        <a:pt x="400" y="137"/>
                      </a:cubicBezTo>
                      <a:cubicBezTo>
                        <a:pt x="344" y="101"/>
                        <a:pt x="315" y="77"/>
                        <a:pt x="282" y="57"/>
                      </a:cubicBezTo>
                      <a:cubicBezTo>
                        <a:pt x="248" y="36"/>
                        <a:pt x="223" y="20"/>
                        <a:pt x="198" y="11"/>
                      </a:cubicBezTo>
                      <a:cubicBezTo>
                        <a:pt x="172" y="1"/>
                        <a:pt x="150" y="0"/>
                        <a:pt x="130" y="1"/>
                      </a:cubicBezTo>
                      <a:cubicBezTo>
                        <a:pt x="110" y="1"/>
                        <a:pt x="90" y="7"/>
                        <a:pt x="78" y="15"/>
                      </a:cubicBezTo>
                      <a:cubicBezTo>
                        <a:pt x="65" y="22"/>
                        <a:pt x="62" y="25"/>
                        <a:pt x="52" y="47"/>
                      </a:cubicBezTo>
                      <a:cubicBezTo>
                        <a:pt x="41" y="68"/>
                        <a:pt x="23" y="100"/>
                        <a:pt x="16" y="147"/>
                      </a:cubicBezTo>
                      <a:cubicBezTo>
                        <a:pt x="8" y="193"/>
                        <a:pt x="8" y="262"/>
                        <a:pt x="6" y="323"/>
                      </a:cubicBezTo>
                      <a:cubicBezTo>
                        <a:pt x="3" y="384"/>
                        <a:pt x="1" y="448"/>
                        <a:pt x="0" y="513"/>
                      </a:cubicBezTo>
                    </a:path>
                  </a:pathLst>
                </a:custGeom>
                <a:noFill/>
                <a:ln w="93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56" name=""/>
                <p:cNvGrpSpPr/>
                <p:nvPr/>
              </p:nvGrpSpPr>
              <p:grpSpPr>
                <a:xfrm>
                  <a:off x="5754960" y="1329840"/>
                  <a:ext cx="2775600" cy="2188080"/>
                  <a:chOff x="5754960" y="1329840"/>
                  <a:chExt cx="2775600" cy="2188080"/>
                </a:xfrm>
              </p:grpSpPr>
              <p:grpSp>
                <p:nvGrpSpPr>
                  <p:cNvPr id="4557" name=""/>
                  <p:cNvGrpSpPr/>
                  <p:nvPr/>
                </p:nvGrpSpPr>
                <p:grpSpPr>
                  <a:xfrm>
                    <a:off x="5754960" y="1495440"/>
                    <a:ext cx="97920" cy="2022120"/>
                    <a:chOff x="5754960" y="1495440"/>
                    <a:chExt cx="97920" cy="2022120"/>
                  </a:xfrm>
                </p:grpSpPr>
                <p:sp>
                  <p:nvSpPr>
                    <p:cNvPr id="4558" name=""/>
                    <p:cNvSpPr/>
                    <p:nvPr/>
                  </p:nvSpPr>
                  <p:spPr>
                    <a:xfrm>
                      <a:off x="5754960" y="3143880"/>
                      <a:ext cx="979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9" name=""/>
                    <p:cNvSpPr/>
                    <p:nvPr/>
                  </p:nvSpPr>
                  <p:spPr>
                    <a:xfrm>
                      <a:off x="5754960" y="2586600"/>
                      <a:ext cx="979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0" name=""/>
                    <p:cNvSpPr/>
                    <p:nvPr/>
                  </p:nvSpPr>
                  <p:spPr>
                    <a:xfrm>
                      <a:off x="5754960" y="2052360"/>
                      <a:ext cx="979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1" name=""/>
                    <p:cNvSpPr/>
                    <p:nvPr/>
                  </p:nvSpPr>
                  <p:spPr>
                    <a:xfrm>
                      <a:off x="5754960" y="1495440"/>
                      <a:ext cx="979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2" name=""/>
                    <p:cNvSpPr/>
                    <p:nvPr/>
                  </p:nvSpPr>
                  <p:spPr>
                    <a:xfrm>
                      <a:off x="5754960" y="3515040"/>
                      <a:ext cx="5868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3" name=""/>
                    <p:cNvSpPr/>
                    <p:nvPr/>
                  </p:nvSpPr>
                  <p:spPr>
                    <a:xfrm>
                      <a:off x="5754960" y="3431160"/>
                      <a:ext cx="5868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4" name=""/>
                    <p:cNvSpPr/>
                    <p:nvPr/>
                  </p:nvSpPr>
                  <p:spPr>
                    <a:xfrm>
                      <a:off x="5754960" y="3350160"/>
                      <a:ext cx="5868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5" name=""/>
                    <p:cNvSpPr/>
                    <p:nvPr/>
                  </p:nvSpPr>
                  <p:spPr>
                    <a:xfrm>
                      <a:off x="5754960" y="3309120"/>
                      <a:ext cx="5868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6" name=""/>
                    <p:cNvSpPr/>
                    <p:nvPr/>
                  </p:nvSpPr>
                  <p:spPr>
                    <a:xfrm>
                      <a:off x="5754960" y="3268440"/>
                      <a:ext cx="5868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7" name=""/>
                    <p:cNvSpPr/>
                    <p:nvPr/>
                  </p:nvSpPr>
                  <p:spPr>
                    <a:xfrm>
                      <a:off x="5754960" y="3225240"/>
                      <a:ext cx="5868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8" name=""/>
                    <p:cNvSpPr/>
                    <p:nvPr/>
                  </p:nvSpPr>
                  <p:spPr>
                    <a:xfrm>
                      <a:off x="5754960" y="3184920"/>
                      <a:ext cx="5868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9" name=""/>
                    <p:cNvSpPr/>
                    <p:nvPr/>
                  </p:nvSpPr>
                  <p:spPr>
                    <a:xfrm>
                      <a:off x="5754960" y="3164400"/>
                      <a:ext cx="5868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0" name=""/>
                    <p:cNvSpPr/>
                    <p:nvPr/>
                  </p:nvSpPr>
                  <p:spPr>
                    <a:xfrm>
                      <a:off x="5754960" y="2978280"/>
                      <a:ext cx="5868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1" name=""/>
                    <p:cNvSpPr/>
                    <p:nvPr/>
                  </p:nvSpPr>
                  <p:spPr>
                    <a:xfrm>
                      <a:off x="5754960" y="2876760"/>
                      <a:ext cx="5868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2" name=""/>
                    <p:cNvSpPr/>
                    <p:nvPr/>
                  </p:nvSpPr>
                  <p:spPr>
                    <a:xfrm>
                      <a:off x="5754960" y="2813040"/>
                      <a:ext cx="5868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3" name=""/>
                    <p:cNvSpPr/>
                    <p:nvPr/>
                  </p:nvSpPr>
                  <p:spPr>
                    <a:xfrm>
                      <a:off x="5754960" y="2751840"/>
                      <a:ext cx="5868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4" name=""/>
                    <p:cNvSpPr/>
                    <p:nvPr/>
                  </p:nvSpPr>
                  <p:spPr>
                    <a:xfrm>
                      <a:off x="5754960" y="2711160"/>
                      <a:ext cx="5868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5" name=""/>
                    <p:cNvSpPr/>
                    <p:nvPr/>
                  </p:nvSpPr>
                  <p:spPr>
                    <a:xfrm>
                      <a:off x="5754960" y="2670840"/>
                      <a:ext cx="5868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6" name=""/>
                    <p:cNvSpPr/>
                    <p:nvPr/>
                  </p:nvSpPr>
                  <p:spPr>
                    <a:xfrm>
                      <a:off x="5754960" y="2650320"/>
                      <a:ext cx="5868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7" name=""/>
                    <p:cNvSpPr/>
                    <p:nvPr/>
                  </p:nvSpPr>
                  <p:spPr>
                    <a:xfrm>
                      <a:off x="5754960" y="2629800"/>
                      <a:ext cx="5868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8" name=""/>
                    <p:cNvSpPr/>
                    <p:nvPr/>
                  </p:nvSpPr>
                  <p:spPr>
                    <a:xfrm>
                      <a:off x="5754960" y="2421720"/>
                      <a:ext cx="5868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9" name=""/>
                    <p:cNvSpPr/>
                    <p:nvPr/>
                  </p:nvSpPr>
                  <p:spPr>
                    <a:xfrm>
                      <a:off x="5754960" y="2340000"/>
                      <a:ext cx="5868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0" name=""/>
                    <p:cNvSpPr/>
                    <p:nvPr/>
                  </p:nvSpPr>
                  <p:spPr>
                    <a:xfrm>
                      <a:off x="5754960" y="2258280"/>
                      <a:ext cx="5868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1" name=""/>
                    <p:cNvSpPr/>
                    <p:nvPr/>
                  </p:nvSpPr>
                  <p:spPr>
                    <a:xfrm>
                      <a:off x="5754960" y="2215080"/>
                      <a:ext cx="5868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2" name=""/>
                    <p:cNvSpPr/>
                    <p:nvPr/>
                  </p:nvSpPr>
                  <p:spPr>
                    <a:xfrm>
                      <a:off x="5754960" y="2174760"/>
                      <a:ext cx="5868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3" name=""/>
                    <p:cNvSpPr/>
                    <p:nvPr/>
                  </p:nvSpPr>
                  <p:spPr>
                    <a:xfrm>
                      <a:off x="5754960" y="2134080"/>
                      <a:ext cx="5868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4" name=""/>
                    <p:cNvSpPr/>
                    <p:nvPr/>
                  </p:nvSpPr>
                  <p:spPr>
                    <a:xfrm>
                      <a:off x="5754960" y="2093040"/>
                      <a:ext cx="5868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5" name=""/>
                    <p:cNvSpPr/>
                    <p:nvPr/>
                  </p:nvSpPr>
                  <p:spPr>
                    <a:xfrm>
                      <a:off x="5754960" y="2072520"/>
                      <a:ext cx="5868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6" name=""/>
                    <p:cNvSpPr/>
                    <p:nvPr/>
                  </p:nvSpPr>
                  <p:spPr>
                    <a:xfrm>
                      <a:off x="5754960" y="1887120"/>
                      <a:ext cx="5868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7" name=""/>
                    <p:cNvSpPr/>
                    <p:nvPr/>
                  </p:nvSpPr>
                  <p:spPr>
                    <a:xfrm>
                      <a:off x="5754960" y="1782720"/>
                      <a:ext cx="5868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8" name=""/>
                    <p:cNvSpPr/>
                    <p:nvPr/>
                  </p:nvSpPr>
                  <p:spPr>
                    <a:xfrm>
                      <a:off x="5754960" y="1721880"/>
                      <a:ext cx="5868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9" name=""/>
                    <p:cNvSpPr/>
                    <p:nvPr/>
                  </p:nvSpPr>
                  <p:spPr>
                    <a:xfrm>
                      <a:off x="5754960" y="1660680"/>
                      <a:ext cx="5868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0" name=""/>
                    <p:cNvSpPr/>
                    <p:nvPr/>
                  </p:nvSpPr>
                  <p:spPr>
                    <a:xfrm>
                      <a:off x="5754960" y="1620000"/>
                      <a:ext cx="5868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1" name=""/>
                    <p:cNvSpPr/>
                    <p:nvPr/>
                  </p:nvSpPr>
                  <p:spPr>
                    <a:xfrm>
                      <a:off x="5754960" y="1576800"/>
                      <a:ext cx="5868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2" name=""/>
                    <p:cNvSpPr/>
                    <p:nvPr/>
                  </p:nvSpPr>
                  <p:spPr>
                    <a:xfrm>
                      <a:off x="5754960" y="1556280"/>
                      <a:ext cx="5868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3" name=""/>
                    <p:cNvSpPr/>
                    <p:nvPr/>
                  </p:nvSpPr>
                  <p:spPr>
                    <a:xfrm>
                      <a:off x="5754960" y="1535760"/>
                      <a:ext cx="5868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94" name=""/>
                  <p:cNvGrpSpPr/>
                  <p:nvPr/>
                </p:nvGrpSpPr>
                <p:grpSpPr>
                  <a:xfrm>
                    <a:off x="5754960" y="3411000"/>
                    <a:ext cx="2775600" cy="105120"/>
                    <a:chOff x="5754960" y="3411000"/>
                    <a:chExt cx="2775600" cy="105120"/>
                  </a:xfrm>
                </p:grpSpPr>
                <p:sp>
                  <p:nvSpPr>
                    <p:cNvPr id="4595" name=""/>
                    <p:cNvSpPr/>
                    <p:nvPr/>
                  </p:nvSpPr>
                  <p:spPr>
                    <a:xfrm flipV="1">
                      <a:off x="5754960" y="3411000"/>
                      <a:ext cx="2160" cy="1047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6" name=""/>
                    <p:cNvSpPr/>
                    <p:nvPr/>
                  </p:nvSpPr>
                  <p:spPr>
                    <a:xfrm flipV="1">
                      <a:off x="6210000" y="3411000"/>
                      <a:ext cx="1800" cy="1047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7" name=""/>
                    <p:cNvSpPr/>
                    <p:nvPr/>
                  </p:nvSpPr>
                  <p:spPr>
                    <a:xfrm flipV="1">
                      <a:off x="6687000" y="3411000"/>
                      <a:ext cx="1800" cy="1047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8" name=""/>
                    <p:cNvSpPr/>
                    <p:nvPr/>
                  </p:nvSpPr>
                  <p:spPr>
                    <a:xfrm flipV="1">
                      <a:off x="7141680" y="3411000"/>
                      <a:ext cx="2160" cy="1047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9" name=""/>
                    <p:cNvSpPr/>
                    <p:nvPr/>
                  </p:nvSpPr>
                  <p:spPr>
                    <a:xfrm flipV="1">
                      <a:off x="7596720" y="3411000"/>
                      <a:ext cx="1800" cy="1047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0" name=""/>
                    <p:cNvSpPr/>
                    <p:nvPr/>
                  </p:nvSpPr>
                  <p:spPr>
                    <a:xfrm flipV="1">
                      <a:off x="8053920" y="3411000"/>
                      <a:ext cx="1800" cy="1047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1" name=""/>
                    <p:cNvSpPr/>
                    <p:nvPr/>
                  </p:nvSpPr>
                  <p:spPr>
                    <a:xfrm flipV="1">
                      <a:off x="8528400" y="3411000"/>
                      <a:ext cx="2160" cy="1047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2" name=""/>
                    <p:cNvSpPr/>
                    <p:nvPr/>
                  </p:nvSpPr>
                  <p:spPr>
                    <a:xfrm flipV="1">
                      <a:off x="5852880" y="347508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3" name=""/>
                    <p:cNvSpPr/>
                    <p:nvPr/>
                  </p:nvSpPr>
                  <p:spPr>
                    <a:xfrm flipV="1">
                      <a:off x="5933520" y="347508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4" name=""/>
                    <p:cNvSpPr/>
                    <p:nvPr/>
                  </p:nvSpPr>
                  <p:spPr>
                    <a:xfrm flipV="1">
                      <a:off x="6031440" y="3475080"/>
                      <a:ext cx="216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5" name=""/>
                    <p:cNvSpPr/>
                    <p:nvPr/>
                  </p:nvSpPr>
                  <p:spPr>
                    <a:xfrm flipV="1">
                      <a:off x="6131520" y="3475080"/>
                      <a:ext cx="216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6" name=""/>
                    <p:cNvSpPr/>
                    <p:nvPr/>
                  </p:nvSpPr>
                  <p:spPr>
                    <a:xfrm flipV="1">
                      <a:off x="6310080" y="347508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7" name=""/>
                    <p:cNvSpPr/>
                    <p:nvPr/>
                  </p:nvSpPr>
                  <p:spPr>
                    <a:xfrm flipV="1">
                      <a:off x="6408000" y="3475080"/>
                      <a:ext cx="216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8" name=""/>
                    <p:cNvSpPr/>
                    <p:nvPr/>
                  </p:nvSpPr>
                  <p:spPr>
                    <a:xfrm flipV="1">
                      <a:off x="6488280" y="3475080"/>
                      <a:ext cx="216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9" name=""/>
                    <p:cNvSpPr/>
                    <p:nvPr/>
                  </p:nvSpPr>
                  <p:spPr>
                    <a:xfrm flipV="1">
                      <a:off x="6586560" y="347508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0" name=""/>
                    <p:cNvSpPr/>
                    <p:nvPr/>
                  </p:nvSpPr>
                  <p:spPr>
                    <a:xfrm flipV="1">
                      <a:off x="6764760" y="3475080"/>
                      <a:ext cx="216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1" name=""/>
                    <p:cNvSpPr/>
                    <p:nvPr/>
                  </p:nvSpPr>
                  <p:spPr>
                    <a:xfrm flipV="1">
                      <a:off x="6863040" y="347508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2" name=""/>
                    <p:cNvSpPr/>
                    <p:nvPr/>
                  </p:nvSpPr>
                  <p:spPr>
                    <a:xfrm flipV="1">
                      <a:off x="6943680" y="347508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3" name=""/>
                    <p:cNvSpPr/>
                    <p:nvPr/>
                  </p:nvSpPr>
                  <p:spPr>
                    <a:xfrm flipV="1">
                      <a:off x="7041240" y="3475080"/>
                      <a:ext cx="216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4" name=""/>
                    <p:cNvSpPr/>
                    <p:nvPr/>
                  </p:nvSpPr>
                  <p:spPr>
                    <a:xfrm flipV="1">
                      <a:off x="7220160" y="347508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5" name=""/>
                    <p:cNvSpPr/>
                    <p:nvPr/>
                  </p:nvSpPr>
                  <p:spPr>
                    <a:xfrm flipV="1">
                      <a:off x="7320240" y="347508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6" name=""/>
                    <p:cNvSpPr/>
                    <p:nvPr/>
                  </p:nvSpPr>
                  <p:spPr>
                    <a:xfrm flipV="1">
                      <a:off x="7418160" y="3475080"/>
                      <a:ext cx="216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7" name=""/>
                    <p:cNvSpPr/>
                    <p:nvPr/>
                  </p:nvSpPr>
                  <p:spPr>
                    <a:xfrm flipV="1">
                      <a:off x="7498440" y="3475080"/>
                      <a:ext cx="216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8" name=""/>
                    <p:cNvSpPr/>
                    <p:nvPr/>
                  </p:nvSpPr>
                  <p:spPr>
                    <a:xfrm flipV="1">
                      <a:off x="7697160" y="347508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9" name=""/>
                    <p:cNvSpPr/>
                    <p:nvPr/>
                  </p:nvSpPr>
                  <p:spPr>
                    <a:xfrm flipV="1">
                      <a:off x="7774920" y="3475080"/>
                      <a:ext cx="216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0" name=""/>
                    <p:cNvSpPr/>
                    <p:nvPr/>
                  </p:nvSpPr>
                  <p:spPr>
                    <a:xfrm flipV="1">
                      <a:off x="7875360" y="3475080"/>
                      <a:ext cx="216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1" name=""/>
                    <p:cNvSpPr/>
                    <p:nvPr/>
                  </p:nvSpPr>
                  <p:spPr>
                    <a:xfrm flipV="1">
                      <a:off x="7973640" y="347508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2" name=""/>
                    <p:cNvSpPr/>
                    <p:nvPr/>
                  </p:nvSpPr>
                  <p:spPr>
                    <a:xfrm flipV="1">
                      <a:off x="8151840" y="3475080"/>
                      <a:ext cx="216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3" name=""/>
                    <p:cNvSpPr/>
                    <p:nvPr/>
                  </p:nvSpPr>
                  <p:spPr>
                    <a:xfrm flipV="1">
                      <a:off x="8251920" y="3475080"/>
                      <a:ext cx="216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4" name=""/>
                    <p:cNvSpPr/>
                    <p:nvPr/>
                  </p:nvSpPr>
                  <p:spPr>
                    <a:xfrm flipV="1">
                      <a:off x="8330400" y="347508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5" name=""/>
                    <p:cNvSpPr/>
                    <p:nvPr/>
                  </p:nvSpPr>
                  <p:spPr>
                    <a:xfrm flipV="1">
                      <a:off x="8430840" y="347508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26" name=""/>
                  <p:cNvSpPr/>
                  <p:nvPr/>
                </p:nvSpPr>
                <p:spPr>
                  <a:xfrm flipV="1">
                    <a:off x="5754960" y="1329840"/>
                    <a:ext cx="1440" cy="218628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7" name=""/>
                  <p:cNvSpPr/>
                  <p:nvPr/>
                </p:nvSpPr>
                <p:spPr>
                  <a:xfrm>
                    <a:off x="5754960" y="3516480"/>
                    <a:ext cx="2774880" cy="14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8" name=""/>
                  <p:cNvSpPr/>
                  <p:nvPr/>
                </p:nvSpPr>
                <p:spPr>
                  <a:xfrm>
                    <a:off x="5953320" y="279396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9" name=""/>
                  <p:cNvSpPr/>
                  <p:nvPr/>
                </p:nvSpPr>
                <p:spPr>
                  <a:xfrm>
                    <a:off x="5972400" y="269064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0" name=""/>
                  <p:cNvSpPr/>
                  <p:nvPr/>
                </p:nvSpPr>
                <p:spPr>
                  <a:xfrm>
                    <a:off x="5992920" y="271152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1" name=""/>
                  <p:cNvSpPr/>
                  <p:nvPr/>
                </p:nvSpPr>
                <p:spPr>
                  <a:xfrm>
                    <a:off x="6012000" y="2651040"/>
                    <a:ext cx="5868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2" name=""/>
                  <p:cNvSpPr/>
                  <p:nvPr/>
                </p:nvSpPr>
                <p:spPr>
                  <a:xfrm>
                    <a:off x="6031080" y="2608200"/>
                    <a:ext cx="6192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3" name=""/>
                  <p:cNvSpPr/>
                  <p:nvPr/>
                </p:nvSpPr>
                <p:spPr>
                  <a:xfrm>
                    <a:off x="6051600" y="2608200"/>
                    <a:ext cx="604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4" name=""/>
                  <p:cNvSpPr/>
                  <p:nvPr/>
                </p:nvSpPr>
                <p:spPr>
                  <a:xfrm>
                    <a:off x="6051600" y="2525760"/>
                    <a:ext cx="604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5" name=""/>
                  <p:cNvSpPr/>
                  <p:nvPr/>
                </p:nvSpPr>
                <p:spPr>
                  <a:xfrm>
                    <a:off x="6070680" y="2486160"/>
                    <a:ext cx="6048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6" name=""/>
                  <p:cNvSpPr/>
                  <p:nvPr/>
                </p:nvSpPr>
                <p:spPr>
                  <a:xfrm>
                    <a:off x="6093000" y="2465280"/>
                    <a:ext cx="5868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7" name=""/>
                  <p:cNvSpPr/>
                  <p:nvPr/>
                </p:nvSpPr>
                <p:spPr>
                  <a:xfrm>
                    <a:off x="6112080" y="2465280"/>
                    <a:ext cx="5868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8" name=""/>
                  <p:cNvSpPr/>
                  <p:nvPr/>
                </p:nvSpPr>
                <p:spPr>
                  <a:xfrm>
                    <a:off x="6131160" y="2422440"/>
                    <a:ext cx="5868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9" name=""/>
                  <p:cNvSpPr/>
                  <p:nvPr/>
                </p:nvSpPr>
                <p:spPr>
                  <a:xfrm>
                    <a:off x="6151680" y="2401920"/>
                    <a:ext cx="5868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0" name=""/>
                  <p:cNvSpPr/>
                  <p:nvPr/>
                </p:nvSpPr>
                <p:spPr>
                  <a:xfrm>
                    <a:off x="6170760" y="2381400"/>
                    <a:ext cx="5868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1" name=""/>
                  <p:cNvSpPr/>
                  <p:nvPr/>
                </p:nvSpPr>
                <p:spPr>
                  <a:xfrm>
                    <a:off x="6189840" y="2381400"/>
                    <a:ext cx="5868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2" name=""/>
                  <p:cNvSpPr/>
                  <p:nvPr/>
                </p:nvSpPr>
                <p:spPr>
                  <a:xfrm>
                    <a:off x="6210360" y="236052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3" name=""/>
                  <p:cNvSpPr/>
                  <p:nvPr/>
                </p:nvSpPr>
                <p:spPr>
                  <a:xfrm>
                    <a:off x="6229440" y="2340000"/>
                    <a:ext cx="604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4" name=""/>
                  <p:cNvSpPr/>
                  <p:nvPr/>
                </p:nvSpPr>
                <p:spPr>
                  <a:xfrm>
                    <a:off x="6248520" y="2319480"/>
                    <a:ext cx="6192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5" name=""/>
                  <p:cNvSpPr/>
                  <p:nvPr/>
                </p:nvSpPr>
                <p:spPr>
                  <a:xfrm>
                    <a:off x="6269040" y="2340000"/>
                    <a:ext cx="604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6" name=""/>
                  <p:cNvSpPr/>
                  <p:nvPr/>
                </p:nvSpPr>
                <p:spPr>
                  <a:xfrm>
                    <a:off x="6289920" y="234000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7" name=""/>
                  <p:cNvSpPr/>
                  <p:nvPr/>
                </p:nvSpPr>
                <p:spPr>
                  <a:xfrm>
                    <a:off x="6310440" y="234000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8" name=""/>
                  <p:cNvSpPr/>
                  <p:nvPr/>
                </p:nvSpPr>
                <p:spPr>
                  <a:xfrm>
                    <a:off x="6329520" y="231948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9" name=""/>
                  <p:cNvSpPr/>
                  <p:nvPr/>
                </p:nvSpPr>
                <p:spPr>
                  <a:xfrm>
                    <a:off x="6348600" y="2319480"/>
                    <a:ext cx="604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0" name=""/>
                  <p:cNvSpPr/>
                  <p:nvPr/>
                </p:nvSpPr>
                <p:spPr>
                  <a:xfrm>
                    <a:off x="6369120" y="2300400"/>
                    <a:ext cx="5868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1" name=""/>
                  <p:cNvSpPr/>
                  <p:nvPr/>
                </p:nvSpPr>
                <p:spPr>
                  <a:xfrm>
                    <a:off x="6388200" y="231948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2" name=""/>
                  <p:cNvSpPr/>
                  <p:nvPr/>
                </p:nvSpPr>
                <p:spPr>
                  <a:xfrm>
                    <a:off x="6409080" y="2300400"/>
                    <a:ext cx="5868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3" name=""/>
                  <p:cNvSpPr/>
                  <p:nvPr/>
                </p:nvSpPr>
                <p:spPr>
                  <a:xfrm>
                    <a:off x="6427800" y="2300400"/>
                    <a:ext cx="6048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4" name=""/>
                  <p:cNvSpPr/>
                  <p:nvPr/>
                </p:nvSpPr>
                <p:spPr>
                  <a:xfrm>
                    <a:off x="6446880" y="2319480"/>
                    <a:ext cx="6192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5" name=""/>
                  <p:cNvSpPr/>
                  <p:nvPr/>
                </p:nvSpPr>
                <p:spPr>
                  <a:xfrm>
                    <a:off x="6467760" y="2300400"/>
                    <a:ext cx="6012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6" name=""/>
                  <p:cNvSpPr/>
                  <p:nvPr/>
                </p:nvSpPr>
                <p:spPr>
                  <a:xfrm>
                    <a:off x="6488280" y="2300400"/>
                    <a:ext cx="5868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7" name=""/>
                  <p:cNvSpPr/>
                  <p:nvPr/>
                </p:nvSpPr>
                <p:spPr>
                  <a:xfrm>
                    <a:off x="6508800" y="2279520"/>
                    <a:ext cx="5904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8" name=""/>
                  <p:cNvSpPr/>
                  <p:nvPr/>
                </p:nvSpPr>
                <p:spPr>
                  <a:xfrm>
                    <a:off x="6527880" y="2279520"/>
                    <a:ext cx="5868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9" name=""/>
                  <p:cNvSpPr/>
                  <p:nvPr/>
                </p:nvSpPr>
                <p:spPr>
                  <a:xfrm>
                    <a:off x="6546960" y="2300400"/>
                    <a:ext cx="5868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0" name=""/>
                  <p:cNvSpPr/>
                  <p:nvPr/>
                </p:nvSpPr>
                <p:spPr>
                  <a:xfrm>
                    <a:off x="6567840" y="2300400"/>
                    <a:ext cx="5868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1" name=""/>
                  <p:cNvSpPr/>
                  <p:nvPr/>
                </p:nvSpPr>
                <p:spPr>
                  <a:xfrm>
                    <a:off x="6586560" y="2300400"/>
                    <a:ext cx="5904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2" name=""/>
                  <p:cNvSpPr/>
                  <p:nvPr/>
                </p:nvSpPr>
                <p:spPr>
                  <a:xfrm>
                    <a:off x="6605640" y="2300400"/>
                    <a:ext cx="5904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3" name=""/>
                  <p:cNvSpPr/>
                  <p:nvPr/>
                </p:nvSpPr>
                <p:spPr>
                  <a:xfrm>
                    <a:off x="6626520" y="2300400"/>
                    <a:ext cx="6012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4" name=""/>
                  <p:cNvSpPr/>
                  <p:nvPr/>
                </p:nvSpPr>
                <p:spPr>
                  <a:xfrm>
                    <a:off x="6645600" y="2300400"/>
                    <a:ext cx="6012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5" name=""/>
                  <p:cNvSpPr/>
                  <p:nvPr/>
                </p:nvSpPr>
                <p:spPr>
                  <a:xfrm>
                    <a:off x="6705720" y="231948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6" name=""/>
                  <p:cNvSpPr/>
                  <p:nvPr/>
                </p:nvSpPr>
                <p:spPr>
                  <a:xfrm>
                    <a:off x="6764400" y="2319480"/>
                    <a:ext cx="604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7" name=""/>
                  <p:cNvSpPr/>
                  <p:nvPr/>
                </p:nvSpPr>
                <p:spPr>
                  <a:xfrm>
                    <a:off x="6824880" y="2360520"/>
                    <a:ext cx="6012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8" name=""/>
                  <p:cNvSpPr/>
                  <p:nvPr/>
                </p:nvSpPr>
                <p:spPr>
                  <a:xfrm>
                    <a:off x="6885000" y="2340000"/>
                    <a:ext cx="5904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9" name=""/>
                  <p:cNvSpPr/>
                  <p:nvPr/>
                </p:nvSpPr>
                <p:spPr>
                  <a:xfrm>
                    <a:off x="6924960" y="2381400"/>
                    <a:ext cx="5868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0" name=""/>
                  <p:cNvSpPr/>
                  <p:nvPr/>
                </p:nvSpPr>
                <p:spPr>
                  <a:xfrm>
                    <a:off x="6983640" y="2381400"/>
                    <a:ext cx="5868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1" name=""/>
                  <p:cNvSpPr/>
                  <p:nvPr/>
                </p:nvSpPr>
                <p:spPr>
                  <a:xfrm>
                    <a:off x="7042320" y="2401920"/>
                    <a:ext cx="6048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2" name=""/>
                  <p:cNvSpPr/>
                  <p:nvPr/>
                </p:nvSpPr>
                <p:spPr>
                  <a:xfrm>
                    <a:off x="7102800" y="2381400"/>
                    <a:ext cx="5868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3" name=""/>
                  <p:cNvSpPr/>
                  <p:nvPr/>
                </p:nvSpPr>
                <p:spPr>
                  <a:xfrm>
                    <a:off x="7161480" y="2422440"/>
                    <a:ext cx="5868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4" name=""/>
                  <p:cNvSpPr/>
                  <p:nvPr/>
                </p:nvSpPr>
                <p:spPr>
                  <a:xfrm>
                    <a:off x="7201080" y="2465280"/>
                    <a:ext cx="6048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5" name=""/>
                  <p:cNvSpPr/>
                  <p:nvPr/>
                </p:nvSpPr>
                <p:spPr>
                  <a:xfrm>
                    <a:off x="7261560" y="2486160"/>
                    <a:ext cx="5868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6" name=""/>
                  <p:cNvSpPr/>
                  <p:nvPr/>
                </p:nvSpPr>
                <p:spPr>
                  <a:xfrm>
                    <a:off x="7320240" y="2486160"/>
                    <a:ext cx="5868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7" name=""/>
                  <p:cNvSpPr/>
                  <p:nvPr/>
                </p:nvSpPr>
                <p:spPr>
                  <a:xfrm>
                    <a:off x="7399440" y="2525760"/>
                    <a:ext cx="604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8" name=""/>
                  <p:cNvSpPr/>
                  <p:nvPr/>
                </p:nvSpPr>
                <p:spPr>
                  <a:xfrm>
                    <a:off x="7537680" y="2567160"/>
                    <a:ext cx="6012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9" name=""/>
                  <p:cNvSpPr/>
                  <p:nvPr/>
                </p:nvSpPr>
                <p:spPr>
                  <a:xfrm>
                    <a:off x="7677360" y="2651040"/>
                    <a:ext cx="5868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0" name=""/>
                  <p:cNvSpPr/>
                  <p:nvPr/>
                </p:nvSpPr>
                <p:spPr>
                  <a:xfrm>
                    <a:off x="7775640" y="271152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1" name=""/>
                  <p:cNvSpPr/>
                  <p:nvPr/>
                </p:nvSpPr>
                <p:spPr>
                  <a:xfrm>
                    <a:off x="7953480" y="2711520"/>
                    <a:ext cx="604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2" name=""/>
                  <p:cNvSpPr/>
                  <p:nvPr/>
                </p:nvSpPr>
                <p:spPr>
                  <a:xfrm>
                    <a:off x="8093160" y="2773440"/>
                    <a:ext cx="5868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3" name=""/>
                  <p:cNvSpPr/>
                  <p:nvPr/>
                </p:nvSpPr>
                <p:spPr>
                  <a:xfrm>
                    <a:off x="8231400" y="2793960"/>
                    <a:ext cx="6012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4" name=""/>
                  <p:cNvSpPr/>
                  <p:nvPr/>
                </p:nvSpPr>
                <p:spPr>
                  <a:xfrm>
                    <a:off x="5754960" y="203184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5" name=""/>
                  <p:cNvSpPr/>
                  <p:nvPr/>
                </p:nvSpPr>
                <p:spPr>
                  <a:xfrm>
                    <a:off x="5754960" y="203184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6" name=""/>
                  <p:cNvSpPr/>
                  <p:nvPr/>
                </p:nvSpPr>
                <p:spPr>
                  <a:xfrm>
                    <a:off x="5774040" y="163980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7" name=""/>
                  <p:cNvSpPr/>
                  <p:nvPr/>
                </p:nvSpPr>
                <p:spPr>
                  <a:xfrm>
                    <a:off x="5774040" y="163980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8" name=""/>
                  <p:cNvSpPr/>
                  <p:nvPr/>
                </p:nvSpPr>
                <p:spPr>
                  <a:xfrm>
                    <a:off x="5794560" y="1515960"/>
                    <a:ext cx="586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9" name=""/>
                  <p:cNvSpPr/>
                  <p:nvPr/>
                </p:nvSpPr>
                <p:spPr>
                  <a:xfrm>
                    <a:off x="5794560" y="1515960"/>
                    <a:ext cx="381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0" name=""/>
                  <p:cNvSpPr/>
                  <p:nvPr/>
                </p:nvSpPr>
                <p:spPr>
                  <a:xfrm>
                    <a:off x="5794560" y="147492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1" name=""/>
                  <p:cNvSpPr/>
                  <p:nvPr/>
                </p:nvSpPr>
                <p:spPr>
                  <a:xfrm>
                    <a:off x="5794560" y="1474920"/>
                    <a:ext cx="3816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2" name=""/>
                  <p:cNvSpPr/>
                  <p:nvPr/>
                </p:nvSpPr>
                <p:spPr>
                  <a:xfrm>
                    <a:off x="5813640" y="145404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3" name=""/>
                  <p:cNvSpPr/>
                  <p:nvPr/>
                </p:nvSpPr>
                <p:spPr>
                  <a:xfrm>
                    <a:off x="5813640" y="145404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4" name=""/>
                  <p:cNvSpPr/>
                  <p:nvPr/>
                </p:nvSpPr>
                <p:spPr>
                  <a:xfrm>
                    <a:off x="5832720" y="145404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5" name=""/>
                  <p:cNvSpPr/>
                  <p:nvPr/>
                </p:nvSpPr>
                <p:spPr>
                  <a:xfrm>
                    <a:off x="5832720" y="145404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6" name=""/>
                  <p:cNvSpPr/>
                  <p:nvPr/>
                </p:nvSpPr>
                <p:spPr>
                  <a:xfrm>
                    <a:off x="5853240" y="1454040"/>
                    <a:ext cx="604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7" name=""/>
                  <p:cNvSpPr/>
                  <p:nvPr/>
                </p:nvSpPr>
                <p:spPr>
                  <a:xfrm>
                    <a:off x="5853240" y="1454040"/>
                    <a:ext cx="381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8" name=""/>
                  <p:cNvSpPr/>
                  <p:nvPr/>
                </p:nvSpPr>
                <p:spPr>
                  <a:xfrm>
                    <a:off x="5872320" y="1454040"/>
                    <a:ext cx="604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9" name=""/>
                  <p:cNvSpPr/>
                  <p:nvPr/>
                </p:nvSpPr>
                <p:spPr>
                  <a:xfrm>
                    <a:off x="5872320" y="1454040"/>
                    <a:ext cx="414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0" name=""/>
                  <p:cNvSpPr/>
                  <p:nvPr/>
                </p:nvSpPr>
                <p:spPr>
                  <a:xfrm>
                    <a:off x="5891400" y="1474920"/>
                    <a:ext cx="6192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1" name=""/>
                  <p:cNvSpPr/>
                  <p:nvPr/>
                </p:nvSpPr>
                <p:spPr>
                  <a:xfrm>
                    <a:off x="5891400" y="1474920"/>
                    <a:ext cx="414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2" name=""/>
                  <p:cNvSpPr/>
                  <p:nvPr/>
                </p:nvSpPr>
                <p:spPr>
                  <a:xfrm>
                    <a:off x="5913720" y="147492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3" name=""/>
                  <p:cNvSpPr/>
                  <p:nvPr/>
                </p:nvSpPr>
                <p:spPr>
                  <a:xfrm>
                    <a:off x="5913720" y="1474920"/>
                    <a:ext cx="396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4" name=""/>
                  <p:cNvSpPr/>
                  <p:nvPr/>
                </p:nvSpPr>
                <p:spPr>
                  <a:xfrm>
                    <a:off x="5932800" y="1495440"/>
                    <a:ext cx="6012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5" name=""/>
                  <p:cNvSpPr/>
                  <p:nvPr/>
                </p:nvSpPr>
                <p:spPr>
                  <a:xfrm>
                    <a:off x="5932800" y="149544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6" name=""/>
                  <p:cNvSpPr/>
                  <p:nvPr/>
                </p:nvSpPr>
                <p:spPr>
                  <a:xfrm>
                    <a:off x="5953320" y="1515960"/>
                    <a:ext cx="586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7" name=""/>
                  <p:cNvSpPr/>
                  <p:nvPr/>
                </p:nvSpPr>
                <p:spPr>
                  <a:xfrm>
                    <a:off x="5953320" y="151596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8" name=""/>
                  <p:cNvSpPr/>
                  <p:nvPr/>
                </p:nvSpPr>
                <p:spPr>
                  <a:xfrm>
                    <a:off x="5972400" y="1515960"/>
                    <a:ext cx="586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9" name=""/>
                  <p:cNvSpPr/>
                  <p:nvPr/>
                </p:nvSpPr>
                <p:spPr>
                  <a:xfrm>
                    <a:off x="5972400" y="151596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0" name=""/>
                  <p:cNvSpPr/>
                  <p:nvPr/>
                </p:nvSpPr>
                <p:spPr>
                  <a:xfrm>
                    <a:off x="5992920" y="1557360"/>
                    <a:ext cx="5868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1" name=""/>
                  <p:cNvSpPr/>
                  <p:nvPr/>
                </p:nvSpPr>
                <p:spPr>
                  <a:xfrm>
                    <a:off x="5992920" y="1557360"/>
                    <a:ext cx="3816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2" name=""/>
                  <p:cNvSpPr/>
                  <p:nvPr/>
                </p:nvSpPr>
                <p:spPr>
                  <a:xfrm>
                    <a:off x="6012000" y="1557360"/>
                    <a:ext cx="5868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3" name=""/>
                  <p:cNvSpPr/>
                  <p:nvPr/>
                </p:nvSpPr>
                <p:spPr>
                  <a:xfrm>
                    <a:off x="6012000" y="1557360"/>
                    <a:ext cx="3960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4" name=""/>
                  <p:cNvSpPr/>
                  <p:nvPr/>
                </p:nvSpPr>
                <p:spPr>
                  <a:xfrm>
                    <a:off x="6031080" y="1576440"/>
                    <a:ext cx="6192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5" name=""/>
                  <p:cNvSpPr/>
                  <p:nvPr/>
                </p:nvSpPr>
                <p:spPr>
                  <a:xfrm>
                    <a:off x="6031080" y="1576440"/>
                    <a:ext cx="39600" cy="4428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6" name=""/>
                  <p:cNvSpPr/>
                  <p:nvPr/>
                </p:nvSpPr>
                <p:spPr>
                  <a:xfrm>
                    <a:off x="6051600" y="1620720"/>
                    <a:ext cx="604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7" name=""/>
                  <p:cNvSpPr/>
                  <p:nvPr/>
                </p:nvSpPr>
                <p:spPr>
                  <a:xfrm>
                    <a:off x="6051600" y="1620720"/>
                    <a:ext cx="41400" cy="399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8" name=""/>
                  <p:cNvSpPr/>
                  <p:nvPr/>
                </p:nvSpPr>
                <p:spPr>
                  <a:xfrm>
                    <a:off x="6070680" y="1620720"/>
                    <a:ext cx="604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9" name=""/>
                  <p:cNvSpPr/>
                  <p:nvPr/>
                </p:nvSpPr>
                <p:spPr>
                  <a:xfrm>
                    <a:off x="6070680" y="1620720"/>
                    <a:ext cx="41400" cy="399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0" name=""/>
                  <p:cNvSpPr/>
                  <p:nvPr/>
                </p:nvSpPr>
                <p:spPr>
                  <a:xfrm>
                    <a:off x="6093000" y="166068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1" name=""/>
                  <p:cNvSpPr/>
                  <p:nvPr/>
                </p:nvSpPr>
                <p:spPr>
                  <a:xfrm>
                    <a:off x="6093000" y="1660680"/>
                    <a:ext cx="3816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2" name=""/>
                  <p:cNvSpPr/>
                  <p:nvPr/>
                </p:nvSpPr>
                <p:spPr>
                  <a:xfrm>
                    <a:off x="6112080" y="166068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3" name=""/>
                  <p:cNvSpPr/>
                  <p:nvPr/>
                </p:nvSpPr>
                <p:spPr>
                  <a:xfrm>
                    <a:off x="6112080" y="1660680"/>
                    <a:ext cx="396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4" name=""/>
                  <p:cNvSpPr/>
                  <p:nvPr/>
                </p:nvSpPr>
                <p:spPr>
                  <a:xfrm>
                    <a:off x="6131160" y="1701720"/>
                    <a:ext cx="586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5" name=""/>
                  <p:cNvSpPr/>
                  <p:nvPr/>
                </p:nvSpPr>
                <p:spPr>
                  <a:xfrm>
                    <a:off x="6131160" y="170172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6" name=""/>
                  <p:cNvSpPr/>
                  <p:nvPr/>
                </p:nvSpPr>
                <p:spPr>
                  <a:xfrm>
                    <a:off x="6151680" y="1701720"/>
                    <a:ext cx="586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7" name=""/>
                  <p:cNvSpPr/>
                  <p:nvPr/>
                </p:nvSpPr>
                <p:spPr>
                  <a:xfrm>
                    <a:off x="6151680" y="1701720"/>
                    <a:ext cx="381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8" name=""/>
                  <p:cNvSpPr/>
                  <p:nvPr/>
                </p:nvSpPr>
                <p:spPr>
                  <a:xfrm>
                    <a:off x="6170760" y="1722600"/>
                    <a:ext cx="5868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9" name=""/>
                  <p:cNvSpPr/>
                  <p:nvPr/>
                </p:nvSpPr>
                <p:spPr>
                  <a:xfrm>
                    <a:off x="6170760" y="1722600"/>
                    <a:ext cx="3960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0" name=""/>
                  <p:cNvSpPr/>
                  <p:nvPr/>
                </p:nvSpPr>
                <p:spPr>
                  <a:xfrm>
                    <a:off x="6189840" y="1722600"/>
                    <a:ext cx="5868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1" name=""/>
                  <p:cNvSpPr/>
                  <p:nvPr/>
                </p:nvSpPr>
                <p:spPr>
                  <a:xfrm>
                    <a:off x="6189840" y="1722600"/>
                    <a:ext cx="3960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2" name=""/>
                  <p:cNvSpPr/>
                  <p:nvPr/>
                </p:nvSpPr>
                <p:spPr>
                  <a:xfrm>
                    <a:off x="6210360" y="1743120"/>
                    <a:ext cx="5868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3" name=""/>
                  <p:cNvSpPr/>
                  <p:nvPr/>
                </p:nvSpPr>
                <p:spPr>
                  <a:xfrm>
                    <a:off x="6210360" y="1743120"/>
                    <a:ext cx="3816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4" name=""/>
                  <p:cNvSpPr/>
                  <p:nvPr/>
                </p:nvSpPr>
                <p:spPr>
                  <a:xfrm>
                    <a:off x="6229440" y="1782720"/>
                    <a:ext cx="60480" cy="637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5" name=""/>
                  <p:cNvSpPr/>
                  <p:nvPr/>
                </p:nvSpPr>
                <p:spPr>
                  <a:xfrm>
                    <a:off x="6229440" y="1782720"/>
                    <a:ext cx="3960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6" name=""/>
                  <p:cNvSpPr/>
                  <p:nvPr/>
                </p:nvSpPr>
                <p:spPr>
                  <a:xfrm>
                    <a:off x="6248520" y="1782720"/>
                    <a:ext cx="61920" cy="637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7" name=""/>
                  <p:cNvSpPr/>
                  <p:nvPr/>
                </p:nvSpPr>
                <p:spPr>
                  <a:xfrm>
                    <a:off x="6248520" y="1782720"/>
                    <a:ext cx="4140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8" name=""/>
                  <p:cNvSpPr/>
                  <p:nvPr/>
                </p:nvSpPr>
                <p:spPr>
                  <a:xfrm>
                    <a:off x="6269040" y="1825560"/>
                    <a:ext cx="604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9" name=""/>
                  <p:cNvSpPr/>
                  <p:nvPr/>
                </p:nvSpPr>
                <p:spPr>
                  <a:xfrm>
                    <a:off x="6269040" y="1825560"/>
                    <a:ext cx="414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0" name=""/>
                  <p:cNvSpPr/>
                  <p:nvPr/>
                </p:nvSpPr>
                <p:spPr>
                  <a:xfrm>
                    <a:off x="6289920" y="182556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1" name=""/>
                  <p:cNvSpPr/>
                  <p:nvPr/>
                </p:nvSpPr>
                <p:spPr>
                  <a:xfrm>
                    <a:off x="6289920" y="182556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2" name=""/>
                  <p:cNvSpPr/>
                  <p:nvPr/>
                </p:nvSpPr>
                <p:spPr>
                  <a:xfrm>
                    <a:off x="6310440" y="1846440"/>
                    <a:ext cx="58680" cy="615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3" name=""/>
                  <p:cNvSpPr/>
                  <p:nvPr/>
                </p:nvSpPr>
                <p:spPr>
                  <a:xfrm>
                    <a:off x="6310440" y="1846440"/>
                    <a:ext cx="3816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4" name=""/>
                  <p:cNvSpPr/>
                  <p:nvPr/>
                </p:nvSpPr>
                <p:spPr>
                  <a:xfrm>
                    <a:off x="6329520" y="186696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5" name=""/>
                  <p:cNvSpPr/>
                  <p:nvPr/>
                </p:nvSpPr>
                <p:spPr>
                  <a:xfrm>
                    <a:off x="6329520" y="1866960"/>
                    <a:ext cx="396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6" name=""/>
                  <p:cNvSpPr/>
                  <p:nvPr/>
                </p:nvSpPr>
                <p:spPr>
                  <a:xfrm>
                    <a:off x="6329520" y="1887480"/>
                    <a:ext cx="586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7" name=""/>
                  <p:cNvSpPr/>
                  <p:nvPr/>
                </p:nvSpPr>
                <p:spPr>
                  <a:xfrm>
                    <a:off x="6329520" y="188748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8" name=""/>
                  <p:cNvSpPr/>
                  <p:nvPr/>
                </p:nvSpPr>
                <p:spPr>
                  <a:xfrm>
                    <a:off x="6348600" y="1908000"/>
                    <a:ext cx="604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9" name=""/>
                  <p:cNvSpPr/>
                  <p:nvPr/>
                </p:nvSpPr>
                <p:spPr>
                  <a:xfrm>
                    <a:off x="6348600" y="1908000"/>
                    <a:ext cx="39600" cy="399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0" name=""/>
                  <p:cNvSpPr/>
                  <p:nvPr/>
                </p:nvSpPr>
                <p:spPr>
                  <a:xfrm>
                    <a:off x="6369120" y="1928880"/>
                    <a:ext cx="5868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1" name=""/>
                  <p:cNvSpPr/>
                  <p:nvPr/>
                </p:nvSpPr>
                <p:spPr>
                  <a:xfrm>
                    <a:off x="6369120" y="1928880"/>
                    <a:ext cx="3996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2" name=""/>
                  <p:cNvSpPr/>
                  <p:nvPr/>
                </p:nvSpPr>
                <p:spPr>
                  <a:xfrm>
                    <a:off x="6388200" y="194796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3" name=""/>
                  <p:cNvSpPr/>
                  <p:nvPr/>
                </p:nvSpPr>
                <p:spPr>
                  <a:xfrm>
                    <a:off x="6388200" y="1947960"/>
                    <a:ext cx="396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4" name=""/>
                  <p:cNvSpPr/>
                  <p:nvPr/>
                </p:nvSpPr>
                <p:spPr>
                  <a:xfrm>
                    <a:off x="6409080" y="1968480"/>
                    <a:ext cx="5868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5" name=""/>
                  <p:cNvSpPr/>
                  <p:nvPr/>
                </p:nvSpPr>
                <p:spPr>
                  <a:xfrm>
                    <a:off x="6409080" y="1968480"/>
                    <a:ext cx="378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6" name=""/>
                  <p:cNvSpPr/>
                  <p:nvPr/>
                </p:nvSpPr>
                <p:spPr>
                  <a:xfrm>
                    <a:off x="6427800" y="1989000"/>
                    <a:ext cx="60480" cy="637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7" name=""/>
                  <p:cNvSpPr/>
                  <p:nvPr/>
                </p:nvSpPr>
                <p:spPr>
                  <a:xfrm>
                    <a:off x="6427800" y="1989000"/>
                    <a:ext cx="3996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8" name=""/>
                  <p:cNvSpPr/>
                  <p:nvPr/>
                </p:nvSpPr>
                <p:spPr>
                  <a:xfrm>
                    <a:off x="6446880" y="1989000"/>
                    <a:ext cx="61920" cy="637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9" name=""/>
                  <p:cNvSpPr/>
                  <p:nvPr/>
                </p:nvSpPr>
                <p:spPr>
                  <a:xfrm>
                    <a:off x="6446880" y="1989000"/>
                    <a:ext cx="4140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0" name=""/>
                  <p:cNvSpPr/>
                  <p:nvPr/>
                </p:nvSpPr>
                <p:spPr>
                  <a:xfrm>
                    <a:off x="6467760" y="2031840"/>
                    <a:ext cx="6012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1" name=""/>
                  <p:cNvSpPr/>
                  <p:nvPr/>
                </p:nvSpPr>
                <p:spPr>
                  <a:xfrm>
                    <a:off x="6467760" y="2031840"/>
                    <a:ext cx="4104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2" name=""/>
                  <p:cNvSpPr/>
                  <p:nvPr/>
                </p:nvSpPr>
                <p:spPr>
                  <a:xfrm>
                    <a:off x="6488280" y="203184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3" name=""/>
                  <p:cNvSpPr/>
                  <p:nvPr/>
                </p:nvSpPr>
                <p:spPr>
                  <a:xfrm>
                    <a:off x="6488280" y="203184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4" name=""/>
                  <p:cNvSpPr/>
                  <p:nvPr/>
                </p:nvSpPr>
                <p:spPr>
                  <a:xfrm>
                    <a:off x="6508800" y="2052720"/>
                    <a:ext cx="5904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5" name=""/>
                  <p:cNvSpPr/>
                  <p:nvPr/>
                </p:nvSpPr>
                <p:spPr>
                  <a:xfrm>
                    <a:off x="6508800" y="2052720"/>
                    <a:ext cx="3816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6" name=""/>
                  <p:cNvSpPr/>
                  <p:nvPr/>
                </p:nvSpPr>
                <p:spPr>
                  <a:xfrm>
                    <a:off x="6527880" y="2073240"/>
                    <a:ext cx="586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7" name=""/>
                  <p:cNvSpPr/>
                  <p:nvPr/>
                </p:nvSpPr>
                <p:spPr>
                  <a:xfrm>
                    <a:off x="6527880" y="2073240"/>
                    <a:ext cx="399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8" name=""/>
                  <p:cNvSpPr/>
                  <p:nvPr/>
                </p:nvSpPr>
                <p:spPr>
                  <a:xfrm>
                    <a:off x="6546960" y="2073240"/>
                    <a:ext cx="586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9" name=""/>
                  <p:cNvSpPr/>
                  <p:nvPr/>
                </p:nvSpPr>
                <p:spPr>
                  <a:xfrm>
                    <a:off x="6546960" y="207324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0" name=""/>
                  <p:cNvSpPr/>
                  <p:nvPr/>
                </p:nvSpPr>
                <p:spPr>
                  <a:xfrm>
                    <a:off x="6567840" y="2093760"/>
                    <a:ext cx="586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1" name=""/>
                  <p:cNvSpPr/>
                  <p:nvPr/>
                </p:nvSpPr>
                <p:spPr>
                  <a:xfrm>
                    <a:off x="6567840" y="2093760"/>
                    <a:ext cx="37800" cy="399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2" name=""/>
                  <p:cNvSpPr/>
                  <p:nvPr/>
                </p:nvSpPr>
                <p:spPr>
                  <a:xfrm>
                    <a:off x="6586560" y="2114640"/>
                    <a:ext cx="5904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3" name=""/>
                  <p:cNvSpPr/>
                  <p:nvPr/>
                </p:nvSpPr>
                <p:spPr>
                  <a:xfrm>
                    <a:off x="6586560" y="2114640"/>
                    <a:ext cx="3996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4" name=""/>
                  <p:cNvSpPr/>
                  <p:nvPr/>
                </p:nvSpPr>
                <p:spPr>
                  <a:xfrm>
                    <a:off x="6586560" y="2133720"/>
                    <a:ext cx="5904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5" name=""/>
                  <p:cNvSpPr/>
                  <p:nvPr/>
                </p:nvSpPr>
                <p:spPr>
                  <a:xfrm>
                    <a:off x="6586560" y="2133720"/>
                    <a:ext cx="3996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6" name=""/>
                  <p:cNvSpPr/>
                  <p:nvPr/>
                </p:nvSpPr>
                <p:spPr>
                  <a:xfrm>
                    <a:off x="6605640" y="2133720"/>
                    <a:ext cx="5904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7" name=""/>
                  <p:cNvSpPr/>
                  <p:nvPr/>
                </p:nvSpPr>
                <p:spPr>
                  <a:xfrm>
                    <a:off x="6605640" y="2133720"/>
                    <a:ext cx="3996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8" name=""/>
                  <p:cNvSpPr/>
                  <p:nvPr/>
                </p:nvSpPr>
                <p:spPr>
                  <a:xfrm>
                    <a:off x="6626520" y="2154240"/>
                    <a:ext cx="6012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9" name=""/>
                  <p:cNvSpPr/>
                  <p:nvPr/>
                </p:nvSpPr>
                <p:spPr>
                  <a:xfrm>
                    <a:off x="6626520" y="2154240"/>
                    <a:ext cx="381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0" name=""/>
                  <p:cNvSpPr/>
                  <p:nvPr/>
                </p:nvSpPr>
                <p:spPr>
                  <a:xfrm>
                    <a:off x="6645600" y="2174760"/>
                    <a:ext cx="60120" cy="637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1" name=""/>
                  <p:cNvSpPr/>
                  <p:nvPr/>
                </p:nvSpPr>
                <p:spPr>
                  <a:xfrm>
                    <a:off x="6645600" y="2174760"/>
                    <a:ext cx="4104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2" name=""/>
                  <p:cNvSpPr/>
                  <p:nvPr/>
                </p:nvSpPr>
                <p:spPr>
                  <a:xfrm>
                    <a:off x="6705720" y="2216160"/>
                    <a:ext cx="5868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3" name=""/>
                  <p:cNvSpPr/>
                  <p:nvPr/>
                </p:nvSpPr>
                <p:spPr>
                  <a:xfrm>
                    <a:off x="6705720" y="2216160"/>
                    <a:ext cx="3960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4" name=""/>
                  <p:cNvSpPr/>
                  <p:nvPr/>
                </p:nvSpPr>
                <p:spPr>
                  <a:xfrm>
                    <a:off x="6764400" y="2259000"/>
                    <a:ext cx="604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5" name=""/>
                  <p:cNvSpPr/>
                  <p:nvPr/>
                </p:nvSpPr>
                <p:spPr>
                  <a:xfrm>
                    <a:off x="6764400" y="2259000"/>
                    <a:ext cx="399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6" name=""/>
                  <p:cNvSpPr/>
                  <p:nvPr/>
                </p:nvSpPr>
                <p:spPr>
                  <a:xfrm>
                    <a:off x="6824880" y="2279520"/>
                    <a:ext cx="6012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7" name=""/>
                  <p:cNvSpPr/>
                  <p:nvPr/>
                </p:nvSpPr>
                <p:spPr>
                  <a:xfrm>
                    <a:off x="6824880" y="2279520"/>
                    <a:ext cx="38160" cy="399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8" name=""/>
                  <p:cNvSpPr/>
                  <p:nvPr/>
                </p:nvSpPr>
                <p:spPr>
                  <a:xfrm>
                    <a:off x="6885000" y="2319480"/>
                    <a:ext cx="5904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9" name=""/>
                  <p:cNvSpPr/>
                  <p:nvPr/>
                </p:nvSpPr>
                <p:spPr>
                  <a:xfrm>
                    <a:off x="6885000" y="2319480"/>
                    <a:ext cx="3996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0" name=""/>
                  <p:cNvSpPr/>
                  <p:nvPr/>
                </p:nvSpPr>
                <p:spPr>
                  <a:xfrm>
                    <a:off x="6924960" y="236052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1" name=""/>
                  <p:cNvSpPr/>
                  <p:nvPr/>
                </p:nvSpPr>
                <p:spPr>
                  <a:xfrm>
                    <a:off x="6924960" y="2360520"/>
                    <a:ext cx="381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2" name=""/>
                  <p:cNvSpPr/>
                  <p:nvPr/>
                </p:nvSpPr>
                <p:spPr>
                  <a:xfrm>
                    <a:off x="6983640" y="236052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3" name=""/>
                  <p:cNvSpPr/>
                  <p:nvPr/>
                </p:nvSpPr>
                <p:spPr>
                  <a:xfrm>
                    <a:off x="6983640" y="2360520"/>
                    <a:ext cx="381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4" name=""/>
                  <p:cNvSpPr/>
                  <p:nvPr/>
                </p:nvSpPr>
                <p:spPr>
                  <a:xfrm>
                    <a:off x="7042320" y="2381400"/>
                    <a:ext cx="6048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5" name=""/>
                  <p:cNvSpPr/>
                  <p:nvPr/>
                </p:nvSpPr>
                <p:spPr>
                  <a:xfrm>
                    <a:off x="7042320" y="2381400"/>
                    <a:ext cx="414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6" name=""/>
                  <p:cNvSpPr/>
                  <p:nvPr/>
                </p:nvSpPr>
                <p:spPr>
                  <a:xfrm>
                    <a:off x="7102800" y="2401920"/>
                    <a:ext cx="5868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7" name=""/>
                  <p:cNvSpPr/>
                  <p:nvPr/>
                </p:nvSpPr>
                <p:spPr>
                  <a:xfrm>
                    <a:off x="7102800" y="2401920"/>
                    <a:ext cx="3960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8" name=""/>
                  <p:cNvSpPr/>
                  <p:nvPr/>
                </p:nvSpPr>
                <p:spPr>
                  <a:xfrm>
                    <a:off x="7161480" y="2486160"/>
                    <a:ext cx="5868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9" name=""/>
                  <p:cNvSpPr/>
                  <p:nvPr/>
                </p:nvSpPr>
                <p:spPr>
                  <a:xfrm>
                    <a:off x="7161480" y="2486160"/>
                    <a:ext cx="3960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0" name=""/>
                  <p:cNvSpPr/>
                  <p:nvPr/>
                </p:nvSpPr>
                <p:spPr>
                  <a:xfrm>
                    <a:off x="7201080" y="2465280"/>
                    <a:ext cx="604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1" name=""/>
                  <p:cNvSpPr/>
                  <p:nvPr/>
                </p:nvSpPr>
                <p:spPr>
                  <a:xfrm>
                    <a:off x="7201080" y="2465280"/>
                    <a:ext cx="39600" cy="399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2" name=""/>
                  <p:cNvSpPr/>
                  <p:nvPr/>
                </p:nvSpPr>
                <p:spPr>
                  <a:xfrm>
                    <a:off x="7261560" y="2486160"/>
                    <a:ext cx="5868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3" name=""/>
                  <p:cNvSpPr/>
                  <p:nvPr/>
                </p:nvSpPr>
                <p:spPr>
                  <a:xfrm>
                    <a:off x="7261560" y="2486160"/>
                    <a:ext cx="3960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4" name=""/>
                  <p:cNvSpPr/>
                  <p:nvPr/>
                </p:nvSpPr>
                <p:spPr>
                  <a:xfrm>
                    <a:off x="7320240" y="252576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5" name=""/>
                  <p:cNvSpPr/>
                  <p:nvPr/>
                </p:nvSpPr>
                <p:spPr>
                  <a:xfrm>
                    <a:off x="7320240" y="252576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6" name=""/>
                  <p:cNvSpPr/>
                  <p:nvPr/>
                </p:nvSpPr>
                <p:spPr>
                  <a:xfrm>
                    <a:off x="7399440" y="2546280"/>
                    <a:ext cx="604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7" name=""/>
                  <p:cNvSpPr/>
                  <p:nvPr/>
                </p:nvSpPr>
                <p:spPr>
                  <a:xfrm>
                    <a:off x="7399440" y="2546280"/>
                    <a:ext cx="381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8" name=""/>
                  <p:cNvSpPr/>
                  <p:nvPr/>
                </p:nvSpPr>
                <p:spPr>
                  <a:xfrm>
                    <a:off x="7537680" y="2587680"/>
                    <a:ext cx="6012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9" name=""/>
                  <p:cNvSpPr/>
                  <p:nvPr/>
                </p:nvSpPr>
                <p:spPr>
                  <a:xfrm>
                    <a:off x="7537680" y="2587680"/>
                    <a:ext cx="3960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0" name=""/>
                  <p:cNvSpPr/>
                  <p:nvPr/>
                </p:nvSpPr>
                <p:spPr>
                  <a:xfrm>
                    <a:off x="7677360" y="269064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1" name=""/>
                  <p:cNvSpPr/>
                  <p:nvPr/>
                </p:nvSpPr>
                <p:spPr>
                  <a:xfrm>
                    <a:off x="7677360" y="269064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2" name=""/>
                  <p:cNvSpPr/>
                  <p:nvPr/>
                </p:nvSpPr>
                <p:spPr>
                  <a:xfrm>
                    <a:off x="7775640" y="273204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3" name=""/>
                  <p:cNvSpPr/>
                  <p:nvPr/>
                </p:nvSpPr>
                <p:spPr>
                  <a:xfrm>
                    <a:off x="7775640" y="2732040"/>
                    <a:ext cx="399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4" name=""/>
                  <p:cNvSpPr/>
                  <p:nvPr/>
                </p:nvSpPr>
                <p:spPr>
                  <a:xfrm>
                    <a:off x="7953480" y="2752560"/>
                    <a:ext cx="604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5" name=""/>
                  <p:cNvSpPr/>
                  <p:nvPr/>
                </p:nvSpPr>
                <p:spPr>
                  <a:xfrm>
                    <a:off x="7953480" y="275256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6" name=""/>
                  <p:cNvSpPr/>
                  <p:nvPr/>
                </p:nvSpPr>
                <p:spPr>
                  <a:xfrm>
                    <a:off x="8093160" y="2773440"/>
                    <a:ext cx="5868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7" name=""/>
                  <p:cNvSpPr/>
                  <p:nvPr/>
                </p:nvSpPr>
                <p:spPr>
                  <a:xfrm>
                    <a:off x="8093160" y="2773440"/>
                    <a:ext cx="3996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8" name=""/>
                  <p:cNvSpPr/>
                  <p:nvPr/>
                </p:nvSpPr>
                <p:spPr>
                  <a:xfrm>
                    <a:off x="8231400" y="2813040"/>
                    <a:ext cx="6012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9" name=""/>
                  <p:cNvSpPr/>
                  <p:nvPr/>
                </p:nvSpPr>
                <p:spPr>
                  <a:xfrm>
                    <a:off x="8231400" y="2813040"/>
                    <a:ext cx="4140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20" name=""/>
                <p:cNvSpPr/>
                <p:nvPr/>
              </p:nvSpPr>
              <p:spPr>
                <a:xfrm>
                  <a:off x="6492600" y="1301760"/>
                  <a:ext cx="27439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cf305"/>
                      </a:solidFill>
                      <a:latin typeface="Trebuchet MS"/>
                    </a:rPr>
                    <a:t>[Benzoate] =  873 µM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1" name=""/>
              <p:cNvGrpSpPr/>
              <p:nvPr/>
            </p:nvGrpSpPr>
            <p:grpSpPr>
              <a:xfrm>
                <a:off x="5055120" y="1401840"/>
                <a:ext cx="686520" cy="1861920"/>
                <a:chOff x="5055120" y="1401840"/>
                <a:chExt cx="686520" cy="1861920"/>
              </a:xfrm>
            </p:grpSpPr>
            <p:sp>
              <p:nvSpPr>
                <p:cNvPr id="4822" name=""/>
                <p:cNvSpPr/>
                <p:nvPr/>
              </p:nvSpPr>
              <p:spPr>
                <a:xfrm>
                  <a:off x="5055120" y="3035160"/>
                  <a:ext cx="6865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.0001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3" name=""/>
                <p:cNvSpPr/>
                <p:nvPr/>
              </p:nvSpPr>
              <p:spPr>
                <a:xfrm>
                  <a:off x="5162400" y="2500200"/>
                  <a:ext cx="572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.001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4" name=""/>
                <p:cNvSpPr/>
                <p:nvPr/>
              </p:nvSpPr>
              <p:spPr>
                <a:xfrm>
                  <a:off x="5269680" y="1940040"/>
                  <a:ext cx="4579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.01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5" name=""/>
                <p:cNvSpPr/>
                <p:nvPr/>
              </p:nvSpPr>
              <p:spPr>
                <a:xfrm>
                  <a:off x="5376600" y="140184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.1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26" name=""/>
            <p:cNvGrpSpPr/>
            <p:nvPr/>
          </p:nvGrpSpPr>
          <p:grpSpPr>
            <a:xfrm>
              <a:off x="5791320" y="76320"/>
              <a:ext cx="2164680" cy="1137960"/>
              <a:chOff x="5791320" y="76320"/>
              <a:chExt cx="2164680" cy="1137960"/>
            </a:xfrm>
          </p:grpSpPr>
          <p:sp>
            <p:nvSpPr>
              <p:cNvPr id="4827" name=""/>
              <p:cNvSpPr/>
              <p:nvPr/>
            </p:nvSpPr>
            <p:spPr>
              <a:xfrm>
                <a:off x="6157800" y="169920"/>
                <a:ext cx="68400" cy="6768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5791320" y="76320"/>
                <a:ext cx="2057400" cy="1137960"/>
              </a:xfrm>
              <a:prstGeom prst="rect">
                <a:avLst/>
              </a:prstGeom>
              <a:noFill/>
              <a:ln w="2052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6157800" y="461880"/>
                <a:ext cx="68400" cy="680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6384240" y="401400"/>
                <a:ext cx="11667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27fc20"/>
                    </a:solidFill>
                    <a:latin typeface="Trebuchet MS"/>
                  </a:rPr>
                  <a:t>Hippurate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6414840" y="122040"/>
                <a:ext cx="10371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7ffdff"/>
                    </a:solidFill>
                    <a:latin typeface="Trebuchet MS"/>
                  </a:rPr>
                  <a:t>Benzoate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5907240" y="793800"/>
                <a:ext cx="523800" cy="1080"/>
              </a:xfrm>
              <a:prstGeom prst="line">
                <a:avLst/>
              </a:prstGeom>
              <a:ln w="1260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6301080" y="658800"/>
                <a:ext cx="1555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7ffdff"/>
                    </a:solidFill>
                    <a:latin typeface="Trebuchet MS"/>
                  </a:rPr>
                  <a:t>Benzoate fit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5907240" y="1022400"/>
                <a:ext cx="523800" cy="108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6271200" y="887400"/>
                <a:ext cx="1684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27fc20"/>
                    </a:solidFill>
                    <a:latin typeface="Trebuchet MS"/>
                  </a:rPr>
                  <a:t>Hippurate fit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4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6" name="" descr=""/>
          <p:cNvPicPr/>
          <p:nvPr/>
        </p:nvPicPr>
        <p:blipFill>
          <a:blip r:embed="rId1"/>
          <a:stretch/>
        </p:blipFill>
        <p:spPr>
          <a:xfrm>
            <a:off x="-304920" y="1511280"/>
            <a:ext cx="4664160" cy="4876920"/>
          </a:xfrm>
          <a:prstGeom prst="rect">
            <a:avLst/>
          </a:prstGeom>
          <a:ln w="0">
            <a:noFill/>
          </a:ln>
        </p:spPr>
      </p:pic>
      <p:pic>
        <p:nvPicPr>
          <p:cNvPr id="4837" name="" descr=""/>
          <p:cNvPicPr/>
          <p:nvPr/>
        </p:nvPicPr>
        <p:blipFill>
          <a:blip r:embed="rId2"/>
          <a:stretch/>
        </p:blipFill>
        <p:spPr>
          <a:xfrm>
            <a:off x="2451240" y="2044800"/>
            <a:ext cx="1672920" cy="1836720"/>
          </a:xfrm>
          <a:prstGeom prst="rect">
            <a:avLst/>
          </a:prstGeom>
          <a:ln w="0">
            <a:noFill/>
          </a:ln>
        </p:spPr>
      </p:pic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326880" y="269640"/>
            <a:ext cx="412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2 Intracellular Benzoate Pools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grpSp>
        <p:nvGrpSpPr>
          <p:cNvPr id="4839" name=""/>
          <p:cNvGrpSpPr/>
          <p:nvPr/>
        </p:nvGrpSpPr>
        <p:grpSpPr>
          <a:xfrm>
            <a:off x="4560480" y="76320"/>
            <a:ext cx="4675680" cy="6723360"/>
            <a:chOff x="4560480" y="76320"/>
            <a:chExt cx="4675680" cy="6723360"/>
          </a:xfrm>
        </p:grpSpPr>
        <p:sp>
          <p:nvSpPr>
            <p:cNvPr id="4840" name=""/>
            <p:cNvSpPr/>
            <p:nvPr/>
          </p:nvSpPr>
          <p:spPr>
            <a:xfrm>
              <a:off x="6489000" y="640080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rebuchet MS"/>
                </a:rPr>
                <a:t>Time (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 rot="16216800">
              <a:off x="2382840" y="3403800"/>
              <a:ext cx="47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rebuchet MS"/>
                </a:rPr>
                <a:t>Normalized Concentration (ml</a:t>
              </a:r>
              <a:r>
                <a:rPr b="0" lang="en-US" sz="2000" spc="-1" strike="noStrike" baseline="30000">
                  <a:solidFill>
                    <a:srgbClr val="ffff66"/>
                  </a:solidFill>
                  <a:latin typeface="Trebuchet MS"/>
                </a:rPr>
                <a:t>–1</a:t>
              </a:r>
              <a:r>
                <a:rPr b="0" lang="en-US" sz="2000" spc="-1" strike="noStrike">
                  <a:solidFill>
                    <a:srgbClr val="ffff66"/>
                  </a:solidFill>
                  <a:latin typeface="Trebuchet MS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42" name=""/>
            <p:cNvGrpSpPr/>
            <p:nvPr/>
          </p:nvGrpSpPr>
          <p:grpSpPr>
            <a:xfrm>
              <a:off x="5042160" y="3768840"/>
              <a:ext cx="4017600" cy="2651400"/>
              <a:chOff x="5042160" y="3768840"/>
              <a:chExt cx="4017600" cy="2651400"/>
            </a:xfrm>
          </p:grpSpPr>
          <p:grpSp>
            <p:nvGrpSpPr>
              <p:cNvPr id="4843" name=""/>
              <p:cNvGrpSpPr/>
              <p:nvPr/>
            </p:nvGrpSpPr>
            <p:grpSpPr>
              <a:xfrm>
                <a:off x="5743440" y="3810960"/>
                <a:ext cx="2763360" cy="2236680"/>
                <a:chOff x="5743440" y="3810960"/>
                <a:chExt cx="2763360" cy="2236680"/>
              </a:xfrm>
            </p:grpSpPr>
            <p:sp>
              <p:nvSpPr>
                <p:cNvPr id="4844" name=""/>
                <p:cNvSpPr/>
                <p:nvPr/>
              </p:nvSpPr>
              <p:spPr>
                <a:xfrm>
                  <a:off x="5770440" y="3870360"/>
                  <a:ext cx="1987560" cy="2165760"/>
                </a:xfrm>
                <a:custGeom>
                  <a:avLst/>
                  <a:gdLst/>
                  <a:ahLst/>
                  <a:rect l="l" t="t" r="r" b="b"/>
                  <a:pathLst>
                    <a:path w="917" h="936">
                      <a:moveTo>
                        <a:pt x="917" y="930"/>
                      </a:moveTo>
                      <a:cubicBezTo>
                        <a:pt x="844" y="894"/>
                        <a:pt x="772" y="859"/>
                        <a:pt x="695" y="818"/>
                      </a:cubicBezTo>
                      <a:cubicBezTo>
                        <a:pt x="617" y="776"/>
                        <a:pt x="516" y="727"/>
                        <a:pt x="451" y="682"/>
                      </a:cubicBezTo>
                      <a:cubicBezTo>
                        <a:pt x="385" y="636"/>
                        <a:pt x="354" y="615"/>
                        <a:pt x="301" y="544"/>
                      </a:cubicBezTo>
                      <a:cubicBezTo>
                        <a:pt x="247" y="472"/>
                        <a:pt x="168" y="327"/>
                        <a:pt x="127" y="254"/>
                      </a:cubicBezTo>
                      <a:cubicBezTo>
                        <a:pt x="85" y="180"/>
                        <a:pt x="70" y="141"/>
                        <a:pt x="53" y="100"/>
                      </a:cubicBezTo>
                      <a:cubicBezTo>
                        <a:pt x="35" y="58"/>
                        <a:pt x="27" y="8"/>
                        <a:pt x="19" y="4"/>
                      </a:cubicBezTo>
                      <a:cubicBezTo>
                        <a:pt x="10" y="0"/>
                        <a:pt x="5" y="51"/>
                        <a:pt x="3" y="76"/>
                      </a:cubicBezTo>
                      <a:cubicBezTo>
                        <a:pt x="0" y="101"/>
                        <a:pt x="4" y="10"/>
                        <a:pt x="5" y="154"/>
                      </a:cubicBezTo>
                      <a:cubicBezTo>
                        <a:pt x="5" y="297"/>
                        <a:pt x="4" y="616"/>
                        <a:pt x="5" y="936"/>
                      </a:cubicBezTo>
                    </a:path>
                  </a:pathLst>
                </a:custGeom>
                <a:noFill/>
                <a:ln w="12600">
                  <a:solidFill>
                    <a:srgbClr val="66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5" name=""/>
                <p:cNvSpPr/>
                <p:nvPr/>
              </p:nvSpPr>
              <p:spPr>
                <a:xfrm>
                  <a:off x="5776560" y="4120920"/>
                  <a:ext cx="2468880" cy="1926720"/>
                </a:xfrm>
                <a:custGeom>
                  <a:avLst/>
                  <a:gdLst/>
                  <a:ahLst/>
                  <a:rect l="l" t="t" r="r" b="b"/>
                  <a:pathLst>
                    <a:path w="1139" h="833">
                      <a:moveTo>
                        <a:pt x="1139" y="603"/>
                      </a:moveTo>
                      <a:cubicBezTo>
                        <a:pt x="1111" y="594"/>
                        <a:pt x="1031" y="571"/>
                        <a:pt x="972" y="550"/>
                      </a:cubicBezTo>
                      <a:cubicBezTo>
                        <a:pt x="912" y="528"/>
                        <a:pt x="843" y="504"/>
                        <a:pt x="779" y="475"/>
                      </a:cubicBezTo>
                      <a:cubicBezTo>
                        <a:pt x="714" y="445"/>
                        <a:pt x="644" y="407"/>
                        <a:pt x="587" y="371"/>
                      </a:cubicBezTo>
                      <a:cubicBezTo>
                        <a:pt x="529" y="334"/>
                        <a:pt x="483" y="293"/>
                        <a:pt x="435" y="254"/>
                      </a:cubicBezTo>
                      <a:cubicBezTo>
                        <a:pt x="386" y="214"/>
                        <a:pt x="337" y="169"/>
                        <a:pt x="297" y="134"/>
                      </a:cubicBezTo>
                      <a:cubicBezTo>
                        <a:pt x="256" y="98"/>
                        <a:pt x="215" y="61"/>
                        <a:pt x="190" y="41"/>
                      </a:cubicBezTo>
                      <a:cubicBezTo>
                        <a:pt x="164" y="20"/>
                        <a:pt x="156" y="20"/>
                        <a:pt x="142" y="14"/>
                      </a:cubicBezTo>
                      <a:cubicBezTo>
                        <a:pt x="127" y="7"/>
                        <a:pt x="113" y="0"/>
                        <a:pt x="102" y="3"/>
                      </a:cubicBezTo>
                      <a:cubicBezTo>
                        <a:pt x="90" y="5"/>
                        <a:pt x="80" y="13"/>
                        <a:pt x="70" y="27"/>
                      </a:cubicBezTo>
                      <a:cubicBezTo>
                        <a:pt x="59" y="40"/>
                        <a:pt x="48" y="47"/>
                        <a:pt x="41" y="81"/>
                      </a:cubicBezTo>
                      <a:cubicBezTo>
                        <a:pt x="33" y="114"/>
                        <a:pt x="27" y="170"/>
                        <a:pt x="22" y="230"/>
                      </a:cubicBezTo>
                      <a:cubicBezTo>
                        <a:pt x="16" y="289"/>
                        <a:pt x="12" y="381"/>
                        <a:pt x="9" y="441"/>
                      </a:cubicBezTo>
                      <a:cubicBezTo>
                        <a:pt x="5" y="501"/>
                        <a:pt x="2" y="524"/>
                        <a:pt x="1" y="590"/>
                      </a:cubicBezTo>
                      <a:cubicBezTo>
                        <a:pt x="0" y="655"/>
                        <a:pt x="1" y="744"/>
                        <a:pt x="3" y="833"/>
                      </a:cubicBezTo>
                    </a:path>
                  </a:pathLst>
                </a:custGeom>
                <a:noFill/>
                <a:ln w="93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46" name=""/>
                <p:cNvGrpSpPr/>
                <p:nvPr/>
              </p:nvGrpSpPr>
              <p:grpSpPr>
                <a:xfrm>
                  <a:off x="5743440" y="3810960"/>
                  <a:ext cx="2763360" cy="2231280"/>
                  <a:chOff x="5743440" y="3810960"/>
                  <a:chExt cx="2763360" cy="2231280"/>
                </a:xfrm>
              </p:grpSpPr>
              <p:grpSp>
                <p:nvGrpSpPr>
                  <p:cNvPr id="4847" name=""/>
                  <p:cNvGrpSpPr/>
                  <p:nvPr/>
                </p:nvGrpSpPr>
                <p:grpSpPr>
                  <a:xfrm>
                    <a:off x="5743440" y="3977280"/>
                    <a:ext cx="99720" cy="2064240"/>
                    <a:chOff x="5743440" y="3977280"/>
                    <a:chExt cx="99720" cy="2064240"/>
                  </a:xfrm>
                </p:grpSpPr>
                <p:sp>
                  <p:nvSpPr>
                    <p:cNvPr id="4848" name=""/>
                    <p:cNvSpPr/>
                    <p:nvPr/>
                  </p:nvSpPr>
                  <p:spPr>
                    <a:xfrm>
                      <a:off x="5743440" y="5662800"/>
                      <a:ext cx="997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9" name=""/>
                    <p:cNvSpPr/>
                    <p:nvPr/>
                  </p:nvSpPr>
                  <p:spPr>
                    <a:xfrm>
                      <a:off x="5743440" y="5094000"/>
                      <a:ext cx="997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0" name=""/>
                    <p:cNvSpPr/>
                    <p:nvPr/>
                  </p:nvSpPr>
                  <p:spPr>
                    <a:xfrm>
                      <a:off x="5743440" y="4546080"/>
                      <a:ext cx="997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1" name=""/>
                    <p:cNvSpPr/>
                    <p:nvPr/>
                  </p:nvSpPr>
                  <p:spPr>
                    <a:xfrm>
                      <a:off x="5743440" y="3977280"/>
                      <a:ext cx="997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2" name=""/>
                    <p:cNvSpPr/>
                    <p:nvPr/>
                  </p:nvSpPr>
                  <p:spPr>
                    <a:xfrm>
                      <a:off x="5743440" y="603972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3" name=""/>
                    <p:cNvSpPr/>
                    <p:nvPr/>
                  </p:nvSpPr>
                  <p:spPr>
                    <a:xfrm>
                      <a:off x="5743440" y="595656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4" name=""/>
                    <p:cNvSpPr/>
                    <p:nvPr/>
                  </p:nvSpPr>
                  <p:spPr>
                    <a:xfrm>
                      <a:off x="5743440" y="587304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5" name=""/>
                    <p:cNvSpPr/>
                    <p:nvPr/>
                  </p:nvSpPr>
                  <p:spPr>
                    <a:xfrm>
                      <a:off x="5743440" y="582912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6" name=""/>
                    <p:cNvSpPr/>
                    <p:nvPr/>
                  </p:nvSpPr>
                  <p:spPr>
                    <a:xfrm>
                      <a:off x="5743440" y="578772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7" name=""/>
                    <p:cNvSpPr/>
                    <p:nvPr/>
                  </p:nvSpPr>
                  <p:spPr>
                    <a:xfrm>
                      <a:off x="5743440" y="574632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8" name=""/>
                    <p:cNvSpPr/>
                    <p:nvPr/>
                  </p:nvSpPr>
                  <p:spPr>
                    <a:xfrm>
                      <a:off x="5743440" y="570420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9" name=""/>
                    <p:cNvSpPr/>
                    <p:nvPr/>
                  </p:nvSpPr>
                  <p:spPr>
                    <a:xfrm>
                      <a:off x="5743440" y="568368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0" name=""/>
                    <p:cNvSpPr/>
                    <p:nvPr/>
                  </p:nvSpPr>
                  <p:spPr>
                    <a:xfrm>
                      <a:off x="5743440" y="549396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1" name=""/>
                    <p:cNvSpPr/>
                    <p:nvPr/>
                  </p:nvSpPr>
                  <p:spPr>
                    <a:xfrm>
                      <a:off x="5743440" y="538740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2" name=""/>
                    <p:cNvSpPr/>
                    <p:nvPr/>
                  </p:nvSpPr>
                  <p:spPr>
                    <a:xfrm>
                      <a:off x="5743440" y="532512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3" name=""/>
                    <p:cNvSpPr/>
                    <p:nvPr/>
                  </p:nvSpPr>
                  <p:spPr>
                    <a:xfrm>
                      <a:off x="5743440" y="526284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4" name=""/>
                    <p:cNvSpPr/>
                    <p:nvPr/>
                  </p:nvSpPr>
                  <p:spPr>
                    <a:xfrm>
                      <a:off x="5743440" y="521856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5" name=""/>
                    <p:cNvSpPr/>
                    <p:nvPr/>
                  </p:nvSpPr>
                  <p:spPr>
                    <a:xfrm>
                      <a:off x="5743440" y="517716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6" name=""/>
                    <p:cNvSpPr/>
                    <p:nvPr/>
                  </p:nvSpPr>
                  <p:spPr>
                    <a:xfrm>
                      <a:off x="5743440" y="515628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7" name=""/>
                    <p:cNvSpPr/>
                    <p:nvPr/>
                  </p:nvSpPr>
                  <p:spPr>
                    <a:xfrm>
                      <a:off x="5743440" y="513540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8" name=""/>
                    <p:cNvSpPr/>
                    <p:nvPr/>
                  </p:nvSpPr>
                  <p:spPr>
                    <a:xfrm>
                      <a:off x="5743440" y="492516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9" name=""/>
                    <p:cNvSpPr/>
                    <p:nvPr/>
                  </p:nvSpPr>
                  <p:spPr>
                    <a:xfrm>
                      <a:off x="5743440" y="484164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0" name=""/>
                    <p:cNvSpPr/>
                    <p:nvPr/>
                  </p:nvSpPr>
                  <p:spPr>
                    <a:xfrm>
                      <a:off x="5743440" y="475632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1" name=""/>
                    <p:cNvSpPr/>
                    <p:nvPr/>
                  </p:nvSpPr>
                  <p:spPr>
                    <a:xfrm>
                      <a:off x="5743440" y="471492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2" name=""/>
                    <p:cNvSpPr/>
                    <p:nvPr/>
                  </p:nvSpPr>
                  <p:spPr>
                    <a:xfrm>
                      <a:off x="5743440" y="467280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3" name=""/>
                    <p:cNvSpPr/>
                    <p:nvPr/>
                  </p:nvSpPr>
                  <p:spPr>
                    <a:xfrm>
                      <a:off x="5743440" y="463140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4" name=""/>
                    <p:cNvSpPr/>
                    <p:nvPr/>
                  </p:nvSpPr>
                  <p:spPr>
                    <a:xfrm>
                      <a:off x="5743440" y="458748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5" name=""/>
                    <p:cNvSpPr/>
                    <p:nvPr/>
                  </p:nvSpPr>
                  <p:spPr>
                    <a:xfrm>
                      <a:off x="5743440" y="456696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6" name=""/>
                    <p:cNvSpPr/>
                    <p:nvPr/>
                  </p:nvSpPr>
                  <p:spPr>
                    <a:xfrm>
                      <a:off x="5743440" y="437724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7" name=""/>
                    <p:cNvSpPr/>
                    <p:nvPr/>
                  </p:nvSpPr>
                  <p:spPr>
                    <a:xfrm>
                      <a:off x="5743440" y="427320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8" name=""/>
                    <p:cNvSpPr/>
                    <p:nvPr/>
                  </p:nvSpPr>
                  <p:spPr>
                    <a:xfrm>
                      <a:off x="5743440" y="421092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9" name=""/>
                    <p:cNvSpPr/>
                    <p:nvPr/>
                  </p:nvSpPr>
                  <p:spPr>
                    <a:xfrm>
                      <a:off x="5743440" y="414576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0" name=""/>
                    <p:cNvSpPr/>
                    <p:nvPr/>
                  </p:nvSpPr>
                  <p:spPr>
                    <a:xfrm>
                      <a:off x="5743440" y="410436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1" name=""/>
                    <p:cNvSpPr/>
                    <p:nvPr/>
                  </p:nvSpPr>
                  <p:spPr>
                    <a:xfrm>
                      <a:off x="5743440" y="406260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2" name=""/>
                    <p:cNvSpPr/>
                    <p:nvPr/>
                  </p:nvSpPr>
                  <p:spPr>
                    <a:xfrm>
                      <a:off x="5743440" y="404208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3" name=""/>
                    <p:cNvSpPr/>
                    <p:nvPr/>
                  </p:nvSpPr>
                  <p:spPr>
                    <a:xfrm>
                      <a:off x="5743440" y="402120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84" name=""/>
                  <p:cNvGrpSpPr/>
                  <p:nvPr/>
                </p:nvGrpSpPr>
                <p:grpSpPr>
                  <a:xfrm>
                    <a:off x="5743440" y="5935320"/>
                    <a:ext cx="2763360" cy="104760"/>
                    <a:chOff x="5743440" y="5935320"/>
                    <a:chExt cx="2763360" cy="104760"/>
                  </a:xfrm>
                </p:grpSpPr>
                <p:sp>
                  <p:nvSpPr>
                    <p:cNvPr id="4885" name=""/>
                    <p:cNvSpPr/>
                    <p:nvPr/>
                  </p:nvSpPr>
                  <p:spPr>
                    <a:xfrm flipV="1">
                      <a:off x="5743440" y="5935320"/>
                      <a:ext cx="1800" cy="1047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6" name=""/>
                    <p:cNvSpPr/>
                    <p:nvPr/>
                  </p:nvSpPr>
                  <p:spPr>
                    <a:xfrm flipV="1">
                      <a:off x="6198480" y="5935320"/>
                      <a:ext cx="1800" cy="1047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7" name=""/>
                    <p:cNvSpPr/>
                    <p:nvPr/>
                  </p:nvSpPr>
                  <p:spPr>
                    <a:xfrm flipV="1">
                      <a:off x="6670800" y="5935320"/>
                      <a:ext cx="2160" cy="1047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8" name=""/>
                    <p:cNvSpPr/>
                    <p:nvPr/>
                  </p:nvSpPr>
                  <p:spPr>
                    <a:xfrm flipV="1">
                      <a:off x="7124040" y="5935320"/>
                      <a:ext cx="1800" cy="1047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9" name=""/>
                    <p:cNvSpPr/>
                    <p:nvPr/>
                  </p:nvSpPr>
                  <p:spPr>
                    <a:xfrm flipV="1">
                      <a:off x="7579440" y="5935320"/>
                      <a:ext cx="1800" cy="1047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0" name=""/>
                    <p:cNvSpPr/>
                    <p:nvPr/>
                  </p:nvSpPr>
                  <p:spPr>
                    <a:xfrm flipV="1">
                      <a:off x="8032320" y="5935320"/>
                      <a:ext cx="1800" cy="1047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1" name=""/>
                    <p:cNvSpPr/>
                    <p:nvPr/>
                  </p:nvSpPr>
                  <p:spPr>
                    <a:xfrm flipV="1">
                      <a:off x="8505000" y="5935320"/>
                      <a:ext cx="1800" cy="1047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2" name=""/>
                    <p:cNvSpPr/>
                    <p:nvPr/>
                  </p:nvSpPr>
                  <p:spPr>
                    <a:xfrm flipV="1">
                      <a:off x="5843160" y="5997960"/>
                      <a:ext cx="180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3" name=""/>
                    <p:cNvSpPr/>
                    <p:nvPr/>
                  </p:nvSpPr>
                  <p:spPr>
                    <a:xfrm flipV="1">
                      <a:off x="5920560" y="5997960"/>
                      <a:ext cx="216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4" name=""/>
                    <p:cNvSpPr/>
                    <p:nvPr/>
                  </p:nvSpPr>
                  <p:spPr>
                    <a:xfrm flipV="1">
                      <a:off x="6020640" y="5997960"/>
                      <a:ext cx="216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5" name=""/>
                    <p:cNvSpPr/>
                    <p:nvPr/>
                  </p:nvSpPr>
                  <p:spPr>
                    <a:xfrm flipV="1">
                      <a:off x="6118200" y="5997960"/>
                      <a:ext cx="180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6" name=""/>
                    <p:cNvSpPr/>
                    <p:nvPr/>
                  </p:nvSpPr>
                  <p:spPr>
                    <a:xfrm flipV="1">
                      <a:off x="6295680" y="5997960"/>
                      <a:ext cx="216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7" name=""/>
                    <p:cNvSpPr/>
                    <p:nvPr/>
                  </p:nvSpPr>
                  <p:spPr>
                    <a:xfrm flipV="1">
                      <a:off x="6395400" y="5997960"/>
                      <a:ext cx="216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8" name=""/>
                    <p:cNvSpPr/>
                    <p:nvPr/>
                  </p:nvSpPr>
                  <p:spPr>
                    <a:xfrm flipV="1">
                      <a:off x="6473880" y="5997960"/>
                      <a:ext cx="180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9" name=""/>
                    <p:cNvSpPr/>
                    <p:nvPr/>
                  </p:nvSpPr>
                  <p:spPr>
                    <a:xfrm flipV="1">
                      <a:off x="6571080" y="5997960"/>
                      <a:ext cx="216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0" name=""/>
                    <p:cNvSpPr/>
                    <p:nvPr/>
                  </p:nvSpPr>
                  <p:spPr>
                    <a:xfrm flipV="1">
                      <a:off x="6748920" y="5997960"/>
                      <a:ext cx="180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1" name=""/>
                    <p:cNvSpPr/>
                    <p:nvPr/>
                  </p:nvSpPr>
                  <p:spPr>
                    <a:xfrm flipV="1">
                      <a:off x="6848640" y="5997960"/>
                      <a:ext cx="180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2" name=""/>
                    <p:cNvSpPr/>
                    <p:nvPr/>
                  </p:nvSpPr>
                  <p:spPr>
                    <a:xfrm flipV="1">
                      <a:off x="6927120" y="5997960"/>
                      <a:ext cx="180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3" name=""/>
                    <p:cNvSpPr/>
                    <p:nvPr/>
                  </p:nvSpPr>
                  <p:spPr>
                    <a:xfrm flipV="1">
                      <a:off x="7026120" y="5997960"/>
                      <a:ext cx="216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4" name=""/>
                    <p:cNvSpPr/>
                    <p:nvPr/>
                  </p:nvSpPr>
                  <p:spPr>
                    <a:xfrm flipV="1">
                      <a:off x="7204320" y="5997960"/>
                      <a:ext cx="180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5" name=""/>
                    <p:cNvSpPr/>
                    <p:nvPr/>
                  </p:nvSpPr>
                  <p:spPr>
                    <a:xfrm flipV="1">
                      <a:off x="7301520" y="5997960"/>
                      <a:ext cx="216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6" name=""/>
                    <p:cNvSpPr/>
                    <p:nvPr/>
                  </p:nvSpPr>
                  <p:spPr>
                    <a:xfrm flipV="1">
                      <a:off x="7401240" y="5997960"/>
                      <a:ext cx="216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7" name=""/>
                    <p:cNvSpPr/>
                    <p:nvPr/>
                  </p:nvSpPr>
                  <p:spPr>
                    <a:xfrm flipV="1">
                      <a:off x="7479360" y="5997960"/>
                      <a:ext cx="180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8" name=""/>
                    <p:cNvSpPr/>
                    <p:nvPr/>
                  </p:nvSpPr>
                  <p:spPr>
                    <a:xfrm flipV="1">
                      <a:off x="7676640" y="5997960"/>
                      <a:ext cx="216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9" name=""/>
                    <p:cNvSpPr/>
                    <p:nvPr/>
                  </p:nvSpPr>
                  <p:spPr>
                    <a:xfrm flipV="1">
                      <a:off x="7757280" y="5997960"/>
                      <a:ext cx="180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0" name=""/>
                    <p:cNvSpPr/>
                    <p:nvPr/>
                  </p:nvSpPr>
                  <p:spPr>
                    <a:xfrm flipV="1">
                      <a:off x="7854480" y="5997960"/>
                      <a:ext cx="180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1" name=""/>
                    <p:cNvSpPr/>
                    <p:nvPr/>
                  </p:nvSpPr>
                  <p:spPr>
                    <a:xfrm flipV="1">
                      <a:off x="7954200" y="5997960"/>
                      <a:ext cx="180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2" name=""/>
                    <p:cNvSpPr/>
                    <p:nvPr/>
                  </p:nvSpPr>
                  <p:spPr>
                    <a:xfrm flipV="1">
                      <a:off x="8129880" y="5997960"/>
                      <a:ext cx="180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3" name=""/>
                    <p:cNvSpPr/>
                    <p:nvPr/>
                  </p:nvSpPr>
                  <p:spPr>
                    <a:xfrm flipV="1">
                      <a:off x="8229600" y="5997960"/>
                      <a:ext cx="180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4" name=""/>
                    <p:cNvSpPr/>
                    <p:nvPr/>
                  </p:nvSpPr>
                  <p:spPr>
                    <a:xfrm flipV="1">
                      <a:off x="8307720" y="5997960"/>
                      <a:ext cx="180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5" name=""/>
                    <p:cNvSpPr/>
                    <p:nvPr/>
                  </p:nvSpPr>
                  <p:spPr>
                    <a:xfrm flipV="1">
                      <a:off x="8407080" y="5997960"/>
                      <a:ext cx="2160" cy="421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16" name=""/>
                  <p:cNvSpPr/>
                  <p:nvPr/>
                </p:nvSpPr>
                <p:spPr>
                  <a:xfrm flipV="1">
                    <a:off x="5743440" y="3810960"/>
                    <a:ext cx="3240" cy="2229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7" name=""/>
                  <p:cNvSpPr/>
                  <p:nvPr/>
                </p:nvSpPr>
                <p:spPr>
                  <a:xfrm>
                    <a:off x="5743440" y="6040800"/>
                    <a:ext cx="2762280" cy="14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8" name=""/>
                  <p:cNvSpPr/>
                  <p:nvPr/>
                </p:nvSpPr>
                <p:spPr>
                  <a:xfrm>
                    <a:off x="5763960" y="5808240"/>
                    <a:ext cx="60480" cy="6624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9" name=""/>
                  <p:cNvSpPr/>
                  <p:nvPr/>
                </p:nvSpPr>
                <p:spPr>
                  <a:xfrm>
                    <a:off x="5783040" y="5303880"/>
                    <a:ext cx="6048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0" name=""/>
                  <p:cNvSpPr/>
                  <p:nvPr/>
                </p:nvSpPr>
                <p:spPr>
                  <a:xfrm>
                    <a:off x="5783040" y="5157000"/>
                    <a:ext cx="6048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1" name=""/>
                  <p:cNvSpPr/>
                  <p:nvPr/>
                </p:nvSpPr>
                <p:spPr>
                  <a:xfrm>
                    <a:off x="5802120" y="4925520"/>
                    <a:ext cx="60480" cy="615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2" name=""/>
                  <p:cNvSpPr/>
                  <p:nvPr/>
                </p:nvSpPr>
                <p:spPr>
                  <a:xfrm>
                    <a:off x="5824440" y="4755960"/>
                    <a:ext cx="5868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3" name=""/>
                  <p:cNvSpPr/>
                  <p:nvPr/>
                </p:nvSpPr>
                <p:spPr>
                  <a:xfrm>
                    <a:off x="5843520" y="4631760"/>
                    <a:ext cx="5868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4" name=""/>
                  <p:cNvSpPr/>
                  <p:nvPr/>
                </p:nvSpPr>
                <p:spPr>
                  <a:xfrm>
                    <a:off x="5862600" y="4525200"/>
                    <a:ext cx="5868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5" name=""/>
                  <p:cNvSpPr/>
                  <p:nvPr/>
                </p:nvSpPr>
                <p:spPr>
                  <a:xfrm>
                    <a:off x="5883120" y="4421880"/>
                    <a:ext cx="58680" cy="612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6" name=""/>
                  <p:cNvSpPr/>
                  <p:nvPr/>
                </p:nvSpPr>
                <p:spPr>
                  <a:xfrm>
                    <a:off x="5902200" y="4377600"/>
                    <a:ext cx="58680" cy="648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7" name=""/>
                  <p:cNvSpPr/>
                  <p:nvPr/>
                </p:nvSpPr>
                <p:spPr>
                  <a:xfrm>
                    <a:off x="5921280" y="4335840"/>
                    <a:ext cx="58680" cy="612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8" name=""/>
                  <p:cNvSpPr/>
                  <p:nvPr/>
                </p:nvSpPr>
                <p:spPr>
                  <a:xfrm>
                    <a:off x="5941800" y="4293720"/>
                    <a:ext cx="5724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9" name=""/>
                  <p:cNvSpPr/>
                  <p:nvPr/>
                </p:nvSpPr>
                <p:spPr>
                  <a:xfrm>
                    <a:off x="5960880" y="4272840"/>
                    <a:ext cx="6048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0" name=""/>
                  <p:cNvSpPr/>
                  <p:nvPr/>
                </p:nvSpPr>
                <p:spPr>
                  <a:xfrm>
                    <a:off x="5979960" y="4251960"/>
                    <a:ext cx="60120" cy="6264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1" name=""/>
                  <p:cNvSpPr/>
                  <p:nvPr/>
                </p:nvSpPr>
                <p:spPr>
                  <a:xfrm>
                    <a:off x="5999040" y="4230720"/>
                    <a:ext cx="6192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2" name=""/>
                  <p:cNvSpPr/>
                  <p:nvPr/>
                </p:nvSpPr>
                <p:spPr>
                  <a:xfrm>
                    <a:off x="6021360" y="4211280"/>
                    <a:ext cx="58680" cy="615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3" name=""/>
                  <p:cNvSpPr/>
                  <p:nvPr/>
                </p:nvSpPr>
                <p:spPr>
                  <a:xfrm>
                    <a:off x="6040080" y="4211280"/>
                    <a:ext cx="59040" cy="615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4" name=""/>
                  <p:cNvSpPr/>
                  <p:nvPr/>
                </p:nvSpPr>
                <p:spPr>
                  <a:xfrm>
                    <a:off x="6060960" y="4187160"/>
                    <a:ext cx="58680" cy="648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5" name=""/>
                  <p:cNvSpPr/>
                  <p:nvPr/>
                </p:nvSpPr>
                <p:spPr>
                  <a:xfrm>
                    <a:off x="6080040" y="4211280"/>
                    <a:ext cx="58680" cy="615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6" name=""/>
                  <p:cNvSpPr/>
                  <p:nvPr/>
                </p:nvSpPr>
                <p:spPr>
                  <a:xfrm>
                    <a:off x="6099120" y="4187160"/>
                    <a:ext cx="58680" cy="648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7" name=""/>
                  <p:cNvSpPr/>
                  <p:nvPr/>
                </p:nvSpPr>
                <p:spPr>
                  <a:xfrm>
                    <a:off x="6119640" y="4211280"/>
                    <a:ext cx="57240" cy="615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8" name=""/>
                  <p:cNvSpPr/>
                  <p:nvPr/>
                </p:nvSpPr>
                <p:spPr>
                  <a:xfrm>
                    <a:off x="6138720" y="4211280"/>
                    <a:ext cx="60120" cy="615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9" name=""/>
                  <p:cNvSpPr/>
                  <p:nvPr/>
                </p:nvSpPr>
                <p:spPr>
                  <a:xfrm>
                    <a:off x="6157800" y="4211280"/>
                    <a:ext cx="60120" cy="615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0" name=""/>
                  <p:cNvSpPr/>
                  <p:nvPr/>
                </p:nvSpPr>
                <p:spPr>
                  <a:xfrm>
                    <a:off x="6176880" y="4211280"/>
                    <a:ext cx="61920" cy="615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1" name=""/>
                  <p:cNvSpPr/>
                  <p:nvPr/>
                </p:nvSpPr>
                <p:spPr>
                  <a:xfrm>
                    <a:off x="6198840" y="4230720"/>
                    <a:ext cx="5904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2" name=""/>
                  <p:cNvSpPr/>
                  <p:nvPr/>
                </p:nvSpPr>
                <p:spPr>
                  <a:xfrm>
                    <a:off x="6217920" y="4230720"/>
                    <a:ext cx="5904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3" name=""/>
                  <p:cNvSpPr/>
                  <p:nvPr/>
                </p:nvSpPr>
                <p:spPr>
                  <a:xfrm>
                    <a:off x="6238800" y="4251960"/>
                    <a:ext cx="58680" cy="6264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4" name=""/>
                  <p:cNvSpPr/>
                  <p:nvPr/>
                </p:nvSpPr>
                <p:spPr>
                  <a:xfrm>
                    <a:off x="6257880" y="4251960"/>
                    <a:ext cx="58680" cy="6264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5" name=""/>
                  <p:cNvSpPr/>
                  <p:nvPr/>
                </p:nvSpPr>
                <p:spPr>
                  <a:xfrm>
                    <a:off x="6276960" y="4251960"/>
                    <a:ext cx="58680" cy="6264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6" name=""/>
                  <p:cNvSpPr/>
                  <p:nvPr/>
                </p:nvSpPr>
                <p:spPr>
                  <a:xfrm>
                    <a:off x="6297480" y="4251960"/>
                    <a:ext cx="57240" cy="6264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7" name=""/>
                  <p:cNvSpPr/>
                  <p:nvPr/>
                </p:nvSpPr>
                <p:spPr>
                  <a:xfrm>
                    <a:off x="6316560" y="4251960"/>
                    <a:ext cx="58680" cy="6264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8" name=""/>
                  <p:cNvSpPr/>
                  <p:nvPr/>
                </p:nvSpPr>
                <p:spPr>
                  <a:xfrm>
                    <a:off x="6316560" y="4272840"/>
                    <a:ext cx="5868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9" name=""/>
                  <p:cNvSpPr/>
                  <p:nvPr/>
                </p:nvSpPr>
                <p:spPr>
                  <a:xfrm>
                    <a:off x="6335640" y="4293720"/>
                    <a:ext cx="6012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0" name=""/>
                  <p:cNvSpPr/>
                  <p:nvPr/>
                </p:nvSpPr>
                <p:spPr>
                  <a:xfrm>
                    <a:off x="6354720" y="4293720"/>
                    <a:ext cx="6192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1" name=""/>
                  <p:cNvSpPr/>
                  <p:nvPr/>
                </p:nvSpPr>
                <p:spPr>
                  <a:xfrm>
                    <a:off x="6375240" y="4293720"/>
                    <a:ext cx="6048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2" name=""/>
                  <p:cNvSpPr/>
                  <p:nvPr/>
                </p:nvSpPr>
                <p:spPr>
                  <a:xfrm>
                    <a:off x="6395760" y="4293720"/>
                    <a:ext cx="5868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3" name=""/>
                  <p:cNvSpPr/>
                  <p:nvPr/>
                </p:nvSpPr>
                <p:spPr>
                  <a:xfrm>
                    <a:off x="6416640" y="4314600"/>
                    <a:ext cx="5688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4" name=""/>
                  <p:cNvSpPr/>
                  <p:nvPr/>
                </p:nvSpPr>
                <p:spPr>
                  <a:xfrm>
                    <a:off x="6435720" y="4314600"/>
                    <a:ext cx="5868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5" name=""/>
                  <p:cNvSpPr/>
                  <p:nvPr/>
                </p:nvSpPr>
                <p:spPr>
                  <a:xfrm>
                    <a:off x="6454440" y="4314600"/>
                    <a:ext cx="5904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6" name=""/>
                  <p:cNvSpPr/>
                  <p:nvPr/>
                </p:nvSpPr>
                <p:spPr>
                  <a:xfrm>
                    <a:off x="6473520" y="4335840"/>
                    <a:ext cx="59040" cy="612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7" name=""/>
                  <p:cNvSpPr/>
                  <p:nvPr/>
                </p:nvSpPr>
                <p:spPr>
                  <a:xfrm>
                    <a:off x="6494400" y="4335840"/>
                    <a:ext cx="58680" cy="612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8" name=""/>
                  <p:cNvSpPr/>
                  <p:nvPr/>
                </p:nvSpPr>
                <p:spPr>
                  <a:xfrm>
                    <a:off x="6513480" y="4356720"/>
                    <a:ext cx="58680" cy="648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9" name=""/>
                  <p:cNvSpPr/>
                  <p:nvPr/>
                </p:nvSpPr>
                <p:spPr>
                  <a:xfrm>
                    <a:off x="6532560" y="4356720"/>
                    <a:ext cx="61560" cy="648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0" name=""/>
                  <p:cNvSpPr/>
                  <p:nvPr/>
                </p:nvSpPr>
                <p:spPr>
                  <a:xfrm>
                    <a:off x="6553080" y="4377600"/>
                    <a:ext cx="60120" cy="648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1" name=""/>
                  <p:cNvSpPr/>
                  <p:nvPr/>
                </p:nvSpPr>
                <p:spPr>
                  <a:xfrm>
                    <a:off x="6572160" y="4377600"/>
                    <a:ext cx="60120" cy="648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2" name=""/>
                  <p:cNvSpPr/>
                  <p:nvPr/>
                </p:nvSpPr>
                <p:spPr>
                  <a:xfrm>
                    <a:off x="6594120" y="4397040"/>
                    <a:ext cx="57240" cy="6624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3" name=""/>
                  <p:cNvSpPr/>
                  <p:nvPr/>
                </p:nvSpPr>
                <p:spPr>
                  <a:xfrm>
                    <a:off x="6613200" y="4397040"/>
                    <a:ext cx="59040" cy="6624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4" name=""/>
                  <p:cNvSpPr/>
                  <p:nvPr/>
                </p:nvSpPr>
                <p:spPr>
                  <a:xfrm>
                    <a:off x="6632280" y="4421880"/>
                    <a:ext cx="58680" cy="612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5" name=""/>
                  <p:cNvSpPr/>
                  <p:nvPr/>
                </p:nvSpPr>
                <p:spPr>
                  <a:xfrm>
                    <a:off x="6690960" y="4421880"/>
                    <a:ext cx="59040" cy="612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6" name=""/>
                  <p:cNvSpPr/>
                  <p:nvPr/>
                </p:nvSpPr>
                <p:spPr>
                  <a:xfrm>
                    <a:off x="6750000" y="4483080"/>
                    <a:ext cx="6012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7" name=""/>
                  <p:cNvSpPr/>
                  <p:nvPr/>
                </p:nvSpPr>
                <p:spPr>
                  <a:xfrm>
                    <a:off x="6810120" y="4503960"/>
                    <a:ext cx="5868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8" name=""/>
                  <p:cNvSpPr/>
                  <p:nvPr/>
                </p:nvSpPr>
                <p:spPr>
                  <a:xfrm>
                    <a:off x="6868800" y="4546080"/>
                    <a:ext cx="5904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9" name=""/>
                  <p:cNvSpPr/>
                  <p:nvPr/>
                </p:nvSpPr>
                <p:spPr>
                  <a:xfrm>
                    <a:off x="6906960" y="4588200"/>
                    <a:ext cx="58680" cy="6444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0" name=""/>
                  <p:cNvSpPr/>
                  <p:nvPr/>
                </p:nvSpPr>
                <p:spPr>
                  <a:xfrm>
                    <a:off x="6965640" y="4631760"/>
                    <a:ext cx="6192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1" name=""/>
                  <p:cNvSpPr/>
                  <p:nvPr/>
                </p:nvSpPr>
                <p:spPr>
                  <a:xfrm>
                    <a:off x="7027560" y="4652640"/>
                    <a:ext cx="5724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2" name=""/>
                  <p:cNvSpPr/>
                  <p:nvPr/>
                </p:nvSpPr>
                <p:spPr>
                  <a:xfrm>
                    <a:off x="7084800" y="4694760"/>
                    <a:ext cx="58680" cy="612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3" name=""/>
                  <p:cNvSpPr/>
                  <p:nvPr/>
                </p:nvSpPr>
                <p:spPr>
                  <a:xfrm>
                    <a:off x="7143480" y="4735080"/>
                    <a:ext cx="6192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4" name=""/>
                  <p:cNvSpPr/>
                  <p:nvPr/>
                </p:nvSpPr>
                <p:spPr>
                  <a:xfrm>
                    <a:off x="7184880" y="4777200"/>
                    <a:ext cx="58680" cy="6444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5" name=""/>
                  <p:cNvSpPr/>
                  <p:nvPr/>
                </p:nvSpPr>
                <p:spPr>
                  <a:xfrm>
                    <a:off x="7243560" y="4818960"/>
                    <a:ext cx="58680" cy="648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6" name=""/>
                  <p:cNvSpPr/>
                  <p:nvPr/>
                </p:nvSpPr>
                <p:spPr>
                  <a:xfrm>
                    <a:off x="7302240" y="4862520"/>
                    <a:ext cx="6048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7" name=""/>
                  <p:cNvSpPr/>
                  <p:nvPr/>
                </p:nvSpPr>
                <p:spPr>
                  <a:xfrm>
                    <a:off x="7381800" y="4925520"/>
                    <a:ext cx="58680" cy="615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8" name=""/>
                  <p:cNvSpPr/>
                  <p:nvPr/>
                </p:nvSpPr>
                <p:spPr>
                  <a:xfrm>
                    <a:off x="7518240" y="5008320"/>
                    <a:ext cx="61920" cy="648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9" name=""/>
                  <p:cNvSpPr/>
                  <p:nvPr/>
                </p:nvSpPr>
                <p:spPr>
                  <a:xfrm>
                    <a:off x="7657920" y="5094000"/>
                    <a:ext cx="5868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0" name=""/>
                  <p:cNvSpPr/>
                  <p:nvPr/>
                </p:nvSpPr>
                <p:spPr>
                  <a:xfrm>
                    <a:off x="7796160" y="5177880"/>
                    <a:ext cx="58680" cy="648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1" name=""/>
                  <p:cNvSpPr/>
                  <p:nvPr/>
                </p:nvSpPr>
                <p:spPr>
                  <a:xfrm>
                    <a:off x="7932600" y="5242680"/>
                    <a:ext cx="60120" cy="612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2" name=""/>
                  <p:cNvSpPr/>
                  <p:nvPr/>
                </p:nvSpPr>
                <p:spPr>
                  <a:xfrm>
                    <a:off x="8072280" y="5263560"/>
                    <a:ext cx="57240" cy="615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3" name=""/>
                  <p:cNvSpPr/>
                  <p:nvPr/>
                </p:nvSpPr>
                <p:spPr>
                  <a:xfrm>
                    <a:off x="8210520" y="5325120"/>
                    <a:ext cx="58680" cy="6300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4" name=""/>
                  <p:cNvSpPr/>
                  <p:nvPr/>
                </p:nvSpPr>
                <p:spPr>
                  <a:xfrm>
                    <a:off x="5743440" y="5177880"/>
                    <a:ext cx="58680" cy="648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5" name=""/>
                  <p:cNvSpPr/>
                  <p:nvPr/>
                </p:nvSpPr>
                <p:spPr>
                  <a:xfrm>
                    <a:off x="5743440" y="5177880"/>
                    <a:ext cx="3960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6" name=""/>
                  <p:cNvSpPr/>
                  <p:nvPr/>
                </p:nvSpPr>
                <p:spPr>
                  <a:xfrm>
                    <a:off x="5763960" y="4187160"/>
                    <a:ext cx="60480" cy="648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7" name=""/>
                  <p:cNvSpPr/>
                  <p:nvPr/>
                </p:nvSpPr>
                <p:spPr>
                  <a:xfrm>
                    <a:off x="5763960" y="4187160"/>
                    <a:ext cx="38160" cy="435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8" name=""/>
                  <p:cNvSpPr/>
                  <p:nvPr/>
                </p:nvSpPr>
                <p:spPr>
                  <a:xfrm>
                    <a:off x="5783040" y="3894840"/>
                    <a:ext cx="60480" cy="615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9" name=""/>
                  <p:cNvSpPr/>
                  <p:nvPr/>
                </p:nvSpPr>
                <p:spPr>
                  <a:xfrm>
                    <a:off x="5783040" y="3894840"/>
                    <a:ext cx="41400" cy="399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0" name=""/>
                  <p:cNvSpPr/>
                  <p:nvPr/>
                </p:nvSpPr>
                <p:spPr>
                  <a:xfrm>
                    <a:off x="5783040" y="3852720"/>
                    <a:ext cx="60480" cy="615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1" name=""/>
                  <p:cNvSpPr/>
                  <p:nvPr/>
                </p:nvSpPr>
                <p:spPr>
                  <a:xfrm>
                    <a:off x="5783040" y="3852720"/>
                    <a:ext cx="4140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2" name=""/>
                  <p:cNvSpPr/>
                  <p:nvPr/>
                </p:nvSpPr>
                <p:spPr>
                  <a:xfrm>
                    <a:off x="5802120" y="3914280"/>
                    <a:ext cx="6048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3" name=""/>
                  <p:cNvSpPr/>
                  <p:nvPr/>
                </p:nvSpPr>
                <p:spPr>
                  <a:xfrm>
                    <a:off x="5802120" y="3914280"/>
                    <a:ext cx="4140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4" name=""/>
                  <p:cNvSpPr/>
                  <p:nvPr/>
                </p:nvSpPr>
                <p:spPr>
                  <a:xfrm>
                    <a:off x="5824440" y="3977280"/>
                    <a:ext cx="58680" cy="6444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5" name=""/>
                  <p:cNvSpPr/>
                  <p:nvPr/>
                </p:nvSpPr>
                <p:spPr>
                  <a:xfrm>
                    <a:off x="5824440" y="3977280"/>
                    <a:ext cx="38160" cy="435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6" name=""/>
                  <p:cNvSpPr/>
                  <p:nvPr/>
                </p:nvSpPr>
                <p:spPr>
                  <a:xfrm>
                    <a:off x="5843520" y="4020840"/>
                    <a:ext cx="5868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7" name=""/>
                  <p:cNvSpPr/>
                  <p:nvPr/>
                </p:nvSpPr>
                <p:spPr>
                  <a:xfrm>
                    <a:off x="5843520" y="4020840"/>
                    <a:ext cx="3960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8" name=""/>
                  <p:cNvSpPr/>
                  <p:nvPr/>
                </p:nvSpPr>
                <p:spPr>
                  <a:xfrm>
                    <a:off x="5862600" y="4104720"/>
                    <a:ext cx="58680" cy="615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9" name=""/>
                  <p:cNvSpPr/>
                  <p:nvPr/>
                </p:nvSpPr>
                <p:spPr>
                  <a:xfrm>
                    <a:off x="5862600" y="4104720"/>
                    <a:ext cx="3960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0" name=""/>
                  <p:cNvSpPr/>
                  <p:nvPr/>
                </p:nvSpPr>
                <p:spPr>
                  <a:xfrm>
                    <a:off x="5883120" y="4146840"/>
                    <a:ext cx="58680" cy="6444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1" name=""/>
                  <p:cNvSpPr/>
                  <p:nvPr/>
                </p:nvSpPr>
                <p:spPr>
                  <a:xfrm>
                    <a:off x="5883120" y="4146840"/>
                    <a:ext cx="38160" cy="399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2" name=""/>
                  <p:cNvSpPr/>
                  <p:nvPr/>
                </p:nvSpPr>
                <p:spPr>
                  <a:xfrm>
                    <a:off x="5902200" y="4187160"/>
                    <a:ext cx="58680" cy="648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3" name=""/>
                  <p:cNvSpPr/>
                  <p:nvPr/>
                </p:nvSpPr>
                <p:spPr>
                  <a:xfrm>
                    <a:off x="5902200" y="4187160"/>
                    <a:ext cx="39600" cy="435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4" name=""/>
                  <p:cNvSpPr/>
                  <p:nvPr/>
                </p:nvSpPr>
                <p:spPr>
                  <a:xfrm>
                    <a:off x="5921280" y="4230720"/>
                    <a:ext cx="5868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5" name=""/>
                  <p:cNvSpPr/>
                  <p:nvPr/>
                </p:nvSpPr>
                <p:spPr>
                  <a:xfrm>
                    <a:off x="5921280" y="4230720"/>
                    <a:ext cx="3960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6" name=""/>
                  <p:cNvSpPr/>
                  <p:nvPr/>
                </p:nvSpPr>
                <p:spPr>
                  <a:xfrm>
                    <a:off x="5941800" y="4272840"/>
                    <a:ext cx="5724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7" name=""/>
                  <p:cNvSpPr/>
                  <p:nvPr/>
                </p:nvSpPr>
                <p:spPr>
                  <a:xfrm>
                    <a:off x="5941800" y="4272840"/>
                    <a:ext cx="38160" cy="417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8" name=""/>
                  <p:cNvSpPr/>
                  <p:nvPr/>
                </p:nvSpPr>
                <p:spPr>
                  <a:xfrm>
                    <a:off x="5960880" y="4314600"/>
                    <a:ext cx="6048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9" name=""/>
                  <p:cNvSpPr/>
                  <p:nvPr/>
                </p:nvSpPr>
                <p:spPr>
                  <a:xfrm>
                    <a:off x="5960880" y="4314600"/>
                    <a:ext cx="3816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0" name=""/>
                  <p:cNvSpPr/>
                  <p:nvPr/>
                </p:nvSpPr>
                <p:spPr>
                  <a:xfrm>
                    <a:off x="5979960" y="4335840"/>
                    <a:ext cx="60120" cy="612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1" name=""/>
                  <p:cNvSpPr/>
                  <p:nvPr/>
                </p:nvSpPr>
                <p:spPr>
                  <a:xfrm>
                    <a:off x="5979960" y="4335840"/>
                    <a:ext cx="41400" cy="417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2" name=""/>
                  <p:cNvSpPr/>
                  <p:nvPr/>
                </p:nvSpPr>
                <p:spPr>
                  <a:xfrm>
                    <a:off x="5999040" y="4377600"/>
                    <a:ext cx="61920" cy="648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3" name=""/>
                  <p:cNvSpPr/>
                  <p:nvPr/>
                </p:nvSpPr>
                <p:spPr>
                  <a:xfrm>
                    <a:off x="5999040" y="4377600"/>
                    <a:ext cx="41040" cy="439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4" name=""/>
                  <p:cNvSpPr/>
                  <p:nvPr/>
                </p:nvSpPr>
                <p:spPr>
                  <a:xfrm>
                    <a:off x="6021360" y="4397040"/>
                    <a:ext cx="58680" cy="6624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5" name=""/>
                  <p:cNvSpPr/>
                  <p:nvPr/>
                </p:nvSpPr>
                <p:spPr>
                  <a:xfrm>
                    <a:off x="6021360" y="4397040"/>
                    <a:ext cx="39600" cy="453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6" name=""/>
                  <p:cNvSpPr/>
                  <p:nvPr/>
                </p:nvSpPr>
                <p:spPr>
                  <a:xfrm>
                    <a:off x="6040080" y="4442760"/>
                    <a:ext cx="59040" cy="612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7" name=""/>
                  <p:cNvSpPr/>
                  <p:nvPr/>
                </p:nvSpPr>
                <p:spPr>
                  <a:xfrm>
                    <a:off x="6040080" y="4442760"/>
                    <a:ext cx="39960" cy="399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8" name=""/>
                  <p:cNvSpPr/>
                  <p:nvPr/>
                </p:nvSpPr>
                <p:spPr>
                  <a:xfrm>
                    <a:off x="6040080" y="4463640"/>
                    <a:ext cx="59040" cy="615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9" name=""/>
                  <p:cNvSpPr/>
                  <p:nvPr/>
                </p:nvSpPr>
                <p:spPr>
                  <a:xfrm>
                    <a:off x="6040080" y="4463640"/>
                    <a:ext cx="39960" cy="399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0" name=""/>
                  <p:cNvSpPr/>
                  <p:nvPr/>
                </p:nvSpPr>
                <p:spPr>
                  <a:xfrm>
                    <a:off x="6060960" y="4503960"/>
                    <a:ext cx="5868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1" name=""/>
                  <p:cNvSpPr/>
                  <p:nvPr/>
                </p:nvSpPr>
                <p:spPr>
                  <a:xfrm>
                    <a:off x="6060960" y="4503960"/>
                    <a:ext cx="3816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2" name=""/>
                  <p:cNvSpPr/>
                  <p:nvPr/>
                </p:nvSpPr>
                <p:spPr>
                  <a:xfrm>
                    <a:off x="6080040" y="4546080"/>
                    <a:ext cx="5868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3" name=""/>
                  <p:cNvSpPr/>
                  <p:nvPr/>
                </p:nvSpPr>
                <p:spPr>
                  <a:xfrm>
                    <a:off x="6080040" y="4546080"/>
                    <a:ext cx="3960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4" name=""/>
                  <p:cNvSpPr/>
                  <p:nvPr/>
                </p:nvSpPr>
                <p:spPr>
                  <a:xfrm>
                    <a:off x="6099120" y="4566960"/>
                    <a:ext cx="58680" cy="648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5" name=""/>
                  <p:cNvSpPr/>
                  <p:nvPr/>
                </p:nvSpPr>
                <p:spPr>
                  <a:xfrm>
                    <a:off x="6099120" y="4566960"/>
                    <a:ext cx="3960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6" name=""/>
                  <p:cNvSpPr/>
                  <p:nvPr/>
                </p:nvSpPr>
                <p:spPr>
                  <a:xfrm>
                    <a:off x="6119640" y="4652640"/>
                    <a:ext cx="5724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7" name=""/>
                  <p:cNvSpPr/>
                  <p:nvPr/>
                </p:nvSpPr>
                <p:spPr>
                  <a:xfrm>
                    <a:off x="6119640" y="4652640"/>
                    <a:ext cx="3816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8" name=""/>
                  <p:cNvSpPr/>
                  <p:nvPr/>
                </p:nvSpPr>
                <p:spPr>
                  <a:xfrm>
                    <a:off x="6138720" y="4694760"/>
                    <a:ext cx="60120" cy="612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9" name=""/>
                  <p:cNvSpPr/>
                  <p:nvPr/>
                </p:nvSpPr>
                <p:spPr>
                  <a:xfrm>
                    <a:off x="6138720" y="4694760"/>
                    <a:ext cx="38160" cy="399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0" name=""/>
                  <p:cNvSpPr/>
                  <p:nvPr/>
                </p:nvSpPr>
                <p:spPr>
                  <a:xfrm>
                    <a:off x="6157800" y="4715640"/>
                    <a:ext cx="60120" cy="615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1" name=""/>
                  <p:cNvSpPr/>
                  <p:nvPr/>
                </p:nvSpPr>
                <p:spPr>
                  <a:xfrm>
                    <a:off x="6157800" y="4715640"/>
                    <a:ext cx="41040" cy="399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2" name=""/>
                  <p:cNvSpPr/>
                  <p:nvPr/>
                </p:nvSpPr>
                <p:spPr>
                  <a:xfrm>
                    <a:off x="6176880" y="4755960"/>
                    <a:ext cx="6192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3" name=""/>
                  <p:cNvSpPr/>
                  <p:nvPr/>
                </p:nvSpPr>
                <p:spPr>
                  <a:xfrm>
                    <a:off x="6176880" y="4755960"/>
                    <a:ext cx="4104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4" name=""/>
                  <p:cNvSpPr/>
                  <p:nvPr/>
                </p:nvSpPr>
                <p:spPr>
                  <a:xfrm>
                    <a:off x="6198840" y="4777200"/>
                    <a:ext cx="59040" cy="6444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5" name=""/>
                  <p:cNvSpPr/>
                  <p:nvPr/>
                </p:nvSpPr>
                <p:spPr>
                  <a:xfrm>
                    <a:off x="6198840" y="4777200"/>
                    <a:ext cx="39960" cy="417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6" name=""/>
                  <p:cNvSpPr/>
                  <p:nvPr/>
                </p:nvSpPr>
                <p:spPr>
                  <a:xfrm>
                    <a:off x="6217920" y="4841640"/>
                    <a:ext cx="5904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7" name=""/>
                  <p:cNvSpPr/>
                  <p:nvPr/>
                </p:nvSpPr>
                <p:spPr>
                  <a:xfrm>
                    <a:off x="6217920" y="4841640"/>
                    <a:ext cx="3996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8" name=""/>
                  <p:cNvSpPr/>
                  <p:nvPr/>
                </p:nvSpPr>
                <p:spPr>
                  <a:xfrm>
                    <a:off x="6238800" y="4862520"/>
                    <a:ext cx="5868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9" name=""/>
                  <p:cNvSpPr/>
                  <p:nvPr/>
                </p:nvSpPr>
                <p:spPr>
                  <a:xfrm>
                    <a:off x="6238800" y="4862520"/>
                    <a:ext cx="3816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0" name=""/>
                  <p:cNvSpPr/>
                  <p:nvPr/>
                </p:nvSpPr>
                <p:spPr>
                  <a:xfrm>
                    <a:off x="6257880" y="4904640"/>
                    <a:ext cx="5868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1" name=""/>
                  <p:cNvSpPr/>
                  <p:nvPr/>
                </p:nvSpPr>
                <p:spPr>
                  <a:xfrm>
                    <a:off x="6257880" y="4904640"/>
                    <a:ext cx="3960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2" name=""/>
                  <p:cNvSpPr/>
                  <p:nvPr/>
                </p:nvSpPr>
                <p:spPr>
                  <a:xfrm>
                    <a:off x="6276960" y="4925520"/>
                    <a:ext cx="58680" cy="615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3" name=""/>
                  <p:cNvSpPr/>
                  <p:nvPr/>
                </p:nvSpPr>
                <p:spPr>
                  <a:xfrm>
                    <a:off x="6276960" y="4925520"/>
                    <a:ext cx="3960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4" name=""/>
                  <p:cNvSpPr/>
                  <p:nvPr/>
                </p:nvSpPr>
                <p:spPr>
                  <a:xfrm>
                    <a:off x="6297480" y="4946760"/>
                    <a:ext cx="57240" cy="612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5" name=""/>
                  <p:cNvSpPr/>
                  <p:nvPr/>
                </p:nvSpPr>
                <p:spPr>
                  <a:xfrm>
                    <a:off x="6297480" y="4946760"/>
                    <a:ext cx="38160" cy="399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6" name=""/>
                  <p:cNvSpPr/>
                  <p:nvPr/>
                </p:nvSpPr>
                <p:spPr>
                  <a:xfrm>
                    <a:off x="6316560" y="4987080"/>
                    <a:ext cx="58680" cy="6444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7" name=""/>
                  <p:cNvSpPr/>
                  <p:nvPr/>
                </p:nvSpPr>
                <p:spPr>
                  <a:xfrm>
                    <a:off x="6316560" y="4987080"/>
                    <a:ext cx="38160" cy="450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8" name=""/>
                  <p:cNvSpPr/>
                  <p:nvPr/>
                </p:nvSpPr>
                <p:spPr>
                  <a:xfrm>
                    <a:off x="6316560" y="5008320"/>
                    <a:ext cx="58680" cy="648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9" name=""/>
                  <p:cNvSpPr/>
                  <p:nvPr/>
                </p:nvSpPr>
                <p:spPr>
                  <a:xfrm>
                    <a:off x="6316560" y="5008320"/>
                    <a:ext cx="38160" cy="435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0" name=""/>
                  <p:cNvSpPr/>
                  <p:nvPr/>
                </p:nvSpPr>
                <p:spPr>
                  <a:xfrm>
                    <a:off x="6335640" y="5008320"/>
                    <a:ext cx="60120" cy="648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1" name=""/>
                  <p:cNvSpPr/>
                  <p:nvPr/>
                </p:nvSpPr>
                <p:spPr>
                  <a:xfrm>
                    <a:off x="6335640" y="5008320"/>
                    <a:ext cx="39600" cy="435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2" name=""/>
                  <p:cNvSpPr/>
                  <p:nvPr/>
                </p:nvSpPr>
                <p:spPr>
                  <a:xfrm>
                    <a:off x="6354720" y="5051880"/>
                    <a:ext cx="6192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3" name=""/>
                  <p:cNvSpPr/>
                  <p:nvPr/>
                </p:nvSpPr>
                <p:spPr>
                  <a:xfrm>
                    <a:off x="6354720" y="5051880"/>
                    <a:ext cx="4104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4" name=""/>
                  <p:cNvSpPr/>
                  <p:nvPr/>
                </p:nvSpPr>
                <p:spPr>
                  <a:xfrm>
                    <a:off x="6375240" y="5094000"/>
                    <a:ext cx="6048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5" name=""/>
                  <p:cNvSpPr/>
                  <p:nvPr/>
                </p:nvSpPr>
                <p:spPr>
                  <a:xfrm>
                    <a:off x="6375240" y="5094000"/>
                    <a:ext cx="4140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6" name=""/>
                  <p:cNvSpPr/>
                  <p:nvPr/>
                </p:nvSpPr>
                <p:spPr>
                  <a:xfrm>
                    <a:off x="6395760" y="5114880"/>
                    <a:ext cx="5868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7" name=""/>
                  <p:cNvSpPr/>
                  <p:nvPr/>
                </p:nvSpPr>
                <p:spPr>
                  <a:xfrm>
                    <a:off x="6395760" y="5114880"/>
                    <a:ext cx="3996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8" name=""/>
                  <p:cNvSpPr/>
                  <p:nvPr/>
                </p:nvSpPr>
                <p:spPr>
                  <a:xfrm>
                    <a:off x="6416640" y="5136120"/>
                    <a:ext cx="5688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9" name=""/>
                  <p:cNvSpPr/>
                  <p:nvPr/>
                </p:nvSpPr>
                <p:spPr>
                  <a:xfrm>
                    <a:off x="6416640" y="5136120"/>
                    <a:ext cx="37800" cy="417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0" name=""/>
                  <p:cNvSpPr/>
                  <p:nvPr/>
                </p:nvSpPr>
                <p:spPr>
                  <a:xfrm>
                    <a:off x="6435720" y="5114880"/>
                    <a:ext cx="5868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1" name=""/>
                  <p:cNvSpPr/>
                  <p:nvPr/>
                </p:nvSpPr>
                <p:spPr>
                  <a:xfrm>
                    <a:off x="6435720" y="5114880"/>
                    <a:ext cx="3780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2" name=""/>
                  <p:cNvSpPr/>
                  <p:nvPr/>
                </p:nvSpPr>
                <p:spPr>
                  <a:xfrm>
                    <a:off x="6454440" y="5157000"/>
                    <a:ext cx="5904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3" name=""/>
                  <p:cNvSpPr/>
                  <p:nvPr/>
                </p:nvSpPr>
                <p:spPr>
                  <a:xfrm>
                    <a:off x="6454440" y="5157000"/>
                    <a:ext cx="3996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4" name=""/>
                  <p:cNvSpPr/>
                  <p:nvPr/>
                </p:nvSpPr>
                <p:spPr>
                  <a:xfrm>
                    <a:off x="6473520" y="5157000"/>
                    <a:ext cx="5904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5" name=""/>
                  <p:cNvSpPr/>
                  <p:nvPr/>
                </p:nvSpPr>
                <p:spPr>
                  <a:xfrm>
                    <a:off x="6473520" y="5157000"/>
                    <a:ext cx="3996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6" name=""/>
                  <p:cNvSpPr/>
                  <p:nvPr/>
                </p:nvSpPr>
                <p:spPr>
                  <a:xfrm>
                    <a:off x="6494400" y="5177880"/>
                    <a:ext cx="58680" cy="648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7" name=""/>
                  <p:cNvSpPr/>
                  <p:nvPr/>
                </p:nvSpPr>
                <p:spPr>
                  <a:xfrm>
                    <a:off x="6494400" y="5177880"/>
                    <a:ext cx="3816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8" name=""/>
                  <p:cNvSpPr/>
                  <p:nvPr/>
                </p:nvSpPr>
                <p:spPr>
                  <a:xfrm>
                    <a:off x="6513480" y="5220000"/>
                    <a:ext cx="58680" cy="6444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9" name=""/>
                  <p:cNvSpPr/>
                  <p:nvPr/>
                </p:nvSpPr>
                <p:spPr>
                  <a:xfrm>
                    <a:off x="6513480" y="5220000"/>
                    <a:ext cx="39600" cy="435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0" name=""/>
                  <p:cNvSpPr/>
                  <p:nvPr/>
                </p:nvSpPr>
                <p:spPr>
                  <a:xfrm>
                    <a:off x="6532560" y="5242680"/>
                    <a:ext cx="61560" cy="612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1" name=""/>
                  <p:cNvSpPr/>
                  <p:nvPr/>
                </p:nvSpPr>
                <p:spPr>
                  <a:xfrm>
                    <a:off x="6532560" y="5242680"/>
                    <a:ext cx="39600" cy="417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2" name=""/>
                  <p:cNvSpPr/>
                  <p:nvPr/>
                </p:nvSpPr>
                <p:spPr>
                  <a:xfrm>
                    <a:off x="6553080" y="5220000"/>
                    <a:ext cx="60120" cy="6444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3" name=""/>
                  <p:cNvSpPr/>
                  <p:nvPr/>
                </p:nvSpPr>
                <p:spPr>
                  <a:xfrm>
                    <a:off x="6553080" y="5220000"/>
                    <a:ext cx="41040" cy="435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4" name=""/>
                  <p:cNvSpPr/>
                  <p:nvPr/>
                </p:nvSpPr>
                <p:spPr>
                  <a:xfrm>
                    <a:off x="6572160" y="5263560"/>
                    <a:ext cx="60120" cy="615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5" name=""/>
                  <p:cNvSpPr/>
                  <p:nvPr/>
                </p:nvSpPr>
                <p:spPr>
                  <a:xfrm>
                    <a:off x="6572160" y="5263560"/>
                    <a:ext cx="41040" cy="399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6" name=""/>
                  <p:cNvSpPr/>
                  <p:nvPr/>
                </p:nvSpPr>
                <p:spPr>
                  <a:xfrm>
                    <a:off x="6572160" y="5284440"/>
                    <a:ext cx="60120" cy="615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7" name=""/>
                  <p:cNvSpPr/>
                  <p:nvPr/>
                </p:nvSpPr>
                <p:spPr>
                  <a:xfrm>
                    <a:off x="6572160" y="5284440"/>
                    <a:ext cx="41040" cy="4068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8" name=""/>
                  <p:cNvSpPr/>
                  <p:nvPr/>
                </p:nvSpPr>
                <p:spPr>
                  <a:xfrm>
                    <a:off x="6594120" y="5325120"/>
                    <a:ext cx="5724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9" name=""/>
                  <p:cNvSpPr/>
                  <p:nvPr/>
                </p:nvSpPr>
                <p:spPr>
                  <a:xfrm>
                    <a:off x="6594120" y="5325120"/>
                    <a:ext cx="38160" cy="417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0" name=""/>
                  <p:cNvSpPr/>
                  <p:nvPr/>
                </p:nvSpPr>
                <p:spPr>
                  <a:xfrm>
                    <a:off x="6613200" y="5284440"/>
                    <a:ext cx="59040" cy="615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1" name=""/>
                  <p:cNvSpPr/>
                  <p:nvPr/>
                </p:nvSpPr>
                <p:spPr>
                  <a:xfrm>
                    <a:off x="6613200" y="5284440"/>
                    <a:ext cx="38160" cy="4068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2" name=""/>
                  <p:cNvSpPr/>
                  <p:nvPr/>
                </p:nvSpPr>
                <p:spPr>
                  <a:xfrm>
                    <a:off x="6632280" y="5325120"/>
                    <a:ext cx="5868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3" name=""/>
                  <p:cNvSpPr/>
                  <p:nvPr/>
                </p:nvSpPr>
                <p:spPr>
                  <a:xfrm>
                    <a:off x="6632280" y="5325120"/>
                    <a:ext cx="39960" cy="417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4" name=""/>
                  <p:cNvSpPr/>
                  <p:nvPr/>
                </p:nvSpPr>
                <p:spPr>
                  <a:xfrm>
                    <a:off x="6690960" y="5366880"/>
                    <a:ext cx="5904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5" name=""/>
                  <p:cNvSpPr/>
                  <p:nvPr/>
                </p:nvSpPr>
                <p:spPr>
                  <a:xfrm>
                    <a:off x="6690960" y="5366880"/>
                    <a:ext cx="3996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6" name=""/>
                  <p:cNvSpPr/>
                  <p:nvPr/>
                </p:nvSpPr>
                <p:spPr>
                  <a:xfrm>
                    <a:off x="6750000" y="5494680"/>
                    <a:ext cx="60120" cy="612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7" name=""/>
                  <p:cNvSpPr/>
                  <p:nvPr/>
                </p:nvSpPr>
                <p:spPr>
                  <a:xfrm>
                    <a:off x="6750000" y="5494680"/>
                    <a:ext cx="41040" cy="417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8" name=""/>
                  <p:cNvSpPr/>
                  <p:nvPr/>
                </p:nvSpPr>
                <p:spPr>
                  <a:xfrm>
                    <a:off x="6810120" y="5704920"/>
                    <a:ext cx="5868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9" name=""/>
                  <p:cNvSpPr/>
                  <p:nvPr/>
                </p:nvSpPr>
                <p:spPr>
                  <a:xfrm>
                    <a:off x="6810120" y="5704920"/>
                    <a:ext cx="39600" cy="417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0" name=""/>
                  <p:cNvSpPr/>
                  <p:nvPr/>
                </p:nvSpPr>
                <p:spPr>
                  <a:xfrm>
                    <a:off x="6868800" y="5577120"/>
                    <a:ext cx="5904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1" name=""/>
                  <p:cNvSpPr/>
                  <p:nvPr/>
                </p:nvSpPr>
                <p:spPr>
                  <a:xfrm>
                    <a:off x="6868800" y="5577120"/>
                    <a:ext cx="3816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2" name=""/>
                  <p:cNvSpPr/>
                  <p:nvPr/>
                </p:nvSpPr>
                <p:spPr>
                  <a:xfrm>
                    <a:off x="6906960" y="5662800"/>
                    <a:ext cx="58680" cy="630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3" name=""/>
                  <p:cNvSpPr/>
                  <p:nvPr/>
                </p:nvSpPr>
                <p:spPr>
                  <a:xfrm>
                    <a:off x="6906960" y="5662800"/>
                    <a:ext cx="39600" cy="4212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4" name=""/>
                  <p:cNvSpPr/>
                  <p:nvPr/>
                </p:nvSpPr>
                <p:spPr>
                  <a:xfrm>
                    <a:off x="6965640" y="5619240"/>
                    <a:ext cx="61920" cy="6480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5" name=""/>
                  <p:cNvSpPr/>
                  <p:nvPr/>
                </p:nvSpPr>
                <p:spPr>
                  <a:xfrm>
                    <a:off x="6965640" y="5619240"/>
                    <a:ext cx="41400" cy="435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096" name=""/>
              <p:cNvSpPr/>
              <p:nvPr/>
            </p:nvSpPr>
            <p:spPr>
              <a:xfrm>
                <a:off x="6453000" y="3768840"/>
                <a:ext cx="2606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cf305"/>
                    </a:solidFill>
                    <a:latin typeface="Trebuchet MS"/>
                  </a:rPr>
                  <a:t>[Benzoate] =  10 µ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097" name=""/>
              <p:cNvGrpSpPr/>
              <p:nvPr/>
            </p:nvGrpSpPr>
            <p:grpSpPr>
              <a:xfrm>
                <a:off x="5680440" y="6191640"/>
                <a:ext cx="2988360" cy="228600"/>
                <a:chOff x="5680440" y="6191640"/>
                <a:chExt cx="2988360" cy="228600"/>
              </a:xfrm>
            </p:grpSpPr>
            <p:sp>
              <p:nvSpPr>
                <p:cNvPr id="5098" name=""/>
                <p:cNvSpPr/>
                <p:nvPr/>
              </p:nvSpPr>
              <p:spPr>
                <a:xfrm>
                  <a:off x="5680440" y="6191640"/>
                  <a:ext cx="1152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9" name=""/>
                <p:cNvSpPr/>
                <p:nvPr/>
              </p:nvSpPr>
              <p:spPr>
                <a:xfrm>
                  <a:off x="6067080" y="6191640"/>
                  <a:ext cx="229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5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0" name=""/>
                <p:cNvSpPr/>
                <p:nvPr/>
              </p:nvSpPr>
              <p:spPr>
                <a:xfrm>
                  <a:off x="6474240" y="619164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10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1" name=""/>
                <p:cNvSpPr/>
                <p:nvPr/>
              </p:nvSpPr>
              <p:spPr>
                <a:xfrm>
                  <a:off x="6945480" y="619164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15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2" name=""/>
                <p:cNvSpPr/>
                <p:nvPr/>
              </p:nvSpPr>
              <p:spPr>
                <a:xfrm>
                  <a:off x="7399440" y="619164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20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3" name=""/>
                <p:cNvSpPr/>
                <p:nvPr/>
              </p:nvSpPr>
              <p:spPr>
                <a:xfrm>
                  <a:off x="7869600" y="619164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25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4" name=""/>
                <p:cNvSpPr/>
                <p:nvPr/>
              </p:nvSpPr>
              <p:spPr>
                <a:xfrm>
                  <a:off x="8325000" y="619164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30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5" name=""/>
              <p:cNvSpPr/>
              <p:nvPr/>
            </p:nvSpPr>
            <p:spPr>
              <a:xfrm flipV="1">
                <a:off x="5743440" y="3813480"/>
                <a:ext cx="1440" cy="2225880"/>
              </a:xfrm>
              <a:prstGeom prst="line">
                <a:avLst/>
              </a:prstGeom>
              <a:ln w="2052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5743440" y="6040080"/>
                <a:ext cx="2776320" cy="1440"/>
              </a:xfrm>
              <a:prstGeom prst="line">
                <a:avLst/>
              </a:prstGeom>
              <a:ln w="2052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6453000" y="3768840"/>
                <a:ext cx="2606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cf305"/>
                    </a:solidFill>
                    <a:latin typeface="Trebuchet MS"/>
                  </a:rPr>
                  <a:t>[Benzoate] =  10 µ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08" name=""/>
              <p:cNvGrpSpPr/>
              <p:nvPr/>
            </p:nvGrpSpPr>
            <p:grpSpPr>
              <a:xfrm>
                <a:off x="5680440" y="6190200"/>
                <a:ext cx="2988360" cy="230040"/>
                <a:chOff x="5680440" y="6190200"/>
                <a:chExt cx="2988360" cy="230040"/>
              </a:xfrm>
            </p:grpSpPr>
            <p:sp>
              <p:nvSpPr>
                <p:cNvPr id="5109" name=""/>
                <p:cNvSpPr/>
                <p:nvPr/>
              </p:nvSpPr>
              <p:spPr>
                <a:xfrm>
                  <a:off x="5680440" y="6191640"/>
                  <a:ext cx="1152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0" name=""/>
                <p:cNvSpPr/>
                <p:nvPr/>
              </p:nvSpPr>
              <p:spPr>
                <a:xfrm>
                  <a:off x="6067080" y="6191640"/>
                  <a:ext cx="229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5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1" name=""/>
                <p:cNvSpPr/>
                <p:nvPr/>
              </p:nvSpPr>
              <p:spPr>
                <a:xfrm>
                  <a:off x="6474240" y="619164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10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2" name=""/>
                <p:cNvSpPr/>
                <p:nvPr/>
              </p:nvSpPr>
              <p:spPr>
                <a:xfrm>
                  <a:off x="6945480" y="619164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15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3" name=""/>
                <p:cNvSpPr/>
                <p:nvPr/>
              </p:nvSpPr>
              <p:spPr>
                <a:xfrm>
                  <a:off x="7399440" y="619164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20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4" name=""/>
                <p:cNvSpPr/>
                <p:nvPr/>
              </p:nvSpPr>
              <p:spPr>
                <a:xfrm>
                  <a:off x="7869600" y="619164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25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5" name=""/>
                <p:cNvSpPr/>
                <p:nvPr/>
              </p:nvSpPr>
              <p:spPr>
                <a:xfrm>
                  <a:off x="8325000" y="619020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30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6" name=""/>
              <p:cNvGrpSpPr/>
              <p:nvPr/>
            </p:nvGrpSpPr>
            <p:grpSpPr>
              <a:xfrm>
                <a:off x="5042160" y="3890160"/>
                <a:ext cx="686520" cy="1891440"/>
                <a:chOff x="5042160" y="3890160"/>
                <a:chExt cx="686520" cy="1891440"/>
              </a:xfrm>
            </p:grpSpPr>
            <p:sp>
              <p:nvSpPr>
                <p:cNvPr id="5117" name=""/>
                <p:cNvSpPr/>
                <p:nvPr/>
              </p:nvSpPr>
              <p:spPr>
                <a:xfrm>
                  <a:off x="5042160" y="5553000"/>
                  <a:ext cx="6865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.0001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8" name=""/>
                <p:cNvSpPr/>
                <p:nvPr/>
              </p:nvSpPr>
              <p:spPr>
                <a:xfrm>
                  <a:off x="5149440" y="5008320"/>
                  <a:ext cx="572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.001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9" name=""/>
                <p:cNvSpPr/>
                <p:nvPr/>
              </p:nvSpPr>
              <p:spPr>
                <a:xfrm>
                  <a:off x="5256720" y="4431240"/>
                  <a:ext cx="4579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.01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0" name=""/>
                <p:cNvSpPr/>
                <p:nvPr/>
              </p:nvSpPr>
              <p:spPr>
                <a:xfrm>
                  <a:off x="5363640" y="389016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.1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21" name=""/>
            <p:cNvGrpSpPr/>
            <p:nvPr/>
          </p:nvGrpSpPr>
          <p:grpSpPr>
            <a:xfrm>
              <a:off x="5042160" y="1301760"/>
              <a:ext cx="4194000" cy="2214720"/>
              <a:chOff x="5042160" y="1301760"/>
              <a:chExt cx="4194000" cy="2214720"/>
            </a:xfrm>
          </p:grpSpPr>
          <p:grpSp>
            <p:nvGrpSpPr>
              <p:cNvPr id="5122" name=""/>
              <p:cNvGrpSpPr/>
              <p:nvPr/>
            </p:nvGrpSpPr>
            <p:grpSpPr>
              <a:xfrm>
                <a:off x="5757840" y="1301760"/>
                <a:ext cx="3478320" cy="2214720"/>
                <a:chOff x="5757840" y="1301760"/>
                <a:chExt cx="3478320" cy="2214720"/>
              </a:xfrm>
            </p:grpSpPr>
            <p:grpSp>
              <p:nvGrpSpPr>
                <p:cNvPr id="5123" name=""/>
                <p:cNvGrpSpPr/>
                <p:nvPr/>
              </p:nvGrpSpPr>
              <p:grpSpPr>
                <a:xfrm>
                  <a:off x="5757840" y="1331640"/>
                  <a:ext cx="2822040" cy="2184840"/>
                  <a:chOff x="5757840" y="1331640"/>
                  <a:chExt cx="2822040" cy="2184840"/>
                </a:xfrm>
              </p:grpSpPr>
              <p:sp>
                <p:nvSpPr>
                  <p:cNvPr id="5124" name=""/>
                  <p:cNvSpPr/>
                  <p:nvPr/>
                </p:nvSpPr>
                <p:spPr>
                  <a:xfrm>
                    <a:off x="5795640" y="2082960"/>
                    <a:ext cx="2544840" cy="9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50" h="418">
                        <a:moveTo>
                          <a:pt x="1150" y="396"/>
                        </a:moveTo>
                        <a:cubicBezTo>
                          <a:pt x="1105" y="386"/>
                          <a:pt x="975" y="362"/>
                          <a:pt x="880" y="336"/>
                        </a:cubicBezTo>
                        <a:cubicBezTo>
                          <a:pt x="784" y="309"/>
                          <a:pt x="655" y="266"/>
                          <a:pt x="578" y="236"/>
                        </a:cubicBezTo>
                        <a:cubicBezTo>
                          <a:pt x="500" y="205"/>
                          <a:pt x="466" y="183"/>
                          <a:pt x="412" y="152"/>
                        </a:cubicBezTo>
                        <a:cubicBezTo>
                          <a:pt x="357" y="120"/>
                          <a:pt x="288" y="71"/>
                          <a:pt x="250" y="48"/>
                        </a:cubicBezTo>
                        <a:cubicBezTo>
                          <a:pt x="211" y="24"/>
                          <a:pt x="200" y="19"/>
                          <a:pt x="180" y="12"/>
                        </a:cubicBezTo>
                        <a:cubicBezTo>
                          <a:pt x="159" y="4"/>
                          <a:pt x="143" y="0"/>
                          <a:pt x="126" y="2"/>
                        </a:cubicBezTo>
                        <a:cubicBezTo>
                          <a:pt x="109" y="3"/>
                          <a:pt x="91" y="4"/>
                          <a:pt x="78" y="22"/>
                        </a:cubicBezTo>
                        <a:cubicBezTo>
                          <a:pt x="64" y="39"/>
                          <a:pt x="53" y="64"/>
                          <a:pt x="42" y="106"/>
                        </a:cubicBezTo>
                        <a:cubicBezTo>
                          <a:pt x="30" y="147"/>
                          <a:pt x="15" y="218"/>
                          <a:pt x="8" y="270"/>
                        </a:cubicBezTo>
                        <a:cubicBezTo>
                          <a:pt x="1" y="322"/>
                          <a:pt x="1" y="370"/>
                          <a:pt x="0" y="41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25" name=""/>
                  <p:cNvGrpSpPr/>
                  <p:nvPr/>
                </p:nvGrpSpPr>
                <p:grpSpPr>
                  <a:xfrm>
                    <a:off x="5757840" y="1495440"/>
                    <a:ext cx="118440" cy="2020320"/>
                    <a:chOff x="5757840" y="1495440"/>
                    <a:chExt cx="118440" cy="2020320"/>
                  </a:xfrm>
                </p:grpSpPr>
                <p:sp>
                  <p:nvSpPr>
                    <p:cNvPr id="5126" name=""/>
                    <p:cNvSpPr/>
                    <p:nvPr/>
                  </p:nvSpPr>
                  <p:spPr>
                    <a:xfrm>
                      <a:off x="5757840" y="3144960"/>
                      <a:ext cx="11844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7" name=""/>
                    <p:cNvSpPr/>
                    <p:nvPr/>
                  </p:nvSpPr>
                  <p:spPr>
                    <a:xfrm>
                      <a:off x="5757840" y="2588400"/>
                      <a:ext cx="11844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8" name=""/>
                    <p:cNvSpPr/>
                    <p:nvPr/>
                  </p:nvSpPr>
                  <p:spPr>
                    <a:xfrm>
                      <a:off x="5757840" y="2052000"/>
                      <a:ext cx="11844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9" name=""/>
                    <p:cNvSpPr/>
                    <p:nvPr/>
                  </p:nvSpPr>
                  <p:spPr>
                    <a:xfrm>
                      <a:off x="5757840" y="1495440"/>
                      <a:ext cx="11844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0" name=""/>
                    <p:cNvSpPr/>
                    <p:nvPr/>
                  </p:nvSpPr>
                  <p:spPr>
                    <a:xfrm>
                      <a:off x="5757840" y="3513960"/>
                      <a:ext cx="5904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1" name=""/>
                    <p:cNvSpPr/>
                    <p:nvPr/>
                  </p:nvSpPr>
                  <p:spPr>
                    <a:xfrm>
                      <a:off x="5757840" y="3432600"/>
                      <a:ext cx="5904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2" name=""/>
                    <p:cNvSpPr/>
                    <p:nvPr/>
                  </p:nvSpPr>
                  <p:spPr>
                    <a:xfrm>
                      <a:off x="5757840" y="3350880"/>
                      <a:ext cx="5904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3" name=""/>
                    <p:cNvSpPr/>
                    <p:nvPr/>
                  </p:nvSpPr>
                  <p:spPr>
                    <a:xfrm>
                      <a:off x="5757840" y="3307680"/>
                      <a:ext cx="5904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4" name=""/>
                    <p:cNvSpPr/>
                    <p:nvPr/>
                  </p:nvSpPr>
                  <p:spPr>
                    <a:xfrm>
                      <a:off x="5757840" y="3267360"/>
                      <a:ext cx="5904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5" name=""/>
                    <p:cNvSpPr/>
                    <p:nvPr/>
                  </p:nvSpPr>
                  <p:spPr>
                    <a:xfrm>
                      <a:off x="5757840" y="3226680"/>
                      <a:ext cx="5904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6" name=""/>
                    <p:cNvSpPr/>
                    <p:nvPr/>
                  </p:nvSpPr>
                  <p:spPr>
                    <a:xfrm>
                      <a:off x="5757840" y="3185640"/>
                      <a:ext cx="5904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7" name=""/>
                    <p:cNvSpPr/>
                    <p:nvPr/>
                  </p:nvSpPr>
                  <p:spPr>
                    <a:xfrm>
                      <a:off x="5757840" y="3165480"/>
                      <a:ext cx="5904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8" name=""/>
                    <p:cNvSpPr/>
                    <p:nvPr/>
                  </p:nvSpPr>
                  <p:spPr>
                    <a:xfrm>
                      <a:off x="5757840" y="2979720"/>
                      <a:ext cx="5904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9" name=""/>
                    <p:cNvSpPr/>
                    <p:nvPr/>
                  </p:nvSpPr>
                  <p:spPr>
                    <a:xfrm>
                      <a:off x="5757840" y="2875680"/>
                      <a:ext cx="5904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0" name=""/>
                    <p:cNvSpPr/>
                    <p:nvPr/>
                  </p:nvSpPr>
                  <p:spPr>
                    <a:xfrm>
                      <a:off x="5757840" y="2814480"/>
                      <a:ext cx="5904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1" name=""/>
                    <p:cNvSpPr/>
                    <p:nvPr/>
                  </p:nvSpPr>
                  <p:spPr>
                    <a:xfrm>
                      <a:off x="5757840" y="2753640"/>
                      <a:ext cx="5904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2" name=""/>
                    <p:cNvSpPr/>
                    <p:nvPr/>
                  </p:nvSpPr>
                  <p:spPr>
                    <a:xfrm>
                      <a:off x="5757840" y="2710440"/>
                      <a:ext cx="5904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3" name=""/>
                    <p:cNvSpPr/>
                    <p:nvPr/>
                  </p:nvSpPr>
                  <p:spPr>
                    <a:xfrm>
                      <a:off x="5757840" y="2669760"/>
                      <a:ext cx="5904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4" name=""/>
                    <p:cNvSpPr/>
                    <p:nvPr/>
                  </p:nvSpPr>
                  <p:spPr>
                    <a:xfrm>
                      <a:off x="5757840" y="2649240"/>
                      <a:ext cx="5904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5" name=""/>
                    <p:cNvSpPr/>
                    <p:nvPr/>
                  </p:nvSpPr>
                  <p:spPr>
                    <a:xfrm>
                      <a:off x="5757840" y="2628720"/>
                      <a:ext cx="5904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6" name=""/>
                    <p:cNvSpPr/>
                    <p:nvPr/>
                  </p:nvSpPr>
                  <p:spPr>
                    <a:xfrm>
                      <a:off x="5757840" y="2423160"/>
                      <a:ext cx="5904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7" name=""/>
                    <p:cNvSpPr/>
                    <p:nvPr/>
                  </p:nvSpPr>
                  <p:spPr>
                    <a:xfrm>
                      <a:off x="5757840" y="2341440"/>
                      <a:ext cx="5904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8" name=""/>
                    <p:cNvSpPr/>
                    <p:nvPr/>
                  </p:nvSpPr>
                  <p:spPr>
                    <a:xfrm>
                      <a:off x="5757840" y="2257920"/>
                      <a:ext cx="5904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9" name=""/>
                    <p:cNvSpPr/>
                    <p:nvPr/>
                  </p:nvSpPr>
                  <p:spPr>
                    <a:xfrm>
                      <a:off x="5757840" y="2217240"/>
                      <a:ext cx="5904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0" name=""/>
                    <p:cNvSpPr/>
                    <p:nvPr/>
                  </p:nvSpPr>
                  <p:spPr>
                    <a:xfrm>
                      <a:off x="5757840" y="2176200"/>
                      <a:ext cx="5904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1" name=""/>
                    <p:cNvSpPr/>
                    <p:nvPr/>
                  </p:nvSpPr>
                  <p:spPr>
                    <a:xfrm>
                      <a:off x="5757840" y="2135880"/>
                      <a:ext cx="5904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2" name=""/>
                    <p:cNvSpPr/>
                    <p:nvPr/>
                  </p:nvSpPr>
                  <p:spPr>
                    <a:xfrm>
                      <a:off x="5757840" y="2092680"/>
                      <a:ext cx="5904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3" name=""/>
                    <p:cNvSpPr/>
                    <p:nvPr/>
                  </p:nvSpPr>
                  <p:spPr>
                    <a:xfrm>
                      <a:off x="5757840" y="2072520"/>
                      <a:ext cx="5904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4" name=""/>
                    <p:cNvSpPr/>
                    <p:nvPr/>
                  </p:nvSpPr>
                  <p:spPr>
                    <a:xfrm>
                      <a:off x="5757840" y="1886760"/>
                      <a:ext cx="5904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5" name=""/>
                    <p:cNvSpPr/>
                    <p:nvPr/>
                  </p:nvSpPr>
                  <p:spPr>
                    <a:xfrm>
                      <a:off x="5757840" y="1785240"/>
                      <a:ext cx="5904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6" name=""/>
                    <p:cNvSpPr/>
                    <p:nvPr/>
                  </p:nvSpPr>
                  <p:spPr>
                    <a:xfrm>
                      <a:off x="5757840" y="1724040"/>
                      <a:ext cx="5904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7" name=""/>
                    <p:cNvSpPr/>
                    <p:nvPr/>
                  </p:nvSpPr>
                  <p:spPr>
                    <a:xfrm>
                      <a:off x="5757840" y="1660680"/>
                      <a:ext cx="5904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8" name=""/>
                    <p:cNvSpPr/>
                    <p:nvPr/>
                  </p:nvSpPr>
                  <p:spPr>
                    <a:xfrm>
                      <a:off x="5757840" y="1620000"/>
                      <a:ext cx="5904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9" name=""/>
                    <p:cNvSpPr/>
                    <p:nvPr/>
                  </p:nvSpPr>
                  <p:spPr>
                    <a:xfrm>
                      <a:off x="5757840" y="1578960"/>
                      <a:ext cx="5904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0" name=""/>
                    <p:cNvSpPr/>
                    <p:nvPr/>
                  </p:nvSpPr>
                  <p:spPr>
                    <a:xfrm>
                      <a:off x="5757840" y="1558800"/>
                      <a:ext cx="5904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1" name=""/>
                    <p:cNvSpPr/>
                    <p:nvPr/>
                  </p:nvSpPr>
                  <p:spPr>
                    <a:xfrm>
                      <a:off x="5757840" y="1538280"/>
                      <a:ext cx="5904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62" name=""/>
                  <p:cNvGrpSpPr/>
                  <p:nvPr/>
                </p:nvGrpSpPr>
                <p:grpSpPr>
                  <a:xfrm>
                    <a:off x="5757840" y="3411360"/>
                    <a:ext cx="2822040" cy="102960"/>
                    <a:chOff x="5757840" y="3411360"/>
                    <a:chExt cx="2822040" cy="102960"/>
                  </a:xfrm>
                </p:grpSpPr>
                <p:sp>
                  <p:nvSpPr>
                    <p:cNvPr id="5163" name=""/>
                    <p:cNvSpPr/>
                    <p:nvPr/>
                  </p:nvSpPr>
                  <p:spPr>
                    <a:xfrm flipV="1">
                      <a:off x="5757840" y="3411360"/>
                      <a:ext cx="1800" cy="1029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4" name=""/>
                    <p:cNvSpPr/>
                    <p:nvPr/>
                  </p:nvSpPr>
                  <p:spPr>
                    <a:xfrm flipV="1">
                      <a:off x="6240240" y="3411360"/>
                      <a:ext cx="1800" cy="1029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5" name=""/>
                    <p:cNvSpPr/>
                    <p:nvPr/>
                  </p:nvSpPr>
                  <p:spPr>
                    <a:xfrm flipV="1">
                      <a:off x="6702480" y="3411360"/>
                      <a:ext cx="2160" cy="1029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6" name=""/>
                    <p:cNvSpPr/>
                    <p:nvPr/>
                  </p:nvSpPr>
                  <p:spPr>
                    <a:xfrm flipV="1">
                      <a:off x="7167960" y="3411360"/>
                      <a:ext cx="1800" cy="1029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7" name=""/>
                    <p:cNvSpPr/>
                    <p:nvPr/>
                  </p:nvSpPr>
                  <p:spPr>
                    <a:xfrm flipV="1">
                      <a:off x="7650360" y="3411360"/>
                      <a:ext cx="1800" cy="1029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8" name=""/>
                    <p:cNvSpPr/>
                    <p:nvPr/>
                  </p:nvSpPr>
                  <p:spPr>
                    <a:xfrm flipV="1">
                      <a:off x="8115120" y="3411360"/>
                      <a:ext cx="1800" cy="1029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9" name=""/>
                    <p:cNvSpPr/>
                    <p:nvPr/>
                  </p:nvSpPr>
                  <p:spPr>
                    <a:xfrm flipV="1">
                      <a:off x="8578080" y="3411360"/>
                      <a:ext cx="1800" cy="1029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0" name=""/>
                    <p:cNvSpPr/>
                    <p:nvPr/>
                  </p:nvSpPr>
                  <p:spPr>
                    <a:xfrm flipV="1">
                      <a:off x="5857200" y="3472560"/>
                      <a:ext cx="180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1" name=""/>
                    <p:cNvSpPr/>
                    <p:nvPr/>
                  </p:nvSpPr>
                  <p:spPr>
                    <a:xfrm flipV="1">
                      <a:off x="5959080" y="3472560"/>
                      <a:ext cx="180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2" name=""/>
                    <p:cNvSpPr/>
                    <p:nvPr/>
                  </p:nvSpPr>
                  <p:spPr>
                    <a:xfrm flipV="1">
                      <a:off x="6038640" y="3472560"/>
                      <a:ext cx="180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3" name=""/>
                    <p:cNvSpPr/>
                    <p:nvPr/>
                  </p:nvSpPr>
                  <p:spPr>
                    <a:xfrm flipV="1">
                      <a:off x="6140160" y="3472560"/>
                      <a:ext cx="216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4" name=""/>
                    <p:cNvSpPr/>
                    <p:nvPr/>
                  </p:nvSpPr>
                  <p:spPr>
                    <a:xfrm flipV="1">
                      <a:off x="6321960" y="3472560"/>
                      <a:ext cx="180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5" name=""/>
                    <p:cNvSpPr/>
                    <p:nvPr/>
                  </p:nvSpPr>
                  <p:spPr>
                    <a:xfrm flipV="1">
                      <a:off x="6421320" y="3472560"/>
                      <a:ext cx="216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6" name=""/>
                    <p:cNvSpPr/>
                    <p:nvPr/>
                  </p:nvSpPr>
                  <p:spPr>
                    <a:xfrm flipV="1">
                      <a:off x="6523200" y="3472560"/>
                      <a:ext cx="216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7" name=""/>
                    <p:cNvSpPr/>
                    <p:nvPr/>
                  </p:nvSpPr>
                  <p:spPr>
                    <a:xfrm flipV="1">
                      <a:off x="6603120" y="3472560"/>
                      <a:ext cx="180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8" name=""/>
                    <p:cNvSpPr/>
                    <p:nvPr/>
                  </p:nvSpPr>
                  <p:spPr>
                    <a:xfrm flipV="1">
                      <a:off x="6804360" y="3472560"/>
                      <a:ext cx="216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9" name=""/>
                    <p:cNvSpPr/>
                    <p:nvPr/>
                  </p:nvSpPr>
                  <p:spPr>
                    <a:xfrm flipV="1">
                      <a:off x="6884280" y="3472560"/>
                      <a:ext cx="180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0" name=""/>
                    <p:cNvSpPr/>
                    <p:nvPr/>
                  </p:nvSpPr>
                  <p:spPr>
                    <a:xfrm flipV="1">
                      <a:off x="6986160" y="3472560"/>
                      <a:ext cx="180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1" name=""/>
                    <p:cNvSpPr/>
                    <p:nvPr/>
                  </p:nvSpPr>
                  <p:spPr>
                    <a:xfrm flipV="1">
                      <a:off x="7085520" y="3472560"/>
                      <a:ext cx="216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2" name=""/>
                    <p:cNvSpPr/>
                    <p:nvPr/>
                  </p:nvSpPr>
                  <p:spPr>
                    <a:xfrm flipV="1">
                      <a:off x="7267320" y="3472560"/>
                      <a:ext cx="180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3" name=""/>
                    <p:cNvSpPr/>
                    <p:nvPr/>
                  </p:nvSpPr>
                  <p:spPr>
                    <a:xfrm flipV="1">
                      <a:off x="7369200" y="3472560"/>
                      <a:ext cx="180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4" name=""/>
                    <p:cNvSpPr/>
                    <p:nvPr/>
                  </p:nvSpPr>
                  <p:spPr>
                    <a:xfrm flipV="1">
                      <a:off x="7448760" y="3472560"/>
                      <a:ext cx="180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5" name=""/>
                    <p:cNvSpPr/>
                    <p:nvPr/>
                  </p:nvSpPr>
                  <p:spPr>
                    <a:xfrm flipV="1">
                      <a:off x="7550280" y="3472560"/>
                      <a:ext cx="216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6" name=""/>
                    <p:cNvSpPr/>
                    <p:nvPr/>
                  </p:nvSpPr>
                  <p:spPr>
                    <a:xfrm flipV="1">
                      <a:off x="7732080" y="3472560"/>
                      <a:ext cx="180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7" name=""/>
                    <p:cNvSpPr/>
                    <p:nvPr/>
                  </p:nvSpPr>
                  <p:spPr>
                    <a:xfrm flipV="1">
                      <a:off x="7831440" y="3472560"/>
                      <a:ext cx="216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8" name=""/>
                    <p:cNvSpPr/>
                    <p:nvPr/>
                  </p:nvSpPr>
                  <p:spPr>
                    <a:xfrm flipV="1">
                      <a:off x="7933320" y="3472560"/>
                      <a:ext cx="216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9" name=""/>
                    <p:cNvSpPr/>
                    <p:nvPr/>
                  </p:nvSpPr>
                  <p:spPr>
                    <a:xfrm flipV="1">
                      <a:off x="8013240" y="3472560"/>
                      <a:ext cx="180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0" name=""/>
                    <p:cNvSpPr/>
                    <p:nvPr/>
                  </p:nvSpPr>
                  <p:spPr>
                    <a:xfrm flipV="1">
                      <a:off x="8214480" y="3472560"/>
                      <a:ext cx="216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1" name=""/>
                    <p:cNvSpPr/>
                    <p:nvPr/>
                  </p:nvSpPr>
                  <p:spPr>
                    <a:xfrm flipV="1">
                      <a:off x="8294400" y="3472560"/>
                      <a:ext cx="180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2" name=""/>
                    <p:cNvSpPr/>
                    <p:nvPr/>
                  </p:nvSpPr>
                  <p:spPr>
                    <a:xfrm flipV="1">
                      <a:off x="8396280" y="3472560"/>
                      <a:ext cx="180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3" name=""/>
                    <p:cNvSpPr/>
                    <p:nvPr/>
                  </p:nvSpPr>
                  <p:spPr>
                    <a:xfrm flipV="1">
                      <a:off x="8498160" y="3472560"/>
                      <a:ext cx="1800" cy="414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94" name=""/>
                  <p:cNvSpPr/>
                  <p:nvPr/>
                </p:nvSpPr>
                <p:spPr>
                  <a:xfrm flipV="1">
                    <a:off x="5757840" y="1331640"/>
                    <a:ext cx="1440" cy="218268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5" name=""/>
                  <p:cNvSpPr/>
                  <p:nvPr/>
                </p:nvSpPr>
                <p:spPr>
                  <a:xfrm>
                    <a:off x="5757840" y="3514680"/>
                    <a:ext cx="282096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6" name=""/>
                  <p:cNvSpPr/>
                  <p:nvPr/>
                </p:nvSpPr>
                <p:spPr>
                  <a:xfrm>
                    <a:off x="5959440" y="2793960"/>
                    <a:ext cx="6012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7" name=""/>
                  <p:cNvSpPr/>
                  <p:nvPr/>
                </p:nvSpPr>
                <p:spPr>
                  <a:xfrm>
                    <a:off x="5978520" y="2690640"/>
                    <a:ext cx="6012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8" name=""/>
                  <p:cNvSpPr/>
                  <p:nvPr/>
                </p:nvSpPr>
                <p:spPr>
                  <a:xfrm>
                    <a:off x="5999040" y="2709720"/>
                    <a:ext cx="6012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9" name=""/>
                  <p:cNvSpPr/>
                  <p:nvPr/>
                </p:nvSpPr>
                <p:spPr>
                  <a:xfrm>
                    <a:off x="6019560" y="2649600"/>
                    <a:ext cx="5868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0" name=""/>
                  <p:cNvSpPr/>
                  <p:nvPr/>
                </p:nvSpPr>
                <p:spPr>
                  <a:xfrm>
                    <a:off x="6038640" y="2608200"/>
                    <a:ext cx="604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1" name=""/>
                  <p:cNvSpPr/>
                  <p:nvPr/>
                </p:nvSpPr>
                <p:spPr>
                  <a:xfrm>
                    <a:off x="6059160" y="2608200"/>
                    <a:ext cx="6192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2" name=""/>
                  <p:cNvSpPr/>
                  <p:nvPr/>
                </p:nvSpPr>
                <p:spPr>
                  <a:xfrm>
                    <a:off x="6078240" y="2527200"/>
                    <a:ext cx="6192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3" name=""/>
                  <p:cNvSpPr/>
                  <p:nvPr/>
                </p:nvSpPr>
                <p:spPr>
                  <a:xfrm>
                    <a:off x="6099120" y="2484360"/>
                    <a:ext cx="6192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4" name=""/>
                  <p:cNvSpPr/>
                  <p:nvPr/>
                </p:nvSpPr>
                <p:spPr>
                  <a:xfrm>
                    <a:off x="6121080" y="2463840"/>
                    <a:ext cx="5904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5" name=""/>
                  <p:cNvSpPr/>
                  <p:nvPr/>
                </p:nvSpPr>
                <p:spPr>
                  <a:xfrm>
                    <a:off x="6140160" y="2463840"/>
                    <a:ext cx="6048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6" name=""/>
                  <p:cNvSpPr/>
                  <p:nvPr/>
                </p:nvSpPr>
                <p:spPr>
                  <a:xfrm>
                    <a:off x="6161040" y="242244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7" name=""/>
                  <p:cNvSpPr/>
                  <p:nvPr/>
                </p:nvSpPr>
                <p:spPr>
                  <a:xfrm>
                    <a:off x="6161040" y="240192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8" name=""/>
                  <p:cNvSpPr/>
                  <p:nvPr/>
                </p:nvSpPr>
                <p:spPr>
                  <a:xfrm>
                    <a:off x="6180120" y="2382840"/>
                    <a:ext cx="6012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9" name=""/>
                  <p:cNvSpPr/>
                  <p:nvPr/>
                </p:nvSpPr>
                <p:spPr>
                  <a:xfrm>
                    <a:off x="6200640" y="2382840"/>
                    <a:ext cx="6012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0" name=""/>
                  <p:cNvSpPr/>
                  <p:nvPr/>
                </p:nvSpPr>
                <p:spPr>
                  <a:xfrm>
                    <a:off x="6219720" y="2362320"/>
                    <a:ext cx="6012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1" name=""/>
                  <p:cNvSpPr/>
                  <p:nvPr/>
                </p:nvSpPr>
                <p:spPr>
                  <a:xfrm>
                    <a:off x="6240240" y="2341440"/>
                    <a:ext cx="6048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2" name=""/>
                  <p:cNvSpPr/>
                  <p:nvPr/>
                </p:nvSpPr>
                <p:spPr>
                  <a:xfrm>
                    <a:off x="6260760" y="2319480"/>
                    <a:ext cx="6192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3" name=""/>
                  <p:cNvSpPr/>
                  <p:nvPr/>
                </p:nvSpPr>
                <p:spPr>
                  <a:xfrm>
                    <a:off x="6279840" y="2341440"/>
                    <a:ext cx="6192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4" name=""/>
                  <p:cNvSpPr/>
                  <p:nvPr/>
                </p:nvSpPr>
                <p:spPr>
                  <a:xfrm>
                    <a:off x="6300720" y="2341440"/>
                    <a:ext cx="6192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5" name=""/>
                  <p:cNvSpPr/>
                  <p:nvPr/>
                </p:nvSpPr>
                <p:spPr>
                  <a:xfrm>
                    <a:off x="6322680" y="2341440"/>
                    <a:ext cx="5904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6" name=""/>
                  <p:cNvSpPr/>
                  <p:nvPr/>
                </p:nvSpPr>
                <p:spPr>
                  <a:xfrm>
                    <a:off x="6341760" y="2319480"/>
                    <a:ext cx="6048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7" name=""/>
                  <p:cNvSpPr/>
                  <p:nvPr/>
                </p:nvSpPr>
                <p:spPr>
                  <a:xfrm>
                    <a:off x="6362640" y="2319480"/>
                    <a:ext cx="5868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8" name=""/>
                  <p:cNvSpPr/>
                  <p:nvPr/>
                </p:nvSpPr>
                <p:spPr>
                  <a:xfrm>
                    <a:off x="6381720" y="2319480"/>
                    <a:ext cx="6012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9" name=""/>
                  <p:cNvSpPr/>
                  <p:nvPr/>
                </p:nvSpPr>
                <p:spPr>
                  <a:xfrm>
                    <a:off x="6402240" y="2298600"/>
                    <a:ext cx="5868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0" name=""/>
                  <p:cNvSpPr/>
                  <p:nvPr/>
                </p:nvSpPr>
                <p:spPr>
                  <a:xfrm>
                    <a:off x="6421320" y="2319480"/>
                    <a:ext cx="6012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1" name=""/>
                  <p:cNvSpPr/>
                  <p:nvPr/>
                </p:nvSpPr>
                <p:spPr>
                  <a:xfrm>
                    <a:off x="6441840" y="2298600"/>
                    <a:ext cx="6048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2" name=""/>
                  <p:cNvSpPr/>
                  <p:nvPr/>
                </p:nvSpPr>
                <p:spPr>
                  <a:xfrm>
                    <a:off x="6460920" y="2319480"/>
                    <a:ext cx="6336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3" name=""/>
                  <p:cNvSpPr/>
                  <p:nvPr/>
                </p:nvSpPr>
                <p:spPr>
                  <a:xfrm>
                    <a:off x="6481440" y="2298600"/>
                    <a:ext cx="6192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4" name=""/>
                  <p:cNvSpPr/>
                  <p:nvPr/>
                </p:nvSpPr>
                <p:spPr>
                  <a:xfrm>
                    <a:off x="6502320" y="2298600"/>
                    <a:ext cx="6192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5" name=""/>
                  <p:cNvSpPr/>
                  <p:nvPr/>
                </p:nvSpPr>
                <p:spPr>
                  <a:xfrm>
                    <a:off x="6524280" y="2278080"/>
                    <a:ext cx="5904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6" name=""/>
                  <p:cNvSpPr/>
                  <p:nvPr/>
                </p:nvSpPr>
                <p:spPr>
                  <a:xfrm>
                    <a:off x="6543360" y="2278080"/>
                    <a:ext cx="6048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7" name=""/>
                  <p:cNvSpPr/>
                  <p:nvPr/>
                </p:nvSpPr>
                <p:spPr>
                  <a:xfrm>
                    <a:off x="6564240" y="2298600"/>
                    <a:ext cx="5868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8" name=""/>
                  <p:cNvSpPr/>
                  <p:nvPr/>
                </p:nvSpPr>
                <p:spPr>
                  <a:xfrm>
                    <a:off x="6583320" y="2298600"/>
                    <a:ext cx="6012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9" name=""/>
                  <p:cNvSpPr/>
                  <p:nvPr/>
                </p:nvSpPr>
                <p:spPr>
                  <a:xfrm>
                    <a:off x="6603840" y="2298600"/>
                    <a:ext cx="5868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0" name=""/>
                  <p:cNvSpPr/>
                  <p:nvPr/>
                </p:nvSpPr>
                <p:spPr>
                  <a:xfrm>
                    <a:off x="6622920" y="2298600"/>
                    <a:ext cx="6012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1" name=""/>
                  <p:cNvSpPr/>
                  <p:nvPr/>
                </p:nvSpPr>
                <p:spPr>
                  <a:xfrm>
                    <a:off x="6643440" y="2298600"/>
                    <a:ext cx="5868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2" name=""/>
                  <p:cNvSpPr/>
                  <p:nvPr/>
                </p:nvSpPr>
                <p:spPr>
                  <a:xfrm>
                    <a:off x="6662520" y="2298600"/>
                    <a:ext cx="6192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3" name=""/>
                  <p:cNvSpPr/>
                  <p:nvPr/>
                </p:nvSpPr>
                <p:spPr>
                  <a:xfrm>
                    <a:off x="6683040" y="2298600"/>
                    <a:ext cx="6192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4" name=""/>
                  <p:cNvSpPr/>
                  <p:nvPr/>
                </p:nvSpPr>
                <p:spPr>
                  <a:xfrm>
                    <a:off x="6744960" y="2319480"/>
                    <a:ext cx="6048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5" name=""/>
                  <p:cNvSpPr/>
                  <p:nvPr/>
                </p:nvSpPr>
                <p:spPr>
                  <a:xfrm>
                    <a:off x="6784920" y="2319480"/>
                    <a:ext cx="6012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6" name=""/>
                  <p:cNvSpPr/>
                  <p:nvPr/>
                </p:nvSpPr>
                <p:spPr>
                  <a:xfrm>
                    <a:off x="6845040" y="2362320"/>
                    <a:ext cx="5868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7" name=""/>
                  <p:cNvSpPr/>
                  <p:nvPr/>
                </p:nvSpPr>
                <p:spPr>
                  <a:xfrm>
                    <a:off x="6903720" y="2341440"/>
                    <a:ext cx="6192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8" name=""/>
                  <p:cNvSpPr/>
                  <p:nvPr/>
                </p:nvSpPr>
                <p:spPr>
                  <a:xfrm>
                    <a:off x="6965640" y="2382840"/>
                    <a:ext cx="6048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9" name=""/>
                  <p:cNvSpPr/>
                  <p:nvPr/>
                </p:nvSpPr>
                <p:spPr>
                  <a:xfrm>
                    <a:off x="7026120" y="2382840"/>
                    <a:ext cx="6048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0" name=""/>
                  <p:cNvSpPr/>
                  <p:nvPr/>
                </p:nvSpPr>
                <p:spPr>
                  <a:xfrm>
                    <a:off x="7065720" y="2401920"/>
                    <a:ext cx="6192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1" name=""/>
                  <p:cNvSpPr/>
                  <p:nvPr/>
                </p:nvSpPr>
                <p:spPr>
                  <a:xfrm>
                    <a:off x="7127640" y="2382840"/>
                    <a:ext cx="6048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2" name=""/>
                  <p:cNvSpPr/>
                  <p:nvPr/>
                </p:nvSpPr>
                <p:spPr>
                  <a:xfrm>
                    <a:off x="7188120" y="2422440"/>
                    <a:ext cx="6012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3" name=""/>
                  <p:cNvSpPr/>
                  <p:nvPr/>
                </p:nvSpPr>
                <p:spPr>
                  <a:xfrm>
                    <a:off x="7248240" y="2463840"/>
                    <a:ext cx="6192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4" name=""/>
                  <p:cNvSpPr/>
                  <p:nvPr/>
                </p:nvSpPr>
                <p:spPr>
                  <a:xfrm>
                    <a:off x="7310160" y="2484360"/>
                    <a:ext cx="5868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5" name=""/>
                  <p:cNvSpPr/>
                  <p:nvPr/>
                </p:nvSpPr>
                <p:spPr>
                  <a:xfrm>
                    <a:off x="7350120" y="2484360"/>
                    <a:ext cx="5868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6" name=""/>
                  <p:cNvSpPr/>
                  <p:nvPr/>
                </p:nvSpPr>
                <p:spPr>
                  <a:xfrm>
                    <a:off x="7448400" y="2527200"/>
                    <a:ext cx="6192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7" name=""/>
                  <p:cNvSpPr/>
                  <p:nvPr/>
                </p:nvSpPr>
                <p:spPr>
                  <a:xfrm>
                    <a:off x="7591320" y="2568600"/>
                    <a:ext cx="5868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8" name=""/>
                  <p:cNvSpPr/>
                  <p:nvPr/>
                </p:nvSpPr>
                <p:spPr>
                  <a:xfrm>
                    <a:off x="7732440" y="2649600"/>
                    <a:ext cx="6048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9" name=""/>
                  <p:cNvSpPr/>
                  <p:nvPr/>
                </p:nvSpPr>
                <p:spPr>
                  <a:xfrm>
                    <a:off x="7812000" y="2709720"/>
                    <a:ext cx="6012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0" name=""/>
                  <p:cNvSpPr/>
                  <p:nvPr/>
                </p:nvSpPr>
                <p:spPr>
                  <a:xfrm>
                    <a:off x="8013600" y="2709720"/>
                    <a:ext cx="6012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1" name=""/>
                  <p:cNvSpPr/>
                  <p:nvPr/>
                </p:nvSpPr>
                <p:spPr>
                  <a:xfrm>
                    <a:off x="8154720" y="2773440"/>
                    <a:ext cx="604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2" name=""/>
                  <p:cNvSpPr/>
                  <p:nvPr/>
                </p:nvSpPr>
                <p:spPr>
                  <a:xfrm>
                    <a:off x="8294400" y="2793960"/>
                    <a:ext cx="6192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3" name=""/>
                  <p:cNvSpPr/>
                  <p:nvPr/>
                </p:nvSpPr>
                <p:spPr>
                  <a:xfrm>
                    <a:off x="5757840" y="2031840"/>
                    <a:ext cx="6012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4" name=""/>
                  <p:cNvSpPr/>
                  <p:nvPr/>
                </p:nvSpPr>
                <p:spPr>
                  <a:xfrm>
                    <a:off x="5757840" y="2031840"/>
                    <a:ext cx="39600" cy="399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5" name=""/>
                  <p:cNvSpPr/>
                  <p:nvPr/>
                </p:nvSpPr>
                <p:spPr>
                  <a:xfrm>
                    <a:off x="5778360" y="1639800"/>
                    <a:ext cx="586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6" name=""/>
                  <p:cNvSpPr/>
                  <p:nvPr/>
                </p:nvSpPr>
                <p:spPr>
                  <a:xfrm>
                    <a:off x="5778360" y="163980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7" name=""/>
                  <p:cNvSpPr/>
                  <p:nvPr/>
                </p:nvSpPr>
                <p:spPr>
                  <a:xfrm>
                    <a:off x="5797440" y="1517760"/>
                    <a:ext cx="6012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8" name=""/>
                  <p:cNvSpPr/>
                  <p:nvPr/>
                </p:nvSpPr>
                <p:spPr>
                  <a:xfrm>
                    <a:off x="5797440" y="1517760"/>
                    <a:ext cx="396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9" name=""/>
                  <p:cNvSpPr/>
                  <p:nvPr/>
                </p:nvSpPr>
                <p:spPr>
                  <a:xfrm>
                    <a:off x="5817960" y="1474920"/>
                    <a:ext cx="5868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0" name=""/>
                  <p:cNvSpPr/>
                  <p:nvPr/>
                </p:nvSpPr>
                <p:spPr>
                  <a:xfrm>
                    <a:off x="5817960" y="1474920"/>
                    <a:ext cx="3960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1" name=""/>
                  <p:cNvSpPr/>
                  <p:nvPr/>
                </p:nvSpPr>
                <p:spPr>
                  <a:xfrm>
                    <a:off x="5837040" y="1454040"/>
                    <a:ext cx="60480" cy="637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2" name=""/>
                  <p:cNvSpPr/>
                  <p:nvPr/>
                </p:nvSpPr>
                <p:spPr>
                  <a:xfrm>
                    <a:off x="5837040" y="145404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3" name=""/>
                  <p:cNvSpPr/>
                  <p:nvPr/>
                </p:nvSpPr>
                <p:spPr>
                  <a:xfrm>
                    <a:off x="5857560" y="1454040"/>
                    <a:ext cx="59040" cy="637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4" name=""/>
                  <p:cNvSpPr/>
                  <p:nvPr/>
                </p:nvSpPr>
                <p:spPr>
                  <a:xfrm>
                    <a:off x="5857560" y="1454040"/>
                    <a:ext cx="399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5" name=""/>
                  <p:cNvSpPr/>
                  <p:nvPr/>
                </p:nvSpPr>
                <p:spPr>
                  <a:xfrm>
                    <a:off x="5876640" y="1454040"/>
                    <a:ext cx="61920" cy="637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6" name=""/>
                  <p:cNvSpPr/>
                  <p:nvPr/>
                </p:nvSpPr>
                <p:spPr>
                  <a:xfrm>
                    <a:off x="5876640" y="1454040"/>
                    <a:ext cx="399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7" name=""/>
                  <p:cNvSpPr/>
                  <p:nvPr/>
                </p:nvSpPr>
                <p:spPr>
                  <a:xfrm>
                    <a:off x="5897520" y="1454040"/>
                    <a:ext cx="61920" cy="637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8" name=""/>
                  <p:cNvSpPr/>
                  <p:nvPr/>
                </p:nvSpPr>
                <p:spPr>
                  <a:xfrm>
                    <a:off x="5897520" y="1454040"/>
                    <a:ext cx="4104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9" name=""/>
                  <p:cNvSpPr/>
                  <p:nvPr/>
                </p:nvSpPr>
                <p:spPr>
                  <a:xfrm>
                    <a:off x="5897520" y="1474920"/>
                    <a:ext cx="6192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0" name=""/>
                  <p:cNvSpPr/>
                  <p:nvPr/>
                </p:nvSpPr>
                <p:spPr>
                  <a:xfrm>
                    <a:off x="5897520" y="1474920"/>
                    <a:ext cx="4104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1" name=""/>
                  <p:cNvSpPr/>
                  <p:nvPr/>
                </p:nvSpPr>
                <p:spPr>
                  <a:xfrm>
                    <a:off x="5916600" y="1474920"/>
                    <a:ext cx="6192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2" name=""/>
                  <p:cNvSpPr/>
                  <p:nvPr/>
                </p:nvSpPr>
                <p:spPr>
                  <a:xfrm>
                    <a:off x="5916600" y="1474920"/>
                    <a:ext cx="4284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3" name=""/>
                  <p:cNvSpPr/>
                  <p:nvPr/>
                </p:nvSpPr>
                <p:spPr>
                  <a:xfrm>
                    <a:off x="5938560" y="1495440"/>
                    <a:ext cx="6048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4" name=""/>
                  <p:cNvSpPr/>
                  <p:nvPr/>
                </p:nvSpPr>
                <p:spPr>
                  <a:xfrm>
                    <a:off x="5938560" y="1495440"/>
                    <a:ext cx="3996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5" name=""/>
                  <p:cNvSpPr/>
                  <p:nvPr/>
                </p:nvSpPr>
                <p:spPr>
                  <a:xfrm>
                    <a:off x="5959440" y="1517760"/>
                    <a:ext cx="6012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6" name=""/>
                  <p:cNvSpPr/>
                  <p:nvPr/>
                </p:nvSpPr>
                <p:spPr>
                  <a:xfrm>
                    <a:off x="5959440" y="1517760"/>
                    <a:ext cx="396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7" name=""/>
                  <p:cNvSpPr/>
                  <p:nvPr/>
                </p:nvSpPr>
                <p:spPr>
                  <a:xfrm>
                    <a:off x="5978520" y="1517760"/>
                    <a:ext cx="6012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8" name=""/>
                  <p:cNvSpPr/>
                  <p:nvPr/>
                </p:nvSpPr>
                <p:spPr>
                  <a:xfrm>
                    <a:off x="5978520" y="1517760"/>
                    <a:ext cx="4104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9" name=""/>
                  <p:cNvSpPr/>
                  <p:nvPr/>
                </p:nvSpPr>
                <p:spPr>
                  <a:xfrm>
                    <a:off x="5999040" y="1558800"/>
                    <a:ext cx="6012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0" name=""/>
                  <p:cNvSpPr/>
                  <p:nvPr/>
                </p:nvSpPr>
                <p:spPr>
                  <a:xfrm>
                    <a:off x="5999040" y="1558800"/>
                    <a:ext cx="39600" cy="399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1" name=""/>
                  <p:cNvSpPr/>
                  <p:nvPr/>
                </p:nvSpPr>
                <p:spPr>
                  <a:xfrm>
                    <a:off x="6019560" y="1558800"/>
                    <a:ext cx="586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2" name=""/>
                  <p:cNvSpPr/>
                  <p:nvPr/>
                </p:nvSpPr>
                <p:spPr>
                  <a:xfrm>
                    <a:off x="6019560" y="1558800"/>
                    <a:ext cx="39600" cy="399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3" name=""/>
                  <p:cNvSpPr/>
                  <p:nvPr/>
                </p:nvSpPr>
                <p:spPr>
                  <a:xfrm>
                    <a:off x="6038640" y="1577880"/>
                    <a:ext cx="604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4" name=""/>
                  <p:cNvSpPr/>
                  <p:nvPr/>
                </p:nvSpPr>
                <p:spPr>
                  <a:xfrm>
                    <a:off x="6038640" y="157788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5" name=""/>
                  <p:cNvSpPr/>
                  <p:nvPr/>
                </p:nvSpPr>
                <p:spPr>
                  <a:xfrm>
                    <a:off x="6059160" y="1619280"/>
                    <a:ext cx="6192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6" name=""/>
                  <p:cNvSpPr/>
                  <p:nvPr/>
                </p:nvSpPr>
                <p:spPr>
                  <a:xfrm>
                    <a:off x="6059160" y="1619280"/>
                    <a:ext cx="399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7" name=""/>
                  <p:cNvSpPr/>
                  <p:nvPr/>
                </p:nvSpPr>
                <p:spPr>
                  <a:xfrm>
                    <a:off x="6078240" y="1619280"/>
                    <a:ext cx="6192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8" name=""/>
                  <p:cNvSpPr/>
                  <p:nvPr/>
                </p:nvSpPr>
                <p:spPr>
                  <a:xfrm>
                    <a:off x="6078240" y="1619280"/>
                    <a:ext cx="4284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9" name=""/>
                  <p:cNvSpPr/>
                  <p:nvPr/>
                </p:nvSpPr>
                <p:spPr>
                  <a:xfrm>
                    <a:off x="6099120" y="1619280"/>
                    <a:ext cx="6192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0" name=""/>
                  <p:cNvSpPr/>
                  <p:nvPr/>
                </p:nvSpPr>
                <p:spPr>
                  <a:xfrm>
                    <a:off x="6099120" y="1619280"/>
                    <a:ext cx="4104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1" name=""/>
                  <p:cNvSpPr/>
                  <p:nvPr/>
                </p:nvSpPr>
                <p:spPr>
                  <a:xfrm>
                    <a:off x="6121080" y="1660680"/>
                    <a:ext cx="5904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2" name=""/>
                  <p:cNvSpPr/>
                  <p:nvPr/>
                </p:nvSpPr>
                <p:spPr>
                  <a:xfrm>
                    <a:off x="6121080" y="1660680"/>
                    <a:ext cx="3996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3" name=""/>
                  <p:cNvSpPr/>
                  <p:nvPr/>
                </p:nvSpPr>
                <p:spPr>
                  <a:xfrm>
                    <a:off x="6140160" y="1660680"/>
                    <a:ext cx="6048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4" name=""/>
                  <p:cNvSpPr/>
                  <p:nvPr/>
                </p:nvSpPr>
                <p:spPr>
                  <a:xfrm>
                    <a:off x="6140160" y="1660680"/>
                    <a:ext cx="3996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5" name=""/>
                  <p:cNvSpPr/>
                  <p:nvPr/>
                </p:nvSpPr>
                <p:spPr>
                  <a:xfrm>
                    <a:off x="6161040" y="1700280"/>
                    <a:ext cx="5868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6" name=""/>
                  <p:cNvSpPr/>
                  <p:nvPr/>
                </p:nvSpPr>
                <p:spPr>
                  <a:xfrm>
                    <a:off x="6161040" y="1700280"/>
                    <a:ext cx="39600" cy="4428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7" name=""/>
                  <p:cNvSpPr/>
                  <p:nvPr/>
                </p:nvSpPr>
                <p:spPr>
                  <a:xfrm>
                    <a:off x="6180120" y="1724040"/>
                    <a:ext cx="6012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8" name=""/>
                  <p:cNvSpPr/>
                  <p:nvPr/>
                </p:nvSpPr>
                <p:spPr>
                  <a:xfrm>
                    <a:off x="6180120" y="1724040"/>
                    <a:ext cx="3960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9" name=""/>
                  <p:cNvSpPr/>
                  <p:nvPr/>
                </p:nvSpPr>
                <p:spPr>
                  <a:xfrm>
                    <a:off x="6200640" y="1724040"/>
                    <a:ext cx="6012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0" name=""/>
                  <p:cNvSpPr/>
                  <p:nvPr/>
                </p:nvSpPr>
                <p:spPr>
                  <a:xfrm>
                    <a:off x="6200640" y="1724040"/>
                    <a:ext cx="3960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1" name=""/>
                  <p:cNvSpPr/>
                  <p:nvPr/>
                </p:nvSpPr>
                <p:spPr>
                  <a:xfrm>
                    <a:off x="6219720" y="1744560"/>
                    <a:ext cx="6012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2" name=""/>
                  <p:cNvSpPr/>
                  <p:nvPr/>
                </p:nvSpPr>
                <p:spPr>
                  <a:xfrm>
                    <a:off x="6219720" y="1744560"/>
                    <a:ext cx="41040" cy="399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3" name=""/>
                  <p:cNvSpPr/>
                  <p:nvPr/>
                </p:nvSpPr>
                <p:spPr>
                  <a:xfrm>
                    <a:off x="6240240" y="1784520"/>
                    <a:ext cx="604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4" name=""/>
                  <p:cNvSpPr/>
                  <p:nvPr/>
                </p:nvSpPr>
                <p:spPr>
                  <a:xfrm>
                    <a:off x="6240240" y="1784520"/>
                    <a:ext cx="396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5" name=""/>
                  <p:cNvSpPr/>
                  <p:nvPr/>
                </p:nvSpPr>
                <p:spPr>
                  <a:xfrm>
                    <a:off x="6260760" y="1784520"/>
                    <a:ext cx="6192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6" name=""/>
                  <p:cNvSpPr/>
                  <p:nvPr/>
                </p:nvSpPr>
                <p:spPr>
                  <a:xfrm>
                    <a:off x="6260760" y="1784520"/>
                    <a:ext cx="3996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7" name=""/>
                  <p:cNvSpPr/>
                  <p:nvPr/>
                </p:nvSpPr>
                <p:spPr>
                  <a:xfrm>
                    <a:off x="6279840" y="1825560"/>
                    <a:ext cx="6192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8" name=""/>
                  <p:cNvSpPr/>
                  <p:nvPr/>
                </p:nvSpPr>
                <p:spPr>
                  <a:xfrm>
                    <a:off x="6279840" y="1825560"/>
                    <a:ext cx="4284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9" name=""/>
                  <p:cNvSpPr/>
                  <p:nvPr/>
                </p:nvSpPr>
                <p:spPr>
                  <a:xfrm>
                    <a:off x="6300720" y="1825560"/>
                    <a:ext cx="6192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0" name=""/>
                  <p:cNvSpPr/>
                  <p:nvPr/>
                </p:nvSpPr>
                <p:spPr>
                  <a:xfrm>
                    <a:off x="6300720" y="1825560"/>
                    <a:ext cx="4104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1" name=""/>
                  <p:cNvSpPr/>
                  <p:nvPr/>
                </p:nvSpPr>
                <p:spPr>
                  <a:xfrm>
                    <a:off x="6322680" y="1846440"/>
                    <a:ext cx="5904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2" name=""/>
                  <p:cNvSpPr/>
                  <p:nvPr/>
                </p:nvSpPr>
                <p:spPr>
                  <a:xfrm>
                    <a:off x="6322680" y="1846440"/>
                    <a:ext cx="3996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3" name=""/>
                  <p:cNvSpPr/>
                  <p:nvPr/>
                </p:nvSpPr>
                <p:spPr>
                  <a:xfrm>
                    <a:off x="6341760" y="1866960"/>
                    <a:ext cx="604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4" name=""/>
                  <p:cNvSpPr/>
                  <p:nvPr/>
                </p:nvSpPr>
                <p:spPr>
                  <a:xfrm>
                    <a:off x="6341760" y="1866960"/>
                    <a:ext cx="3996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5" name=""/>
                  <p:cNvSpPr/>
                  <p:nvPr/>
                </p:nvSpPr>
                <p:spPr>
                  <a:xfrm>
                    <a:off x="6362640" y="1886040"/>
                    <a:ext cx="5868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6" name=""/>
                  <p:cNvSpPr/>
                  <p:nvPr/>
                </p:nvSpPr>
                <p:spPr>
                  <a:xfrm>
                    <a:off x="6362640" y="1886040"/>
                    <a:ext cx="3960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7" name=""/>
                  <p:cNvSpPr/>
                  <p:nvPr/>
                </p:nvSpPr>
                <p:spPr>
                  <a:xfrm>
                    <a:off x="6381720" y="1906560"/>
                    <a:ext cx="6012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8" name=""/>
                  <p:cNvSpPr/>
                  <p:nvPr/>
                </p:nvSpPr>
                <p:spPr>
                  <a:xfrm>
                    <a:off x="6381720" y="1906560"/>
                    <a:ext cx="3960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9" name=""/>
                  <p:cNvSpPr/>
                  <p:nvPr/>
                </p:nvSpPr>
                <p:spPr>
                  <a:xfrm>
                    <a:off x="6402240" y="192888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0" name=""/>
                  <p:cNvSpPr/>
                  <p:nvPr/>
                </p:nvSpPr>
                <p:spPr>
                  <a:xfrm>
                    <a:off x="6402240" y="1928880"/>
                    <a:ext cx="396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1" name=""/>
                  <p:cNvSpPr/>
                  <p:nvPr/>
                </p:nvSpPr>
                <p:spPr>
                  <a:xfrm>
                    <a:off x="6421320" y="1949400"/>
                    <a:ext cx="6012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2" name=""/>
                  <p:cNvSpPr/>
                  <p:nvPr/>
                </p:nvSpPr>
                <p:spPr>
                  <a:xfrm>
                    <a:off x="6421320" y="194940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3" name=""/>
                  <p:cNvSpPr/>
                  <p:nvPr/>
                </p:nvSpPr>
                <p:spPr>
                  <a:xfrm>
                    <a:off x="6441840" y="1969920"/>
                    <a:ext cx="604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4" name=""/>
                  <p:cNvSpPr/>
                  <p:nvPr/>
                </p:nvSpPr>
                <p:spPr>
                  <a:xfrm>
                    <a:off x="6441840" y="196992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5" name=""/>
                  <p:cNvSpPr/>
                  <p:nvPr/>
                </p:nvSpPr>
                <p:spPr>
                  <a:xfrm>
                    <a:off x="6441840" y="1990800"/>
                    <a:ext cx="6048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6" name=""/>
                  <p:cNvSpPr/>
                  <p:nvPr/>
                </p:nvSpPr>
                <p:spPr>
                  <a:xfrm>
                    <a:off x="6441840" y="1990800"/>
                    <a:ext cx="396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7" name=""/>
                  <p:cNvSpPr/>
                  <p:nvPr/>
                </p:nvSpPr>
                <p:spPr>
                  <a:xfrm>
                    <a:off x="6460920" y="1990800"/>
                    <a:ext cx="6336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8" name=""/>
                  <p:cNvSpPr/>
                  <p:nvPr/>
                </p:nvSpPr>
                <p:spPr>
                  <a:xfrm>
                    <a:off x="6460920" y="1990800"/>
                    <a:ext cx="414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9" name=""/>
                  <p:cNvSpPr/>
                  <p:nvPr/>
                </p:nvSpPr>
                <p:spPr>
                  <a:xfrm>
                    <a:off x="6481440" y="2031840"/>
                    <a:ext cx="6192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0" name=""/>
                  <p:cNvSpPr/>
                  <p:nvPr/>
                </p:nvSpPr>
                <p:spPr>
                  <a:xfrm>
                    <a:off x="6481440" y="2031840"/>
                    <a:ext cx="42840" cy="399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1" name=""/>
                  <p:cNvSpPr/>
                  <p:nvPr/>
                </p:nvSpPr>
                <p:spPr>
                  <a:xfrm>
                    <a:off x="6502320" y="2031840"/>
                    <a:ext cx="6192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2" name=""/>
                  <p:cNvSpPr/>
                  <p:nvPr/>
                </p:nvSpPr>
                <p:spPr>
                  <a:xfrm>
                    <a:off x="6502320" y="2031840"/>
                    <a:ext cx="41040" cy="399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3" name=""/>
                  <p:cNvSpPr/>
                  <p:nvPr/>
                </p:nvSpPr>
                <p:spPr>
                  <a:xfrm>
                    <a:off x="6524280" y="2050920"/>
                    <a:ext cx="5904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4" name=""/>
                  <p:cNvSpPr/>
                  <p:nvPr/>
                </p:nvSpPr>
                <p:spPr>
                  <a:xfrm>
                    <a:off x="6524280" y="2050920"/>
                    <a:ext cx="399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5" name=""/>
                  <p:cNvSpPr/>
                  <p:nvPr/>
                </p:nvSpPr>
                <p:spPr>
                  <a:xfrm>
                    <a:off x="6543360" y="2071800"/>
                    <a:ext cx="6048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6" name=""/>
                  <p:cNvSpPr/>
                  <p:nvPr/>
                </p:nvSpPr>
                <p:spPr>
                  <a:xfrm>
                    <a:off x="6543360" y="2071800"/>
                    <a:ext cx="3996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7" name=""/>
                  <p:cNvSpPr/>
                  <p:nvPr/>
                </p:nvSpPr>
                <p:spPr>
                  <a:xfrm>
                    <a:off x="6564240" y="2071800"/>
                    <a:ext cx="5868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8" name=""/>
                  <p:cNvSpPr/>
                  <p:nvPr/>
                </p:nvSpPr>
                <p:spPr>
                  <a:xfrm>
                    <a:off x="6564240" y="2071800"/>
                    <a:ext cx="396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9" name=""/>
                  <p:cNvSpPr/>
                  <p:nvPr/>
                </p:nvSpPr>
                <p:spPr>
                  <a:xfrm>
                    <a:off x="6583320" y="2092320"/>
                    <a:ext cx="6012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0" name=""/>
                  <p:cNvSpPr/>
                  <p:nvPr/>
                </p:nvSpPr>
                <p:spPr>
                  <a:xfrm>
                    <a:off x="6583320" y="2092320"/>
                    <a:ext cx="3960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1" name=""/>
                  <p:cNvSpPr/>
                  <p:nvPr/>
                </p:nvSpPr>
                <p:spPr>
                  <a:xfrm>
                    <a:off x="6603840" y="2112840"/>
                    <a:ext cx="58680" cy="637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2" name=""/>
                  <p:cNvSpPr/>
                  <p:nvPr/>
                </p:nvSpPr>
                <p:spPr>
                  <a:xfrm>
                    <a:off x="6603840" y="2112840"/>
                    <a:ext cx="3960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3" name=""/>
                  <p:cNvSpPr/>
                  <p:nvPr/>
                </p:nvSpPr>
                <p:spPr>
                  <a:xfrm>
                    <a:off x="6622920" y="2135160"/>
                    <a:ext cx="6012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4" name=""/>
                  <p:cNvSpPr/>
                  <p:nvPr/>
                </p:nvSpPr>
                <p:spPr>
                  <a:xfrm>
                    <a:off x="6622920" y="213516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5" name=""/>
                  <p:cNvSpPr/>
                  <p:nvPr/>
                </p:nvSpPr>
                <p:spPr>
                  <a:xfrm>
                    <a:off x="6643440" y="213516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6" name=""/>
                  <p:cNvSpPr/>
                  <p:nvPr/>
                </p:nvSpPr>
                <p:spPr>
                  <a:xfrm>
                    <a:off x="6643440" y="213516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7" name=""/>
                  <p:cNvSpPr/>
                  <p:nvPr/>
                </p:nvSpPr>
                <p:spPr>
                  <a:xfrm>
                    <a:off x="6662520" y="2155680"/>
                    <a:ext cx="6192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8" name=""/>
                  <p:cNvSpPr/>
                  <p:nvPr/>
                </p:nvSpPr>
                <p:spPr>
                  <a:xfrm>
                    <a:off x="6662520" y="215568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9" name=""/>
                  <p:cNvSpPr/>
                  <p:nvPr/>
                </p:nvSpPr>
                <p:spPr>
                  <a:xfrm>
                    <a:off x="6683040" y="2176560"/>
                    <a:ext cx="6192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0" name=""/>
                  <p:cNvSpPr/>
                  <p:nvPr/>
                </p:nvSpPr>
                <p:spPr>
                  <a:xfrm>
                    <a:off x="6683040" y="2176560"/>
                    <a:ext cx="414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1" name=""/>
                  <p:cNvSpPr/>
                  <p:nvPr/>
                </p:nvSpPr>
                <p:spPr>
                  <a:xfrm>
                    <a:off x="6744960" y="2217600"/>
                    <a:ext cx="604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2" name=""/>
                  <p:cNvSpPr/>
                  <p:nvPr/>
                </p:nvSpPr>
                <p:spPr>
                  <a:xfrm>
                    <a:off x="6744960" y="2217600"/>
                    <a:ext cx="39960" cy="399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3" name=""/>
                  <p:cNvSpPr/>
                  <p:nvPr/>
                </p:nvSpPr>
                <p:spPr>
                  <a:xfrm>
                    <a:off x="6784920" y="2257560"/>
                    <a:ext cx="6012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4" name=""/>
                  <p:cNvSpPr/>
                  <p:nvPr/>
                </p:nvSpPr>
                <p:spPr>
                  <a:xfrm>
                    <a:off x="6784920" y="2257560"/>
                    <a:ext cx="396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5" name=""/>
                  <p:cNvSpPr/>
                  <p:nvPr/>
                </p:nvSpPr>
                <p:spPr>
                  <a:xfrm>
                    <a:off x="6845040" y="2278080"/>
                    <a:ext cx="5868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6" name=""/>
                  <p:cNvSpPr/>
                  <p:nvPr/>
                </p:nvSpPr>
                <p:spPr>
                  <a:xfrm>
                    <a:off x="6845040" y="227808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7" name=""/>
                  <p:cNvSpPr/>
                  <p:nvPr/>
                </p:nvSpPr>
                <p:spPr>
                  <a:xfrm>
                    <a:off x="6903720" y="2319480"/>
                    <a:ext cx="6192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8" name=""/>
                  <p:cNvSpPr/>
                  <p:nvPr/>
                </p:nvSpPr>
                <p:spPr>
                  <a:xfrm>
                    <a:off x="6903720" y="2319480"/>
                    <a:ext cx="4284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9" name=""/>
                  <p:cNvSpPr/>
                  <p:nvPr/>
                </p:nvSpPr>
                <p:spPr>
                  <a:xfrm>
                    <a:off x="6965640" y="2362320"/>
                    <a:ext cx="6048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0" name=""/>
                  <p:cNvSpPr/>
                  <p:nvPr/>
                </p:nvSpPr>
                <p:spPr>
                  <a:xfrm>
                    <a:off x="6965640" y="2362320"/>
                    <a:ext cx="4140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1" name=""/>
                  <p:cNvSpPr/>
                  <p:nvPr/>
                </p:nvSpPr>
                <p:spPr>
                  <a:xfrm>
                    <a:off x="7026120" y="2362320"/>
                    <a:ext cx="6048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2" name=""/>
                  <p:cNvSpPr/>
                  <p:nvPr/>
                </p:nvSpPr>
                <p:spPr>
                  <a:xfrm>
                    <a:off x="7026120" y="2362320"/>
                    <a:ext cx="3960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3" name=""/>
                  <p:cNvSpPr/>
                  <p:nvPr/>
                </p:nvSpPr>
                <p:spPr>
                  <a:xfrm>
                    <a:off x="7065720" y="2382840"/>
                    <a:ext cx="6192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4" name=""/>
                  <p:cNvSpPr/>
                  <p:nvPr/>
                </p:nvSpPr>
                <p:spPr>
                  <a:xfrm>
                    <a:off x="7065720" y="2382840"/>
                    <a:ext cx="3960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5" name=""/>
                  <p:cNvSpPr/>
                  <p:nvPr/>
                </p:nvSpPr>
                <p:spPr>
                  <a:xfrm>
                    <a:off x="7127640" y="2401920"/>
                    <a:ext cx="604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6" name=""/>
                  <p:cNvSpPr/>
                  <p:nvPr/>
                </p:nvSpPr>
                <p:spPr>
                  <a:xfrm>
                    <a:off x="7127640" y="240192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7" name=""/>
                  <p:cNvSpPr/>
                  <p:nvPr/>
                </p:nvSpPr>
                <p:spPr>
                  <a:xfrm>
                    <a:off x="7188120" y="2484360"/>
                    <a:ext cx="60120" cy="637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8" name=""/>
                  <p:cNvSpPr/>
                  <p:nvPr/>
                </p:nvSpPr>
                <p:spPr>
                  <a:xfrm>
                    <a:off x="7188120" y="2484360"/>
                    <a:ext cx="3960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9" name=""/>
                  <p:cNvSpPr/>
                  <p:nvPr/>
                </p:nvSpPr>
                <p:spPr>
                  <a:xfrm>
                    <a:off x="7248240" y="2463840"/>
                    <a:ext cx="6192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0" name=""/>
                  <p:cNvSpPr/>
                  <p:nvPr/>
                </p:nvSpPr>
                <p:spPr>
                  <a:xfrm>
                    <a:off x="7248240" y="2463840"/>
                    <a:ext cx="399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1" name=""/>
                  <p:cNvSpPr/>
                  <p:nvPr/>
                </p:nvSpPr>
                <p:spPr>
                  <a:xfrm>
                    <a:off x="7310160" y="2484360"/>
                    <a:ext cx="58680" cy="637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2" name=""/>
                  <p:cNvSpPr/>
                  <p:nvPr/>
                </p:nvSpPr>
                <p:spPr>
                  <a:xfrm>
                    <a:off x="7310160" y="2484360"/>
                    <a:ext cx="3996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3" name=""/>
                  <p:cNvSpPr/>
                  <p:nvPr/>
                </p:nvSpPr>
                <p:spPr>
                  <a:xfrm>
                    <a:off x="7350120" y="2527200"/>
                    <a:ext cx="586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4" name=""/>
                  <p:cNvSpPr/>
                  <p:nvPr/>
                </p:nvSpPr>
                <p:spPr>
                  <a:xfrm>
                    <a:off x="7350120" y="252720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5" name=""/>
                  <p:cNvSpPr/>
                  <p:nvPr/>
                </p:nvSpPr>
                <p:spPr>
                  <a:xfrm>
                    <a:off x="7448400" y="2548080"/>
                    <a:ext cx="6192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6" name=""/>
                  <p:cNvSpPr/>
                  <p:nvPr/>
                </p:nvSpPr>
                <p:spPr>
                  <a:xfrm>
                    <a:off x="7448400" y="2548080"/>
                    <a:ext cx="4140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7" name=""/>
                  <p:cNvSpPr/>
                  <p:nvPr/>
                </p:nvSpPr>
                <p:spPr>
                  <a:xfrm>
                    <a:off x="7591320" y="258768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8" name=""/>
                  <p:cNvSpPr/>
                  <p:nvPr/>
                </p:nvSpPr>
                <p:spPr>
                  <a:xfrm>
                    <a:off x="7591320" y="258768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9" name=""/>
                  <p:cNvSpPr/>
                  <p:nvPr/>
                </p:nvSpPr>
                <p:spPr>
                  <a:xfrm>
                    <a:off x="7732440" y="2690640"/>
                    <a:ext cx="604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0" name=""/>
                  <p:cNvSpPr/>
                  <p:nvPr/>
                </p:nvSpPr>
                <p:spPr>
                  <a:xfrm>
                    <a:off x="7732440" y="2690640"/>
                    <a:ext cx="39960" cy="432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1" name=""/>
                  <p:cNvSpPr/>
                  <p:nvPr/>
                </p:nvSpPr>
                <p:spPr>
                  <a:xfrm>
                    <a:off x="7812000" y="2733840"/>
                    <a:ext cx="6012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2" name=""/>
                  <p:cNvSpPr/>
                  <p:nvPr/>
                </p:nvSpPr>
                <p:spPr>
                  <a:xfrm>
                    <a:off x="7812000" y="2733840"/>
                    <a:ext cx="3960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3" name=""/>
                  <p:cNvSpPr/>
                  <p:nvPr/>
                </p:nvSpPr>
                <p:spPr>
                  <a:xfrm>
                    <a:off x="8013600" y="2752560"/>
                    <a:ext cx="6012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4" name=""/>
                  <p:cNvSpPr/>
                  <p:nvPr/>
                </p:nvSpPr>
                <p:spPr>
                  <a:xfrm>
                    <a:off x="8013600" y="275256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5" name=""/>
                  <p:cNvSpPr/>
                  <p:nvPr/>
                </p:nvSpPr>
                <p:spPr>
                  <a:xfrm>
                    <a:off x="8154720" y="2773440"/>
                    <a:ext cx="604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6" name=""/>
                  <p:cNvSpPr/>
                  <p:nvPr/>
                </p:nvSpPr>
                <p:spPr>
                  <a:xfrm>
                    <a:off x="8154720" y="2773440"/>
                    <a:ext cx="396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7" name=""/>
                  <p:cNvSpPr/>
                  <p:nvPr/>
                </p:nvSpPr>
                <p:spPr>
                  <a:xfrm>
                    <a:off x="8294400" y="2814480"/>
                    <a:ext cx="6192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8" name=""/>
                  <p:cNvSpPr/>
                  <p:nvPr/>
                </p:nvSpPr>
                <p:spPr>
                  <a:xfrm>
                    <a:off x="8294400" y="2814480"/>
                    <a:ext cx="4284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9" name=""/>
                  <p:cNvSpPr/>
                  <p:nvPr/>
                </p:nvSpPr>
                <p:spPr>
                  <a:xfrm>
                    <a:off x="5784840" y="1487520"/>
                    <a:ext cx="2547720" cy="11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51" h="489">
                        <a:moveTo>
                          <a:pt x="1151" y="489"/>
                        </a:moveTo>
                        <a:cubicBezTo>
                          <a:pt x="1101" y="479"/>
                          <a:pt x="1051" y="470"/>
                          <a:pt x="989" y="459"/>
                        </a:cubicBezTo>
                        <a:cubicBezTo>
                          <a:pt x="926" y="447"/>
                          <a:pt x="852" y="433"/>
                          <a:pt x="775" y="417"/>
                        </a:cubicBezTo>
                        <a:cubicBezTo>
                          <a:pt x="697" y="400"/>
                          <a:pt x="591" y="380"/>
                          <a:pt x="527" y="361"/>
                        </a:cubicBezTo>
                        <a:cubicBezTo>
                          <a:pt x="462" y="342"/>
                          <a:pt x="427" y="324"/>
                          <a:pt x="389" y="303"/>
                        </a:cubicBezTo>
                        <a:cubicBezTo>
                          <a:pt x="350" y="281"/>
                          <a:pt x="326" y="263"/>
                          <a:pt x="293" y="233"/>
                        </a:cubicBezTo>
                        <a:cubicBezTo>
                          <a:pt x="259" y="202"/>
                          <a:pt x="218" y="154"/>
                          <a:pt x="187" y="121"/>
                        </a:cubicBezTo>
                        <a:cubicBezTo>
                          <a:pt x="155" y="87"/>
                          <a:pt x="121" y="50"/>
                          <a:pt x="101" y="31"/>
                        </a:cubicBezTo>
                        <a:cubicBezTo>
                          <a:pt x="80" y="11"/>
                          <a:pt x="75" y="9"/>
                          <a:pt x="65" y="5"/>
                        </a:cubicBezTo>
                        <a:cubicBezTo>
                          <a:pt x="54" y="0"/>
                          <a:pt x="44" y="3"/>
                          <a:pt x="37" y="5"/>
                        </a:cubicBezTo>
                        <a:cubicBezTo>
                          <a:pt x="29" y="6"/>
                          <a:pt x="24" y="4"/>
                          <a:pt x="19" y="17"/>
                        </a:cubicBezTo>
                        <a:cubicBezTo>
                          <a:pt x="13" y="29"/>
                          <a:pt x="5" y="57"/>
                          <a:pt x="3" y="79"/>
                        </a:cubicBezTo>
                        <a:cubicBezTo>
                          <a:pt x="0" y="100"/>
                          <a:pt x="1" y="125"/>
                          <a:pt x="3" y="149"/>
                        </a:cubicBezTo>
                      </a:path>
                    </a:pathLst>
                  </a:custGeom>
                  <a:noFill/>
                  <a:ln w="9360">
                    <a:solidFill>
                      <a:srgbClr val="66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90" name=""/>
                <p:cNvSpPr/>
                <p:nvPr/>
              </p:nvSpPr>
              <p:spPr>
                <a:xfrm>
                  <a:off x="6492240" y="1301760"/>
                  <a:ext cx="27439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cf305"/>
                      </a:solidFill>
                      <a:latin typeface="Trebuchet MS"/>
                    </a:rPr>
                    <a:t>[Benzoate] =  873 µM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1" name=""/>
              <p:cNvGrpSpPr/>
              <p:nvPr/>
            </p:nvGrpSpPr>
            <p:grpSpPr>
              <a:xfrm>
                <a:off x="5042160" y="1401840"/>
                <a:ext cx="686520" cy="1861920"/>
                <a:chOff x="5042160" y="1401840"/>
                <a:chExt cx="686520" cy="1861920"/>
              </a:xfrm>
            </p:grpSpPr>
            <p:sp>
              <p:nvSpPr>
                <p:cNvPr id="5392" name=""/>
                <p:cNvSpPr/>
                <p:nvPr/>
              </p:nvSpPr>
              <p:spPr>
                <a:xfrm>
                  <a:off x="5042160" y="3035160"/>
                  <a:ext cx="6865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.0001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3" name=""/>
                <p:cNvSpPr/>
                <p:nvPr/>
              </p:nvSpPr>
              <p:spPr>
                <a:xfrm>
                  <a:off x="5149440" y="2500200"/>
                  <a:ext cx="572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.001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4" name=""/>
                <p:cNvSpPr/>
                <p:nvPr/>
              </p:nvSpPr>
              <p:spPr>
                <a:xfrm>
                  <a:off x="5256720" y="1940040"/>
                  <a:ext cx="4579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.01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5" name=""/>
                <p:cNvSpPr/>
                <p:nvPr/>
              </p:nvSpPr>
              <p:spPr>
                <a:xfrm>
                  <a:off x="5363640" y="140184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.1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96" name=""/>
            <p:cNvGrpSpPr/>
            <p:nvPr/>
          </p:nvGrpSpPr>
          <p:grpSpPr>
            <a:xfrm>
              <a:off x="5791320" y="76320"/>
              <a:ext cx="2164680" cy="1137960"/>
              <a:chOff x="5791320" y="76320"/>
              <a:chExt cx="2164680" cy="1137960"/>
            </a:xfrm>
          </p:grpSpPr>
          <p:sp>
            <p:nvSpPr>
              <p:cNvPr id="5397" name=""/>
              <p:cNvSpPr/>
              <p:nvPr/>
            </p:nvSpPr>
            <p:spPr>
              <a:xfrm>
                <a:off x="6157800" y="169920"/>
                <a:ext cx="68400" cy="6768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5791320" y="76320"/>
                <a:ext cx="2057400" cy="1137960"/>
              </a:xfrm>
              <a:prstGeom prst="rect">
                <a:avLst/>
              </a:prstGeom>
              <a:noFill/>
              <a:ln w="2052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6157800" y="461880"/>
                <a:ext cx="68400" cy="680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6384240" y="401400"/>
                <a:ext cx="11667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27fc20"/>
                    </a:solidFill>
                    <a:latin typeface="Trebuchet MS"/>
                  </a:rPr>
                  <a:t>Hippurate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6414840" y="122040"/>
                <a:ext cx="10371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7ffdff"/>
                    </a:solidFill>
                    <a:latin typeface="Trebuchet MS"/>
                  </a:rPr>
                  <a:t>Benzoate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907240" y="793800"/>
                <a:ext cx="523800" cy="1080"/>
              </a:xfrm>
              <a:prstGeom prst="line">
                <a:avLst/>
              </a:prstGeom>
              <a:ln w="1260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6301080" y="658800"/>
                <a:ext cx="1555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7ffdff"/>
                    </a:solidFill>
                    <a:latin typeface="Trebuchet MS"/>
                  </a:rPr>
                  <a:t>Benzoate fit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5907240" y="1022400"/>
                <a:ext cx="523800" cy="108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6271200" y="887400"/>
                <a:ext cx="1684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27fc20"/>
                    </a:solidFill>
                    <a:latin typeface="Trebuchet MS"/>
                  </a:rPr>
                  <a:t>Hippurate fit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9" dur="500"/>
                                        <p:tgtEl>
                                          <p:spTgt spid="4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4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6" name="" descr=""/>
          <p:cNvPicPr/>
          <p:nvPr/>
        </p:nvPicPr>
        <p:blipFill>
          <a:blip r:embed="rId1"/>
          <a:stretch/>
        </p:blipFill>
        <p:spPr>
          <a:xfrm>
            <a:off x="322200" y="1650960"/>
            <a:ext cx="4556160" cy="5054760"/>
          </a:xfrm>
          <a:prstGeom prst="rect">
            <a:avLst/>
          </a:prstGeom>
          <a:ln w="0">
            <a:noFill/>
          </a:ln>
        </p:spPr>
      </p:pic>
      <p:sp>
        <p:nvSpPr>
          <p:cNvPr id="5407" name="PlaceHolder 1"/>
          <p:cNvSpPr>
            <a:spLocks noGrp="1"/>
          </p:cNvSpPr>
          <p:nvPr>
            <p:ph type="title"/>
          </p:nvPr>
        </p:nvSpPr>
        <p:spPr>
          <a:xfrm>
            <a:off x="310680" y="286920"/>
            <a:ext cx="41418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Metabolism in the Deep Pool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grpSp>
        <p:nvGrpSpPr>
          <p:cNvPr id="5408" name=""/>
          <p:cNvGrpSpPr/>
          <p:nvPr/>
        </p:nvGrpSpPr>
        <p:grpSpPr>
          <a:xfrm>
            <a:off x="4560480" y="76320"/>
            <a:ext cx="4713840" cy="6723360"/>
            <a:chOff x="4560480" y="76320"/>
            <a:chExt cx="4713840" cy="6723360"/>
          </a:xfrm>
        </p:grpSpPr>
        <p:grpSp>
          <p:nvGrpSpPr>
            <p:cNvPr id="5409" name=""/>
            <p:cNvGrpSpPr/>
            <p:nvPr/>
          </p:nvGrpSpPr>
          <p:grpSpPr>
            <a:xfrm>
              <a:off x="5078880" y="3768840"/>
              <a:ext cx="4019040" cy="2606400"/>
              <a:chOff x="5078880" y="3768840"/>
              <a:chExt cx="4019040" cy="2606400"/>
            </a:xfrm>
          </p:grpSpPr>
          <p:sp>
            <p:nvSpPr>
              <p:cNvPr id="5410" name=""/>
              <p:cNvSpPr/>
              <p:nvPr/>
            </p:nvSpPr>
            <p:spPr>
              <a:xfrm flipV="1">
                <a:off x="5781600" y="3812760"/>
                <a:ext cx="1440" cy="2185920"/>
              </a:xfrm>
              <a:prstGeom prst="line">
                <a:avLst/>
              </a:prstGeom>
              <a:ln w="2052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5781600" y="5999040"/>
                <a:ext cx="2776320" cy="1080"/>
              </a:xfrm>
              <a:prstGeom prst="line">
                <a:avLst/>
              </a:prstGeom>
              <a:ln w="2052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12" name=""/>
              <p:cNvGrpSpPr/>
              <p:nvPr/>
            </p:nvGrpSpPr>
            <p:grpSpPr>
              <a:xfrm>
                <a:off x="5078880" y="3887640"/>
                <a:ext cx="686520" cy="1861560"/>
                <a:chOff x="5078880" y="3887640"/>
                <a:chExt cx="686520" cy="1861560"/>
              </a:xfrm>
            </p:grpSpPr>
            <p:sp>
              <p:nvSpPr>
                <p:cNvPr id="5413" name=""/>
                <p:cNvSpPr/>
                <p:nvPr/>
              </p:nvSpPr>
              <p:spPr>
                <a:xfrm>
                  <a:off x="5078880" y="5520600"/>
                  <a:ext cx="6865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.0001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4" name=""/>
                <p:cNvSpPr/>
                <p:nvPr/>
              </p:nvSpPr>
              <p:spPr>
                <a:xfrm>
                  <a:off x="5185800" y="4985640"/>
                  <a:ext cx="572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.001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5" name=""/>
                <p:cNvSpPr/>
                <p:nvPr/>
              </p:nvSpPr>
              <p:spPr>
                <a:xfrm>
                  <a:off x="5293080" y="4425480"/>
                  <a:ext cx="4579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.01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6" name=""/>
                <p:cNvSpPr/>
                <p:nvPr/>
              </p:nvSpPr>
              <p:spPr>
                <a:xfrm>
                  <a:off x="5400360" y="388764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.1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17" name=""/>
              <p:cNvSpPr/>
              <p:nvPr/>
            </p:nvSpPr>
            <p:spPr>
              <a:xfrm>
                <a:off x="6491160" y="3768840"/>
                <a:ext cx="2606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cf305"/>
                    </a:solidFill>
                    <a:latin typeface="Trebuchet MS"/>
                  </a:rPr>
                  <a:t>[Benzoate] =  10 µ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18" name=""/>
              <p:cNvGrpSpPr/>
              <p:nvPr/>
            </p:nvGrpSpPr>
            <p:grpSpPr>
              <a:xfrm>
                <a:off x="5718600" y="6146640"/>
                <a:ext cx="2988360" cy="228600"/>
                <a:chOff x="5718600" y="6146640"/>
                <a:chExt cx="2988360" cy="228600"/>
              </a:xfrm>
            </p:grpSpPr>
            <p:sp>
              <p:nvSpPr>
                <p:cNvPr id="5419" name=""/>
                <p:cNvSpPr/>
                <p:nvPr/>
              </p:nvSpPr>
              <p:spPr>
                <a:xfrm>
                  <a:off x="5718600" y="6146640"/>
                  <a:ext cx="1152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0" name=""/>
                <p:cNvSpPr/>
                <p:nvPr/>
              </p:nvSpPr>
              <p:spPr>
                <a:xfrm>
                  <a:off x="6105240" y="6146640"/>
                  <a:ext cx="2293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5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1" name=""/>
                <p:cNvSpPr/>
                <p:nvPr/>
              </p:nvSpPr>
              <p:spPr>
                <a:xfrm>
                  <a:off x="6512400" y="614664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10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2" name=""/>
                <p:cNvSpPr/>
                <p:nvPr/>
              </p:nvSpPr>
              <p:spPr>
                <a:xfrm>
                  <a:off x="6983640" y="614664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15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3" name=""/>
                <p:cNvSpPr/>
                <p:nvPr/>
              </p:nvSpPr>
              <p:spPr>
                <a:xfrm>
                  <a:off x="7437600" y="614664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20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4" name=""/>
                <p:cNvSpPr/>
                <p:nvPr/>
              </p:nvSpPr>
              <p:spPr>
                <a:xfrm>
                  <a:off x="7907760" y="614664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25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5" name=""/>
                <p:cNvSpPr/>
                <p:nvPr/>
              </p:nvSpPr>
              <p:spPr>
                <a:xfrm>
                  <a:off x="8363160" y="6146640"/>
                  <a:ext cx="343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cf305"/>
                      </a:solidFill>
                      <a:latin typeface="Trebuchet MS"/>
                    </a:rPr>
                    <a:t>300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6" name=""/>
              <p:cNvGrpSpPr/>
              <p:nvPr/>
            </p:nvGrpSpPr>
            <p:grpSpPr>
              <a:xfrm>
                <a:off x="5756040" y="3810960"/>
                <a:ext cx="2788200" cy="2189880"/>
                <a:chOff x="5756040" y="3810960"/>
                <a:chExt cx="2788200" cy="2189880"/>
              </a:xfrm>
            </p:grpSpPr>
            <p:sp>
              <p:nvSpPr>
                <p:cNvPr id="5427" name=""/>
                <p:cNvSpPr/>
                <p:nvPr/>
              </p:nvSpPr>
              <p:spPr>
                <a:xfrm>
                  <a:off x="5777640" y="3933720"/>
                  <a:ext cx="2504160" cy="1450440"/>
                </a:xfrm>
                <a:custGeom>
                  <a:avLst/>
                  <a:gdLst/>
                  <a:ahLst/>
                  <a:rect l="l" t="t" r="r" b="b"/>
                  <a:pathLst>
                    <a:path w="1153" h="639">
                      <a:moveTo>
                        <a:pt x="1153" y="639"/>
                      </a:moveTo>
                      <a:cubicBezTo>
                        <a:pt x="1037" y="599"/>
                        <a:pt x="921" y="560"/>
                        <a:pt x="835" y="529"/>
                      </a:cubicBezTo>
                      <a:cubicBezTo>
                        <a:pt x="748" y="497"/>
                        <a:pt x="697" y="478"/>
                        <a:pt x="635" y="451"/>
                      </a:cubicBezTo>
                      <a:cubicBezTo>
                        <a:pt x="572" y="423"/>
                        <a:pt x="509" y="395"/>
                        <a:pt x="459" y="363"/>
                      </a:cubicBezTo>
                      <a:cubicBezTo>
                        <a:pt x="408" y="330"/>
                        <a:pt x="376" y="297"/>
                        <a:pt x="333" y="257"/>
                      </a:cubicBezTo>
                      <a:cubicBezTo>
                        <a:pt x="289" y="216"/>
                        <a:pt x="228" y="152"/>
                        <a:pt x="195" y="119"/>
                      </a:cubicBezTo>
                      <a:cubicBezTo>
                        <a:pt x="161" y="85"/>
                        <a:pt x="152" y="74"/>
                        <a:pt x="133" y="57"/>
                      </a:cubicBezTo>
                      <a:cubicBezTo>
                        <a:pt x="113" y="39"/>
                        <a:pt x="95" y="20"/>
                        <a:pt x="77" y="15"/>
                      </a:cubicBezTo>
                      <a:cubicBezTo>
                        <a:pt x="58" y="9"/>
                        <a:pt x="33" y="0"/>
                        <a:pt x="21" y="21"/>
                      </a:cubicBezTo>
                      <a:cubicBezTo>
                        <a:pt x="8" y="41"/>
                        <a:pt x="6" y="79"/>
                        <a:pt x="3" y="137"/>
                      </a:cubicBezTo>
                      <a:cubicBezTo>
                        <a:pt x="0" y="194"/>
                        <a:pt x="3" y="319"/>
                        <a:pt x="3" y="367"/>
                      </a:cubicBezTo>
                    </a:path>
                  </a:pathLst>
                </a:custGeom>
                <a:noFill/>
                <a:ln w="9360">
                  <a:solidFill>
                    <a:srgbClr val="66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8" name=""/>
                <p:cNvSpPr/>
                <p:nvPr/>
              </p:nvSpPr>
              <p:spPr>
                <a:xfrm>
                  <a:off x="5914080" y="4785120"/>
                  <a:ext cx="2363400" cy="1148040"/>
                </a:xfrm>
                <a:custGeom>
                  <a:avLst/>
                  <a:gdLst/>
                  <a:ahLst/>
                  <a:rect l="l" t="t" r="r" b="b"/>
                  <a:pathLst>
                    <a:path w="1088" h="506">
                      <a:moveTo>
                        <a:pt x="0" y="506"/>
                      </a:moveTo>
                      <a:cubicBezTo>
                        <a:pt x="1" y="411"/>
                        <a:pt x="3" y="317"/>
                        <a:pt x="12" y="256"/>
                      </a:cubicBezTo>
                      <a:cubicBezTo>
                        <a:pt x="20" y="194"/>
                        <a:pt x="34" y="167"/>
                        <a:pt x="50" y="134"/>
                      </a:cubicBezTo>
                      <a:cubicBezTo>
                        <a:pt x="65" y="100"/>
                        <a:pt x="85" y="75"/>
                        <a:pt x="108" y="56"/>
                      </a:cubicBezTo>
                      <a:cubicBezTo>
                        <a:pt x="130" y="36"/>
                        <a:pt x="160" y="24"/>
                        <a:pt x="188" y="16"/>
                      </a:cubicBezTo>
                      <a:cubicBezTo>
                        <a:pt x="215" y="7"/>
                        <a:pt x="225" y="0"/>
                        <a:pt x="276" y="6"/>
                      </a:cubicBezTo>
                      <a:cubicBezTo>
                        <a:pt x="326" y="11"/>
                        <a:pt x="418" y="30"/>
                        <a:pt x="492" y="48"/>
                      </a:cubicBezTo>
                      <a:cubicBezTo>
                        <a:pt x="565" y="65"/>
                        <a:pt x="616" y="82"/>
                        <a:pt x="716" y="112"/>
                      </a:cubicBezTo>
                      <a:cubicBezTo>
                        <a:pt x="815" y="141"/>
                        <a:pt x="1026" y="207"/>
                        <a:pt x="1088" y="226"/>
                      </a:cubicBezTo>
                    </a:path>
                  </a:pathLst>
                </a:custGeom>
                <a:noFill/>
                <a:ln w="93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29" name=""/>
                <p:cNvGrpSpPr/>
                <p:nvPr/>
              </p:nvGrpSpPr>
              <p:grpSpPr>
                <a:xfrm>
                  <a:off x="5775120" y="3974400"/>
                  <a:ext cx="97560" cy="2026080"/>
                  <a:chOff x="5775120" y="3974400"/>
                  <a:chExt cx="97560" cy="2026080"/>
                </a:xfrm>
              </p:grpSpPr>
              <p:sp>
                <p:nvSpPr>
                  <p:cNvPr id="5430" name=""/>
                  <p:cNvSpPr/>
                  <p:nvPr/>
                </p:nvSpPr>
                <p:spPr>
                  <a:xfrm>
                    <a:off x="5775120" y="5606280"/>
                    <a:ext cx="9756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1" name=""/>
                  <p:cNvSpPr/>
                  <p:nvPr/>
                </p:nvSpPr>
                <p:spPr>
                  <a:xfrm>
                    <a:off x="5775120" y="5070240"/>
                    <a:ext cx="97560" cy="252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2" name=""/>
                  <p:cNvSpPr/>
                  <p:nvPr/>
                </p:nvSpPr>
                <p:spPr>
                  <a:xfrm>
                    <a:off x="5775120" y="4512600"/>
                    <a:ext cx="9756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3" name=""/>
                  <p:cNvSpPr/>
                  <p:nvPr/>
                </p:nvSpPr>
                <p:spPr>
                  <a:xfrm>
                    <a:off x="5775120" y="3974400"/>
                    <a:ext cx="97560" cy="252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4" name=""/>
                  <p:cNvSpPr/>
                  <p:nvPr/>
                </p:nvSpPr>
                <p:spPr>
                  <a:xfrm>
                    <a:off x="5775120" y="5998680"/>
                    <a:ext cx="3924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5" name=""/>
                  <p:cNvSpPr/>
                  <p:nvPr/>
                </p:nvSpPr>
                <p:spPr>
                  <a:xfrm>
                    <a:off x="5775120" y="5896800"/>
                    <a:ext cx="3924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6" name=""/>
                  <p:cNvSpPr/>
                  <p:nvPr/>
                </p:nvSpPr>
                <p:spPr>
                  <a:xfrm>
                    <a:off x="5775120" y="5833080"/>
                    <a:ext cx="3924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7" name=""/>
                  <p:cNvSpPr/>
                  <p:nvPr/>
                </p:nvSpPr>
                <p:spPr>
                  <a:xfrm>
                    <a:off x="5775120" y="5792400"/>
                    <a:ext cx="3924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8" name=""/>
                  <p:cNvSpPr/>
                  <p:nvPr/>
                </p:nvSpPr>
                <p:spPr>
                  <a:xfrm>
                    <a:off x="5775120" y="5731200"/>
                    <a:ext cx="3924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9" name=""/>
                  <p:cNvSpPr/>
                  <p:nvPr/>
                </p:nvSpPr>
                <p:spPr>
                  <a:xfrm>
                    <a:off x="5775120" y="5710680"/>
                    <a:ext cx="3924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0" name=""/>
                  <p:cNvSpPr/>
                  <p:nvPr/>
                </p:nvSpPr>
                <p:spPr>
                  <a:xfrm>
                    <a:off x="5775120" y="5670000"/>
                    <a:ext cx="3924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1" name=""/>
                  <p:cNvSpPr/>
                  <p:nvPr/>
                </p:nvSpPr>
                <p:spPr>
                  <a:xfrm>
                    <a:off x="5775120" y="5649480"/>
                    <a:ext cx="3924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2" name=""/>
                  <p:cNvSpPr/>
                  <p:nvPr/>
                </p:nvSpPr>
                <p:spPr>
                  <a:xfrm>
                    <a:off x="5775120" y="5442840"/>
                    <a:ext cx="3924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3" name=""/>
                  <p:cNvSpPr/>
                  <p:nvPr/>
                </p:nvSpPr>
                <p:spPr>
                  <a:xfrm>
                    <a:off x="5775120" y="5358600"/>
                    <a:ext cx="39240" cy="252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4" name=""/>
                  <p:cNvSpPr/>
                  <p:nvPr/>
                </p:nvSpPr>
                <p:spPr>
                  <a:xfrm>
                    <a:off x="5775120" y="5277240"/>
                    <a:ext cx="3924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5" name=""/>
                  <p:cNvSpPr/>
                  <p:nvPr/>
                </p:nvSpPr>
                <p:spPr>
                  <a:xfrm>
                    <a:off x="5775120" y="5236200"/>
                    <a:ext cx="39240" cy="252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6" name=""/>
                  <p:cNvSpPr/>
                  <p:nvPr/>
                </p:nvSpPr>
                <p:spPr>
                  <a:xfrm>
                    <a:off x="5775120" y="5193000"/>
                    <a:ext cx="39240" cy="252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7" name=""/>
                  <p:cNvSpPr/>
                  <p:nvPr/>
                </p:nvSpPr>
                <p:spPr>
                  <a:xfrm>
                    <a:off x="5775120" y="5152320"/>
                    <a:ext cx="39240" cy="252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8" name=""/>
                  <p:cNvSpPr/>
                  <p:nvPr/>
                </p:nvSpPr>
                <p:spPr>
                  <a:xfrm>
                    <a:off x="5775120" y="5111640"/>
                    <a:ext cx="3924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9" name=""/>
                  <p:cNvSpPr/>
                  <p:nvPr/>
                </p:nvSpPr>
                <p:spPr>
                  <a:xfrm>
                    <a:off x="5775120" y="5091120"/>
                    <a:ext cx="3924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0" name=""/>
                  <p:cNvSpPr/>
                  <p:nvPr/>
                </p:nvSpPr>
                <p:spPr>
                  <a:xfrm>
                    <a:off x="5775120" y="4904640"/>
                    <a:ext cx="39240" cy="252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1" name=""/>
                  <p:cNvSpPr/>
                  <p:nvPr/>
                </p:nvSpPr>
                <p:spPr>
                  <a:xfrm>
                    <a:off x="5775120" y="4800600"/>
                    <a:ext cx="3924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2" name=""/>
                  <p:cNvSpPr/>
                  <p:nvPr/>
                </p:nvSpPr>
                <p:spPr>
                  <a:xfrm>
                    <a:off x="5775120" y="4739400"/>
                    <a:ext cx="3924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3" name=""/>
                  <p:cNvSpPr/>
                  <p:nvPr/>
                </p:nvSpPr>
                <p:spPr>
                  <a:xfrm>
                    <a:off x="5775120" y="4677840"/>
                    <a:ext cx="39240" cy="252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4" name=""/>
                  <p:cNvSpPr/>
                  <p:nvPr/>
                </p:nvSpPr>
                <p:spPr>
                  <a:xfrm>
                    <a:off x="5775120" y="4637160"/>
                    <a:ext cx="39240" cy="252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5" name=""/>
                  <p:cNvSpPr/>
                  <p:nvPr/>
                </p:nvSpPr>
                <p:spPr>
                  <a:xfrm>
                    <a:off x="5775120" y="4593960"/>
                    <a:ext cx="39240" cy="252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6" name=""/>
                  <p:cNvSpPr/>
                  <p:nvPr/>
                </p:nvSpPr>
                <p:spPr>
                  <a:xfrm>
                    <a:off x="5775120" y="4573800"/>
                    <a:ext cx="3924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7" name=""/>
                  <p:cNvSpPr/>
                  <p:nvPr/>
                </p:nvSpPr>
                <p:spPr>
                  <a:xfrm>
                    <a:off x="5775120" y="4532760"/>
                    <a:ext cx="39240" cy="252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8" name=""/>
                  <p:cNvSpPr/>
                  <p:nvPr/>
                </p:nvSpPr>
                <p:spPr>
                  <a:xfrm>
                    <a:off x="5775120" y="4346640"/>
                    <a:ext cx="3924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9" name=""/>
                  <p:cNvSpPr/>
                  <p:nvPr/>
                </p:nvSpPr>
                <p:spPr>
                  <a:xfrm>
                    <a:off x="5775120" y="4264920"/>
                    <a:ext cx="3924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0" name=""/>
                  <p:cNvSpPr/>
                  <p:nvPr/>
                </p:nvSpPr>
                <p:spPr>
                  <a:xfrm>
                    <a:off x="5775120" y="4181040"/>
                    <a:ext cx="3924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1" name=""/>
                  <p:cNvSpPr/>
                  <p:nvPr/>
                </p:nvSpPr>
                <p:spPr>
                  <a:xfrm>
                    <a:off x="5775120" y="4140000"/>
                    <a:ext cx="39240" cy="252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2" name=""/>
                  <p:cNvSpPr/>
                  <p:nvPr/>
                </p:nvSpPr>
                <p:spPr>
                  <a:xfrm>
                    <a:off x="5775120" y="4099320"/>
                    <a:ext cx="3924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3" name=""/>
                  <p:cNvSpPr/>
                  <p:nvPr/>
                </p:nvSpPr>
                <p:spPr>
                  <a:xfrm>
                    <a:off x="5775120" y="4058640"/>
                    <a:ext cx="39240" cy="180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4" name=""/>
                  <p:cNvSpPr/>
                  <p:nvPr/>
                </p:nvSpPr>
                <p:spPr>
                  <a:xfrm>
                    <a:off x="5775120" y="4017600"/>
                    <a:ext cx="39240" cy="252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5" name=""/>
                  <p:cNvSpPr/>
                  <p:nvPr/>
                </p:nvSpPr>
                <p:spPr>
                  <a:xfrm>
                    <a:off x="5775120" y="3994920"/>
                    <a:ext cx="39240" cy="252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6" name=""/>
                <p:cNvGrpSpPr/>
                <p:nvPr/>
              </p:nvGrpSpPr>
              <p:grpSpPr>
                <a:xfrm>
                  <a:off x="5775120" y="5897160"/>
                  <a:ext cx="2769120" cy="101520"/>
                  <a:chOff x="5775120" y="5897160"/>
                  <a:chExt cx="2769120" cy="101520"/>
                </a:xfrm>
              </p:grpSpPr>
              <p:sp>
                <p:nvSpPr>
                  <p:cNvPr id="5467" name=""/>
                  <p:cNvSpPr/>
                  <p:nvPr/>
                </p:nvSpPr>
                <p:spPr>
                  <a:xfrm flipV="1">
                    <a:off x="5775120" y="5897160"/>
                    <a:ext cx="2160" cy="10152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8" name=""/>
                  <p:cNvSpPr/>
                  <p:nvPr/>
                </p:nvSpPr>
                <p:spPr>
                  <a:xfrm flipV="1">
                    <a:off x="6229080" y="5897160"/>
                    <a:ext cx="1800" cy="10152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9" name=""/>
                  <p:cNvSpPr/>
                  <p:nvPr/>
                </p:nvSpPr>
                <p:spPr>
                  <a:xfrm flipV="1">
                    <a:off x="6682680" y="5897160"/>
                    <a:ext cx="2160" cy="10152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0" name=""/>
                  <p:cNvSpPr/>
                  <p:nvPr/>
                </p:nvSpPr>
                <p:spPr>
                  <a:xfrm flipV="1">
                    <a:off x="7158600" y="5897160"/>
                    <a:ext cx="2160" cy="10152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1" name=""/>
                  <p:cNvSpPr/>
                  <p:nvPr/>
                </p:nvSpPr>
                <p:spPr>
                  <a:xfrm flipV="1">
                    <a:off x="7612560" y="5897160"/>
                    <a:ext cx="1800" cy="10152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2" name=""/>
                  <p:cNvSpPr/>
                  <p:nvPr/>
                </p:nvSpPr>
                <p:spPr>
                  <a:xfrm flipV="1">
                    <a:off x="8088480" y="5897160"/>
                    <a:ext cx="1800" cy="10152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3" name=""/>
                  <p:cNvSpPr/>
                  <p:nvPr/>
                </p:nvSpPr>
                <p:spPr>
                  <a:xfrm flipV="1">
                    <a:off x="8542080" y="5897160"/>
                    <a:ext cx="2160" cy="10152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4" name=""/>
                  <p:cNvSpPr/>
                  <p:nvPr/>
                </p:nvSpPr>
                <p:spPr>
                  <a:xfrm flipV="1">
                    <a:off x="5853240" y="5937120"/>
                    <a:ext cx="180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5" name=""/>
                  <p:cNvSpPr/>
                  <p:nvPr/>
                </p:nvSpPr>
                <p:spPr>
                  <a:xfrm flipV="1">
                    <a:off x="5953320" y="5937120"/>
                    <a:ext cx="180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6" name=""/>
                  <p:cNvSpPr/>
                  <p:nvPr/>
                </p:nvSpPr>
                <p:spPr>
                  <a:xfrm flipV="1">
                    <a:off x="6050880" y="5937120"/>
                    <a:ext cx="216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7" name=""/>
                  <p:cNvSpPr/>
                  <p:nvPr/>
                </p:nvSpPr>
                <p:spPr>
                  <a:xfrm flipV="1">
                    <a:off x="6131160" y="5937120"/>
                    <a:ext cx="216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8" name=""/>
                  <p:cNvSpPr/>
                  <p:nvPr/>
                </p:nvSpPr>
                <p:spPr>
                  <a:xfrm flipV="1">
                    <a:off x="6329160" y="5937120"/>
                    <a:ext cx="180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9" name=""/>
                  <p:cNvSpPr/>
                  <p:nvPr/>
                </p:nvSpPr>
                <p:spPr>
                  <a:xfrm flipV="1">
                    <a:off x="6406920" y="5937120"/>
                    <a:ext cx="216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0" name=""/>
                  <p:cNvSpPr/>
                  <p:nvPr/>
                </p:nvSpPr>
                <p:spPr>
                  <a:xfrm flipV="1">
                    <a:off x="6507000" y="5937120"/>
                    <a:ext cx="216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1" name=""/>
                  <p:cNvSpPr/>
                  <p:nvPr/>
                </p:nvSpPr>
                <p:spPr>
                  <a:xfrm flipV="1">
                    <a:off x="6604920" y="5937120"/>
                    <a:ext cx="180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2" name=""/>
                  <p:cNvSpPr/>
                  <p:nvPr/>
                </p:nvSpPr>
                <p:spPr>
                  <a:xfrm flipV="1">
                    <a:off x="6782760" y="5937120"/>
                    <a:ext cx="216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3" name=""/>
                  <p:cNvSpPr/>
                  <p:nvPr/>
                </p:nvSpPr>
                <p:spPr>
                  <a:xfrm flipV="1">
                    <a:off x="6880680" y="5937120"/>
                    <a:ext cx="180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4" name=""/>
                  <p:cNvSpPr/>
                  <p:nvPr/>
                </p:nvSpPr>
                <p:spPr>
                  <a:xfrm flipV="1">
                    <a:off x="6960960" y="5937120"/>
                    <a:ext cx="180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5" name=""/>
                  <p:cNvSpPr/>
                  <p:nvPr/>
                </p:nvSpPr>
                <p:spPr>
                  <a:xfrm flipV="1">
                    <a:off x="7058520" y="5937120"/>
                    <a:ext cx="216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6" name=""/>
                  <p:cNvSpPr/>
                  <p:nvPr/>
                </p:nvSpPr>
                <p:spPr>
                  <a:xfrm flipV="1">
                    <a:off x="7236720" y="5937120"/>
                    <a:ext cx="180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7" name=""/>
                  <p:cNvSpPr/>
                  <p:nvPr/>
                </p:nvSpPr>
                <p:spPr>
                  <a:xfrm flipV="1">
                    <a:off x="7336800" y="5937120"/>
                    <a:ext cx="180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8" name=""/>
                  <p:cNvSpPr/>
                  <p:nvPr/>
                </p:nvSpPr>
                <p:spPr>
                  <a:xfrm flipV="1">
                    <a:off x="7434360" y="5937120"/>
                    <a:ext cx="216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9" name=""/>
                  <p:cNvSpPr/>
                  <p:nvPr/>
                </p:nvSpPr>
                <p:spPr>
                  <a:xfrm flipV="1">
                    <a:off x="7514640" y="5937120"/>
                    <a:ext cx="216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0" name=""/>
                  <p:cNvSpPr/>
                  <p:nvPr/>
                </p:nvSpPr>
                <p:spPr>
                  <a:xfrm flipV="1">
                    <a:off x="7712640" y="5937120"/>
                    <a:ext cx="180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1" name=""/>
                  <p:cNvSpPr/>
                  <p:nvPr/>
                </p:nvSpPr>
                <p:spPr>
                  <a:xfrm flipV="1">
                    <a:off x="7810200" y="5937120"/>
                    <a:ext cx="216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2" name=""/>
                  <p:cNvSpPr/>
                  <p:nvPr/>
                </p:nvSpPr>
                <p:spPr>
                  <a:xfrm flipV="1">
                    <a:off x="7890480" y="5937120"/>
                    <a:ext cx="216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3" name=""/>
                  <p:cNvSpPr/>
                  <p:nvPr/>
                </p:nvSpPr>
                <p:spPr>
                  <a:xfrm flipV="1">
                    <a:off x="7988400" y="5937120"/>
                    <a:ext cx="180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4" name=""/>
                  <p:cNvSpPr/>
                  <p:nvPr/>
                </p:nvSpPr>
                <p:spPr>
                  <a:xfrm flipV="1">
                    <a:off x="8166240" y="5937120"/>
                    <a:ext cx="216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5" name=""/>
                  <p:cNvSpPr/>
                  <p:nvPr/>
                </p:nvSpPr>
                <p:spPr>
                  <a:xfrm flipV="1">
                    <a:off x="8266320" y="5937120"/>
                    <a:ext cx="216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6" name=""/>
                  <p:cNvSpPr/>
                  <p:nvPr/>
                </p:nvSpPr>
                <p:spPr>
                  <a:xfrm flipV="1">
                    <a:off x="8364240" y="5937120"/>
                    <a:ext cx="180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7" name=""/>
                  <p:cNvSpPr/>
                  <p:nvPr/>
                </p:nvSpPr>
                <p:spPr>
                  <a:xfrm flipV="1">
                    <a:off x="8444520" y="5937120"/>
                    <a:ext cx="1800" cy="608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98" name=""/>
                <p:cNvSpPr/>
                <p:nvPr/>
              </p:nvSpPr>
              <p:spPr>
                <a:xfrm flipV="1">
                  <a:off x="5775120" y="3810960"/>
                  <a:ext cx="2160" cy="218772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9" name=""/>
                <p:cNvSpPr/>
                <p:nvPr/>
              </p:nvSpPr>
              <p:spPr>
                <a:xfrm>
                  <a:off x="5775120" y="5999040"/>
                  <a:ext cx="2767320" cy="180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0" name=""/>
                <p:cNvSpPr/>
                <p:nvPr/>
              </p:nvSpPr>
              <p:spPr>
                <a:xfrm>
                  <a:off x="5972760" y="5257080"/>
                  <a:ext cx="5904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1" name=""/>
                <p:cNvSpPr/>
                <p:nvPr/>
              </p:nvSpPr>
              <p:spPr>
                <a:xfrm>
                  <a:off x="5972760" y="5152320"/>
                  <a:ext cx="5904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2" name=""/>
                <p:cNvSpPr/>
                <p:nvPr/>
              </p:nvSpPr>
              <p:spPr>
                <a:xfrm>
                  <a:off x="5992200" y="5193000"/>
                  <a:ext cx="58320" cy="6372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3" name=""/>
                <p:cNvSpPr/>
                <p:nvPr/>
              </p:nvSpPr>
              <p:spPr>
                <a:xfrm>
                  <a:off x="6012000" y="5131800"/>
                  <a:ext cx="5832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4" name=""/>
                <p:cNvSpPr/>
                <p:nvPr/>
              </p:nvSpPr>
              <p:spPr>
                <a:xfrm>
                  <a:off x="6031800" y="5091120"/>
                  <a:ext cx="5832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5" name=""/>
                <p:cNvSpPr/>
                <p:nvPr/>
              </p:nvSpPr>
              <p:spPr>
                <a:xfrm>
                  <a:off x="6050880" y="5070600"/>
                  <a:ext cx="6084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6" name=""/>
                <p:cNvSpPr/>
                <p:nvPr/>
              </p:nvSpPr>
              <p:spPr>
                <a:xfrm>
                  <a:off x="6070680" y="4986720"/>
                  <a:ext cx="60480" cy="6372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7" name=""/>
                <p:cNvSpPr/>
                <p:nvPr/>
              </p:nvSpPr>
              <p:spPr>
                <a:xfrm>
                  <a:off x="6090480" y="4966560"/>
                  <a:ext cx="60480" cy="630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8" name=""/>
                <p:cNvSpPr/>
                <p:nvPr/>
              </p:nvSpPr>
              <p:spPr>
                <a:xfrm>
                  <a:off x="6112080" y="4946040"/>
                  <a:ext cx="5832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9" name=""/>
                <p:cNvSpPr/>
                <p:nvPr/>
              </p:nvSpPr>
              <p:spPr>
                <a:xfrm>
                  <a:off x="6131160" y="4925520"/>
                  <a:ext cx="5832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0" name=""/>
                <p:cNvSpPr/>
                <p:nvPr/>
              </p:nvSpPr>
              <p:spPr>
                <a:xfrm>
                  <a:off x="6150960" y="4905000"/>
                  <a:ext cx="58320" cy="6156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1" name=""/>
                <p:cNvSpPr/>
                <p:nvPr/>
              </p:nvSpPr>
              <p:spPr>
                <a:xfrm>
                  <a:off x="6170760" y="4864320"/>
                  <a:ext cx="5832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2" name=""/>
                <p:cNvSpPr/>
                <p:nvPr/>
              </p:nvSpPr>
              <p:spPr>
                <a:xfrm>
                  <a:off x="6189840" y="4843800"/>
                  <a:ext cx="5904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3" name=""/>
                <p:cNvSpPr/>
                <p:nvPr/>
              </p:nvSpPr>
              <p:spPr>
                <a:xfrm>
                  <a:off x="6209640" y="4864320"/>
                  <a:ext cx="5832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4" name=""/>
                <p:cNvSpPr/>
                <p:nvPr/>
              </p:nvSpPr>
              <p:spPr>
                <a:xfrm>
                  <a:off x="6229080" y="4821120"/>
                  <a:ext cx="58320" cy="6372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5" name=""/>
                <p:cNvSpPr/>
                <p:nvPr/>
              </p:nvSpPr>
              <p:spPr>
                <a:xfrm>
                  <a:off x="6248880" y="4800960"/>
                  <a:ext cx="60480" cy="630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6" name=""/>
                <p:cNvSpPr/>
                <p:nvPr/>
              </p:nvSpPr>
              <p:spPr>
                <a:xfrm>
                  <a:off x="6268320" y="4800960"/>
                  <a:ext cx="60840" cy="630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7" name=""/>
                <p:cNvSpPr/>
                <p:nvPr/>
              </p:nvSpPr>
              <p:spPr>
                <a:xfrm>
                  <a:off x="6287760" y="4821120"/>
                  <a:ext cx="60480" cy="6372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8" name=""/>
                <p:cNvSpPr/>
                <p:nvPr/>
              </p:nvSpPr>
              <p:spPr>
                <a:xfrm>
                  <a:off x="6309720" y="4821120"/>
                  <a:ext cx="58320" cy="6372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9" name=""/>
                <p:cNvSpPr/>
                <p:nvPr/>
              </p:nvSpPr>
              <p:spPr>
                <a:xfrm>
                  <a:off x="6329160" y="4780440"/>
                  <a:ext cx="58320" cy="630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0" name=""/>
                <p:cNvSpPr/>
                <p:nvPr/>
              </p:nvSpPr>
              <p:spPr>
                <a:xfrm>
                  <a:off x="6348600" y="4780440"/>
                  <a:ext cx="58320" cy="630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1" name=""/>
                <p:cNvSpPr/>
                <p:nvPr/>
              </p:nvSpPr>
              <p:spPr>
                <a:xfrm>
                  <a:off x="6368040" y="4780440"/>
                  <a:ext cx="58320" cy="630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2" name=""/>
                <p:cNvSpPr/>
                <p:nvPr/>
              </p:nvSpPr>
              <p:spPr>
                <a:xfrm>
                  <a:off x="6387840" y="4780440"/>
                  <a:ext cx="58320" cy="630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3" name=""/>
                <p:cNvSpPr/>
                <p:nvPr/>
              </p:nvSpPr>
              <p:spPr>
                <a:xfrm>
                  <a:off x="6406920" y="4780440"/>
                  <a:ext cx="59040" cy="630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4" name=""/>
                <p:cNvSpPr/>
                <p:nvPr/>
              </p:nvSpPr>
              <p:spPr>
                <a:xfrm>
                  <a:off x="6426720" y="4780440"/>
                  <a:ext cx="58320" cy="630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5" name=""/>
                <p:cNvSpPr/>
                <p:nvPr/>
              </p:nvSpPr>
              <p:spPr>
                <a:xfrm>
                  <a:off x="6446520" y="4780440"/>
                  <a:ext cx="60480" cy="630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6" name=""/>
                <p:cNvSpPr/>
                <p:nvPr/>
              </p:nvSpPr>
              <p:spPr>
                <a:xfrm>
                  <a:off x="6466320" y="4780440"/>
                  <a:ext cx="60480" cy="630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7" name=""/>
                <p:cNvSpPr/>
                <p:nvPr/>
              </p:nvSpPr>
              <p:spPr>
                <a:xfrm>
                  <a:off x="6485400" y="4759920"/>
                  <a:ext cx="6084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8" name=""/>
                <p:cNvSpPr/>
                <p:nvPr/>
              </p:nvSpPr>
              <p:spPr>
                <a:xfrm>
                  <a:off x="6507000" y="4780440"/>
                  <a:ext cx="58320" cy="630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9" name=""/>
                <p:cNvSpPr/>
                <p:nvPr/>
              </p:nvSpPr>
              <p:spPr>
                <a:xfrm>
                  <a:off x="6526800" y="4759920"/>
                  <a:ext cx="5832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0" name=""/>
                <p:cNvSpPr/>
                <p:nvPr/>
              </p:nvSpPr>
              <p:spPr>
                <a:xfrm>
                  <a:off x="6546600" y="4759920"/>
                  <a:ext cx="5832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1" name=""/>
                <p:cNvSpPr/>
                <p:nvPr/>
              </p:nvSpPr>
              <p:spPr>
                <a:xfrm>
                  <a:off x="6565680" y="4759920"/>
                  <a:ext cx="5832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2" name=""/>
                <p:cNvSpPr/>
                <p:nvPr/>
              </p:nvSpPr>
              <p:spPr>
                <a:xfrm>
                  <a:off x="6585480" y="4780440"/>
                  <a:ext cx="58320" cy="630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3" name=""/>
                <p:cNvSpPr/>
                <p:nvPr/>
              </p:nvSpPr>
              <p:spPr>
                <a:xfrm>
                  <a:off x="6605280" y="4759920"/>
                  <a:ext cx="5832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4" name=""/>
                <p:cNvSpPr/>
                <p:nvPr/>
              </p:nvSpPr>
              <p:spPr>
                <a:xfrm>
                  <a:off x="6624360" y="4780440"/>
                  <a:ext cx="58320" cy="630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5" name=""/>
                <p:cNvSpPr/>
                <p:nvPr/>
              </p:nvSpPr>
              <p:spPr>
                <a:xfrm>
                  <a:off x="6644160" y="4759920"/>
                  <a:ext cx="6084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6" name=""/>
                <p:cNvSpPr/>
                <p:nvPr/>
              </p:nvSpPr>
              <p:spPr>
                <a:xfrm>
                  <a:off x="6663600" y="4759920"/>
                  <a:ext cx="6048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7" name=""/>
                <p:cNvSpPr/>
                <p:nvPr/>
              </p:nvSpPr>
              <p:spPr>
                <a:xfrm>
                  <a:off x="6724440" y="4800960"/>
                  <a:ext cx="58320" cy="630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8" name=""/>
                <p:cNvSpPr/>
                <p:nvPr/>
              </p:nvSpPr>
              <p:spPr>
                <a:xfrm>
                  <a:off x="6783120" y="4780440"/>
                  <a:ext cx="58320" cy="630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9" name=""/>
                <p:cNvSpPr/>
                <p:nvPr/>
              </p:nvSpPr>
              <p:spPr>
                <a:xfrm>
                  <a:off x="6841440" y="4821120"/>
                  <a:ext cx="60840" cy="6372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0" name=""/>
                <p:cNvSpPr/>
                <p:nvPr/>
              </p:nvSpPr>
              <p:spPr>
                <a:xfrm>
                  <a:off x="6902640" y="4821120"/>
                  <a:ext cx="58320" cy="6372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1" name=""/>
                <p:cNvSpPr/>
                <p:nvPr/>
              </p:nvSpPr>
              <p:spPr>
                <a:xfrm>
                  <a:off x="6941520" y="4864320"/>
                  <a:ext cx="5832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2" name=""/>
                <p:cNvSpPr/>
                <p:nvPr/>
              </p:nvSpPr>
              <p:spPr>
                <a:xfrm>
                  <a:off x="7000200" y="4843800"/>
                  <a:ext cx="5832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3" name=""/>
                <p:cNvSpPr/>
                <p:nvPr/>
              </p:nvSpPr>
              <p:spPr>
                <a:xfrm>
                  <a:off x="7058880" y="4864320"/>
                  <a:ext cx="6084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4" name=""/>
                <p:cNvSpPr/>
                <p:nvPr/>
              </p:nvSpPr>
              <p:spPr>
                <a:xfrm>
                  <a:off x="7119720" y="4864320"/>
                  <a:ext cx="5832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5" name=""/>
                <p:cNvSpPr/>
                <p:nvPr/>
              </p:nvSpPr>
              <p:spPr>
                <a:xfrm>
                  <a:off x="7178400" y="4905000"/>
                  <a:ext cx="58320" cy="6156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6" name=""/>
                <p:cNvSpPr/>
                <p:nvPr/>
              </p:nvSpPr>
              <p:spPr>
                <a:xfrm>
                  <a:off x="7217280" y="4925520"/>
                  <a:ext cx="6084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7" name=""/>
                <p:cNvSpPr/>
                <p:nvPr/>
              </p:nvSpPr>
              <p:spPr>
                <a:xfrm>
                  <a:off x="7278480" y="4946040"/>
                  <a:ext cx="5832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8" name=""/>
                <p:cNvSpPr/>
                <p:nvPr/>
              </p:nvSpPr>
              <p:spPr>
                <a:xfrm>
                  <a:off x="7337160" y="4966560"/>
                  <a:ext cx="58320" cy="630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9" name=""/>
                <p:cNvSpPr/>
                <p:nvPr/>
              </p:nvSpPr>
              <p:spPr>
                <a:xfrm>
                  <a:off x="7415280" y="5007240"/>
                  <a:ext cx="60480" cy="630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0" name=""/>
                <p:cNvSpPr/>
                <p:nvPr/>
              </p:nvSpPr>
              <p:spPr>
                <a:xfrm>
                  <a:off x="7554240" y="5029920"/>
                  <a:ext cx="5832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1" name=""/>
                <p:cNvSpPr/>
                <p:nvPr/>
              </p:nvSpPr>
              <p:spPr>
                <a:xfrm>
                  <a:off x="7693200" y="5131800"/>
                  <a:ext cx="5832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2" name=""/>
                <p:cNvSpPr/>
                <p:nvPr/>
              </p:nvSpPr>
              <p:spPr>
                <a:xfrm>
                  <a:off x="7790760" y="5173200"/>
                  <a:ext cx="58320" cy="630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3" name=""/>
                <p:cNvSpPr/>
                <p:nvPr/>
              </p:nvSpPr>
              <p:spPr>
                <a:xfrm>
                  <a:off x="7969320" y="5173200"/>
                  <a:ext cx="58320" cy="630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4" name=""/>
                <p:cNvSpPr/>
                <p:nvPr/>
              </p:nvSpPr>
              <p:spPr>
                <a:xfrm>
                  <a:off x="8107920" y="5236200"/>
                  <a:ext cx="5832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5" name=""/>
                <p:cNvSpPr/>
                <p:nvPr/>
              </p:nvSpPr>
              <p:spPr>
                <a:xfrm>
                  <a:off x="8245080" y="5257080"/>
                  <a:ext cx="60840" cy="61200"/>
                </a:xfrm>
                <a:prstGeom prst="ellipse">
                  <a:avLst/>
                </a:prstGeom>
                <a:solidFill>
                  <a:srgbClr val="27fc20"/>
                </a:solidFill>
                <a:ln w="20520">
                  <a:solidFill>
                    <a:srgbClr val="27fc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6" name=""/>
                <p:cNvSpPr/>
                <p:nvPr/>
              </p:nvSpPr>
              <p:spPr>
                <a:xfrm>
                  <a:off x="5756040" y="449208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7" name=""/>
                <p:cNvSpPr/>
                <p:nvPr/>
              </p:nvSpPr>
              <p:spPr>
                <a:xfrm>
                  <a:off x="5756040" y="449208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8" name=""/>
                <p:cNvSpPr/>
                <p:nvPr/>
              </p:nvSpPr>
              <p:spPr>
                <a:xfrm>
                  <a:off x="5775120" y="409932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9" name=""/>
                <p:cNvSpPr/>
                <p:nvPr/>
              </p:nvSpPr>
              <p:spPr>
                <a:xfrm>
                  <a:off x="5775120" y="4099320"/>
                  <a:ext cx="3924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0" name=""/>
                <p:cNvSpPr/>
                <p:nvPr/>
              </p:nvSpPr>
              <p:spPr>
                <a:xfrm>
                  <a:off x="5794920" y="3994920"/>
                  <a:ext cx="583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1" name=""/>
                <p:cNvSpPr/>
                <p:nvPr/>
              </p:nvSpPr>
              <p:spPr>
                <a:xfrm>
                  <a:off x="5794920" y="3994920"/>
                  <a:ext cx="38880" cy="4320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2" name=""/>
                <p:cNvSpPr/>
                <p:nvPr/>
              </p:nvSpPr>
              <p:spPr>
                <a:xfrm>
                  <a:off x="5814360" y="393372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3" name=""/>
                <p:cNvSpPr/>
                <p:nvPr/>
              </p:nvSpPr>
              <p:spPr>
                <a:xfrm>
                  <a:off x="5814360" y="393372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4" name=""/>
                <p:cNvSpPr/>
                <p:nvPr/>
              </p:nvSpPr>
              <p:spPr>
                <a:xfrm>
                  <a:off x="5833800" y="391320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5" name=""/>
                <p:cNvSpPr/>
                <p:nvPr/>
              </p:nvSpPr>
              <p:spPr>
                <a:xfrm>
                  <a:off x="5833800" y="3913200"/>
                  <a:ext cx="39240" cy="4104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6" name=""/>
                <p:cNvSpPr/>
                <p:nvPr/>
              </p:nvSpPr>
              <p:spPr>
                <a:xfrm>
                  <a:off x="5853240" y="391320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7" name=""/>
                <p:cNvSpPr/>
                <p:nvPr/>
              </p:nvSpPr>
              <p:spPr>
                <a:xfrm>
                  <a:off x="5853240" y="3913200"/>
                  <a:ext cx="38880" cy="4104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8" name=""/>
                <p:cNvSpPr/>
                <p:nvPr/>
              </p:nvSpPr>
              <p:spPr>
                <a:xfrm>
                  <a:off x="5873040" y="3933720"/>
                  <a:ext cx="6048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9" name=""/>
                <p:cNvSpPr/>
                <p:nvPr/>
              </p:nvSpPr>
              <p:spPr>
                <a:xfrm>
                  <a:off x="5873040" y="393372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0" name=""/>
                <p:cNvSpPr/>
                <p:nvPr/>
              </p:nvSpPr>
              <p:spPr>
                <a:xfrm>
                  <a:off x="5892480" y="3933720"/>
                  <a:ext cx="6084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1" name=""/>
                <p:cNvSpPr/>
                <p:nvPr/>
              </p:nvSpPr>
              <p:spPr>
                <a:xfrm>
                  <a:off x="5892480" y="3933720"/>
                  <a:ext cx="4104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2" name=""/>
                <p:cNvSpPr/>
                <p:nvPr/>
              </p:nvSpPr>
              <p:spPr>
                <a:xfrm>
                  <a:off x="5911920" y="3933720"/>
                  <a:ext cx="6048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3" name=""/>
                <p:cNvSpPr/>
                <p:nvPr/>
              </p:nvSpPr>
              <p:spPr>
                <a:xfrm>
                  <a:off x="5911920" y="3933720"/>
                  <a:ext cx="4104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4" name=""/>
                <p:cNvSpPr/>
                <p:nvPr/>
              </p:nvSpPr>
              <p:spPr>
                <a:xfrm>
                  <a:off x="5933520" y="3954240"/>
                  <a:ext cx="58320" cy="630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5" name=""/>
                <p:cNvSpPr/>
                <p:nvPr/>
              </p:nvSpPr>
              <p:spPr>
                <a:xfrm>
                  <a:off x="5933520" y="395424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6" name=""/>
                <p:cNvSpPr/>
                <p:nvPr/>
              </p:nvSpPr>
              <p:spPr>
                <a:xfrm>
                  <a:off x="5953320" y="3954240"/>
                  <a:ext cx="58320" cy="630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7" name=""/>
                <p:cNvSpPr/>
                <p:nvPr/>
              </p:nvSpPr>
              <p:spPr>
                <a:xfrm>
                  <a:off x="5953320" y="395424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8" name=""/>
                <p:cNvSpPr/>
                <p:nvPr/>
              </p:nvSpPr>
              <p:spPr>
                <a:xfrm>
                  <a:off x="5972760" y="3974400"/>
                  <a:ext cx="5904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9" name=""/>
                <p:cNvSpPr/>
                <p:nvPr/>
              </p:nvSpPr>
              <p:spPr>
                <a:xfrm>
                  <a:off x="5972760" y="3974400"/>
                  <a:ext cx="39240" cy="4320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0" name=""/>
                <p:cNvSpPr/>
                <p:nvPr/>
              </p:nvSpPr>
              <p:spPr>
                <a:xfrm>
                  <a:off x="5992200" y="401760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1" name=""/>
                <p:cNvSpPr/>
                <p:nvPr/>
              </p:nvSpPr>
              <p:spPr>
                <a:xfrm>
                  <a:off x="5992200" y="4017600"/>
                  <a:ext cx="39240" cy="4104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2" name=""/>
                <p:cNvSpPr/>
                <p:nvPr/>
              </p:nvSpPr>
              <p:spPr>
                <a:xfrm>
                  <a:off x="6012000" y="403812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3" name=""/>
                <p:cNvSpPr/>
                <p:nvPr/>
              </p:nvSpPr>
              <p:spPr>
                <a:xfrm>
                  <a:off x="6012000" y="403812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4" name=""/>
                <p:cNvSpPr/>
                <p:nvPr/>
              </p:nvSpPr>
              <p:spPr>
                <a:xfrm>
                  <a:off x="6031800" y="403812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5" name=""/>
                <p:cNvSpPr/>
                <p:nvPr/>
              </p:nvSpPr>
              <p:spPr>
                <a:xfrm>
                  <a:off x="6031800" y="403812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6" name=""/>
                <p:cNvSpPr/>
                <p:nvPr/>
              </p:nvSpPr>
              <p:spPr>
                <a:xfrm>
                  <a:off x="6050880" y="4078800"/>
                  <a:ext cx="6084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7" name=""/>
                <p:cNvSpPr/>
                <p:nvPr/>
              </p:nvSpPr>
              <p:spPr>
                <a:xfrm>
                  <a:off x="6050880" y="4078800"/>
                  <a:ext cx="39240" cy="4104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8" name=""/>
                <p:cNvSpPr/>
                <p:nvPr/>
              </p:nvSpPr>
              <p:spPr>
                <a:xfrm>
                  <a:off x="6070680" y="4078800"/>
                  <a:ext cx="6048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9" name=""/>
                <p:cNvSpPr/>
                <p:nvPr/>
              </p:nvSpPr>
              <p:spPr>
                <a:xfrm>
                  <a:off x="6070680" y="4078800"/>
                  <a:ext cx="41040" cy="4104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0" name=""/>
                <p:cNvSpPr/>
                <p:nvPr/>
              </p:nvSpPr>
              <p:spPr>
                <a:xfrm>
                  <a:off x="6090480" y="4078800"/>
                  <a:ext cx="6048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1" name=""/>
                <p:cNvSpPr/>
                <p:nvPr/>
              </p:nvSpPr>
              <p:spPr>
                <a:xfrm>
                  <a:off x="6090480" y="4078800"/>
                  <a:ext cx="40680" cy="4104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2" name=""/>
                <p:cNvSpPr/>
                <p:nvPr/>
              </p:nvSpPr>
              <p:spPr>
                <a:xfrm>
                  <a:off x="6112080" y="411984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3" name=""/>
                <p:cNvSpPr/>
                <p:nvPr/>
              </p:nvSpPr>
              <p:spPr>
                <a:xfrm>
                  <a:off x="6112080" y="411984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4" name=""/>
                <p:cNvSpPr/>
                <p:nvPr/>
              </p:nvSpPr>
              <p:spPr>
                <a:xfrm>
                  <a:off x="6131160" y="411984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5" name=""/>
                <p:cNvSpPr/>
                <p:nvPr/>
              </p:nvSpPr>
              <p:spPr>
                <a:xfrm>
                  <a:off x="6131160" y="4119840"/>
                  <a:ext cx="3924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6" name=""/>
                <p:cNvSpPr/>
                <p:nvPr/>
              </p:nvSpPr>
              <p:spPr>
                <a:xfrm>
                  <a:off x="6150960" y="4160520"/>
                  <a:ext cx="583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7" name=""/>
                <p:cNvSpPr/>
                <p:nvPr/>
              </p:nvSpPr>
              <p:spPr>
                <a:xfrm>
                  <a:off x="6150960" y="416052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8" name=""/>
                <p:cNvSpPr/>
                <p:nvPr/>
              </p:nvSpPr>
              <p:spPr>
                <a:xfrm>
                  <a:off x="6170760" y="4160520"/>
                  <a:ext cx="583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9" name=""/>
                <p:cNvSpPr/>
                <p:nvPr/>
              </p:nvSpPr>
              <p:spPr>
                <a:xfrm>
                  <a:off x="6170760" y="416052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0" name=""/>
                <p:cNvSpPr/>
                <p:nvPr/>
              </p:nvSpPr>
              <p:spPr>
                <a:xfrm>
                  <a:off x="6189840" y="4181040"/>
                  <a:ext cx="59040" cy="630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1" name=""/>
                <p:cNvSpPr/>
                <p:nvPr/>
              </p:nvSpPr>
              <p:spPr>
                <a:xfrm>
                  <a:off x="6189840" y="4181040"/>
                  <a:ext cx="39240" cy="4320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2" name=""/>
                <p:cNvSpPr/>
                <p:nvPr/>
              </p:nvSpPr>
              <p:spPr>
                <a:xfrm>
                  <a:off x="6209640" y="4201200"/>
                  <a:ext cx="583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3" name=""/>
                <p:cNvSpPr/>
                <p:nvPr/>
              </p:nvSpPr>
              <p:spPr>
                <a:xfrm>
                  <a:off x="6209640" y="4201200"/>
                  <a:ext cx="39240" cy="4320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4" name=""/>
                <p:cNvSpPr/>
                <p:nvPr/>
              </p:nvSpPr>
              <p:spPr>
                <a:xfrm>
                  <a:off x="6229080" y="422460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5" name=""/>
                <p:cNvSpPr/>
                <p:nvPr/>
              </p:nvSpPr>
              <p:spPr>
                <a:xfrm>
                  <a:off x="6229080" y="422460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6" name=""/>
                <p:cNvSpPr/>
                <p:nvPr/>
              </p:nvSpPr>
              <p:spPr>
                <a:xfrm>
                  <a:off x="6248880" y="4244400"/>
                  <a:ext cx="6048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7" name=""/>
                <p:cNvSpPr/>
                <p:nvPr/>
              </p:nvSpPr>
              <p:spPr>
                <a:xfrm>
                  <a:off x="6248880" y="4244400"/>
                  <a:ext cx="38880" cy="4104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8" name=""/>
                <p:cNvSpPr/>
                <p:nvPr/>
              </p:nvSpPr>
              <p:spPr>
                <a:xfrm>
                  <a:off x="6248880" y="4265280"/>
                  <a:ext cx="6048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9" name=""/>
                <p:cNvSpPr/>
                <p:nvPr/>
              </p:nvSpPr>
              <p:spPr>
                <a:xfrm>
                  <a:off x="6248880" y="426528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0" name=""/>
                <p:cNvSpPr/>
                <p:nvPr/>
              </p:nvSpPr>
              <p:spPr>
                <a:xfrm>
                  <a:off x="6268320" y="4285800"/>
                  <a:ext cx="6084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1" name=""/>
                <p:cNvSpPr/>
                <p:nvPr/>
              </p:nvSpPr>
              <p:spPr>
                <a:xfrm>
                  <a:off x="6268320" y="4285800"/>
                  <a:ext cx="4104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2" name=""/>
                <p:cNvSpPr/>
                <p:nvPr/>
              </p:nvSpPr>
              <p:spPr>
                <a:xfrm>
                  <a:off x="6287760" y="4305600"/>
                  <a:ext cx="6048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3" name=""/>
                <p:cNvSpPr/>
                <p:nvPr/>
              </p:nvSpPr>
              <p:spPr>
                <a:xfrm>
                  <a:off x="6287760" y="4305600"/>
                  <a:ext cx="41040" cy="4104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4" name=""/>
                <p:cNvSpPr/>
                <p:nvPr/>
              </p:nvSpPr>
              <p:spPr>
                <a:xfrm>
                  <a:off x="6309720" y="432648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5" name=""/>
                <p:cNvSpPr/>
                <p:nvPr/>
              </p:nvSpPr>
              <p:spPr>
                <a:xfrm>
                  <a:off x="6309720" y="432648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6" name=""/>
                <p:cNvSpPr/>
                <p:nvPr/>
              </p:nvSpPr>
              <p:spPr>
                <a:xfrm>
                  <a:off x="6329160" y="434700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7" name=""/>
                <p:cNvSpPr/>
                <p:nvPr/>
              </p:nvSpPr>
              <p:spPr>
                <a:xfrm>
                  <a:off x="6329160" y="434700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8" name=""/>
                <p:cNvSpPr/>
                <p:nvPr/>
              </p:nvSpPr>
              <p:spPr>
                <a:xfrm>
                  <a:off x="6348600" y="4367160"/>
                  <a:ext cx="583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9" name=""/>
                <p:cNvSpPr/>
                <p:nvPr/>
              </p:nvSpPr>
              <p:spPr>
                <a:xfrm>
                  <a:off x="6348600" y="4367160"/>
                  <a:ext cx="39240" cy="4104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0" name=""/>
                <p:cNvSpPr/>
                <p:nvPr/>
              </p:nvSpPr>
              <p:spPr>
                <a:xfrm>
                  <a:off x="6368040" y="4367160"/>
                  <a:ext cx="583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1" name=""/>
                <p:cNvSpPr/>
                <p:nvPr/>
              </p:nvSpPr>
              <p:spPr>
                <a:xfrm>
                  <a:off x="6368040" y="4367160"/>
                  <a:ext cx="38880" cy="4104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2" name=""/>
                <p:cNvSpPr/>
                <p:nvPr/>
              </p:nvSpPr>
              <p:spPr>
                <a:xfrm>
                  <a:off x="6387840" y="4387680"/>
                  <a:ext cx="583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3" name=""/>
                <p:cNvSpPr/>
                <p:nvPr/>
              </p:nvSpPr>
              <p:spPr>
                <a:xfrm>
                  <a:off x="6387840" y="4387680"/>
                  <a:ext cx="38880" cy="4320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4" name=""/>
                <p:cNvSpPr/>
                <p:nvPr/>
              </p:nvSpPr>
              <p:spPr>
                <a:xfrm>
                  <a:off x="6406920" y="4430880"/>
                  <a:ext cx="5904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5" name=""/>
                <p:cNvSpPr/>
                <p:nvPr/>
              </p:nvSpPr>
              <p:spPr>
                <a:xfrm>
                  <a:off x="6406920" y="4430880"/>
                  <a:ext cx="3924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6" name=""/>
                <p:cNvSpPr/>
                <p:nvPr/>
              </p:nvSpPr>
              <p:spPr>
                <a:xfrm>
                  <a:off x="6426720" y="445140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7" name=""/>
                <p:cNvSpPr/>
                <p:nvPr/>
              </p:nvSpPr>
              <p:spPr>
                <a:xfrm>
                  <a:off x="6426720" y="4451400"/>
                  <a:ext cx="3924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8" name=""/>
                <p:cNvSpPr/>
                <p:nvPr/>
              </p:nvSpPr>
              <p:spPr>
                <a:xfrm>
                  <a:off x="6446520" y="4451400"/>
                  <a:ext cx="6048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9" name=""/>
                <p:cNvSpPr/>
                <p:nvPr/>
              </p:nvSpPr>
              <p:spPr>
                <a:xfrm>
                  <a:off x="6446520" y="445140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0" name=""/>
                <p:cNvSpPr/>
                <p:nvPr/>
              </p:nvSpPr>
              <p:spPr>
                <a:xfrm>
                  <a:off x="6466320" y="4451400"/>
                  <a:ext cx="6048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1" name=""/>
                <p:cNvSpPr/>
                <p:nvPr/>
              </p:nvSpPr>
              <p:spPr>
                <a:xfrm>
                  <a:off x="6466320" y="4451400"/>
                  <a:ext cx="406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2" name=""/>
                <p:cNvSpPr/>
                <p:nvPr/>
              </p:nvSpPr>
              <p:spPr>
                <a:xfrm>
                  <a:off x="6485400" y="4492080"/>
                  <a:ext cx="6084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3" name=""/>
                <p:cNvSpPr/>
                <p:nvPr/>
              </p:nvSpPr>
              <p:spPr>
                <a:xfrm>
                  <a:off x="6485400" y="4492080"/>
                  <a:ext cx="4104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4" name=""/>
                <p:cNvSpPr/>
                <p:nvPr/>
              </p:nvSpPr>
              <p:spPr>
                <a:xfrm>
                  <a:off x="6507000" y="451260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5" name=""/>
                <p:cNvSpPr/>
                <p:nvPr/>
              </p:nvSpPr>
              <p:spPr>
                <a:xfrm>
                  <a:off x="6507000" y="4512600"/>
                  <a:ext cx="3924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6" name=""/>
                <p:cNvSpPr/>
                <p:nvPr/>
              </p:nvSpPr>
              <p:spPr>
                <a:xfrm>
                  <a:off x="6526800" y="451260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7" name=""/>
                <p:cNvSpPr/>
                <p:nvPr/>
              </p:nvSpPr>
              <p:spPr>
                <a:xfrm>
                  <a:off x="6526800" y="451260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8" name=""/>
                <p:cNvSpPr/>
                <p:nvPr/>
              </p:nvSpPr>
              <p:spPr>
                <a:xfrm>
                  <a:off x="6546600" y="453276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9" name=""/>
                <p:cNvSpPr/>
                <p:nvPr/>
              </p:nvSpPr>
              <p:spPr>
                <a:xfrm>
                  <a:off x="6546600" y="4532760"/>
                  <a:ext cx="38880" cy="4104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0" name=""/>
                <p:cNvSpPr/>
                <p:nvPr/>
              </p:nvSpPr>
              <p:spPr>
                <a:xfrm>
                  <a:off x="6565680" y="4573800"/>
                  <a:ext cx="58320" cy="630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1" name=""/>
                <p:cNvSpPr/>
                <p:nvPr/>
              </p:nvSpPr>
              <p:spPr>
                <a:xfrm>
                  <a:off x="6565680" y="4573800"/>
                  <a:ext cx="3924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2" name=""/>
                <p:cNvSpPr/>
                <p:nvPr/>
              </p:nvSpPr>
              <p:spPr>
                <a:xfrm>
                  <a:off x="6585480" y="4573800"/>
                  <a:ext cx="58320" cy="630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3" name=""/>
                <p:cNvSpPr/>
                <p:nvPr/>
              </p:nvSpPr>
              <p:spPr>
                <a:xfrm>
                  <a:off x="6585480" y="457380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4" name=""/>
                <p:cNvSpPr/>
                <p:nvPr/>
              </p:nvSpPr>
              <p:spPr>
                <a:xfrm>
                  <a:off x="6605280" y="4593960"/>
                  <a:ext cx="583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5" name=""/>
                <p:cNvSpPr/>
                <p:nvPr/>
              </p:nvSpPr>
              <p:spPr>
                <a:xfrm>
                  <a:off x="6605280" y="4593960"/>
                  <a:ext cx="38880" cy="4320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6" name=""/>
                <p:cNvSpPr/>
                <p:nvPr/>
              </p:nvSpPr>
              <p:spPr>
                <a:xfrm>
                  <a:off x="6624360" y="4614480"/>
                  <a:ext cx="58320" cy="630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7" name=""/>
                <p:cNvSpPr/>
                <p:nvPr/>
              </p:nvSpPr>
              <p:spPr>
                <a:xfrm>
                  <a:off x="6624360" y="4614480"/>
                  <a:ext cx="39240" cy="4320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8" name=""/>
                <p:cNvSpPr/>
                <p:nvPr/>
              </p:nvSpPr>
              <p:spPr>
                <a:xfrm>
                  <a:off x="6644160" y="4614480"/>
                  <a:ext cx="60840" cy="630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9" name=""/>
                <p:cNvSpPr/>
                <p:nvPr/>
              </p:nvSpPr>
              <p:spPr>
                <a:xfrm>
                  <a:off x="6644160" y="4614480"/>
                  <a:ext cx="38880" cy="4320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0" name=""/>
                <p:cNvSpPr/>
                <p:nvPr/>
              </p:nvSpPr>
              <p:spPr>
                <a:xfrm>
                  <a:off x="6663600" y="4657680"/>
                  <a:ext cx="6048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1" name=""/>
                <p:cNvSpPr/>
                <p:nvPr/>
              </p:nvSpPr>
              <p:spPr>
                <a:xfrm>
                  <a:off x="6663600" y="4657680"/>
                  <a:ext cx="4104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2" name=""/>
                <p:cNvSpPr/>
                <p:nvPr/>
              </p:nvSpPr>
              <p:spPr>
                <a:xfrm>
                  <a:off x="6724440" y="4677840"/>
                  <a:ext cx="58320" cy="6156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3" name=""/>
                <p:cNvSpPr/>
                <p:nvPr/>
              </p:nvSpPr>
              <p:spPr>
                <a:xfrm>
                  <a:off x="6724440" y="4677840"/>
                  <a:ext cx="39240" cy="4104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4" name=""/>
                <p:cNvSpPr/>
                <p:nvPr/>
              </p:nvSpPr>
              <p:spPr>
                <a:xfrm>
                  <a:off x="6783120" y="471924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5" name=""/>
                <p:cNvSpPr/>
                <p:nvPr/>
              </p:nvSpPr>
              <p:spPr>
                <a:xfrm>
                  <a:off x="6783120" y="4719240"/>
                  <a:ext cx="3924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6" name=""/>
                <p:cNvSpPr/>
                <p:nvPr/>
              </p:nvSpPr>
              <p:spPr>
                <a:xfrm>
                  <a:off x="6841440" y="4759920"/>
                  <a:ext cx="6084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7" name=""/>
                <p:cNvSpPr/>
                <p:nvPr/>
              </p:nvSpPr>
              <p:spPr>
                <a:xfrm>
                  <a:off x="6841440" y="4759920"/>
                  <a:ext cx="39240" cy="4104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8" name=""/>
                <p:cNvSpPr/>
                <p:nvPr/>
              </p:nvSpPr>
              <p:spPr>
                <a:xfrm>
                  <a:off x="6902640" y="4780440"/>
                  <a:ext cx="58320" cy="630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9" name=""/>
                <p:cNvSpPr/>
                <p:nvPr/>
              </p:nvSpPr>
              <p:spPr>
                <a:xfrm>
                  <a:off x="6902640" y="478044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0" name=""/>
                <p:cNvSpPr/>
                <p:nvPr/>
              </p:nvSpPr>
              <p:spPr>
                <a:xfrm>
                  <a:off x="6941520" y="484380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1" name=""/>
                <p:cNvSpPr/>
                <p:nvPr/>
              </p:nvSpPr>
              <p:spPr>
                <a:xfrm>
                  <a:off x="6941520" y="4843800"/>
                  <a:ext cx="39240" cy="4104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2" name=""/>
                <p:cNvSpPr/>
                <p:nvPr/>
              </p:nvSpPr>
              <p:spPr>
                <a:xfrm>
                  <a:off x="7000200" y="4821120"/>
                  <a:ext cx="583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3" name=""/>
                <p:cNvSpPr/>
                <p:nvPr/>
              </p:nvSpPr>
              <p:spPr>
                <a:xfrm>
                  <a:off x="7000200" y="4821120"/>
                  <a:ext cx="39240" cy="4320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4" name=""/>
                <p:cNvSpPr/>
                <p:nvPr/>
              </p:nvSpPr>
              <p:spPr>
                <a:xfrm>
                  <a:off x="7058880" y="4843800"/>
                  <a:ext cx="6084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5" name=""/>
                <p:cNvSpPr/>
                <p:nvPr/>
              </p:nvSpPr>
              <p:spPr>
                <a:xfrm>
                  <a:off x="7058880" y="4843800"/>
                  <a:ext cx="41040" cy="4104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6" name=""/>
                <p:cNvSpPr/>
                <p:nvPr/>
              </p:nvSpPr>
              <p:spPr>
                <a:xfrm>
                  <a:off x="7119720" y="488484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7" name=""/>
                <p:cNvSpPr/>
                <p:nvPr/>
              </p:nvSpPr>
              <p:spPr>
                <a:xfrm>
                  <a:off x="7119720" y="488484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8" name=""/>
                <p:cNvSpPr/>
                <p:nvPr/>
              </p:nvSpPr>
              <p:spPr>
                <a:xfrm>
                  <a:off x="7178400" y="494604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9" name=""/>
                <p:cNvSpPr/>
                <p:nvPr/>
              </p:nvSpPr>
              <p:spPr>
                <a:xfrm>
                  <a:off x="7178400" y="494604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0" name=""/>
                <p:cNvSpPr/>
                <p:nvPr/>
              </p:nvSpPr>
              <p:spPr>
                <a:xfrm>
                  <a:off x="7217280" y="4946040"/>
                  <a:ext cx="6084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1" name=""/>
                <p:cNvSpPr/>
                <p:nvPr/>
              </p:nvSpPr>
              <p:spPr>
                <a:xfrm>
                  <a:off x="7217280" y="4946040"/>
                  <a:ext cx="3924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2" name=""/>
                <p:cNvSpPr/>
                <p:nvPr/>
              </p:nvSpPr>
              <p:spPr>
                <a:xfrm>
                  <a:off x="7278480" y="4966560"/>
                  <a:ext cx="58320" cy="630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3" name=""/>
                <p:cNvSpPr/>
                <p:nvPr/>
              </p:nvSpPr>
              <p:spPr>
                <a:xfrm>
                  <a:off x="7278480" y="496656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4" name=""/>
                <p:cNvSpPr/>
                <p:nvPr/>
              </p:nvSpPr>
              <p:spPr>
                <a:xfrm>
                  <a:off x="7337160" y="4986720"/>
                  <a:ext cx="583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5" name=""/>
                <p:cNvSpPr/>
                <p:nvPr/>
              </p:nvSpPr>
              <p:spPr>
                <a:xfrm>
                  <a:off x="7337160" y="4986720"/>
                  <a:ext cx="38880" cy="4320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6" name=""/>
                <p:cNvSpPr/>
                <p:nvPr/>
              </p:nvSpPr>
              <p:spPr>
                <a:xfrm>
                  <a:off x="7415280" y="5029920"/>
                  <a:ext cx="6048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7" name=""/>
                <p:cNvSpPr/>
                <p:nvPr/>
              </p:nvSpPr>
              <p:spPr>
                <a:xfrm>
                  <a:off x="7415280" y="502992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8" name=""/>
                <p:cNvSpPr/>
                <p:nvPr/>
              </p:nvSpPr>
              <p:spPr>
                <a:xfrm>
                  <a:off x="7554240" y="507060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9" name=""/>
                <p:cNvSpPr/>
                <p:nvPr/>
              </p:nvSpPr>
              <p:spPr>
                <a:xfrm>
                  <a:off x="7554240" y="5070600"/>
                  <a:ext cx="38880" cy="4104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0" name=""/>
                <p:cNvSpPr/>
                <p:nvPr/>
              </p:nvSpPr>
              <p:spPr>
                <a:xfrm>
                  <a:off x="7693200" y="5173200"/>
                  <a:ext cx="58320" cy="630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1" name=""/>
                <p:cNvSpPr/>
                <p:nvPr/>
              </p:nvSpPr>
              <p:spPr>
                <a:xfrm>
                  <a:off x="7693200" y="5173200"/>
                  <a:ext cx="3888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2" name=""/>
                <p:cNvSpPr/>
                <p:nvPr/>
              </p:nvSpPr>
              <p:spPr>
                <a:xfrm>
                  <a:off x="7790760" y="5193000"/>
                  <a:ext cx="583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3" name=""/>
                <p:cNvSpPr/>
                <p:nvPr/>
              </p:nvSpPr>
              <p:spPr>
                <a:xfrm>
                  <a:off x="7790760" y="5193000"/>
                  <a:ext cx="39240" cy="4320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4" name=""/>
                <p:cNvSpPr/>
                <p:nvPr/>
              </p:nvSpPr>
              <p:spPr>
                <a:xfrm>
                  <a:off x="7969320" y="5213880"/>
                  <a:ext cx="58320" cy="6372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5" name=""/>
                <p:cNvSpPr/>
                <p:nvPr/>
              </p:nvSpPr>
              <p:spPr>
                <a:xfrm>
                  <a:off x="7969320" y="5213880"/>
                  <a:ext cx="38880" cy="4320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6" name=""/>
                <p:cNvSpPr/>
                <p:nvPr/>
              </p:nvSpPr>
              <p:spPr>
                <a:xfrm>
                  <a:off x="8107920" y="5257080"/>
                  <a:ext cx="5832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7" name=""/>
                <p:cNvSpPr/>
                <p:nvPr/>
              </p:nvSpPr>
              <p:spPr>
                <a:xfrm>
                  <a:off x="8107920" y="5257080"/>
                  <a:ext cx="3924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8" name=""/>
                <p:cNvSpPr/>
                <p:nvPr/>
              </p:nvSpPr>
              <p:spPr>
                <a:xfrm>
                  <a:off x="8245080" y="5277600"/>
                  <a:ext cx="60840" cy="61200"/>
                </a:xfrm>
                <a:prstGeom prst="rect">
                  <a:avLst/>
                </a:prstGeom>
                <a:solidFill>
                  <a:srgbClr val="7ff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9" name=""/>
                <p:cNvSpPr/>
                <p:nvPr/>
              </p:nvSpPr>
              <p:spPr>
                <a:xfrm>
                  <a:off x="8245080" y="5277600"/>
                  <a:ext cx="41040" cy="40320"/>
                </a:xfrm>
                <a:prstGeom prst="rect">
                  <a:avLst/>
                </a:prstGeom>
                <a:noFill/>
                <a:ln w="20520">
                  <a:solidFill>
                    <a:srgbClr val="7ff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90" name=""/>
            <p:cNvGrpSpPr/>
            <p:nvPr/>
          </p:nvGrpSpPr>
          <p:grpSpPr>
            <a:xfrm>
              <a:off x="5078880" y="1301760"/>
              <a:ext cx="4195440" cy="2214360"/>
              <a:chOff x="5078880" y="1301760"/>
              <a:chExt cx="4195440" cy="2214360"/>
            </a:xfrm>
          </p:grpSpPr>
          <p:grpSp>
            <p:nvGrpSpPr>
              <p:cNvPr id="5691" name=""/>
              <p:cNvGrpSpPr/>
              <p:nvPr/>
            </p:nvGrpSpPr>
            <p:grpSpPr>
              <a:xfrm>
                <a:off x="5792760" y="1301760"/>
                <a:ext cx="3481560" cy="2214360"/>
                <a:chOff x="5792760" y="1301760"/>
                <a:chExt cx="3481560" cy="2214360"/>
              </a:xfrm>
            </p:grpSpPr>
            <p:sp>
              <p:nvSpPr>
                <p:cNvPr id="5692" name=""/>
                <p:cNvSpPr/>
                <p:nvPr/>
              </p:nvSpPr>
              <p:spPr>
                <a:xfrm flipV="1">
                  <a:off x="5792760" y="1329840"/>
                  <a:ext cx="1440" cy="2186280"/>
                </a:xfrm>
                <a:prstGeom prst="line">
                  <a:avLst/>
                </a:prstGeom>
                <a:ln w="20520">
                  <a:solidFill>
                    <a:srgbClr val="fcffc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3" name=""/>
                <p:cNvSpPr/>
                <p:nvPr/>
              </p:nvSpPr>
              <p:spPr>
                <a:xfrm>
                  <a:off x="6530400" y="1301760"/>
                  <a:ext cx="27439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cf305"/>
                      </a:solidFill>
                      <a:latin typeface="Trebuchet MS"/>
                    </a:rPr>
                    <a:t>[Benzoate] =  873 µM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4" name=""/>
              <p:cNvGrpSpPr/>
              <p:nvPr/>
            </p:nvGrpSpPr>
            <p:grpSpPr>
              <a:xfrm>
                <a:off x="5078880" y="1373040"/>
                <a:ext cx="3478680" cy="2141640"/>
                <a:chOff x="5078880" y="1373040"/>
                <a:chExt cx="3478680" cy="2141640"/>
              </a:xfrm>
            </p:grpSpPr>
            <p:grpSp>
              <p:nvGrpSpPr>
                <p:cNvPr id="5695" name=""/>
                <p:cNvGrpSpPr/>
                <p:nvPr/>
              </p:nvGrpSpPr>
              <p:grpSpPr>
                <a:xfrm>
                  <a:off x="5794200" y="1373040"/>
                  <a:ext cx="2763360" cy="2141640"/>
                  <a:chOff x="5794200" y="1373040"/>
                  <a:chExt cx="2763360" cy="2141640"/>
                </a:xfrm>
              </p:grpSpPr>
              <p:grpSp>
                <p:nvGrpSpPr>
                  <p:cNvPr id="5696" name=""/>
                  <p:cNvGrpSpPr/>
                  <p:nvPr/>
                </p:nvGrpSpPr>
                <p:grpSpPr>
                  <a:xfrm>
                    <a:off x="5823000" y="1403280"/>
                    <a:ext cx="1512360" cy="2085840"/>
                    <a:chOff x="5823000" y="1403280"/>
                    <a:chExt cx="1512360" cy="2085840"/>
                  </a:xfrm>
                </p:grpSpPr>
                <p:sp>
                  <p:nvSpPr>
                    <p:cNvPr id="5697" name=""/>
                    <p:cNvSpPr/>
                    <p:nvPr/>
                  </p:nvSpPr>
                  <p:spPr>
                    <a:xfrm>
                      <a:off x="6919560" y="3059640"/>
                      <a:ext cx="38520" cy="40680"/>
                    </a:xfrm>
                    <a:prstGeom prst="rect">
                      <a:avLst/>
                    </a:prstGeom>
                    <a:noFill/>
                    <a:ln w="20520">
                      <a:solidFill>
                        <a:srgbClr val="7ffd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8" name=""/>
                    <p:cNvSpPr/>
                    <p:nvPr/>
                  </p:nvSpPr>
                  <p:spPr>
                    <a:xfrm>
                      <a:off x="5823000" y="1403280"/>
                      <a:ext cx="1512360" cy="208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8" h="923">
                          <a:moveTo>
                            <a:pt x="698" y="923"/>
                          </a:moveTo>
                          <a:cubicBezTo>
                            <a:pt x="628" y="865"/>
                            <a:pt x="554" y="801"/>
                            <a:pt x="496" y="749"/>
                          </a:cubicBezTo>
                          <a:cubicBezTo>
                            <a:pt x="438" y="697"/>
                            <a:pt x="393" y="658"/>
                            <a:pt x="350" y="611"/>
                          </a:cubicBezTo>
                          <a:cubicBezTo>
                            <a:pt x="307" y="563"/>
                            <a:pt x="272" y="515"/>
                            <a:pt x="238" y="463"/>
                          </a:cubicBezTo>
                          <a:cubicBezTo>
                            <a:pt x="203" y="410"/>
                            <a:pt x="166" y="344"/>
                            <a:pt x="140" y="293"/>
                          </a:cubicBezTo>
                          <a:cubicBezTo>
                            <a:pt x="113" y="241"/>
                            <a:pt x="92" y="185"/>
                            <a:pt x="78" y="151"/>
                          </a:cubicBezTo>
                          <a:cubicBezTo>
                            <a:pt x="63" y="116"/>
                            <a:pt x="61" y="106"/>
                            <a:pt x="52" y="83"/>
                          </a:cubicBezTo>
                          <a:cubicBezTo>
                            <a:pt x="42" y="59"/>
                            <a:pt x="25" y="0"/>
                            <a:pt x="18" y="7"/>
                          </a:cubicBezTo>
                          <a:cubicBezTo>
                            <a:pt x="10" y="13"/>
                            <a:pt x="9" y="1"/>
                            <a:pt x="6" y="121"/>
                          </a:cubicBezTo>
                          <a:cubicBezTo>
                            <a:pt x="3" y="241"/>
                            <a:pt x="0" y="479"/>
                            <a:pt x="0" y="727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66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99" name=""/>
                  <p:cNvSpPr/>
                  <p:nvPr/>
                </p:nvSpPr>
                <p:spPr>
                  <a:xfrm>
                    <a:off x="5823000" y="1730520"/>
                    <a:ext cx="2479680" cy="132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44" h="584">
                        <a:moveTo>
                          <a:pt x="1144" y="538"/>
                        </a:moveTo>
                        <a:cubicBezTo>
                          <a:pt x="1072" y="504"/>
                          <a:pt x="1001" y="470"/>
                          <a:pt x="940" y="436"/>
                        </a:cubicBezTo>
                        <a:cubicBezTo>
                          <a:pt x="878" y="401"/>
                          <a:pt x="843" y="374"/>
                          <a:pt x="772" y="328"/>
                        </a:cubicBezTo>
                        <a:cubicBezTo>
                          <a:pt x="700" y="281"/>
                          <a:pt x="583" y="202"/>
                          <a:pt x="510" y="156"/>
                        </a:cubicBezTo>
                        <a:cubicBezTo>
                          <a:pt x="436" y="109"/>
                          <a:pt x="379" y="76"/>
                          <a:pt x="332" y="52"/>
                        </a:cubicBezTo>
                        <a:cubicBezTo>
                          <a:pt x="284" y="27"/>
                          <a:pt x="251" y="15"/>
                          <a:pt x="222" y="8"/>
                        </a:cubicBezTo>
                        <a:cubicBezTo>
                          <a:pt x="193" y="0"/>
                          <a:pt x="177" y="0"/>
                          <a:pt x="158" y="6"/>
                        </a:cubicBezTo>
                        <a:cubicBezTo>
                          <a:pt x="138" y="11"/>
                          <a:pt x="121" y="17"/>
                          <a:pt x="104" y="44"/>
                        </a:cubicBezTo>
                        <a:cubicBezTo>
                          <a:pt x="86" y="70"/>
                          <a:pt x="65" y="123"/>
                          <a:pt x="52" y="166"/>
                        </a:cubicBezTo>
                        <a:cubicBezTo>
                          <a:pt x="38" y="208"/>
                          <a:pt x="31" y="252"/>
                          <a:pt x="24" y="300"/>
                        </a:cubicBezTo>
                        <a:cubicBezTo>
                          <a:pt x="16" y="347"/>
                          <a:pt x="11" y="406"/>
                          <a:pt x="8" y="454"/>
                        </a:cubicBezTo>
                        <a:cubicBezTo>
                          <a:pt x="4" y="501"/>
                          <a:pt x="1" y="557"/>
                          <a:pt x="0" y="5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00" name=""/>
                  <p:cNvGrpSpPr/>
                  <p:nvPr/>
                </p:nvGrpSpPr>
                <p:grpSpPr>
                  <a:xfrm>
                    <a:off x="5794200" y="1495440"/>
                    <a:ext cx="99720" cy="2018880"/>
                    <a:chOff x="5794200" y="1495440"/>
                    <a:chExt cx="99720" cy="2018880"/>
                  </a:xfrm>
                </p:grpSpPr>
                <p:sp>
                  <p:nvSpPr>
                    <p:cNvPr id="5701" name=""/>
                    <p:cNvSpPr/>
                    <p:nvPr/>
                  </p:nvSpPr>
                  <p:spPr>
                    <a:xfrm>
                      <a:off x="5794200" y="3141000"/>
                      <a:ext cx="997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2" name=""/>
                    <p:cNvSpPr/>
                    <p:nvPr/>
                  </p:nvSpPr>
                  <p:spPr>
                    <a:xfrm>
                      <a:off x="5794200" y="2587320"/>
                      <a:ext cx="997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3" name=""/>
                    <p:cNvSpPr/>
                    <p:nvPr/>
                  </p:nvSpPr>
                  <p:spPr>
                    <a:xfrm>
                      <a:off x="5794200" y="2051640"/>
                      <a:ext cx="997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4" name=""/>
                    <p:cNvSpPr/>
                    <p:nvPr/>
                  </p:nvSpPr>
                  <p:spPr>
                    <a:xfrm>
                      <a:off x="5794200" y="1495440"/>
                      <a:ext cx="997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5" name=""/>
                    <p:cNvSpPr/>
                    <p:nvPr/>
                  </p:nvSpPr>
                  <p:spPr>
                    <a:xfrm>
                      <a:off x="5794200" y="351180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6" name=""/>
                    <p:cNvSpPr/>
                    <p:nvPr/>
                  </p:nvSpPr>
                  <p:spPr>
                    <a:xfrm>
                      <a:off x="5794200" y="343080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7" name=""/>
                    <p:cNvSpPr/>
                    <p:nvPr/>
                  </p:nvSpPr>
                  <p:spPr>
                    <a:xfrm>
                      <a:off x="5794200" y="334656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8" name=""/>
                    <p:cNvSpPr/>
                    <p:nvPr/>
                  </p:nvSpPr>
                  <p:spPr>
                    <a:xfrm>
                      <a:off x="5794200" y="330624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9" name=""/>
                    <p:cNvSpPr/>
                    <p:nvPr/>
                  </p:nvSpPr>
                  <p:spPr>
                    <a:xfrm>
                      <a:off x="5794200" y="326556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0" name=""/>
                    <p:cNvSpPr/>
                    <p:nvPr/>
                  </p:nvSpPr>
                  <p:spPr>
                    <a:xfrm>
                      <a:off x="5794200" y="322452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1" name=""/>
                    <p:cNvSpPr/>
                    <p:nvPr/>
                  </p:nvSpPr>
                  <p:spPr>
                    <a:xfrm>
                      <a:off x="5794200" y="318420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2" name=""/>
                    <p:cNvSpPr/>
                    <p:nvPr/>
                  </p:nvSpPr>
                  <p:spPr>
                    <a:xfrm>
                      <a:off x="5794200" y="316152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3" name=""/>
                    <p:cNvSpPr/>
                    <p:nvPr/>
                  </p:nvSpPr>
                  <p:spPr>
                    <a:xfrm>
                      <a:off x="5794200" y="297864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4" name=""/>
                    <p:cNvSpPr/>
                    <p:nvPr/>
                  </p:nvSpPr>
                  <p:spPr>
                    <a:xfrm>
                      <a:off x="5794200" y="287460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5" name=""/>
                    <p:cNvSpPr/>
                    <p:nvPr/>
                  </p:nvSpPr>
                  <p:spPr>
                    <a:xfrm>
                      <a:off x="5794200" y="281340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6" name=""/>
                    <p:cNvSpPr/>
                    <p:nvPr/>
                  </p:nvSpPr>
                  <p:spPr>
                    <a:xfrm>
                      <a:off x="5794200" y="275004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7" name=""/>
                    <p:cNvSpPr/>
                    <p:nvPr/>
                  </p:nvSpPr>
                  <p:spPr>
                    <a:xfrm>
                      <a:off x="5794200" y="270936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8" name=""/>
                    <p:cNvSpPr/>
                    <p:nvPr/>
                  </p:nvSpPr>
                  <p:spPr>
                    <a:xfrm>
                      <a:off x="5794200" y="266832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9" name=""/>
                    <p:cNvSpPr/>
                    <p:nvPr/>
                  </p:nvSpPr>
                  <p:spPr>
                    <a:xfrm>
                      <a:off x="5794200" y="264852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0" name=""/>
                    <p:cNvSpPr/>
                    <p:nvPr/>
                  </p:nvSpPr>
                  <p:spPr>
                    <a:xfrm>
                      <a:off x="5794200" y="262800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1" name=""/>
                    <p:cNvSpPr/>
                    <p:nvPr/>
                  </p:nvSpPr>
                  <p:spPr>
                    <a:xfrm>
                      <a:off x="5794200" y="242208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2" name=""/>
                    <p:cNvSpPr/>
                    <p:nvPr/>
                  </p:nvSpPr>
                  <p:spPr>
                    <a:xfrm>
                      <a:off x="5794200" y="233856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3" name=""/>
                    <p:cNvSpPr/>
                    <p:nvPr/>
                  </p:nvSpPr>
                  <p:spPr>
                    <a:xfrm>
                      <a:off x="5794200" y="225720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4" name=""/>
                    <p:cNvSpPr/>
                    <p:nvPr/>
                  </p:nvSpPr>
                  <p:spPr>
                    <a:xfrm>
                      <a:off x="5794200" y="221616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5" name=""/>
                    <p:cNvSpPr/>
                    <p:nvPr/>
                  </p:nvSpPr>
                  <p:spPr>
                    <a:xfrm>
                      <a:off x="5794200" y="217548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6" name=""/>
                    <p:cNvSpPr/>
                    <p:nvPr/>
                  </p:nvSpPr>
                  <p:spPr>
                    <a:xfrm>
                      <a:off x="5794200" y="213264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7" name=""/>
                    <p:cNvSpPr/>
                    <p:nvPr/>
                  </p:nvSpPr>
                  <p:spPr>
                    <a:xfrm>
                      <a:off x="5794200" y="209196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8" name=""/>
                    <p:cNvSpPr/>
                    <p:nvPr/>
                  </p:nvSpPr>
                  <p:spPr>
                    <a:xfrm>
                      <a:off x="5794200" y="207144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9" name=""/>
                    <p:cNvSpPr/>
                    <p:nvPr/>
                  </p:nvSpPr>
                  <p:spPr>
                    <a:xfrm>
                      <a:off x="5794200" y="188640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0" name=""/>
                    <p:cNvSpPr/>
                    <p:nvPr/>
                  </p:nvSpPr>
                  <p:spPr>
                    <a:xfrm>
                      <a:off x="5794200" y="178452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1" name=""/>
                    <p:cNvSpPr/>
                    <p:nvPr/>
                  </p:nvSpPr>
                  <p:spPr>
                    <a:xfrm>
                      <a:off x="5794200" y="172152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2" name=""/>
                    <p:cNvSpPr/>
                    <p:nvPr/>
                  </p:nvSpPr>
                  <p:spPr>
                    <a:xfrm>
                      <a:off x="5794200" y="166032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3" name=""/>
                    <p:cNvSpPr/>
                    <p:nvPr/>
                  </p:nvSpPr>
                  <p:spPr>
                    <a:xfrm>
                      <a:off x="5794200" y="161928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4" name=""/>
                    <p:cNvSpPr/>
                    <p:nvPr/>
                  </p:nvSpPr>
                  <p:spPr>
                    <a:xfrm>
                      <a:off x="5794200" y="1578960"/>
                      <a:ext cx="58320" cy="180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5" name=""/>
                    <p:cNvSpPr/>
                    <p:nvPr/>
                  </p:nvSpPr>
                  <p:spPr>
                    <a:xfrm>
                      <a:off x="5794200" y="155844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6" name=""/>
                    <p:cNvSpPr/>
                    <p:nvPr/>
                  </p:nvSpPr>
                  <p:spPr>
                    <a:xfrm>
                      <a:off x="5794200" y="1535760"/>
                      <a:ext cx="58320" cy="252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37" name=""/>
                  <p:cNvGrpSpPr/>
                  <p:nvPr/>
                </p:nvGrpSpPr>
                <p:grpSpPr>
                  <a:xfrm>
                    <a:off x="5794200" y="3409920"/>
                    <a:ext cx="2763360" cy="102960"/>
                    <a:chOff x="5794200" y="3409920"/>
                    <a:chExt cx="2763360" cy="102960"/>
                  </a:xfrm>
                </p:grpSpPr>
                <p:sp>
                  <p:nvSpPr>
                    <p:cNvPr id="5738" name=""/>
                    <p:cNvSpPr/>
                    <p:nvPr/>
                  </p:nvSpPr>
                  <p:spPr>
                    <a:xfrm flipV="1">
                      <a:off x="5794200" y="3409920"/>
                      <a:ext cx="1800" cy="1029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9" name=""/>
                    <p:cNvSpPr/>
                    <p:nvPr/>
                  </p:nvSpPr>
                  <p:spPr>
                    <a:xfrm flipV="1">
                      <a:off x="6249240" y="3409920"/>
                      <a:ext cx="1800" cy="1029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0" name=""/>
                    <p:cNvSpPr/>
                    <p:nvPr/>
                  </p:nvSpPr>
                  <p:spPr>
                    <a:xfrm flipV="1">
                      <a:off x="6721560" y="3409920"/>
                      <a:ext cx="2160" cy="1029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1" name=""/>
                    <p:cNvSpPr/>
                    <p:nvPr/>
                  </p:nvSpPr>
                  <p:spPr>
                    <a:xfrm flipV="1">
                      <a:off x="7174800" y="3409920"/>
                      <a:ext cx="1800" cy="1029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2" name=""/>
                    <p:cNvSpPr/>
                    <p:nvPr/>
                  </p:nvSpPr>
                  <p:spPr>
                    <a:xfrm flipV="1">
                      <a:off x="7630200" y="3409920"/>
                      <a:ext cx="1800" cy="1029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3" name=""/>
                    <p:cNvSpPr/>
                    <p:nvPr/>
                  </p:nvSpPr>
                  <p:spPr>
                    <a:xfrm flipV="1">
                      <a:off x="8083080" y="3409920"/>
                      <a:ext cx="1800" cy="1029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4" name=""/>
                    <p:cNvSpPr/>
                    <p:nvPr/>
                  </p:nvSpPr>
                  <p:spPr>
                    <a:xfrm flipV="1">
                      <a:off x="8555760" y="3409920"/>
                      <a:ext cx="1800" cy="10296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5" name=""/>
                    <p:cNvSpPr/>
                    <p:nvPr/>
                  </p:nvSpPr>
                  <p:spPr>
                    <a:xfrm flipV="1">
                      <a:off x="5893920" y="347184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6" name=""/>
                    <p:cNvSpPr/>
                    <p:nvPr/>
                  </p:nvSpPr>
                  <p:spPr>
                    <a:xfrm flipV="1">
                      <a:off x="5971320" y="3471840"/>
                      <a:ext cx="216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7" name=""/>
                    <p:cNvSpPr/>
                    <p:nvPr/>
                  </p:nvSpPr>
                  <p:spPr>
                    <a:xfrm flipV="1">
                      <a:off x="6071400" y="3471840"/>
                      <a:ext cx="216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8" name=""/>
                    <p:cNvSpPr/>
                    <p:nvPr/>
                  </p:nvSpPr>
                  <p:spPr>
                    <a:xfrm flipV="1">
                      <a:off x="6168960" y="347184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9" name=""/>
                    <p:cNvSpPr/>
                    <p:nvPr/>
                  </p:nvSpPr>
                  <p:spPr>
                    <a:xfrm flipV="1">
                      <a:off x="6346440" y="3471840"/>
                      <a:ext cx="216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0" name=""/>
                    <p:cNvSpPr/>
                    <p:nvPr/>
                  </p:nvSpPr>
                  <p:spPr>
                    <a:xfrm flipV="1">
                      <a:off x="6446160" y="3471840"/>
                      <a:ext cx="216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1" name=""/>
                    <p:cNvSpPr/>
                    <p:nvPr/>
                  </p:nvSpPr>
                  <p:spPr>
                    <a:xfrm flipV="1">
                      <a:off x="6524640" y="347184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2" name=""/>
                    <p:cNvSpPr/>
                    <p:nvPr/>
                  </p:nvSpPr>
                  <p:spPr>
                    <a:xfrm flipV="1">
                      <a:off x="6621840" y="3471840"/>
                      <a:ext cx="216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3" name=""/>
                    <p:cNvSpPr/>
                    <p:nvPr/>
                  </p:nvSpPr>
                  <p:spPr>
                    <a:xfrm flipV="1">
                      <a:off x="6799680" y="347184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4" name=""/>
                    <p:cNvSpPr/>
                    <p:nvPr/>
                  </p:nvSpPr>
                  <p:spPr>
                    <a:xfrm flipV="1">
                      <a:off x="6899400" y="347184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5" name=""/>
                    <p:cNvSpPr/>
                    <p:nvPr/>
                  </p:nvSpPr>
                  <p:spPr>
                    <a:xfrm flipV="1">
                      <a:off x="6977880" y="347184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6" name=""/>
                    <p:cNvSpPr/>
                    <p:nvPr/>
                  </p:nvSpPr>
                  <p:spPr>
                    <a:xfrm flipV="1">
                      <a:off x="7076880" y="3471840"/>
                      <a:ext cx="216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7" name=""/>
                    <p:cNvSpPr/>
                    <p:nvPr/>
                  </p:nvSpPr>
                  <p:spPr>
                    <a:xfrm flipV="1">
                      <a:off x="7255080" y="347184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8" name=""/>
                    <p:cNvSpPr/>
                    <p:nvPr/>
                  </p:nvSpPr>
                  <p:spPr>
                    <a:xfrm flipV="1">
                      <a:off x="7352280" y="3471840"/>
                      <a:ext cx="216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9" name=""/>
                    <p:cNvSpPr/>
                    <p:nvPr/>
                  </p:nvSpPr>
                  <p:spPr>
                    <a:xfrm flipV="1">
                      <a:off x="7452000" y="3471840"/>
                      <a:ext cx="216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0" name=""/>
                    <p:cNvSpPr/>
                    <p:nvPr/>
                  </p:nvSpPr>
                  <p:spPr>
                    <a:xfrm flipV="1">
                      <a:off x="7530120" y="347184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1" name=""/>
                    <p:cNvSpPr/>
                    <p:nvPr/>
                  </p:nvSpPr>
                  <p:spPr>
                    <a:xfrm flipV="1">
                      <a:off x="7727400" y="3471840"/>
                      <a:ext cx="216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2" name=""/>
                    <p:cNvSpPr/>
                    <p:nvPr/>
                  </p:nvSpPr>
                  <p:spPr>
                    <a:xfrm flipV="1">
                      <a:off x="7808040" y="347184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3" name=""/>
                    <p:cNvSpPr/>
                    <p:nvPr/>
                  </p:nvSpPr>
                  <p:spPr>
                    <a:xfrm flipV="1">
                      <a:off x="7905240" y="347184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4" name=""/>
                    <p:cNvSpPr/>
                    <p:nvPr/>
                  </p:nvSpPr>
                  <p:spPr>
                    <a:xfrm flipV="1">
                      <a:off x="8004960" y="347184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5" name=""/>
                    <p:cNvSpPr/>
                    <p:nvPr/>
                  </p:nvSpPr>
                  <p:spPr>
                    <a:xfrm flipV="1">
                      <a:off x="8180640" y="347184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6" name=""/>
                    <p:cNvSpPr/>
                    <p:nvPr/>
                  </p:nvSpPr>
                  <p:spPr>
                    <a:xfrm flipV="1">
                      <a:off x="8280360" y="347184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7" name=""/>
                    <p:cNvSpPr/>
                    <p:nvPr/>
                  </p:nvSpPr>
                  <p:spPr>
                    <a:xfrm flipV="1">
                      <a:off x="8358480" y="3471840"/>
                      <a:ext cx="180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8" name=""/>
                    <p:cNvSpPr/>
                    <p:nvPr/>
                  </p:nvSpPr>
                  <p:spPr>
                    <a:xfrm flipV="1">
                      <a:off x="8457840" y="3471840"/>
                      <a:ext cx="2160" cy="41040"/>
                    </a:xfrm>
                    <a:prstGeom prst="line">
                      <a:avLst/>
                    </a:prstGeom>
                    <a:ln w="20520">
                      <a:solidFill>
                        <a:srgbClr val="fcffc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69" name=""/>
                  <p:cNvSpPr/>
                  <p:nvPr/>
                </p:nvSpPr>
                <p:spPr>
                  <a:xfrm>
                    <a:off x="5794200" y="3513240"/>
                    <a:ext cx="2762280" cy="1440"/>
                  </a:xfrm>
                  <a:prstGeom prst="line">
                    <a:avLst/>
                  </a:prstGeom>
                  <a:ln w="20520">
                    <a:solidFill>
                      <a:srgbClr val="fcffc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0" name=""/>
                  <p:cNvSpPr/>
                  <p:nvPr/>
                </p:nvSpPr>
                <p:spPr>
                  <a:xfrm>
                    <a:off x="5894280" y="2133720"/>
                    <a:ext cx="5868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1" name=""/>
                  <p:cNvSpPr/>
                  <p:nvPr/>
                </p:nvSpPr>
                <p:spPr>
                  <a:xfrm>
                    <a:off x="5913360" y="2031840"/>
                    <a:ext cx="5868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2" name=""/>
                  <p:cNvSpPr/>
                  <p:nvPr/>
                </p:nvSpPr>
                <p:spPr>
                  <a:xfrm>
                    <a:off x="5932440" y="1927080"/>
                    <a:ext cx="5868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3" name=""/>
                  <p:cNvSpPr/>
                  <p:nvPr/>
                </p:nvSpPr>
                <p:spPr>
                  <a:xfrm>
                    <a:off x="5952960" y="188604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4" name=""/>
                  <p:cNvSpPr/>
                  <p:nvPr/>
                </p:nvSpPr>
                <p:spPr>
                  <a:xfrm>
                    <a:off x="5972040" y="1846440"/>
                    <a:ext cx="5868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5" name=""/>
                  <p:cNvSpPr/>
                  <p:nvPr/>
                </p:nvSpPr>
                <p:spPr>
                  <a:xfrm>
                    <a:off x="5991120" y="180504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6" name=""/>
                  <p:cNvSpPr/>
                  <p:nvPr/>
                </p:nvSpPr>
                <p:spPr>
                  <a:xfrm>
                    <a:off x="6011640" y="1784520"/>
                    <a:ext cx="604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7" name=""/>
                  <p:cNvSpPr/>
                  <p:nvPr/>
                </p:nvSpPr>
                <p:spPr>
                  <a:xfrm>
                    <a:off x="6030720" y="1763640"/>
                    <a:ext cx="604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8" name=""/>
                  <p:cNvSpPr/>
                  <p:nvPr/>
                </p:nvSpPr>
                <p:spPr>
                  <a:xfrm>
                    <a:off x="6049800" y="1741320"/>
                    <a:ext cx="6048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9" name=""/>
                  <p:cNvSpPr/>
                  <p:nvPr/>
                </p:nvSpPr>
                <p:spPr>
                  <a:xfrm>
                    <a:off x="6072120" y="1720800"/>
                    <a:ext cx="5868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0" name=""/>
                  <p:cNvSpPr/>
                  <p:nvPr/>
                </p:nvSpPr>
                <p:spPr>
                  <a:xfrm>
                    <a:off x="6091200" y="1720800"/>
                    <a:ext cx="5868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1" name=""/>
                  <p:cNvSpPr/>
                  <p:nvPr/>
                </p:nvSpPr>
                <p:spPr>
                  <a:xfrm>
                    <a:off x="6110280" y="170172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2" name=""/>
                  <p:cNvSpPr/>
                  <p:nvPr/>
                </p:nvSpPr>
                <p:spPr>
                  <a:xfrm>
                    <a:off x="6130800" y="1720800"/>
                    <a:ext cx="5868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3" name=""/>
                  <p:cNvSpPr/>
                  <p:nvPr/>
                </p:nvSpPr>
                <p:spPr>
                  <a:xfrm>
                    <a:off x="6149880" y="170172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4" name=""/>
                  <p:cNvSpPr/>
                  <p:nvPr/>
                </p:nvSpPr>
                <p:spPr>
                  <a:xfrm>
                    <a:off x="6168960" y="1720800"/>
                    <a:ext cx="5868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5" name=""/>
                  <p:cNvSpPr/>
                  <p:nvPr/>
                </p:nvSpPr>
                <p:spPr>
                  <a:xfrm>
                    <a:off x="6189480" y="1720800"/>
                    <a:ext cx="6048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6" name=""/>
                  <p:cNvSpPr/>
                  <p:nvPr/>
                </p:nvSpPr>
                <p:spPr>
                  <a:xfrm>
                    <a:off x="6208560" y="1720800"/>
                    <a:ext cx="6048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7" name=""/>
                  <p:cNvSpPr/>
                  <p:nvPr/>
                </p:nvSpPr>
                <p:spPr>
                  <a:xfrm>
                    <a:off x="6227640" y="1720800"/>
                    <a:ext cx="6048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8" name=""/>
                  <p:cNvSpPr/>
                  <p:nvPr/>
                </p:nvSpPr>
                <p:spPr>
                  <a:xfrm>
                    <a:off x="6249960" y="1741320"/>
                    <a:ext cx="5868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9" name=""/>
                  <p:cNvSpPr/>
                  <p:nvPr/>
                </p:nvSpPr>
                <p:spPr>
                  <a:xfrm>
                    <a:off x="6269040" y="1741320"/>
                    <a:ext cx="5868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0" name=""/>
                  <p:cNvSpPr/>
                  <p:nvPr/>
                </p:nvSpPr>
                <p:spPr>
                  <a:xfrm>
                    <a:off x="6288120" y="176364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1" name=""/>
                  <p:cNvSpPr/>
                  <p:nvPr/>
                </p:nvSpPr>
                <p:spPr>
                  <a:xfrm>
                    <a:off x="6308640" y="1763640"/>
                    <a:ext cx="5724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2" name=""/>
                  <p:cNvSpPr/>
                  <p:nvPr/>
                </p:nvSpPr>
                <p:spPr>
                  <a:xfrm>
                    <a:off x="6327720" y="176364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3" name=""/>
                  <p:cNvSpPr/>
                  <p:nvPr/>
                </p:nvSpPr>
                <p:spPr>
                  <a:xfrm>
                    <a:off x="6346800" y="176364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4" name=""/>
                  <p:cNvSpPr/>
                  <p:nvPr/>
                </p:nvSpPr>
                <p:spPr>
                  <a:xfrm>
                    <a:off x="6365880" y="176364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5" name=""/>
                  <p:cNvSpPr/>
                  <p:nvPr/>
                </p:nvSpPr>
                <p:spPr>
                  <a:xfrm>
                    <a:off x="6365880" y="178452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6" name=""/>
                  <p:cNvSpPr/>
                  <p:nvPr/>
                </p:nvSpPr>
                <p:spPr>
                  <a:xfrm>
                    <a:off x="6386400" y="1805040"/>
                    <a:ext cx="604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7" name=""/>
                  <p:cNvSpPr/>
                  <p:nvPr/>
                </p:nvSpPr>
                <p:spPr>
                  <a:xfrm>
                    <a:off x="6405480" y="1805040"/>
                    <a:ext cx="6012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8" name=""/>
                  <p:cNvSpPr/>
                  <p:nvPr/>
                </p:nvSpPr>
                <p:spPr>
                  <a:xfrm>
                    <a:off x="6424560" y="1805040"/>
                    <a:ext cx="6192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9" name=""/>
                  <p:cNvSpPr/>
                  <p:nvPr/>
                </p:nvSpPr>
                <p:spPr>
                  <a:xfrm>
                    <a:off x="6446880" y="180504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0" name=""/>
                  <p:cNvSpPr/>
                  <p:nvPr/>
                </p:nvSpPr>
                <p:spPr>
                  <a:xfrm>
                    <a:off x="6465600" y="1825560"/>
                    <a:ext cx="5904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1" name=""/>
                  <p:cNvSpPr/>
                  <p:nvPr/>
                </p:nvSpPr>
                <p:spPr>
                  <a:xfrm>
                    <a:off x="6486480" y="1825560"/>
                    <a:ext cx="5724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2" name=""/>
                  <p:cNvSpPr/>
                  <p:nvPr/>
                </p:nvSpPr>
                <p:spPr>
                  <a:xfrm>
                    <a:off x="6505560" y="1825560"/>
                    <a:ext cx="5868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3" name=""/>
                  <p:cNvSpPr/>
                  <p:nvPr/>
                </p:nvSpPr>
                <p:spPr>
                  <a:xfrm>
                    <a:off x="6524640" y="1846440"/>
                    <a:ext cx="5868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4" name=""/>
                  <p:cNvSpPr/>
                  <p:nvPr/>
                </p:nvSpPr>
                <p:spPr>
                  <a:xfrm>
                    <a:off x="6543720" y="1846440"/>
                    <a:ext cx="5868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5" name=""/>
                  <p:cNvSpPr/>
                  <p:nvPr/>
                </p:nvSpPr>
                <p:spPr>
                  <a:xfrm>
                    <a:off x="6564240" y="1866960"/>
                    <a:ext cx="5868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6" name=""/>
                  <p:cNvSpPr/>
                  <p:nvPr/>
                </p:nvSpPr>
                <p:spPr>
                  <a:xfrm>
                    <a:off x="6583320" y="1866960"/>
                    <a:ext cx="6012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7" name=""/>
                  <p:cNvSpPr/>
                  <p:nvPr/>
                </p:nvSpPr>
                <p:spPr>
                  <a:xfrm>
                    <a:off x="6602400" y="1886040"/>
                    <a:ext cx="6192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8" name=""/>
                  <p:cNvSpPr/>
                  <p:nvPr/>
                </p:nvSpPr>
                <p:spPr>
                  <a:xfrm>
                    <a:off x="6622920" y="1886040"/>
                    <a:ext cx="604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9" name=""/>
                  <p:cNvSpPr/>
                  <p:nvPr/>
                </p:nvSpPr>
                <p:spPr>
                  <a:xfrm>
                    <a:off x="6643440" y="1906560"/>
                    <a:ext cx="5904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0" name=""/>
                  <p:cNvSpPr/>
                  <p:nvPr/>
                </p:nvSpPr>
                <p:spPr>
                  <a:xfrm>
                    <a:off x="6664320" y="1906560"/>
                    <a:ext cx="5688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1" name=""/>
                  <p:cNvSpPr/>
                  <p:nvPr/>
                </p:nvSpPr>
                <p:spPr>
                  <a:xfrm>
                    <a:off x="6683400" y="1927080"/>
                    <a:ext cx="5868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2" name=""/>
                  <p:cNvSpPr/>
                  <p:nvPr/>
                </p:nvSpPr>
                <p:spPr>
                  <a:xfrm>
                    <a:off x="6742080" y="1927080"/>
                    <a:ext cx="5868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3" name=""/>
                  <p:cNvSpPr/>
                  <p:nvPr/>
                </p:nvSpPr>
                <p:spPr>
                  <a:xfrm>
                    <a:off x="6800760" y="1990800"/>
                    <a:ext cx="6012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4" name=""/>
                  <p:cNvSpPr/>
                  <p:nvPr/>
                </p:nvSpPr>
                <p:spPr>
                  <a:xfrm>
                    <a:off x="6860880" y="2011320"/>
                    <a:ext cx="5904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5" name=""/>
                  <p:cNvSpPr/>
                  <p:nvPr/>
                </p:nvSpPr>
                <p:spPr>
                  <a:xfrm>
                    <a:off x="6919920" y="205092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6" name=""/>
                  <p:cNvSpPr/>
                  <p:nvPr/>
                </p:nvSpPr>
                <p:spPr>
                  <a:xfrm>
                    <a:off x="6957720" y="2092320"/>
                    <a:ext cx="5904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7" name=""/>
                  <p:cNvSpPr/>
                  <p:nvPr/>
                </p:nvSpPr>
                <p:spPr>
                  <a:xfrm>
                    <a:off x="7016760" y="2133720"/>
                    <a:ext cx="6012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8" name=""/>
                  <p:cNvSpPr/>
                  <p:nvPr/>
                </p:nvSpPr>
                <p:spPr>
                  <a:xfrm>
                    <a:off x="7076880" y="2152800"/>
                    <a:ext cx="5868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9" name=""/>
                  <p:cNvSpPr/>
                  <p:nvPr/>
                </p:nvSpPr>
                <p:spPr>
                  <a:xfrm>
                    <a:off x="7135560" y="2197080"/>
                    <a:ext cx="5904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0" name=""/>
                  <p:cNvSpPr/>
                  <p:nvPr/>
                </p:nvSpPr>
                <p:spPr>
                  <a:xfrm>
                    <a:off x="7194600" y="2236680"/>
                    <a:ext cx="6012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1" name=""/>
                  <p:cNvSpPr/>
                  <p:nvPr/>
                </p:nvSpPr>
                <p:spPr>
                  <a:xfrm>
                    <a:off x="7235640" y="2278080"/>
                    <a:ext cx="5868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2" name=""/>
                  <p:cNvSpPr/>
                  <p:nvPr/>
                </p:nvSpPr>
                <p:spPr>
                  <a:xfrm>
                    <a:off x="7294320" y="2317680"/>
                    <a:ext cx="5904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3" name=""/>
                  <p:cNvSpPr/>
                  <p:nvPr/>
                </p:nvSpPr>
                <p:spPr>
                  <a:xfrm>
                    <a:off x="7353360" y="2359080"/>
                    <a:ext cx="6012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4" name=""/>
                  <p:cNvSpPr/>
                  <p:nvPr/>
                </p:nvSpPr>
                <p:spPr>
                  <a:xfrm>
                    <a:off x="7432560" y="2422440"/>
                    <a:ext cx="58680" cy="6048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5" name=""/>
                  <p:cNvSpPr/>
                  <p:nvPr/>
                </p:nvSpPr>
                <p:spPr>
                  <a:xfrm>
                    <a:off x="7569000" y="2503440"/>
                    <a:ext cx="61920" cy="637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6" name=""/>
                  <p:cNvSpPr/>
                  <p:nvPr/>
                </p:nvSpPr>
                <p:spPr>
                  <a:xfrm>
                    <a:off x="7708680" y="2587680"/>
                    <a:ext cx="58680" cy="601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7" name=""/>
                  <p:cNvSpPr/>
                  <p:nvPr/>
                </p:nvSpPr>
                <p:spPr>
                  <a:xfrm>
                    <a:off x="7846920" y="266868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8" name=""/>
                  <p:cNvSpPr/>
                  <p:nvPr/>
                </p:nvSpPr>
                <p:spPr>
                  <a:xfrm>
                    <a:off x="7983360" y="2730600"/>
                    <a:ext cx="60480" cy="6336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9" name=""/>
                  <p:cNvSpPr/>
                  <p:nvPr/>
                </p:nvSpPr>
                <p:spPr>
                  <a:xfrm>
                    <a:off x="8123040" y="2751120"/>
                    <a:ext cx="5724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0" name=""/>
                  <p:cNvSpPr/>
                  <p:nvPr/>
                </p:nvSpPr>
                <p:spPr>
                  <a:xfrm>
                    <a:off x="8261280" y="2813040"/>
                    <a:ext cx="58680" cy="61920"/>
                  </a:xfrm>
                  <a:prstGeom prst="ellipse">
                    <a:avLst/>
                  </a:prstGeom>
                  <a:solidFill>
                    <a:srgbClr val="27fc20"/>
                  </a:solidFill>
                  <a:ln w="20520">
                    <a:solidFill>
                      <a:srgbClr val="27fc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1" name=""/>
                  <p:cNvSpPr/>
                  <p:nvPr/>
                </p:nvSpPr>
                <p:spPr>
                  <a:xfrm>
                    <a:off x="5813280" y="1701720"/>
                    <a:ext cx="6192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2" name=""/>
                  <p:cNvSpPr/>
                  <p:nvPr/>
                </p:nvSpPr>
                <p:spPr>
                  <a:xfrm>
                    <a:off x="5813280" y="1701720"/>
                    <a:ext cx="3960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3" name=""/>
                  <p:cNvSpPr/>
                  <p:nvPr/>
                </p:nvSpPr>
                <p:spPr>
                  <a:xfrm>
                    <a:off x="5833800" y="1414440"/>
                    <a:ext cx="604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4" name=""/>
                  <p:cNvSpPr/>
                  <p:nvPr/>
                </p:nvSpPr>
                <p:spPr>
                  <a:xfrm>
                    <a:off x="5833800" y="1414440"/>
                    <a:ext cx="4140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5" name=""/>
                  <p:cNvSpPr/>
                  <p:nvPr/>
                </p:nvSpPr>
                <p:spPr>
                  <a:xfrm>
                    <a:off x="5833800" y="1373040"/>
                    <a:ext cx="604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6" name=""/>
                  <p:cNvSpPr/>
                  <p:nvPr/>
                </p:nvSpPr>
                <p:spPr>
                  <a:xfrm>
                    <a:off x="5833800" y="1373040"/>
                    <a:ext cx="414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7" name=""/>
                  <p:cNvSpPr/>
                  <p:nvPr/>
                </p:nvSpPr>
                <p:spPr>
                  <a:xfrm>
                    <a:off x="5852880" y="1434960"/>
                    <a:ext cx="604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8" name=""/>
                  <p:cNvSpPr/>
                  <p:nvPr/>
                </p:nvSpPr>
                <p:spPr>
                  <a:xfrm>
                    <a:off x="5852880" y="1434960"/>
                    <a:ext cx="41400" cy="3996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9" name=""/>
                  <p:cNvSpPr/>
                  <p:nvPr/>
                </p:nvSpPr>
                <p:spPr>
                  <a:xfrm>
                    <a:off x="5875200" y="1495440"/>
                    <a:ext cx="5724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0" name=""/>
                  <p:cNvSpPr/>
                  <p:nvPr/>
                </p:nvSpPr>
                <p:spPr>
                  <a:xfrm>
                    <a:off x="5875200" y="1495440"/>
                    <a:ext cx="381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1" name=""/>
                  <p:cNvSpPr/>
                  <p:nvPr/>
                </p:nvSpPr>
                <p:spPr>
                  <a:xfrm>
                    <a:off x="5894280" y="1536840"/>
                    <a:ext cx="5868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2" name=""/>
                  <p:cNvSpPr/>
                  <p:nvPr/>
                </p:nvSpPr>
                <p:spPr>
                  <a:xfrm>
                    <a:off x="5894280" y="1536840"/>
                    <a:ext cx="3816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3" name=""/>
                  <p:cNvSpPr/>
                  <p:nvPr/>
                </p:nvSpPr>
                <p:spPr>
                  <a:xfrm>
                    <a:off x="5913360" y="161928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4" name=""/>
                  <p:cNvSpPr/>
                  <p:nvPr/>
                </p:nvSpPr>
                <p:spPr>
                  <a:xfrm>
                    <a:off x="5913360" y="161928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5" name=""/>
                  <p:cNvSpPr/>
                  <p:nvPr/>
                </p:nvSpPr>
                <p:spPr>
                  <a:xfrm>
                    <a:off x="5932440" y="1660680"/>
                    <a:ext cx="5868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6" name=""/>
                  <p:cNvSpPr/>
                  <p:nvPr/>
                </p:nvSpPr>
                <p:spPr>
                  <a:xfrm>
                    <a:off x="5932440" y="1660680"/>
                    <a:ext cx="396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7" name=""/>
                  <p:cNvSpPr/>
                  <p:nvPr/>
                </p:nvSpPr>
                <p:spPr>
                  <a:xfrm>
                    <a:off x="5952960" y="170172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8" name=""/>
                  <p:cNvSpPr/>
                  <p:nvPr/>
                </p:nvSpPr>
                <p:spPr>
                  <a:xfrm>
                    <a:off x="5952960" y="1701720"/>
                    <a:ext cx="3816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9" name=""/>
                  <p:cNvSpPr/>
                  <p:nvPr/>
                </p:nvSpPr>
                <p:spPr>
                  <a:xfrm>
                    <a:off x="5972040" y="1741320"/>
                    <a:ext cx="58680" cy="637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0" name=""/>
                  <p:cNvSpPr/>
                  <p:nvPr/>
                </p:nvSpPr>
                <p:spPr>
                  <a:xfrm>
                    <a:off x="5972040" y="1741320"/>
                    <a:ext cx="39600" cy="432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1" name=""/>
                  <p:cNvSpPr/>
                  <p:nvPr/>
                </p:nvSpPr>
                <p:spPr>
                  <a:xfrm>
                    <a:off x="5991120" y="178452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2" name=""/>
                  <p:cNvSpPr/>
                  <p:nvPr/>
                </p:nvSpPr>
                <p:spPr>
                  <a:xfrm>
                    <a:off x="5991120" y="1784520"/>
                    <a:ext cx="396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3" name=""/>
                  <p:cNvSpPr/>
                  <p:nvPr/>
                </p:nvSpPr>
                <p:spPr>
                  <a:xfrm>
                    <a:off x="6011640" y="1825560"/>
                    <a:ext cx="604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4" name=""/>
                  <p:cNvSpPr/>
                  <p:nvPr/>
                </p:nvSpPr>
                <p:spPr>
                  <a:xfrm>
                    <a:off x="6011640" y="1825560"/>
                    <a:ext cx="381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5" name=""/>
                  <p:cNvSpPr/>
                  <p:nvPr/>
                </p:nvSpPr>
                <p:spPr>
                  <a:xfrm>
                    <a:off x="6030720" y="1846440"/>
                    <a:ext cx="6048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6" name=""/>
                  <p:cNvSpPr/>
                  <p:nvPr/>
                </p:nvSpPr>
                <p:spPr>
                  <a:xfrm>
                    <a:off x="6030720" y="1846440"/>
                    <a:ext cx="4140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7" name=""/>
                  <p:cNvSpPr/>
                  <p:nvPr/>
                </p:nvSpPr>
                <p:spPr>
                  <a:xfrm>
                    <a:off x="6049800" y="1886040"/>
                    <a:ext cx="604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8" name=""/>
                  <p:cNvSpPr/>
                  <p:nvPr/>
                </p:nvSpPr>
                <p:spPr>
                  <a:xfrm>
                    <a:off x="6049800" y="1886040"/>
                    <a:ext cx="414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9" name=""/>
                  <p:cNvSpPr/>
                  <p:nvPr/>
                </p:nvSpPr>
                <p:spPr>
                  <a:xfrm>
                    <a:off x="6072120" y="1906560"/>
                    <a:ext cx="5868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0" name=""/>
                  <p:cNvSpPr/>
                  <p:nvPr/>
                </p:nvSpPr>
                <p:spPr>
                  <a:xfrm>
                    <a:off x="6072120" y="1906560"/>
                    <a:ext cx="381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1" name=""/>
                  <p:cNvSpPr/>
                  <p:nvPr/>
                </p:nvSpPr>
                <p:spPr>
                  <a:xfrm>
                    <a:off x="6091200" y="1947960"/>
                    <a:ext cx="5868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2" name=""/>
                  <p:cNvSpPr/>
                  <p:nvPr/>
                </p:nvSpPr>
                <p:spPr>
                  <a:xfrm>
                    <a:off x="6091200" y="1947960"/>
                    <a:ext cx="3960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3" name=""/>
                  <p:cNvSpPr/>
                  <p:nvPr/>
                </p:nvSpPr>
                <p:spPr>
                  <a:xfrm>
                    <a:off x="6091200" y="196992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4" name=""/>
                  <p:cNvSpPr/>
                  <p:nvPr/>
                </p:nvSpPr>
                <p:spPr>
                  <a:xfrm>
                    <a:off x="6091200" y="196992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5" name=""/>
                  <p:cNvSpPr/>
                  <p:nvPr/>
                </p:nvSpPr>
                <p:spPr>
                  <a:xfrm>
                    <a:off x="6110280" y="2011320"/>
                    <a:ext cx="586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6" name=""/>
                  <p:cNvSpPr/>
                  <p:nvPr/>
                </p:nvSpPr>
                <p:spPr>
                  <a:xfrm>
                    <a:off x="6110280" y="2011320"/>
                    <a:ext cx="3960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7" name=""/>
                  <p:cNvSpPr/>
                  <p:nvPr/>
                </p:nvSpPr>
                <p:spPr>
                  <a:xfrm>
                    <a:off x="6130800" y="205092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8" name=""/>
                  <p:cNvSpPr/>
                  <p:nvPr/>
                </p:nvSpPr>
                <p:spPr>
                  <a:xfrm>
                    <a:off x="6130800" y="2050920"/>
                    <a:ext cx="381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9" name=""/>
                  <p:cNvSpPr/>
                  <p:nvPr/>
                </p:nvSpPr>
                <p:spPr>
                  <a:xfrm>
                    <a:off x="6149880" y="207180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0" name=""/>
                  <p:cNvSpPr/>
                  <p:nvPr/>
                </p:nvSpPr>
                <p:spPr>
                  <a:xfrm>
                    <a:off x="6149880" y="2071800"/>
                    <a:ext cx="396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1" name=""/>
                  <p:cNvSpPr/>
                  <p:nvPr/>
                </p:nvSpPr>
                <p:spPr>
                  <a:xfrm>
                    <a:off x="6168960" y="2152800"/>
                    <a:ext cx="5868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2" name=""/>
                  <p:cNvSpPr/>
                  <p:nvPr/>
                </p:nvSpPr>
                <p:spPr>
                  <a:xfrm>
                    <a:off x="6168960" y="2152800"/>
                    <a:ext cx="39600" cy="4428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3" name=""/>
                  <p:cNvSpPr/>
                  <p:nvPr/>
                </p:nvSpPr>
                <p:spPr>
                  <a:xfrm>
                    <a:off x="6189480" y="2197080"/>
                    <a:ext cx="604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4" name=""/>
                  <p:cNvSpPr/>
                  <p:nvPr/>
                </p:nvSpPr>
                <p:spPr>
                  <a:xfrm>
                    <a:off x="6189480" y="2197080"/>
                    <a:ext cx="3816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5" name=""/>
                  <p:cNvSpPr/>
                  <p:nvPr/>
                </p:nvSpPr>
                <p:spPr>
                  <a:xfrm>
                    <a:off x="6208560" y="2216160"/>
                    <a:ext cx="604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6" name=""/>
                  <p:cNvSpPr/>
                  <p:nvPr/>
                </p:nvSpPr>
                <p:spPr>
                  <a:xfrm>
                    <a:off x="6208560" y="2216160"/>
                    <a:ext cx="414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7" name=""/>
                  <p:cNvSpPr/>
                  <p:nvPr/>
                </p:nvSpPr>
                <p:spPr>
                  <a:xfrm>
                    <a:off x="6227640" y="2257560"/>
                    <a:ext cx="6048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8" name=""/>
                  <p:cNvSpPr/>
                  <p:nvPr/>
                </p:nvSpPr>
                <p:spPr>
                  <a:xfrm>
                    <a:off x="6227640" y="2257560"/>
                    <a:ext cx="414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9" name=""/>
                  <p:cNvSpPr/>
                  <p:nvPr/>
                </p:nvSpPr>
                <p:spPr>
                  <a:xfrm>
                    <a:off x="6249960" y="2278080"/>
                    <a:ext cx="586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0" name=""/>
                  <p:cNvSpPr/>
                  <p:nvPr/>
                </p:nvSpPr>
                <p:spPr>
                  <a:xfrm>
                    <a:off x="6249960" y="2278080"/>
                    <a:ext cx="3816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1" name=""/>
                  <p:cNvSpPr/>
                  <p:nvPr/>
                </p:nvSpPr>
                <p:spPr>
                  <a:xfrm>
                    <a:off x="6269040" y="2338560"/>
                    <a:ext cx="5868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2" name=""/>
                  <p:cNvSpPr/>
                  <p:nvPr/>
                </p:nvSpPr>
                <p:spPr>
                  <a:xfrm>
                    <a:off x="6269040" y="2338560"/>
                    <a:ext cx="3960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3" name=""/>
                  <p:cNvSpPr/>
                  <p:nvPr/>
                </p:nvSpPr>
                <p:spPr>
                  <a:xfrm>
                    <a:off x="6288120" y="2359080"/>
                    <a:ext cx="5868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4" name=""/>
                  <p:cNvSpPr/>
                  <p:nvPr/>
                </p:nvSpPr>
                <p:spPr>
                  <a:xfrm>
                    <a:off x="6288120" y="2359080"/>
                    <a:ext cx="3960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5" name=""/>
                  <p:cNvSpPr/>
                  <p:nvPr/>
                </p:nvSpPr>
                <p:spPr>
                  <a:xfrm>
                    <a:off x="6308640" y="2401920"/>
                    <a:ext cx="5724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6" name=""/>
                  <p:cNvSpPr/>
                  <p:nvPr/>
                </p:nvSpPr>
                <p:spPr>
                  <a:xfrm>
                    <a:off x="6308640" y="2401920"/>
                    <a:ext cx="381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7" name=""/>
                  <p:cNvSpPr/>
                  <p:nvPr/>
                </p:nvSpPr>
                <p:spPr>
                  <a:xfrm>
                    <a:off x="6327720" y="2422440"/>
                    <a:ext cx="586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8" name=""/>
                  <p:cNvSpPr/>
                  <p:nvPr/>
                </p:nvSpPr>
                <p:spPr>
                  <a:xfrm>
                    <a:off x="6327720" y="2422440"/>
                    <a:ext cx="381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9" name=""/>
                  <p:cNvSpPr/>
                  <p:nvPr/>
                </p:nvSpPr>
                <p:spPr>
                  <a:xfrm>
                    <a:off x="6346800" y="2443320"/>
                    <a:ext cx="5868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0" name=""/>
                  <p:cNvSpPr/>
                  <p:nvPr/>
                </p:nvSpPr>
                <p:spPr>
                  <a:xfrm>
                    <a:off x="6346800" y="2443320"/>
                    <a:ext cx="3960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1" name=""/>
                  <p:cNvSpPr/>
                  <p:nvPr/>
                </p:nvSpPr>
                <p:spPr>
                  <a:xfrm>
                    <a:off x="6365880" y="248292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2" name=""/>
                  <p:cNvSpPr/>
                  <p:nvPr/>
                </p:nvSpPr>
                <p:spPr>
                  <a:xfrm>
                    <a:off x="6365880" y="2482920"/>
                    <a:ext cx="396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3" name=""/>
                  <p:cNvSpPr/>
                  <p:nvPr/>
                </p:nvSpPr>
                <p:spPr>
                  <a:xfrm>
                    <a:off x="6365880" y="2503440"/>
                    <a:ext cx="58680" cy="637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4" name=""/>
                  <p:cNvSpPr/>
                  <p:nvPr/>
                </p:nvSpPr>
                <p:spPr>
                  <a:xfrm>
                    <a:off x="6365880" y="250344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5" name=""/>
                  <p:cNvSpPr/>
                  <p:nvPr/>
                </p:nvSpPr>
                <p:spPr>
                  <a:xfrm>
                    <a:off x="6386400" y="2503440"/>
                    <a:ext cx="60480" cy="637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6" name=""/>
                  <p:cNvSpPr/>
                  <p:nvPr/>
                </p:nvSpPr>
                <p:spPr>
                  <a:xfrm>
                    <a:off x="6386400" y="2503440"/>
                    <a:ext cx="381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7" name=""/>
                  <p:cNvSpPr/>
                  <p:nvPr/>
                </p:nvSpPr>
                <p:spPr>
                  <a:xfrm>
                    <a:off x="6405480" y="2544840"/>
                    <a:ext cx="6012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8" name=""/>
                  <p:cNvSpPr/>
                  <p:nvPr/>
                </p:nvSpPr>
                <p:spPr>
                  <a:xfrm>
                    <a:off x="6405480" y="2544840"/>
                    <a:ext cx="4140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9" name=""/>
                  <p:cNvSpPr/>
                  <p:nvPr/>
                </p:nvSpPr>
                <p:spPr>
                  <a:xfrm>
                    <a:off x="6424560" y="2587680"/>
                    <a:ext cx="6192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0" name=""/>
                  <p:cNvSpPr/>
                  <p:nvPr/>
                </p:nvSpPr>
                <p:spPr>
                  <a:xfrm>
                    <a:off x="6424560" y="2587680"/>
                    <a:ext cx="4104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1" name=""/>
                  <p:cNvSpPr/>
                  <p:nvPr/>
                </p:nvSpPr>
                <p:spPr>
                  <a:xfrm>
                    <a:off x="6446880" y="2608200"/>
                    <a:ext cx="586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2" name=""/>
                  <p:cNvSpPr/>
                  <p:nvPr/>
                </p:nvSpPr>
                <p:spPr>
                  <a:xfrm>
                    <a:off x="6446880" y="2608200"/>
                    <a:ext cx="3960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3" name=""/>
                  <p:cNvSpPr/>
                  <p:nvPr/>
                </p:nvSpPr>
                <p:spPr>
                  <a:xfrm>
                    <a:off x="6465600" y="2629080"/>
                    <a:ext cx="5904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4" name=""/>
                  <p:cNvSpPr/>
                  <p:nvPr/>
                </p:nvSpPr>
                <p:spPr>
                  <a:xfrm>
                    <a:off x="6465600" y="2629080"/>
                    <a:ext cx="3996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5" name=""/>
                  <p:cNvSpPr/>
                  <p:nvPr/>
                </p:nvSpPr>
                <p:spPr>
                  <a:xfrm>
                    <a:off x="6486480" y="2608200"/>
                    <a:ext cx="5724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6" name=""/>
                  <p:cNvSpPr/>
                  <p:nvPr/>
                </p:nvSpPr>
                <p:spPr>
                  <a:xfrm>
                    <a:off x="6486480" y="2608200"/>
                    <a:ext cx="3816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7" name=""/>
                  <p:cNvSpPr/>
                  <p:nvPr/>
                </p:nvSpPr>
                <p:spPr>
                  <a:xfrm>
                    <a:off x="6505560" y="264780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8" name=""/>
                  <p:cNvSpPr/>
                  <p:nvPr/>
                </p:nvSpPr>
                <p:spPr>
                  <a:xfrm>
                    <a:off x="6505560" y="2647800"/>
                    <a:ext cx="381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9" name=""/>
                  <p:cNvSpPr/>
                  <p:nvPr/>
                </p:nvSpPr>
                <p:spPr>
                  <a:xfrm>
                    <a:off x="6524640" y="264780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0" name=""/>
                  <p:cNvSpPr/>
                  <p:nvPr/>
                </p:nvSpPr>
                <p:spPr>
                  <a:xfrm>
                    <a:off x="6524640" y="2647800"/>
                    <a:ext cx="396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1" name=""/>
                  <p:cNvSpPr/>
                  <p:nvPr/>
                </p:nvSpPr>
                <p:spPr>
                  <a:xfrm>
                    <a:off x="6543720" y="266868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2" name=""/>
                  <p:cNvSpPr/>
                  <p:nvPr/>
                </p:nvSpPr>
                <p:spPr>
                  <a:xfrm>
                    <a:off x="6543720" y="2668680"/>
                    <a:ext cx="396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3" name=""/>
                  <p:cNvSpPr/>
                  <p:nvPr/>
                </p:nvSpPr>
                <p:spPr>
                  <a:xfrm>
                    <a:off x="6564240" y="2709720"/>
                    <a:ext cx="58680" cy="637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4" name=""/>
                  <p:cNvSpPr/>
                  <p:nvPr/>
                </p:nvSpPr>
                <p:spPr>
                  <a:xfrm>
                    <a:off x="6564240" y="2709720"/>
                    <a:ext cx="381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5" name=""/>
                  <p:cNvSpPr/>
                  <p:nvPr/>
                </p:nvSpPr>
                <p:spPr>
                  <a:xfrm>
                    <a:off x="6583320" y="2730600"/>
                    <a:ext cx="6012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6" name=""/>
                  <p:cNvSpPr/>
                  <p:nvPr/>
                </p:nvSpPr>
                <p:spPr>
                  <a:xfrm>
                    <a:off x="6583320" y="2730600"/>
                    <a:ext cx="3960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7" name=""/>
                  <p:cNvSpPr/>
                  <p:nvPr/>
                </p:nvSpPr>
                <p:spPr>
                  <a:xfrm>
                    <a:off x="6602400" y="2709720"/>
                    <a:ext cx="61920" cy="637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8" name=""/>
                  <p:cNvSpPr/>
                  <p:nvPr/>
                </p:nvSpPr>
                <p:spPr>
                  <a:xfrm>
                    <a:off x="6602400" y="2709720"/>
                    <a:ext cx="4104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9" name=""/>
                  <p:cNvSpPr/>
                  <p:nvPr/>
                </p:nvSpPr>
                <p:spPr>
                  <a:xfrm>
                    <a:off x="6622920" y="2751120"/>
                    <a:ext cx="604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0" name=""/>
                  <p:cNvSpPr/>
                  <p:nvPr/>
                </p:nvSpPr>
                <p:spPr>
                  <a:xfrm>
                    <a:off x="6622920" y="2751120"/>
                    <a:ext cx="4140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1" name=""/>
                  <p:cNvSpPr/>
                  <p:nvPr/>
                </p:nvSpPr>
                <p:spPr>
                  <a:xfrm>
                    <a:off x="6622920" y="2773440"/>
                    <a:ext cx="6048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2" name=""/>
                  <p:cNvSpPr/>
                  <p:nvPr/>
                </p:nvSpPr>
                <p:spPr>
                  <a:xfrm>
                    <a:off x="6622920" y="2773440"/>
                    <a:ext cx="4140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3" name=""/>
                  <p:cNvSpPr/>
                  <p:nvPr/>
                </p:nvSpPr>
                <p:spPr>
                  <a:xfrm>
                    <a:off x="6643440" y="2813040"/>
                    <a:ext cx="5904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4" name=""/>
                  <p:cNvSpPr/>
                  <p:nvPr/>
                </p:nvSpPr>
                <p:spPr>
                  <a:xfrm>
                    <a:off x="6643440" y="2813040"/>
                    <a:ext cx="399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5" name=""/>
                  <p:cNvSpPr/>
                  <p:nvPr/>
                </p:nvSpPr>
                <p:spPr>
                  <a:xfrm>
                    <a:off x="6664320" y="2773440"/>
                    <a:ext cx="5688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6" name=""/>
                  <p:cNvSpPr/>
                  <p:nvPr/>
                </p:nvSpPr>
                <p:spPr>
                  <a:xfrm>
                    <a:off x="6664320" y="2773440"/>
                    <a:ext cx="38160" cy="396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7" name=""/>
                  <p:cNvSpPr/>
                  <p:nvPr/>
                </p:nvSpPr>
                <p:spPr>
                  <a:xfrm>
                    <a:off x="6683400" y="281304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8" name=""/>
                  <p:cNvSpPr/>
                  <p:nvPr/>
                </p:nvSpPr>
                <p:spPr>
                  <a:xfrm>
                    <a:off x="6683400" y="2813040"/>
                    <a:ext cx="3780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9" name=""/>
                  <p:cNvSpPr/>
                  <p:nvPr/>
                </p:nvSpPr>
                <p:spPr>
                  <a:xfrm>
                    <a:off x="6742080" y="2854440"/>
                    <a:ext cx="5868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0" name=""/>
                  <p:cNvSpPr/>
                  <p:nvPr/>
                </p:nvSpPr>
                <p:spPr>
                  <a:xfrm>
                    <a:off x="6742080" y="2854440"/>
                    <a:ext cx="3816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1" name=""/>
                  <p:cNvSpPr/>
                  <p:nvPr/>
                </p:nvSpPr>
                <p:spPr>
                  <a:xfrm>
                    <a:off x="6800760" y="2978280"/>
                    <a:ext cx="6012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2" name=""/>
                  <p:cNvSpPr/>
                  <p:nvPr/>
                </p:nvSpPr>
                <p:spPr>
                  <a:xfrm>
                    <a:off x="6800760" y="2978280"/>
                    <a:ext cx="41400" cy="410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3" name=""/>
                  <p:cNvSpPr/>
                  <p:nvPr/>
                </p:nvSpPr>
                <p:spPr>
                  <a:xfrm>
                    <a:off x="6860880" y="3184560"/>
                    <a:ext cx="59040" cy="601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4" name=""/>
                  <p:cNvSpPr/>
                  <p:nvPr/>
                </p:nvSpPr>
                <p:spPr>
                  <a:xfrm>
                    <a:off x="6860880" y="3184560"/>
                    <a:ext cx="3816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5" name=""/>
                  <p:cNvSpPr/>
                  <p:nvPr/>
                </p:nvSpPr>
                <p:spPr>
                  <a:xfrm>
                    <a:off x="6919920" y="3060720"/>
                    <a:ext cx="58680" cy="6048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6" name=""/>
                  <p:cNvSpPr/>
                  <p:nvPr/>
                </p:nvSpPr>
                <p:spPr>
                  <a:xfrm>
                    <a:off x="6957720" y="3141720"/>
                    <a:ext cx="59040" cy="6336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7" name=""/>
                  <p:cNvSpPr/>
                  <p:nvPr/>
                </p:nvSpPr>
                <p:spPr>
                  <a:xfrm>
                    <a:off x="6957720" y="3141720"/>
                    <a:ext cx="39960" cy="4284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8" name=""/>
                  <p:cNvSpPr/>
                  <p:nvPr/>
                </p:nvSpPr>
                <p:spPr>
                  <a:xfrm>
                    <a:off x="7016760" y="3100320"/>
                    <a:ext cx="60120" cy="61920"/>
                  </a:xfrm>
                  <a:prstGeom prst="rect">
                    <a:avLst/>
                  </a:prstGeom>
                  <a:solidFill>
                    <a:srgbClr val="7ff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9" name=""/>
                  <p:cNvSpPr/>
                  <p:nvPr/>
                </p:nvSpPr>
                <p:spPr>
                  <a:xfrm>
                    <a:off x="7016760" y="3100320"/>
                    <a:ext cx="41040" cy="41400"/>
                  </a:xfrm>
                  <a:prstGeom prst="rect">
                    <a:avLst/>
                  </a:prstGeom>
                  <a:noFill/>
                  <a:ln w="20520">
                    <a:solidFill>
                      <a:srgbClr val="7ffd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40" name=""/>
                <p:cNvGrpSpPr/>
                <p:nvPr/>
              </p:nvGrpSpPr>
              <p:grpSpPr>
                <a:xfrm>
                  <a:off x="5078880" y="1401840"/>
                  <a:ext cx="686520" cy="1861920"/>
                  <a:chOff x="5078880" y="1401840"/>
                  <a:chExt cx="686520" cy="1861920"/>
                </a:xfrm>
              </p:grpSpPr>
              <p:sp>
                <p:nvSpPr>
                  <p:cNvPr id="5941" name=""/>
                  <p:cNvSpPr/>
                  <p:nvPr/>
                </p:nvSpPr>
                <p:spPr>
                  <a:xfrm>
                    <a:off x="5078880" y="3035160"/>
                    <a:ext cx="6865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fcf305"/>
                        </a:solidFill>
                        <a:latin typeface="Trebuchet MS"/>
                      </a:rPr>
                      <a:t>0.0001</a:t>
                    </a:r>
                    <a:endParaRPr b="0" lang="en-US" sz="15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2" name=""/>
                  <p:cNvSpPr/>
                  <p:nvPr/>
                </p:nvSpPr>
                <p:spPr>
                  <a:xfrm>
                    <a:off x="5185800" y="2500200"/>
                    <a:ext cx="5724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fcf305"/>
                        </a:solidFill>
                        <a:latin typeface="Trebuchet MS"/>
                      </a:rPr>
                      <a:t>0.001</a:t>
                    </a:r>
                    <a:endParaRPr b="0" lang="en-US" sz="15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3" name=""/>
                  <p:cNvSpPr/>
                  <p:nvPr/>
                </p:nvSpPr>
                <p:spPr>
                  <a:xfrm>
                    <a:off x="5293080" y="1940040"/>
                    <a:ext cx="457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fcf305"/>
                        </a:solidFill>
                        <a:latin typeface="Trebuchet MS"/>
                      </a:rPr>
                      <a:t>0.01</a:t>
                    </a:r>
                    <a:endParaRPr b="0" lang="en-US" sz="15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4" name=""/>
                  <p:cNvSpPr/>
                  <p:nvPr/>
                </p:nvSpPr>
                <p:spPr>
                  <a:xfrm>
                    <a:off x="5400360" y="1401840"/>
                    <a:ext cx="34380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fcf305"/>
                        </a:solidFill>
                        <a:latin typeface="Trebuchet MS"/>
                      </a:rPr>
                      <a:t>0.1</a:t>
                    </a:r>
                    <a:endParaRPr b="0" lang="en-US" sz="15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945" name=""/>
            <p:cNvSpPr/>
            <p:nvPr/>
          </p:nvSpPr>
          <p:spPr>
            <a:xfrm>
              <a:off x="6489000" y="640080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rebuchet MS"/>
                </a:rPr>
                <a:t>Time (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 rot="16216800">
              <a:off x="2382840" y="3405240"/>
              <a:ext cx="47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rebuchet MS"/>
                </a:rPr>
                <a:t>Normalized Concentration (ml</a:t>
              </a:r>
              <a:r>
                <a:rPr b="0" lang="en-US" sz="2000" spc="-1" strike="noStrike" baseline="30000">
                  <a:solidFill>
                    <a:srgbClr val="ffff66"/>
                  </a:solidFill>
                  <a:latin typeface="Trebuchet MS"/>
                </a:rPr>
                <a:t>–1</a:t>
              </a:r>
              <a:r>
                <a:rPr b="0" lang="en-US" sz="2000" spc="-1" strike="noStrike">
                  <a:solidFill>
                    <a:srgbClr val="ffff66"/>
                  </a:solidFill>
                  <a:latin typeface="Trebuchet MS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47" name=""/>
            <p:cNvGrpSpPr/>
            <p:nvPr/>
          </p:nvGrpSpPr>
          <p:grpSpPr>
            <a:xfrm>
              <a:off x="5791320" y="76320"/>
              <a:ext cx="2164680" cy="1137960"/>
              <a:chOff x="5791320" y="76320"/>
              <a:chExt cx="2164680" cy="1137960"/>
            </a:xfrm>
          </p:grpSpPr>
          <p:sp>
            <p:nvSpPr>
              <p:cNvPr id="5948" name=""/>
              <p:cNvSpPr/>
              <p:nvPr/>
            </p:nvSpPr>
            <p:spPr>
              <a:xfrm>
                <a:off x="6157800" y="169920"/>
                <a:ext cx="68400" cy="67680"/>
              </a:xfrm>
              <a:prstGeom prst="rect">
                <a:avLst/>
              </a:prstGeom>
              <a:solidFill>
                <a:srgbClr val="7f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5791320" y="76320"/>
                <a:ext cx="2057400" cy="1137960"/>
              </a:xfrm>
              <a:prstGeom prst="rect">
                <a:avLst/>
              </a:prstGeom>
              <a:noFill/>
              <a:ln w="2052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6157800" y="461880"/>
                <a:ext cx="68400" cy="68040"/>
              </a:xfrm>
              <a:prstGeom prst="ellipse">
                <a:avLst/>
              </a:prstGeom>
              <a:solidFill>
                <a:srgbClr val="27fc20"/>
              </a:solidFill>
              <a:ln w="2052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6384240" y="401400"/>
                <a:ext cx="11667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27fc20"/>
                    </a:solidFill>
                    <a:latin typeface="Trebuchet MS"/>
                  </a:rPr>
                  <a:t>Hippurate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6414840" y="122040"/>
                <a:ext cx="10371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7ffdff"/>
                    </a:solidFill>
                    <a:latin typeface="Trebuchet MS"/>
                  </a:rPr>
                  <a:t>Benzoate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5907240" y="793800"/>
                <a:ext cx="523800" cy="1080"/>
              </a:xfrm>
              <a:prstGeom prst="line">
                <a:avLst/>
              </a:prstGeom>
              <a:ln w="12600">
                <a:solidFill>
                  <a:srgbClr val="7ff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6301080" y="658800"/>
                <a:ext cx="1555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7ffdff"/>
                    </a:solidFill>
                    <a:latin typeface="Trebuchet MS"/>
                  </a:rPr>
                  <a:t>Benzoate fit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5907240" y="1022400"/>
                <a:ext cx="523800" cy="108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6271200" y="887400"/>
                <a:ext cx="1684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27fc20"/>
                    </a:solidFill>
                    <a:latin typeface="Trebuchet MS"/>
                  </a:rPr>
                  <a:t>Hippurate fit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5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7" name=""/>
          <p:cNvSpPr/>
          <p:nvPr/>
        </p:nvSpPr>
        <p:spPr>
          <a:xfrm>
            <a:off x="2797200" y="243000"/>
            <a:ext cx="4048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58" name=""/>
          <p:cNvGrpSpPr/>
          <p:nvPr/>
        </p:nvGrpSpPr>
        <p:grpSpPr>
          <a:xfrm>
            <a:off x="457200" y="1523880"/>
            <a:ext cx="3290760" cy="5004000"/>
            <a:chOff x="457200" y="1523880"/>
            <a:chExt cx="3290760" cy="5004000"/>
          </a:xfrm>
        </p:grpSpPr>
        <p:sp>
          <p:nvSpPr>
            <p:cNvPr id="5959" name=""/>
            <p:cNvSpPr/>
            <p:nvPr/>
          </p:nvSpPr>
          <p:spPr>
            <a:xfrm>
              <a:off x="695160" y="2327400"/>
              <a:ext cx="2813040" cy="4200480"/>
            </a:xfrm>
            <a:prstGeom prst="rect">
              <a:avLst/>
            </a:prstGeom>
            <a:noFill/>
            <a:ln w="50760">
              <a:solidFill>
                <a:srgbClr val="ccccff"/>
              </a:solidFill>
              <a:miter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457200" y="1523880"/>
              <a:ext cx="329076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Trebuchet MS"/>
                </a:rPr>
                <a:t>Compartmenta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61" name=""/>
            <p:cNvGrpSpPr/>
            <p:nvPr/>
          </p:nvGrpSpPr>
          <p:grpSpPr>
            <a:xfrm>
              <a:off x="958680" y="3094200"/>
              <a:ext cx="2285640" cy="753840"/>
              <a:chOff x="958680" y="3094200"/>
              <a:chExt cx="2285640" cy="753840"/>
            </a:xfrm>
          </p:grpSpPr>
          <p:grpSp>
            <p:nvGrpSpPr>
              <p:cNvPr id="5962" name=""/>
              <p:cNvGrpSpPr/>
              <p:nvPr/>
            </p:nvGrpSpPr>
            <p:grpSpPr>
              <a:xfrm>
                <a:off x="1713240" y="3364920"/>
                <a:ext cx="748440" cy="211680"/>
                <a:chOff x="1713240" y="3364920"/>
                <a:chExt cx="748440" cy="211680"/>
              </a:xfrm>
            </p:grpSpPr>
            <p:sp>
              <p:nvSpPr>
                <p:cNvPr id="5963" name=""/>
                <p:cNvSpPr/>
                <p:nvPr/>
              </p:nvSpPr>
              <p:spPr>
                <a:xfrm>
                  <a:off x="1713240" y="3364920"/>
                  <a:ext cx="74844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4" name=""/>
                <p:cNvSpPr/>
                <p:nvPr/>
              </p:nvSpPr>
              <p:spPr>
                <a:xfrm>
                  <a:off x="1713240" y="3576600"/>
                  <a:ext cx="74844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5" name=""/>
              <p:cNvSpPr/>
              <p:nvPr/>
            </p:nvSpPr>
            <p:spPr>
              <a:xfrm>
                <a:off x="958680" y="3094200"/>
                <a:ext cx="646920" cy="753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2597400" y="3094200"/>
                <a:ext cx="646920" cy="753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67" name=""/>
          <p:cNvGrpSpPr/>
          <p:nvPr/>
        </p:nvGrpSpPr>
        <p:grpSpPr>
          <a:xfrm>
            <a:off x="1066320" y="4419720"/>
            <a:ext cx="2071080" cy="1623960"/>
            <a:chOff x="1066320" y="4419720"/>
            <a:chExt cx="2071080" cy="1623960"/>
          </a:xfrm>
        </p:grpSpPr>
        <p:sp>
          <p:nvSpPr>
            <p:cNvPr id="5968" name=""/>
            <p:cNvSpPr/>
            <p:nvPr/>
          </p:nvSpPr>
          <p:spPr>
            <a:xfrm>
              <a:off x="1066320" y="4419720"/>
              <a:ext cx="48024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7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4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1398240" y="4419720"/>
              <a:ext cx="5137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7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1110960" y="5238720"/>
              <a:ext cx="48024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7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4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1442520" y="5238720"/>
              <a:ext cx="34740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7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4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1163520" y="5218200"/>
              <a:ext cx="541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1721160" y="4791240"/>
              <a:ext cx="65700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7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4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2192400" y="4791240"/>
              <a:ext cx="94500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700" spc="-1" strike="noStrike">
                  <a:solidFill>
                    <a:srgbClr val="ffffff"/>
                  </a:solidFill>
                  <a:latin typeface="Times New Roman"/>
                </a:rPr>
                <a:t>Aq</a:t>
              </a:r>
              <a:endParaRPr b="0" lang="en-US" sz="4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75" name=""/>
          <p:cNvGrpSpPr/>
          <p:nvPr/>
        </p:nvGrpSpPr>
        <p:grpSpPr>
          <a:xfrm>
            <a:off x="4038480" y="1523880"/>
            <a:ext cx="4718160" cy="5004000"/>
            <a:chOff x="4038480" y="1523880"/>
            <a:chExt cx="4718160" cy="5004000"/>
          </a:xfrm>
        </p:grpSpPr>
        <p:grpSp>
          <p:nvGrpSpPr>
            <p:cNvPr id="5976" name=""/>
            <p:cNvGrpSpPr/>
            <p:nvPr/>
          </p:nvGrpSpPr>
          <p:grpSpPr>
            <a:xfrm>
              <a:off x="4154400" y="2903400"/>
              <a:ext cx="4484880" cy="1109880"/>
              <a:chOff x="4154400" y="2903400"/>
              <a:chExt cx="4484880" cy="1109880"/>
            </a:xfrm>
          </p:grpSpPr>
          <p:grpSp>
            <p:nvGrpSpPr>
              <p:cNvPr id="5977" name=""/>
              <p:cNvGrpSpPr/>
              <p:nvPr/>
            </p:nvGrpSpPr>
            <p:grpSpPr>
              <a:xfrm>
                <a:off x="4613400" y="2903400"/>
                <a:ext cx="3565440" cy="1109880"/>
                <a:chOff x="4613400" y="2903400"/>
                <a:chExt cx="3565440" cy="1109880"/>
              </a:xfrm>
            </p:grpSpPr>
            <p:sp>
              <p:nvSpPr>
                <p:cNvPr id="5978" name=""/>
                <p:cNvSpPr/>
                <p:nvPr/>
              </p:nvSpPr>
              <p:spPr>
                <a:xfrm>
                  <a:off x="4613400" y="2903400"/>
                  <a:ext cx="3565440" cy="543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9" name=""/>
                <p:cNvSpPr/>
                <p:nvPr/>
              </p:nvSpPr>
              <p:spPr>
                <a:xfrm>
                  <a:off x="4613400" y="3470400"/>
                  <a:ext cx="426960" cy="5428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0" name=""/>
                <p:cNvSpPr/>
                <p:nvPr/>
              </p:nvSpPr>
              <p:spPr>
                <a:xfrm>
                  <a:off x="5062680" y="3470400"/>
                  <a:ext cx="425520" cy="5428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1" name=""/>
                <p:cNvSpPr/>
                <p:nvPr/>
              </p:nvSpPr>
              <p:spPr>
                <a:xfrm>
                  <a:off x="5510520" y="3470400"/>
                  <a:ext cx="426960" cy="5428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2" name=""/>
                <p:cNvSpPr/>
                <p:nvPr/>
              </p:nvSpPr>
              <p:spPr>
                <a:xfrm>
                  <a:off x="5958000" y="3470400"/>
                  <a:ext cx="428760" cy="5428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3" name=""/>
                <p:cNvSpPr/>
                <p:nvPr/>
              </p:nvSpPr>
              <p:spPr>
                <a:xfrm>
                  <a:off x="6405840" y="3470400"/>
                  <a:ext cx="428400" cy="5428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4" name=""/>
                <p:cNvSpPr/>
                <p:nvPr/>
              </p:nvSpPr>
              <p:spPr>
                <a:xfrm>
                  <a:off x="6853320" y="3470400"/>
                  <a:ext cx="428760" cy="5428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5" name=""/>
                <p:cNvSpPr/>
                <p:nvPr/>
              </p:nvSpPr>
              <p:spPr>
                <a:xfrm>
                  <a:off x="7302600" y="3470400"/>
                  <a:ext cx="426960" cy="5428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6" name=""/>
                <p:cNvSpPr/>
                <p:nvPr/>
              </p:nvSpPr>
              <p:spPr>
                <a:xfrm>
                  <a:off x="7750440" y="3470400"/>
                  <a:ext cx="428400" cy="5428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7" name=""/>
                <p:cNvSpPr/>
                <p:nvPr/>
              </p:nvSpPr>
              <p:spPr>
                <a:xfrm>
                  <a:off x="477072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8" name=""/>
                <p:cNvSpPr/>
                <p:nvPr/>
              </p:nvSpPr>
              <p:spPr>
                <a:xfrm>
                  <a:off x="488160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9" name=""/>
                <p:cNvSpPr/>
                <p:nvPr/>
              </p:nvSpPr>
              <p:spPr>
                <a:xfrm>
                  <a:off x="521820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0" name=""/>
                <p:cNvSpPr/>
                <p:nvPr/>
              </p:nvSpPr>
              <p:spPr>
                <a:xfrm>
                  <a:off x="533088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1" name=""/>
                <p:cNvSpPr/>
                <p:nvPr/>
              </p:nvSpPr>
              <p:spPr>
                <a:xfrm>
                  <a:off x="566748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2" name=""/>
                <p:cNvSpPr/>
                <p:nvPr/>
              </p:nvSpPr>
              <p:spPr>
                <a:xfrm>
                  <a:off x="577872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3" name=""/>
                <p:cNvSpPr/>
                <p:nvPr/>
              </p:nvSpPr>
              <p:spPr>
                <a:xfrm>
                  <a:off x="611532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4" name=""/>
                <p:cNvSpPr/>
                <p:nvPr/>
              </p:nvSpPr>
              <p:spPr>
                <a:xfrm>
                  <a:off x="622800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5" name=""/>
                <p:cNvSpPr/>
                <p:nvPr/>
              </p:nvSpPr>
              <p:spPr>
                <a:xfrm>
                  <a:off x="656280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6" name=""/>
                <p:cNvSpPr/>
                <p:nvPr/>
              </p:nvSpPr>
              <p:spPr>
                <a:xfrm>
                  <a:off x="667548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7" name=""/>
                <p:cNvSpPr/>
                <p:nvPr/>
              </p:nvSpPr>
              <p:spPr>
                <a:xfrm>
                  <a:off x="701208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8" name=""/>
                <p:cNvSpPr/>
                <p:nvPr/>
              </p:nvSpPr>
              <p:spPr>
                <a:xfrm>
                  <a:off x="712332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9" name=""/>
                <p:cNvSpPr/>
                <p:nvPr/>
              </p:nvSpPr>
              <p:spPr>
                <a:xfrm>
                  <a:off x="745992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0" name=""/>
                <p:cNvSpPr/>
                <p:nvPr/>
              </p:nvSpPr>
              <p:spPr>
                <a:xfrm>
                  <a:off x="757260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1" name=""/>
                <p:cNvSpPr/>
                <p:nvPr/>
              </p:nvSpPr>
              <p:spPr>
                <a:xfrm>
                  <a:off x="790920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2" name=""/>
                <p:cNvSpPr/>
                <p:nvPr/>
              </p:nvSpPr>
              <p:spPr>
                <a:xfrm>
                  <a:off x="8021880" y="3186000"/>
                  <a:ext cx="0" cy="5428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03" name=""/>
              <p:cNvSpPr/>
              <p:nvPr/>
            </p:nvSpPr>
            <p:spPr>
              <a:xfrm>
                <a:off x="4154400" y="3033720"/>
                <a:ext cx="393840" cy="282600"/>
              </a:xfrm>
              <a:prstGeom prst="rightArrow">
                <a:avLst>
                  <a:gd name="adj1" fmla="val 75000"/>
                  <a:gd name="adj2" fmla="val 69688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8245440" y="3033720"/>
                <a:ext cx="393840" cy="282600"/>
              </a:xfrm>
              <a:prstGeom prst="rightArrow">
                <a:avLst>
                  <a:gd name="adj1" fmla="val 75000"/>
                  <a:gd name="adj2" fmla="val 69688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05" name=""/>
            <p:cNvGrpSpPr/>
            <p:nvPr/>
          </p:nvGrpSpPr>
          <p:grpSpPr>
            <a:xfrm>
              <a:off x="4038480" y="1523880"/>
              <a:ext cx="4718160" cy="5004000"/>
              <a:chOff x="4038480" y="1523880"/>
              <a:chExt cx="4718160" cy="5004000"/>
            </a:xfrm>
          </p:grpSpPr>
          <p:sp>
            <p:nvSpPr>
              <p:cNvPr id="6006" name=""/>
              <p:cNvSpPr/>
              <p:nvPr/>
            </p:nvSpPr>
            <p:spPr>
              <a:xfrm>
                <a:off x="4038480" y="2327400"/>
                <a:ext cx="4718160" cy="4200480"/>
              </a:xfrm>
              <a:prstGeom prst="rect">
                <a:avLst/>
              </a:prstGeom>
              <a:noFill/>
              <a:ln w="50760">
                <a:solidFill>
                  <a:srgbClr val="ccccff"/>
                </a:solidFill>
                <a:miter/>
              </a:ln>
              <a:effectLst>
                <a:outerShdw dist="17819" dir="2700000" blurRad="0" rotWithShape="0">
                  <a:srgbClr val="79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5095800" y="1523880"/>
                <a:ext cx="2603520" cy="10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ffff"/>
                    </a:solidFill>
                    <a:latin typeface="Trebuchet MS"/>
                  </a:rPr>
                  <a:t>Distributed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08" name=""/>
          <p:cNvGrpSpPr/>
          <p:nvPr/>
        </p:nvGrpSpPr>
        <p:grpSpPr>
          <a:xfrm>
            <a:off x="4647960" y="4621320"/>
            <a:ext cx="3486960" cy="1549800"/>
            <a:chOff x="4647960" y="4621320"/>
            <a:chExt cx="3486960" cy="1549800"/>
          </a:xfrm>
        </p:grpSpPr>
        <p:sp>
          <p:nvSpPr>
            <p:cNvPr id="6009" name=""/>
            <p:cNvSpPr/>
            <p:nvPr/>
          </p:nvSpPr>
          <p:spPr>
            <a:xfrm>
              <a:off x="4647960" y="4621320"/>
              <a:ext cx="4802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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4912200" y="4621320"/>
              <a:ext cx="4298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4690440" y="5411880"/>
              <a:ext cx="4802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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4953960" y="5411880"/>
              <a:ext cx="33696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4757400" y="5386320"/>
              <a:ext cx="469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5279040" y="4992840"/>
              <a:ext cx="50760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5666400" y="4992840"/>
              <a:ext cx="7408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6243120" y="4621320"/>
              <a:ext cx="4802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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6506280" y="4621320"/>
              <a:ext cx="4298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6243120" y="5411880"/>
              <a:ext cx="4802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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6506280" y="5411880"/>
              <a:ext cx="4298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6351480" y="5386320"/>
              <a:ext cx="469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6856560" y="4992840"/>
              <a:ext cx="62640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7301160" y="4992840"/>
              <a:ext cx="83376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Ac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Mass Transfer Systems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" dur="500"/>
                                        <p:tgtEl>
                                          <p:spTgt spid="5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5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5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6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4" name=""/>
          <p:cNvGrpSpPr/>
          <p:nvPr/>
        </p:nvGrpSpPr>
        <p:grpSpPr>
          <a:xfrm>
            <a:off x="855720" y="514440"/>
            <a:ext cx="7388640" cy="2142000"/>
            <a:chOff x="855720" y="514440"/>
            <a:chExt cx="7388640" cy="2142000"/>
          </a:xfrm>
        </p:grpSpPr>
        <p:sp>
          <p:nvSpPr>
            <p:cNvPr id="6025" name=""/>
            <p:cNvSpPr/>
            <p:nvPr/>
          </p:nvSpPr>
          <p:spPr>
            <a:xfrm>
              <a:off x="855720" y="144288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1112760" y="1465200"/>
              <a:ext cx="157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1828800" y="6080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1931040" y="58572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2037960" y="6984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3312720" y="5857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4579200" y="58572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4685760" y="6984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6047640" y="5857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7394040" y="5857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1945800" y="10033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3195360" y="10252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3297960" y="100332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3404880" y="11160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4681080" y="10033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6047640" y="10033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7314480" y="100332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7421400" y="11160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52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1845720" y="142056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1950480" y="15336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3312720" y="142056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4223160" y="14428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4388040" y="142056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4494960" y="15336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4743720" y="1442880"/>
              <a:ext cx="157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4922640" y="142056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5029560" y="15336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34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4316760" y="13888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5215320" y="138888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5947920" y="142056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6053040" y="15336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4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7394040" y="142056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1945800" y="18367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3312720" y="18367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4579200" y="183672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4685760" y="19494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34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5569560" y="18590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5756040" y="183672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5862240" y="19494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4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6113160" y="1859040"/>
              <a:ext cx="157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6289560" y="183672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6396480" y="19494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45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5684760" y="18050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6602400" y="18050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7394040" y="18367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1945800" y="22478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3212640" y="224784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3317040" y="23670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4681080" y="22478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5947920" y="224784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6053040" y="23670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45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7275960" y="22701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7379640" y="2247840"/>
              <a:ext cx="12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7507080" y="236700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</a:rPr>
                <a:t>52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1329120" y="514440"/>
              <a:ext cx="235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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1278720" y="2320920"/>
              <a:ext cx="235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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1278720" y="747720"/>
              <a:ext cx="235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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1278720" y="974520"/>
              <a:ext cx="235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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1278720" y="1208160"/>
              <a:ext cx="235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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1278720" y="1442880"/>
              <a:ext cx="235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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1278720" y="1670040"/>
              <a:ext cx="235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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1278720" y="1903320"/>
              <a:ext cx="235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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1278720" y="2131920"/>
              <a:ext cx="235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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8007480" y="514440"/>
              <a:ext cx="235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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8008920" y="2320920"/>
              <a:ext cx="235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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8008920" y="747720"/>
              <a:ext cx="235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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8008920" y="974520"/>
              <a:ext cx="235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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8008920" y="1208160"/>
              <a:ext cx="235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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8008920" y="1442880"/>
              <a:ext cx="235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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8008920" y="1670040"/>
              <a:ext cx="235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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8008920" y="1903320"/>
              <a:ext cx="235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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8008920" y="2131920"/>
              <a:ext cx="235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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97" name=""/>
          <p:cNvSpPr/>
          <p:nvPr/>
        </p:nvSpPr>
        <p:spPr>
          <a:xfrm>
            <a:off x="1660680" y="4535640"/>
            <a:ext cx="279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8" name=""/>
          <p:cNvSpPr/>
          <p:nvPr/>
        </p:nvSpPr>
        <p:spPr>
          <a:xfrm>
            <a:off x="1976040" y="4559400"/>
            <a:ext cx="22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9" name=""/>
          <p:cNvSpPr/>
          <p:nvPr/>
        </p:nvSpPr>
        <p:spPr>
          <a:xfrm>
            <a:off x="2369880" y="295596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0" name=""/>
          <p:cNvSpPr/>
          <p:nvPr/>
        </p:nvSpPr>
        <p:spPr>
          <a:xfrm>
            <a:off x="2530440" y="297972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1" name=""/>
          <p:cNvSpPr/>
          <p:nvPr/>
        </p:nvSpPr>
        <p:spPr>
          <a:xfrm>
            <a:off x="2716920" y="2979720"/>
            <a:ext cx="157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2" name=""/>
          <p:cNvSpPr/>
          <p:nvPr/>
        </p:nvSpPr>
        <p:spPr>
          <a:xfrm>
            <a:off x="2878200" y="3073320"/>
            <a:ext cx="24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Suc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3" name=""/>
          <p:cNvSpPr/>
          <p:nvPr/>
        </p:nvSpPr>
        <p:spPr>
          <a:xfrm>
            <a:off x="2439720" y="334476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4" name=""/>
          <p:cNvSpPr/>
          <p:nvPr/>
        </p:nvSpPr>
        <p:spPr>
          <a:xfrm>
            <a:off x="2598840" y="336852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5" name=""/>
          <p:cNvSpPr/>
          <p:nvPr/>
        </p:nvSpPr>
        <p:spPr>
          <a:xfrm>
            <a:off x="2784960" y="3368520"/>
            <a:ext cx="157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6" name=""/>
          <p:cNvSpPr/>
          <p:nvPr/>
        </p:nvSpPr>
        <p:spPr>
          <a:xfrm>
            <a:off x="2945880" y="346248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7" name=""/>
          <p:cNvSpPr/>
          <p:nvPr/>
        </p:nvSpPr>
        <p:spPr>
          <a:xfrm>
            <a:off x="2292480" y="3344760"/>
            <a:ext cx="777600" cy="18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8" name=""/>
          <p:cNvSpPr/>
          <p:nvPr/>
        </p:nvSpPr>
        <p:spPr>
          <a:xfrm>
            <a:off x="3787560" y="31417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9" name=""/>
          <p:cNvSpPr/>
          <p:nvPr/>
        </p:nvSpPr>
        <p:spPr>
          <a:xfrm>
            <a:off x="4862160" y="31417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0" name=""/>
          <p:cNvSpPr/>
          <p:nvPr/>
        </p:nvSpPr>
        <p:spPr>
          <a:xfrm>
            <a:off x="5959080" y="31417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1" name=""/>
          <p:cNvSpPr/>
          <p:nvPr/>
        </p:nvSpPr>
        <p:spPr>
          <a:xfrm>
            <a:off x="7033680" y="31417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2" name=""/>
          <p:cNvSpPr/>
          <p:nvPr/>
        </p:nvSpPr>
        <p:spPr>
          <a:xfrm>
            <a:off x="2712600" y="38005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3" name=""/>
          <p:cNvSpPr/>
          <p:nvPr/>
        </p:nvSpPr>
        <p:spPr>
          <a:xfrm>
            <a:off x="3444480" y="364176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4" name=""/>
          <p:cNvSpPr/>
          <p:nvPr/>
        </p:nvSpPr>
        <p:spPr>
          <a:xfrm>
            <a:off x="3627360" y="366552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5" name=""/>
          <p:cNvSpPr/>
          <p:nvPr/>
        </p:nvSpPr>
        <p:spPr>
          <a:xfrm>
            <a:off x="3790080" y="3665520"/>
            <a:ext cx="157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6" name=""/>
          <p:cNvSpPr/>
          <p:nvPr/>
        </p:nvSpPr>
        <p:spPr>
          <a:xfrm>
            <a:off x="3951360" y="3759120"/>
            <a:ext cx="247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Suc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7" name=""/>
          <p:cNvSpPr/>
          <p:nvPr/>
        </p:nvSpPr>
        <p:spPr>
          <a:xfrm>
            <a:off x="3512880" y="403056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8" name=""/>
          <p:cNvSpPr/>
          <p:nvPr/>
        </p:nvSpPr>
        <p:spPr>
          <a:xfrm>
            <a:off x="3673440" y="4054320"/>
            <a:ext cx="163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>
            <a:off x="3859920" y="4054320"/>
            <a:ext cx="157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>
            <a:off x="4014720" y="41418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>
            <a:off x="3367080" y="4030560"/>
            <a:ext cx="800280" cy="18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2" name=""/>
          <p:cNvSpPr/>
          <p:nvPr/>
        </p:nvSpPr>
        <p:spPr>
          <a:xfrm>
            <a:off x="4862160" y="38005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3" name=""/>
          <p:cNvSpPr/>
          <p:nvPr/>
        </p:nvSpPr>
        <p:spPr>
          <a:xfrm>
            <a:off x="5959080" y="38005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4" name=""/>
          <p:cNvSpPr/>
          <p:nvPr/>
        </p:nvSpPr>
        <p:spPr>
          <a:xfrm>
            <a:off x="7033680" y="38005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5" name=""/>
          <p:cNvSpPr/>
          <p:nvPr/>
        </p:nvSpPr>
        <p:spPr>
          <a:xfrm>
            <a:off x="2712600" y="44863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6" name=""/>
          <p:cNvSpPr/>
          <p:nvPr/>
        </p:nvSpPr>
        <p:spPr>
          <a:xfrm>
            <a:off x="3787560" y="44863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7" name=""/>
          <p:cNvSpPr/>
          <p:nvPr/>
        </p:nvSpPr>
        <p:spPr>
          <a:xfrm>
            <a:off x="4862160" y="44863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8" name=""/>
          <p:cNvSpPr/>
          <p:nvPr/>
        </p:nvSpPr>
        <p:spPr>
          <a:xfrm>
            <a:off x="5959080" y="44863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9" name=""/>
          <p:cNvSpPr/>
          <p:nvPr/>
        </p:nvSpPr>
        <p:spPr>
          <a:xfrm>
            <a:off x="7033680" y="44863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0" name=""/>
          <p:cNvSpPr/>
          <p:nvPr/>
        </p:nvSpPr>
        <p:spPr>
          <a:xfrm>
            <a:off x="2712600" y="51721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1" name=""/>
          <p:cNvSpPr/>
          <p:nvPr/>
        </p:nvSpPr>
        <p:spPr>
          <a:xfrm>
            <a:off x="3787560" y="51721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2" name=""/>
          <p:cNvSpPr/>
          <p:nvPr/>
        </p:nvSpPr>
        <p:spPr>
          <a:xfrm>
            <a:off x="4862160" y="51721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3" name=""/>
          <p:cNvSpPr/>
          <p:nvPr/>
        </p:nvSpPr>
        <p:spPr>
          <a:xfrm>
            <a:off x="5959080" y="51721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4" name=""/>
          <p:cNvSpPr/>
          <p:nvPr/>
        </p:nvSpPr>
        <p:spPr>
          <a:xfrm>
            <a:off x="7033680" y="51721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5" name=""/>
          <p:cNvSpPr/>
          <p:nvPr/>
        </p:nvSpPr>
        <p:spPr>
          <a:xfrm>
            <a:off x="2712600" y="58561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6" name=""/>
          <p:cNvSpPr/>
          <p:nvPr/>
        </p:nvSpPr>
        <p:spPr>
          <a:xfrm>
            <a:off x="3787560" y="58561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7" name=""/>
          <p:cNvSpPr/>
          <p:nvPr/>
        </p:nvSpPr>
        <p:spPr>
          <a:xfrm>
            <a:off x="4862160" y="58561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8" name=""/>
          <p:cNvSpPr/>
          <p:nvPr/>
        </p:nvSpPr>
        <p:spPr>
          <a:xfrm>
            <a:off x="5959080" y="58561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9" name=""/>
          <p:cNvSpPr/>
          <p:nvPr/>
        </p:nvSpPr>
        <p:spPr>
          <a:xfrm>
            <a:off x="7033680" y="58561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0" name=""/>
          <p:cNvSpPr/>
          <p:nvPr/>
        </p:nvSpPr>
        <p:spPr>
          <a:xfrm>
            <a:off x="2288160" y="295740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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1" name=""/>
          <p:cNvSpPr/>
          <p:nvPr/>
        </p:nvSpPr>
        <p:spPr>
          <a:xfrm>
            <a:off x="2208960" y="611172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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2" name=""/>
          <p:cNvSpPr/>
          <p:nvPr/>
        </p:nvSpPr>
        <p:spPr>
          <a:xfrm>
            <a:off x="2208960" y="318780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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3" name=""/>
          <p:cNvSpPr/>
          <p:nvPr/>
        </p:nvSpPr>
        <p:spPr>
          <a:xfrm>
            <a:off x="2208960" y="341316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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4" name=""/>
          <p:cNvSpPr/>
          <p:nvPr/>
        </p:nvSpPr>
        <p:spPr>
          <a:xfrm>
            <a:off x="2208960" y="364320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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5" name=""/>
          <p:cNvSpPr/>
          <p:nvPr/>
        </p:nvSpPr>
        <p:spPr>
          <a:xfrm>
            <a:off x="2208960" y="387360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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6" name=""/>
          <p:cNvSpPr/>
          <p:nvPr/>
        </p:nvSpPr>
        <p:spPr>
          <a:xfrm>
            <a:off x="2208960" y="409896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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7" name=""/>
          <p:cNvSpPr/>
          <p:nvPr/>
        </p:nvSpPr>
        <p:spPr>
          <a:xfrm>
            <a:off x="2208960" y="432900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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8" name=""/>
          <p:cNvSpPr/>
          <p:nvPr/>
        </p:nvSpPr>
        <p:spPr>
          <a:xfrm>
            <a:off x="2208960" y="455940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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9" name=""/>
          <p:cNvSpPr/>
          <p:nvPr/>
        </p:nvSpPr>
        <p:spPr>
          <a:xfrm>
            <a:off x="2208960" y="478296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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0" name=""/>
          <p:cNvSpPr/>
          <p:nvPr/>
        </p:nvSpPr>
        <p:spPr>
          <a:xfrm>
            <a:off x="2208960" y="501480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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1" name=""/>
          <p:cNvSpPr/>
          <p:nvPr/>
        </p:nvSpPr>
        <p:spPr>
          <a:xfrm>
            <a:off x="2208960" y="524520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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2" name=""/>
          <p:cNvSpPr/>
          <p:nvPr/>
        </p:nvSpPr>
        <p:spPr>
          <a:xfrm>
            <a:off x="2208960" y="546876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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3" name=""/>
          <p:cNvSpPr/>
          <p:nvPr/>
        </p:nvSpPr>
        <p:spPr>
          <a:xfrm>
            <a:off x="2208960" y="569916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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4" name=""/>
          <p:cNvSpPr/>
          <p:nvPr/>
        </p:nvSpPr>
        <p:spPr>
          <a:xfrm>
            <a:off x="2208960" y="592452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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5" name=""/>
          <p:cNvSpPr/>
          <p:nvPr/>
        </p:nvSpPr>
        <p:spPr>
          <a:xfrm>
            <a:off x="7488720" y="295740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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6" name=""/>
          <p:cNvSpPr/>
          <p:nvPr/>
        </p:nvSpPr>
        <p:spPr>
          <a:xfrm>
            <a:off x="7488720" y="611172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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7" name=""/>
          <p:cNvSpPr/>
          <p:nvPr/>
        </p:nvSpPr>
        <p:spPr>
          <a:xfrm>
            <a:off x="7488720" y="318780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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7488720" y="341316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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9" name=""/>
          <p:cNvSpPr/>
          <p:nvPr/>
        </p:nvSpPr>
        <p:spPr>
          <a:xfrm>
            <a:off x="7488720" y="364320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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0" name=""/>
          <p:cNvSpPr/>
          <p:nvPr/>
        </p:nvSpPr>
        <p:spPr>
          <a:xfrm>
            <a:off x="7488720" y="387360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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1" name=""/>
          <p:cNvSpPr/>
          <p:nvPr/>
        </p:nvSpPr>
        <p:spPr>
          <a:xfrm>
            <a:off x="7488720" y="409896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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2" name=""/>
          <p:cNvSpPr/>
          <p:nvPr/>
        </p:nvSpPr>
        <p:spPr>
          <a:xfrm>
            <a:off x="7488720" y="432900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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3" name=""/>
          <p:cNvSpPr/>
          <p:nvPr/>
        </p:nvSpPr>
        <p:spPr>
          <a:xfrm>
            <a:off x="7488720" y="455940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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4" name=""/>
          <p:cNvSpPr/>
          <p:nvPr/>
        </p:nvSpPr>
        <p:spPr>
          <a:xfrm>
            <a:off x="7488720" y="478296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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5" name=""/>
          <p:cNvSpPr/>
          <p:nvPr/>
        </p:nvSpPr>
        <p:spPr>
          <a:xfrm>
            <a:off x="7488720" y="501480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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6" name=""/>
          <p:cNvSpPr/>
          <p:nvPr/>
        </p:nvSpPr>
        <p:spPr>
          <a:xfrm>
            <a:off x="7488720" y="524520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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7" name=""/>
          <p:cNvSpPr/>
          <p:nvPr/>
        </p:nvSpPr>
        <p:spPr>
          <a:xfrm>
            <a:off x="7488720" y="546876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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8" name=""/>
          <p:cNvSpPr/>
          <p:nvPr/>
        </p:nvSpPr>
        <p:spPr>
          <a:xfrm>
            <a:off x="7488720" y="569916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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9" name=""/>
          <p:cNvSpPr/>
          <p:nvPr/>
        </p:nvSpPr>
        <p:spPr>
          <a:xfrm>
            <a:off x="7488720" y="5924520"/>
            <a:ext cx="2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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0" name=""/>
          <p:cNvSpPr/>
          <p:nvPr/>
        </p:nvSpPr>
        <p:spPr>
          <a:xfrm>
            <a:off x="2262240" y="614520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Unbound Benzoate Concentration (µ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1" name=""/>
          <p:cNvSpPr/>
          <p:nvPr/>
        </p:nvSpPr>
        <p:spPr>
          <a:xfrm rot="16200000">
            <a:off x="-390600" y="2178000"/>
            <a:ext cx="2387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rebuchet MS"/>
              </a:rPr>
              <a:t>13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S (ml s</a:t>
            </a:r>
            <a:r>
              <a:rPr b="0" lang="en-US" sz="2000" spc="-1" strike="noStrike" baseline="30000">
                <a:solidFill>
                  <a:srgbClr val="ffff00"/>
                </a:solidFill>
                <a:latin typeface="Trebuchet MS"/>
              </a:rPr>
              <a:t>–1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 g</a:t>
            </a:r>
            <a:r>
              <a:rPr b="0" lang="en-US" sz="2000" spc="-1" strike="noStrike" baseline="30000">
                <a:solidFill>
                  <a:srgbClr val="ffff00"/>
                </a:solidFill>
                <a:latin typeface="Trebuchet MS"/>
              </a:rPr>
              <a:t>–1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2" name=""/>
          <p:cNvSpPr/>
          <p:nvPr/>
        </p:nvSpPr>
        <p:spPr>
          <a:xfrm rot="16200000">
            <a:off x="4448880" y="2255040"/>
            <a:ext cx="1232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rebuchet MS"/>
              </a:rPr>
              <a:t>k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rebuchet MS"/>
              </a:rPr>
              <a:t>34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 /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rebuchet M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rebuchet MS"/>
              </a:rPr>
              <a:t>k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rebuchet MS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3" name=""/>
          <p:cNvSpPr/>
          <p:nvPr/>
        </p:nvSpPr>
        <p:spPr>
          <a:xfrm rot="16200000">
            <a:off x="150120" y="4530240"/>
            <a:ext cx="129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rebuchet MS"/>
              </a:rPr>
              <a:t>k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rebuchet MS"/>
              </a:rPr>
              <a:t>45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 (s</a:t>
            </a:r>
            <a:r>
              <a:rPr b="0" lang="en-US" sz="2000" spc="-1" strike="noStrike" baseline="30000">
                <a:solidFill>
                  <a:srgbClr val="ffff00"/>
                </a:solidFill>
                <a:latin typeface="Trebuchet MS"/>
              </a:rPr>
              <a:t>–1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4" name=""/>
          <p:cNvSpPr/>
          <p:nvPr/>
        </p:nvSpPr>
        <p:spPr>
          <a:xfrm rot="16200000">
            <a:off x="3921120" y="4618800"/>
            <a:ext cx="232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rebuchet MS"/>
              </a:rPr>
              <a:t>k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rebuchet MS"/>
              </a:rPr>
              <a:t>34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 /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Trebuchet MS"/>
              </a:rPr>
              <a:t>k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rebuchet MS"/>
              </a:rPr>
              <a:t>43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Trebuchet MS"/>
              </a:rPr>
              <a:t>k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rebuchet MS"/>
              </a:rPr>
              <a:t>45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5" name=""/>
          <p:cNvGrpSpPr/>
          <p:nvPr/>
        </p:nvGrpSpPr>
        <p:grpSpPr>
          <a:xfrm>
            <a:off x="1202040" y="1490760"/>
            <a:ext cx="3242880" cy="2031120"/>
            <a:chOff x="1202040" y="1490760"/>
            <a:chExt cx="3242880" cy="2031120"/>
          </a:xfrm>
        </p:grpSpPr>
        <p:grpSp>
          <p:nvGrpSpPr>
            <p:cNvPr id="6176" name=""/>
            <p:cNvGrpSpPr/>
            <p:nvPr/>
          </p:nvGrpSpPr>
          <p:grpSpPr>
            <a:xfrm>
              <a:off x="1784520" y="1623600"/>
              <a:ext cx="2435040" cy="714960"/>
              <a:chOff x="1784520" y="1623600"/>
              <a:chExt cx="2435040" cy="714960"/>
            </a:xfrm>
          </p:grpSpPr>
          <p:sp>
            <p:nvSpPr>
              <p:cNvPr id="6177" name=""/>
              <p:cNvSpPr/>
              <p:nvPr/>
            </p:nvSpPr>
            <p:spPr>
              <a:xfrm flipV="1">
                <a:off x="3244680" y="1623600"/>
                <a:ext cx="1800" cy="7308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3214800" y="1623960"/>
                <a:ext cx="5544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3244680" y="1697040"/>
                <a:ext cx="1800" cy="684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3214800" y="1765440"/>
                <a:ext cx="5544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 flipV="1">
                <a:off x="3191040" y="1954080"/>
                <a:ext cx="1440" cy="3672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3166920" y="1954080"/>
                <a:ext cx="5400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3191040" y="1990800"/>
                <a:ext cx="1440" cy="363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3166920" y="2027160"/>
                <a:ext cx="5400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 flipV="1">
                <a:off x="3281400" y="1660320"/>
                <a:ext cx="1440" cy="1220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3251160" y="1660680"/>
                <a:ext cx="5544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3281400" y="1782720"/>
                <a:ext cx="1440" cy="1224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3251160" y="1905120"/>
                <a:ext cx="5544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 flipV="1">
                <a:off x="4195800" y="1746000"/>
                <a:ext cx="1440" cy="7308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4170240" y="1746360"/>
                <a:ext cx="493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4195800" y="1819440"/>
                <a:ext cx="1440" cy="666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4170240" y="1886040"/>
                <a:ext cx="493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 flipV="1">
                <a:off x="2746440" y="2300040"/>
                <a:ext cx="1440" cy="1908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2722680" y="2300400"/>
                <a:ext cx="475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2746440" y="2319480"/>
                <a:ext cx="1440" cy="1728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2722680" y="2336760"/>
                <a:ext cx="4752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 flipV="1">
                <a:off x="2739960" y="1868040"/>
                <a:ext cx="1800" cy="10332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2716200" y="1868400"/>
                <a:ext cx="4752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2739960" y="1971720"/>
                <a:ext cx="1800" cy="10332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2716200" y="2075040"/>
                <a:ext cx="475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 flipV="1">
                <a:off x="1809720" y="1905120"/>
                <a:ext cx="1440" cy="8568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1784520" y="1905120"/>
                <a:ext cx="4896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1809720" y="1990800"/>
                <a:ext cx="1440" cy="842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1784520" y="2075040"/>
                <a:ext cx="4896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 flipV="1">
                <a:off x="1876320" y="1954080"/>
                <a:ext cx="1800" cy="9072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1851120" y="1954080"/>
                <a:ext cx="5544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1876320" y="2044800"/>
                <a:ext cx="1800" cy="8568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1851120" y="2130480"/>
                <a:ext cx="5544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 flipV="1">
                <a:off x="3701880" y="1848960"/>
                <a:ext cx="1800" cy="7308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3678120" y="1849320"/>
                <a:ext cx="4788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3701880" y="1922400"/>
                <a:ext cx="1800" cy="684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3678120" y="1990800"/>
                <a:ext cx="4788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 flipV="1">
                <a:off x="3708360" y="1801800"/>
                <a:ext cx="1800" cy="842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3678120" y="1801800"/>
                <a:ext cx="5400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3708360" y="1886040"/>
                <a:ext cx="1800" cy="8568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3678120" y="1971720"/>
                <a:ext cx="5400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17" name=""/>
            <p:cNvGrpSpPr/>
            <p:nvPr/>
          </p:nvGrpSpPr>
          <p:grpSpPr>
            <a:xfrm>
              <a:off x="1614600" y="1521000"/>
              <a:ext cx="102960" cy="1871640"/>
              <a:chOff x="1614600" y="1521000"/>
              <a:chExt cx="102960" cy="1871640"/>
            </a:xfrm>
          </p:grpSpPr>
          <p:sp>
            <p:nvSpPr>
              <p:cNvPr id="6218" name=""/>
              <p:cNvSpPr/>
              <p:nvPr/>
            </p:nvSpPr>
            <p:spPr>
              <a:xfrm>
                <a:off x="1614600" y="3390840"/>
                <a:ext cx="10296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1614600" y="3049560"/>
                <a:ext cx="10296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1614600" y="2701800"/>
                <a:ext cx="10296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1614600" y="2355840"/>
                <a:ext cx="10296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1614600" y="2008080"/>
                <a:ext cx="10296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1614600" y="1660680"/>
                <a:ext cx="10296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1614600" y="3322800"/>
                <a:ext cx="475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1614600" y="3255840"/>
                <a:ext cx="475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1614600" y="3182760"/>
                <a:ext cx="475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1614600" y="3116160"/>
                <a:ext cx="475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1614600" y="2976480"/>
                <a:ext cx="475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1614600" y="2909880"/>
                <a:ext cx="475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1614600" y="2836800"/>
                <a:ext cx="475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1614600" y="2768760"/>
                <a:ext cx="475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1614600" y="2629080"/>
                <a:ext cx="475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1614600" y="2562120"/>
                <a:ext cx="475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1614600" y="2495520"/>
                <a:ext cx="475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1614600" y="2422440"/>
                <a:ext cx="475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1614600" y="2355840"/>
                <a:ext cx="475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1614600" y="2282760"/>
                <a:ext cx="475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1614600" y="2214720"/>
                <a:ext cx="475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1614600" y="2147760"/>
                <a:ext cx="475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1614600" y="2075040"/>
                <a:ext cx="475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1614600" y="1941480"/>
                <a:ext cx="475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1614600" y="1868400"/>
                <a:ext cx="475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1614600" y="1801800"/>
                <a:ext cx="475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1614600" y="1728720"/>
                <a:ext cx="475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1614600" y="1593720"/>
                <a:ext cx="475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1614600" y="1521000"/>
                <a:ext cx="475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47" name=""/>
            <p:cNvGrpSpPr/>
            <p:nvPr/>
          </p:nvGrpSpPr>
          <p:grpSpPr>
            <a:xfrm>
              <a:off x="1614600" y="3292200"/>
              <a:ext cx="2550960" cy="98280"/>
              <a:chOff x="1614600" y="3292200"/>
              <a:chExt cx="2550960" cy="98280"/>
            </a:xfrm>
          </p:grpSpPr>
          <p:sp>
            <p:nvSpPr>
              <p:cNvPr id="6248" name=""/>
              <p:cNvSpPr/>
              <p:nvPr/>
            </p:nvSpPr>
            <p:spPr>
              <a:xfrm flipV="1">
                <a:off x="2278080" y="3292200"/>
                <a:ext cx="1440" cy="9828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 flipV="1">
                <a:off x="3220920" y="3292200"/>
                <a:ext cx="1800" cy="9828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 flipV="1">
                <a:off x="4164120" y="3292200"/>
                <a:ext cx="1440" cy="9828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 flipV="1">
                <a:off x="1614600" y="3341160"/>
                <a:ext cx="144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 flipV="1">
                <a:off x="1778040" y="3341160"/>
                <a:ext cx="144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 flipV="1">
                <a:off x="1900080" y="3341160"/>
                <a:ext cx="180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 flipV="1">
                <a:off x="1992240" y="3341160"/>
                <a:ext cx="180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 flipV="1">
                <a:off x="2065320" y="3341160"/>
                <a:ext cx="144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 flipV="1">
                <a:off x="2131920" y="3341160"/>
                <a:ext cx="180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 flipV="1">
                <a:off x="2185920" y="3341160"/>
                <a:ext cx="180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 flipV="1">
                <a:off x="2228760" y="3341160"/>
                <a:ext cx="180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 flipV="1">
                <a:off x="2557440" y="3341160"/>
                <a:ext cx="144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 flipV="1">
                <a:off x="2722680" y="3341160"/>
                <a:ext cx="144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 flipV="1">
                <a:off x="2843280" y="3341160"/>
                <a:ext cx="144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 flipV="1">
                <a:off x="2935440" y="3341160"/>
                <a:ext cx="144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 flipV="1">
                <a:off x="3008160" y="3341160"/>
                <a:ext cx="180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 flipV="1">
                <a:off x="3075120" y="3341160"/>
                <a:ext cx="144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 flipV="1">
                <a:off x="3130560" y="3341160"/>
                <a:ext cx="144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 flipV="1">
                <a:off x="3171960" y="3341160"/>
                <a:ext cx="144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 flipV="1">
                <a:off x="3500280" y="3341160"/>
                <a:ext cx="180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 flipV="1">
                <a:off x="3672000" y="3341160"/>
                <a:ext cx="144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 flipV="1">
                <a:off x="3787920" y="3341160"/>
                <a:ext cx="144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 flipV="1">
                <a:off x="3878280" y="3341160"/>
                <a:ext cx="144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 flipV="1">
                <a:off x="3951360" y="3341160"/>
                <a:ext cx="144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 flipV="1">
                <a:off x="4017960" y="3341160"/>
                <a:ext cx="144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 flipV="1">
                <a:off x="4073400" y="3341160"/>
                <a:ext cx="180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 flipV="1">
                <a:off x="4122720" y="3341160"/>
                <a:ext cx="1440" cy="493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75" name=""/>
            <p:cNvSpPr/>
            <p:nvPr/>
          </p:nvSpPr>
          <p:spPr>
            <a:xfrm flipV="1">
              <a:off x="1614600" y="1490760"/>
              <a:ext cx="1440" cy="1900080"/>
            </a:xfrm>
            <a:prstGeom prst="line">
              <a:avLst/>
            </a:prstGeom>
            <a:ln w="19080">
              <a:solidFill>
                <a:srgbClr val="fcff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1614600" y="3390840"/>
              <a:ext cx="2830320" cy="1800"/>
            </a:xfrm>
            <a:prstGeom prst="line">
              <a:avLst/>
            </a:prstGeom>
            <a:ln w="19080">
              <a:solidFill>
                <a:srgbClr val="fcff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3203640" y="1655640"/>
              <a:ext cx="102960" cy="10332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3147840" y="1947960"/>
              <a:ext cx="103320" cy="1029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3240000" y="1739880"/>
              <a:ext cx="103320" cy="10332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4152960" y="1776240"/>
              <a:ext cx="102960" cy="10332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2703600" y="2276640"/>
              <a:ext cx="102960" cy="1029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2697120" y="1928880"/>
              <a:ext cx="103320" cy="1029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1766880" y="1947960"/>
              <a:ext cx="103320" cy="1029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1833480" y="2001960"/>
              <a:ext cx="103320" cy="1029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3659040" y="1879560"/>
              <a:ext cx="103320" cy="1047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3665520" y="1843200"/>
              <a:ext cx="103320" cy="1047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87" name=""/>
            <p:cNvGrpSpPr/>
            <p:nvPr/>
          </p:nvGrpSpPr>
          <p:grpSpPr>
            <a:xfrm>
              <a:off x="1202040" y="1579680"/>
              <a:ext cx="320760" cy="1942200"/>
              <a:chOff x="1202040" y="1579680"/>
              <a:chExt cx="320760" cy="1942200"/>
            </a:xfrm>
          </p:grpSpPr>
          <p:sp>
            <p:nvSpPr>
              <p:cNvPr id="6288" name=""/>
              <p:cNvSpPr/>
              <p:nvPr/>
            </p:nvSpPr>
            <p:spPr>
              <a:xfrm>
                <a:off x="1381680" y="3308400"/>
                <a:ext cx="10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1202040" y="2960640"/>
                <a:ext cx="32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1202040" y="2612880"/>
                <a:ext cx="32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0.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1202040" y="2266920"/>
                <a:ext cx="32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0.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1202040" y="1925640"/>
                <a:ext cx="32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1381680" y="1579680"/>
                <a:ext cx="10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94" name=""/>
          <p:cNvGrpSpPr/>
          <p:nvPr/>
        </p:nvGrpSpPr>
        <p:grpSpPr>
          <a:xfrm>
            <a:off x="5357880" y="1474920"/>
            <a:ext cx="3165480" cy="2058120"/>
            <a:chOff x="5357880" y="1474920"/>
            <a:chExt cx="3165480" cy="2058120"/>
          </a:xfrm>
        </p:grpSpPr>
        <p:grpSp>
          <p:nvGrpSpPr>
            <p:cNvPr id="6295" name=""/>
            <p:cNvGrpSpPr/>
            <p:nvPr/>
          </p:nvGrpSpPr>
          <p:grpSpPr>
            <a:xfrm>
              <a:off x="5862600" y="1509840"/>
              <a:ext cx="2435400" cy="1863720"/>
              <a:chOff x="5862600" y="1509840"/>
              <a:chExt cx="2435400" cy="1863720"/>
            </a:xfrm>
          </p:grpSpPr>
          <p:sp>
            <p:nvSpPr>
              <p:cNvPr id="6296" name=""/>
              <p:cNvSpPr/>
              <p:nvPr/>
            </p:nvSpPr>
            <p:spPr>
              <a:xfrm flipV="1">
                <a:off x="7318440" y="2678040"/>
                <a:ext cx="1440" cy="237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7292880" y="2678040"/>
                <a:ext cx="5580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7318440" y="2701800"/>
                <a:ext cx="1440" cy="255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7292880" y="2727360"/>
                <a:ext cx="5580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 flipV="1">
                <a:off x="7269120" y="2860560"/>
                <a:ext cx="1800" cy="540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7245360" y="2860560"/>
                <a:ext cx="4752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7269120" y="2914560"/>
                <a:ext cx="1800" cy="4932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7245360" y="2963880"/>
                <a:ext cx="475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 flipV="1">
                <a:off x="7359480" y="2727000"/>
                <a:ext cx="1800" cy="414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7329600" y="2727360"/>
                <a:ext cx="5544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7359480" y="2768760"/>
                <a:ext cx="1800" cy="363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7329600" y="2805120"/>
                <a:ext cx="5544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 flipV="1">
                <a:off x="8255160" y="3365280"/>
                <a:ext cx="1440" cy="612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8231040" y="3365640"/>
                <a:ext cx="4788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8231040" y="3371760"/>
                <a:ext cx="4788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 flipV="1">
                <a:off x="8273880" y="3335040"/>
                <a:ext cx="1800" cy="612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8248680" y="3335400"/>
                <a:ext cx="493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8248680" y="3341520"/>
                <a:ext cx="4932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 flipV="1">
                <a:off x="6824520" y="2403360"/>
                <a:ext cx="1800" cy="921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6800760" y="2403360"/>
                <a:ext cx="4788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6824520" y="2495520"/>
                <a:ext cx="1800" cy="903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6800760" y="2585880"/>
                <a:ext cx="4788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 flipV="1">
                <a:off x="6818400" y="2525400"/>
                <a:ext cx="1440" cy="666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6794640" y="2525760"/>
                <a:ext cx="475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6818400" y="2592360"/>
                <a:ext cx="1440" cy="6192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6794640" y="2654280"/>
                <a:ext cx="475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 flipV="1">
                <a:off x="5886360" y="1509840"/>
                <a:ext cx="1800" cy="21888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5862600" y="1509840"/>
                <a:ext cx="493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5886360" y="1728720"/>
                <a:ext cx="1800" cy="2192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5862600" y="1947960"/>
                <a:ext cx="493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 flipV="1">
                <a:off x="5954760" y="2518920"/>
                <a:ext cx="1440" cy="109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5929200" y="2519280"/>
                <a:ext cx="4932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5954760" y="2629080"/>
                <a:ext cx="1440" cy="1155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5929200" y="2744640"/>
                <a:ext cx="4932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 flipV="1">
                <a:off x="7780320" y="3066840"/>
                <a:ext cx="1440" cy="363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7756560" y="3067200"/>
                <a:ext cx="475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7780320" y="3103560"/>
                <a:ext cx="1440" cy="428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7756560" y="3146400"/>
                <a:ext cx="475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 flipV="1">
                <a:off x="7786800" y="3195360"/>
                <a:ext cx="1440" cy="612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7756560" y="3195720"/>
                <a:ext cx="5400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7786800" y="3201840"/>
                <a:ext cx="1440" cy="111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7756560" y="3213000"/>
                <a:ext cx="5400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38" name=""/>
            <p:cNvGrpSpPr/>
            <p:nvPr/>
          </p:nvGrpSpPr>
          <p:grpSpPr>
            <a:xfrm>
              <a:off x="5692680" y="1563840"/>
              <a:ext cx="103320" cy="1839600"/>
              <a:chOff x="5692680" y="1563840"/>
              <a:chExt cx="103320" cy="1839600"/>
            </a:xfrm>
          </p:grpSpPr>
          <p:sp>
            <p:nvSpPr>
              <p:cNvPr id="6339" name=""/>
              <p:cNvSpPr/>
              <p:nvPr/>
            </p:nvSpPr>
            <p:spPr>
              <a:xfrm>
                <a:off x="5692680" y="3402000"/>
                <a:ext cx="1033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5692680" y="2793960"/>
                <a:ext cx="1033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5692680" y="2178000"/>
                <a:ext cx="1033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5692680" y="1563840"/>
                <a:ext cx="1033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5692680" y="3281400"/>
                <a:ext cx="4788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5692680" y="3159000"/>
                <a:ext cx="4788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5692680" y="3036960"/>
                <a:ext cx="4788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>
                <a:off x="5692680" y="2914560"/>
                <a:ext cx="4788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>
                <a:off x="5692680" y="2665440"/>
                <a:ext cx="4788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>
                <a:off x="5692680" y="2543040"/>
                <a:ext cx="4788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>
                <a:off x="5692680" y="2422440"/>
                <a:ext cx="4788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5692680" y="2300400"/>
                <a:ext cx="4788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5692680" y="2050920"/>
                <a:ext cx="4788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>
                <a:off x="5692680" y="1928880"/>
                <a:ext cx="4788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>
                <a:off x="5692680" y="1806480"/>
                <a:ext cx="4788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>
                <a:off x="5692680" y="1685880"/>
                <a:ext cx="4788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55" name=""/>
            <p:cNvGrpSpPr/>
            <p:nvPr/>
          </p:nvGrpSpPr>
          <p:grpSpPr>
            <a:xfrm>
              <a:off x="5692680" y="3304800"/>
              <a:ext cx="2551320" cy="97200"/>
              <a:chOff x="5692680" y="3304800"/>
              <a:chExt cx="2551320" cy="97200"/>
            </a:xfrm>
          </p:grpSpPr>
          <p:sp>
            <p:nvSpPr>
              <p:cNvPr id="6356" name=""/>
              <p:cNvSpPr/>
              <p:nvPr/>
            </p:nvSpPr>
            <p:spPr>
              <a:xfrm flipV="1">
                <a:off x="6350040" y="3304800"/>
                <a:ext cx="1440" cy="968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 flipV="1">
                <a:off x="7292880" y="3304800"/>
                <a:ext cx="1800" cy="968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 flipV="1">
                <a:off x="8242200" y="3304800"/>
                <a:ext cx="1800" cy="968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 flipV="1">
                <a:off x="5692680" y="3354480"/>
                <a:ext cx="180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 flipV="1">
                <a:off x="5856120" y="3354480"/>
                <a:ext cx="180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 flipV="1">
                <a:off x="5978520" y="335448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 flipV="1">
                <a:off x="6070680" y="335448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 flipV="1">
                <a:off x="6143760" y="335448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 flipV="1">
                <a:off x="6210360" y="335448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 flipV="1">
                <a:off x="6264360" y="335448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 flipV="1">
                <a:off x="6307200" y="335448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7" name=""/>
              <p:cNvSpPr/>
              <p:nvPr/>
            </p:nvSpPr>
            <p:spPr>
              <a:xfrm flipV="1">
                <a:off x="6635880" y="335448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 flipV="1">
                <a:off x="6800760" y="3354480"/>
                <a:ext cx="180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 flipV="1">
                <a:off x="6921360" y="3354480"/>
                <a:ext cx="180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 flipV="1">
                <a:off x="7013520" y="3354480"/>
                <a:ext cx="180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 flipV="1">
                <a:off x="7086600" y="335448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 flipV="1">
                <a:off x="7153200" y="3354480"/>
                <a:ext cx="180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 flipV="1">
                <a:off x="7209000" y="335448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 flipV="1">
                <a:off x="7250040" y="3354480"/>
                <a:ext cx="180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 flipV="1">
                <a:off x="7578720" y="335448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 flipV="1">
                <a:off x="7743960" y="335448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 flipV="1">
                <a:off x="7866000" y="3354480"/>
                <a:ext cx="180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 flipV="1">
                <a:off x="7956720" y="335448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 flipV="1">
                <a:off x="8029440" y="3354480"/>
                <a:ext cx="180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 flipV="1">
                <a:off x="8096400" y="335448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 flipV="1">
                <a:off x="8151840" y="335448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 flipV="1">
                <a:off x="8194680" y="335448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83" name=""/>
            <p:cNvSpPr/>
            <p:nvPr/>
          </p:nvSpPr>
          <p:spPr>
            <a:xfrm flipV="1">
              <a:off x="5692680" y="1503360"/>
              <a:ext cx="1800" cy="1898640"/>
            </a:xfrm>
            <a:prstGeom prst="line">
              <a:avLst/>
            </a:prstGeom>
            <a:ln w="19080">
              <a:solidFill>
                <a:srgbClr val="fcff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5692680" y="3402000"/>
              <a:ext cx="2830680" cy="1440"/>
            </a:xfrm>
            <a:prstGeom prst="line">
              <a:avLst/>
            </a:prstGeom>
            <a:ln w="19080">
              <a:solidFill>
                <a:srgbClr val="fcff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7275600" y="2658960"/>
              <a:ext cx="102960" cy="1047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7226280" y="2873520"/>
              <a:ext cx="103320" cy="1029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7318440" y="2727360"/>
              <a:ext cx="102960" cy="10332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8211960" y="3328920"/>
              <a:ext cx="103320" cy="10332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8231040" y="3298680"/>
              <a:ext cx="103320" cy="10332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6781680" y="2452680"/>
              <a:ext cx="103320" cy="10332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6775560" y="2549520"/>
              <a:ext cx="102960" cy="1047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5845320" y="1685880"/>
              <a:ext cx="102960" cy="10332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5911920" y="2585880"/>
              <a:ext cx="102960" cy="1047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7737480" y="3060720"/>
              <a:ext cx="103320" cy="1047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7743960" y="3159000"/>
              <a:ext cx="102960" cy="10332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96" name=""/>
            <p:cNvGrpSpPr/>
            <p:nvPr/>
          </p:nvGrpSpPr>
          <p:grpSpPr>
            <a:xfrm>
              <a:off x="5357880" y="1474920"/>
              <a:ext cx="214200" cy="2058120"/>
              <a:chOff x="5357880" y="1474920"/>
              <a:chExt cx="214200" cy="2058120"/>
            </a:xfrm>
          </p:grpSpPr>
          <p:sp>
            <p:nvSpPr>
              <p:cNvPr id="6397" name=""/>
              <p:cNvSpPr/>
              <p:nvPr/>
            </p:nvSpPr>
            <p:spPr>
              <a:xfrm>
                <a:off x="5459760" y="3319560"/>
                <a:ext cx="10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>
                <a:off x="5357880" y="2705040"/>
                <a:ext cx="214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>
                <a:off x="5357880" y="2090880"/>
                <a:ext cx="214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5357880" y="1474920"/>
                <a:ext cx="214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01" name=""/>
          <p:cNvGrpSpPr/>
          <p:nvPr/>
        </p:nvGrpSpPr>
        <p:grpSpPr>
          <a:xfrm>
            <a:off x="5453640" y="3843360"/>
            <a:ext cx="3063240" cy="2313720"/>
            <a:chOff x="5453640" y="3843360"/>
            <a:chExt cx="3063240" cy="2313720"/>
          </a:xfrm>
        </p:grpSpPr>
        <p:grpSp>
          <p:nvGrpSpPr>
            <p:cNvPr id="6402" name=""/>
            <p:cNvGrpSpPr/>
            <p:nvPr/>
          </p:nvGrpSpPr>
          <p:grpSpPr>
            <a:xfrm>
              <a:off x="5856120" y="3974760"/>
              <a:ext cx="2435400" cy="1730880"/>
              <a:chOff x="5856120" y="3974760"/>
              <a:chExt cx="2435400" cy="1730880"/>
            </a:xfrm>
          </p:grpSpPr>
          <p:sp>
            <p:nvSpPr>
              <p:cNvPr id="6403" name=""/>
              <p:cNvSpPr/>
              <p:nvPr/>
            </p:nvSpPr>
            <p:spPr>
              <a:xfrm flipV="1">
                <a:off x="7311960" y="4728960"/>
                <a:ext cx="1800" cy="2988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>
                <a:off x="7286760" y="4729320"/>
                <a:ext cx="5544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>
                <a:off x="7311960" y="4759200"/>
                <a:ext cx="1800" cy="320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>
                <a:off x="7286760" y="4791240"/>
                <a:ext cx="5544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 flipV="1">
                <a:off x="7262640" y="4540320"/>
                <a:ext cx="1800" cy="921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7238880" y="4540320"/>
                <a:ext cx="4788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7262640" y="4632480"/>
                <a:ext cx="1800" cy="903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7238880" y="4722840"/>
                <a:ext cx="4788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 flipV="1">
                <a:off x="7354800" y="3974760"/>
                <a:ext cx="1800" cy="1206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7323120" y="3975120"/>
                <a:ext cx="5544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>
                <a:off x="7354800" y="4095720"/>
                <a:ext cx="1800" cy="1224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>
                <a:off x="7323120" y="4218120"/>
                <a:ext cx="5544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 flipV="1">
                <a:off x="8248680" y="5678280"/>
                <a:ext cx="1440" cy="126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>
                <a:off x="8224920" y="5678640"/>
                <a:ext cx="4896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>
                <a:off x="8248680" y="5691240"/>
                <a:ext cx="1440" cy="126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>
                <a:off x="8224920" y="5703840"/>
                <a:ext cx="4896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 flipV="1">
                <a:off x="8267760" y="5636880"/>
                <a:ext cx="1440" cy="111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>
                <a:off x="8242200" y="5637240"/>
                <a:ext cx="493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>
                <a:off x="8267760" y="5648400"/>
                <a:ext cx="1440" cy="1908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>
                <a:off x="8242200" y="5667480"/>
                <a:ext cx="493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 flipV="1">
                <a:off x="6818400" y="4758840"/>
                <a:ext cx="1440" cy="55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>
                <a:off x="6794640" y="4759200"/>
                <a:ext cx="4752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6818400" y="4815000"/>
                <a:ext cx="1440" cy="489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6794640" y="4863960"/>
                <a:ext cx="4752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 flipV="1">
                <a:off x="6811920" y="5369040"/>
                <a:ext cx="1800" cy="237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6788160" y="5369040"/>
                <a:ext cx="493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6811920" y="5392800"/>
                <a:ext cx="1800" cy="302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>
                <a:off x="6788160" y="5423040"/>
                <a:ext cx="493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 flipV="1">
                <a:off x="5881680" y="4960800"/>
                <a:ext cx="1440" cy="540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5856120" y="4960800"/>
                <a:ext cx="4932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5881680" y="5014800"/>
                <a:ext cx="1440" cy="55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5856120" y="5070600"/>
                <a:ext cx="493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 flipV="1">
                <a:off x="5948280" y="5186520"/>
                <a:ext cx="1800" cy="489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5924520" y="5186520"/>
                <a:ext cx="475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5948280" y="5235480"/>
                <a:ext cx="1800" cy="4788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5924520" y="5283360"/>
                <a:ext cx="475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 flipV="1">
                <a:off x="7773840" y="4857480"/>
                <a:ext cx="1800" cy="6012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7750080" y="4857840"/>
                <a:ext cx="4788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7773840" y="4917960"/>
                <a:ext cx="1800" cy="669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7750080" y="4984920"/>
                <a:ext cx="4788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 flipV="1">
                <a:off x="7780320" y="5265360"/>
                <a:ext cx="1440" cy="176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7750080" y="5265720"/>
                <a:ext cx="5400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7780320" y="5283360"/>
                <a:ext cx="1440" cy="1872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7750080" y="5302080"/>
                <a:ext cx="5400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47" name=""/>
            <p:cNvGrpSpPr/>
            <p:nvPr/>
          </p:nvGrpSpPr>
          <p:grpSpPr>
            <a:xfrm>
              <a:off x="5686560" y="3932280"/>
              <a:ext cx="102960" cy="1900080"/>
              <a:chOff x="5686560" y="3932280"/>
              <a:chExt cx="102960" cy="1900080"/>
            </a:xfrm>
          </p:grpSpPr>
          <p:sp>
            <p:nvSpPr>
              <p:cNvPr id="6448" name=""/>
              <p:cNvSpPr/>
              <p:nvPr/>
            </p:nvSpPr>
            <p:spPr>
              <a:xfrm>
                <a:off x="5686560" y="5830920"/>
                <a:ext cx="10296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5686560" y="5454720"/>
                <a:ext cx="10296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5686560" y="5070600"/>
                <a:ext cx="10296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5686560" y="4692600"/>
                <a:ext cx="10296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5686560" y="4309920"/>
                <a:ext cx="10296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5686560" y="3932280"/>
                <a:ext cx="10296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5686560" y="5641920"/>
                <a:ext cx="4896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5686560" y="5265720"/>
                <a:ext cx="4896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5686560" y="4881600"/>
                <a:ext cx="4896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5686560" y="4503600"/>
                <a:ext cx="4896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5686560" y="4121280"/>
                <a:ext cx="4896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59" name=""/>
            <p:cNvGrpSpPr/>
            <p:nvPr/>
          </p:nvGrpSpPr>
          <p:grpSpPr>
            <a:xfrm>
              <a:off x="5686560" y="5733720"/>
              <a:ext cx="2552400" cy="97200"/>
              <a:chOff x="5686560" y="5733720"/>
              <a:chExt cx="2552400" cy="97200"/>
            </a:xfrm>
          </p:grpSpPr>
          <p:sp>
            <p:nvSpPr>
              <p:cNvPr id="6460" name=""/>
              <p:cNvSpPr/>
              <p:nvPr/>
            </p:nvSpPr>
            <p:spPr>
              <a:xfrm flipV="1">
                <a:off x="6343560" y="5733720"/>
                <a:ext cx="1800" cy="968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 flipV="1">
                <a:off x="7286760" y="5733720"/>
                <a:ext cx="1440" cy="968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 flipV="1">
                <a:off x="8237520" y="5733720"/>
                <a:ext cx="1440" cy="968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 flipV="1">
                <a:off x="5686560" y="578340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 flipV="1">
                <a:off x="5850000" y="578340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 flipV="1">
                <a:off x="5972040" y="5783400"/>
                <a:ext cx="180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 flipV="1">
                <a:off x="6064200" y="5783400"/>
                <a:ext cx="180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 flipV="1">
                <a:off x="6137280" y="578340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 flipV="1">
                <a:off x="6203880" y="5783400"/>
                <a:ext cx="180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 flipV="1">
                <a:off x="6257880" y="5783400"/>
                <a:ext cx="180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 flipV="1">
                <a:off x="6300720" y="5783400"/>
                <a:ext cx="180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 flipV="1">
                <a:off x="6629400" y="578340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 flipV="1">
                <a:off x="6794640" y="578340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 flipV="1">
                <a:off x="6915240" y="578340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 flipV="1">
                <a:off x="7007400" y="578340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 flipV="1">
                <a:off x="7080120" y="5783400"/>
                <a:ext cx="180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 flipV="1">
                <a:off x="7147080" y="578340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 flipV="1">
                <a:off x="7202520" y="578340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 flipV="1">
                <a:off x="7245360" y="578340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 flipV="1">
                <a:off x="7574040" y="578340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 flipV="1">
                <a:off x="7737480" y="578340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 flipV="1">
                <a:off x="7859880" y="578340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 flipV="1">
                <a:off x="7950240" y="578340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 flipV="1">
                <a:off x="8023320" y="5783400"/>
                <a:ext cx="144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 flipV="1">
                <a:off x="8091360" y="5783400"/>
                <a:ext cx="180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 flipV="1">
                <a:off x="8145360" y="5783400"/>
                <a:ext cx="180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 flipV="1">
                <a:off x="8188200" y="5783400"/>
                <a:ext cx="1800" cy="4752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87" name=""/>
            <p:cNvSpPr/>
            <p:nvPr/>
          </p:nvSpPr>
          <p:spPr>
            <a:xfrm flipV="1">
              <a:off x="5686560" y="3932280"/>
              <a:ext cx="1440" cy="1898640"/>
            </a:xfrm>
            <a:prstGeom prst="line">
              <a:avLst/>
            </a:prstGeom>
            <a:ln w="19080">
              <a:solidFill>
                <a:srgbClr val="fcff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5686560" y="5830920"/>
              <a:ext cx="2830320" cy="1440"/>
            </a:xfrm>
            <a:prstGeom prst="line">
              <a:avLst/>
            </a:prstGeom>
            <a:ln w="19080">
              <a:solidFill>
                <a:srgbClr val="fcff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7269120" y="4718160"/>
              <a:ext cx="103320" cy="1029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7219800" y="4589640"/>
              <a:ext cx="103320" cy="1029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7311960" y="4054320"/>
              <a:ext cx="103320" cy="10332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8205840" y="5648400"/>
              <a:ext cx="104760" cy="1047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8224920" y="5605560"/>
              <a:ext cx="102960" cy="1047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6775560" y="4772160"/>
              <a:ext cx="102960" cy="1029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6769080" y="5349960"/>
              <a:ext cx="104760" cy="1047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5838840" y="4973760"/>
              <a:ext cx="103320" cy="1029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5905440" y="5192640"/>
              <a:ext cx="103320" cy="10332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7731000" y="4875120"/>
              <a:ext cx="103320" cy="10332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7737480" y="5240160"/>
              <a:ext cx="103320" cy="10512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00" name=""/>
            <p:cNvGrpSpPr/>
            <p:nvPr/>
          </p:nvGrpSpPr>
          <p:grpSpPr>
            <a:xfrm>
              <a:off x="5453640" y="3843360"/>
              <a:ext cx="107280" cy="2118600"/>
              <a:chOff x="5453640" y="3843360"/>
              <a:chExt cx="107280" cy="2118600"/>
            </a:xfrm>
          </p:grpSpPr>
          <p:sp>
            <p:nvSpPr>
              <p:cNvPr id="6501" name=""/>
              <p:cNvSpPr/>
              <p:nvPr/>
            </p:nvSpPr>
            <p:spPr>
              <a:xfrm>
                <a:off x="5453640" y="5748480"/>
                <a:ext cx="10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5453640" y="5372280"/>
                <a:ext cx="10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5453640" y="4987800"/>
                <a:ext cx="10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5453640" y="4603680"/>
                <a:ext cx="10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5453640" y="4227480"/>
                <a:ext cx="10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5453640" y="3843360"/>
                <a:ext cx="10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07" name=""/>
            <p:cNvGrpSpPr/>
            <p:nvPr/>
          </p:nvGrpSpPr>
          <p:grpSpPr>
            <a:xfrm>
              <a:off x="6299640" y="5943600"/>
              <a:ext cx="2108520" cy="213480"/>
              <a:chOff x="6299640" y="5943600"/>
              <a:chExt cx="2108520" cy="213480"/>
            </a:xfrm>
          </p:grpSpPr>
          <p:sp>
            <p:nvSpPr>
              <p:cNvPr id="6508" name=""/>
              <p:cNvSpPr/>
              <p:nvPr/>
            </p:nvSpPr>
            <p:spPr>
              <a:xfrm>
                <a:off x="6299640" y="5943600"/>
                <a:ext cx="10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7189920" y="5943600"/>
                <a:ext cx="214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8087400" y="5943600"/>
                <a:ext cx="32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11" name=""/>
          <p:cNvGrpSpPr/>
          <p:nvPr/>
        </p:nvGrpSpPr>
        <p:grpSpPr>
          <a:xfrm>
            <a:off x="1100880" y="3800520"/>
            <a:ext cx="3344040" cy="2313720"/>
            <a:chOff x="1100880" y="3800520"/>
            <a:chExt cx="3344040" cy="2313720"/>
          </a:xfrm>
        </p:grpSpPr>
        <p:grpSp>
          <p:nvGrpSpPr>
            <p:cNvPr id="6512" name=""/>
            <p:cNvGrpSpPr/>
            <p:nvPr/>
          </p:nvGrpSpPr>
          <p:grpSpPr>
            <a:xfrm>
              <a:off x="1784520" y="3992040"/>
              <a:ext cx="2435040" cy="1651680"/>
              <a:chOff x="1784520" y="3992040"/>
              <a:chExt cx="2435040" cy="1651680"/>
            </a:xfrm>
          </p:grpSpPr>
          <p:sp>
            <p:nvSpPr>
              <p:cNvPr id="6513" name=""/>
              <p:cNvSpPr/>
              <p:nvPr/>
            </p:nvSpPr>
            <p:spPr>
              <a:xfrm flipV="1">
                <a:off x="3244680" y="5082840"/>
                <a:ext cx="1800" cy="111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3214800" y="5083200"/>
                <a:ext cx="5544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3244680" y="5094360"/>
                <a:ext cx="1800" cy="1908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3214800" y="5113440"/>
                <a:ext cx="5544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 flipV="1">
                <a:off x="3191040" y="5385960"/>
                <a:ext cx="1440" cy="126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3166920" y="5386320"/>
                <a:ext cx="5400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3191040" y="5398920"/>
                <a:ext cx="1440" cy="129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3166920" y="5411880"/>
                <a:ext cx="5400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 flipV="1">
                <a:off x="3281400" y="5435280"/>
                <a:ext cx="1440" cy="1908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3251160" y="5435640"/>
                <a:ext cx="5544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3281400" y="5454720"/>
                <a:ext cx="1440" cy="1728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3251160" y="5472000"/>
                <a:ext cx="5544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 flipV="1">
                <a:off x="4176720" y="5490720"/>
                <a:ext cx="1440" cy="176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4152960" y="5491080"/>
                <a:ext cx="4752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4176720" y="5508720"/>
                <a:ext cx="1440" cy="1908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4152960" y="5527800"/>
                <a:ext cx="475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 flipV="1">
                <a:off x="4195800" y="5435280"/>
                <a:ext cx="1440" cy="1908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4170240" y="5435640"/>
                <a:ext cx="493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4195800" y="5454720"/>
                <a:ext cx="1440" cy="237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4170240" y="5478480"/>
                <a:ext cx="493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 flipV="1">
                <a:off x="2746440" y="4613400"/>
                <a:ext cx="1440" cy="489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2722680" y="4613400"/>
                <a:ext cx="475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2746440" y="4662360"/>
                <a:ext cx="1440" cy="428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2722680" y="4705200"/>
                <a:ext cx="4752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 flipV="1">
                <a:off x="2739960" y="3992040"/>
                <a:ext cx="1800" cy="795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2716200" y="3992400"/>
                <a:ext cx="4752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2739960" y="4071960"/>
                <a:ext cx="1800" cy="7308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2716200" y="4145040"/>
                <a:ext cx="4752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 flipV="1">
                <a:off x="1809720" y="4400640"/>
                <a:ext cx="1440" cy="55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1784520" y="4400640"/>
                <a:ext cx="4896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1809720" y="4456080"/>
                <a:ext cx="1440" cy="6048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1784520" y="4516560"/>
                <a:ext cx="4896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 flipV="1">
                <a:off x="1876320" y="4334040"/>
                <a:ext cx="1800" cy="7272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1851120" y="4334040"/>
                <a:ext cx="5544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1876320" y="4406760"/>
                <a:ext cx="1800" cy="795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1851120" y="4486320"/>
                <a:ext cx="5544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 flipV="1">
                <a:off x="3701880" y="5594400"/>
                <a:ext cx="1800" cy="237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3678120" y="5594400"/>
                <a:ext cx="47880" cy="144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3701880" y="5618160"/>
                <a:ext cx="1800" cy="237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3678120" y="5641920"/>
                <a:ext cx="4788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 flipV="1">
                <a:off x="3708360" y="5447880"/>
                <a:ext cx="1800" cy="1116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3678120" y="5448240"/>
                <a:ext cx="5400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3708360" y="5459400"/>
                <a:ext cx="1800" cy="126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3678120" y="5472000"/>
                <a:ext cx="54000" cy="1800"/>
              </a:xfrm>
              <a:prstGeom prst="line">
                <a:avLst/>
              </a:prstGeom>
              <a:ln w="12600">
                <a:solidFill>
                  <a:srgbClr val="27fc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57" name=""/>
            <p:cNvGrpSpPr/>
            <p:nvPr/>
          </p:nvGrpSpPr>
          <p:grpSpPr>
            <a:xfrm>
              <a:off x="1614600" y="3882960"/>
              <a:ext cx="102960" cy="1908360"/>
              <a:chOff x="1614600" y="3882960"/>
              <a:chExt cx="102960" cy="1908360"/>
            </a:xfrm>
          </p:grpSpPr>
          <p:sp>
            <p:nvSpPr>
              <p:cNvPr id="6558" name=""/>
              <p:cNvSpPr/>
              <p:nvPr/>
            </p:nvSpPr>
            <p:spPr>
              <a:xfrm>
                <a:off x="1614600" y="5789520"/>
                <a:ext cx="10296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1614600" y="5411880"/>
                <a:ext cx="10296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1614600" y="5027760"/>
                <a:ext cx="10296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1614600" y="4649760"/>
                <a:ext cx="10296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1614600" y="4267080"/>
                <a:ext cx="10296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1614600" y="3882960"/>
                <a:ext cx="10296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1614600" y="5716440"/>
                <a:ext cx="475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1614600" y="5637240"/>
                <a:ext cx="475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1614600" y="5564160"/>
                <a:ext cx="475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1614600" y="5484960"/>
                <a:ext cx="475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1614600" y="5332320"/>
                <a:ext cx="475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1614600" y="5259240"/>
                <a:ext cx="475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1614600" y="5180040"/>
                <a:ext cx="475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1614600" y="5106960"/>
                <a:ext cx="475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1614600" y="4954680"/>
                <a:ext cx="475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1614600" y="4875120"/>
                <a:ext cx="475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1614600" y="4802040"/>
                <a:ext cx="475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1614600" y="4722840"/>
                <a:ext cx="475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1614600" y="4572000"/>
                <a:ext cx="475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1614600" y="4498920"/>
                <a:ext cx="475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1614600" y="4419720"/>
                <a:ext cx="475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1614600" y="4346640"/>
                <a:ext cx="475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1614600" y="4194000"/>
                <a:ext cx="475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1614600" y="4114800"/>
                <a:ext cx="475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1614600" y="4041720"/>
                <a:ext cx="47520" cy="180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1614600" y="3962520"/>
                <a:ext cx="47520" cy="144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84" name=""/>
            <p:cNvGrpSpPr/>
            <p:nvPr/>
          </p:nvGrpSpPr>
          <p:grpSpPr>
            <a:xfrm>
              <a:off x="1614600" y="5690880"/>
              <a:ext cx="2550960" cy="98640"/>
              <a:chOff x="1614600" y="5690880"/>
              <a:chExt cx="2550960" cy="98640"/>
            </a:xfrm>
          </p:grpSpPr>
          <p:sp>
            <p:nvSpPr>
              <p:cNvPr id="6585" name=""/>
              <p:cNvSpPr/>
              <p:nvPr/>
            </p:nvSpPr>
            <p:spPr>
              <a:xfrm flipV="1">
                <a:off x="2278080" y="5690880"/>
                <a:ext cx="1440" cy="9828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 flipV="1">
                <a:off x="3220920" y="5690880"/>
                <a:ext cx="1800" cy="9828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 flipV="1">
                <a:off x="4164120" y="5690880"/>
                <a:ext cx="1440" cy="9828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 flipV="1">
                <a:off x="1614600" y="5740560"/>
                <a:ext cx="144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 flipV="1">
                <a:off x="1778040" y="5740560"/>
                <a:ext cx="144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 flipV="1">
                <a:off x="1900080" y="5740560"/>
                <a:ext cx="180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 flipV="1">
                <a:off x="1992240" y="5740560"/>
                <a:ext cx="180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 flipV="1">
                <a:off x="2065320" y="5740560"/>
                <a:ext cx="144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 flipV="1">
                <a:off x="2131920" y="5740560"/>
                <a:ext cx="180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 flipV="1">
                <a:off x="2185920" y="5740560"/>
                <a:ext cx="180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 flipV="1">
                <a:off x="2228760" y="5740560"/>
                <a:ext cx="180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 flipV="1">
                <a:off x="2557440" y="5740560"/>
                <a:ext cx="144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 flipV="1">
                <a:off x="2722680" y="5740560"/>
                <a:ext cx="144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 flipV="1">
                <a:off x="2843280" y="5740560"/>
                <a:ext cx="144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 flipV="1">
                <a:off x="2935440" y="5740560"/>
                <a:ext cx="144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 flipV="1">
                <a:off x="3008160" y="5740560"/>
                <a:ext cx="180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 flipV="1">
                <a:off x="3075120" y="5740560"/>
                <a:ext cx="144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 flipV="1">
                <a:off x="3130560" y="5740560"/>
                <a:ext cx="144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3" name=""/>
              <p:cNvSpPr/>
              <p:nvPr/>
            </p:nvSpPr>
            <p:spPr>
              <a:xfrm flipV="1">
                <a:off x="3171960" y="5740560"/>
                <a:ext cx="144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4" name=""/>
              <p:cNvSpPr/>
              <p:nvPr/>
            </p:nvSpPr>
            <p:spPr>
              <a:xfrm flipV="1">
                <a:off x="3500280" y="5740560"/>
                <a:ext cx="180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5" name=""/>
              <p:cNvSpPr/>
              <p:nvPr/>
            </p:nvSpPr>
            <p:spPr>
              <a:xfrm flipV="1">
                <a:off x="3672000" y="5740560"/>
                <a:ext cx="144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6" name=""/>
              <p:cNvSpPr/>
              <p:nvPr/>
            </p:nvSpPr>
            <p:spPr>
              <a:xfrm flipV="1">
                <a:off x="3787920" y="5740560"/>
                <a:ext cx="144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7" name=""/>
              <p:cNvSpPr/>
              <p:nvPr/>
            </p:nvSpPr>
            <p:spPr>
              <a:xfrm flipV="1">
                <a:off x="3878280" y="5740560"/>
                <a:ext cx="144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8" name=""/>
              <p:cNvSpPr/>
              <p:nvPr/>
            </p:nvSpPr>
            <p:spPr>
              <a:xfrm flipV="1">
                <a:off x="3951360" y="5740560"/>
                <a:ext cx="144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9" name=""/>
              <p:cNvSpPr/>
              <p:nvPr/>
            </p:nvSpPr>
            <p:spPr>
              <a:xfrm flipV="1">
                <a:off x="4017960" y="5740560"/>
                <a:ext cx="144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0" name=""/>
              <p:cNvSpPr/>
              <p:nvPr/>
            </p:nvSpPr>
            <p:spPr>
              <a:xfrm flipV="1">
                <a:off x="4073400" y="5740560"/>
                <a:ext cx="180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1" name=""/>
              <p:cNvSpPr/>
              <p:nvPr/>
            </p:nvSpPr>
            <p:spPr>
              <a:xfrm flipV="1">
                <a:off x="4122720" y="5740560"/>
                <a:ext cx="1440" cy="48960"/>
              </a:xfrm>
              <a:prstGeom prst="line">
                <a:avLst/>
              </a:prstGeom>
              <a:ln w="19080">
                <a:solidFill>
                  <a:srgbClr val="fcffc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12" name=""/>
            <p:cNvSpPr/>
            <p:nvPr/>
          </p:nvSpPr>
          <p:spPr>
            <a:xfrm flipV="1">
              <a:off x="1614600" y="3882960"/>
              <a:ext cx="1440" cy="1906560"/>
            </a:xfrm>
            <a:prstGeom prst="line">
              <a:avLst/>
            </a:prstGeom>
            <a:ln w="19080">
              <a:solidFill>
                <a:srgbClr val="fcff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1614600" y="5789520"/>
              <a:ext cx="2830320" cy="1800"/>
            </a:xfrm>
            <a:prstGeom prst="line">
              <a:avLst/>
            </a:prstGeom>
            <a:ln w="19080">
              <a:solidFill>
                <a:srgbClr val="fcff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3203640" y="5051520"/>
              <a:ext cx="102960" cy="1047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3147840" y="5356080"/>
              <a:ext cx="103320" cy="10332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3240000" y="5411880"/>
              <a:ext cx="103320" cy="1029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4133880" y="5465880"/>
              <a:ext cx="103320" cy="1029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4152960" y="5411880"/>
              <a:ext cx="102960" cy="10296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2703600" y="4619520"/>
              <a:ext cx="102960" cy="10332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2697120" y="4029120"/>
              <a:ext cx="103320" cy="10332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1766880" y="4413240"/>
              <a:ext cx="103320" cy="10332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1833480" y="4363920"/>
              <a:ext cx="103320" cy="10332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3659040" y="5575320"/>
              <a:ext cx="103320" cy="10332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3665520" y="5418000"/>
              <a:ext cx="103320" cy="103320"/>
            </a:xfrm>
            <a:prstGeom prst="ellipse">
              <a:avLst/>
            </a:prstGeom>
            <a:solidFill>
              <a:srgbClr val="27fc20"/>
            </a:solidFill>
            <a:ln w="6480">
              <a:solidFill>
                <a:srgbClr val="27fc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25" name=""/>
            <p:cNvGrpSpPr/>
            <p:nvPr/>
          </p:nvGrpSpPr>
          <p:grpSpPr>
            <a:xfrm>
              <a:off x="1100880" y="3800520"/>
              <a:ext cx="427320" cy="2120040"/>
              <a:chOff x="1100880" y="3800520"/>
              <a:chExt cx="427320" cy="2120040"/>
            </a:xfrm>
          </p:grpSpPr>
          <p:sp>
            <p:nvSpPr>
              <p:cNvPr id="6626" name=""/>
              <p:cNvSpPr/>
              <p:nvPr/>
            </p:nvSpPr>
            <p:spPr>
              <a:xfrm>
                <a:off x="1381680" y="5707080"/>
                <a:ext cx="10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1100880" y="5329080"/>
                <a:ext cx="427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0.0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1100880" y="4944960"/>
                <a:ext cx="427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0.0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1100880" y="4562640"/>
                <a:ext cx="427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0.0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1100880" y="4184640"/>
                <a:ext cx="427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0.0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1100880" y="3800520"/>
                <a:ext cx="427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0.0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32" name=""/>
            <p:cNvGrpSpPr/>
            <p:nvPr/>
          </p:nvGrpSpPr>
          <p:grpSpPr>
            <a:xfrm>
              <a:off x="2232360" y="5900760"/>
              <a:ext cx="2103840" cy="213480"/>
              <a:chOff x="2232360" y="5900760"/>
              <a:chExt cx="2103840" cy="213480"/>
            </a:xfrm>
          </p:grpSpPr>
          <p:sp>
            <p:nvSpPr>
              <p:cNvPr id="6633" name=""/>
              <p:cNvSpPr/>
              <p:nvPr/>
            </p:nvSpPr>
            <p:spPr>
              <a:xfrm>
                <a:off x="2232360" y="5900760"/>
                <a:ext cx="10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3124440" y="5900760"/>
                <a:ext cx="214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4015440" y="5900760"/>
                <a:ext cx="3207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cf305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Parameters from Fit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5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729320" y="3730680"/>
            <a:ext cx="1857240" cy="2112840"/>
          </a:xfrm>
          <a:custGeom>
            <a:avLst/>
            <a:gdLst/>
            <a:ahLst/>
            <a:rect l="l" t="t" r="r" b="b"/>
            <a:pathLst>
              <a:path w="1512" h="1760">
                <a:moveTo>
                  <a:pt x="0" y="1760"/>
                </a:moveTo>
                <a:lnTo>
                  <a:pt x="16" y="1704"/>
                </a:lnTo>
                <a:lnTo>
                  <a:pt x="40" y="1656"/>
                </a:lnTo>
                <a:lnTo>
                  <a:pt x="64" y="1600"/>
                </a:lnTo>
                <a:lnTo>
                  <a:pt x="88" y="1544"/>
                </a:lnTo>
                <a:lnTo>
                  <a:pt x="112" y="1464"/>
                </a:lnTo>
                <a:lnTo>
                  <a:pt x="136" y="1376"/>
                </a:lnTo>
                <a:lnTo>
                  <a:pt x="160" y="1256"/>
                </a:lnTo>
                <a:lnTo>
                  <a:pt x="192" y="1128"/>
                </a:lnTo>
                <a:lnTo>
                  <a:pt x="224" y="976"/>
                </a:lnTo>
                <a:lnTo>
                  <a:pt x="256" y="832"/>
                </a:lnTo>
                <a:lnTo>
                  <a:pt x="288" y="688"/>
                </a:lnTo>
                <a:lnTo>
                  <a:pt x="312" y="552"/>
                </a:lnTo>
                <a:lnTo>
                  <a:pt x="336" y="448"/>
                </a:lnTo>
                <a:lnTo>
                  <a:pt x="352" y="360"/>
                </a:lnTo>
                <a:lnTo>
                  <a:pt x="376" y="280"/>
                </a:lnTo>
                <a:lnTo>
                  <a:pt x="400" y="200"/>
                </a:lnTo>
                <a:lnTo>
                  <a:pt x="432" y="136"/>
                </a:lnTo>
                <a:lnTo>
                  <a:pt x="456" y="80"/>
                </a:lnTo>
                <a:lnTo>
                  <a:pt x="480" y="40"/>
                </a:lnTo>
                <a:lnTo>
                  <a:pt x="504" y="16"/>
                </a:lnTo>
                <a:lnTo>
                  <a:pt x="544" y="0"/>
                </a:lnTo>
                <a:lnTo>
                  <a:pt x="584" y="0"/>
                </a:lnTo>
                <a:lnTo>
                  <a:pt x="616" y="16"/>
                </a:lnTo>
                <a:lnTo>
                  <a:pt x="640" y="40"/>
                </a:lnTo>
                <a:lnTo>
                  <a:pt x="672" y="64"/>
                </a:lnTo>
                <a:lnTo>
                  <a:pt x="696" y="104"/>
                </a:lnTo>
                <a:lnTo>
                  <a:pt x="728" y="152"/>
                </a:lnTo>
                <a:lnTo>
                  <a:pt x="768" y="208"/>
                </a:lnTo>
                <a:lnTo>
                  <a:pt x="808" y="280"/>
                </a:lnTo>
                <a:lnTo>
                  <a:pt x="840" y="344"/>
                </a:lnTo>
                <a:lnTo>
                  <a:pt x="912" y="520"/>
                </a:lnTo>
                <a:lnTo>
                  <a:pt x="1008" y="704"/>
                </a:lnTo>
                <a:lnTo>
                  <a:pt x="1048" y="784"/>
                </a:lnTo>
                <a:lnTo>
                  <a:pt x="1088" y="856"/>
                </a:lnTo>
                <a:lnTo>
                  <a:pt x="1128" y="912"/>
                </a:lnTo>
                <a:lnTo>
                  <a:pt x="1168" y="976"/>
                </a:lnTo>
                <a:lnTo>
                  <a:pt x="1216" y="1040"/>
                </a:lnTo>
                <a:lnTo>
                  <a:pt x="1256" y="1096"/>
                </a:lnTo>
                <a:lnTo>
                  <a:pt x="1296" y="1144"/>
                </a:lnTo>
                <a:lnTo>
                  <a:pt x="1344" y="1200"/>
                </a:lnTo>
                <a:lnTo>
                  <a:pt x="1392" y="1248"/>
                </a:lnTo>
                <a:lnTo>
                  <a:pt x="1432" y="1288"/>
                </a:lnTo>
                <a:lnTo>
                  <a:pt x="1472" y="1328"/>
                </a:lnTo>
                <a:lnTo>
                  <a:pt x="1512" y="1368"/>
                </a:ln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670280" y="1114560"/>
            <a:ext cx="1533600" cy="4432320"/>
            <a:chOff x="4670280" y="1114560"/>
            <a:chExt cx="1533600" cy="4432320"/>
          </a:xfrm>
        </p:grpSpPr>
        <p:sp>
          <p:nvSpPr>
            <p:cNvPr id="192" name=""/>
            <p:cNvSpPr/>
            <p:nvPr/>
          </p:nvSpPr>
          <p:spPr>
            <a:xfrm>
              <a:off x="5083200" y="3067200"/>
              <a:ext cx="92160" cy="91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33960" y="1114560"/>
              <a:ext cx="92160" cy="91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86240" y="3346560"/>
              <a:ext cx="92160" cy="91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73680" y="3898800"/>
              <a:ext cx="92160" cy="9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89640" y="3981600"/>
              <a:ext cx="92160" cy="91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99160" y="4552920"/>
              <a:ext cx="92160" cy="9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08680" y="4971960"/>
              <a:ext cx="92160" cy="9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11720" y="5251320"/>
              <a:ext cx="92160" cy="9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70280" y="5454720"/>
              <a:ext cx="92160" cy="9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033960" y="1428840"/>
            <a:ext cx="92160" cy="921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84800" y="3543480"/>
            <a:ext cx="92160" cy="91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94320" y="3689280"/>
            <a:ext cx="92160" cy="921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97360" y="4108320"/>
            <a:ext cx="92160" cy="921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07240" y="4540320"/>
            <a:ext cx="91800" cy="921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10280" y="4902120"/>
            <a:ext cx="92160" cy="921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13320" y="5175360"/>
            <a:ext cx="92160" cy="91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23200" y="5372280"/>
            <a:ext cx="91800" cy="91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62360" y="5810400"/>
            <a:ext cx="92160" cy="91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1880" y="5035680"/>
            <a:ext cx="92160" cy="91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75280" y="4051440"/>
            <a:ext cx="92160" cy="91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68840" y="638280"/>
            <a:ext cx="1469880" cy="4565520"/>
            <a:chOff x="4668840" y="638280"/>
            <a:chExt cx="1469880" cy="4565520"/>
          </a:xfrm>
        </p:grpSpPr>
        <p:sp>
          <p:nvSpPr>
            <p:cNvPr id="213" name=""/>
            <p:cNvSpPr/>
            <p:nvPr/>
          </p:nvSpPr>
          <p:spPr>
            <a:xfrm>
              <a:off x="5083200" y="2568600"/>
              <a:ext cx="92160" cy="92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76920" y="638280"/>
              <a:ext cx="91800" cy="91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46920" y="809640"/>
              <a:ext cx="91800" cy="92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68840" y="3552840"/>
              <a:ext cx="92160" cy="92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02240" y="5111640"/>
              <a:ext cx="92160" cy="92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80120" y="4330800"/>
              <a:ext cx="92160" cy="91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51600" y="2057400"/>
            <a:ext cx="10944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63960" y="5861160"/>
            <a:ext cx="109800" cy="918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73480" y="5816520"/>
            <a:ext cx="10980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83360" y="5727600"/>
            <a:ext cx="10944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86400" y="5632560"/>
            <a:ext cx="109440" cy="918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89440" y="5530680"/>
            <a:ext cx="10980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05440" y="5359320"/>
            <a:ext cx="10944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2360" y="5264280"/>
            <a:ext cx="109440" cy="918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15280" y="5162400"/>
            <a:ext cx="10944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30920" y="5137200"/>
            <a:ext cx="10944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34320" y="5137200"/>
            <a:ext cx="10944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37360" y="5137200"/>
            <a:ext cx="10944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46880" y="5200560"/>
            <a:ext cx="10944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56400" y="5257800"/>
            <a:ext cx="10980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59800" y="5270400"/>
            <a:ext cx="10944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75440" y="5321160"/>
            <a:ext cx="10980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72360" y="5359320"/>
            <a:ext cx="10980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1880" y="5416560"/>
            <a:ext cx="109800" cy="921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3640" y="5295960"/>
            <a:ext cx="2517840" cy="662040"/>
          </a:xfrm>
          <a:custGeom>
            <a:avLst/>
            <a:gdLst/>
            <a:ahLst/>
            <a:rect l="l" t="t" r="r" b="b"/>
            <a:pathLst>
              <a:path w="2048" h="552">
                <a:moveTo>
                  <a:pt x="0" y="0"/>
                </a:moveTo>
                <a:lnTo>
                  <a:pt x="104" y="112"/>
                </a:lnTo>
                <a:lnTo>
                  <a:pt x="216" y="216"/>
                </a:lnTo>
                <a:lnTo>
                  <a:pt x="352" y="296"/>
                </a:lnTo>
                <a:lnTo>
                  <a:pt x="496" y="368"/>
                </a:lnTo>
                <a:lnTo>
                  <a:pt x="600" y="408"/>
                </a:lnTo>
                <a:lnTo>
                  <a:pt x="712" y="440"/>
                </a:lnTo>
                <a:lnTo>
                  <a:pt x="816" y="464"/>
                </a:lnTo>
                <a:lnTo>
                  <a:pt x="936" y="488"/>
                </a:lnTo>
                <a:lnTo>
                  <a:pt x="1064" y="504"/>
                </a:lnTo>
                <a:lnTo>
                  <a:pt x="1208" y="520"/>
                </a:lnTo>
                <a:lnTo>
                  <a:pt x="1376" y="536"/>
                </a:lnTo>
                <a:lnTo>
                  <a:pt x="1560" y="544"/>
                </a:lnTo>
                <a:lnTo>
                  <a:pt x="1696" y="544"/>
                </a:lnTo>
                <a:lnTo>
                  <a:pt x="1824" y="552"/>
                </a:lnTo>
                <a:lnTo>
                  <a:pt x="1936" y="552"/>
                </a:lnTo>
                <a:lnTo>
                  <a:pt x="2048" y="552"/>
                </a:lnTo>
              </a:path>
            </a:pathLst>
          </a:custGeom>
          <a:noFill/>
          <a:ln w="1908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45080" y="5170320"/>
            <a:ext cx="1219320" cy="787680"/>
          </a:xfrm>
          <a:custGeom>
            <a:avLst/>
            <a:gdLst/>
            <a:ahLst/>
            <a:rect l="l" t="t" r="r" b="b"/>
            <a:pathLst>
              <a:path w="992" h="656">
                <a:moveTo>
                  <a:pt x="0" y="0"/>
                </a:moveTo>
                <a:lnTo>
                  <a:pt x="48" y="128"/>
                </a:lnTo>
                <a:lnTo>
                  <a:pt x="96" y="248"/>
                </a:lnTo>
                <a:lnTo>
                  <a:pt x="152" y="352"/>
                </a:lnTo>
                <a:lnTo>
                  <a:pt x="216" y="440"/>
                </a:lnTo>
                <a:lnTo>
                  <a:pt x="272" y="496"/>
                </a:lnTo>
                <a:lnTo>
                  <a:pt x="336" y="544"/>
                </a:lnTo>
                <a:lnTo>
                  <a:pt x="400" y="576"/>
                </a:lnTo>
                <a:lnTo>
                  <a:pt x="480" y="608"/>
                </a:lnTo>
                <a:lnTo>
                  <a:pt x="560" y="624"/>
                </a:lnTo>
                <a:lnTo>
                  <a:pt x="664" y="640"/>
                </a:lnTo>
                <a:lnTo>
                  <a:pt x="752" y="648"/>
                </a:lnTo>
                <a:lnTo>
                  <a:pt x="832" y="656"/>
                </a:lnTo>
                <a:lnTo>
                  <a:pt x="904" y="656"/>
                </a:lnTo>
                <a:lnTo>
                  <a:pt x="992" y="656"/>
                </a:lnTo>
              </a:path>
            </a:pathLst>
          </a:custGeom>
          <a:noFill/>
          <a:ln w="1908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86560" y="5440320"/>
            <a:ext cx="2104920" cy="498600"/>
          </a:xfrm>
          <a:custGeom>
            <a:avLst/>
            <a:gdLst/>
            <a:ahLst/>
            <a:rect l="l" t="t" r="r" b="b"/>
            <a:pathLst>
              <a:path w="1712" h="416">
                <a:moveTo>
                  <a:pt x="0" y="0"/>
                </a:moveTo>
                <a:lnTo>
                  <a:pt x="112" y="64"/>
                </a:lnTo>
                <a:lnTo>
                  <a:pt x="232" y="136"/>
                </a:lnTo>
                <a:lnTo>
                  <a:pt x="360" y="192"/>
                </a:lnTo>
                <a:lnTo>
                  <a:pt x="504" y="248"/>
                </a:lnTo>
                <a:lnTo>
                  <a:pt x="664" y="288"/>
                </a:lnTo>
                <a:lnTo>
                  <a:pt x="792" y="320"/>
                </a:lnTo>
                <a:lnTo>
                  <a:pt x="928" y="344"/>
                </a:lnTo>
                <a:lnTo>
                  <a:pt x="1064" y="360"/>
                </a:lnTo>
                <a:lnTo>
                  <a:pt x="1200" y="376"/>
                </a:lnTo>
                <a:lnTo>
                  <a:pt x="1352" y="392"/>
                </a:lnTo>
                <a:lnTo>
                  <a:pt x="1528" y="408"/>
                </a:lnTo>
                <a:lnTo>
                  <a:pt x="1712" y="416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86560" y="5372280"/>
            <a:ext cx="2104920" cy="547560"/>
          </a:xfrm>
          <a:custGeom>
            <a:avLst/>
            <a:gdLst/>
            <a:ahLst/>
            <a:rect l="l" t="t" r="r" b="b"/>
            <a:pathLst>
              <a:path w="1712" h="456">
                <a:moveTo>
                  <a:pt x="0" y="0"/>
                </a:moveTo>
                <a:lnTo>
                  <a:pt x="112" y="80"/>
                </a:lnTo>
                <a:lnTo>
                  <a:pt x="240" y="152"/>
                </a:lnTo>
                <a:lnTo>
                  <a:pt x="384" y="224"/>
                </a:lnTo>
                <a:lnTo>
                  <a:pt x="536" y="280"/>
                </a:lnTo>
                <a:lnTo>
                  <a:pt x="704" y="328"/>
                </a:lnTo>
                <a:lnTo>
                  <a:pt x="856" y="360"/>
                </a:lnTo>
                <a:lnTo>
                  <a:pt x="1008" y="384"/>
                </a:lnTo>
                <a:lnTo>
                  <a:pt x="1160" y="408"/>
                </a:lnTo>
                <a:lnTo>
                  <a:pt x="1328" y="432"/>
                </a:lnTo>
                <a:lnTo>
                  <a:pt x="1512" y="448"/>
                </a:lnTo>
                <a:lnTo>
                  <a:pt x="1712" y="456"/>
                </a:ln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248680" y="5430960"/>
            <a:ext cx="452520" cy="85680"/>
          </a:xfrm>
          <a:prstGeom prst="line">
            <a:avLst/>
          </a:prstGeom>
          <a:ln w="19080">
            <a:solidFill>
              <a:srgbClr val="99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16520" y="5200560"/>
            <a:ext cx="3322440" cy="757440"/>
          </a:xfrm>
          <a:custGeom>
            <a:avLst/>
            <a:gdLst/>
            <a:ahLst/>
            <a:rect l="l" t="t" r="r" b="b"/>
            <a:pathLst>
              <a:path w="2704" h="632">
                <a:moveTo>
                  <a:pt x="0" y="632"/>
                </a:moveTo>
                <a:lnTo>
                  <a:pt x="184" y="560"/>
                </a:lnTo>
                <a:lnTo>
                  <a:pt x="360" y="488"/>
                </a:lnTo>
                <a:lnTo>
                  <a:pt x="536" y="408"/>
                </a:lnTo>
                <a:lnTo>
                  <a:pt x="688" y="328"/>
                </a:lnTo>
                <a:lnTo>
                  <a:pt x="784" y="264"/>
                </a:lnTo>
                <a:lnTo>
                  <a:pt x="864" y="208"/>
                </a:lnTo>
                <a:lnTo>
                  <a:pt x="944" y="160"/>
                </a:lnTo>
                <a:lnTo>
                  <a:pt x="1024" y="112"/>
                </a:lnTo>
                <a:lnTo>
                  <a:pt x="1104" y="80"/>
                </a:lnTo>
                <a:lnTo>
                  <a:pt x="1184" y="48"/>
                </a:lnTo>
                <a:lnTo>
                  <a:pt x="1280" y="24"/>
                </a:lnTo>
                <a:lnTo>
                  <a:pt x="1392" y="8"/>
                </a:lnTo>
                <a:lnTo>
                  <a:pt x="1528" y="0"/>
                </a:lnTo>
                <a:lnTo>
                  <a:pt x="1632" y="0"/>
                </a:lnTo>
                <a:lnTo>
                  <a:pt x="1728" y="0"/>
                </a:lnTo>
                <a:lnTo>
                  <a:pt x="1816" y="0"/>
                </a:lnTo>
                <a:lnTo>
                  <a:pt x="1896" y="8"/>
                </a:lnTo>
                <a:lnTo>
                  <a:pt x="1976" y="16"/>
                </a:lnTo>
                <a:lnTo>
                  <a:pt x="2064" y="32"/>
                </a:lnTo>
                <a:lnTo>
                  <a:pt x="2160" y="56"/>
                </a:lnTo>
                <a:lnTo>
                  <a:pt x="2264" y="80"/>
                </a:lnTo>
                <a:lnTo>
                  <a:pt x="2392" y="104"/>
                </a:lnTo>
                <a:lnTo>
                  <a:pt x="2536" y="144"/>
                </a:lnTo>
                <a:lnTo>
                  <a:pt x="2704" y="184"/>
                </a:lnTo>
              </a:path>
            </a:pathLst>
          </a:custGeom>
          <a:noFill/>
          <a:ln w="1908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19600" y="3605040"/>
            <a:ext cx="1857240" cy="2257560"/>
          </a:xfrm>
          <a:custGeom>
            <a:avLst/>
            <a:gdLst/>
            <a:ahLst/>
            <a:rect l="l" t="t" r="r" b="b"/>
            <a:pathLst>
              <a:path w="1512" h="1880">
                <a:moveTo>
                  <a:pt x="0" y="1880"/>
                </a:moveTo>
                <a:lnTo>
                  <a:pt x="40" y="1736"/>
                </a:lnTo>
                <a:lnTo>
                  <a:pt x="80" y="1608"/>
                </a:lnTo>
                <a:lnTo>
                  <a:pt x="112" y="1488"/>
                </a:lnTo>
                <a:lnTo>
                  <a:pt x="144" y="1368"/>
                </a:lnTo>
                <a:lnTo>
                  <a:pt x="176" y="1248"/>
                </a:lnTo>
                <a:lnTo>
                  <a:pt x="192" y="1168"/>
                </a:lnTo>
                <a:lnTo>
                  <a:pt x="216" y="1056"/>
                </a:lnTo>
                <a:lnTo>
                  <a:pt x="248" y="928"/>
                </a:lnTo>
                <a:lnTo>
                  <a:pt x="280" y="776"/>
                </a:lnTo>
                <a:lnTo>
                  <a:pt x="312" y="608"/>
                </a:lnTo>
                <a:lnTo>
                  <a:pt x="336" y="424"/>
                </a:lnTo>
                <a:lnTo>
                  <a:pt x="352" y="336"/>
                </a:lnTo>
                <a:lnTo>
                  <a:pt x="368" y="248"/>
                </a:lnTo>
                <a:lnTo>
                  <a:pt x="392" y="168"/>
                </a:lnTo>
                <a:lnTo>
                  <a:pt x="416" y="96"/>
                </a:lnTo>
                <a:lnTo>
                  <a:pt x="440" y="48"/>
                </a:lnTo>
                <a:lnTo>
                  <a:pt x="472" y="8"/>
                </a:lnTo>
                <a:lnTo>
                  <a:pt x="512" y="0"/>
                </a:lnTo>
                <a:lnTo>
                  <a:pt x="552" y="8"/>
                </a:lnTo>
                <a:lnTo>
                  <a:pt x="592" y="32"/>
                </a:lnTo>
                <a:lnTo>
                  <a:pt x="640" y="72"/>
                </a:lnTo>
                <a:lnTo>
                  <a:pt x="680" y="128"/>
                </a:lnTo>
                <a:lnTo>
                  <a:pt x="720" y="200"/>
                </a:lnTo>
                <a:lnTo>
                  <a:pt x="768" y="288"/>
                </a:lnTo>
                <a:lnTo>
                  <a:pt x="808" y="376"/>
                </a:lnTo>
                <a:lnTo>
                  <a:pt x="840" y="472"/>
                </a:lnTo>
                <a:lnTo>
                  <a:pt x="864" y="520"/>
                </a:lnTo>
                <a:lnTo>
                  <a:pt x="904" y="600"/>
                </a:lnTo>
                <a:lnTo>
                  <a:pt x="952" y="704"/>
                </a:lnTo>
                <a:lnTo>
                  <a:pt x="1016" y="832"/>
                </a:lnTo>
                <a:lnTo>
                  <a:pt x="1048" y="904"/>
                </a:lnTo>
                <a:lnTo>
                  <a:pt x="1088" y="984"/>
                </a:lnTo>
                <a:lnTo>
                  <a:pt x="1136" y="1064"/>
                </a:lnTo>
                <a:lnTo>
                  <a:pt x="1184" y="1136"/>
                </a:lnTo>
                <a:lnTo>
                  <a:pt x="1224" y="1192"/>
                </a:lnTo>
                <a:lnTo>
                  <a:pt x="1264" y="1256"/>
                </a:lnTo>
                <a:lnTo>
                  <a:pt x="1312" y="1320"/>
                </a:lnTo>
                <a:lnTo>
                  <a:pt x="1352" y="1368"/>
                </a:lnTo>
                <a:lnTo>
                  <a:pt x="1408" y="1432"/>
                </a:lnTo>
                <a:lnTo>
                  <a:pt x="1464" y="1480"/>
                </a:lnTo>
                <a:lnTo>
                  <a:pt x="1512" y="1528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60920" y="3116160"/>
            <a:ext cx="1512720" cy="2853000"/>
          </a:xfrm>
          <a:custGeom>
            <a:avLst/>
            <a:gdLst/>
            <a:ahLst/>
            <a:rect l="l" t="t" r="r" b="b"/>
            <a:pathLst>
              <a:path w="1232" h="2376">
                <a:moveTo>
                  <a:pt x="0" y="2376"/>
                </a:moveTo>
                <a:lnTo>
                  <a:pt x="16" y="2296"/>
                </a:lnTo>
                <a:lnTo>
                  <a:pt x="24" y="2200"/>
                </a:lnTo>
                <a:lnTo>
                  <a:pt x="40" y="2088"/>
                </a:lnTo>
                <a:lnTo>
                  <a:pt x="56" y="1952"/>
                </a:lnTo>
                <a:lnTo>
                  <a:pt x="80" y="1800"/>
                </a:lnTo>
                <a:lnTo>
                  <a:pt x="96" y="1640"/>
                </a:lnTo>
                <a:lnTo>
                  <a:pt x="120" y="1480"/>
                </a:lnTo>
                <a:lnTo>
                  <a:pt x="136" y="1312"/>
                </a:lnTo>
                <a:lnTo>
                  <a:pt x="160" y="1144"/>
                </a:lnTo>
                <a:lnTo>
                  <a:pt x="184" y="984"/>
                </a:lnTo>
                <a:lnTo>
                  <a:pt x="200" y="832"/>
                </a:lnTo>
                <a:lnTo>
                  <a:pt x="216" y="688"/>
                </a:lnTo>
                <a:lnTo>
                  <a:pt x="240" y="520"/>
                </a:lnTo>
                <a:lnTo>
                  <a:pt x="264" y="384"/>
                </a:lnTo>
                <a:lnTo>
                  <a:pt x="280" y="272"/>
                </a:lnTo>
                <a:lnTo>
                  <a:pt x="296" y="176"/>
                </a:lnTo>
                <a:lnTo>
                  <a:pt x="312" y="104"/>
                </a:lnTo>
                <a:lnTo>
                  <a:pt x="328" y="56"/>
                </a:lnTo>
                <a:lnTo>
                  <a:pt x="344" y="24"/>
                </a:lnTo>
                <a:lnTo>
                  <a:pt x="368" y="0"/>
                </a:lnTo>
                <a:lnTo>
                  <a:pt x="384" y="0"/>
                </a:lnTo>
                <a:lnTo>
                  <a:pt x="432" y="16"/>
                </a:lnTo>
                <a:lnTo>
                  <a:pt x="464" y="48"/>
                </a:lnTo>
                <a:lnTo>
                  <a:pt x="496" y="96"/>
                </a:lnTo>
                <a:lnTo>
                  <a:pt x="528" y="160"/>
                </a:lnTo>
                <a:lnTo>
                  <a:pt x="560" y="224"/>
                </a:lnTo>
                <a:lnTo>
                  <a:pt x="584" y="296"/>
                </a:lnTo>
                <a:lnTo>
                  <a:pt x="616" y="384"/>
                </a:lnTo>
                <a:lnTo>
                  <a:pt x="648" y="488"/>
                </a:lnTo>
                <a:lnTo>
                  <a:pt x="672" y="592"/>
                </a:lnTo>
                <a:lnTo>
                  <a:pt x="704" y="688"/>
                </a:lnTo>
                <a:lnTo>
                  <a:pt x="720" y="760"/>
                </a:lnTo>
                <a:lnTo>
                  <a:pt x="760" y="864"/>
                </a:lnTo>
                <a:lnTo>
                  <a:pt x="800" y="984"/>
                </a:lnTo>
                <a:lnTo>
                  <a:pt x="848" y="1112"/>
                </a:lnTo>
                <a:lnTo>
                  <a:pt x="896" y="1232"/>
                </a:lnTo>
                <a:lnTo>
                  <a:pt x="936" y="1352"/>
                </a:lnTo>
                <a:lnTo>
                  <a:pt x="984" y="1448"/>
                </a:lnTo>
                <a:lnTo>
                  <a:pt x="1024" y="1520"/>
                </a:lnTo>
                <a:lnTo>
                  <a:pt x="1064" y="1584"/>
                </a:lnTo>
                <a:lnTo>
                  <a:pt x="1096" y="1632"/>
                </a:lnTo>
                <a:lnTo>
                  <a:pt x="1128" y="1688"/>
                </a:lnTo>
                <a:lnTo>
                  <a:pt x="1176" y="1752"/>
                </a:lnTo>
                <a:lnTo>
                  <a:pt x="1232" y="181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02240" y="685800"/>
            <a:ext cx="952560" cy="5283360"/>
          </a:xfrm>
          <a:custGeom>
            <a:avLst/>
            <a:gdLst/>
            <a:ahLst/>
            <a:rect l="l" t="t" r="r" b="b"/>
            <a:pathLst>
              <a:path w="776" h="4400">
                <a:moveTo>
                  <a:pt x="0" y="4400"/>
                </a:moveTo>
                <a:lnTo>
                  <a:pt x="8" y="4352"/>
                </a:lnTo>
                <a:lnTo>
                  <a:pt x="8" y="4288"/>
                </a:lnTo>
                <a:lnTo>
                  <a:pt x="16" y="4208"/>
                </a:lnTo>
                <a:lnTo>
                  <a:pt x="24" y="4104"/>
                </a:lnTo>
                <a:lnTo>
                  <a:pt x="24" y="3976"/>
                </a:lnTo>
                <a:lnTo>
                  <a:pt x="32" y="3840"/>
                </a:lnTo>
                <a:lnTo>
                  <a:pt x="40" y="3688"/>
                </a:lnTo>
                <a:lnTo>
                  <a:pt x="48" y="3528"/>
                </a:lnTo>
                <a:lnTo>
                  <a:pt x="56" y="3352"/>
                </a:lnTo>
                <a:lnTo>
                  <a:pt x="64" y="3176"/>
                </a:lnTo>
                <a:lnTo>
                  <a:pt x="80" y="2984"/>
                </a:lnTo>
                <a:lnTo>
                  <a:pt x="88" y="2784"/>
                </a:lnTo>
                <a:lnTo>
                  <a:pt x="96" y="2584"/>
                </a:lnTo>
                <a:lnTo>
                  <a:pt x="104" y="2376"/>
                </a:lnTo>
                <a:lnTo>
                  <a:pt x="120" y="2176"/>
                </a:lnTo>
                <a:lnTo>
                  <a:pt x="128" y="1968"/>
                </a:lnTo>
                <a:lnTo>
                  <a:pt x="136" y="1768"/>
                </a:lnTo>
                <a:lnTo>
                  <a:pt x="152" y="1568"/>
                </a:lnTo>
                <a:lnTo>
                  <a:pt x="160" y="1368"/>
                </a:lnTo>
                <a:lnTo>
                  <a:pt x="168" y="1184"/>
                </a:lnTo>
                <a:lnTo>
                  <a:pt x="176" y="1000"/>
                </a:lnTo>
                <a:lnTo>
                  <a:pt x="192" y="832"/>
                </a:lnTo>
                <a:lnTo>
                  <a:pt x="200" y="672"/>
                </a:lnTo>
                <a:lnTo>
                  <a:pt x="208" y="528"/>
                </a:lnTo>
                <a:lnTo>
                  <a:pt x="216" y="392"/>
                </a:lnTo>
                <a:lnTo>
                  <a:pt x="232" y="280"/>
                </a:lnTo>
                <a:lnTo>
                  <a:pt x="240" y="184"/>
                </a:lnTo>
                <a:lnTo>
                  <a:pt x="248" y="104"/>
                </a:lnTo>
                <a:lnTo>
                  <a:pt x="256" y="48"/>
                </a:lnTo>
                <a:lnTo>
                  <a:pt x="264" y="8"/>
                </a:lnTo>
                <a:lnTo>
                  <a:pt x="264" y="0"/>
                </a:lnTo>
                <a:lnTo>
                  <a:pt x="280" y="8"/>
                </a:lnTo>
                <a:lnTo>
                  <a:pt x="288" y="56"/>
                </a:lnTo>
                <a:lnTo>
                  <a:pt x="304" y="120"/>
                </a:lnTo>
                <a:lnTo>
                  <a:pt x="320" y="208"/>
                </a:lnTo>
                <a:lnTo>
                  <a:pt x="328" y="312"/>
                </a:lnTo>
                <a:lnTo>
                  <a:pt x="344" y="424"/>
                </a:lnTo>
                <a:lnTo>
                  <a:pt x="352" y="552"/>
                </a:lnTo>
                <a:lnTo>
                  <a:pt x="368" y="688"/>
                </a:lnTo>
                <a:lnTo>
                  <a:pt x="376" y="824"/>
                </a:lnTo>
                <a:lnTo>
                  <a:pt x="392" y="960"/>
                </a:lnTo>
                <a:lnTo>
                  <a:pt x="400" y="1088"/>
                </a:lnTo>
                <a:lnTo>
                  <a:pt x="408" y="1216"/>
                </a:lnTo>
                <a:lnTo>
                  <a:pt x="416" y="1328"/>
                </a:lnTo>
                <a:lnTo>
                  <a:pt x="424" y="1424"/>
                </a:lnTo>
                <a:lnTo>
                  <a:pt x="432" y="1504"/>
                </a:lnTo>
                <a:lnTo>
                  <a:pt x="432" y="1568"/>
                </a:lnTo>
                <a:lnTo>
                  <a:pt x="432" y="1608"/>
                </a:lnTo>
                <a:lnTo>
                  <a:pt x="440" y="1648"/>
                </a:lnTo>
                <a:lnTo>
                  <a:pt x="448" y="1712"/>
                </a:lnTo>
                <a:lnTo>
                  <a:pt x="456" y="1792"/>
                </a:lnTo>
                <a:lnTo>
                  <a:pt x="464" y="1896"/>
                </a:lnTo>
                <a:lnTo>
                  <a:pt x="480" y="2008"/>
                </a:lnTo>
                <a:lnTo>
                  <a:pt x="496" y="2136"/>
                </a:lnTo>
                <a:lnTo>
                  <a:pt x="504" y="2264"/>
                </a:lnTo>
                <a:lnTo>
                  <a:pt x="520" y="2400"/>
                </a:lnTo>
                <a:lnTo>
                  <a:pt x="536" y="2528"/>
                </a:lnTo>
                <a:lnTo>
                  <a:pt x="552" y="2656"/>
                </a:lnTo>
                <a:lnTo>
                  <a:pt x="568" y="2776"/>
                </a:lnTo>
                <a:lnTo>
                  <a:pt x="576" y="2880"/>
                </a:lnTo>
                <a:lnTo>
                  <a:pt x="592" y="2968"/>
                </a:lnTo>
                <a:lnTo>
                  <a:pt x="600" y="3032"/>
                </a:lnTo>
                <a:lnTo>
                  <a:pt x="608" y="3072"/>
                </a:lnTo>
                <a:lnTo>
                  <a:pt x="616" y="3136"/>
                </a:lnTo>
                <a:lnTo>
                  <a:pt x="632" y="3224"/>
                </a:lnTo>
                <a:lnTo>
                  <a:pt x="656" y="3312"/>
                </a:lnTo>
                <a:lnTo>
                  <a:pt x="680" y="3416"/>
                </a:lnTo>
                <a:lnTo>
                  <a:pt x="704" y="3512"/>
                </a:lnTo>
                <a:lnTo>
                  <a:pt x="728" y="3600"/>
                </a:lnTo>
                <a:lnTo>
                  <a:pt x="752" y="3680"/>
                </a:lnTo>
                <a:lnTo>
                  <a:pt x="776" y="373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14680" y="5969160"/>
            <a:ext cx="42768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414680" y="5824440"/>
            <a:ext cx="1800" cy="144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024520" y="5824440"/>
            <a:ext cx="1440" cy="144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634000" y="5824440"/>
            <a:ext cx="1800" cy="144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243480" y="5824440"/>
            <a:ext cx="1800" cy="144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862680" y="5824440"/>
            <a:ext cx="1800" cy="144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472520" y="5824440"/>
            <a:ext cx="1440" cy="144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082000" y="5824440"/>
            <a:ext cx="0" cy="144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8691480" y="5824440"/>
            <a:ext cx="0" cy="144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414680" y="407880"/>
            <a:ext cx="1800" cy="556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4680" y="5969160"/>
            <a:ext cx="108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4680" y="4854600"/>
            <a:ext cx="108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14680" y="3740040"/>
            <a:ext cx="10800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4680" y="2625840"/>
            <a:ext cx="1080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4680" y="1521000"/>
            <a:ext cx="1080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4680" y="407880"/>
            <a:ext cx="108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14960" y="5267160"/>
            <a:ext cx="108000" cy="86040"/>
          </a:xfrm>
          <a:custGeom>
            <a:avLst/>
            <a:gdLst/>
            <a:ahLst/>
            <a:rect l="l" t="t" r="r" b="b"/>
            <a:pathLst>
              <a:path w="88" h="72">
                <a:moveTo>
                  <a:pt x="48" y="0"/>
                </a:moveTo>
                <a:lnTo>
                  <a:pt x="0" y="72"/>
                </a:lnTo>
                <a:lnTo>
                  <a:pt x="88" y="72"/>
                </a:lnTo>
                <a:lnTo>
                  <a:pt x="48" y="0"/>
                </a:lnTo>
                <a:lnTo>
                  <a:pt x="48" y="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95760" y="3759120"/>
            <a:ext cx="108000" cy="96840"/>
          </a:xfrm>
          <a:custGeom>
            <a:avLst/>
            <a:gdLst/>
            <a:ahLst/>
            <a:rect l="l" t="t" r="r" b="b"/>
            <a:pathLst>
              <a:path w="88" h="80">
                <a:moveTo>
                  <a:pt x="48" y="80"/>
                </a:moveTo>
                <a:lnTo>
                  <a:pt x="64" y="80"/>
                </a:lnTo>
                <a:lnTo>
                  <a:pt x="80" y="64"/>
                </a:lnTo>
                <a:lnTo>
                  <a:pt x="88" y="40"/>
                </a:lnTo>
                <a:lnTo>
                  <a:pt x="80" y="24"/>
                </a:lnTo>
                <a:lnTo>
                  <a:pt x="64" y="8"/>
                </a:lnTo>
                <a:lnTo>
                  <a:pt x="48" y="0"/>
                </a:lnTo>
                <a:lnTo>
                  <a:pt x="24" y="8"/>
                </a:lnTo>
                <a:lnTo>
                  <a:pt x="8" y="24"/>
                </a:lnTo>
                <a:lnTo>
                  <a:pt x="0" y="40"/>
                </a:lnTo>
                <a:lnTo>
                  <a:pt x="8" y="64"/>
                </a:lnTo>
                <a:lnTo>
                  <a:pt x="24" y="80"/>
                </a:lnTo>
                <a:lnTo>
                  <a:pt x="48" y="80"/>
                </a:lnTo>
                <a:lnTo>
                  <a:pt x="48" y="8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16800">
            <a:off x="1296720" y="2842200"/>
            <a:ext cx="462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Normalized Concentration (l</a:t>
            </a:r>
            <a:r>
              <a:rPr b="0" lang="en-US" sz="2000" spc="-1" strike="noStrike" baseline="30000">
                <a:solidFill>
                  <a:srgbClr val="ffff66"/>
                </a:solidFill>
                <a:latin typeface="Trebuchet MS"/>
              </a:rPr>
              <a:t>–1</a:t>
            </a:r>
            <a:r>
              <a:rPr b="0" lang="en-US" sz="2000" spc="-1" strike="noStrike">
                <a:solidFill>
                  <a:srgbClr val="ffff66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802320" y="303120"/>
            <a:ext cx="611280" cy="5843520"/>
            <a:chOff x="3802320" y="303120"/>
            <a:chExt cx="611280" cy="5843520"/>
          </a:xfrm>
        </p:grpSpPr>
        <p:sp>
          <p:nvSpPr>
            <p:cNvPr id="266" name=""/>
            <p:cNvSpPr/>
            <p:nvPr/>
          </p:nvSpPr>
          <p:spPr>
            <a:xfrm>
              <a:off x="3802320" y="3031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02320" y="13971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1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41720" y="2492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41720" y="35877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95720" y="57783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95720" y="46832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5996880" y="6461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Time (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405680" y="6137280"/>
            <a:ext cx="4448880" cy="403200"/>
            <a:chOff x="4405680" y="6137280"/>
            <a:chExt cx="4448880" cy="403200"/>
          </a:xfrm>
        </p:grpSpPr>
        <p:sp>
          <p:nvSpPr>
            <p:cNvPr id="274" name=""/>
            <p:cNvSpPr/>
            <p:nvPr/>
          </p:nvSpPr>
          <p:spPr>
            <a:xfrm>
              <a:off x="4405680" y="6172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10120" y="6172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77680" y="61722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80680" y="61722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85480" y="61722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94720" y="6137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399520" y="6137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50760" y="6137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077520" y="6588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Erythrocy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12880" y="9684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lbum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66440" y="1278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rebuchet MS"/>
              </a:rPr>
              <a:t>Sucr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4640" y="1587600"/>
            <a:ext cx="5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rebuchet MS"/>
              </a:rPr>
              <a:t>Na</a:t>
            </a:r>
            <a:r>
              <a:rPr b="0" lang="en-US" sz="1800" spc="-1" strike="noStrike" baseline="30000">
                <a:solidFill>
                  <a:srgbClr val="ffff00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24760" y="189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Trebuchet MS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231480"/>
            <a:ext cx="33066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Dog Liver in vivo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88" name=""/>
          <p:cNvSpPr/>
          <p:nvPr/>
        </p:nvSpPr>
        <p:spPr>
          <a:xfrm>
            <a:off x="5848200" y="608040"/>
            <a:ext cx="202104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4800" y="1771560"/>
            <a:ext cx="19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5360" y="1697040"/>
            <a:ext cx="288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oresky, C. A. A linear method for determining liver sinusoidal and extravascular volumes. </a:t>
            </a: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Am. J. Physiol.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204: 626-640, 196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670280" y="1739880"/>
            <a:ext cx="1949760" cy="4148280"/>
            <a:chOff x="4670280" y="1739880"/>
            <a:chExt cx="1949760" cy="4148280"/>
          </a:xfrm>
        </p:grpSpPr>
        <p:sp>
          <p:nvSpPr>
            <p:cNvPr id="292" name=""/>
            <p:cNvSpPr/>
            <p:nvPr/>
          </p:nvSpPr>
          <p:spPr>
            <a:xfrm>
              <a:off x="5289480" y="3701880"/>
              <a:ext cx="92160" cy="92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76920" y="5189400"/>
              <a:ext cx="91800" cy="92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70280" y="5796000"/>
              <a:ext cx="92160" cy="92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58080" y="1739880"/>
              <a:ext cx="91800" cy="92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79960" y="4210200"/>
              <a:ext cx="92160" cy="91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95920" y="4089240"/>
              <a:ext cx="92160" cy="92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11920" y="4514760"/>
              <a:ext cx="92160" cy="92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14960" y="4844880"/>
              <a:ext cx="92160" cy="92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18360" y="5111640"/>
              <a:ext cx="91800" cy="92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27880" y="5315040"/>
              <a:ext cx="92160" cy="92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92880" y="3753000"/>
              <a:ext cx="91800" cy="91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6015960" y="4626000"/>
            <a:ext cx="3473280" cy="1967400"/>
            <a:chOff x="6015960" y="4626000"/>
            <a:chExt cx="3473280" cy="1967400"/>
          </a:xfrm>
        </p:grpSpPr>
        <p:grpSp>
          <p:nvGrpSpPr>
            <p:cNvPr id="304" name=""/>
            <p:cNvGrpSpPr/>
            <p:nvPr/>
          </p:nvGrpSpPr>
          <p:grpSpPr>
            <a:xfrm>
              <a:off x="6940440" y="4699080"/>
              <a:ext cx="1763640" cy="1079280"/>
              <a:chOff x="6940440" y="4699080"/>
              <a:chExt cx="1763640" cy="1079280"/>
            </a:xfrm>
          </p:grpSpPr>
          <p:sp>
            <p:nvSpPr>
              <p:cNvPr id="305" name=""/>
              <p:cNvSpPr/>
              <p:nvPr/>
            </p:nvSpPr>
            <p:spPr>
              <a:xfrm>
                <a:off x="6940440" y="4707000"/>
                <a:ext cx="180360" cy="865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163280" y="4707000"/>
                <a:ext cx="181800" cy="865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390440" y="4707000"/>
                <a:ext cx="181800" cy="865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617600" y="4707000"/>
                <a:ext cx="177480" cy="865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849080" y="4707000"/>
                <a:ext cx="177840" cy="865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072280" y="4707000"/>
                <a:ext cx="181440" cy="865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299440" y="4707000"/>
                <a:ext cx="181440" cy="865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523720" y="4707000"/>
                <a:ext cx="180360" cy="865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940440" y="5602320"/>
                <a:ext cx="180360" cy="176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163280" y="5602320"/>
                <a:ext cx="181800" cy="176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390440" y="5602320"/>
                <a:ext cx="181800" cy="176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617600" y="5602320"/>
                <a:ext cx="177480" cy="176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849080" y="5602320"/>
                <a:ext cx="177840" cy="176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072280" y="5602320"/>
                <a:ext cx="181440" cy="176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299440" y="5602320"/>
                <a:ext cx="181440" cy="176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523720" y="5602320"/>
                <a:ext cx="180360" cy="1760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940440" y="4878360"/>
                <a:ext cx="180360" cy="811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163280" y="4878360"/>
                <a:ext cx="181800" cy="811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390440" y="4878360"/>
                <a:ext cx="181800" cy="811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617600" y="4878360"/>
                <a:ext cx="177480" cy="811080"/>
              </a:xfrm>
              <a:prstGeom prst="rect">
                <a:avLst/>
              </a:prstGeom>
              <a:gradFill rotWithShape="0">
                <a:gsLst>
                  <a:gs pos="0">
                    <a:srgbClr val="7e7e7e"/>
                  </a:gs>
                  <a:gs pos="50000">
                    <a:srgbClr val="ffffff"/>
                  </a:gs>
                  <a:gs pos="100000">
                    <a:srgbClr val="7e7e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849080" y="5214960"/>
                <a:ext cx="177840" cy="474480"/>
              </a:xfrm>
              <a:prstGeom prst="rect">
                <a:avLst/>
              </a:prstGeom>
              <a:gradFill rotWithShape="0">
                <a:gsLst>
                  <a:gs pos="0">
                    <a:srgbClr val="7e0000"/>
                  </a:gs>
                  <a:gs pos="50000">
                    <a:srgbClr val="ff0000"/>
                  </a:gs>
                  <a:gs pos="100000">
                    <a:srgbClr val="7e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072280" y="4878360"/>
                <a:ext cx="181440" cy="811080"/>
              </a:xfrm>
              <a:prstGeom prst="rect">
                <a:avLst/>
              </a:prstGeom>
              <a:gradFill rotWithShape="0">
                <a:gsLst>
                  <a:gs pos="0">
                    <a:srgbClr val="7e0000"/>
                  </a:gs>
                  <a:gs pos="50000">
                    <a:srgbClr val="ff0000"/>
                  </a:gs>
                  <a:gs pos="100000">
                    <a:srgbClr val="7e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299440" y="4878360"/>
                <a:ext cx="181440" cy="811080"/>
              </a:xfrm>
              <a:prstGeom prst="rect">
                <a:avLst/>
              </a:prstGeom>
              <a:gradFill rotWithShape="0">
                <a:gsLst>
                  <a:gs pos="0">
                    <a:srgbClr val="7e0000"/>
                  </a:gs>
                  <a:gs pos="50000">
                    <a:srgbClr val="ff0000"/>
                  </a:gs>
                  <a:gs pos="100000">
                    <a:srgbClr val="7e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523720" y="4878360"/>
                <a:ext cx="180360" cy="811080"/>
              </a:xfrm>
              <a:prstGeom prst="rect">
                <a:avLst/>
              </a:prstGeom>
              <a:gradFill rotWithShape="0">
                <a:gsLst>
                  <a:gs pos="0">
                    <a:srgbClr val="7e0000"/>
                  </a:gs>
                  <a:gs pos="50000">
                    <a:srgbClr val="ff0000"/>
                  </a:gs>
                  <a:gs pos="100000">
                    <a:srgbClr val="7e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846200" y="5207040"/>
                <a:ext cx="180720" cy="20520"/>
              </a:xfrm>
              <a:prstGeom prst="ellipse">
                <a:avLst/>
              </a:prstGeom>
              <a:gradFill rotWithShape="0">
                <a:gsLst>
                  <a:gs pos="0">
                    <a:srgbClr val="4b2829"/>
                  </a:gs>
                  <a:gs pos="50000">
                    <a:srgbClr val="ff878d"/>
                  </a:gs>
                  <a:gs pos="100000">
                    <a:srgbClr val="4b28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074800" y="4869000"/>
                <a:ext cx="180720" cy="20520"/>
              </a:xfrm>
              <a:prstGeom prst="ellipse">
                <a:avLst/>
              </a:prstGeom>
              <a:gradFill rotWithShape="0">
                <a:gsLst>
                  <a:gs pos="0">
                    <a:srgbClr val="4b2829"/>
                  </a:gs>
                  <a:gs pos="50000">
                    <a:srgbClr val="ff878d"/>
                  </a:gs>
                  <a:gs pos="100000">
                    <a:srgbClr val="4b28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298000" y="4869000"/>
                <a:ext cx="180720" cy="20520"/>
              </a:xfrm>
              <a:prstGeom prst="ellipse">
                <a:avLst/>
              </a:prstGeom>
              <a:gradFill rotWithShape="0">
                <a:gsLst>
                  <a:gs pos="0">
                    <a:srgbClr val="4b2829"/>
                  </a:gs>
                  <a:gs pos="50000">
                    <a:srgbClr val="ff878d"/>
                  </a:gs>
                  <a:gs pos="100000">
                    <a:srgbClr val="4b28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520840" y="4869000"/>
                <a:ext cx="180360" cy="20520"/>
              </a:xfrm>
              <a:prstGeom prst="ellipse">
                <a:avLst/>
              </a:prstGeom>
              <a:gradFill rotWithShape="0">
                <a:gsLst>
                  <a:gs pos="0">
                    <a:srgbClr val="4b2829"/>
                  </a:gs>
                  <a:gs pos="50000">
                    <a:srgbClr val="ff878d"/>
                  </a:gs>
                  <a:gs pos="100000">
                    <a:srgbClr val="4b28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074800" y="4699080"/>
                <a:ext cx="18072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298000" y="4699080"/>
                <a:ext cx="18072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520840" y="4699080"/>
                <a:ext cx="18036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849080" y="4699080"/>
                <a:ext cx="18036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168680" y="4699080"/>
                <a:ext cx="18072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91880" y="4699080"/>
                <a:ext cx="18072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614720" y="4699080"/>
                <a:ext cx="18036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943320" y="4699080"/>
                <a:ext cx="180360" cy="20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6878520" y="6006960"/>
              <a:ext cx="18860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15960" y="6138720"/>
              <a:ext cx="3473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Fraction collec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7400" y="4626000"/>
              <a:ext cx="60120" cy="82440"/>
            </a:xfrm>
            <a:prstGeom prst="ellipse">
              <a:avLst/>
            </a:prstGeom>
            <a:gradFill rotWithShape="0">
              <a:gsLst>
                <a:gs pos="0">
                  <a:srgbClr val="fe4b4b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07400" y="4863960"/>
              <a:ext cx="60120" cy="82800"/>
            </a:xfrm>
            <a:prstGeom prst="ellipse">
              <a:avLst/>
            </a:prstGeom>
            <a:gradFill rotWithShape="0">
              <a:gsLst>
                <a:gs pos="0">
                  <a:srgbClr val="ff878d"/>
                </a:gs>
                <a:gs pos="100000">
                  <a:srgbClr val="cb6b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07400" y="5124600"/>
              <a:ext cx="60120" cy="82440"/>
            </a:xfrm>
            <a:prstGeom prst="ellipse">
              <a:avLst/>
            </a:prstGeom>
            <a:gradFill rotWithShape="0">
              <a:gsLst>
                <a:gs pos="0">
                  <a:srgbClr val="ff878d"/>
                </a:gs>
                <a:gs pos="100000">
                  <a:srgbClr val="cb6b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8440" y="2224080"/>
            <a:ext cx="5341680" cy="4064760"/>
            <a:chOff x="118440" y="2224080"/>
            <a:chExt cx="5341680" cy="4064760"/>
          </a:xfrm>
        </p:grpSpPr>
        <p:sp>
          <p:nvSpPr>
            <p:cNvPr id="347" name=""/>
            <p:cNvSpPr/>
            <p:nvPr/>
          </p:nvSpPr>
          <p:spPr>
            <a:xfrm>
              <a:off x="2606760" y="3344760"/>
              <a:ext cx="1027080" cy="1125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23640" y="4859280"/>
              <a:ext cx="2193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Roller pum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2593800" y="3322800"/>
              <a:ext cx="1059120" cy="1161720"/>
              <a:chOff x="2593800" y="3322800"/>
              <a:chExt cx="1059120" cy="1161720"/>
            </a:xfrm>
          </p:grpSpPr>
          <p:sp>
            <p:nvSpPr>
              <p:cNvPr id="350" name=""/>
              <p:cNvSpPr/>
              <p:nvPr/>
            </p:nvSpPr>
            <p:spPr>
              <a:xfrm>
                <a:off x="2593800" y="3322800"/>
                <a:ext cx="1059120" cy="116172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651040" y="3382920"/>
                <a:ext cx="944640" cy="104148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612880" y="3921120"/>
                <a:ext cx="1017720" cy="5367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2693880" y="3435480"/>
                <a:ext cx="858960" cy="936360"/>
                <a:chOff x="2693880" y="3435480"/>
                <a:chExt cx="858960" cy="9363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693880" y="3794040"/>
                  <a:ext cx="200160" cy="217440"/>
                </a:xfrm>
                <a:prstGeom prst="ellipse">
                  <a:avLst/>
                </a:prstGeom>
                <a:solidFill>
                  <a:srgbClr val="b2b2b2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352680" y="3794040"/>
                  <a:ext cx="200160" cy="217440"/>
                </a:xfrm>
                <a:prstGeom prst="ellipse">
                  <a:avLst/>
                </a:prstGeom>
                <a:solidFill>
                  <a:srgbClr val="b2b2b2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025080" y="3435480"/>
                  <a:ext cx="195840" cy="217440"/>
                </a:xfrm>
                <a:prstGeom prst="ellipse">
                  <a:avLst/>
                </a:prstGeom>
                <a:solidFill>
                  <a:srgbClr val="b2b2b2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025080" y="4154400"/>
                  <a:ext cx="195840" cy="217440"/>
                </a:xfrm>
                <a:prstGeom prst="ellipse">
                  <a:avLst/>
                </a:prstGeom>
                <a:solidFill>
                  <a:srgbClr val="b2b2b2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 rot="8100000">
                  <a:off x="2779560" y="4060800"/>
                  <a:ext cx="222120" cy="195840"/>
                </a:xfrm>
                <a:prstGeom prst="ellipse">
                  <a:avLst/>
                </a:prstGeom>
                <a:solidFill>
                  <a:srgbClr val="b2b2b2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rot="8100000">
                  <a:off x="3245040" y="3549600"/>
                  <a:ext cx="220320" cy="197280"/>
                </a:xfrm>
                <a:prstGeom prst="ellipse">
                  <a:avLst/>
                </a:prstGeom>
                <a:solidFill>
                  <a:srgbClr val="b2b2b2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rot="8100000">
                  <a:off x="2780640" y="3550320"/>
                  <a:ext cx="222480" cy="197640"/>
                </a:xfrm>
                <a:prstGeom prst="ellipse">
                  <a:avLst/>
                </a:prstGeom>
                <a:solidFill>
                  <a:srgbClr val="b2b2b2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rot="8100000">
                  <a:off x="3243960" y="4060440"/>
                  <a:ext cx="220320" cy="195840"/>
                </a:xfrm>
                <a:prstGeom prst="ellipse">
                  <a:avLst/>
                </a:prstGeom>
                <a:solidFill>
                  <a:srgbClr val="b2b2b2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2" name=""/>
            <p:cNvSpPr/>
            <p:nvPr/>
          </p:nvSpPr>
          <p:spPr>
            <a:xfrm rot="10800000">
              <a:off x="515880" y="2224080"/>
              <a:ext cx="2133720" cy="330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38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383"/>
                </a:path>
              </a:pathLst>
            </a:custGeom>
            <a:noFill/>
            <a:ln cap="rnd"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36600" y="4432320"/>
              <a:ext cx="1270080" cy="1320840"/>
              <a:chOff x="336600" y="4432320"/>
              <a:chExt cx="1270080" cy="1320840"/>
            </a:xfrm>
          </p:grpSpPr>
          <p:sp>
            <p:nvSpPr>
              <p:cNvPr id="364" name=""/>
              <p:cNvSpPr/>
              <p:nvPr/>
            </p:nvSpPr>
            <p:spPr>
              <a:xfrm>
                <a:off x="336600" y="4497480"/>
                <a:ext cx="1270080" cy="895320"/>
              </a:xfrm>
              <a:prstGeom prst="rect">
                <a:avLst/>
              </a:prstGeom>
              <a:gradFill rotWithShape="0">
                <a:gsLst>
                  <a:gs pos="0">
                    <a:srgbClr val="4b4b4b"/>
                  </a:gs>
                  <a:gs pos="50000">
                    <a:srgbClr val="ffffff"/>
                  </a:gs>
                  <a:gs pos="100000">
                    <a:srgbClr val="4b4b4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6600" y="4767120"/>
                <a:ext cx="1270080" cy="895320"/>
              </a:xfrm>
              <a:prstGeom prst="rect">
                <a:avLst/>
              </a:prstGeom>
              <a:gradFill rotWithShape="0">
                <a:gsLst>
                  <a:gs pos="0">
                    <a:srgbClr val="4b0000"/>
                  </a:gs>
                  <a:gs pos="50000">
                    <a:srgbClr val="ff0000"/>
                  </a:gs>
                  <a:gs pos="100000">
                    <a:srgbClr val="4b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74400" y="5599080"/>
                <a:ext cx="1207800" cy="154080"/>
              </a:xfrm>
              <a:prstGeom prst="ellipse">
                <a:avLst/>
              </a:prstGeom>
              <a:gradFill rotWithShape="0">
                <a:gsLst>
                  <a:gs pos="0">
                    <a:srgbClr val="4b0000"/>
                  </a:gs>
                  <a:gs pos="50000">
                    <a:srgbClr val="ff0000"/>
                  </a:gs>
                  <a:gs pos="100000">
                    <a:srgbClr val="4b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74400" y="4707000"/>
                <a:ext cx="1207800" cy="111240"/>
              </a:xfrm>
              <a:prstGeom prst="ellipse">
                <a:avLst/>
              </a:prstGeom>
              <a:gradFill rotWithShape="0">
                <a:gsLst>
                  <a:gs pos="0">
                    <a:srgbClr val="4b2829"/>
                  </a:gs>
                  <a:gs pos="50000">
                    <a:srgbClr val="ff878d"/>
                  </a:gs>
                  <a:gs pos="100000">
                    <a:srgbClr val="4b28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74400" y="4432320"/>
                <a:ext cx="1207800" cy="111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e4e4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118440" y="5834160"/>
              <a:ext cx="1827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Reservoi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8920" y="2874960"/>
              <a:ext cx="1202400" cy="92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95% O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rebuchet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5% CO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rebuchet MS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49400" y="3898800"/>
              <a:ext cx="0" cy="149868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0800000">
              <a:off x="3592800" y="3241800"/>
              <a:ext cx="1867320" cy="133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4" y="0"/>
                  </a:moveTo>
                  <a:arcTo wR="10800" hR="10800" stAng="-5405200" swAng="54052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4" y="0"/>
                  </a:moveTo>
                  <a:arcTo wR="10800" hR="10800" stAng="-5405200" swAng="5405200"/>
                </a:path>
              </a:pathLst>
            </a:custGeom>
            <a:noFill/>
            <a:ln cap="rnd"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357800" y="4248000"/>
            <a:ext cx="1644480" cy="1469160"/>
            <a:chOff x="4357800" y="4248000"/>
            <a:chExt cx="1644480" cy="1469160"/>
          </a:xfrm>
        </p:grpSpPr>
        <p:sp>
          <p:nvSpPr>
            <p:cNvPr id="374" name=""/>
            <p:cNvSpPr/>
            <p:nvPr/>
          </p:nvSpPr>
          <p:spPr>
            <a:xfrm>
              <a:off x="4554360" y="4248000"/>
              <a:ext cx="486000" cy="54612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57800" y="5262480"/>
              <a:ext cx="1644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Injec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0800000">
              <a:off x="4748040" y="4502520"/>
              <a:ext cx="574920" cy="64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740120" y="4830840"/>
              <a:ext cx="0" cy="261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59440" y="4503600"/>
              <a:ext cx="2332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418200" y="2603520"/>
            <a:ext cx="5502240" cy="2750760"/>
            <a:chOff x="3418200" y="2603520"/>
            <a:chExt cx="5502240" cy="2750760"/>
          </a:xfrm>
        </p:grpSpPr>
        <p:sp>
          <p:nvSpPr>
            <p:cNvPr id="380" name=""/>
            <p:cNvSpPr/>
            <p:nvPr/>
          </p:nvSpPr>
          <p:spPr>
            <a:xfrm rot="10800000">
              <a:off x="5522040" y="3614760"/>
              <a:ext cx="2437560" cy="173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6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6268"/>
                </a:path>
              </a:pathLst>
            </a:custGeom>
            <a:noFill/>
            <a:ln cap="rnd"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33960" y="3867480"/>
              <a:ext cx="574200" cy="67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0800000">
              <a:off x="4808880" y="3746520"/>
              <a:ext cx="40572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68120" y="411948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rebuchet MS"/>
                </a:rPr>
                <a:t>Li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80080" y="2603520"/>
              <a:ext cx="2435040" cy="1587600"/>
            </a:xfrm>
            <a:custGeom>
              <a:avLst/>
              <a:gdLst/>
              <a:ahLst/>
              <a:rect l="l" t="t" r="r" b="b"/>
              <a:pathLst>
                <a:path w="1726" h="1000">
                  <a:moveTo>
                    <a:pt x="60" y="666"/>
                  </a:moveTo>
                  <a:lnTo>
                    <a:pt x="66" y="655"/>
                  </a:lnTo>
                  <a:lnTo>
                    <a:pt x="76" y="639"/>
                  </a:lnTo>
                  <a:lnTo>
                    <a:pt x="82" y="628"/>
                  </a:lnTo>
                  <a:lnTo>
                    <a:pt x="87" y="617"/>
                  </a:lnTo>
                  <a:lnTo>
                    <a:pt x="93" y="606"/>
                  </a:lnTo>
                  <a:lnTo>
                    <a:pt x="104" y="584"/>
                  </a:lnTo>
                  <a:lnTo>
                    <a:pt x="115" y="562"/>
                  </a:lnTo>
                  <a:lnTo>
                    <a:pt x="120" y="551"/>
                  </a:lnTo>
                  <a:lnTo>
                    <a:pt x="131" y="535"/>
                  </a:lnTo>
                  <a:lnTo>
                    <a:pt x="142" y="513"/>
                  </a:lnTo>
                  <a:lnTo>
                    <a:pt x="153" y="491"/>
                  </a:lnTo>
                  <a:lnTo>
                    <a:pt x="158" y="475"/>
                  </a:lnTo>
                  <a:lnTo>
                    <a:pt x="169" y="464"/>
                  </a:lnTo>
                  <a:lnTo>
                    <a:pt x="180" y="442"/>
                  </a:lnTo>
                  <a:lnTo>
                    <a:pt x="191" y="431"/>
                  </a:lnTo>
                  <a:lnTo>
                    <a:pt x="202" y="399"/>
                  </a:lnTo>
                  <a:lnTo>
                    <a:pt x="213" y="388"/>
                  </a:lnTo>
                  <a:lnTo>
                    <a:pt x="224" y="366"/>
                  </a:lnTo>
                  <a:lnTo>
                    <a:pt x="235" y="344"/>
                  </a:lnTo>
                  <a:lnTo>
                    <a:pt x="240" y="317"/>
                  </a:lnTo>
                  <a:lnTo>
                    <a:pt x="257" y="300"/>
                  </a:lnTo>
                  <a:lnTo>
                    <a:pt x="267" y="278"/>
                  </a:lnTo>
                  <a:lnTo>
                    <a:pt x="284" y="257"/>
                  </a:lnTo>
                  <a:lnTo>
                    <a:pt x="295" y="235"/>
                  </a:lnTo>
                  <a:lnTo>
                    <a:pt x="311" y="224"/>
                  </a:lnTo>
                  <a:lnTo>
                    <a:pt x="333" y="202"/>
                  </a:lnTo>
                  <a:lnTo>
                    <a:pt x="349" y="186"/>
                  </a:lnTo>
                  <a:lnTo>
                    <a:pt x="366" y="175"/>
                  </a:lnTo>
                  <a:lnTo>
                    <a:pt x="388" y="142"/>
                  </a:lnTo>
                  <a:lnTo>
                    <a:pt x="398" y="131"/>
                  </a:lnTo>
                  <a:lnTo>
                    <a:pt x="415" y="120"/>
                  </a:lnTo>
                  <a:lnTo>
                    <a:pt x="431" y="104"/>
                  </a:lnTo>
                  <a:lnTo>
                    <a:pt x="453" y="93"/>
                  </a:lnTo>
                  <a:lnTo>
                    <a:pt x="475" y="76"/>
                  </a:lnTo>
                  <a:lnTo>
                    <a:pt x="491" y="76"/>
                  </a:lnTo>
                  <a:lnTo>
                    <a:pt x="508" y="60"/>
                  </a:lnTo>
                  <a:lnTo>
                    <a:pt x="530" y="49"/>
                  </a:lnTo>
                  <a:lnTo>
                    <a:pt x="661" y="0"/>
                  </a:lnTo>
                  <a:lnTo>
                    <a:pt x="688" y="0"/>
                  </a:lnTo>
                  <a:lnTo>
                    <a:pt x="704" y="0"/>
                  </a:lnTo>
                  <a:lnTo>
                    <a:pt x="726" y="0"/>
                  </a:lnTo>
                  <a:lnTo>
                    <a:pt x="748" y="0"/>
                  </a:lnTo>
                  <a:lnTo>
                    <a:pt x="775" y="0"/>
                  </a:lnTo>
                  <a:lnTo>
                    <a:pt x="830" y="0"/>
                  </a:lnTo>
                  <a:lnTo>
                    <a:pt x="852" y="0"/>
                  </a:lnTo>
                  <a:lnTo>
                    <a:pt x="895" y="0"/>
                  </a:lnTo>
                  <a:lnTo>
                    <a:pt x="917" y="0"/>
                  </a:lnTo>
                  <a:lnTo>
                    <a:pt x="944" y="0"/>
                  </a:lnTo>
                  <a:lnTo>
                    <a:pt x="972" y="5"/>
                  </a:lnTo>
                  <a:lnTo>
                    <a:pt x="999" y="16"/>
                  </a:lnTo>
                  <a:lnTo>
                    <a:pt x="1037" y="22"/>
                  </a:lnTo>
                  <a:lnTo>
                    <a:pt x="1075" y="38"/>
                  </a:lnTo>
                  <a:lnTo>
                    <a:pt x="1108" y="49"/>
                  </a:lnTo>
                  <a:lnTo>
                    <a:pt x="1135" y="60"/>
                  </a:lnTo>
                  <a:lnTo>
                    <a:pt x="1157" y="76"/>
                  </a:lnTo>
                  <a:lnTo>
                    <a:pt x="1179" y="87"/>
                  </a:lnTo>
                  <a:lnTo>
                    <a:pt x="1206" y="104"/>
                  </a:lnTo>
                  <a:lnTo>
                    <a:pt x="1228" y="120"/>
                  </a:lnTo>
                  <a:lnTo>
                    <a:pt x="1261" y="142"/>
                  </a:lnTo>
                  <a:lnTo>
                    <a:pt x="1283" y="164"/>
                  </a:lnTo>
                  <a:lnTo>
                    <a:pt x="1419" y="306"/>
                  </a:lnTo>
                  <a:lnTo>
                    <a:pt x="1447" y="338"/>
                  </a:lnTo>
                  <a:lnTo>
                    <a:pt x="1468" y="371"/>
                  </a:lnTo>
                  <a:lnTo>
                    <a:pt x="1485" y="393"/>
                  </a:lnTo>
                  <a:lnTo>
                    <a:pt x="1496" y="415"/>
                  </a:lnTo>
                  <a:lnTo>
                    <a:pt x="1507" y="442"/>
                  </a:lnTo>
                  <a:lnTo>
                    <a:pt x="1512" y="464"/>
                  </a:lnTo>
                  <a:lnTo>
                    <a:pt x="1523" y="486"/>
                  </a:lnTo>
                  <a:lnTo>
                    <a:pt x="1610" y="661"/>
                  </a:lnTo>
                  <a:lnTo>
                    <a:pt x="1610" y="671"/>
                  </a:lnTo>
                  <a:lnTo>
                    <a:pt x="1627" y="693"/>
                  </a:lnTo>
                  <a:lnTo>
                    <a:pt x="1638" y="710"/>
                  </a:lnTo>
                  <a:lnTo>
                    <a:pt x="1643" y="726"/>
                  </a:lnTo>
                  <a:lnTo>
                    <a:pt x="1659" y="748"/>
                  </a:lnTo>
                  <a:lnTo>
                    <a:pt x="1670" y="770"/>
                  </a:lnTo>
                  <a:lnTo>
                    <a:pt x="1687" y="797"/>
                  </a:lnTo>
                  <a:lnTo>
                    <a:pt x="1692" y="813"/>
                  </a:lnTo>
                  <a:lnTo>
                    <a:pt x="1709" y="841"/>
                  </a:lnTo>
                  <a:lnTo>
                    <a:pt x="1714" y="857"/>
                  </a:lnTo>
                  <a:lnTo>
                    <a:pt x="1720" y="868"/>
                  </a:lnTo>
                  <a:lnTo>
                    <a:pt x="1720" y="890"/>
                  </a:lnTo>
                  <a:lnTo>
                    <a:pt x="1720" y="901"/>
                  </a:lnTo>
                  <a:lnTo>
                    <a:pt x="1720" y="923"/>
                  </a:lnTo>
                  <a:lnTo>
                    <a:pt x="1725" y="933"/>
                  </a:lnTo>
                  <a:lnTo>
                    <a:pt x="1725" y="944"/>
                  </a:lnTo>
                  <a:lnTo>
                    <a:pt x="1725" y="955"/>
                  </a:lnTo>
                  <a:lnTo>
                    <a:pt x="1709" y="966"/>
                  </a:lnTo>
                  <a:lnTo>
                    <a:pt x="1703" y="977"/>
                  </a:lnTo>
                  <a:lnTo>
                    <a:pt x="1687" y="988"/>
                  </a:lnTo>
                  <a:lnTo>
                    <a:pt x="1670" y="994"/>
                  </a:lnTo>
                  <a:lnTo>
                    <a:pt x="1659" y="999"/>
                  </a:lnTo>
                  <a:lnTo>
                    <a:pt x="1649" y="999"/>
                  </a:lnTo>
                  <a:lnTo>
                    <a:pt x="1632" y="988"/>
                  </a:lnTo>
                  <a:lnTo>
                    <a:pt x="1616" y="988"/>
                  </a:lnTo>
                  <a:lnTo>
                    <a:pt x="1539" y="977"/>
                  </a:lnTo>
                  <a:lnTo>
                    <a:pt x="1528" y="972"/>
                  </a:lnTo>
                  <a:lnTo>
                    <a:pt x="1507" y="961"/>
                  </a:lnTo>
                  <a:lnTo>
                    <a:pt x="1485" y="944"/>
                  </a:lnTo>
                  <a:lnTo>
                    <a:pt x="1463" y="939"/>
                  </a:lnTo>
                  <a:lnTo>
                    <a:pt x="1447" y="933"/>
                  </a:lnTo>
                  <a:lnTo>
                    <a:pt x="1425" y="933"/>
                  </a:lnTo>
                  <a:lnTo>
                    <a:pt x="1414" y="928"/>
                  </a:lnTo>
                  <a:lnTo>
                    <a:pt x="1403" y="923"/>
                  </a:lnTo>
                  <a:lnTo>
                    <a:pt x="1381" y="912"/>
                  </a:lnTo>
                  <a:lnTo>
                    <a:pt x="1365" y="906"/>
                  </a:lnTo>
                  <a:lnTo>
                    <a:pt x="1348" y="906"/>
                  </a:lnTo>
                  <a:lnTo>
                    <a:pt x="1332" y="906"/>
                  </a:lnTo>
                  <a:lnTo>
                    <a:pt x="1321" y="901"/>
                  </a:lnTo>
                  <a:lnTo>
                    <a:pt x="1305" y="895"/>
                  </a:lnTo>
                  <a:lnTo>
                    <a:pt x="1174" y="863"/>
                  </a:lnTo>
                  <a:lnTo>
                    <a:pt x="1141" y="863"/>
                  </a:lnTo>
                  <a:lnTo>
                    <a:pt x="1114" y="852"/>
                  </a:lnTo>
                  <a:lnTo>
                    <a:pt x="1092" y="846"/>
                  </a:lnTo>
                  <a:lnTo>
                    <a:pt x="1064" y="846"/>
                  </a:lnTo>
                  <a:lnTo>
                    <a:pt x="1043" y="841"/>
                  </a:lnTo>
                  <a:lnTo>
                    <a:pt x="1015" y="835"/>
                  </a:lnTo>
                  <a:lnTo>
                    <a:pt x="988" y="835"/>
                  </a:lnTo>
                  <a:lnTo>
                    <a:pt x="966" y="830"/>
                  </a:lnTo>
                  <a:lnTo>
                    <a:pt x="950" y="824"/>
                  </a:lnTo>
                  <a:lnTo>
                    <a:pt x="917" y="819"/>
                  </a:lnTo>
                  <a:lnTo>
                    <a:pt x="890" y="813"/>
                  </a:lnTo>
                  <a:lnTo>
                    <a:pt x="863" y="808"/>
                  </a:lnTo>
                  <a:lnTo>
                    <a:pt x="841" y="802"/>
                  </a:lnTo>
                  <a:lnTo>
                    <a:pt x="819" y="802"/>
                  </a:lnTo>
                  <a:lnTo>
                    <a:pt x="792" y="802"/>
                  </a:lnTo>
                  <a:lnTo>
                    <a:pt x="781" y="797"/>
                  </a:lnTo>
                  <a:lnTo>
                    <a:pt x="748" y="797"/>
                  </a:lnTo>
                  <a:lnTo>
                    <a:pt x="731" y="797"/>
                  </a:lnTo>
                  <a:lnTo>
                    <a:pt x="715" y="797"/>
                  </a:lnTo>
                  <a:lnTo>
                    <a:pt x="704" y="797"/>
                  </a:lnTo>
                  <a:lnTo>
                    <a:pt x="688" y="797"/>
                  </a:lnTo>
                  <a:lnTo>
                    <a:pt x="666" y="797"/>
                  </a:lnTo>
                  <a:lnTo>
                    <a:pt x="650" y="797"/>
                  </a:lnTo>
                  <a:lnTo>
                    <a:pt x="633" y="797"/>
                  </a:lnTo>
                  <a:lnTo>
                    <a:pt x="606" y="797"/>
                  </a:lnTo>
                  <a:lnTo>
                    <a:pt x="590" y="797"/>
                  </a:lnTo>
                  <a:lnTo>
                    <a:pt x="568" y="797"/>
                  </a:lnTo>
                  <a:lnTo>
                    <a:pt x="540" y="797"/>
                  </a:lnTo>
                  <a:lnTo>
                    <a:pt x="530" y="797"/>
                  </a:lnTo>
                  <a:lnTo>
                    <a:pt x="393" y="797"/>
                  </a:lnTo>
                  <a:lnTo>
                    <a:pt x="377" y="797"/>
                  </a:lnTo>
                  <a:lnTo>
                    <a:pt x="355" y="802"/>
                  </a:lnTo>
                  <a:lnTo>
                    <a:pt x="328" y="802"/>
                  </a:lnTo>
                  <a:lnTo>
                    <a:pt x="306" y="808"/>
                  </a:lnTo>
                  <a:lnTo>
                    <a:pt x="289" y="808"/>
                  </a:lnTo>
                  <a:lnTo>
                    <a:pt x="262" y="808"/>
                  </a:lnTo>
                  <a:lnTo>
                    <a:pt x="240" y="808"/>
                  </a:lnTo>
                  <a:lnTo>
                    <a:pt x="224" y="808"/>
                  </a:lnTo>
                  <a:lnTo>
                    <a:pt x="213" y="808"/>
                  </a:lnTo>
                  <a:lnTo>
                    <a:pt x="197" y="808"/>
                  </a:lnTo>
                  <a:lnTo>
                    <a:pt x="180" y="819"/>
                  </a:lnTo>
                  <a:lnTo>
                    <a:pt x="169" y="819"/>
                  </a:lnTo>
                  <a:lnTo>
                    <a:pt x="147" y="824"/>
                  </a:lnTo>
                  <a:lnTo>
                    <a:pt x="131" y="824"/>
                  </a:lnTo>
                  <a:lnTo>
                    <a:pt x="120" y="824"/>
                  </a:lnTo>
                  <a:lnTo>
                    <a:pt x="109" y="824"/>
                  </a:lnTo>
                  <a:lnTo>
                    <a:pt x="93" y="824"/>
                  </a:lnTo>
                  <a:lnTo>
                    <a:pt x="71" y="819"/>
                  </a:lnTo>
                  <a:lnTo>
                    <a:pt x="55" y="819"/>
                  </a:lnTo>
                  <a:lnTo>
                    <a:pt x="38" y="808"/>
                  </a:lnTo>
                  <a:lnTo>
                    <a:pt x="27" y="808"/>
                  </a:lnTo>
                  <a:lnTo>
                    <a:pt x="16" y="808"/>
                  </a:lnTo>
                  <a:lnTo>
                    <a:pt x="5" y="802"/>
                  </a:lnTo>
                  <a:lnTo>
                    <a:pt x="0" y="786"/>
                  </a:lnTo>
                  <a:lnTo>
                    <a:pt x="0" y="775"/>
                  </a:lnTo>
                  <a:lnTo>
                    <a:pt x="11" y="764"/>
                  </a:lnTo>
                  <a:lnTo>
                    <a:pt x="11" y="753"/>
                  </a:lnTo>
                  <a:lnTo>
                    <a:pt x="22" y="726"/>
                  </a:lnTo>
                  <a:lnTo>
                    <a:pt x="27" y="715"/>
                  </a:lnTo>
                  <a:lnTo>
                    <a:pt x="33" y="704"/>
                  </a:lnTo>
                  <a:lnTo>
                    <a:pt x="44" y="693"/>
                  </a:lnTo>
                  <a:lnTo>
                    <a:pt x="49" y="682"/>
                  </a:lnTo>
                  <a:lnTo>
                    <a:pt x="55" y="671"/>
                  </a:lnTo>
                  <a:lnTo>
                    <a:pt x="55" y="661"/>
                  </a:lnTo>
                </a:path>
              </a:pathLst>
            </a:custGeom>
            <a:gradFill rotWithShape="0">
              <a:gsLst>
                <a:gs pos="0">
                  <a:srgbClr val="92492b"/>
                </a:gs>
                <a:gs pos="100000">
                  <a:srgbClr val="f57b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18200" y="2638440"/>
              <a:ext cx="1690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portal ve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93080" y="2638440"/>
              <a:ext cx="1827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hepatic ve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21280" y="2997360"/>
              <a:ext cx="653760" cy="1054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7281720" y="2971800"/>
              <a:ext cx="687600" cy="647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rebuchet MS"/>
              </a:rPr>
              <a:t>Perfused Rat Liver MID Experiment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9T19:29:21Z</dcterms:created>
  <dc:creator>Andreas Schwab</dc:creator>
  <dc:description/>
  <dc:language>en-US</dc:language>
  <cp:lastModifiedBy>Office 2004 Test Drive User</cp:lastModifiedBy>
  <cp:lastPrinted>2001-02-09T19:40:21Z</cp:lastPrinted>
  <dcterms:modified xsi:type="dcterms:W3CDTF">2009-08-23T00:22:06Z</dcterms:modified>
  <cp:revision>157</cp:revision>
  <dc:subject/>
  <dc:title>Systemic Recirculation</dc:title>
</cp:coreProperties>
</file>