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720263" cy="64801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0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057320" y="764280"/>
            <a:ext cx="5657040" cy="37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9200" cy="377208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0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18040" cy="377028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0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9EFC-7976-4CF6-AF72-E0F5B976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2E98-7ED8-47F9-B9B3-33A59A7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6767-CBCF-4627-9EAB-012157F2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4376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022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56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4376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022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40EC-D945-488D-BE85-238CBFFC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0FAC-9706-4B2B-A8F5-351B7FCA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DB27-26F6-482A-BB0D-1DB74E8D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312B-7C95-4728-ACFC-461A5503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031D-9738-45ED-8060-F952F84A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E89B-9DC5-42D3-BAC4-9A183C74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85640" y="431280"/>
            <a:ext cx="874872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D7E6-C063-4C78-965C-CA84BB64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E548-11A7-45D1-8A16-48701FA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0DC0-DC5D-4A53-A96B-8347AC94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9D08-CFC2-4A11-AC4A-4D8409F6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D64F-DA70-4F3B-98D9-06AA2F1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B8E6-1D41-40B4-B070-B45C6A45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5367-0EA5-4A4D-B049-E89FC6D2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4376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02240" y="187164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856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4376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02240" y="3789720"/>
            <a:ext cx="28170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19A9-E20A-4D60-9953-5DDF4AF2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A156-7405-40AB-827A-879291A8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5BD6-EA4F-451F-AE23-5689D44A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8440-4131-40FE-80A9-6C5EF4E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85640" y="431280"/>
            <a:ext cx="874872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05AC-023F-47E0-89B4-E236E55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FDFC-2C78-4260-9E7F-0E4B1E8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8720" y="378972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D37F-E378-4059-9991-903DAEF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64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8720" y="1871640"/>
            <a:ext cx="42692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640" y="3789720"/>
            <a:ext cx="874872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E4B2-675B-4DCD-A46B-E874C06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65640" y="590364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2FC-5E08-4C0F-92A8-6CE938CA5EC9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720000" cy="515880"/>
            <a:chOff x="0" y="0"/>
            <a:chExt cx="9720000" cy="5158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3840" cy="50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38840" y="127440"/>
              <a:ext cx="9281160" cy="25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5240" y="127440"/>
              <a:ext cx="146520" cy="133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81760" y="0"/>
              <a:ext cx="148320" cy="130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1760" y="127440"/>
              <a:ext cx="148320" cy="133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1960" y="259200"/>
              <a:ext cx="144720" cy="130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0040" y="128880"/>
              <a:ext cx="149760" cy="130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5240" y="256320"/>
              <a:ext cx="146520" cy="130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1960" y="387000"/>
              <a:ext cx="144720" cy="1288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85640" y="43128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85640" y="187164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85640" y="5900760"/>
            <a:ext cx="2268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720000" cy="6480000"/>
            <a:chOff x="0" y="0"/>
            <a:chExt cx="9720000" cy="6480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726000" cy="648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24120" y="1597320"/>
              <a:ext cx="7895880" cy="239400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07640"/>
              <a:ext cx="3047040" cy="2982960"/>
              <a:chOff x="0" y="1007640"/>
              <a:chExt cx="3047040" cy="2982960"/>
            </a:xfrm>
          </p:grpSpPr>
          <p:sp>
            <p:nvSpPr>
              <p:cNvPr id="55" name=""/>
              <p:cNvSpPr/>
              <p:nvPr/>
            </p:nvSpPr>
            <p:spPr>
              <a:xfrm>
                <a:off x="609120" y="3385080"/>
                <a:ext cx="612360" cy="605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23760" y="1596960"/>
                <a:ext cx="610560" cy="607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24600" y="1007640"/>
                <a:ext cx="622440" cy="5997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13200" y="3385080"/>
                <a:ext cx="620640" cy="605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24600" y="1596960"/>
                <a:ext cx="622440" cy="60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13200" y="2195640"/>
                <a:ext cx="620640" cy="597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195640"/>
                <a:ext cx="618840" cy="5979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23760" y="2195640"/>
                <a:ext cx="610560" cy="597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9120" y="2784960"/>
                <a:ext cx="612360" cy="6087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13200" y="2784960"/>
                <a:ext cx="620640" cy="6087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85640" y="5903640"/>
            <a:ext cx="2268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965640" y="5903640"/>
            <a:ext cx="226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4E3A-8509-4812-9203-6C998D34AB02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59000" y="1728360"/>
            <a:ext cx="6399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434960"/>
            <a:ext cx="8686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80"/>
                </a:solidFill>
                <a:latin typeface="Times New Roman"/>
                <a:ea typeface="宋体"/>
              </a:rPr>
              <a:t>Lung Mechanics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562200"/>
            <a:ext cx="381636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Feng Gao 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National Simulation Resour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epartment of Bioengineer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University of Washing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7840" y="142920"/>
            <a:ext cx="924408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ee compartment model with gas concentrat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u pract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08000" y="1440000"/>
            <a:ext cx="5927760" cy="2157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052960" y="3745080"/>
            <a:ext cx="4559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301680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406440"/>
                <a:tab algn="l" pos="863640"/>
                <a:tab algn="l" pos="1320840"/>
                <a:tab algn="l" pos="1778040"/>
                <a:tab algn="l" pos="2235240"/>
                <a:tab algn="l" pos="2692440"/>
                <a:tab algn="l" pos="3149640"/>
                <a:tab algn="l" pos="3606840"/>
                <a:tab algn="l" pos="4064040"/>
                <a:tab algn="l" pos="4521240"/>
                <a:tab algn="l" pos="4978440"/>
                <a:tab algn="l" pos="5435640"/>
                <a:tab algn="l" pos="5892840"/>
                <a:tab algn="l" pos="6350040"/>
                <a:tab algn="l" pos="6807240"/>
                <a:tab algn="l" pos="7264440"/>
                <a:tab algn="l" pos="7721640"/>
                <a:tab algn="l" pos="8178840"/>
                <a:tab algn="l" pos="8636040"/>
                <a:tab algn="l" pos="9093240"/>
                <a:tab algn="l" pos="955044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  <a:ea typeface="宋体"/>
              </a:rPr>
              <a:t>Gas concentration for Three com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2240" y="4100400"/>
            <a:ext cx="4740120" cy="2055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3745080"/>
            <a:ext cx="4343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301680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406440"/>
                <a:tab algn="l" pos="863640"/>
                <a:tab algn="l" pos="1320840"/>
                <a:tab algn="l" pos="1778040"/>
                <a:tab algn="l" pos="2235240"/>
                <a:tab algn="l" pos="2692440"/>
                <a:tab algn="l" pos="3149640"/>
                <a:tab algn="l" pos="3606840"/>
                <a:tab algn="l" pos="4064040"/>
                <a:tab algn="l" pos="4521240"/>
                <a:tab algn="l" pos="4978440"/>
                <a:tab algn="l" pos="5435640"/>
                <a:tab algn="l" pos="5892840"/>
                <a:tab algn="l" pos="6350040"/>
                <a:tab algn="l" pos="6807240"/>
                <a:tab algn="l" pos="7264440"/>
                <a:tab algn="l" pos="7721640"/>
                <a:tab algn="l" pos="8178840"/>
                <a:tab algn="l" pos="8636040"/>
                <a:tab algn="l" pos="9093240"/>
                <a:tab algn="l" pos="955044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Gas concentration for Two compart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431964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5920" y="162000"/>
            <a:ext cx="87282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tchen's model (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076720" y="608040"/>
            <a:ext cx="4227480" cy="3057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5920" y="1082520"/>
            <a:ext cx="4825800" cy="4044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90440" y="5191200"/>
            <a:ext cx="4656240" cy="1101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118120" y="3930480"/>
            <a:ext cx="432288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47640" y="502920"/>
            <a:ext cx="86090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thanasiades' model (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56108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142920"/>
            <a:ext cx="872820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1280" y="1503360"/>
            <a:ext cx="897876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5640" y="466200"/>
            <a:ext cx="87537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chanics of 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0200" y="1231920"/>
            <a:ext cx="4718160" cy="236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68120" y="3675240"/>
            <a:ext cx="4691160" cy="2490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205240" y="1390680"/>
            <a:ext cx="4329360" cy="2921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621400" y="4719600"/>
            <a:ext cx="363996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286920"/>
            <a:ext cx="87454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 campbell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63640" y="965160"/>
            <a:ext cx="6121440" cy="53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640" y="142560"/>
            <a:ext cx="873144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4520" y="1374480"/>
            <a:ext cx="90140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-compartment model (Single lung with only alve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chanics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with gas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-compartment model (Bronchi and alveo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chanics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Font typeface="Arial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with gas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-compartment model (Bronchi, bronchioles, and alveoli)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Your pract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utchen's model (198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odel with conducting airway and two parallel alveolar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hysical model of respiratory system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(Athanasiades et al.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142920"/>
            <a:ext cx="872964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monary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4360" y="1723680"/>
            <a:ext cx="872820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Concepts--&gt;Equations--&gt;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istance: energy dissi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1640" y="3344760"/>
            <a:ext cx="414828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4346640"/>
            <a:ext cx="872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301680">
              <a:lnSpc>
                <a:spcPct val="7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406440"/>
                <a:tab algn="l" pos="863640"/>
                <a:tab algn="l" pos="1320840"/>
                <a:tab algn="l" pos="1778040"/>
                <a:tab algn="l" pos="2235240"/>
                <a:tab algn="l" pos="2692440"/>
                <a:tab algn="l" pos="3149640"/>
                <a:tab algn="l" pos="3606840"/>
                <a:tab algn="l" pos="4064040"/>
                <a:tab algn="l" pos="4521240"/>
                <a:tab algn="l" pos="4978440"/>
                <a:tab algn="l" pos="5435640"/>
                <a:tab algn="l" pos="5892840"/>
                <a:tab algn="l" pos="6350040"/>
                <a:tab algn="l" pos="6807240"/>
                <a:tab algn="l" pos="7264440"/>
                <a:tab algn="l" pos="7721640"/>
                <a:tab algn="l" pos="8178840"/>
                <a:tab algn="l" pos="8636040"/>
                <a:tab algn="l" pos="9093240"/>
                <a:tab algn="l" pos="95504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ompliance: potential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03320" y="5011560"/>
            <a:ext cx="5491080" cy="605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659640" y="5087880"/>
            <a:ext cx="194472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70800" y="3527280"/>
            <a:ext cx="19335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142920"/>
            <a:ext cx="872964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ompartment model (simpl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6600" y="1198440"/>
            <a:ext cx="3708360" cy="210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21240" y="1415880"/>
            <a:ext cx="2460600" cy="191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36960" y="2305080"/>
            <a:ext cx="511200" cy="792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05680" y="2305080"/>
            <a:ext cx="511200" cy="792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59880" y="3633840"/>
            <a:ext cx="1440" cy="48240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76720" y="4286160"/>
            <a:ext cx="4481640" cy="1623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95280" y="3538440"/>
            <a:ext cx="4226040" cy="271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 flipV="1">
            <a:off x="4500720" y="4804920"/>
            <a:ext cx="528480" cy="1908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664400" y="1281240"/>
            <a:ext cx="186048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5280" y="142920"/>
            <a:ext cx="872820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s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2360" y="1440000"/>
            <a:ext cx="4465800" cy="439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3640" y="1440000"/>
            <a:ext cx="454212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85640" y="604440"/>
            <a:ext cx="8729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ne compartment model with gas concent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449440" y="2236320"/>
            <a:ext cx="569880" cy="1764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4200" y="3770280"/>
            <a:ext cx="3902040" cy="2509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9360" y="1079640"/>
            <a:ext cx="1998720" cy="2525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43280" y="4311720"/>
            <a:ext cx="4983480" cy="101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348000" y="1455840"/>
            <a:ext cx="6024600" cy="1776240"/>
          </a:xfrm>
          <a:prstGeom prst="rect">
            <a:avLst/>
          </a:prstGeom>
          <a:ln w="0">
            <a:noFill/>
          </a:ln>
        </p:spPr>
      </p:pic>
      <p:cxnSp>
        <p:nvCxnSpPr>
          <p:cNvPr id="154" name=""/>
          <p:cNvCxnSpPr>
            <a:stCxn id="150" idx="3"/>
            <a:endCxn id="150" idx="3"/>
          </p:cNvCxnSpPr>
          <p:nvPr/>
        </p:nvCxnSpPr>
        <p:spPr>
          <a:xfrm>
            <a:off x="4115880" y="5025600"/>
            <a:ext cx="25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55" name=""/>
          <p:cNvGrpSpPr/>
          <p:nvPr/>
        </p:nvGrpSpPr>
        <p:grpSpPr>
          <a:xfrm>
            <a:off x="4140360" y="4676760"/>
            <a:ext cx="317520" cy="343080"/>
            <a:chOff x="4140360" y="4676760"/>
            <a:chExt cx="317520" cy="343080"/>
          </a:xfrm>
        </p:grpSpPr>
        <p:sp>
          <p:nvSpPr>
            <p:cNvPr id="156" name=""/>
            <p:cNvSpPr/>
            <p:nvPr/>
          </p:nvSpPr>
          <p:spPr>
            <a:xfrm flipV="1">
              <a:off x="4140360" y="4843800"/>
              <a:ext cx="317520" cy="20520"/>
            </a:xfrm>
            <a:prstGeom prst="line">
              <a:avLst/>
            </a:prstGeom>
            <a:ln w="91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09200" y="4676760"/>
              <a:ext cx="1080" cy="343080"/>
            </a:xfrm>
            <a:prstGeom prst="line">
              <a:avLst/>
            </a:prstGeom>
            <a:ln w="91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5280" y="142920"/>
            <a:ext cx="872964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compartment model (Bronchi and alve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3680" y="1041480"/>
            <a:ext cx="2514600" cy="327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03640" y="1689120"/>
            <a:ext cx="1730160" cy="2198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700360" y="2644920"/>
            <a:ext cx="511200" cy="792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2593800"/>
            <a:ext cx="511200" cy="828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281560" y="1487520"/>
            <a:ext cx="4243320" cy="217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17680" y="4332240"/>
            <a:ext cx="2095200" cy="658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4500720" y="3960720"/>
            <a:ext cx="360036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23800" y="5043600"/>
            <a:ext cx="3165480" cy="298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495360" y="5479920"/>
            <a:ext cx="281628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11200" y="499680"/>
            <a:ext cx="87296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wo compartment model with gas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32080" y="2381400"/>
            <a:ext cx="511200" cy="792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2400" y="4332240"/>
            <a:ext cx="1782720" cy="557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622600" y="4352760"/>
            <a:ext cx="2379600" cy="1617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8520" y="5043600"/>
            <a:ext cx="2414520" cy="263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15920" y="5479920"/>
            <a:ext cx="2392200" cy="260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50960" y="1050840"/>
            <a:ext cx="2012760" cy="3200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425840" y="1116000"/>
            <a:ext cx="4861080" cy="2625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30800" y="4286160"/>
            <a:ext cx="4235400" cy="183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1480" y="3882960"/>
            <a:ext cx="4343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6440" indent="-301680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406440"/>
                <a:tab algn="l" pos="863640"/>
                <a:tab algn="l" pos="1320840"/>
                <a:tab algn="l" pos="1778040"/>
                <a:tab algn="l" pos="2235240"/>
                <a:tab algn="l" pos="2692440"/>
                <a:tab algn="l" pos="3149640"/>
                <a:tab algn="l" pos="3606840"/>
                <a:tab algn="l" pos="4064040"/>
                <a:tab algn="l" pos="4521240"/>
                <a:tab algn="l" pos="4978440"/>
                <a:tab algn="l" pos="5435640"/>
                <a:tab algn="l" pos="5892840"/>
                <a:tab algn="l" pos="6350040"/>
                <a:tab algn="l" pos="6807240"/>
                <a:tab algn="l" pos="7264440"/>
                <a:tab algn="l" pos="7721640"/>
                <a:tab algn="l" pos="8178840"/>
                <a:tab algn="l" pos="8636040"/>
                <a:tab algn="l" pos="9093240"/>
                <a:tab algn="l" pos="955044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Equations for gas concen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762440" y="4957920"/>
            <a:ext cx="317520" cy="342720"/>
            <a:chOff x="4762440" y="4957920"/>
            <a:chExt cx="317520" cy="342720"/>
          </a:xfrm>
        </p:grpSpPr>
        <p:sp>
          <p:nvSpPr>
            <p:cNvPr id="179" name=""/>
            <p:cNvSpPr/>
            <p:nvPr/>
          </p:nvSpPr>
          <p:spPr>
            <a:xfrm flipV="1">
              <a:off x="4762440" y="5125320"/>
              <a:ext cx="317520" cy="20160"/>
            </a:xfrm>
            <a:prstGeom prst="line">
              <a:avLst/>
            </a:prstGeom>
            <a:ln w="91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31280" y="4957920"/>
              <a:ext cx="1080" cy="342720"/>
            </a:xfrm>
            <a:prstGeom prst="line">
              <a:avLst/>
            </a:prstGeom>
            <a:ln w="91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0840" y="118800"/>
            <a:ext cx="8729640" cy="11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 compartment model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your pract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16080" y="1141560"/>
            <a:ext cx="2746080" cy="2523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614760" y="1125360"/>
            <a:ext cx="1936800" cy="271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98960" y="1819440"/>
            <a:ext cx="423720" cy="528480"/>
          </a:xfrm>
          <a:custGeom>
            <a:avLst/>
            <a:gdLst/>
            <a:ahLst/>
            <a:rect l="l" t="t" r="r" b="b"/>
            <a:pathLst>
              <a:path w="1177" h="1468">
                <a:moveTo>
                  <a:pt x="0" y="367"/>
                </a:moveTo>
                <a:lnTo>
                  <a:pt x="882" y="367"/>
                </a:lnTo>
                <a:lnTo>
                  <a:pt x="882" y="0"/>
                </a:lnTo>
                <a:lnTo>
                  <a:pt x="1176" y="733"/>
                </a:lnTo>
                <a:lnTo>
                  <a:pt x="882" y="1467"/>
                </a:lnTo>
                <a:lnTo>
                  <a:pt x="882" y="1101"/>
                </a:lnTo>
                <a:lnTo>
                  <a:pt x="0" y="1101"/>
                </a:lnTo>
                <a:lnTo>
                  <a:pt x="0" y="367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3840" y="4148280"/>
            <a:ext cx="5816520" cy="2116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3087360" y="3672000"/>
            <a:ext cx="747720" cy="323640"/>
          </a:xfrm>
          <a:prstGeom prst="line">
            <a:avLst/>
          </a:prstGeom>
          <a:ln w="91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021360" y="936720"/>
            <a:ext cx="3479760" cy="538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9-06-16T16:32:15Z</dcterms:modified>
  <cp:revision>14</cp:revision>
  <dc:subject/>
  <dc:title>幻灯片 1</dc:title>
</cp:coreProperties>
</file>