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wmf" ContentType="image/x-wmf"/>
  <Override PartName="/ppt/media/image7.png" ContentType="image/png"/>
  <Override PartName="/ppt/media/image12.wmf" ContentType="image/x-wm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5.wmf" ContentType="image/x-wmf"/>
  <Override PartName="/ppt/media/image1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.wmf" ContentType="image/x-wmf"/>
  <Override PartName="/ppt/media/image2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B93-ED7B-430D-836E-9E5BFBBF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3F8-03BB-4214-8A99-946CC52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82C-8B43-411D-AAED-7EBA1F2B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D6A-0B21-4ED9-A93F-A867B7C2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64B-2291-42F9-8A3B-40DCE557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6B2-4131-4D19-B4C2-A9278B9B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161-5B45-4614-B5F5-F4E907C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C65-4188-4D9C-BEDA-24393B8F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2AB-F27C-4208-A554-5FC1037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CBF-0C95-4771-8028-5D7FFD2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557-8F92-4092-BB33-6692302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075-68A4-49F8-BA46-43723C2C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8439-3BBD-4BA5-9DA7-1B1D1D186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iochemical Network Models and Their 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354480" y="335268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ng Q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648320"/>
            <a:ext cx="7010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s of Applied Mathematics and Bioengine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61"/>
          <p:cNvGrpSpPr/>
          <p:nvPr/>
        </p:nvGrpSpPr>
        <p:grpSpPr>
          <a:xfrm>
            <a:off x="2133720" y="1066680"/>
            <a:ext cx="4687200" cy="2972160"/>
            <a:chOff x="2133720" y="1066680"/>
            <a:chExt cx="4687200" cy="2972160"/>
          </a:xfrm>
        </p:grpSpPr>
        <p:sp>
          <p:nvSpPr>
            <p:cNvPr id="210" name="Text Box 29"/>
            <p:cNvSpPr/>
            <p:nvPr/>
          </p:nvSpPr>
          <p:spPr>
            <a:xfrm>
              <a:off x="2133720" y="3581280"/>
              <a:ext cx="59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Group 58"/>
            <p:cNvGrpSpPr/>
            <p:nvPr/>
          </p:nvGrpSpPr>
          <p:grpSpPr>
            <a:xfrm>
              <a:off x="2220120" y="1066680"/>
              <a:ext cx="4600800" cy="2575800"/>
              <a:chOff x="2220120" y="1066680"/>
              <a:chExt cx="4600800" cy="2575800"/>
            </a:xfrm>
          </p:grpSpPr>
          <p:grpSp>
            <p:nvGrpSpPr>
              <p:cNvPr id="212" name="Group 28"/>
              <p:cNvGrpSpPr/>
              <p:nvPr/>
            </p:nvGrpSpPr>
            <p:grpSpPr>
              <a:xfrm>
                <a:off x="2220120" y="1066680"/>
                <a:ext cx="3953520" cy="2575800"/>
                <a:chOff x="2220120" y="1066680"/>
                <a:chExt cx="3953520" cy="2575800"/>
              </a:xfrm>
            </p:grpSpPr>
            <p:sp>
              <p:nvSpPr>
                <p:cNvPr id="213" name="Text Box 4"/>
                <p:cNvSpPr/>
                <p:nvPr/>
              </p:nvSpPr>
              <p:spPr>
                <a:xfrm>
                  <a:off x="2220120" y="1676160"/>
                  <a:ext cx="1439280" cy="3661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ene state 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5"/>
                <p:cNvSpPr/>
                <p:nvPr/>
              </p:nvSpPr>
              <p:spPr>
                <a:xfrm>
                  <a:off x="4734360" y="1676160"/>
                  <a:ext cx="1439280" cy="3661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ene state 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6"/>
                <p:cNvSpPr/>
                <p:nvPr/>
              </p:nvSpPr>
              <p:spPr>
                <a:xfrm>
                  <a:off x="3885840" y="1904760"/>
                  <a:ext cx="685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7"/>
                <p:cNvSpPr/>
                <p:nvPr/>
              </p:nvSpPr>
              <p:spPr>
                <a:xfrm flipH="1">
                  <a:off x="3885840" y="1752480"/>
                  <a:ext cx="685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18"/>
                <p:cNvSpPr/>
                <p:nvPr/>
              </p:nvSpPr>
              <p:spPr>
                <a:xfrm>
                  <a:off x="4033440" y="1904760"/>
                  <a:ext cx="247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Group 21"/>
                <p:cNvGrpSpPr/>
                <p:nvPr/>
              </p:nvGrpSpPr>
              <p:grpSpPr>
                <a:xfrm>
                  <a:off x="3890520" y="1066680"/>
                  <a:ext cx="929160" cy="592200"/>
                  <a:chOff x="3890520" y="1066680"/>
                  <a:chExt cx="929160" cy="592200"/>
                </a:xfrm>
              </p:grpSpPr>
              <p:sp>
                <p:nvSpPr>
                  <p:cNvPr id="219" name="Text Box 19"/>
                  <p:cNvSpPr/>
                  <p:nvPr/>
                </p:nvSpPr>
                <p:spPr>
                  <a:xfrm>
                    <a:off x="3890520" y="1255320"/>
                    <a:ext cx="791640" cy="40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r>
                      <a:rPr b="0" i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[TF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Text Box 20"/>
                  <p:cNvSpPr/>
                  <p:nvPr/>
                </p:nvSpPr>
                <p:spPr>
                  <a:xfrm>
                    <a:off x="4511160" y="1066680"/>
                    <a:ext cx="30852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Line 9"/>
                <p:cNvSpPr/>
                <p:nvPr/>
              </p:nvSpPr>
              <p:spPr>
                <a:xfrm>
                  <a:off x="2590200" y="3276360"/>
                  <a:ext cx="1295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11"/>
                <p:cNvSpPr/>
                <p:nvPr/>
              </p:nvSpPr>
              <p:spPr>
                <a:xfrm>
                  <a:off x="2590920" y="3276360"/>
                  <a:ext cx="11347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ynthe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Group 14"/>
                <p:cNvGrpSpPr/>
                <p:nvPr/>
              </p:nvGrpSpPr>
              <p:grpSpPr>
                <a:xfrm>
                  <a:off x="4647600" y="2895480"/>
                  <a:ext cx="1523880" cy="380880"/>
                  <a:chOff x="4647600" y="2895480"/>
                  <a:chExt cx="1523880" cy="380880"/>
                </a:xfrm>
              </p:grpSpPr>
              <p:sp>
                <p:nvSpPr>
                  <p:cNvPr id="224" name="Line 12"/>
                  <p:cNvSpPr/>
                  <p:nvPr/>
                </p:nvSpPr>
                <p:spPr>
                  <a:xfrm>
                    <a:off x="4647600" y="3276360"/>
                    <a:ext cx="15238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Text Box 13"/>
                  <p:cNvSpPr/>
                  <p:nvPr/>
                </p:nvSpPr>
                <p:spPr>
                  <a:xfrm>
                    <a:off x="4649760" y="2895480"/>
                    <a:ext cx="1386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gradati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" name="Text Box 16"/>
                <p:cNvSpPr/>
                <p:nvPr/>
              </p:nvSpPr>
              <p:spPr>
                <a:xfrm>
                  <a:off x="4047120" y="3047760"/>
                  <a:ext cx="464040" cy="3661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Text Box 17"/>
                <p:cNvSpPr/>
                <p:nvPr/>
              </p:nvSpPr>
              <p:spPr>
                <a:xfrm>
                  <a:off x="5181120" y="3276360"/>
                  <a:ext cx="2980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Text Box 23"/>
                <p:cNvSpPr/>
                <p:nvPr/>
              </p:nvSpPr>
              <p:spPr>
                <a:xfrm>
                  <a:off x="2818800" y="2819160"/>
                  <a:ext cx="47268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4"/>
                <p:cNvSpPr/>
                <p:nvPr/>
              </p:nvSpPr>
              <p:spPr>
                <a:xfrm>
                  <a:off x="3352320" y="2819160"/>
                  <a:ext cx="60912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25"/>
                <p:cNvSpPr/>
                <p:nvPr/>
              </p:nvSpPr>
              <p:spPr>
                <a:xfrm>
                  <a:off x="3580920" y="2133360"/>
                  <a:ext cx="1904760" cy="762120"/>
                </a:xfrm>
                <a:custGeom>
                  <a:avLst/>
                  <a:gdLst>
                    <a:gd name="textAreaLeft" fmla="*/ 0 w 1904760"/>
                    <a:gd name="textAreaRight" fmla="*/ 1905120 w 1904760"/>
                    <a:gd name="textAreaTop" fmla="*/ 0 h 762120"/>
                    <a:gd name="textAreaBottom" fmla="*/ 762480 h 762120"/>
                  </a:gdLst>
                  <a:ahLst/>
                  <a:rect l="textAreaLeft" t="textAreaTop" r="textAreaRight" b="textAreaBottom"/>
                  <a:pathLst>
                    <a:path w="816" h="768">
                      <a:moveTo>
                        <a:pt x="816" y="0"/>
                      </a:moveTo>
                      <a:cubicBezTo>
                        <a:pt x="772" y="172"/>
                        <a:pt x="728" y="344"/>
                        <a:pt x="624" y="432"/>
                      </a:cubicBezTo>
                      <a:cubicBezTo>
                        <a:pt x="520" y="520"/>
                        <a:pt x="296" y="472"/>
                        <a:pt x="192" y="528"/>
                      </a:cubicBezTo>
                      <a:cubicBezTo>
                        <a:pt x="88" y="584"/>
                        <a:pt x="44" y="676"/>
                        <a:pt x="0" y="7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26"/>
                <p:cNvSpPr/>
                <p:nvPr/>
              </p:nvSpPr>
              <p:spPr>
                <a:xfrm flipH="1">
                  <a:off x="2360880" y="2133360"/>
                  <a:ext cx="609480" cy="762120"/>
                </a:xfrm>
                <a:custGeom>
                  <a:avLst/>
                  <a:gdLst>
                    <a:gd name="textAreaLeft" fmla="*/ -360 w 609480"/>
                    <a:gd name="textAreaRight" fmla="*/ 609480 w 609480"/>
                    <a:gd name="textAreaTop" fmla="*/ 0 h 762120"/>
                    <a:gd name="textAreaBottom" fmla="*/ 762480 h 762120"/>
                  </a:gdLst>
                  <a:ahLst/>
                  <a:rect l="textAreaLeft" t="textAreaTop" r="textAreaRight" b="textAreaBottom"/>
                  <a:pathLst>
                    <a:path w="816" h="768">
                      <a:moveTo>
                        <a:pt x="816" y="0"/>
                      </a:moveTo>
                      <a:cubicBezTo>
                        <a:pt x="772" y="172"/>
                        <a:pt x="728" y="344"/>
                        <a:pt x="624" y="432"/>
                      </a:cubicBezTo>
                      <a:cubicBezTo>
                        <a:pt x="520" y="520"/>
                        <a:pt x="296" y="472"/>
                        <a:pt x="192" y="528"/>
                      </a:cubicBezTo>
                      <a:cubicBezTo>
                        <a:pt x="88" y="584"/>
                        <a:pt x="44" y="676"/>
                        <a:pt x="0" y="7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Freeform 31"/>
              <p:cNvSpPr/>
              <p:nvPr/>
            </p:nvSpPr>
            <p:spPr>
              <a:xfrm rot="21392400">
                <a:off x="4338360" y="1439280"/>
                <a:ext cx="2441160" cy="1447920"/>
              </a:xfrm>
              <a:custGeom>
                <a:avLst/>
                <a:gdLst>
                  <a:gd name="textAreaLeft" fmla="*/ 0 w 2441160"/>
                  <a:gd name="textAreaRight" fmla="*/ 2441520 w 244116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440" h="1056">
                    <a:moveTo>
                      <a:pt x="0" y="1056"/>
                    </a:moveTo>
                    <a:cubicBezTo>
                      <a:pt x="528" y="872"/>
                      <a:pt x="1056" y="688"/>
                      <a:pt x="1248" y="528"/>
                    </a:cubicBezTo>
                    <a:cubicBezTo>
                      <a:pt x="1440" y="368"/>
                      <a:pt x="1320" y="184"/>
                      <a:pt x="1152" y="96"/>
                    </a:cubicBezTo>
                    <a:cubicBezTo>
                      <a:pt x="984" y="8"/>
                      <a:pt x="612" y="4"/>
                      <a:pt x="2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5"/>
          <p:cNvGrpSpPr/>
          <p:nvPr/>
        </p:nvGrpSpPr>
        <p:grpSpPr>
          <a:xfrm>
            <a:off x="2209680" y="4038480"/>
            <a:ext cx="3719520" cy="2613600"/>
            <a:chOff x="2209680" y="4038480"/>
            <a:chExt cx="3719520" cy="2613600"/>
          </a:xfrm>
        </p:grpSpPr>
        <p:sp>
          <p:nvSpPr>
            <p:cNvPr id="234" name="Text Box 30"/>
            <p:cNvSpPr/>
            <p:nvPr/>
          </p:nvSpPr>
          <p:spPr>
            <a:xfrm>
              <a:off x="2209680" y="6172200"/>
              <a:ext cx="59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2"/>
            <p:cNvSpPr/>
            <p:nvPr/>
          </p:nvSpPr>
          <p:spPr>
            <a:xfrm>
              <a:off x="3134160" y="5867280"/>
              <a:ext cx="352800" cy="39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3"/>
            <p:cNvSpPr/>
            <p:nvPr/>
          </p:nvSpPr>
          <p:spPr>
            <a:xfrm>
              <a:off x="5038200" y="5868000"/>
              <a:ext cx="451800" cy="39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4"/>
            <p:cNvSpPr/>
            <p:nvPr/>
          </p:nvSpPr>
          <p:spPr>
            <a:xfrm>
              <a:off x="2361600" y="4514760"/>
              <a:ext cx="1027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38"/>
            <p:cNvGrpSpPr/>
            <p:nvPr/>
          </p:nvGrpSpPr>
          <p:grpSpPr>
            <a:xfrm>
              <a:off x="3504960" y="4590360"/>
              <a:ext cx="685800" cy="76320"/>
              <a:chOff x="3504960" y="4590360"/>
              <a:chExt cx="685800" cy="76320"/>
            </a:xfrm>
          </p:grpSpPr>
          <p:sp>
            <p:nvSpPr>
              <p:cNvPr id="239" name="Line 36"/>
              <p:cNvSpPr/>
              <p:nvPr/>
            </p:nvSpPr>
            <p:spPr>
              <a:xfrm>
                <a:off x="3504960" y="466668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37"/>
              <p:cNvSpPr/>
              <p:nvPr/>
            </p:nvSpPr>
            <p:spPr>
              <a:xfrm flipH="1" flipV="1">
                <a:off x="4038120" y="4590360"/>
                <a:ext cx="15228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39"/>
            <p:cNvGrpSpPr/>
            <p:nvPr/>
          </p:nvGrpSpPr>
          <p:grpSpPr>
            <a:xfrm>
              <a:off x="3504600" y="4743000"/>
              <a:ext cx="685800" cy="76320"/>
              <a:chOff x="3504600" y="4743000"/>
              <a:chExt cx="685800" cy="76320"/>
            </a:xfrm>
          </p:grpSpPr>
          <p:sp>
            <p:nvSpPr>
              <p:cNvPr id="242" name="Line 40"/>
              <p:cNvSpPr/>
              <p:nvPr/>
            </p:nvSpPr>
            <p:spPr>
              <a:xfrm flipH="1">
                <a:off x="3504600" y="474300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41"/>
              <p:cNvSpPr/>
              <p:nvPr/>
            </p:nvSpPr>
            <p:spPr>
              <a:xfrm>
                <a:off x="3504960" y="4743360"/>
                <a:ext cx="15228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4"/>
            <p:cNvGrpSpPr/>
            <p:nvPr/>
          </p:nvGrpSpPr>
          <p:grpSpPr>
            <a:xfrm>
              <a:off x="4343760" y="4419360"/>
              <a:ext cx="448200" cy="478800"/>
              <a:chOff x="4343760" y="4419360"/>
              <a:chExt cx="448200" cy="478800"/>
            </a:xfrm>
          </p:grpSpPr>
          <p:sp>
            <p:nvSpPr>
              <p:cNvPr id="245" name="Text Box 42"/>
              <p:cNvSpPr/>
              <p:nvPr/>
            </p:nvSpPr>
            <p:spPr>
              <a:xfrm>
                <a:off x="4343760" y="4532040"/>
                <a:ext cx="3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43"/>
              <p:cNvSpPr/>
              <p:nvPr/>
            </p:nvSpPr>
            <p:spPr>
              <a:xfrm>
                <a:off x="4495680" y="4419360"/>
                <a:ext cx="2962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Line 47"/>
            <p:cNvSpPr/>
            <p:nvPr/>
          </p:nvSpPr>
          <p:spPr>
            <a:xfrm>
              <a:off x="3581280" y="60199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48"/>
            <p:cNvSpPr/>
            <p:nvPr/>
          </p:nvSpPr>
          <p:spPr>
            <a:xfrm flipH="1">
              <a:off x="3581280" y="61722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0"/>
            <p:cNvSpPr/>
            <p:nvPr/>
          </p:nvSpPr>
          <p:spPr>
            <a:xfrm>
              <a:off x="4572000" y="48765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52"/>
            <p:cNvSpPr/>
            <p:nvPr/>
          </p:nvSpPr>
          <p:spPr>
            <a:xfrm>
              <a:off x="3109680" y="4038480"/>
              <a:ext cx="2819520" cy="175284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1960" h="624">
                  <a:moveTo>
                    <a:pt x="1440" y="624"/>
                  </a:moveTo>
                  <a:cubicBezTo>
                    <a:pt x="1700" y="408"/>
                    <a:pt x="1960" y="192"/>
                    <a:pt x="1776" y="96"/>
                  </a:cubicBezTo>
                  <a:cubicBezTo>
                    <a:pt x="1592" y="0"/>
                    <a:pt x="632" y="32"/>
                    <a:pt x="336" y="48"/>
                  </a:cubicBezTo>
                  <a:cubicBezTo>
                    <a:pt x="40" y="64"/>
                    <a:pt x="20" y="128"/>
                    <a:pt x="0" y="1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53"/>
            <p:cNvSpPr/>
            <p:nvPr/>
          </p:nvSpPr>
          <p:spPr>
            <a:xfrm>
              <a:off x="3967200" y="6248520"/>
              <a:ext cx="65160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P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4193640" y="5537160"/>
              <a:ext cx="7308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K 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4572360" y="5486400"/>
              <a:ext cx="352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2"/>
            <p:cNvSpPr/>
            <p:nvPr/>
          </p:nvSpPr>
          <p:spPr>
            <a:xfrm>
              <a:off x="3581280" y="4190760"/>
              <a:ext cx="5490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3657600" y="4723560"/>
              <a:ext cx="5493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7"/>
            <p:cNvSpPr/>
            <p:nvPr/>
          </p:nvSpPr>
          <p:spPr>
            <a:xfrm>
              <a:off x="3504960" y="5562720"/>
              <a:ext cx="7617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K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69"/>
            <p:cNvSpPr/>
            <p:nvPr/>
          </p:nvSpPr>
          <p:spPr>
            <a:xfrm>
              <a:off x="2514240" y="4876560"/>
              <a:ext cx="1447920" cy="6858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528" h="432">
                  <a:moveTo>
                    <a:pt x="0" y="0"/>
                  </a:moveTo>
                  <a:cubicBezTo>
                    <a:pt x="16" y="76"/>
                    <a:pt x="32" y="152"/>
                    <a:pt x="96" y="192"/>
                  </a:cubicBezTo>
                  <a:cubicBezTo>
                    <a:pt x="160" y="232"/>
                    <a:pt x="312" y="200"/>
                    <a:pt x="384" y="240"/>
                  </a:cubicBezTo>
                  <a:cubicBezTo>
                    <a:pt x="456" y="280"/>
                    <a:pt x="492" y="356"/>
                    <a:pt x="528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Another Kinetic Isoph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 Kinetic Model based on the Law of Mass 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6"/>
              <p:cNvSpPr txBox="1"/>
              <p:nvPr/>
            </p:nvSpPr>
            <p:spPr>
              <a:xfrm>
                <a:off x="4495680" y="1828800"/>
                <a:ext cx="418176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χ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1" name="Group 3"/>
          <p:cNvGrpSpPr/>
          <p:nvPr/>
        </p:nvGrpSpPr>
        <p:grpSpPr>
          <a:xfrm>
            <a:off x="634320" y="1600200"/>
            <a:ext cx="3480480" cy="4930200"/>
            <a:chOff x="634320" y="1600200"/>
            <a:chExt cx="3480480" cy="4930200"/>
          </a:xfrm>
        </p:grpSpPr>
        <p:sp>
          <p:nvSpPr>
            <p:cNvPr id="262" name="Arc 4"/>
            <p:cNvSpPr/>
            <p:nvPr/>
          </p:nvSpPr>
          <p:spPr>
            <a:xfrm flipV="1" rot="16353000">
              <a:off x="1581840" y="2712960"/>
              <a:ext cx="968400" cy="204192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2041920"/>
                <a:gd name="textAreaBottom" fmla="*/ 2041920 h 2041920"/>
              </a:gdLst>
              <a:ahLst/>
              <a:rect l="textAreaLeft" t="textAreaTop" r="textAreaRight" b="textAreaBottom"/>
              <a:pathLst>
                <a:path fill="none" w="21600" h="41527">
                  <a:moveTo>
                    <a:pt x="6853" y="-1"/>
                  </a:moveTo>
                  <a:cubicBezTo>
                    <a:pt x="15661" y="2946"/>
                    <a:pt x="21600" y="11195"/>
                    <a:pt x="21600" y="20484"/>
                  </a:cubicBezTo>
                  <a:cubicBezTo>
                    <a:pt x="21600" y="30535"/>
                    <a:pt x="14666" y="39258"/>
                    <a:pt x="4873" y="41526"/>
                  </a:cubicBezTo>
                </a:path>
                <a:path stroke="0" w="21600" h="41527">
                  <a:moveTo>
                    <a:pt x="6853" y="-1"/>
                  </a:moveTo>
                  <a:cubicBezTo>
                    <a:pt x="15661" y="2946"/>
                    <a:pt x="21600" y="11195"/>
                    <a:pt x="21600" y="20484"/>
                  </a:cubicBezTo>
                  <a:cubicBezTo>
                    <a:pt x="21600" y="30535"/>
                    <a:pt x="14666" y="39258"/>
                    <a:pt x="4873" y="41526"/>
                  </a:cubicBezTo>
                  <a:lnTo>
                    <a:pt x="0" y="2048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rc 5"/>
            <p:cNvSpPr/>
            <p:nvPr/>
          </p:nvSpPr>
          <p:spPr>
            <a:xfrm rot="5247000">
              <a:off x="1574280" y="3831840"/>
              <a:ext cx="968400" cy="203832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2038320"/>
                <a:gd name="textAreaBottom" fmla="*/ 2038680 h 2038320"/>
              </a:gdLst>
              <a:ahLst/>
              <a:rect l="textAreaLeft" t="textAreaTop" r="textAreaRight" b="textAreaBottom"/>
              <a:pathLst>
                <a:path fill="none" w="21600" h="41508">
                  <a:moveTo>
                    <a:pt x="7184" y="-1"/>
                  </a:moveTo>
                  <a:cubicBezTo>
                    <a:pt x="15822" y="3046"/>
                    <a:pt x="21600" y="11210"/>
                    <a:pt x="21600" y="20370"/>
                  </a:cubicBezTo>
                  <a:cubicBezTo>
                    <a:pt x="21600" y="30586"/>
                    <a:pt x="14442" y="39405"/>
                    <a:pt x="4444" y="41507"/>
                  </a:cubicBezTo>
                </a:path>
                <a:path stroke="0" w="21600" h="41508">
                  <a:moveTo>
                    <a:pt x="7184" y="-1"/>
                  </a:moveTo>
                  <a:cubicBezTo>
                    <a:pt x="15822" y="3046"/>
                    <a:pt x="21600" y="11210"/>
                    <a:pt x="21600" y="20370"/>
                  </a:cubicBezTo>
                  <a:cubicBezTo>
                    <a:pt x="21600" y="30586"/>
                    <a:pt x="14442" y="39405"/>
                    <a:pt x="4444" y="41507"/>
                  </a:cubicBezTo>
                  <a:lnTo>
                    <a:pt x="0" y="2037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rc 6"/>
            <p:cNvSpPr/>
            <p:nvPr/>
          </p:nvSpPr>
          <p:spPr>
            <a:xfrm rot="5247000">
              <a:off x="1469160" y="1685880"/>
              <a:ext cx="1016280" cy="2063880"/>
            </a:xfrm>
            <a:custGeom>
              <a:avLst/>
              <a:gdLst>
                <a:gd name="textAreaLeft" fmla="*/ 0 w 1016280"/>
                <a:gd name="textAreaRight" fmla="*/ 1016640 w 1016280"/>
                <a:gd name="textAreaTop" fmla="*/ 0 h 2063880"/>
                <a:gd name="textAreaBottom" fmla="*/ 2064240 h 2063880"/>
              </a:gdLst>
              <a:ahLst/>
              <a:rect l="textAreaLeft" t="textAreaTop" r="textAreaRight" b="textAreaBottom"/>
              <a:pathLst>
                <a:path fill="none" w="21600" h="41983">
                  <a:moveTo>
                    <a:pt x="6087" y="-1"/>
                  </a:moveTo>
                  <a:cubicBezTo>
                    <a:pt x="15283" y="2700"/>
                    <a:pt x="21600" y="11139"/>
                    <a:pt x="21600" y="20724"/>
                  </a:cubicBezTo>
                  <a:cubicBezTo>
                    <a:pt x="21600" y="31177"/>
                    <a:pt x="14113" y="40131"/>
                    <a:pt x="3824" y="41982"/>
                  </a:cubicBezTo>
                </a:path>
                <a:path stroke="0" w="21600" h="41983">
                  <a:moveTo>
                    <a:pt x="6087" y="-1"/>
                  </a:moveTo>
                  <a:cubicBezTo>
                    <a:pt x="15283" y="2700"/>
                    <a:pt x="21600" y="11139"/>
                    <a:pt x="21600" y="20724"/>
                  </a:cubicBezTo>
                  <a:cubicBezTo>
                    <a:pt x="21600" y="31177"/>
                    <a:pt x="14113" y="40131"/>
                    <a:pt x="3824" y="41982"/>
                  </a:cubicBezTo>
                  <a:lnTo>
                    <a:pt x="0" y="2072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634320" y="1905120"/>
              <a:ext cx="78876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2689200" y="1905120"/>
              <a:ext cx="82224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rc 9"/>
            <p:cNvSpPr/>
            <p:nvPr/>
          </p:nvSpPr>
          <p:spPr>
            <a:xfrm flipV="1" rot="16353000">
              <a:off x="1073880" y="5253480"/>
              <a:ext cx="934920" cy="10450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-360 h 1045080"/>
                <a:gd name="textAreaBottom" fmla="*/ 1045080 h 1045080"/>
              </a:gdLst>
              <a:ahLst/>
              <a:rect l="textAreaLeft" t="textAreaTop" r="textAreaRight" b="textAreaBottom"/>
              <a:pathLst>
                <a:path fill="none" w="21580" h="21259">
                  <a:moveTo>
                    <a:pt x="21579" y="933"/>
                  </a:moveTo>
                  <a:cubicBezTo>
                    <a:pt x="21142" y="11027"/>
                    <a:pt x="13768" y="19469"/>
                    <a:pt x="3824" y="21258"/>
                  </a:cubicBezTo>
                </a:path>
                <a:path stroke="0" w="21580" h="21259">
                  <a:moveTo>
                    <a:pt x="21579" y="933"/>
                  </a:moveTo>
                  <a:cubicBezTo>
                    <a:pt x="21142" y="11027"/>
                    <a:pt x="13768" y="19469"/>
                    <a:pt x="3824" y="21258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0"/>
            <p:cNvSpPr/>
            <p:nvPr/>
          </p:nvSpPr>
          <p:spPr>
            <a:xfrm>
              <a:off x="838080" y="6070680"/>
              <a:ext cx="46872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1"/>
            <p:cNvSpPr/>
            <p:nvPr/>
          </p:nvSpPr>
          <p:spPr>
            <a:xfrm>
              <a:off x="1712880" y="2994120"/>
              <a:ext cx="6555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12"/>
            <p:cNvSpPr/>
            <p:nvPr/>
          </p:nvSpPr>
          <p:spPr>
            <a:xfrm>
              <a:off x="1785960" y="5057640"/>
              <a:ext cx="6555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13"/>
            <p:cNvSpPr/>
            <p:nvPr/>
          </p:nvSpPr>
          <p:spPr>
            <a:xfrm>
              <a:off x="786960" y="3952800"/>
              <a:ext cx="5115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2752200" y="3952800"/>
              <a:ext cx="689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rc 15"/>
            <p:cNvSpPr/>
            <p:nvPr/>
          </p:nvSpPr>
          <p:spPr>
            <a:xfrm>
              <a:off x="1981080" y="1600200"/>
              <a:ext cx="2133720" cy="27208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2720880"/>
                <a:gd name="textAreaBottom" fmla="*/ 2721240 h 2720880"/>
              </a:gdLst>
              <a:ahLst/>
              <a:rect l="textAreaLeft" t="textAreaTop" r="textAreaRight" b="textAreaBottom"/>
              <a:pathLst>
                <a:path fill="none" w="43134" h="41104">
                  <a:moveTo>
                    <a:pt x="-1" y="19916"/>
                  </a:moveTo>
                  <a:cubicBezTo>
                    <a:pt x="878" y="8674"/>
                    <a:pt x="10257" y="-1"/>
                    <a:pt x="21534" y="0"/>
                  </a:cubicBezTo>
                  <a:cubicBezTo>
                    <a:pt x="33463" y="0"/>
                    <a:pt x="43134" y="9670"/>
                    <a:pt x="43134" y="21600"/>
                  </a:cubicBezTo>
                  <a:cubicBezTo>
                    <a:pt x="43134" y="29933"/>
                    <a:pt x="38340" y="37523"/>
                    <a:pt x="30815" y="41104"/>
                  </a:cubicBezTo>
                </a:path>
                <a:path stroke="0" w="43134" h="41104">
                  <a:moveTo>
                    <a:pt x="-1" y="19916"/>
                  </a:moveTo>
                  <a:cubicBezTo>
                    <a:pt x="878" y="8674"/>
                    <a:pt x="10257" y="-1"/>
                    <a:pt x="21534" y="0"/>
                  </a:cubicBezTo>
                  <a:cubicBezTo>
                    <a:pt x="33463" y="0"/>
                    <a:pt x="43134" y="9670"/>
                    <a:pt x="43134" y="21600"/>
                  </a:cubicBezTo>
                  <a:cubicBezTo>
                    <a:pt x="43134" y="29933"/>
                    <a:pt x="38340" y="37523"/>
                    <a:pt x="30815" y="41104"/>
                  </a:cubicBezTo>
                  <a:lnTo>
                    <a:pt x="21534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685800" y="1605240"/>
            <a:ext cx="9680040" cy="4843800"/>
            <a:chOff x="685800" y="1605240"/>
            <a:chExt cx="9680040" cy="4843800"/>
          </a:xfrm>
        </p:grpSpPr>
        <p:grpSp>
          <p:nvGrpSpPr>
            <p:cNvPr id="275" name="Group 3"/>
            <p:cNvGrpSpPr/>
            <p:nvPr/>
          </p:nvGrpSpPr>
          <p:grpSpPr>
            <a:xfrm>
              <a:off x="1752480" y="1833840"/>
              <a:ext cx="6476040" cy="3580920"/>
              <a:chOff x="1752480" y="1833840"/>
              <a:chExt cx="6476040" cy="3580920"/>
            </a:xfrm>
          </p:grpSpPr>
          <p:sp>
            <p:nvSpPr>
              <p:cNvPr id="276" name="Line 4"/>
              <p:cNvSpPr/>
              <p:nvPr/>
            </p:nvSpPr>
            <p:spPr>
              <a:xfrm>
                <a:off x="1752480" y="1833840"/>
                <a:ext cx="0" cy="358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5"/>
              <p:cNvSpPr/>
              <p:nvPr/>
            </p:nvSpPr>
            <p:spPr>
              <a:xfrm>
                <a:off x="1752480" y="5414760"/>
                <a:ext cx="647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Text Box 6"/>
            <p:cNvSpPr/>
            <p:nvPr/>
          </p:nvSpPr>
          <p:spPr>
            <a:xfrm>
              <a:off x="3054240" y="5867640"/>
              <a:ext cx="408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ating signal: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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 rot="16200000">
              <a:off x="-822600" y="3114000"/>
              <a:ext cx="359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ation level: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8"/>
            <p:cNvGrpSpPr/>
            <p:nvPr/>
          </p:nvGrpSpPr>
          <p:grpSpPr>
            <a:xfrm>
              <a:off x="2448720" y="5410440"/>
              <a:ext cx="2846880" cy="612000"/>
              <a:chOff x="2448720" y="5410440"/>
              <a:chExt cx="2846880" cy="612000"/>
            </a:xfrm>
          </p:grpSpPr>
          <p:sp>
            <p:nvSpPr>
              <p:cNvPr id="281" name="Line 9"/>
              <p:cNvSpPr/>
              <p:nvPr/>
            </p:nvSpPr>
            <p:spPr>
              <a:xfrm>
                <a:off x="2590560" y="54104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Text Box 10"/>
              <p:cNvSpPr/>
              <p:nvPr/>
            </p:nvSpPr>
            <p:spPr>
              <a:xfrm>
                <a:off x="244872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1"/>
              <p:cNvSpPr/>
              <p:nvPr/>
            </p:nvSpPr>
            <p:spPr>
              <a:xfrm>
                <a:off x="5104800" y="54104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2"/>
              <p:cNvSpPr/>
              <p:nvPr/>
            </p:nvSpPr>
            <p:spPr>
              <a:xfrm>
                <a:off x="496260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Line 13"/>
            <p:cNvSpPr/>
            <p:nvPr/>
          </p:nvSpPr>
          <p:spPr>
            <a:xfrm>
              <a:off x="1599840" y="24386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14"/>
            <p:cNvSpPr/>
            <p:nvPr/>
          </p:nvSpPr>
          <p:spPr>
            <a:xfrm>
              <a:off x="1229040" y="221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1752480" y="2595600"/>
              <a:ext cx="3809520" cy="274320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1392" h="1392">
                  <a:moveTo>
                    <a:pt x="0" y="1392"/>
                  </a:moveTo>
                  <a:cubicBezTo>
                    <a:pt x="172" y="932"/>
                    <a:pt x="344" y="472"/>
                    <a:pt x="576" y="240"/>
                  </a:cubicBezTo>
                  <a:cubicBezTo>
                    <a:pt x="808" y="8"/>
                    <a:pt x="1100" y="4"/>
                    <a:pt x="1392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1752480" y="5415120"/>
              <a:ext cx="837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 rot="21314400">
              <a:off x="2502720" y="2824200"/>
              <a:ext cx="3504960" cy="2435400"/>
            </a:xfrm>
            <a:custGeom>
              <a:avLst/>
              <a:gdLst>
                <a:gd name="textAreaLeft" fmla="*/ 0 w 3504960"/>
                <a:gd name="textAreaRight" fmla="*/ 3505320 w 3504960"/>
                <a:gd name="textAreaTop" fmla="*/ 0 h 2435400"/>
                <a:gd name="textAreaBottom" fmla="*/ 2435760 h 2435400"/>
              </a:gdLst>
              <a:ahLst/>
              <a:rect l="textAreaLeft" t="textAreaTop" r="textAreaRight" b="textAreaBottom"/>
              <a:pathLst>
                <a:path w="1392" h="1392">
                  <a:moveTo>
                    <a:pt x="0" y="1392"/>
                  </a:moveTo>
                  <a:cubicBezTo>
                    <a:pt x="172" y="932"/>
                    <a:pt x="344" y="472"/>
                    <a:pt x="576" y="240"/>
                  </a:cubicBezTo>
                  <a:cubicBezTo>
                    <a:pt x="808" y="8"/>
                    <a:pt x="1100" y="4"/>
                    <a:pt x="1392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rc 18"/>
            <p:cNvSpPr/>
            <p:nvPr/>
          </p:nvSpPr>
          <p:spPr>
            <a:xfrm rot="16200000">
              <a:off x="6363720" y="1336680"/>
              <a:ext cx="2743200" cy="526068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0 h 5260680"/>
                <a:gd name="textAreaBottom" fmla="*/ 5261040 h 5260680"/>
              </a:gdLst>
              <a:ahLst/>
              <a:rect l="textAreaLeft" t="textAreaTop" r="textAreaRight" b="textAreaBottom"/>
              <a:pathLst>
                <a:path fill="none" w="37962" h="21600">
                  <a:moveTo>
                    <a:pt x="0" y="11357"/>
                  </a:moveTo>
                  <a:cubicBezTo>
                    <a:pt x="3767" y="4361"/>
                    <a:pt x="11071" y="-1"/>
                    <a:pt x="19017" y="0"/>
                  </a:cubicBezTo>
                  <a:cubicBezTo>
                    <a:pt x="26908" y="0"/>
                    <a:pt x="34171" y="4303"/>
                    <a:pt x="37962" y="11224"/>
                  </a:cubicBezTo>
                </a:path>
                <a:path stroke="0" w="37962" h="21600">
                  <a:moveTo>
                    <a:pt x="0" y="11357"/>
                  </a:moveTo>
                  <a:cubicBezTo>
                    <a:pt x="3767" y="4361"/>
                    <a:pt x="11071" y="-1"/>
                    <a:pt x="19017" y="0"/>
                  </a:cubicBezTo>
                  <a:cubicBezTo>
                    <a:pt x="26908" y="0"/>
                    <a:pt x="34171" y="4303"/>
                    <a:pt x="37962" y="11224"/>
                  </a:cubicBezTo>
                  <a:lnTo>
                    <a:pt x="19017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 flipV="1">
              <a:off x="5790960" y="2519280"/>
              <a:ext cx="1980720" cy="7596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 flipV="1">
              <a:off x="5943240" y="2519280"/>
              <a:ext cx="190476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1752480" y="5415120"/>
              <a:ext cx="609552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2"/>
            <p:cNvSpPr/>
            <p:nvPr/>
          </p:nvSpPr>
          <p:spPr>
            <a:xfrm>
              <a:off x="5867280" y="2671920"/>
              <a:ext cx="151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furcations in PdPC with Linear and Nonlinear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2020320" y="28954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391920" y="38862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6"/>
          <p:cNvSpPr/>
          <p:nvPr/>
        </p:nvSpPr>
        <p:spPr>
          <a:xfrm>
            <a:off x="5029200" y="480060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27"/>
          <p:cNvGrpSpPr/>
          <p:nvPr/>
        </p:nvGrpSpPr>
        <p:grpSpPr>
          <a:xfrm>
            <a:off x="2416320" y="1752480"/>
            <a:ext cx="4959000" cy="3581640"/>
            <a:chOff x="2416320" y="1752480"/>
            <a:chExt cx="4959000" cy="3581640"/>
          </a:xfrm>
        </p:grpSpPr>
        <p:sp>
          <p:nvSpPr>
            <p:cNvPr id="300" name="Text Box 28"/>
            <p:cNvSpPr/>
            <p:nvPr/>
          </p:nvSpPr>
          <p:spPr>
            <a:xfrm>
              <a:off x="2416320" y="1752480"/>
              <a:ext cx="14868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yperbol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3048120" y="2286000"/>
              <a:ext cx="7617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30"/>
            <p:cNvSpPr/>
            <p:nvPr/>
          </p:nvSpPr>
          <p:spPr>
            <a:xfrm>
              <a:off x="4317120" y="1752480"/>
              <a:ext cx="185112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layed on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1"/>
            <p:cNvSpPr/>
            <p:nvPr/>
          </p:nvSpPr>
          <p:spPr>
            <a:xfrm>
              <a:off x="4419720" y="2286000"/>
              <a:ext cx="152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32"/>
            <p:cNvSpPr/>
            <p:nvPr/>
          </p:nvSpPr>
          <p:spPr>
            <a:xfrm>
              <a:off x="5970960" y="3733920"/>
              <a:ext cx="140436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st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 flipH="1" flipV="1">
              <a:off x="5867280" y="3276720"/>
              <a:ext cx="4572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 flipH="1">
              <a:off x="6019560" y="4267080"/>
              <a:ext cx="53316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2971800" y="2057400"/>
            <a:ext cx="3007800" cy="2438280"/>
            <a:chOff x="2971800" y="2057400"/>
            <a:chExt cx="3007800" cy="2438280"/>
          </a:xfrm>
        </p:grpSpPr>
        <p:sp>
          <p:nvSpPr>
            <p:cNvPr id="308" name="Rectangle 19"/>
            <p:cNvSpPr/>
            <p:nvPr/>
          </p:nvSpPr>
          <p:spPr>
            <a:xfrm>
              <a:off x="4267080" y="3581280"/>
              <a:ext cx="5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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876920" y="411480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6618" h="1051407">
                  <a:moveTo>
                    <a:pt x="0" y="1051407"/>
                  </a:moveTo>
                  <a:cubicBezTo>
                    <a:pt x="101600" y="722746"/>
                    <a:pt x="203200" y="394086"/>
                    <a:pt x="286327" y="367916"/>
                  </a:cubicBezTo>
                  <a:cubicBezTo>
                    <a:pt x="369454" y="341746"/>
                    <a:pt x="441806" y="951347"/>
                    <a:pt x="498764" y="894389"/>
                  </a:cubicBezTo>
                  <a:cubicBezTo>
                    <a:pt x="555722" y="837431"/>
                    <a:pt x="583431" y="0"/>
                    <a:pt x="628073" y="26170"/>
                  </a:cubicBezTo>
                  <a:cubicBezTo>
                    <a:pt x="672715" y="52340"/>
                    <a:pt x="719666" y="551873"/>
                    <a:pt x="766618" y="1051407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3429000" y="411480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22036" h="840509">
                  <a:moveTo>
                    <a:pt x="0" y="828193"/>
                  </a:moveTo>
                  <a:cubicBezTo>
                    <a:pt x="98521" y="420253"/>
                    <a:pt x="197042" y="12314"/>
                    <a:pt x="286327" y="6157"/>
                  </a:cubicBezTo>
                  <a:cubicBezTo>
                    <a:pt x="375612" y="0"/>
                    <a:pt x="466436" y="741987"/>
                    <a:pt x="535709" y="791248"/>
                  </a:cubicBezTo>
                  <a:cubicBezTo>
                    <a:pt x="604982" y="840509"/>
                    <a:pt x="654242" y="306339"/>
                    <a:pt x="701963" y="301721"/>
                  </a:cubicBezTo>
                  <a:cubicBezTo>
                    <a:pt x="749684" y="297103"/>
                    <a:pt x="785860" y="530321"/>
                    <a:pt x="822036" y="76353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114800" y="411480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20436" h="959042">
                  <a:moveTo>
                    <a:pt x="0" y="959042"/>
                  </a:moveTo>
                  <a:cubicBezTo>
                    <a:pt x="80818" y="508769"/>
                    <a:pt x="161636" y="58496"/>
                    <a:pt x="230909" y="53878"/>
                  </a:cubicBezTo>
                  <a:cubicBezTo>
                    <a:pt x="300182" y="49260"/>
                    <a:pt x="367915" y="929794"/>
                    <a:pt x="415636" y="931333"/>
                  </a:cubicBezTo>
                  <a:cubicBezTo>
                    <a:pt x="463357" y="932872"/>
                    <a:pt x="478751" y="126230"/>
                    <a:pt x="517236" y="63115"/>
                  </a:cubicBezTo>
                  <a:cubicBezTo>
                    <a:pt x="555721" y="0"/>
                    <a:pt x="612679" y="404860"/>
                    <a:pt x="646546" y="552642"/>
                  </a:cubicBezTo>
                  <a:cubicBezTo>
                    <a:pt x="680413" y="700424"/>
                    <a:pt x="700424" y="825115"/>
                    <a:pt x="720436" y="949806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2"/>
            <p:cNvSpPr/>
            <p:nvPr/>
          </p:nvSpPr>
          <p:spPr>
            <a:xfrm>
              <a:off x="2971800" y="365760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3"/>
            <p:cNvSpPr/>
            <p:nvPr/>
          </p:nvSpPr>
          <p:spPr>
            <a:xfrm flipV="1">
              <a:off x="2971800" y="213336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5640480" y="34243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3051000" y="20574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xtrema 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7"/>
            <p:cNvSpPr/>
            <p:nvPr/>
          </p:nvSpPr>
          <p:spPr>
            <a:xfrm rot="394200">
              <a:off x="3276720" y="2209680"/>
              <a:ext cx="2209680" cy="140184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1056" h="768">
                  <a:moveTo>
                    <a:pt x="0" y="768"/>
                  </a:moveTo>
                  <a:cubicBezTo>
                    <a:pt x="384" y="712"/>
                    <a:pt x="768" y="656"/>
                    <a:pt x="816" y="576"/>
                  </a:cubicBezTo>
                  <a:cubicBezTo>
                    <a:pt x="864" y="496"/>
                    <a:pt x="248" y="384"/>
                    <a:pt x="288" y="288"/>
                  </a:cubicBezTo>
                  <a:cubicBezTo>
                    <a:pt x="328" y="192"/>
                    <a:pt x="692" y="96"/>
                    <a:pt x="105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 flipV="1">
              <a:off x="3733920" y="365760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 flipH="1" flipV="1">
              <a:off x="4800240" y="365760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4343400" y="25146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 flipV="1">
              <a:off x="4343400" y="3657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tability and Emergent Sat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-3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086600" cy="4906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914400" y="1676520"/>
            <a:ext cx="13716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475280" y="32004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2971800" y="601992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R* molecu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357840" y="-158400"/>
            <a:ext cx="5637600" cy="3779640"/>
            <a:chOff x="357840" y="-158400"/>
            <a:chExt cx="5637600" cy="3779640"/>
          </a:xfrm>
        </p:grpSpPr>
        <p:sp>
          <p:nvSpPr>
            <p:cNvPr id="328" name="Line 9"/>
            <p:cNvSpPr/>
            <p:nvPr/>
          </p:nvSpPr>
          <p:spPr>
            <a:xfrm>
              <a:off x="3709800" y="1716120"/>
              <a:ext cx="228564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H="1">
              <a:off x="2718720" y="2249640"/>
              <a:ext cx="15228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1"/>
            <p:cNvSpPr/>
            <p:nvPr/>
          </p:nvSpPr>
          <p:spPr>
            <a:xfrm rot="19794600">
              <a:off x="150480" y="1221840"/>
              <a:ext cx="5694480" cy="70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0000"/>
                  </a:solidFill>
                  <a:latin typeface="Times New Roman"/>
                </a:rPr>
                <a:t>defining cellular attractor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fundamental difference of two types of landsc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detailed balance system, such as protein folding dynamics, the energy landscape is 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 pri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It directs the dynamics of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system without detailed balance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considered as an “ energy landscape”.  However, it is a consequence of the dynamics.  That is why we call it emergent.  It dynamics is non-lo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which one is the “fitness landscap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w Some Biological Implications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systems not too big, not too small, like a cell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Emergent Mesoscopic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generally believed that when systems become large, stochasticity disappears and a deterministic dynamics r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is simple example clearly shows that beyond the “infinite-time” in the deterministic dynamics, there is another, emerging stochastic, multi-state dynamic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tochastic dynamics is completely non-obvious from the level of pair-wise, static, molecule interactions.  It can only be understood from a mesoscopic, open driven chemical dynamic system perspective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a cartoon: Three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Group 64"/>
          <p:cNvGrpSpPr/>
          <p:nvPr/>
        </p:nvGrpSpPr>
        <p:grpSpPr>
          <a:xfrm>
            <a:off x="762120" y="1217520"/>
            <a:ext cx="3580920" cy="3147480"/>
            <a:chOff x="762120" y="1217520"/>
            <a:chExt cx="3580920" cy="3147480"/>
          </a:xfrm>
        </p:grpSpPr>
        <p:cxnSp>
          <p:nvCxnSpPr>
            <p:cNvPr id="338" name="Straight Arrow Connector 4"/>
            <p:cNvCxnSpPr/>
            <p:nvPr/>
          </p:nvCxnSpPr>
          <p:spPr>
            <a:xfrm>
              <a:off x="990360" y="4078440"/>
              <a:ext cx="29718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9" name="TextBox 9"/>
            <p:cNvSpPr/>
            <p:nvPr/>
          </p:nvSpPr>
          <p:spPr>
            <a:xfrm>
              <a:off x="762120" y="12175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Box 10"/>
            <p:cNvSpPr/>
            <p:nvPr/>
          </p:nvSpPr>
          <p:spPr>
            <a:xfrm>
              <a:off x="3968640" y="3924360"/>
              <a:ext cx="37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6"/>
            <p:cNvCxnSpPr/>
            <p:nvPr/>
          </p:nvCxnSpPr>
          <p:spPr>
            <a:xfrm flipV="1">
              <a:off x="989640" y="1604160"/>
              <a:ext cx="1080" cy="2475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2" name="Straight Connector 16"/>
            <p:cNvSpPr/>
            <p:nvPr/>
          </p:nvSpPr>
          <p:spPr>
            <a:xfrm>
              <a:off x="1066680" y="392436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Straight Connector 17"/>
            <p:cNvSpPr/>
            <p:nvPr/>
          </p:nvSpPr>
          <p:spPr>
            <a:xfrm>
              <a:off x="1066680" y="376884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Straight Connector 18"/>
            <p:cNvSpPr/>
            <p:nvPr/>
          </p:nvSpPr>
          <p:spPr>
            <a:xfrm>
              <a:off x="1066680" y="361476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Straight Connector 19"/>
            <p:cNvSpPr/>
            <p:nvPr/>
          </p:nvSpPr>
          <p:spPr>
            <a:xfrm>
              <a:off x="1066680" y="346068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Straight Connector 20"/>
            <p:cNvSpPr/>
            <p:nvPr/>
          </p:nvSpPr>
          <p:spPr>
            <a:xfrm>
              <a:off x="1066680" y="330516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Straight Connector 21"/>
            <p:cNvSpPr/>
            <p:nvPr/>
          </p:nvSpPr>
          <p:spPr>
            <a:xfrm>
              <a:off x="1066680" y="315108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Straight Connector 22"/>
            <p:cNvSpPr/>
            <p:nvPr/>
          </p:nvSpPr>
          <p:spPr>
            <a:xfrm>
              <a:off x="1066680" y="299556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Straight Connector 23"/>
            <p:cNvSpPr/>
            <p:nvPr/>
          </p:nvSpPr>
          <p:spPr>
            <a:xfrm>
              <a:off x="1066680" y="284148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Straight Connector 24"/>
            <p:cNvSpPr/>
            <p:nvPr/>
          </p:nvSpPr>
          <p:spPr>
            <a:xfrm>
              <a:off x="1066680" y="268596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Straight Connector 25"/>
            <p:cNvSpPr/>
            <p:nvPr/>
          </p:nvSpPr>
          <p:spPr>
            <a:xfrm>
              <a:off x="1066680" y="253188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Straight Connector 26"/>
            <p:cNvSpPr/>
            <p:nvPr/>
          </p:nvSpPr>
          <p:spPr>
            <a:xfrm>
              <a:off x="1066680" y="237780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Straight Connector 27"/>
            <p:cNvSpPr/>
            <p:nvPr/>
          </p:nvSpPr>
          <p:spPr>
            <a:xfrm>
              <a:off x="1066680" y="222228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Straight Connector 28"/>
            <p:cNvSpPr/>
            <p:nvPr/>
          </p:nvSpPr>
          <p:spPr>
            <a:xfrm>
              <a:off x="1066680" y="206820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Straight Connector 29"/>
            <p:cNvSpPr/>
            <p:nvPr/>
          </p:nvSpPr>
          <p:spPr>
            <a:xfrm>
              <a:off x="1066680" y="191268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Straight Connector 30"/>
            <p:cNvSpPr/>
            <p:nvPr/>
          </p:nvSpPr>
          <p:spPr>
            <a:xfrm>
              <a:off x="1066680" y="1758600"/>
              <a:ext cx="2742120" cy="144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Straight Connector 34"/>
            <p:cNvSpPr/>
            <p:nvPr/>
          </p:nvSpPr>
          <p:spPr>
            <a:xfrm flipV="1">
              <a:off x="342972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Straight Connector 35"/>
            <p:cNvSpPr/>
            <p:nvPr/>
          </p:nvSpPr>
          <p:spPr>
            <a:xfrm flipV="1">
              <a:off x="327744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Straight Connector 36"/>
            <p:cNvSpPr/>
            <p:nvPr/>
          </p:nvSpPr>
          <p:spPr>
            <a:xfrm flipV="1">
              <a:off x="312480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Straight Connector 37"/>
            <p:cNvSpPr/>
            <p:nvPr/>
          </p:nvSpPr>
          <p:spPr>
            <a:xfrm flipV="1">
              <a:off x="297252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Straight Connector 38"/>
            <p:cNvSpPr/>
            <p:nvPr/>
          </p:nvSpPr>
          <p:spPr>
            <a:xfrm flipV="1">
              <a:off x="281988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Straight Connector 39"/>
            <p:cNvSpPr/>
            <p:nvPr/>
          </p:nvSpPr>
          <p:spPr>
            <a:xfrm flipV="1">
              <a:off x="266760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Straight Connector 40"/>
            <p:cNvSpPr/>
            <p:nvPr/>
          </p:nvSpPr>
          <p:spPr>
            <a:xfrm flipV="1">
              <a:off x="251496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Straight Connector 41"/>
            <p:cNvSpPr/>
            <p:nvPr/>
          </p:nvSpPr>
          <p:spPr>
            <a:xfrm flipV="1">
              <a:off x="236268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Straight Connector 42"/>
            <p:cNvSpPr/>
            <p:nvPr/>
          </p:nvSpPr>
          <p:spPr>
            <a:xfrm flipV="1">
              <a:off x="221004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Straight Connector 43"/>
            <p:cNvSpPr/>
            <p:nvPr/>
          </p:nvSpPr>
          <p:spPr>
            <a:xfrm flipV="1">
              <a:off x="205776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Straight Connector 44"/>
            <p:cNvSpPr/>
            <p:nvPr/>
          </p:nvSpPr>
          <p:spPr>
            <a:xfrm flipV="1">
              <a:off x="190512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Straight Connector 45"/>
            <p:cNvSpPr/>
            <p:nvPr/>
          </p:nvSpPr>
          <p:spPr>
            <a:xfrm flipV="1">
              <a:off x="175284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Straight Connector 46"/>
            <p:cNvSpPr/>
            <p:nvPr/>
          </p:nvSpPr>
          <p:spPr>
            <a:xfrm flipV="1">
              <a:off x="160056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Straight Connector 47"/>
            <p:cNvSpPr/>
            <p:nvPr/>
          </p:nvSpPr>
          <p:spPr>
            <a:xfrm flipV="1">
              <a:off x="144792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Straight Connector 48"/>
            <p:cNvSpPr/>
            <p:nvPr/>
          </p:nvSpPr>
          <p:spPr>
            <a:xfrm flipV="1">
              <a:off x="129564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Straight Connector 50"/>
            <p:cNvSpPr/>
            <p:nvPr/>
          </p:nvSpPr>
          <p:spPr>
            <a:xfrm flipV="1">
              <a:off x="358200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Straight Connector 51"/>
            <p:cNvSpPr/>
            <p:nvPr/>
          </p:nvSpPr>
          <p:spPr>
            <a:xfrm flipV="1">
              <a:off x="373464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Straight Connector 52"/>
            <p:cNvSpPr/>
            <p:nvPr/>
          </p:nvSpPr>
          <p:spPr>
            <a:xfrm flipV="1">
              <a:off x="1143000" y="1680480"/>
              <a:ext cx="1440" cy="2319480"/>
            </a:xfrm>
            <a:prstGeom prst="line">
              <a:avLst/>
            </a:prstGeom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Elbow Connector 57"/>
          <p:cNvCxnSpPr/>
          <p:nvPr/>
        </p:nvCxnSpPr>
        <p:spPr>
          <a:xfrm>
            <a:off x="1752480" y="2531880"/>
            <a:ext cx="610560" cy="309960"/>
          </a:xfrm>
          <a:prstGeom prst="bentConnector3">
            <a:avLst>
              <a:gd name="adj1" fmla="val 4997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Elbow Connector 66"/>
          <p:cNvCxnSpPr/>
          <p:nvPr/>
        </p:nvCxnSpPr>
        <p:spPr>
          <a:xfrm flipH="1" rot="16200000">
            <a:off x="1520640" y="2301120"/>
            <a:ext cx="310320" cy="153000"/>
          </a:xfrm>
          <a:prstGeom prst="bentConnector3">
            <a:avLst>
              <a:gd name="adj1" fmla="val 49941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Elbow Connector 69"/>
          <p:cNvCxnSpPr/>
          <p:nvPr/>
        </p:nvCxnSpPr>
        <p:spPr>
          <a:xfrm flipH="1" rot="16200000">
            <a:off x="1976400" y="2455200"/>
            <a:ext cx="619560" cy="153360"/>
          </a:xfrm>
          <a:prstGeom prst="bentConnector3">
            <a:avLst>
              <a:gd name="adj1" fmla="val 50000"/>
            </a:avLst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78" name="Elbow Connector 72"/>
          <p:cNvCxnSpPr/>
          <p:nvPr/>
        </p:nvCxnSpPr>
        <p:spPr>
          <a:xfrm flipV="1">
            <a:off x="1294920" y="2221920"/>
            <a:ext cx="305640" cy="154440"/>
          </a:xfrm>
          <a:prstGeom prst="bentConnector3">
            <a:avLst>
              <a:gd name="adj1" fmla="val 5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Elbow Connector 76"/>
          <p:cNvCxnSpPr/>
          <p:nvPr/>
        </p:nvCxnSpPr>
        <p:spPr>
          <a:xfrm flipH="1" rot="16200000">
            <a:off x="2435040" y="1991520"/>
            <a:ext cx="310320" cy="153000"/>
          </a:xfrm>
          <a:prstGeom prst="bentConnector3">
            <a:avLst>
              <a:gd name="adj1" fmla="val 49941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Straight Arrow Connector 84"/>
          <p:cNvCxnSpPr/>
          <p:nvPr/>
        </p:nvCxnSpPr>
        <p:spPr>
          <a:xfrm flipV="1">
            <a:off x="2208600" y="1912680"/>
            <a:ext cx="305640" cy="310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1" name="Group 147"/>
          <p:cNvGrpSpPr/>
          <p:nvPr/>
        </p:nvGrpSpPr>
        <p:grpSpPr>
          <a:xfrm>
            <a:off x="4173480" y="4851000"/>
            <a:ext cx="4407840" cy="1776600"/>
            <a:chOff x="4173480" y="4851000"/>
            <a:chExt cx="4407840" cy="1776600"/>
          </a:xfrm>
        </p:grpSpPr>
        <p:sp>
          <p:nvSpPr>
            <p:cNvPr id="382" name="TextBox 115"/>
            <p:cNvSpPr/>
            <p:nvPr/>
          </p:nvSpPr>
          <p:spPr>
            <a:xfrm>
              <a:off x="4582800" y="6167880"/>
              <a:ext cx="3998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ropriate reaction coordin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Straight Arrow Connector 114"/>
            <p:cNvCxnSpPr/>
            <p:nvPr/>
          </p:nvCxnSpPr>
          <p:spPr>
            <a:xfrm>
              <a:off x="4569480" y="6167880"/>
              <a:ext cx="34308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84" name="Straight Connector 117"/>
            <p:cNvSpPr/>
            <p:nvPr/>
          </p:nvSpPr>
          <p:spPr>
            <a:xfrm flipH="1">
              <a:off x="6931080" y="6091560"/>
              <a:ext cx="2880" cy="7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Straight Connector 121"/>
            <p:cNvSpPr/>
            <p:nvPr/>
          </p:nvSpPr>
          <p:spPr>
            <a:xfrm flipH="1">
              <a:off x="5331960" y="6012000"/>
              <a:ext cx="1440" cy="155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Box 122"/>
            <p:cNvSpPr/>
            <p:nvPr/>
          </p:nvSpPr>
          <p:spPr>
            <a:xfrm>
              <a:off x="5182920" y="5548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Box 123"/>
            <p:cNvSpPr/>
            <p:nvPr/>
          </p:nvSpPr>
          <p:spPr>
            <a:xfrm>
              <a:off x="6783480" y="5703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Straight Arrow Connector 125"/>
            <p:cNvCxnSpPr/>
            <p:nvPr/>
          </p:nvCxnSpPr>
          <p:spPr>
            <a:xfrm flipV="1">
              <a:off x="4568040" y="4852080"/>
              <a:ext cx="2160" cy="1317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TextBox 126"/>
            <p:cNvSpPr/>
            <p:nvPr/>
          </p:nvSpPr>
          <p:spPr>
            <a:xfrm rot="16200000">
              <a:off x="3706560" y="5317560"/>
              <a:ext cx="13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Group 138"/>
            <p:cNvGrpSpPr/>
            <p:nvPr/>
          </p:nvGrpSpPr>
          <p:grpSpPr>
            <a:xfrm>
              <a:off x="4569120" y="5162040"/>
              <a:ext cx="3157200" cy="1130760"/>
              <a:chOff x="4569120" y="5162040"/>
              <a:chExt cx="3157200" cy="1130760"/>
            </a:xfrm>
          </p:grpSpPr>
          <p:sp>
            <p:nvSpPr>
              <p:cNvPr id="391" name="Freeform 133"/>
              <p:cNvSpPr/>
              <p:nvPr/>
            </p:nvSpPr>
            <p:spPr>
              <a:xfrm flipH="1">
                <a:off x="4568760" y="5162040"/>
                <a:ext cx="1755000" cy="963360"/>
              </a:xfrm>
              <a:custGeom>
                <a:avLst/>
                <a:gdLst/>
                <a:ahLst/>
                <a:rect l="l" t="t" r="r" b="b"/>
                <a:pathLst>
                  <a:path w="1514764" h="949806">
                    <a:moveTo>
                      <a:pt x="0" y="883612"/>
                    </a:moveTo>
                    <a:cubicBezTo>
                      <a:pt x="153939" y="868218"/>
                      <a:pt x="307879" y="852824"/>
                      <a:pt x="452582" y="708121"/>
                    </a:cubicBezTo>
                    <a:cubicBezTo>
                      <a:pt x="597285" y="563418"/>
                      <a:pt x="754303" y="0"/>
                      <a:pt x="868218" y="15394"/>
                    </a:cubicBezTo>
                    <a:cubicBezTo>
                      <a:pt x="982133" y="30788"/>
                      <a:pt x="1028315" y="651164"/>
                      <a:pt x="1136073" y="800485"/>
                    </a:cubicBezTo>
                    <a:cubicBezTo>
                      <a:pt x="1243831" y="949806"/>
                      <a:pt x="1379297" y="930563"/>
                      <a:pt x="1514764" y="91132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135"/>
              <p:cNvSpPr/>
              <p:nvPr/>
            </p:nvSpPr>
            <p:spPr>
              <a:xfrm rot="21307200">
                <a:off x="6283080" y="5437440"/>
                <a:ext cx="1411920" cy="796680"/>
              </a:xfrm>
              <a:custGeom>
                <a:avLst/>
                <a:gdLst/>
                <a:ahLst/>
                <a:rect l="l" t="t" r="r" b="b"/>
                <a:pathLst>
                  <a:path w="1219200" h="777394">
                    <a:moveTo>
                      <a:pt x="0" y="564958"/>
                    </a:moveTo>
                    <a:cubicBezTo>
                      <a:pt x="127770" y="573424"/>
                      <a:pt x="255540" y="581891"/>
                      <a:pt x="350982" y="491067"/>
                    </a:cubicBezTo>
                    <a:cubicBezTo>
                      <a:pt x="446424" y="400243"/>
                      <a:pt x="497225" y="0"/>
                      <a:pt x="572655" y="20012"/>
                    </a:cubicBezTo>
                    <a:cubicBezTo>
                      <a:pt x="648085" y="40024"/>
                      <a:pt x="695807" y="484910"/>
                      <a:pt x="803564" y="611140"/>
                    </a:cubicBezTo>
                    <a:cubicBezTo>
                      <a:pt x="911321" y="737370"/>
                      <a:pt x="1065260" y="757382"/>
                      <a:pt x="1219200" y="77739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Group 145"/>
          <p:cNvGrpSpPr/>
          <p:nvPr/>
        </p:nvGrpSpPr>
        <p:grpSpPr>
          <a:xfrm>
            <a:off x="1284120" y="5160960"/>
            <a:ext cx="2063880" cy="1238400"/>
            <a:chOff x="1284120" y="5160960"/>
            <a:chExt cx="2063880" cy="1238400"/>
          </a:xfrm>
        </p:grpSpPr>
        <p:sp>
          <p:nvSpPr>
            <p:cNvPr id="394" name="TextBox 141"/>
            <p:cNvSpPr/>
            <p:nvPr/>
          </p:nvSpPr>
          <p:spPr>
            <a:xfrm>
              <a:off x="1284120" y="5470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Box 142"/>
            <p:cNvSpPr/>
            <p:nvPr/>
          </p:nvSpPr>
          <p:spPr>
            <a:xfrm>
              <a:off x="2895840" y="5470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Arc 143"/>
            <p:cNvSpPr/>
            <p:nvPr/>
          </p:nvSpPr>
          <p:spPr>
            <a:xfrm>
              <a:off x="1598400" y="5160960"/>
              <a:ext cx="1524240" cy="1238400"/>
            </a:xfrm>
            <a:custGeom>
              <a:avLst/>
              <a:gdLst>
                <a:gd name="textAreaLeft" fmla="*/ 74880 w 1524240"/>
                <a:gd name="textAreaRight" fmla="*/ 1452240 w 1524240"/>
                <a:gd name="textAreaTop" fmla="*/ 0 h 1238400"/>
                <a:gd name="textAreaBottom" fmla="*/ 356040 h 1238400"/>
              </a:gdLst>
              <a:ahLst/>
              <a:rect l="textAreaLeft" t="textAreaTop" r="textAreaRight" b="textAreaBottom"/>
              <a:pathLst>
                <a:path stroke="0" w="1523995" h="1219868">
                  <a:moveTo>
                    <a:pt x="75182" y="345759"/>
                  </a:moveTo>
                  <a:lnTo>
                    <a:pt x="75182" y="345759"/>
                  </a:lnTo>
                  <a:arcTo wR="761998" hR="609934" stAng="-9537684" swAng="8301374"/>
                  <a:lnTo>
                    <a:pt x="761998" y="609934"/>
                  </a:lnTo>
                  <a:close/>
                </a:path>
                <a:path fill="none" w="1523995" h="1219868">
                  <a:moveTo>
                    <a:pt x="75182" y="345759"/>
                  </a:moveTo>
                  <a:lnTo>
                    <a:pt x="75182" y="345759"/>
                  </a:lnTo>
                  <a:arcTo wR="761998" hR="609934" stAng="-9537684" swAng="8301374"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144"/>
            <p:cNvSpPr/>
            <p:nvPr/>
          </p:nvSpPr>
          <p:spPr>
            <a:xfrm rot="10800000">
              <a:off x="1598400" y="5160960"/>
              <a:ext cx="1524240" cy="1238400"/>
            </a:xfrm>
            <a:custGeom>
              <a:avLst/>
              <a:gdLst>
                <a:gd name="textAreaLeft" fmla="*/ 74880 w 1524240"/>
                <a:gd name="textAreaRight" fmla="*/ 1452240 w 1524240"/>
                <a:gd name="textAreaTop" fmla="*/ 0 h 1238400"/>
                <a:gd name="textAreaBottom" fmla="*/ 355680 h 1238400"/>
              </a:gdLst>
              <a:ahLst/>
              <a:rect l="textAreaLeft" t="textAreaTop" r="textAreaRight" b="textAreaBottom"/>
              <a:pathLst>
                <a:path stroke="0" w="1524101" h="1219868">
                  <a:moveTo>
                    <a:pt x="75196" y="345744"/>
                  </a:moveTo>
                  <a:lnTo>
                    <a:pt x="75196" y="345744"/>
                  </a:lnTo>
                  <a:cubicBezTo>
                    <a:pt x="202085" y="134408"/>
                    <a:pt x="469101" y="-1"/>
                    <a:pt x="762051" y="0"/>
                  </a:cubicBezTo>
                  <a:cubicBezTo>
                    <a:pt x="1057430" y="0"/>
                    <a:pt x="1326204" y="136622"/>
                    <a:pt x="1451792" y="350605"/>
                  </a:cubicBezTo>
                  <a:lnTo>
                    <a:pt x="762051" y="609934"/>
                  </a:lnTo>
                  <a:close/>
                </a:path>
                <a:path fill="none" w="1524101" h="1219868">
                  <a:moveTo>
                    <a:pt x="75196" y="345744"/>
                  </a:moveTo>
                  <a:lnTo>
                    <a:pt x="75196" y="345744"/>
                  </a:lnTo>
                  <a:cubicBezTo>
                    <a:pt x="202085" y="134408"/>
                    <a:pt x="469101" y="-1"/>
                    <a:pt x="762051" y="0"/>
                  </a:cubicBezTo>
                  <a:cubicBezTo>
                    <a:pt x="1057430" y="0"/>
                    <a:pt x="1326204" y="136622"/>
                    <a:pt x="1451792" y="350605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48"/>
          <p:cNvSpPr/>
          <p:nvPr/>
        </p:nvSpPr>
        <p:spPr>
          <a:xfrm>
            <a:off x="1545120" y="1374840"/>
            <a:ext cx="1735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aster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1548000" y="4619520"/>
            <a:ext cx="17488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tochastic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attract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55"/>
          <p:cNvSpPr/>
          <p:nvPr/>
        </p:nvSpPr>
        <p:spPr>
          <a:xfrm>
            <a:off x="4467600" y="4419720"/>
            <a:ext cx="465840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mergent s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chastic dyna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Straight Arrow Connector 105"/>
          <p:cNvCxnSpPr/>
          <p:nvPr/>
        </p:nvCxnSpPr>
        <p:spPr>
          <a:xfrm flipH="1">
            <a:off x="6323760" y="5083200"/>
            <a:ext cx="559800" cy="851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5-Point Star 113"/>
          <p:cNvSpPr/>
          <p:nvPr/>
        </p:nvSpPr>
        <p:spPr>
          <a:xfrm>
            <a:off x="6248520" y="6012000"/>
            <a:ext cx="75960" cy="77760"/>
          </a:xfrm>
          <a:custGeom>
            <a:avLst/>
            <a:gdLst>
              <a:gd name="textAreaLeft" fmla="*/ 23400 w 75960"/>
              <a:gd name="textAreaRight" fmla="*/ 52560 w 75960"/>
              <a:gd name="textAreaTop" fmla="*/ 29520 h 77760"/>
              <a:gd name="textAreaBottom" fmla="*/ 59400 h 77760"/>
            </a:gdLst>
            <a:ahLst/>
            <a:rect l="textAreaLeft" t="textAreaTop" r="textAreaRight" b="textAreaBottom"/>
            <a:pathLst>
              <a:path w="76200" h="77787">
                <a:moveTo>
                  <a:pt x="0" y="29712"/>
                </a:moveTo>
                <a:lnTo>
                  <a:pt x="29106" y="29712"/>
                </a:lnTo>
                <a:lnTo>
                  <a:pt x="38100" y="0"/>
                </a:lnTo>
                <a:lnTo>
                  <a:pt x="47094" y="29712"/>
                </a:lnTo>
                <a:lnTo>
                  <a:pt x="76200" y="29712"/>
                </a:lnTo>
                <a:lnTo>
                  <a:pt x="52653" y="48075"/>
                </a:lnTo>
                <a:lnTo>
                  <a:pt x="61647" y="77787"/>
                </a:lnTo>
                <a:lnTo>
                  <a:pt x="38100" y="59424"/>
                </a:lnTo>
                <a:lnTo>
                  <a:pt x="14553" y="77787"/>
                </a:lnTo>
                <a:lnTo>
                  <a:pt x="23547" y="480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113"/>
          <p:cNvGrpSpPr/>
          <p:nvPr/>
        </p:nvGrpSpPr>
        <p:grpSpPr>
          <a:xfrm>
            <a:off x="4191120" y="758520"/>
            <a:ext cx="4038480" cy="3780360"/>
            <a:chOff x="4191120" y="758520"/>
            <a:chExt cx="4038480" cy="3780360"/>
          </a:xfrm>
        </p:grpSpPr>
        <p:pic>
          <p:nvPicPr>
            <p:cNvPr id="404" name="Picture 114" descr=""/>
            <p:cNvPicPr/>
            <p:nvPr/>
          </p:nvPicPr>
          <p:blipFill>
            <a:blip r:embed="rId1"/>
            <a:stretch/>
          </p:blipFill>
          <p:spPr>
            <a:xfrm rot="2440200">
              <a:off x="4986000" y="2625120"/>
              <a:ext cx="11620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Box 13"/>
            <p:cNvSpPr/>
            <p:nvPr/>
          </p:nvSpPr>
          <p:spPr>
            <a:xfrm>
              <a:off x="4191120" y="1292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6" name="Straight Arrow Connector 11"/>
            <p:cNvCxnSpPr/>
            <p:nvPr/>
          </p:nvCxnSpPr>
          <p:spPr>
            <a:xfrm>
              <a:off x="4420800" y="4111200"/>
              <a:ext cx="297108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7" name="Straight Arrow Connector 12"/>
            <p:cNvCxnSpPr/>
            <p:nvPr/>
          </p:nvCxnSpPr>
          <p:spPr>
            <a:xfrm flipV="1">
              <a:off x="4419720" y="1673280"/>
              <a:ext cx="2160" cy="243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8" name="TextBox 14"/>
            <p:cNvSpPr/>
            <p:nvPr/>
          </p:nvSpPr>
          <p:spPr>
            <a:xfrm>
              <a:off x="7401600" y="3959280"/>
              <a:ext cx="429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90"/>
            <p:cNvSpPr/>
            <p:nvPr/>
          </p:nvSpPr>
          <p:spPr>
            <a:xfrm rot="19111800">
              <a:off x="5627520" y="1218960"/>
              <a:ext cx="2016000" cy="164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85"/>
            <p:cNvSpPr/>
            <p:nvPr/>
          </p:nvSpPr>
          <p:spPr>
            <a:xfrm>
              <a:off x="4800600" y="2511360"/>
              <a:ext cx="1600200" cy="121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86"/>
            <p:cNvSpPr/>
            <p:nvPr/>
          </p:nvSpPr>
          <p:spPr>
            <a:xfrm rot="19111800">
              <a:off x="5841720" y="1439280"/>
              <a:ext cx="1600200" cy="121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9"/>
            <p:cNvSpPr/>
            <p:nvPr/>
          </p:nvSpPr>
          <p:spPr>
            <a:xfrm>
              <a:off x="4572000" y="2359080"/>
              <a:ext cx="1981440" cy="152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93"/>
            <p:cNvSpPr/>
            <p:nvPr/>
          </p:nvSpPr>
          <p:spPr>
            <a:xfrm rot="18368400">
              <a:off x="6138360" y="2257920"/>
              <a:ext cx="304560" cy="449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eeece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94"/>
            <p:cNvSpPr/>
            <p:nvPr/>
          </p:nvSpPr>
          <p:spPr>
            <a:xfrm>
              <a:off x="6400800" y="2892240"/>
              <a:ext cx="152640" cy="75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95"/>
            <p:cNvSpPr/>
            <p:nvPr/>
          </p:nvSpPr>
          <p:spPr>
            <a:xfrm>
              <a:off x="6400800" y="2739960"/>
              <a:ext cx="152640" cy="151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96"/>
            <p:cNvSpPr/>
            <p:nvPr/>
          </p:nvSpPr>
          <p:spPr>
            <a:xfrm>
              <a:off x="5715000" y="2359080"/>
              <a:ext cx="152640" cy="15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>
                  <a:alpha val="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99"/>
            <p:cNvSpPr/>
            <p:nvPr/>
          </p:nvSpPr>
          <p:spPr>
            <a:xfrm>
              <a:off x="5715000" y="2511360"/>
              <a:ext cx="76320" cy="151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00"/>
            <p:cNvSpPr/>
            <p:nvPr/>
          </p:nvSpPr>
          <p:spPr>
            <a:xfrm>
              <a:off x="5867640" y="2359080"/>
              <a:ext cx="75960" cy="151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Box 102"/>
            <p:cNvSpPr/>
            <p:nvPr/>
          </p:nvSpPr>
          <p:spPr>
            <a:xfrm flipH="1">
              <a:off x="5464440" y="248904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Box 103"/>
            <p:cNvSpPr/>
            <p:nvPr/>
          </p:nvSpPr>
          <p:spPr>
            <a:xfrm flipH="1">
              <a:off x="6880320" y="156204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Box 149"/>
            <p:cNvSpPr/>
            <p:nvPr/>
          </p:nvSpPr>
          <p:spPr>
            <a:xfrm>
              <a:off x="5881680" y="3738600"/>
              <a:ext cx="2347920" cy="27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fas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nonlinear differential equ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2" name="Straight Arrow Connector 151"/>
            <p:cNvCxnSpPr/>
            <p:nvPr/>
          </p:nvCxnSpPr>
          <p:spPr>
            <a:xfrm flipH="1" flipV="1">
              <a:off x="7162560" y="2477160"/>
              <a:ext cx="589680" cy="1248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3" name="Straight Arrow Connector 152"/>
            <p:cNvCxnSpPr>
              <a:stCxn id="421" idx="0"/>
            </p:cNvCxnSpPr>
            <p:nvPr/>
          </p:nvCxnSpPr>
          <p:spPr>
            <a:xfrm flipH="1" flipV="1">
              <a:off x="6095880" y="3428640"/>
              <a:ext cx="961200" cy="300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4" name="5-Point Star 115"/>
            <p:cNvSpPr/>
            <p:nvPr/>
          </p:nvSpPr>
          <p:spPr>
            <a:xfrm>
              <a:off x="6096240" y="2590560"/>
              <a:ext cx="75960" cy="75960"/>
            </a:xfrm>
            <a:custGeom>
              <a:avLst/>
              <a:gdLst>
                <a:gd name="textAreaLeft" fmla="*/ 23760 w 75960"/>
                <a:gd name="textAreaRight" fmla="*/ 52200 w 75960"/>
                <a:gd name="textAreaTop" fmla="*/ 28440 h 75960"/>
                <a:gd name="textAreaBottom" fmla="*/ 5868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 rot="2323800">
              <a:off x="5705280" y="2725200"/>
              <a:ext cx="601560" cy="10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36"/>
            <p:cNvSpPr/>
            <p:nvPr/>
          </p:nvSpPr>
          <p:spPr>
            <a:xfrm>
              <a:off x="5220000" y="3467160"/>
              <a:ext cx="139680" cy="1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37"/>
            <p:cNvSpPr/>
            <p:nvPr/>
          </p:nvSpPr>
          <p:spPr>
            <a:xfrm flipH="1">
              <a:off x="5112000" y="2921040"/>
              <a:ext cx="108000" cy="1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Arc 138"/>
            <p:cNvSpPr/>
            <p:nvPr/>
          </p:nvSpPr>
          <p:spPr>
            <a:xfrm rot="5048400">
              <a:off x="5975640" y="1886760"/>
              <a:ext cx="917280" cy="4255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fill="none" w="21600" h="23947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823"/>
                    <a:pt x="21425" y="22402"/>
                    <a:pt x="21081" y="23947"/>
                  </a:cubicBezTo>
                </a:path>
                <a:path stroke="0" w="21600" h="23947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823"/>
                    <a:pt x="21425" y="22402"/>
                    <a:pt x="21081" y="23947"/>
                  </a:cubicBezTo>
                  <a:lnTo>
                    <a:pt x="0" y="1924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Arc 139"/>
            <p:cNvSpPr/>
            <p:nvPr/>
          </p:nvSpPr>
          <p:spPr>
            <a:xfrm rot="16200000">
              <a:off x="6409080" y="1736280"/>
              <a:ext cx="917280" cy="4255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fill="none" w="21600" h="23947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823"/>
                    <a:pt x="21425" y="22402"/>
                    <a:pt x="21081" y="23947"/>
                  </a:cubicBezTo>
                </a:path>
                <a:path stroke="0" w="21600" h="23947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823"/>
                    <a:pt x="21425" y="22402"/>
                    <a:pt x="21081" y="23947"/>
                  </a:cubicBezTo>
                  <a:lnTo>
                    <a:pt x="0" y="1924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Arc 140"/>
            <p:cNvSpPr/>
            <p:nvPr/>
          </p:nvSpPr>
          <p:spPr>
            <a:xfrm rot="567600">
              <a:off x="6453360" y="2063160"/>
              <a:ext cx="479520" cy="41400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fill="none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</a:path>
                <a:path stroke="0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  <a:lnTo>
                    <a:pt x="0" y="1924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rc 141"/>
            <p:cNvSpPr/>
            <p:nvPr/>
          </p:nvSpPr>
          <p:spPr>
            <a:xfrm rot="9626400">
              <a:off x="6302160" y="1608120"/>
              <a:ext cx="479520" cy="41400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fill="none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</a:path>
                <a:path stroke="0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  <a:lnTo>
                    <a:pt x="0" y="1924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Arc 142"/>
            <p:cNvSpPr/>
            <p:nvPr/>
          </p:nvSpPr>
          <p:spPr>
            <a:xfrm rot="18518400">
              <a:off x="6682680" y="1913040"/>
              <a:ext cx="479160" cy="41436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fill="none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</a:path>
                <a:path stroke="0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  <a:lnTo>
                    <a:pt x="0" y="1924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Arc 143"/>
            <p:cNvSpPr/>
            <p:nvPr/>
          </p:nvSpPr>
          <p:spPr>
            <a:xfrm rot="7367400">
              <a:off x="6138360" y="1774800"/>
              <a:ext cx="478800" cy="41436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fill="none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</a:path>
                <a:path stroke="0" w="21600" h="22709">
                  <a:moveTo>
                    <a:pt x="9815" y="0"/>
                  </a:moveTo>
                  <a:cubicBezTo>
                    <a:pt x="17047" y="3689"/>
                    <a:pt x="21600" y="11122"/>
                    <a:pt x="21600" y="19241"/>
                  </a:cubicBezTo>
                  <a:cubicBezTo>
                    <a:pt x="21600" y="20402"/>
                    <a:pt x="21506" y="21562"/>
                    <a:pt x="21319" y="22708"/>
                  </a:cubicBezTo>
                  <a:lnTo>
                    <a:pt x="0" y="1924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44"/>
          <p:cNvGrpSpPr/>
          <p:nvPr/>
        </p:nvGrpSpPr>
        <p:grpSpPr>
          <a:xfrm>
            <a:off x="433440" y="1130400"/>
            <a:ext cx="7689960" cy="4785120"/>
            <a:chOff x="433440" y="1130400"/>
            <a:chExt cx="7689960" cy="4785120"/>
          </a:xfrm>
        </p:grpSpPr>
        <p:sp>
          <p:nvSpPr>
            <p:cNvPr id="435" name="Text Box 145"/>
            <p:cNvSpPr/>
            <p:nvPr/>
          </p:nvSpPr>
          <p:spPr>
            <a:xfrm rot="19276800">
              <a:off x="189360" y="2393280"/>
              <a:ext cx="3873240" cy="58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molecular signaing t.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146"/>
            <p:cNvSpPr/>
            <p:nvPr/>
          </p:nvSpPr>
          <p:spPr>
            <a:xfrm rot="19276800">
              <a:off x="4211640" y="2377440"/>
              <a:ext cx="4190400" cy="58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biochemical network t.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147"/>
            <p:cNvSpPr/>
            <p:nvPr/>
          </p:nvSpPr>
          <p:spPr>
            <a:xfrm>
              <a:off x="2418840" y="5334120"/>
              <a:ext cx="3623400" cy="58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cellular evolution t.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fig2"/>
          <p:cNvPicPr/>
          <p:nvPr/>
        </p:nvPicPr>
        <p:blipFill>
          <a:blip r:embed="rId1"/>
          <a:stretch/>
        </p:blipFill>
        <p:spPr>
          <a:xfrm>
            <a:off x="304920" y="160020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 rot="5400000">
            <a:off x="6281280" y="3538080"/>
            <a:ext cx="46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i, P.J.; Cai, L.; Frieda, K. and Xie, X.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42- 446 (2008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tability in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lac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peron swit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ral Cooperativity in Cellular Signaling Switch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2)  Stoichiometric Network Approach to Metabolic System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) Stochastic Network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istability during the apoptosis of human brain tumor cell (medulloblatoma) induced by topoisomerase II inhibitor (etoposid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3" descr="fig3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3429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6"/>
          <p:cNvSpPr/>
          <p:nvPr/>
        </p:nvSpPr>
        <p:spPr>
          <a:xfrm>
            <a:off x="919080" y="5994360"/>
            <a:ext cx="70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master, R., Asphahani, F., Thein, M., Xu, J. and Zhang, M.-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al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440-1446 (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hemical basis of epi-genetic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ctly same environment setting and gene, different internal biochemical states (i.e., concentrations and fluxes).  Could this be a chemical definition for epi-genetics inherita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inheritability is straight forward: Note that 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 is independent of volume of the cell, and x is the concentra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-2112120" y="2819520"/>
            <a:ext cx="11799720" cy="5055840"/>
            <a:chOff x="-2112120" y="2819520"/>
            <a:chExt cx="11799720" cy="5055840"/>
          </a:xfrm>
        </p:grpSpPr>
        <p:sp>
          <p:nvSpPr>
            <p:cNvPr id="447" name="Line 5"/>
            <p:cNvSpPr/>
            <p:nvPr/>
          </p:nvSpPr>
          <p:spPr>
            <a:xfrm flipV="1">
              <a:off x="1371240" y="320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"/>
            <p:cNvSpPr/>
            <p:nvPr/>
          </p:nvSpPr>
          <p:spPr>
            <a:xfrm>
              <a:off x="-2112120" y="2819520"/>
              <a:ext cx="11799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ady state chemical concentration distribu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7"/>
            <p:cNvSpPr/>
            <p:nvPr/>
          </p:nvSpPr>
          <p:spPr>
            <a:xfrm>
              <a:off x="3779640" y="5715360"/>
              <a:ext cx="5464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oncentration of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egulatory molecules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"/>
            <p:cNvSpPr/>
            <p:nvPr/>
          </p:nvSpPr>
          <p:spPr>
            <a:xfrm>
              <a:off x="1371240" y="5486760"/>
              <a:ext cx="617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2133360" y="5410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5028840" y="5410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1981080" y="56390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Group 12"/>
            <p:cNvGrpSpPr/>
            <p:nvPr/>
          </p:nvGrpSpPr>
          <p:grpSpPr>
            <a:xfrm>
              <a:off x="1752480" y="6172560"/>
              <a:ext cx="380880" cy="304560"/>
              <a:chOff x="1752480" y="6172560"/>
              <a:chExt cx="380880" cy="304560"/>
            </a:xfrm>
          </p:grpSpPr>
          <p:sp>
            <p:nvSpPr>
              <p:cNvPr id="455" name="Line 13"/>
              <p:cNvSpPr/>
              <p:nvPr/>
            </p:nvSpPr>
            <p:spPr>
              <a:xfrm>
                <a:off x="1752480" y="6324480"/>
                <a:ext cx="380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14"/>
              <p:cNvSpPr/>
              <p:nvPr/>
            </p:nvSpPr>
            <p:spPr>
              <a:xfrm>
                <a:off x="2133360" y="61725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15"/>
              <p:cNvSpPr/>
              <p:nvPr/>
            </p:nvSpPr>
            <p:spPr>
              <a:xfrm>
                <a:off x="1752480" y="61725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Text Box 16"/>
            <p:cNvSpPr/>
            <p:nvPr/>
          </p:nvSpPr>
          <p:spPr>
            <a:xfrm>
              <a:off x="4724280" y="5639040"/>
              <a:ext cx="777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Group 17"/>
            <p:cNvGrpSpPr/>
            <p:nvPr/>
          </p:nvGrpSpPr>
          <p:grpSpPr>
            <a:xfrm>
              <a:off x="3200040" y="6172560"/>
              <a:ext cx="1828800" cy="304560"/>
              <a:chOff x="3200040" y="6172560"/>
              <a:chExt cx="1828800" cy="304560"/>
            </a:xfrm>
          </p:grpSpPr>
          <p:sp>
            <p:nvSpPr>
              <p:cNvPr id="460" name="Line 18"/>
              <p:cNvSpPr/>
              <p:nvPr/>
            </p:nvSpPr>
            <p:spPr>
              <a:xfrm flipV="1">
                <a:off x="5028840" y="61725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19"/>
              <p:cNvSpPr/>
              <p:nvPr/>
            </p:nvSpPr>
            <p:spPr>
              <a:xfrm>
                <a:off x="3200040" y="61725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20"/>
              <p:cNvSpPr/>
              <p:nvPr/>
            </p:nvSpPr>
            <p:spPr>
              <a:xfrm>
                <a:off x="3200040" y="6324480"/>
                <a:ext cx="1828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21"/>
            <p:cNvGrpSpPr/>
            <p:nvPr/>
          </p:nvGrpSpPr>
          <p:grpSpPr>
            <a:xfrm>
              <a:off x="1436760" y="5486760"/>
              <a:ext cx="636120" cy="2388600"/>
              <a:chOff x="1436760" y="5486760"/>
              <a:chExt cx="636120" cy="2388600"/>
            </a:xfrm>
          </p:grpSpPr>
          <p:sp>
            <p:nvSpPr>
              <p:cNvPr id="464" name="Line 22"/>
              <p:cNvSpPr/>
              <p:nvPr/>
            </p:nvSpPr>
            <p:spPr>
              <a:xfrm>
                <a:off x="1523880" y="58676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23"/>
              <p:cNvSpPr/>
              <p:nvPr/>
            </p:nvSpPr>
            <p:spPr>
              <a:xfrm>
                <a:off x="1436760" y="586764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24"/>
              <p:cNvSpPr/>
              <p:nvPr/>
            </p:nvSpPr>
            <p:spPr>
              <a:xfrm>
                <a:off x="1523880" y="5486760"/>
                <a:ext cx="549000" cy="23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4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25"/>
            <p:cNvGrpSpPr/>
            <p:nvPr/>
          </p:nvGrpSpPr>
          <p:grpSpPr>
            <a:xfrm>
              <a:off x="2960640" y="5486760"/>
              <a:ext cx="636120" cy="2388600"/>
              <a:chOff x="2960640" y="5486760"/>
              <a:chExt cx="636120" cy="2388600"/>
            </a:xfrm>
          </p:grpSpPr>
          <p:sp>
            <p:nvSpPr>
              <p:cNvPr id="468" name="Line 26"/>
              <p:cNvSpPr/>
              <p:nvPr/>
            </p:nvSpPr>
            <p:spPr>
              <a:xfrm>
                <a:off x="3047760" y="58680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27"/>
              <p:cNvSpPr/>
              <p:nvPr/>
            </p:nvSpPr>
            <p:spPr>
              <a:xfrm>
                <a:off x="2960640" y="586800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Text Box 28"/>
              <p:cNvSpPr/>
              <p:nvPr/>
            </p:nvSpPr>
            <p:spPr>
              <a:xfrm>
                <a:off x="3047760" y="5486760"/>
                <a:ext cx="549000" cy="23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4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Freeform 29"/>
            <p:cNvSpPr/>
            <p:nvPr/>
          </p:nvSpPr>
          <p:spPr>
            <a:xfrm flipH="1">
              <a:off x="1446840" y="3733920"/>
              <a:ext cx="1600200" cy="167652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1248" h="1392">
                  <a:moveTo>
                    <a:pt x="0" y="1392"/>
                  </a:moveTo>
                  <a:cubicBezTo>
                    <a:pt x="156" y="1364"/>
                    <a:pt x="312" y="1336"/>
                    <a:pt x="432" y="1104"/>
                  </a:cubicBezTo>
                  <a:cubicBezTo>
                    <a:pt x="552" y="872"/>
                    <a:pt x="632" y="0"/>
                    <a:pt x="720" y="0"/>
                  </a:cubicBezTo>
                  <a:cubicBezTo>
                    <a:pt x="808" y="0"/>
                    <a:pt x="872" y="872"/>
                    <a:pt x="960" y="1104"/>
                  </a:cubicBezTo>
                  <a:cubicBezTo>
                    <a:pt x="1048" y="1336"/>
                    <a:pt x="1148" y="1364"/>
                    <a:pt x="1248" y="13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0"/>
            <p:cNvSpPr/>
            <p:nvPr/>
          </p:nvSpPr>
          <p:spPr>
            <a:xfrm>
              <a:off x="3047760" y="3962520"/>
              <a:ext cx="3429000" cy="144792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248" h="1392">
                  <a:moveTo>
                    <a:pt x="0" y="1392"/>
                  </a:moveTo>
                  <a:cubicBezTo>
                    <a:pt x="156" y="1364"/>
                    <a:pt x="312" y="1336"/>
                    <a:pt x="432" y="1104"/>
                  </a:cubicBezTo>
                  <a:cubicBezTo>
                    <a:pt x="552" y="872"/>
                    <a:pt x="632" y="0"/>
                    <a:pt x="720" y="0"/>
                  </a:cubicBezTo>
                  <a:cubicBezTo>
                    <a:pt x="808" y="0"/>
                    <a:pt x="872" y="872"/>
                    <a:pt x="960" y="1104"/>
                  </a:cubicBezTo>
                  <a:cubicBezTo>
                    <a:pt x="1048" y="1336"/>
                    <a:pt x="1148" y="1364"/>
                    <a:pt x="1248" y="13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380880"/>
            <a:ext cx="9371160" cy="5931000"/>
            <a:chOff x="0" y="380880"/>
            <a:chExt cx="9371160" cy="5931000"/>
          </a:xfrm>
        </p:grpSpPr>
        <p:graphicFrame>
          <p:nvGraphicFramePr>
            <p:cNvPr id="474" name="Object 3"/>
            <p:cNvGraphicFramePr/>
            <p:nvPr/>
          </p:nvGraphicFramePr>
          <p:xfrm>
            <a:off x="227160" y="380880"/>
            <a:ext cx="5105520" cy="2009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7160" y="380880"/>
                      <a:ext cx="5105520" cy="20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6" name="Text Box 4"/>
            <p:cNvSpPr/>
            <p:nvPr/>
          </p:nvSpPr>
          <p:spPr>
            <a:xfrm>
              <a:off x="289584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5"/>
            <p:cNvSpPr/>
            <p:nvPr/>
          </p:nvSpPr>
          <p:spPr>
            <a:xfrm rot="16200000">
              <a:off x="-649800" y="2720520"/>
              <a:ext cx="166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8" name="Object 6"/>
            <p:cNvGraphicFramePr/>
            <p:nvPr/>
          </p:nvGraphicFramePr>
          <p:xfrm>
            <a:off x="227160" y="3962160"/>
            <a:ext cx="5181480" cy="21160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3962160"/>
                      <a:ext cx="51814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Object 7"/>
            <p:cNvGraphicFramePr/>
            <p:nvPr/>
          </p:nvGraphicFramePr>
          <p:xfrm>
            <a:off x="5180040" y="1523880"/>
            <a:ext cx="4191120" cy="34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8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0040" y="1523880"/>
                      <a:ext cx="4191120" cy="34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2" name="Object 8"/>
            <p:cNvGraphicFramePr/>
            <p:nvPr/>
          </p:nvGraphicFramePr>
          <p:xfrm>
            <a:off x="227160" y="2057400"/>
            <a:ext cx="5257800" cy="22176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483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7160" y="2057400"/>
                      <a:ext cx="5257800" cy="22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4" name="Text Box 9"/>
            <p:cNvSpPr/>
            <p:nvPr/>
          </p:nvSpPr>
          <p:spPr>
            <a:xfrm>
              <a:off x="6245640" y="47242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 of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6399360" y="2666880"/>
              <a:ext cx="85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=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11"/>
            <p:cNvSpPr/>
            <p:nvPr/>
          </p:nvSpPr>
          <p:spPr>
            <a:xfrm>
              <a:off x="6323040" y="198108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=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2"/>
            <p:cNvSpPr/>
            <p:nvPr/>
          </p:nvSpPr>
          <p:spPr>
            <a:xfrm>
              <a:off x="6856560" y="3047760"/>
              <a:ext cx="68580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3"/>
            <p:cNvSpPr/>
            <p:nvPr/>
          </p:nvSpPr>
          <p:spPr>
            <a:xfrm>
              <a:off x="7085160" y="2361960"/>
              <a:ext cx="5335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913320" y="68580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15"/>
            <p:cNvSpPr/>
            <p:nvPr/>
          </p:nvSpPr>
          <p:spPr>
            <a:xfrm>
              <a:off x="913320" y="205740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16"/>
            <p:cNvSpPr/>
            <p:nvPr/>
          </p:nvSpPr>
          <p:spPr>
            <a:xfrm>
              <a:off x="8606520" y="198108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913320" y="411480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Text Box 18"/>
          <p:cNvSpPr/>
          <p:nvPr/>
        </p:nvSpPr>
        <p:spPr>
          <a:xfrm>
            <a:off x="3976560" y="457200"/>
            <a:ext cx="10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3976560" y="2209680"/>
            <a:ext cx="10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457200" y="762120"/>
            <a:ext cx="7794720" cy="5092560"/>
            <a:chOff x="457200" y="762120"/>
            <a:chExt cx="7794720" cy="5092560"/>
          </a:xfrm>
        </p:grpSpPr>
        <p:grpSp>
          <p:nvGrpSpPr>
            <p:cNvPr id="496" name="Group 3"/>
            <p:cNvGrpSpPr/>
            <p:nvPr/>
          </p:nvGrpSpPr>
          <p:grpSpPr>
            <a:xfrm>
              <a:off x="1981080" y="990720"/>
              <a:ext cx="6270840" cy="4863960"/>
              <a:chOff x="1981080" y="990720"/>
              <a:chExt cx="6270840" cy="4863960"/>
            </a:xfrm>
          </p:grpSpPr>
          <p:sp>
            <p:nvSpPr>
              <p:cNvPr id="497" name="Rectangle 4"/>
              <p:cNvSpPr/>
              <p:nvPr/>
            </p:nvSpPr>
            <p:spPr>
              <a:xfrm>
                <a:off x="2133720" y="990720"/>
                <a:ext cx="5790960" cy="3886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5"/>
              <p:cNvSpPr/>
              <p:nvPr/>
            </p:nvSpPr>
            <p:spPr>
              <a:xfrm flipV="1">
                <a:off x="2209680" y="1600200"/>
                <a:ext cx="5715000" cy="32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6"/>
              <p:cNvSpPr/>
              <p:nvPr/>
            </p:nvSpPr>
            <p:spPr>
              <a:xfrm flipV="1">
                <a:off x="2133720" y="1820520"/>
                <a:ext cx="5715000" cy="297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Text Box 7"/>
              <p:cNvSpPr/>
              <p:nvPr/>
            </p:nvSpPr>
            <p:spPr>
              <a:xfrm>
                <a:off x="4574880" y="487692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Text Box 8"/>
              <p:cNvSpPr/>
              <p:nvPr/>
            </p:nvSpPr>
            <p:spPr>
              <a:xfrm>
                <a:off x="7394400" y="487692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9"/>
              <p:cNvSpPr/>
              <p:nvPr/>
            </p:nvSpPr>
            <p:spPr>
              <a:xfrm>
                <a:off x="3202920" y="487692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10"/>
              <p:cNvSpPr/>
              <p:nvPr/>
            </p:nvSpPr>
            <p:spPr>
              <a:xfrm>
                <a:off x="5946480" y="487692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11"/>
              <p:cNvSpPr/>
              <p:nvPr/>
            </p:nvSpPr>
            <p:spPr>
              <a:xfrm>
                <a:off x="6477120" y="47246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12"/>
              <p:cNvSpPr/>
              <p:nvPr/>
            </p:nvSpPr>
            <p:spPr>
              <a:xfrm>
                <a:off x="3581280" y="47246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13"/>
              <p:cNvSpPr/>
              <p:nvPr/>
            </p:nvSpPr>
            <p:spPr>
              <a:xfrm>
                <a:off x="5105520" y="47246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14"/>
              <p:cNvSpPr/>
              <p:nvPr/>
            </p:nvSpPr>
            <p:spPr>
              <a:xfrm>
                <a:off x="1981080" y="4876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Text Box 15"/>
              <p:cNvSpPr/>
              <p:nvPr/>
            </p:nvSpPr>
            <p:spPr>
              <a:xfrm>
                <a:off x="2518920" y="5334120"/>
                <a:ext cx="484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total number of  molecule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Text Box 16"/>
            <p:cNvSpPr/>
            <p:nvPr/>
          </p:nvSpPr>
          <p:spPr>
            <a:xfrm rot="16200000">
              <a:off x="-1318680" y="2770200"/>
              <a:ext cx="40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switching time in mse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1981080" y="28954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8"/>
            <p:cNvSpPr/>
            <p:nvPr/>
          </p:nvSpPr>
          <p:spPr>
            <a:xfrm>
              <a:off x="1981080" y="19810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9"/>
            <p:cNvSpPr/>
            <p:nvPr/>
          </p:nvSpPr>
          <p:spPr>
            <a:xfrm>
              <a:off x="1981080" y="3809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20"/>
            <p:cNvSpPr/>
            <p:nvPr/>
          </p:nvSpPr>
          <p:spPr>
            <a:xfrm>
              <a:off x="1981080" y="9907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1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22"/>
            <p:cNvSpPr/>
            <p:nvPr/>
          </p:nvSpPr>
          <p:spPr>
            <a:xfrm>
              <a:off x="1235160" y="762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23"/>
            <p:cNvSpPr/>
            <p:nvPr/>
          </p:nvSpPr>
          <p:spPr>
            <a:xfrm>
              <a:off x="1235160" y="26668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24"/>
            <p:cNvSpPr/>
            <p:nvPr/>
          </p:nvSpPr>
          <p:spPr>
            <a:xfrm>
              <a:off x="930960" y="167652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3x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25"/>
            <p:cNvSpPr/>
            <p:nvPr/>
          </p:nvSpPr>
          <p:spPr>
            <a:xfrm>
              <a:off x="1295280" y="4572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000440" y="358128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3x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Line 27"/>
          <p:cNvSpPr/>
          <p:nvPr/>
        </p:nvSpPr>
        <p:spPr>
          <a:xfrm flipH="1">
            <a:off x="2133720" y="3276720"/>
            <a:ext cx="83808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8"/>
          <p:cNvSpPr/>
          <p:nvPr/>
        </p:nvSpPr>
        <p:spPr>
          <a:xfrm>
            <a:off x="2973960" y="2971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30"/>
          <p:cNvSpPr/>
          <p:nvPr/>
        </p:nvSpPr>
        <p:spPr>
          <a:xfrm flipH="1">
            <a:off x="2133720" y="1676520"/>
            <a:ext cx="9144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1"/>
          <p:cNvSpPr/>
          <p:nvPr/>
        </p:nvSpPr>
        <p:spPr>
          <a:xfrm>
            <a:off x="3061080" y="1523880"/>
            <a:ext cx="9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ld it be? Epigenetics is a kind of nonequilibrium phase transi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ins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one perturbs such a multi-attractor stochastic syste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088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pid relaxation back to local minimum following deterministic dynamics (level ii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ys at the “equilibrium” for a quite long tme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 sufficiently long waiting, exit to a next cellular st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mergent cellular, stochastic “evolutionary” dynamics follows not gradual changes, but rather punctuated transitions between cellular attra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17"/>
          <p:cNvGrpSpPr/>
          <p:nvPr/>
        </p:nvGrpSpPr>
        <p:grpSpPr>
          <a:xfrm>
            <a:off x="1828800" y="2438280"/>
            <a:ext cx="6585120" cy="3751920"/>
            <a:chOff x="1828800" y="2438280"/>
            <a:chExt cx="6585120" cy="3751920"/>
          </a:xfrm>
        </p:grpSpPr>
        <p:grpSp>
          <p:nvGrpSpPr>
            <p:cNvPr id="530" name="Group 3"/>
            <p:cNvGrpSpPr/>
            <p:nvPr/>
          </p:nvGrpSpPr>
          <p:grpSpPr>
            <a:xfrm>
              <a:off x="6277680" y="3286080"/>
              <a:ext cx="524160" cy="965520"/>
              <a:chOff x="6277680" y="3286080"/>
              <a:chExt cx="524160" cy="965520"/>
            </a:xfrm>
          </p:grpSpPr>
          <p:sp>
            <p:nvSpPr>
              <p:cNvPr id="531" name="Oval 4"/>
              <p:cNvSpPr/>
              <p:nvPr/>
            </p:nvSpPr>
            <p:spPr>
              <a:xfrm rot="172800">
                <a:off x="6493320" y="3293280"/>
                <a:ext cx="300960" cy="29880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Line 5"/>
              <p:cNvSpPr/>
              <p:nvPr/>
            </p:nvSpPr>
            <p:spPr>
              <a:xfrm flipH="1">
                <a:off x="6277680" y="3570480"/>
                <a:ext cx="335880" cy="681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Text Box 6"/>
            <p:cNvSpPr/>
            <p:nvPr/>
          </p:nvSpPr>
          <p:spPr>
            <a:xfrm>
              <a:off x="2338560" y="2895480"/>
              <a:ext cx="14198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lternativ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ttr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 flipH="1">
              <a:off x="2819520" y="3809880"/>
              <a:ext cx="203040" cy="218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8"/>
            <p:cNvSpPr/>
            <p:nvPr/>
          </p:nvSpPr>
          <p:spPr>
            <a:xfrm>
              <a:off x="5257800" y="3962520"/>
              <a:ext cx="299880" cy="2984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>
              <a:off x="3962520" y="3124080"/>
              <a:ext cx="1371600" cy="8971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384" h="352">
                  <a:moveTo>
                    <a:pt x="384" y="352"/>
                  </a:moveTo>
                  <a:cubicBezTo>
                    <a:pt x="320" y="192"/>
                    <a:pt x="256" y="32"/>
                    <a:pt x="192" y="16"/>
                  </a:cubicBezTo>
                  <a:cubicBezTo>
                    <a:pt x="128" y="0"/>
                    <a:pt x="64" y="128"/>
                    <a:pt x="0" y="25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0"/>
            <p:cNvSpPr/>
            <p:nvPr/>
          </p:nvSpPr>
          <p:spPr>
            <a:xfrm>
              <a:off x="4235040" y="5486400"/>
              <a:ext cx="115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o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ttr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 flipV="1">
              <a:off x="5257800" y="4876920"/>
              <a:ext cx="503280" cy="598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12"/>
            <p:cNvSpPr/>
            <p:nvPr/>
          </p:nvSpPr>
          <p:spPr>
            <a:xfrm>
              <a:off x="1828800" y="3048120"/>
              <a:ext cx="5187960" cy="3003480"/>
            </a:xfrm>
            <a:custGeom>
              <a:avLst/>
              <a:gdLst>
                <a:gd name="textAreaLeft" fmla="*/ 0 w 5187960"/>
                <a:gd name="textAreaRight" fmla="*/ 5188320 w 5187960"/>
                <a:gd name="textAreaTop" fmla="*/ 0 h 3003480"/>
                <a:gd name="textAreaBottom" fmla="*/ 3003840 h 3003480"/>
              </a:gdLst>
              <a:ahLst/>
              <a:rect l="textAreaLeft" t="textAreaTop" r="textAreaRight" b="textAreaBottom"/>
              <a:pathLst>
                <a:path w="2448" h="1448">
                  <a:moveTo>
                    <a:pt x="0" y="144"/>
                  </a:moveTo>
                  <a:cubicBezTo>
                    <a:pt x="132" y="788"/>
                    <a:pt x="264" y="1432"/>
                    <a:pt x="480" y="1440"/>
                  </a:cubicBezTo>
                  <a:cubicBezTo>
                    <a:pt x="696" y="1448"/>
                    <a:pt x="1064" y="288"/>
                    <a:pt x="1296" y="192"/>
                  </a:cubicBezTo>
                  <a:cubicBezTo>
                    <a:pt x="1528" y="96"/>
                    <a:pt x="1680" y="896"/>
                    <a:pt x="1872" y="864"/>
                  </a:cubicBezTo>
                  <a:cubicBezTo>
                    <a:pt x="2064" y="832"/>
                    <a:pt x="2256" y="416"/>
                    <a:pt x="24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6992640" y="3429000"/>
              <a:ext cx="142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Relax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4696560" y="2438280"/>
              <a:ext cx="12430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brup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xation, Wating, Barrier Crossing: R-W-BC of Stochastic Dynam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95280" y="1600200"/>
            <a:ext cx="283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55880" cy="464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2852640" cy="459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inetic isomorphism between PdPC and GTP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0"/>
          <p:cNvSpPr/>
          <p:nvPr/>
        </p:nvSpPr>
        <p:spPr>
          <a:xfrm rot="5400000">
            <a:off x="5828760" y="2809440"/>
            <a:ext cx="547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rg, O.G. and Paulsson, J. and Ehrenberg, M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iophysical Journa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(2000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7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1228-123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ian, H. and Cooper, J.A.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2008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2211-2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2362320" y="5486400"/>
            <a:ext cx="1904400" cy="1219320"/>
            <a:chOff x="2362320" y="5486400"/>
            <a:chExt cx="1904400" cy="1219320"/>
          </a:xfrm>
        </p:grpSpPr>
        <p:pic>
          <p:nvPicPr>
            <p:cNvPr id="51" name="Picture 12" descr="fischer"/>
            <p:cNvPicPr/>
            <p:nvPr/>
          </p:nvPicPr>
          <p:blipFill>
            <a:blip r:embed="rId3"/>
            <a:stretch/>
          </p:blipFill>
          <p:spPr>
            <a:xfrm>
              <a:off x="2362320" y="5486400"/>
              <a:ext cx="928440" cy="121932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</p:spPr>
        </p:pic>
        <p:pic>
          <p:nvPicPr>
            <p:cNvPr id="52" name="Picture 13" descr="krebs"/>
            <p:cNvPicPr/>
            <p:nvPr/>
          </p:nvPicPr>
          <p:blipFill>
            <a:blip r:embed="rId4"/>
            <a:stretch/>
          </p:blipFill>
          <p:spPr>
            <a:xfrm>
              <a:off x="3338280" y="5486400"/>
              <a:ext cx="928440" cy="121932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</p:spPr>
        </p:pic>
      </p:grpSp>
      <p:grpSp>
        <p:nvGrpSpPr>
          <p:cNvPr id="53" name="Group 14"/>
          <p:cNvGrpSpPr/>
          <p:nvPr/>
        </p:nvGrpSpPr>
        <p:grpSpPr>
          <a:xfrm>
            <a:off x="6172200" y="5410080"/>
            <a:ext cx="1752120" cy="1295640"/>
            <a:chOff x="6172200" y="5410080"/>
            <a:chExt cx="1752120" cy="1295640"/>
          </a:xfrm>
        </p:grpSpPr>
        <p:pic>
          <p:nvPicPr>
            <p:cNvPr id="54" name="Picture 15" descr="gilman"/>
            <p:cNvPicPr/>
            <p:nvPr/>
          </p:nvPicPr>
          <p:blipFill>
            <a:blip r:embed="rId5"/>
            <a:stretch/>
          </p:blipFill>
          <p:spPr>
            <a:xfrm>
              <a:off x="6172200" y="5410080"/>
              <a:ext cx="842040" cy="1295640"/>
            </a:xfrm>
            <a:prstGeom prst="rect">
              <a:avLst/>
            </a:prstGeom>
            <a:ln w="38160">
              <a:solidFill>
                <a:srgbClr val="4f81bd"/>
              </a:solidFill>
              <a:miter/>
            </a:ln>
          </p:spPr>
        </p:pic>
        <p:pic>
          <p:nvPicPr>
            <p:cNvPr id="55" name="Picture 16" descr="rodbell"/>
            <p:cNvPicPr/>
            <p:nvPr/>
          </p:nvPicPr>
          <p:blipFill>
            <a:blip r:embed="rId6"/>
            <a:stretch/>
          </p:blipFill>
          <p:spPr>
            <a:xfrm>
              <a:off x="7083720" y="5410080"/>
              <a:ext cx="840600" cy="1295640"/>
            </a:xfrm>
            <a:prstGeom prst="rect">
              <a:avLst/>
            </a:prstGeom>
            <a:ln w="38160">
              <a:solidFill>
                <a:srgbClr val="4f81bd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28558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2895120" y="4191120"/>
            <a:ext cx="3124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c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6"/>
          <p:cNvGrpSpPr/>
          <p:nvPr/>
        </p:nvGrpSpPr>
        <p:grpSpPr>
          <a:xfrm>
            <a:off x="304920" y="914400"/>
            <a:ext cx="8458200" cy="5029200"/>
            <a:chOff x="304920" y="914400"/>
            <a:chExt cx="8458200" cy="5029200"/>
          </a:xfrm>
        </p:grpSpPr>
        <p:grpSp>
          <p:nvGrpSpPr>
            <p:cNvPr id="57" name="Group 64"/>
            <p:cNvGrpSpPr/>
            <p:nvPr/>
          </p:nvGrpSpPr>
          <p:grpSpPr>
            <a:xfrm>
              <a:off x="304920" y="914400"/>
              <a:ext cx="8458200" cy="2438280"/>
              <a:chOff x="304920" y="914400"/>
              <a:chExt cx="8458200" cy="2438280"/>
            </a:xfrm>
          </p:grpSpPr>
          <p:pic>
            <p:nvPicPr>
              <p:cNvPr id="58" name="Text Box 93" descr=""/>
              <p:cNvPicPr/>
              <p:nvPr/>
            </p:nvPicPr>
            <p:blipFill>
              <a:blip r:embed="rId1"/>
              <a:stretch/>
            </p:blipFill>
            <p:spPr>
              <a:xfrm>
                <a:off x="371880" y="1792080"/>
                <a:ext cx="505800" cy="44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Text Box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00680" y="1792080"/>
                <a:ext cx="62784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Arc 95"/>
              <p:cNvSpPr/>
              <p:nvPr/>
            </p:nvSpPr>
            <p:spPr>
              <a:xfrm>
                <a:off x="762120" y="1523880"/>
                <a:ext cx="1625400" cy="6094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fill="none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</a:path>
                  <a:path stroke="0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  <a:lnTo>
                      <a:pt x="19365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96"/>
              <p:cNvSpPr/>
              <p:nvPr/>
            </p:nvSpPr>
            <p:spPr>
              <a:xfrm flipH="1" flipV="1">
                <a:off x="761400" y="2056680"/>
                <a:ext cx="1625400" cy="609480"/>
              </a:xfrm>
              <a:custGeom>
                <a:avLst/>
                <a:gdLst>
                  <a:gd name="textAreaLeft" fmla="*/ -360 w 1625400"/>
                  <a:gd name="textAreaRight" fmla="*/ 1625400 w 1625400"/>
                  <a:gd name="textAreaTop" fmla="*/ -360 h 609480"/>
                  <a:gd name="textAreaBottom" fmla="*/ 609480 h 609480"/>
                </a:gdLst>
                <a:ahLst/>
                <a:rect l="textAreaLeft" t="textAreaTop" r="textAreaRight" b="textAreaBottom"/>
                <a:pathLst>
                  <a:path fill="none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</a:path>
                  <a:path stroke="0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  <a:lnTo>
                      <a:pt x="19365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00"/>
              <p:cNvSpPr/>
              <p:nvPr/>
            </p:nvSpPr>
            <p:spPr>
              <a:xfrm>
                <a:off x="304920" y="914400"/>
                <a:ext cx="26668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28"/>
              <p:cNvSpPr/>
              <p:nvPr/>
            </p:nvSpPr>
            <p:spPr>
              <a:xfrm>
                <a:off x="2288160" y="9144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33"/>
              <p:cNvGrpSpPr/>
              <p:nvPr/>
            </p:nvGrpSpPr>
            <p:grpSpPr>
              <a:xfrm>
                <a:off x="6096240" y="914400"/>
                <a:ext cx="2666880" cy="2438280"/>
                <a:chOff x="6096240" y="914400"/>
                <a:chExt cx="2666880" cy="2438280"/>
              </a:xfrm>
            </p:grpSpPr>
            <p:sp>
              <p:nvSpPr>
                <p:cNvPr id="65" name="Rectangle 114"/>
                <p:cNvSpPr/>
                <p:nvPr/>
              </p:nvSpPr>
              <p:spPr>
                <a:xfrm>
                  <a:off x="6096240" y="914400"/>
                  <a:ext cx="2666880" cy="24382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" name="Group 132"/>
                <p:cNvGrpSpPr/>
                <p:nvPr/>
              </p:nvGrpSpPr>
              <p:grpSpPr>
                <a:xfrm>
                  <a:off x="6248520" y="1371600"/>
                  <a:ext cx="2312640" cy="1600200"/>
                  <a:chOff x="6248520" y="1371600"/>
                  <a:chExt cx="2312640" cy="1600200"/>
                </a:xfrm>
              </p:grpSpPr>
              <p:pic>
                <p:nvPicPr>
                  <p:cNvPr id="67" name="Text Box 1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871640"/>
                    <a:ext cx="476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" name="Text Box 1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9680" y="1871640"/>
                    <a:ext cx="591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Arc 117"/>
                  <p:cNvSpPr/>
                  <p:nvPr/>
                </p:nvSpPr>
                <p:spPr>
                  <a:xfrm>
                    <a:off x="6616080" y="1600200"/>
                    <a:ext cx="1530000" cy="609480"/>
                  </a:xfrm>
                  <a:custGeom>
                    <a:avLst/>
                    <a:gdLst>
                      <a:gd name="textAreaLeft" fmla="*/ 0 w 1530000"/>
                      <a:gd name="textAreaRight" fmla="*/ 1530360 w 1530000"/>
                      <a:gd name="textAreaTop" fmla="*/ 0 h 609480"/>
                      <a:gd name="textAreaBottom" fmla="*/ 609840 h 609480"/>
                    </a:gdLst>
                    <a:ahLst/>
                    <a:rect l="textAreaLeft" t="textAreaTop" r="textAreaRight" b="textAreaBottom"/>
                    <a:pathLst>
                      <a:path fill="none" w="38461" h="21600">
                        <a:moveTo>
                          <a:pt x="0" y="12031"/>
                        </a:moveTo>
                        <a:cubicBezTo>
                          <a:pt x="3640" y="4663"/>
                          <a:pt x="11146" y="-1"/>
                          <a:pt x="19365" y="0"/>
                        </a:cubicBezTo>
                        <a:cubicBezTo>
                          <a:pt x="27370" y="0"/>
                          <a:pt x="34719" y="4428"/>
                          <a:pt x="38461" y="11505"/>
                        </a:cubicBezTo>
                      </a:path>
                      <a:path stroke="0" w="38461" h="21600">
                        <a:moveTo>
                          <a:pt x="0" y="12031"/>
                        </a:moveTo>
                        <a:cubicBezTo>
                          <a:pt x="3640" y="4663"/>
                          <a:pt x="11146" y="-1"/>
                          <a:pt x="19365" y="0"/>
                        </a:cubicBezTo>
                        <a:cubicBezTo>
                          <a:pt x="27370" y="0"/>
                          <a:pt x="34719" y="4428"/>
                          <a:pt x="38461" y="11505"/>
                        </a:cubicBezTo>
                        <a:lnTo>
                          <a:pt x="19365" y="21600"/>
                        </a:lnTo>
                        <a:close/>
                      </a:path>
                    </a:pathLst>
                  </a:custGeom>
                  <a:noFill/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Arc 118"/>
                  <p:cNvSpPr/>
                  <p:nvPr/>
                </p:nvSpPr>
                <p:spPr>
                  <a:xfrm flipH="1" flipV="1">
                    <a:off x="6616080" y="2133360"/>
                    <a:ext cx="1530000" cy="609840"/>
                  </a:xfrm>
                  <a:custGeom>
                    <a:avLst/>
                    <a:gdLst>
                      <a:gd name="textAreaLeft" fmla="*/ 360 w 1530000"/>
                      <a:gd name="textAreaRight" fmla="*/ 1530720 w 1530000"/>
                      <a:gd name="textAreaTop" fmla="*/ 360 h 609840"/>
                      <a:gd name="textAreaBottom" fmla="*/ 610560 h 609840"/>
                    </a:gdLst>
                    <a:ahLst/>
                    <a:rect l="textAreaLeft" t="textAreaTop" r="textAreaRight" b="textAreaBottom"/>
                    <a:pathLst>
                      <a:path fill="none" w="38461" h="21600">
                        <a:moveTo>
                          <a:pt x="0" y="12031"/>
                        </a:moveTo>
                        <a:cubicBezTo>
                          <a:pt x="3640" y="4663"/>
                          <a:pt x="11146" y="-1"/>
                          <a:pt x="19365" y="0"/>
                        </a:cubicBezTo>
                        <a:cubicBezTo>
                          <a:pt x="27370" y="0"/>
                          <a:pt x="34719" y="4428"/>
                          <a:pt x="38461" y="11505"/>
                        </a:cubicBezTo>
                      </a:path>
                      <a:path stroke="0" w="38461" h="21600">
                        <a:moveTo>
                          <a:pt x="0" y="12031"/>
                        </a:moveTo>
                        <a:cubicBezTo>
                          <a:pt x="3640" y="4663"/>
                          <a:pt x="11146" y="-1"/>
                          <a:pt x="19365" y="0"/>
                        </a:cubicBezTo>
                        <a:cubicBezTo>
                          <a:pt x="27370" y="0"/>
                          <a:pt x="34719" y="4428"/>
                          <a:pt x="38461" y="11505"/>
                        </a:cubicBezTo>
                        <a:lnTo>
                          <a:pt x="19365" y="21600"/>
                        </a:lnTo>
                        <a:close/>
                      </a:path>
                    </a:pathLst>
                  </a:custGeom>
                  <a:noFill/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" name="Group 120"/>
                  <p:cNvGrpSpPr/>
                  <p:nvPr/>
                </p:nvGrpSpPr>
                <p:grpSpPr>
                  <a:xfrm>
                    <a:off x="7118280" y="1371600"/>
                    <a:ext cx="501840" cy="457200"/>
                    <a:chOff x="7118280" y="1371600"/>
                    <a:chExt cx="501840" cy="457200"/>
                  </a:xfrm>
                </p:grpSpPr>
                <p:sp>
                  <p:nvSpPr>
                    <p:cNvPr id="72" name="Oval 121"/>
                    <p:cNvSpPr/>
                    <p:nvPr/>
                  </p:nvSpPr>
                  <p:spPr>
                    <a:xfrm>
                      <a:off x="7118280" y="1371600"/>
                      <a:ext cx="501840" cy="457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Rectangle 122"/>
                    <p:cNvSpPr/>
                    <p:nvPr/>
                  </p:nvSpPr>
                  <p:spPr>
                    <a:xfrm>
                      <a:off x="7189920" y="1371600"/>
                      <a:ext cx="358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" name="Oval 123"/>
                  <p:cNvSpPr/>
                  <p:nvPr/>
                </p:nvSpPr>
                <p:spPr>
                  <a:xfrm>
                    <a:off x="7189560" y="2514600"/>
                    <a:ext cx="501840" cy="457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Rectangle 124"/>
                  <p:cNvSpPr/>
                  <p:nvPr/>
                </p:nvSpPr>
                <p:spPr>
                  <a:xfrm>
                    <a:off x="7261560" y="2514600"/>
                    <a:ext cx="430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Text Box 129"/>
                <p:cNvSpPr/>
                <p:nvPr/>
              </p:nvSpPr>
              <p:spPr>
                <a:xfrm>
                  <a:off x="8079480" y="914400"/>
                  <a:ext cx="535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C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Rectangle 110"/>
              <p:cNvSpPr/>
              <p:nvPr/>
            </p:nvSpPr>
            <p:spPr>
              <a:xfrm>
                <a:off x="3200400" y="914400"/>
                <a:ext cx="26668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" name="Text Box 1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267360" y="1792080"/>
                <a:ext cx="505800" cy="44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Text Box 105" descr=""/>
              <p:cNvPicPr/>
              <p:nvPr/>
            </p:nvPicPr>
            <p:blipFill>
              <a:blip r:embed="rId6"/>
              <a:stretch/>
            </p:blipFill>
            <p:spPr>
              <a:xfrm>
                <a:off x="5096520" y="1792080"/>
                <a:ext cx="62784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Arc 106"/>
              <p:cNvSpPr/>
              <p:nvPr/>
            </p:nvSpPr>
            <p:spPr>
              <a:xfrm>
                <a:off x="3657600" y="1523880"/>
                <a:ext cx="1625400" cy="6094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fill="none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</a:path>
                  <a:path stroke="0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  <a:lnTo>
                      <a:pt x="19365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rc 107"/>
              <p:cNvSpPr/>
              <p:nvPr/>
            </p:nvSpPr>
            <p:spPr>
              <a:xfrm flipH="1" flipV="1">
                <a:off x="3656880" y="2056680"/>
                <a:ext cx="1625400" cy="609480"/>
              </a:xfrm>
              <a:custGeom>
                <a:avLst/>
                <a:gdLst>
                  <a:gd name="textAreaLeft" fmla="*/ -360 w 1625400"/>
                  <a:gd name="textAreaRight" fmla="*/ 1625400 w 1625400"/>
                  <a:gd name="textAreaTop" fmla="*/ -360 h 609480"/>
                  <a:gd name="textAreaBottom" fmla="*/ 609480 h 609480"/>
                </a:gdLst>
                <a:ahLst/>
                <a:rect l="textAreaLeft" t="textAreaTop" r="textAreaRight" b="textAreaBottom"/>
                <a:pathLst>
                  <a:path fill="none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</a:path>
                  <a:path stroke="0" w="38461" h="21600">
                    <a:moveTo>
                      <a:pt x="0" y="12031"/>
                    </a:moveTo>
                    <a:cubicBezTo>
                      <a:pt x="3640" y="4663"/>
                      <a:pt x="11146" y="-1"/>
                      <a:pt x="19365" y="0"/>
                    </a:cubicBezTo>
                    <a:cubicBezTo>
                      <a:pt x="27370" y="0"/>
                      <a:pt x="34719" y="4428"/>
                      <a:pt x="38461" y="11505"/>
                    </a:cubicBezTo>
                    <a:lnTo>
                      <a:pt x="19365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113"/>
              <p:cNvGrpSpPr/>
              <p:nvPr/>
            </p:nvGrpSpPr>
            <p:grpSpPr>
              <a:xfrm>
                <a:off x="4267440" y="2438280"/>
                <a:ext cx="533160" cy="457200"/>
                <a:chOff x="4267440" y="2438280"/>
                <a:chExt cx="533160" cy="457200"/>
              </a:xfrm>
            </p:grpSpPr>
            <p:sp>
              <p:nvSpPr>
                <p:cNvPr id="83" name="Oval 111"/>
                <p:cNvSpPr/>
                <p:nvPr/>
              </p:nvSpPr>
              <p:spPr>
                <a:xfrm>
                  <a:off x="4267440" y="2438280"/>
                  <a:ext cx="533160" cy="457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112"/>
                <p:cNvSpPr/>
                <p:nvPr/>
              </p:nvSpPr>
              <p:spPr>
                <a:xfrm>
                  <a:off x="4343400" y="2438280"/>
                  <a:ext cx="380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Text Box 130"/>
              <p:cNvSpPr/>
              <p:nvPr/>
            </p:nvSpPr>
            <p:spPr>
              <a:xfrm>
                <a:off x="5184360" y="91440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65"/>
            <p:cNvGrpSpPr/>
            <p:nvPr/>
          </p:nvGrpSpPr>
          <p:grpSpPr>
            <a:xfrm>
              <a:off x="304920" y="3505320"/>
              <a:ext cx="8458200" cy="2438280"/>
              <a:chOff x="304920" y="3505320"/>
              <a:chExt cx="8458200" cy="2438280"/>
            </a:xfrm>
          </p:grpSpPr>
          <p:sp>
            <p:nvSpPr>
              <p:cNvPr id="87" name="Rectangle 100"/>
              <p:cNvSpPr/>
              <p:nvPr/>
            </p:nvSpPr>
            <p:spPr>
              <a:xfrm>
                <a:off x="304920" y="3505320"/>
                <a:ext cx="26668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128"/>
              <p:cNvSpPr/>
              <p:nvPr/>
            </p:nvSpPr>
            <p:spPr>
              <a:xfrm>
                <a:off x="2288160" y="350532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14"/>
              <p:cNvSpPr/>
              <p:nvPr/>
            </p:nvSpPr>
            <p:spPr>
              <a:xfrm>
                <a:off x="6096240" y="3505320"/>
                <a:ext cx="26668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129"/>
              <p:cNvSpPr/>
              <p:nvPr/>
            </p:nvSpPr>
            <p:spPr>
              <a:xfrm>
                <a:off x="8079480" y="3505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F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10"/>
              <p:cNvSpPr/>
              <p:nvPr/>
            </p:nvSpPr>
            <p:spPr>
              <a:xfrm>
                <a:off x="3200400" y="3505320"/>
                <a:ext cx="26668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30"/>
              <p:cNvSpPr/>
              <p:nvPr/>
            </p:nvSpPr>
            <p:spPr>
              <a:xfrm>
                <a:off x="5184360" y="350532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Group 43"/>
              <p:cNvGrpSpPr/>
              <p:nvPr/>
            </p:nvGrpSpPr>
            <p:grpSpPr>
              <a:xfrm>
                <a:off x="365400" y="3813120"/>
                <a:ext cx="2397960" cy="2072160"/>
                <a:chOff x="365400" y="3813120"/>
                <a:chExt cx="2397960" cy="2072160"/>
              </a:xfrm>
            </p:grpSpPr>
            <p:cxnSp>
              <p:nvCxnSpPr>
                <p:cNvPr id="94" name="Straight Arrow Connector 37"/>
                <p:cNvCxnSpPr/>
                <p:nvPr/>
              </p:nvCxnSpPr>
              <p:spPr>
                <a:xfrm>
                  <a:off x="837720" y="5410080"/>
                  <a:ext cx="1905840" cy="216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95" name="Straight Arrow Connector 39"/>
                <p:cNvCxnSpPr/>
                <p:nvPr/>
              </p:nvCxnSpPr>
              <p:spPr>
                <a:xfrm flipV="1">
                  <a:off x="837720" y="3961800"/>
                  <a:ext cx="2160" cy="14486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96" name="TextBox 40"/>
                <p:cNvSpPr/>
                <p:nvPr/>
              </p:nvSpPr>
              <p:spPr>
                <a:xfrm>
                  <a:off x="843840" y="5486400"/>
                  <a:ext cx="19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ctivation  sign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Box 41"/>
                <p:cNvSpPr/>
                <p:nvPr/>
              </p:nvSpPr>
              <p:spPr>
                <a:xfrm rot="16200000">
                  <a:off x="-344520" y="4523040"/>
                  <a:ext cx="181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osphorylate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42"/>
                <p:cNvSpPr/>
                <p:nvPr/>
              </p:nvSpPr>
              <p:spPr>
                <a:xfrm>
                  <a:off x="837720" y="4267080"/>
                  <a:ext cx="1706400" cy="1125360"/>
                </a:xfrm>
                <a:custGeom>
                  <a:avLst/>
                  <a:gdLst/>
                  <a:ahLst/>
                  <a:rect l="l" t="t" r="r" b="b"/>
                  <a:pathLst>
                    <a:path w="1524000" h="923636">
                      <a:moveTo>
                        <a:pt x="0" y="923636"/>
                      </a:moveTo>
                      <a:cubicBezTo>
                        <a:pt x="122381" y="617296"/>
                        <a:pt x="244763" y="310957"/>
                        <a:pt x="498763" y="157018"/>
                      </a:cubicBezTo>
                      <a:cubicBezTo>
                        <a:pt x="752763" y="3079"/>
                        <a:pt x="1138381" y="1539"/>
                        <a:pt x="15240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99" name="Straight Arrow Connector 45"/>
              <p:cNvCxnSpPr/>
              <p:nvPr/>
            </p:nvCxnSpPr>
            <p:spPr>
              <a:xfrm>
                <a:off x="3809880" y="5410440"/>
                <a:ext cx="190548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00" name="Straight Arrow Connector 46"/>
              <p:cNvCxnSpPr/>
              <p:nvPr/>
            </p:nvCxnSpPr>
            <p:spPr>
              <a:xfrm flipV="1">
                <a:off x="3810240" y="3962160"/>
                <a:ext cx="2160" cy="1448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01" name="TextBox 47"/>
              <p:cNvSpPr/>
              <p:nvPr/>
            </p:nvSpPr>
            <p:spPr>
              <a:xfrm>
                <a:off x="3816360" y="5486400"/>
                <a:ext cx="19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ivation  sig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Box 48"/>
              <p:cNvSpPr/>
              <p:nvPr/>
            </p:nvSpPr>
            <p:spPr>
              <a:xfrm rot="16200000">
                <a:off x="2627280" y="4523040"/>
                <a:ext cx="181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osphorylate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" name="Straight Arrow Connector 51"/>
              <p:cNvCxnSpPr/>
              <p:nvPr/>
            </p:nvCxnSpPr>
            <p:spPr>
              <a:xfrm>
                <a:off x="6705360" y="5410440"/>
                <a:ext cx="190548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04" name="Straight Arrow Connector 52"/>
              <p:cNvCxnSpPr/>
              <p:nvPr/>
            </p:nvCxnSpPr>
            <p:spPr>
              <a:xfrm flipV="1">
                <a:off x="6705720" y="3962160"/>
                <a:ext cx="2160" cy="1448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05" name="TextBox 53"/>
              <p:cNvSpPr/>
              <p:nvPr/>
            </p:nvSpPr>
            <p:spPr>
              <a:xfrm>
                <a:off x="6711840" y="5486400"/>
                <a:ext cx="19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ivation  sig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Box 54"/>
              <p:cNvSpPr/>
              <p:nvPr/>
            </p:nvSpPr>
            <p:spPr>
              <a:xfrm rot="16200000">
                <a:off x="5522760" y="4523040"/>
                <a:ext cx="181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osphorylate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7"/>
              <p:cNvSpPr/>
              <p:nvPr/>
            </p:nvSpPr>
            <p:spPr>
              <a:xfrm>
                <a:off x="4343400" y="4267080"/>
                <a:ext cx="1228680" cy="1066680"/>
              </a:xfrm>
              <a:custGeom>
                <a:avLst/>
                <a:gdLst/>
                <a:ahLst/>
                <a:rect l="l" t="t" r="r" b="b"/>
                <a:pathLst>
                  <a:path w="886691" h="785091">
                    <a:moveTo>
                      <a:pt x="0" y="785091"/>
                    </a:moveTo>
                    <a:cubicBezTo>
                      <a:pt x="38485" y="639618"/>
                      <a:pt x="76970" y="494145"/>
                      <a:pt x="157018" y="378691"/>
                    </a:cubicBezTo>
                    <a:cubicBezTo>
                      <a:pt x="237066" y="263237"/>
                      <a:pt x="358679" y="155479"/>
                      <a:pt x="480291" y="92364"/>
                    </a:cubicBezTo>
                    <a:cubicBezTo>
                      <a:pt x="601903" y="29249"/>
                      <a:pt x="744297" y="14624"/>
                      <a:pt x="88669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8" name="Elbow Connector 59"/>
              <p:cNvCxnSpPr/>
              <p:nvPr/>
            </p:nvCxnSpPr>
            <p:spPr>
              <a:xfrm flipV="1" rot="10800000">
                <a:off x="6781320" y="4419360"/>
                <a:ext cx="1524600" cy="915120"/>
              </a:xfrm>
              <a:prstGeom prst="bentConnector3">
                <a:avLst>
                  <a:gd name="adj1" fmla="val 50000"/>
                </a:avLst>
              </a:prstGeom>
              <a:ln w="25560">
                <a:solidFill>
                  <a:srgbClr val="000000"/>
                </a:solidFill>
                <a:miter/>
              </a:ln>
            </p:spPr>
          </p:cxnSp>
          <p:sp>
            <p:nvSpPr>
              <p:cNvPr id="109" name="Straight Connector 62"/>
              <p:cNvSpPr/>
              <p:nvPr/>
            </p:nvSpPr>
            <p:spPr>
              <a:xfrm>
                <a:off x="3886200" y="5334120"/>
                <a:ext cx="457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PC with a Positive Feed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example"/>
          <p:cNvPicPr/>
          <p:nvPr/>
        </p:nvPicPr>
        <p:blipFill>
          <a:blip r:embed="rId1"/>
          <a:stretch/>
        </p:blipFill>
        <p:spPr>
          <a:xfrm rot="5400000">
            <a:off x="2238120" y="50436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0360" y="4038480"/>
            <a:ext cx="890136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9"/>
          <p:cNvGrpSpPr/>
          <p:nvPr/>
        </p:nvGrpSpPr>
        <p:grpSpPr>
          <a:xfrm>
            <a:off x="304920" y="609480"/>
            <a:ext cx="8610480" cy="5683320"/>
            <a:chOff x="304920" y="609480"/>
            <a:chExt cx="8610480" cy="568332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648680"/>
              <a:ext cx="8610480" cy="164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1295280" y="2667240"/>
              <a:ext cx="6248520" cy="1685880"/>
              <a:chOff x="1295280" y="2667240"/>
              <a:chExt cx="6248520" cy="1685880"/>
            </a:xfrm>
          </p:grpSpPr>
          <p:pic>
            <p:nvPicPr>
              <p:cNvPr id="11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2667240"/>
                <a:ext cx="4086360" cy="168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2667240"/>
                <a:ext cx="2286000" cy="163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" name="Picture 8" descr=""/>
            <p:cNvPicPr/>
            <p:nvPr/>
          </p:nvPicPr>
          <p:blipFill>
            <a:blip r:embed="rId4"/>
            <a:stretch/>
          </p:blipFill>
          <p:spPr>
            <a:xfrm>
              <a:off x="1447920" y="609480"/>
              <a:ext cx="6257880" cy="16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16"/>
          <p:cNvGrpSpPr/>
          <p:nvPr/>
        </p:nvGrpSpPr>
        <p:grpSpPr>
          <a:xfrm>
            <a:off x="4725360" y="71280"/>
            <a:ext cx="3661560" cy="3436560"/>
            <a:chOff x="4725360" y="71280"/>
            <a:chExt cx="3661560" cy="3436560"/>
          </a:xfrm>
        </p:grpSpPr>
        <p:sp>
          <p:nvSpPr>
            <p:cNvPr id="121" name="Text Box 3"/>
            <p:cNvSpPr/>
            <p:nvPr/>
          </p:nvSpPr>
          <p:spPr>
            <a:xfrm>
              <a:off x="5030640" y="22370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6859800" y="223704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rc 5"/>
            <p:cNvSpPr/>
            <p:nvPr/>
          </p:nvSpPr>
          <p:spPr>
            <a:xfrm>
              <a:off x="5432400" y="1828800"/>
              <a:ext cx="1569960" cy="9144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6"/>
            <p:cNvSpPr/>
            <p:nvPr/>
          </p:nvSpPr>
          <p:spPr>
            <a:xfrm rot="10800000">
              <a:off x="5409720" y="2362320"/>
              <a:ext cx="1569960" cy="9144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7"/>
            <p:cNvGrpSpPr/>
            <p:nvPr/>
          </p:nvGrpSpPr>
          <p:grpSpPr>
            <a:xfrm>
              <a:off x="6400800" y="761760"/>
              <a:ext cx="914400" cy="457560"/>
              <a:chOff x="6400800" y="761760"/>
              <a:chExt cx="914400" cy="457560"/>
            </a:xfrm>
          </p:grpSpPr>
          <p:sp>
            <p:nvSpPr>
              <p:cNvPr id="126" name="Line 8"/>
              <p:cNvSpPr/>
              <p:nvPr/>
            </p:nvSpPr>
            <p:spPr>
              <a:xfrm flipV="1">
                <a:off x="6400800" y="761760"/>
                <a:ext cx="83808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9"/>
              <p:cNvSpPr/>
              <p:nvPr/>
            </p:nvSpPr>
            <p:spPr>
              <a:xfrm flipV="1">
                <a:off x="6476760" y="838440"/>
                <a:ext cx="83844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0"/>
              <p:cNvSpPr/>
              <p:nvPr/>
            </p:nvSpPr>
            <p:spPr>
              <a:xfrm>
                <a:off x="6933960" y="7621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1"/>
              <p:cNvSpPr/>
              <p:nvPr/>
            </p:nvSpPr>
            <p:spPr>
              <a:xfrm>
                <a:off x="6476760" y="12193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12"/>
            <p:cNvGrpSpPr/>
            <p:nvPr/>
          </p:nvGrpSpPr>
          <p:grpSpPr>
            <a:xfrm>
              <a:off x="7310520" y="71280"/>
              <a:ext cx="1076400" cy="1076400"/>
              <a:chOff x="7310520" y="71280"/>
              <a:chExt cx="1076400" cy="1076400"/>
            </a:xfrm>
          </p:grpSpPr>
          <p:sp>
            <p:nvSpPr>
              <p:cNvPr id="131" name="Arc 13"/>
              <p:cNvSpPr/>
              <p:nvPr/>
            </p:nvSpPr>
            <p:spPr>
              <a:xfrm rot="18721200">
                <a:off x="7467480" y="228240"/>
                <a:ext cx="762120" cy="76212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</a:path>
                  <a:path stroke="0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rc 14"/>
              <p:cNvSpPr/>
              <p:nvPr/>
            </p:nvSpPr>
            <p:spPr>
              <a:xfrm rot="16251000">
                <a:off x="7882200" y="421920"/>
                <a:ext cx="380880" cy="2793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fill="none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15"/>
            <p:cNvSpPr/>
            <p:nvPr/>
          </p:nvSpPr>
          <p:spPr>
            <a:xfrm>
              <a:off x="7545600" y="304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rc 17"/>
            <p:cNvSpPr/>
            <p:nvPr/>
          </p:nvSpPr>
          <p:spPr>
            <a:xfrm>
              <a:off x="6859440" y="914400"/>
              <a:ext cx="1139760" cy="149868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fill="none" w="33902" h="42344">
                  <a:moveTo>
                    <a:pt x="0" y="3845"/>
                  </a:moveTo>
                  <a:cubicBezTo>
                    <a:pt x="3613" y="1341"/>
                    <a:pt x="7905" y="-1"/>
                    <a:pt x="12302" y="0"/>
                  </a:cubicBezTo>
                  <a:cubicBezTo>
                    <a:pt x="24231" y="0"/>
                    <a:pt x="33902" y="9670"/>
                    <a:pt x="33902" y="21600"/>
                  </a:cubicBezTo>
                  <a:cubicBezTo>
                    <a:pt x="33902" y="31211"/>
                    <a:pt x="27551" y="39666"/>
                    <a:pt x="18321" y="42344"/>
                  </a:cubicBezTo>
                </a:path>
                <a:path stroke="0" w="33902" h="42344">
                  <a:moveTo>
                    <a:pt x="0" y="3845"/>
                  </a:moveTo>
                  <a:cubicBezTo>
                    <a:pt x="3613" y="1341"/>
                    <a:pt x="7905" y="-1"/>
                    <a:pt x="12302" y="0"/>
                  </a:cubicBezTo>
                  <a:cubicBezTo>
                    <a:pt x="24231" y="0"/>
                    <a:pt x="33902" y="9670"/>
                    <a:pt x="33902" y="21600"/>
                  </a:cubicBezTo>
                  <a:cubicBezTo>
                    <a:pt x="33902" y="31211"/>
                    <a:pt x="27551" y="39666"/>
                    <a:pt x="18321" y="42344"/>
                  </a:cubicBezTo>
                  <a:lnTo>
                    <a:pt x="12302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8"/>
            <p:cNvSpPr/>
            <p:nvPr/>
          </p:nvSpPr>
          <p:spPr>
            <a:xfrm rot="21314400">
              <a:off x="5486400" y="1905120"/>
              <a:ext cx="1393560" cy="83808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37728" h="21600">
                  <a:moveTo>
                    <a:pt x="-1" y="9981"/>
                  </a:moveTo>
                  <a:cubicBezTo>
                    <a:pt x="3967" y="3763"/>
                    <a:pt x="10833" y="-1"/>
                    <a:pt x="18209" y="0"/>
                  </a:cubicBezTo>
                  <a:cubicBezTo>
                    <a:pt x="26554" y="0"/>
                    <a:pt x="34154" y="4808"/>
                    <a:pt x="37728" y="12349"/>
                  </a:cubicBezTo>
                </a:path>
                <a:path stroke="0" w="37728" h="21600">
                  <a:moveTo>
                    <a:pt x="-1" y="9981"/>
                  </a:moveTo>
                  <a:cubicBezTo>
                    <a:pt x="3967" y="3763"/>
                    <a:pt x="10833" y="-1"/>
                    <a:pt x="18209" y="0"/>
                  </a:cubicBezTo>
                  <a:cubicBezTo>
                    <a:pt x="26554" y="0"/>
                    <a:pt x="34154" y="4808"/>
                    <a:pt x="37728" y="12349"/>
                  </a:cubicBezTo>
                  <a:lnTo>
                    <a:pt x="18209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9"/>
            <p:cNvGrpSpPr/>
            <p:nvPr/>
          </p:nvGrpSpPr>
          <p:grpSpPr>
            <a:xfrm>
              <a:off x="5634000" y="1062000"/>
              <a:ext cx="1076400" cy="1076400"/>
              <a:chOff x="5634000" y="1062000"/>
              <a:chExt cx="1076400" cy="1076400"/>
            </a:xfrm>
          </p:grpSpPr>
          <p:sp>
            <p:nvSpPr>
              <p:cNvPr id="137" name="Arc 20"/>
              <p:cNvSpPr/>
              <p:nvPr/>
            </p:nvSpPr>
            <p:spPr>
              <a:xfrm rot="18721200">
                <a:off x="5790960" y="1218960"/>
                <a:ext cx="762120" cy="76212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</a:path>
                  <a:path stroke="0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rc 21"/>
              <p:cNvSpPr/>
              <p:nvPr/>
            </p:nvSpPr>
            <p:spPr>
              <a:xfrm rot="16251000">
                <a:off x="6205680" y="1412640"/>
                <a:ext cx="380880" cy="2793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fill="none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22"/>
            <p:cNvSpPr/>
            <p:nvPr/>
          </p:nvSpPr>
          <p:spPr>
            <a:xfrm>
              <a:off x="5803200" y="1295640"/>
              <a:ext cx="5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Group 23"/>
            <p:cNvGrpSpPr/>
            <p:nvPr/>
          </p:nvGrpSpPr>
          <p:grpSpPr>
            <a:xfrm>
              <a:off x="6231240" y="1346400"/>
              <a:ext cx="582480" cy="431280"/>
              <a:chOff x="6231240" y="1346400"/>
              <a:chExt cx="582480" cy="431280"/>
            </a:xfrm>
          </p:grpSpPr>
          <p:sp>
            <p:nvSpPr>
              <p:cNvPr id="141" name="Oval 24"/>
              <p:cNvSpPr/>
              <p:nvPr/>
            </p:nvSpPr>
            <p:spPr>
              <a:xfrm rot="21274200">
                <a:off x="6247800" y="1372680"/>
                <a:ext cx="52236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25"/>
              <p:cNvSpPr/>
              <p:nvPr/>
            </p:nvSpPr>
            <p:spPr>
              <a:xfrm rot="21274200">
                <a:off x="6249240" y="137124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2E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Arc 26"/>
            <p:cNvSpPr/>
            <p:nvPr/>
          </p:nvSpPr>
          <p:spPr>
            <a:xfrm flipV="1" rot="156600">
              <a:off x="5486400" y="2440080"/>
              <a:ext cx="1417680" cy="76176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360 h 761760"/>
                <a:gd name="textAreaBottom" fmla="*/ 762480 h 761760"/>
              </a:gdLst>
              <a:ahLst/>
              <a:rect l="textAreaLeft" t="textAreaTop" r="textAreaRight" b="textAreaBottom"/>
              <a:pathLst>
                <a:path fill="none" w="38310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7095" y="0"/>
                    <a:pt x="34923" y="5180"/>
                    <a:pt x="38310" y="13158"/>
                  </a:cubicBezTo>
                </a:path>
                <a:path stroke="0" w="38310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7095" y="0"/>
                    <a:pt x="34923" y="5180"/>
                    <a:pt x="38310" y="131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5943600" y="3048120"/>
              <a:ext cx="53316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8"/>
            <p:cNvSpPr/>
            <p:nvPr/>
          </p:nvSpPr>
          <p:spPr>
            <a:xfrm>
              <a:off x="601956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9"/>
            <p:cNvSpPr/>
            <p:nvPr/>
          </p:nvSpPr>
          <p:spPr>
            <a:xfrm>
              <a:off x="4725360" y="65592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117"/>
          <p:cNvGrpSpPr/>
          <p:nvPr/>
        </p:nvGrpSpPr>
        <p:grpSpPr>
          <a:xfrm>
            <a:off x="1371600" y="3195720"/>
            <a:ext cx="4195440" cy="3435840"/>
            <a:chOff x="1371600" y="3195720"/>
            <a:chExt cx="4195440" cy="3435840"/>
          </a:xfrm>
        </p:grpSpPr>
        <p:sp>
          <p:nvSpPr>
            <p:cNvPr id="148" name="Text Box 30"/>
            <p:cNvSpPr/>
            <p:nvPr/>
          </p:nvSpPr>
          <p:spPr>
            <a:xfrm>
              <a:off x="2211480" y="5360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1"/>
            <p:cNvSpPr/>
            <p:nvPr/>
          </p:nvSpPr>
          <p:spPr>
            <a:xfrm>
              <a:off x="4040280" y="536076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rc 32"/>
            <p:cNvSpPr/>
            <p:nvPr/>
          </p:nvSpPr>
          <p:spPr>
            <a:xfrm>
              <a:off x="2612880" y="4952880"/>
              <a:ext cx="1570320" cy="91440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rc 33"/>
            <p:cNvSpPr/>
            <p:nvPr/>
          </p:nvSpPr>
          <p:spPr>
            <a:xfrm rot="10800000">
              <a:off x="2590560" y="5486040"/>
              <a:ext cx="1569960" cy="9144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34"/>
            <p:cNvGrpSpPr/>
            <p:nvPr/>
          </p:nvGrpSpPr>
          <p:grpSpPr>
            <a:xfrm>
              <a:off x="3581280" y="3885480"/>
              <a:ext cx="914400" cy="457560"/>
              <a:chOff x="3581280" y="3885480"/>
              <a:chExt cx="914400" cy="457560"/>
            </a:xfrm>
          </p:grpSpPr>
          <p:sp>
            <p:nvSpPr>
              <p:cNvPr id="153" name="Line 35"/>
              <p:cNvSpPr/>
              <p:nvPr/>
            </p:nvSpPr>
            <p:spPr>
              <a:xfrm flipV="1">
                <a:off x="3581280" y="3885480"/>
                <a:ext cx="83808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36"/>
              <p:cNvSpPr/>
              <p:nvPr/>
            </p:nvSpPr>
            <p:spPr>
              <a:xfrm flipV="1">
                <a:off x="3657240" y="3962160"/>
                <a:ext cx="83844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4114440" y="38858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>
                <a:off x="3657240" y="43430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39"/>
            <p:cNvGrpSpPr/>
            <p:nvPr/>
          </p:nvGrpSpPr>
          <p:grpSpPr>
            <a:xfrm>
              <a:off x="4491360" y="3195720"/>
              <a:ext cx="1075680" cy="1075680"/>
              <a:chOff x="4491360" y="3195720"/>
              <a:chExt cx="1075680" cy="1075680"/>
            </a:xfrm>
          </p:grpSpPr>
          <p:sp>
            <p:nvSpPr>
              <p:cNvPr id="158" name="Arc 40"/>
              <p:cNvSpPr/>
              <p:nvPr/>
            </p:nvSpPr>
            <p:spPr>
              <a:xfrm rot="18721200">
                <a:off x="4648320" y="3352680"/>
                <a:ext cx="761760" cy="7617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</a:path>
                  <a:path stroke="0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rc 41"/>
              <p:cNvSpPr/>
              <p:nvPr/>
            </p:nvSpPr>
            <p:spPr>
              <a:xfrm rot="16251000">
                <a:off x="5062320" y="3546000"/>
                <a:ext cx="380520" cy="27900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fill="none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Text Box 42"/>
            <p:cNvSpPr/>
            <p:nvPr/>
          </p:nvSpPr>
          <p:spPr>
            <a:xfrm>
              <a:off x="4726080" y="3428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>
              <a:off x="1371600" y="56386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rc 44"/>
            <p:cNvSpPr/>
            <p:nvPr/>
          </p:nvSpPr>
          <p:spPr>
            <a:xfrm>
              <a:off x="4040280" y="4038480"/>
              <a:ext cx="1139760" cy="149868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fill="none" w="33902" h="42344">
                  <a:moveTo>
                    <a:pt x="0" y="3845"/>
                  </a:moveTo>
                  <a:cubicBezTo>
                    <a:pt x="3613" y="1341"/>
                    <a:pt x="7905" y="-1"/>
                    <a:pt x="12302" y="0"/>
                  </a:cubicBezTo>
                  <a:cubicBezTo>
                    <a:pt x="24231" y="0"/>
                    <a:pt x="33902" y="9670"/>
                    <a:pt x="33902" y="21600"/>
                  </a:cubicBezTo>
                  <a:cubicBezTo>
                    <a:pt x="33902" y="31211"/>
                    <a:pt x="27551" y="39666"/>
                    <a:pt x="18321" y="42344"/>
                  </a:cubicBezTo>
                </a:path>
                <a:path stroke="0" w="33902" h="42344">
                  <a:moveTo>
                    <a:pt x="0" y="3845"/>
                  </a:moveTo>
                  <a:cubicBezTo>
                    <a:pt x="3613" y="1341"/>
                    <a:pt x="7905" y="-1"/>
                    <a:pt x="12302" y="0"/>
                  </a:cubicBezTo>
                  <a:cubicBezTo>
                    <a:pt x="24231" y="0"/>
                    <a:pt x="33902" y="9670"/>
                    <a:pt x="33902" y="21600"/>
                  </a:cubicBezTo>
                  <a:cubicBezTo>
                    <a:pt x="33902" y="31211"/>
                    <a:pt x="27551" y="39666"/>
                    <a:pt x="18321" y="42344"/>
                  </a:cubicBezTo>
                  <a:lnTo>
                    <a:pt x="12302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rc 45"/>
            <p:cNvSpPr/>
            <p:nvPr/>
          </p:nvSpPr>
          <p:spPr>
            <a:xfrm rot="21314400">
              <a:off x="2682720" y="5027040"/>
              <a:ext cx="1393920" cy="838080"/>
            </a:xfrm>
            <a:custGeom>
              <a:avLst/>
              <a:gdLst>
                <a:gd name="textAreaLeft" fmla="*/ 0 w 1393920"/>
                <a:gd name="textAreaRight" fmla="*/ 1394280 w 13939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37728" h="21600">
                  <a:moveTo>
                    <a:pt x="-1" y="9981"/>
                  </a:moveTo>
                  <a:cubicBezTo>
                    <a:pt x="3967" y="3763"/>
                    <a:pt x="10833" y="-1"/>
                    <a:pt x="18209" y="0"/>
                  </a:cubicBezTo>
                  <a:cubicBezTo>
                    <a:pt x="26554" y="0"/>
                    <a:pt x="34154" y="4808"/>
                    <a:pt x="37728" y="12349"/>
                  </a:cubicBezTo>
                </a:path>
                <a:path stroke="0" w="37728" h="21600">
                  <a:moveTo>
                    <a:pt x="-1" y="9981"/>
                  </a:moveTo>
                  <a:cubicBezTo>
                    <a:pt x="3967" y="3763"/>
                    <a:pt x="10833" y="-1"/>
                    <a:pt x="18209" y="0"/>
                  </a:cubicBezTo>
                  <a:cubicBezTo>
                    <a:pt x="26554" y="0"/>
                    <a:pt x="34154" y="4808"/>
                    <a:pt x="37728" y="12349"/>
                  </a:cubicBezTo>
                  <a:lnTo>
                    <a:pt x="18209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46"/>
            <p:cNvGrpSpPr/>
            <p:nvPr/>
          </p:nvGrpSpPr>
          <p:grpSpPr>
            <a:xfrm>
              <a:off x="2814840" y="4185720"/>
              <a:ext cx="1076400" cy="1076400"/>
              <a:chOff x="2814840" y="4185720"/>
              <a:chExt cx="1076400" cy="1076400"/>
            </a:xfrm>
          </p:grpSpPr>
          <p:sp>
            <p:nvSpPr>
              <p:cNvPr id="165" name="Arc 47"/>
              <p:cNvSpPr/>
              <p:nvPr/>
            </p:nvSpPr>
            <p:spPr>
              <a:xfrm rot="18721200">
                <a:off x="2971800" y="4342680"/>
                <a:ext cx="762120" cy="76212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</a:path>
                  <a:path stroke="0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rc 48"/>
              <p:cNvSpPr/>
              <p:nvPr/>
            </p:nvSpPr>
            <p:spPr>
              <a:xfrm rot="16251000">
                <a:off x="3386520" y="4536360"/>
                <a:ext cx="380880" cy="2793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fill="none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Text Box 49"/>
            <p:cNvSpPr/>
            <p:nvPr/>
          </p:nvSpPr>
          <p:spPr>
            <a:xfrm>
              <a:off x="2983680" y="4419360"/>
              <a:ext cx="5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Group 50"/>
            <p:cNvGrpSpPr/>
            <p:nvPr/>
          </p:nvGrpSpPr>
          <p:grpSpPr>
            <a:xfrm>
              <a:off x="3412080" y="4470480"/>
              <a:ext cx="582120" cy="431280"/>
              <a:chOff x="3412080" y="4470480"/>
              <a:chExt cx="582120" cy="431280"/>
            </a:xfrm>
          </p:grpSpPr>
          <p:sp>
            <p:nvSpPr>
              <p:cNvPr id="169" name="Oval 51"/>
              <p:cNvSpPr/>
              <p:nvPr/>
            </p:nvSpPr>
            <p:spPr>
              <a:xfrm rot="21274200">
                <a:off x="3428640" y="4497120"/>
                <a:ext cx="52200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52"/>
              <p:cNvSpPr/>
              <p:nvPr/>
            </p:nvSpPr>
            <p:spPr>
              <a:xfrm rot="21274200">
                <a:off x="3429720" y="449532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2E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Arc 53"/>
            <p:cNvSpPr/>
            <p:nvPr/>
          </p:nvSpPr>
          <p:spPr>
            <a:xfrm flipV="1" rot="156600">
              <a:off x="2666880" y="5563800"/>
              <a:ext cx="1417680" cy="76176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360 h 761760"/>
                <a:gd name="textAreaBottom" fmla="*/ 762480 h 761760"/>
              </a:gdLst>
              <a:ahLst/>
              <a:rect l="textAreaLeft" t="textAreaTop" r="textAreaRight" b="textAreaBottom"/>
              <a:pathLst>
                <a:path fill="none" w="38310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7095" y="0"/>
                    <a:pt x="34923" y="5180"/>
                    <a:pt x="38310" y="13158"/>
                  </a:cubicBezTo>
                </a:path>
                <a:path stroke="0" w="38310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7095" y="0"/>
                    <a:pt x="34923" y="5180"/>
                    <a:pt x="38310" y="131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54"/>
            <p:cNvSpPr/>
            <p:nvPr/>
          </p:nvSpPr>
          <p:spPr>
            <a:xfrm>
              <a:off x="3124080" y="6171840"/>
              <a:ext cx="53352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55"/>
            <p:cNvSpPr/>
            <p:nvPr/>
          </p:nvSpPr>
          <p:spPr>
            <a:xfrm>
              <a:off x="3200400" y="6171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56"/>
            <p:cNvSpPr/>
            <p:nvPr/>
          </p:nvSpPr>
          <p:spPr>
            <a:xfrm>
              <a:off x="1981800" y="3779640"/>
              <a:ext cx="74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57"/>
            <p:cNvGrpSpPr/>
            <p:nvPr/>
          </p:nvGrpSpPr>
          <p:grpSpPr>
            <a:xfrm>
              <a:off x="4648320" y="5562360"/>
              <a:ext cx="914400" cy="76320"/>
              <a:chOff x="4648320" y="5562360"/>
              <a:chExt cx="914400" cy="76320"/>
            </a:xfrm>
          </p:grpSpPr>
          <p:sp>
            <p:nvSpPr>
              <p:cNvPr id="176" name="Line 58"/>
              <p:cNvSpPr/>
              <p:nvPr/>
            </p:nvSpPr>
            <p:spPr>
              <a:xfrm>
                <a:off x="4648320" y="56386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59"/>
              <p:cNvSpPr/>
              <p:nvPr/>
            </p:nvSpPr>
            <p:spPr>
              <a:xfrm>
                <a:off x="5334120" y="5562360"/>
                <a:ext cx="2286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60"/>
            <p:cNvGrpSpPr/>
            <p:nvPr/>
          </p:nvGrpSpPr>
          <p:grpSpPr>
            <a:xfrm>
              <a:off x="4648320" y="5714640"/>
              <a:ext cx="914400" cy="76320"/>
              <a:chOff x="4648320" y="5714640"/>
              <a:chExt cx="914400" cy="76320"/>
            </a:xfrm>
          </p:grpSpPr>
          <p:sp>
            <p:nvSpPr>
              <p:cNvPr id="179" name="Line 61"/>
              <p:cNvSpPr/>
              <p:nvPr/>
            </p:nvSpPr>
            <p:spPr>
              <a:xfrm flipH="1">
                <a:off x="4648320" y="57146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62"/>
              <p:cNvSpPr/>
              <p:nvPr/>
            </p:nvSpPr>
            <p:spPr>
              <a:xfrm flipH="1" flipV="1">
                <a:off x="4648320" y="5714640"/>
                <a:ext cx="2286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63"/>
          <p:cNvGrpSpPr/>
          <p:nvPr/>
        </p:nvGrpSpPr>
        <p:grpSpPr>
          <a:xfrm>
            <a:off x="915840" y="-5040"/>
            <a:ext cx="3278520" cy="3436560"/>
            <a:chOff x="915840" y="-5040"/>
            <a:chExt cx="3278520" cy="3436560"/>
          </a:xfrm>
        </p:grpSpPr>
        <p:sp>
          <p:nvSpPr>
            <p:cNvPr id="182" name="Text Box 64"/>
            <p:cNvSpPr/>
            <p:nvPr/>
          </p:nvSpPr>
          <p:spPr>
            <a:xfrm>
              <a:off x="915840" y="2160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65"/>
            <p:cNvSpPr/>
            <p:nvPr/>
          </p:nvSpPr>
          <p:spPr>
            <a:xfrm>
              <a:off x="2745000" y="2160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rc 66"/>
            <p:cNvSpPr/>
            <p:nvPr/>
          </p:nvSpPr>
          <p:spPr>
            <a:xfrm>
              <a:off x="1317600" y="1752480"/>
              <a:ext cx="1569960" cy="9144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rc 67"/>
            <p:cNvSpPr/>
            <p:nvPr/>
          </p:nvSpPr>
          <p:spPr>
            <a:xfrm rot="10800000">
              <a:off x="1294920" y="2286000"/>
              <a:ext cx="1569960" cy="9144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Group 68"/>
            <p:cNvGrpSpPr/>
            <p:nvPr/>
          </p:nvGrpSpPr>
          <p:grpSpPr>
            <a:xfrm>
              <a:off x="2209680" y="609120"/>
              <a:ext cx="914400" cy="457560"/>
              <a:chOff x="2209680" y="609120"/>
              <a:chExt cx="914400" cy="457560"/>
            </a:xfrm>
          </p:grpSpPr>
          <p:sp>
            <p:nvSpPr>
              <p:cNvPr id="187" name="Line 69"/>
              <p:cNvSpPr/>
              <p:nvPr/>
            </p:nvSpPr>
            <p:spPr>
              <a:xfrm flipV="1">
                <a:off x="2209680" y="609120"/>
                <a:ext cx="83808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70"/>
              <p:cNvSpPr/>
              <p:nvPr/>
            </p:nvSpPr>
            <p:spPr>
              <a:xfrm flipV="1">
                <a:off x="2285640" y="685800"/>
                <a:ext cx="83844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71"/>
              <p:cNvSpPr/>
              <p:nvPr/>
            </p:nvSpPr>
            <p:spPr>
              <a:xfrm>
                <a:off x="2742840" y="609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72"/>
              <p:cNvSpPr/>
              <p:nvPr/>
            </p:nvSpPr>
            <p:spPr>
              <a:xfrm>
                <a:off x="2285640" y="1066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73"/>
            <p:cNvGrpSpPr/>
            <p:nvPr/>
          </p:nvGrpSpPr>
          <p:grpSpPr>
            <a:xfrm>
              <a:off x="3117960" y="-5040"/>
              <a:ext cx="1076400" cy="1076400"/>
              <a:chOff x="3117960" y="-5040"/>
              <a:chExt cx="1076400" cy="1076400"/>
            </a:xfrm>
          </p:grpSpPr>
          <p:sp>
            <p:nvSpPr>
              <p:cNvPr id="192" name="Arc 74"/>
              <p:cNvSpPr/>
              <p:nvPr/>
            </p:nvSpPr>
            <p:spPr>
              <a:xfrm rot="18721200">
                <a:off x="3274920" y="151920"/>
                <a:ext cx="762120" cy="76212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</a:path>
                  <a:path stroke="0" w="43200" h="43200">
                    <a:moveTo>
                      <a:pt x="29797" y="-23953"/>
                    </a:moveTo>
                    <a:cubicBezTo>
                      <a:pt x="27196" y="-22885"/>
                      <a:pt x="24411" y="-22337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3460"/>
                      <a:pt x="-22577" y="25312"/>
                      <a:pt x="-23051" y="2711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rc 75"/>
              <p:cNvSpPr/>
              <p:nvPr/>
            </p:nvSpPr>
            <p:spPr>
              <a:xfrm rot="16251000">
                <a:off x="3689640" y="345600"/>
                <a:ext cx="380880" cy="2793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fill="none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78">
                    <a:moveTo>
                      <a:pt x="32" y="22777"/>
                    </a:moveTo>
                    <a:cubicBezTo>
                      <a:pt x="10" y="22385"/>
                      <a:pt x="0" y="2199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Text Box 76"/>
            <p:cNvSpPr/>
            <p:nvPr/>
          </p:nvSpPr>
          <p:spPr>
            <a:xfrm>
              <a:off x="3353040" y="228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rc 77"/>
            <p:cNvSpPr/>
            <p:nvPr/>
          </p:nvSpPr>
          <p:spPr>
            <a:xfrm>
              <a:off x="2590560" y="839880"/>
              <a:ext cx="1143000" cy="14414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fill="none" w="33902" h="40745">
                  <a:moveTo>
                    <a:pt x="0" y="3845"/>
                  </a:moveTo>
                  <a:cubicBezTo>
                    <a:pt x="3613" y="1341"/>
                    <a:pt x="7905" y="-1"/>
                    <a:pt x="12302" y="0"/>
                  </a:cubicBezTo>
                  <a:cubicBezTo>
                    <a:pt x="24231" y="0"/>
                    <a:pt x="33902" y="9670"/>
                    <a:pt x="33902" y="21600"/>
                  </a:cubicBezTo>
                  <a:cubicBezTo>
                    <a:pt x="33902" y="29643"/>
                    <a:pt x="29432" y="37020"/>
                    <a:pt x="22303" y="40744"/>
                  </a:cubicBezTo>
                </a:path>
                <a:path stroke="0" w="33902" h="40745">
                  <a:moveTo>
                    <a:pt x="0" y="3845"/>
                  </a:moveTo>
                  <a:cubicBezTo>
                    <a:pt x="3613" y="1341"/>
                    <a:pt x="7905" y="-1"/>
                    <a:pt x="12302" y="0"/>
                  </a:cubicBezTo>
                  <a:cubicBezTo>
                    <a:pt x="24231" y="0"/>
                    <a:pt x="33902" y="9670"/>
                    <a:pt x="33902" y="21600"/>
                  </a:cubicBezTo>
                  <a:cubicBezTo>
                    <a:pt x="33902" y="29643"/>
                    <a:pt x="29432" y="37020"/>
                    <a:pt x="22303" y="40744"/>
                  </a:cubicBezTo>
                  <a:lnTo>
                    <a:pt x="12302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rc 78"/>
            <p:cNvSpPr/>
            <p:nvPr/>
          </p:nvSpPr>
          <p:spPr>
            <a:xfrm>
              <a:off x="1371600" y="1828800"/>
              <a:ext cx="1447560" cy="8380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</a:path>
                <a:path stroke="0" w="37052" h="21600">
                  <a:moveTo>
                    <a:pt x="-1" y="10331"/>
                  </a:moveTo>
                  <a:cubicBezTo>
                    <a:pt x="3924" y="3913"/>
                    <a:pt x="10905" y="-1"/>
                    <a:pt x="18428" y="0"/>
                  </a:cubicBezTo>
                  <a:cubicBezTo>
                    <a:pt x="26086" y="0"/>
                    <a:pt x="33172" y="4055"/>
                    <a:pt x="37052" y="10658"/>
                  </a:cubicBezTo>
                  <a:lnTo>
                    <a:pt x="1842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79"/>
            <p:cNvGrpSpPr/>
            <p:nvPr/>
          </p:nvGrpSpPr>
          <p:grpSpPr>
            <a:xfrm>
              <a:off x="1519200" y="985680"/>
              <a:ext cx="1152000" cy="1076400"/>
              <a:chOff x="1519200" y="985680"/>
              <a:chExt cx="1152000" cy="1076400"/>
            </a:xfrm>
          </p:grpSpPr>
          <p:grpSp>
            <p:nvGrpSpPr>
              <p:cNvPr id="198" name="Group 80"/>
              <p:cNvGrpSpPr/>
              <p:nvPr/>
            </p:nvGrpSpPr>
            <p:grpSpPr>
              <a:xfrm>
                <a:off x="1519200" y="985680"/>
                <a:ext cx="1076400" cy="1076400"/>
                <a:chOff x="1519200" y="985680"/>
                <a:chExt cx="1076400" cy="1076400"/>
              </a:xfrm>
            </p:grpSpPr>
            <p:sp>
              <p:nvSpPr>
                <p:cNvPr id="199" name="Arc 81"/>
                <p:cNvSpPr/>
                <p:nvPr/>
              </p:nvSpPr>
              <p:spPr>
                <a:xfrm rot="18721200">
                  <a:off x="1676160" y="1142640"/>
                  <a:ext cx="762120" cy="76212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762120"/>
                    <a:gd name="textAreaBottom" fmla="*/ 762480 h 76212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9797" y="-23953"/>
                      </a:moveTo>
                      <a:cubicBezTo>
                        <a:pt x="27196" y="-22885"/>
                        <a:pt x="24411" y="-22337"/>
                        <a:pt x="21600" y="-22336"/>
                      </a:cubicBez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3460"/>
                        <a:pt x="-22577" y="25312"/>
                        <a:pt x="-23051" y="27111"/>
                      </a:cubicBezTo>
                    </a:path>
                    <a:path stroke="0" w="43200" h="43200">
                      <a:moveTo>
                        <a:pt x="29797" y="-23953"/>
                      </a:moveTo>
                      <a:cubicBezTo>
                        <a:pt x="27196" y="-22885"/>
                        <a:pt x="24411" y="-22337"/>
                        <a:pt x="21600" y="-22336"/>
                      </a:cubicBez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3460"/>
                        <a:pt x="-22577" y="25312"/>
                        <a:pt x="-23051" y="27111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Arc 82"/>
                <p:cNvSpPr/>
                <p:nvPr/>
              </p:nvSpPr>
              <p:spPr>
                <a:xfrm rot="16251000">
                  <a:off x="2090880" y="1336320"/>
                  <a:ext cx="380880" cy="2793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fill="none" w="43200" h="22778">
                      <a:moveTo>
                        <a:pt x="32" y="22777"/>
                      </a:moveTo>
                      <a:cubicBezTo>
                        <a:pt x="10" y="22385"/>
                        <a:pt x="0" y="21992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33529" y="-1"/>
                        <a:pt x="43199" y="9670"/>
                        <a:pt x="43200" y="21599"/>
                      </a:cubicBezTo>
                    </a:path>
                    <a:path stroke="0" w="43200" h="22778">
                      <a:moveTo>
                        <a:pt x="32" y="22777"/>
                      </a:moveTo>
                      <a:cubicBezTo>
                        <a:pt x="10" y="22385"/>
                        <a:pt x="0" y="21992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33529" y="-1"/>
                        <a:pt x="43199" y="9670"/>
                        <a:pt x="43200" y="21599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Oval 83"/>
              <p:cNvSpPr/>
              <p:nvPr/>
            </p:nvSpPr>
            <p:spPr>
              <a:xfrm rot="21274200">
                <a:off x="2131560" y="1295280"/>
                <a:ext cx="52236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Text Box 84"/>
              <p:cNvSpPr/>
              <p:nvPr/>
            </p:nvSpPr>
            <p:spPr>
              <a:xfrm rot="21274200">
                <a:off x="2211120" y="129564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E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85"/>
              <p:cNvSpPr/>
              <p:nvPr/>
            </p:nvSpPr>
            <p:spPr>
              <a:xfrm>
                <a:off x="1688400" y="1219320"/>
                <a:ext cx="5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i="1" lang="en-US" sz="2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Arc 86"/>
            <p:cNvSpPr/>
            <p:nvPr/>
          </p:nvSpPr>
          <p:spPr>
            <a:xfrm flipV="1" rot="21276600">
              <a:off x="1396800" y="2210760"/>
              <a:ext cx="1387440" cy="91440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360 h 914400"/>
                <a:gd name="textAreaBottom" fmla="*/ 915120 h 914400"/>
              </a:gdLst>
              <a:ahLst/>
              <a:rect l="textAreaLeft" t="textAreaTop" r="textAreaRight" b="textAreaBottom"/>
              <a:pathLst>
                <a:path fill="none" w="36049" h="21600">
                  <a:moveTo>
                    <a:pt x="0" y="10216"/>
                  </a:moveTo>
                  <a:cubicBezTo>
                    <a:pt x="3939" y="3864"/>
                    <a:pt x="10882" y="-1"/>
                    <a:pt x="18357" y="0"/>
                  </a:cubicBezTo>
                  <a:cubicBezTo>
                    <a:pt x="25403" y="0"/>
                    <a:pt x="32006" y="3437"/>
                    <a:pt x="36049" y="9208"/>
                  </a:cubicBezTo>
                </a:path>
                <a:path stroke="0" w="36049" h="21600">
                  <a:moveTo>
                    <a:pt x="0" y="10216"/>
                  </a:moveTo>
                  <a:cubicBezTo>
                    <a:pt x="3939" y="3864"/>
                    <a:pt x="10882" y="-1"/>
                    <a:pt x="18357" y="0"/>
                  </a:cubicBezTo>
                  <a:cubicBezTo>
                    <a:pt x="25403" y="0"/>
                    <a:pt x="32006" y="3437"/>
                    <a:pt x="36049" y="9208"/>
                  </a:cubicBezTo>
                  <a:lnTo>
                    <a:pt x="18357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7"/>
            <p:cNvSpPr/>
            <p:nvPr/>
          </p:nvSpPr>
          <p:spPr>
            <a:xfrm>
              <a:off x="1828800" y="29718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88"/>
            <p:cNvSpPr/>
            <p:nvPr/>
          </p:nvSpPr>
          <p:spPr>
            <a:xfrm>
              <a:off x="1904760" y="2971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89"/>
          <p:cNvSpPr/>
          <p:nvPr/>
        </p:nvSpPr>
        <p:spPr>
          <a:xfrm>
            <a:off x="991800" y="5335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 regula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chemical signa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6T20:28:55Z</dcterms:created>
  <dc:creator>Applied Math</dc:creator>
  <dc:description/>
  <dc:language>en-US</dc:language>
  <cp:lastModifiedBy>qian_2nd</cp:lastModifiedBy>
  <dcterms:modified xsi:type="dcterms:W3CDTF">2010-08-21T23:37:43Z</dcterms:modified>
  <cp:revision>1278</cp:revision>
  <dc:subject/>
  <dc:title>Macromolecular Mechanics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amath.washington.edu/~qian</vt:lpwstr>
  </property>
  <property fmtid="{D5CDD505-2E9C-101B-9397-08002B2CF9AE}" pid="9" name="LinkColor">
    <vt:r8>16711782</vt:r8>
  </property>
  <property fmtid="{D5CDD505-2E9C-101B-9397-08002B2CF9AE}" pid="10" name="MailAddress">
    <vt:lpwstr>qian@amath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Personal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