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47D8-601C-4123-9367-2ADBEB48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C93-400B-4289-9DED-11FFFE4C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4276-8CAD-4ED2-982B-297D407E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C389-CB2B-4966-87CE-0BF7A666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AA91-A678-4569-A2CA-E6A76CEA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E17A-CA66-4167-B249-3C8D1BAA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E272-EFB7-4906-9503-7EA9DCEC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C7D-749E-47C4-A809-5579BACB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0E96-1172-4CD3-B922-4EEC248E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8492-BF94-43A7-90FE-26B840DA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58CA-ED90-4DFA-8563-1E619180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A8E1-ED67-4120-82A5-2187AD03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2236-12AF-4EBB-AEBB-FDC72DB22D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tochastic and Deterministic Modeling:</a:t>
            </a:r>
            <a:br>
              <a:rPr sz="4800"/>
            </a:b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Beyond the Simple MMBH Enzyme Kinetic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54480" y="3352680"/>
            <a:ext cx="24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ng Qia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4648320"/>
            <a:ext cx="70102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artments of Applied Mathematics and Bioengineer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ity of Washing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f course!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1760" y="2819520"/>
            <a:ext cx="7848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dential, independently distributed (ii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ncooperative subuni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ly have to consider 1 subun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n-Cooperative Re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09480" y="1447920"/>
            <a:ext cx="7772400" cy="1036080"/>
            <a:chOff x="609480" y="1447920"/>
            <a:chExt cx="7772400" cy="1036080"/>
          </a:xfrm>
        </p:grpSpPr>
        <p:grpSp>
          <p:nvGrpSpPr>
            <p:cNvPr id="258" name=""/>
            <p:cNvGrpSpPr/>
            <p:nvPr/>
          </p:nvGrpSpPr>
          <p:grpSpPr>
            <a:xfrm>
              <a:off x="7620120" y="1600200"/>
              <a:ext cx="761760" cy="838080"/>
              <a:chOff x="7620120" y="1600200"/>
              <a:chExt cx="761760" cy="838080"/>
            </a:xfrm>
          </p:grpSpPr>
          <p:sp>
            <p:nvSpPr>
              <p:cNvPr id="259" name=""/>
              <p:cNvSpPr/>
              <p:nvPr/>
            </p:nvSpPr>
            <p:spPr>
              <a:xfrm>
                <a:off x="7620120" y="1600200"/>
                <a:ext cx="304560" cy="3049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77320" y="1676520"/>
                <a:ext cx="304560" cy="304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696080" y="1981080"/>
                <a:ext cx="304920" cy="3049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077320" y="2133720"/>
                <a:ext cx="304560" cy="304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609480" y="1600200"/>
              <a:ext cx="914400" cy="876960"/>
              <a:chOff x="609480" y="1600200"/>
              <a:chExt cx="914400" cy="876960"/>
            </a:xfrm>
          </p:grpSpPr>
          <p:sp>
            <p:nvSpPr>
              <p:cNvPr id="264" name=""/>
              <p:cNvSpPr/>
              <p:nvPr/>
            </p:nvSpPr>
            <p:spPr>
              <a:xfrm>
                <a:off x="609480" y="1600200"/>
                <a:ext cx="304920" cy="304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2065800">
                <a:off x="1066320" y="1676520"/>
                <a:ext cx="304920" cy="304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539200">
                <a:off x="685800" y="2133360"/>
                <a:ext cx="304920" cy="304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219320" y="2133720"/>
                <a:ext cx="304560" cy="304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2362320" y="1523880"/>
              <a:ext cx="897120" cy="914400"/>
              <a:chOff x="2362320" y="1523880"/>
              <a:chExt cx="897120" cy="914400"/>
            </a:xfrm>
          </p:grpSpPr>
          <p:sp>
            <p:nvSpPr>
              <p:cNvPr id="269" name=""/>
              <p:cNvSpPr/>
              <p:nvPr/>
            </p:nvSpPr>
            <p:spPr>
              <a:xfrm rot="19546800">
                <a:off x="2895120" y="1676160"/>
                <a:ext cx="304920" cy="304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62320" y="1981080"/>
                <a:ext cx="304560" cy="304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819520" y="2133720"/>
                <a:ext cx="304560" cy="304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38280" y="1523880"/>
                <a:ext cx="304920" cy="3049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1600200" y="1905120"/>
              <a:ext cx="685800" cy="74520"/>
              <a:chOff x="1600200" y="1905120"/>
              <a:chExt cx="685800" cy="74520"/>
            </a:xfrm>
          </p:grpSpPr>
          <p:sp>
            <p:nvSpPr>
              <p:cNvPr id="274" name=""/>
              <p:cNvSpPr/>
              <p:nvPr/>
            </p:nvSpPr>
            <p:spPr>
              <a:xfrm>
                <a:off x="1600200" y="1979640"/>
                <a:ext cx="685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57480" y="1905120"/>
                <a:ext cx="128520" cy="74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1599840" y="2055600"/>
              <a:ext cx="685800" cy="75960"/>
              <a:chOff x="1599840" y="2055600"/>
              <a:chExt cx="685800" cy="75960"/>
            </a:xfrm>
          </p:grpSpPr>
          <p:sp>
            <p:nvSpPr>
              <p:cNvPr id="277" name=""/>
              <p:cNvSpPr/>
              <p:nvPr/>
            </p:nvSpPr>
            <p:spPr>
              <a:xfrm flipH="1">
                <a:off x="1599840" y="2055600"/>
                <a:ext cx="685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1599840" y="2055600"/>
                <a:ext cx="128520" cy="75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992760" y="1600200"/>
              <a:ext cx="884160" cy="883800"/>
              <a:chOff x="3992760" y="1600200"/>
              <a:chExt cx="884160" cy="883800"/>
            </a:xfrm>
          </p:grpSpPr>
          <p:sp>
            <p:nvSpPr>
              <p:cNvPr id="280" name=""/>
              <p:cNvSpPr/>
              <p:nvPr/>
            </p:nvSpPr>
            <p:spPr>
              <a:xfrm rot="20288400">
                <a:off x="4038480" y="2133360"/>
                <a:ext cx="304920" cy="304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572000" y="1600200"/>
                <a:ext cx="304920" cy="304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114800" y="1676520"/>
                <a:ext cx="304920" cy="304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495680" y="2057400"/>
                <a:ext cx="304920" cy="3049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3276720" y="1905120"/>
              <a:ext cx="685800" cy="74520"/>
              <a:chOff x="3276720" y="1905120"/>
              <a:chExt cx="685800" cy="74520"/>
            </a:xfrm>
          </p:grpSpPr>
          <p:sp>
            <p:nvSpPr>
              <p:cNvPr id="285" name=""/>
              <p:cNvSpPr/>
              <p:nvPr/>
            </p:nvSpPr>
            <p:spPr>
              <a:xfrm>
                <a:off x="3276720" y="1979640"/>
                <a:ext cx="685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834000" y="1905120"/>
                <a:ext cx="128520" cy="74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3276360" y="2055600"/>
              <a:ext cx="685800" cy="75960"/>
              <a:chOff x="3276360" y="2055600"/>
              <a:chExt cx="685800" cy="75960"/>
            </a:xfrm>
          </p:grpSpPr>
          <p:sp>
            <p:nvSpPr>
              <p:cNvPr id="288" name=""/>
              <p:cNvSpPr/>
              <p:nvPr/>
            </p:nvSpPr>
            <p:spPr>
              <a:xfrm flipH="1">
                <a:off x="3276360" y="2055600"/>
                <a:ext cx="685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3276360" y="2055600"/>
                <a:ext cx="128520" cy="75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5943600" y="1447920"/>
              <a:ext cx="762120" cy="914400"/>
              <a:chOff x="5943600" y="1447920"/>
              <a:chExt cx="762120" cy="914400"/>
            </a:xfrm>
          </p:grpSpPr>
          <p:sp>
            <p:nvSpPr>
              <p:cNvPr id="291" name=""/>
              <p:cNvSpPr/>
              <p:nvPr/>
            </p:nvSpPr>
            <p:spPr>
              <a:xfrm>
                <a:off x="6324480" y="2057400"/>
                <a:ext cx="304920" cy="304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943600" y="1447920"/>
                <a:ext cx="304920" cy="304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400800" y="1676520"/>
                <a:ext cx="304920" cy="304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943600" y="1981080"/>
                <a:ext cx="304920" cy="3049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029200" y="1905120"/>
              <a:ext cx="685800" cy="74520"/>
              <a:chOff x="5029200" y="1905120"/>
              <a:chExt cx="685800" cy="74520"/>
            </a:xfrm>
          </p:grpSpPr>
          <p:sp>
            <p:nvSpPr>
              <p:cNvPr id="296" name=""/>
              <p:cNvSpPr/>
              <p:nvPr/>
            </p:nvSpPr>
            <p:spPr>
              <a:xfrm>
                <a:off x="5029200" y="1979640"/>
                <a:ext cx="685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586480" y="1905120"/>
                <a:ext cx="128520" cy="74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5028840" y="2055600"/>
              <a:ext cx="685800" cy="75960"/>
              <a:chOff x="5028840" y="2055600"/>
              <a:chExt cx="685800" cy="75960"/>
            </a:xfrm>
          </p:grpSpPr>
          <p:sp>
            <p:nvSpPr>
              <p:cNvPr id="299" name=""/>
              <p:cNvSpPr/>
              <p:nvPr/>
            </p:nvSpPr>
            <p:spPr>
              <a:xfrm flipH="1">
                <a:off x="5028840" y="2055600"/>
                <a:ext cx="685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flipV="1">
                <a:off x="5028840" y="2055600"/>
                <a:ext cx="128520" cy="75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6781680" y="1905120"/>
              <a:ext cx="685800" cy="74520"/>
              <a:chOff x="6781680" y="1905120"/>
              <a:chExt cx="685800" cy="74520"/>
            </a:xfrm>
          </p:grpSpPr>
          <p:sp>
            <p:nvSpPr>
              <p:cNvPr id="302" name=""/>
              <p:cNvSpPr/>
              <p:nvPr/>
            </p:nvSpPr>
            <p:spPr>
              <a:xfrm>
                <a:off x="6781680" y="1979640"/>
                <a:ext cx="685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338960" y="1905120"/>
                <a:ext cx="128520" cy="74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6781320" y="2055600"/>
              <a:ext cx="685800" cy="75960"/>
              <a:chOff x="6781320" y="2055600"/>
              <a:chExt cx="685800" cy="75960"/>
            </a:xfrm>
          </p:grpSpPr>
          <p:sp>
            <p:nvSpPr>
              <p:cNvPr id="305" name=""/>
              <p:cNvSpPr/>
              <p:nvPr/>
            </p:nvSpPr>
            <p:spPr>
              <a:xfrm flipH="1">
                <a:off x="6781320" y="2055600"/>
                <a:ext cx="685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6781320" y="2055600"/>
                <a:ext cx="128520" cy="75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1920240" y="2590920"/>
            <a:ext cx="5033520" cy="2464200"/>
            <a:chOff x="1920240" y="2590920"/>
            <a:chExt cx="5033520" cy="2464200"/>
          </a:xfrm>
        </p:grpSpPr>
        <p:sp>
          <p:nvSpPr>
            <p:cNvPr id="308" name=""/>
            <p:cNvSpPr/>
            <p:nvPr/>
          </p:nvSpPr>
          <p:spPr>
            <a:xfrm>
              <a:off x="4252320" y="3637080"/>
              <a:ext cx="308880" cy="398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20240" y="3619440"/>
              <a:ext cx="308880" cy="398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77640" y="3619440"/>
              <a:ext cx="308880" cy="398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93880" y="3637080"/>
              <a:ext cx="308880" cy="398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13920" y="3075120"/>
              <a:ext cx="1086840" cy="139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87160" y="3149640"/>
              <a:ext cx="1086840" cy="139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87040" y="3149640"/>
              <a:ext cx="1087200" cy="139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10240" y="3048120"/>
              <a:ext cx="1258200" cy="139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109240" y="3339360"/>
              <a:ext cx="108684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87160" y="3283920"/>
              <a:ext cx="1086840" cy="120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4487040" y="3436560"/>
              <a:ext cx="108720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628600" y="3149640"/>
              <a:ext cx="1177560" cy="132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86" y="6515"/>
                  </a:moveTo>
                  <a:arcTo wR="10800" hR="10800" stAng="-9397457" swAng="8394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886" y="6515"/>
                  </a:moveTo>
                  <a:arcTo wR="10800" hR="10800" stAng="-9397457" swAng="8394058"/>
                </a:path>
              </a:pathLst>
            </a:custGeom>
            <a:noFill/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22880" y="259092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65880" y="259092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00600" y="2590920"/>
              <a:ext cx="47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07920" y="4487760"/>
              <a:ext cx="43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65400" y="4545000"/>
              <a:ext cx="43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33240" y="4527720"/>
              <a:ext cx="43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44880" y="3581280"/>
              <a:ext cx="308880" cy="398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75560" y="259092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19920" y="4495680"/>
              <a:ext cx="51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30360" y="5181480"/>
            <a:ext cx="3027240" cy="1219320"/>
            <a:chOff x="630360" y="5181480"/>
            <a:chExt cx="3027240" cy="1219320"/>
          </a:xfrm>
        </p:grpSpPr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685800" y="5181480"/>
                  <a:ext cx="2666880" cy="118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r>
                            <m:t xml:space="preserve">β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t xml:space="preserve">i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+</m:t>
                              </m:r>
                            </m:sub>
                          </m:sSub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−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31" name=""/>
            <p:cNvSpPr/>
            <p:nvPr/>
          </p:nvSpPr>
          <p:spPr>
            <a:xfrm>
              <a:off x="630360" y="5203800"/>
              <a:ext cx="3027240" cy="1197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105520" y="5181480"/>
            <a:ext cx="3429000" cy="1219320"/>
            <a:chOff x="5105520" y="5181480"/>
            <a:chExt cx="3429000" cy="1219320"/>
          </a:xfrm>
        </p:grpSpPr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5334120" y="5257800"/>
                  <a:ext cx="3009960" cy="104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t xml:space="preserve">i</m:t>
                          </m:r>
                          <m:r>
                            <m:t xml:space="preserve">)</m:t>
                          </m:r>
                          <m:r>
                            <m:t xml:space="preserve">β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const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4" name=""/>
            <p:cNvSpPr/>
            <p:nvPr/>
          </p:nvSpPr>
          <p:spPr>
            <a:xfrm>
              <a:off x="5105520" y="5181480"/>
              <a:ext cx="3429000" cy="1219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886200" y="54864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operative Re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143000"/>
            <a:ext cx="7543800" cy="1371600"/>
            <a:chOff x="762120" y="1143000"/>
            <a:chExt cx="7543800" cy="1371600"/>
          </a:xfrm>
        </p:grpSpPr>
        <p:grpSp>
          <p:nvGrpSpPr>
            <p:cNvPr id="338" name=""/>
            <p:cNvGrpSpPr/>
            <p:nvPr/>
          </p:nvGrpSpPr>
          <p:grpSpPr>
            <a:xfrm>
              <a:off x="7696440" y="1523880"/>
              <a:ext cx="609480" cy="609840"/>
              <a:chOff x="7696440" y="1523880"/>
              <a:chExt cx="609480" cy="609840"/>
            </a:xfrm>
          </p:grpSpPr>
          <p:sp>
            <p:nvSpPr>
              <p:cNvPr id="339" name=""/>
              <p:cNvSpPr/>
              <p:nvPr/>
            </p:nvSpPr>
            <p:spPr>
              <a:xfrm>
                <a:off x="7696440" y="1523880"/>
                <a:ext cx="304920" cy="3049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001360" y="1523880"/>
                <a:ext cx="304560" cy="3049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696440" y="1828800"/>
                <a:ext cx="304920" cy="3049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001360" y="1828800"/>
                <a:ext cx="304560" cy="3049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762120" y="1523880"/>
              <a:ext cx="609840" cy="609840"/>
              <a:chOff x="762120" y="1523880"/>
              <a:chExt cx="609840" cy="609840"/>
            </a:xfrm>
          </p:grpSpPr>
          <p:sp>
            <p:nvSpPr>
              <p:cNvPr id="344" name=""/>
              <p:cNvSpPr/>
              <p:nvPr/>
            </p:nvSpPr>
            <p:spPr>
              <a:xfrm>
                <a:off x="762120" y="1523880"/>
                <a:ext cx="304920" cy="304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067040" y="1523880"/>
                <a:ext cx="304920" cy="304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62120" y="1828800"/>
                <a:ext cx="304920" cy="304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067040" y="1828800"/>
                <a:ext cx="304920" cy="304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2514960" y="1523880"/>
              <a:ext cx="609480" cy="609840"/>
              <a:chOff x="2514960" y="1523880"/>
              <a:chExt cx="609480" cy="609840"/>
            </a:xfrm>
          </p:grpSpPr>
          <p:sp>
            <p:nvSpPr>
              <p:cNvPr id="349" name=""/>
              <p:cNvSpPr/>
              <p:nvPr/>
            </p:nvSpPr>
            <p:spPr>
              <a:xfrm>
                <a:off x="2819520" y="1523880"/>
                <a:ext cx="304920" cy="304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514960" y="1828800"/>
                <a:ext cx="304560" cy="304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819520" y="1828800"/>
                <a:ext cx="304920" cy="304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514960" y="1523880"/>
                <a:ext cx="304560" cy="3049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600200" y="1752480"/>
              <a:ext cx="686160" cy="227160"/>
              <a:chOff x="1600200" y="1752480"/>
              <a:chExt cx="686160" cy="22716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1600560" y="1752480"/>
                <a:ext cx="685800" cy="74520"/>
                <a:chOff x="1600560" y="1752480"/>
                <a:chExt cx="685800" cy="745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1600560" y="182700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157840" y="1752480"/>
                  <a:ext cx="128520" cy="74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1600200" y="1903680"/>
                <a:ext cx="685800" cy="75960"/>
                <a:chOff x="1600200" y="1903680"/>
                <a:chExt cx="685800" cy="75960"/>
              </a:xfrm>
            </p:grpSpPr>
            <p:sp>
              <p:nvSpPr>
                <p:cNvPr id="358" name=""/>
                <p:cNvSpPr/>
                <p:nvPr/>
              </p:nvSpPr>
              <p:spPr>
                <a:xfrm flipH="1">
                  <a:off x="1600200" y="190368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>
                  <a:off x="1600200" y="1903680"/>
                  <a:ext cx="128520" cy="759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0" name=""/>
            <p:cNvGrpSpPr/>
            <p:nvPr/>
          </p:nvGrpSpPr>
          <p:grpSpPr>
            <a:xfrm>
              <a:off x="4191120" y="1143000"/>
              <a:ext cx="609840" cy="1371600"/>
              <a:chOff x="4191120" y="1143000"/>
              <a:chExt cx="609840" cy="1371600"/>
            </a:xfrm>
          </p:grpSpPr>
          <p:sp>
            <p:nvSpPr>
              <p:cNvPr id="361" name=""/>
              <p:cNvSpPr/>
              <p:nvPr/>
            </p:nvSpPr>
            <p:spPr>
              <a:xfrm>
                <a:off x="4191120" y="1447560"/>
                <a:ext cx="304920" cy="304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496040" y="1447560"/>
                <a:ext cx="304920" cy="304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191120" y="1143000"/>
                <a:ext cx="304920" cy="304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496040" y="1143000"/>
                <a:ext cx="304920" cy="304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191120" y="2209680"/>
                <a:ext cx="304920" cy="304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496040" y="1904760"/>
                <a:ext cx="304920" cy="304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191120" y="1904760"/>
                <a:ext cx="304920" cy="3049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96040" y="2209680"/>
                <a:ext cx="304920" cy="3049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3276360" y="1752480"/>
              <a:ext cx="686160" cy="227160"/>
              <a:chOff x="3276360" y="1752480"/>
              <a:chExt cx="686160" cy="22716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3276720" y="1752480"/>
                <a:ext cx="685800" cy="74520"/>
                <a:chOff x="3276720" y="1752480"/>
                <a:chExt cx="685800" cy="745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3276720" y="182700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834000" y="1752480"/>
                  <a:ext cx="128520" cy="74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3276360" y="1903680"/>
                <a:ext cx="685800" cy="75960"/>
                <a:chOff x="3276360" y="1903680"/>
                <a:chExt cx="685800" cy="75960"/>
              </a:xfrm>
            </p:grpSpPr>
            <p:sp>
              <p:nvSpPr>
                <p:cNvPr id="374" name=""/>
                <p:cNvSpPr/>
                <p:nvPr/>
              </p:nvSpPr>
              <p:spPr>
                <a:xfrm flipH="1">
                  <a:off x="3276360" y="190368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 flipV="1">
                  <a:off x="3276360" y="1903680"/>
                  <a:ext cx="128520" cy="759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5943960" y="1523880"/>
              <a:ext cx="609120" cy="609480"/>
              <a:chOff x="5943960" y="1523880"/>
              <a:chExt cx="609120" cy="609480"/>
            </a:xfrm>
          </p:grpSpPr>
          <p:sp>
            <p:nvSpPr>
              <p:cNvPr id="377" name=""/>
              <p:cNvSpPr/>
              <p:nvPr/>
            </p:nvSpPr>
            <p:spPr>
              <a:xfrm>
                <a:off x="6248520" y="1828800"/>
                <a:ext cx="304560" cy="304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43960" y="1523880"/>
                <a:ext cx="304560" cy="3049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48520" y="1523880"/>
                <a:ext cx="304560" cy="3049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943960" y="1828800"/>
                <a:ext cx="304560" cy="304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5029200" y="1752480"/>
              <a:ext cx="686160" cy="227160"/>
              <a:chOff x="5029200" y="1752480"/>
              <a:chExt cx="686160" cy="22716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5029560" y="1752480"/>
                <a:ext cx="685800" cy="74520"/>
                <a:chOff x="5029560" y="1752480"/>
                <a:chExt cx="685800" cy="745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029560" y="182700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586840" y="1752480"/>
                  <a:ext cx="128520" cy="74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029200" y="1903680"/>
                <a:ext cx="685800" cy="75960"/>
                <a:chOff x="5029200" y="1903680"/>
                <a:chExt cx="685800" cy="75960"/>
              </a:xfrm>
            </p:grpSpPr>
            <p:sp>
              <p:nvSpPr>
                <p:cNvPr id="386" name=""/>
                <p:cNvSpPr/>
                <p:nvPr/>
              </p:nvSpPr>
              <p:spPr>
                <a:xfrm flipH="1">
                  <a:off x="5029200" y="190368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 flipV="1">
                  <a:off x="5029200" y="1903680"/>
                  <a:ext cx="128520" cy="759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8" name=""/>
            <p:cNvGrpSpPr/>
            <p:nvPr/>
          </p:nvGrpSpPr>
          <p:grpSpPr>
            <a:xfrm>
              <a:off x="6781680" y="1752480"/>
              <a:ext cx="686160" cy="227160"/>
              <a:chOff x="6781680" y="1752480"/>
              <a:chExt cx="686160" cy="22716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6782040" y="1752480"/>
                <a:ext cx="685800" cy="74520"/>
                <a:chOff x="6782040" y="1752480"/>
                <a:chExt cx="685800" cy="7452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6782040" y="182700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339320" y="1752480"/>
                  <a:ext cx="128520" cy="74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781680" y="1903680"/>
                <a:ext cx="685800" cy="75960"/>
                <a:chOff x="6781680" y="1903680"/>
                <a:chExt cx="685800" cy="75960"/>
              </a:xfrm>
            </p:grpSpPr>
            <p:sp>
              <p:nvSpPr>
                <p:cNvPr id="393" name=""/>
                <p:cNvSpPr/>
                <p:nvPr/>
              </p:nvSpPr>
              <p:spPr>
                <a:xfrm flipH="1">
                  <a:off x="6781680" y="190368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 flipV="1">
                  <a:off x="6781680" y="1903680"/>
                  <a:ext cx="128520" cy="759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95" name=""/>
          <p:cNvGrpSpPr/>
          <p:nvPr/>
        </p:nvGrpSpPr>
        <p:grpSpPr>
          <a:xfrm>
            <a:off x="1920240" y="2438280"/>
            <a:ext cx="5033520" cy="2464200"/>
            <a:chOff x="1920240" y="2438280"/>
            <a:chExt cx="5033520" cy="2464200"/>
          </a:xfrm>
        </p:grpSpPr>
        <p:sp>
          <p:nvSpPr>
            <p:cNvPr id="396" name=""/>
            <p:cNvSpPr/>
            <p:nvPr/>
          </p:nvSpPr>
          <p:spPr>
            <a:xfrm>
              <a:off x="4252320" y="3484440"/>
              <a:ext cx="308880" cy="398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20240" y="3466800"/>
              <a:ext cx="308880" cy="398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77640" y="3466800"/>
              <a:ext cx="308880" cy="398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93880" y="3484440"/>
              <a:ext cx="308880" cy="398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13920" y="2922480"/>
              <a:ext cx="1086840" cy="139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87160" y="2997000"/>
              <a:ext cx="1086840" cy="139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87040" y="2997000"/>
              <a:ext cx="1087200" cy="139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10240" y="2895480"/>
              <a:ext cx="1258200" cy="139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109240" y="3186720"/>
              <a:ext cx="108684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287160" y="3131280"/>
              <a:ext cx="1086840" cy="120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4487040" y="3283920"/>
              <a:ext cx="108720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5628600" y="2997000"/>
              <a:ext cx="1177560" cy="132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86" y="6515"/>
                  </a:moveTo>
                  <a:arcTo wR="10800" hR="10800" stAng="-9397457" swAng="8394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886" y="6515"/>
                  </a:moveTo>
                  <a:arcTo wR="10800" hR="10800" stAng="-9397457" swAng="8394058"/>
                </a:path>
              </a:pathLst>
            </a:custGeom>
            <a:noFill/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22880" y="243828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65880" y="243828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00600" y="2438280"/>
              <a:ext cx="47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07920" y="4335120"/>
              <a:ext cx="43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65400" y="4392360"/>
              <a:ext cx="43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433240" y="4375080"/>
              <a:ext cx="43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44880" y="3428640"/>
              <a:ext cx="308880" cy="398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75560" y="243828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19920" y="4343040"/>
              <a:ext cx="51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2133720" y="5029200"/>
            <a:ext cx="4724280" cy="1295280"/>
            <a:chOff x="2133720" y="5029200"/>
            <a:chExt cx="4724280" cy="1295280"/>
          </a:xfrm>
        </p:grpSpPr>
        <mc:AlternateContent>
          <mc:Choice xmlns:a14="http://schemas.microsoft.com/office/drawing/2010/main" Requires="a14">
            <p:sp>
              <p:nvSpPr>
                <p:cNvPr id="418" name=""/>
                <p:cNvSpPr txBox="1"/>
                <p:nvPr/>
              </p:nvSpPr>
              <p:spPr>
                <a:xfrm>
                  <a:off x="2417760" y="5181480"/>
                  <a:ext cx="4219560" cy="98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t xml:space="preserve">i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increases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with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9" name=""/>
            <p:cNvSpPr/>
            <p:nvPr/>
          </p:nvSpPr>
          <p:spPr>
            <a:xfrm>
              <a:off x="2133720" y="5029200"/>
              <a:ext cx="4724280" cy="12952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ghly Cooperative Bin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3040" y="1600200"/>
            <a:ext cx="704880" cy="825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977400" y="1925640"/>
            <a:ext cx="808560" cy="186840"/>
            <a:chOff x="977400" y="1925640"/>
            <a:chExt cx="808560" cy="186840"/>
          </a:xfrm>
        </p:grpSpPr>
        <p:grpSp>
          <p:nvGrpSpPr>
            <p:cNvPr id="423" name=""/>
            <p:cNvGrpSpPr/>
            <p:nvPr/>
          </p:nvGrpSpPr>
          <p:grpSpPr>
            <a:xfrm>
              <a:off x="977760" y="1925640"/>
              <a:ext cx="808200" cy="62280"/>
              <a:chOff x="977760" y="1925640"/>
              <a:chExt cx="808200" cy="62280"/>
            </a:xfrm>
          </p:grpSpPr>
          <p:sp>
            <p:nvSpPr>
              <p:cNvPr id="424" name=""/>
              <p:cNvSpPr/>
              <p:nvPr/>
            </p:nvSpPr>
            <p:spPr>
              <a:xfrm>
                <a:off x="977760" y="1987920"/>
                <a:ext cx="808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497240" y="1925640"/>
                <a:ext cx="288720" cy="62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977400" y="2050560"/>
              <a:ext cx="808200" cy="61920"/>
              <a:chOff x="977400" y="2050560"/>
              <a:chExt cx="808200" cy="61920"/>
            </a:xfrm>
          </p:grpSpPr>
          <p:sp>
            <p:nvSpPr>
              <p:cNvPr id="427" name=""/>
              <p:cNvSpPr/>
              <p:nvPr/>
            </p:nvSpPr>
            <p:spPr>
              <a:xfrm flipH="1">
                <a:off x="977400" y="2050560"/>
                <a:ext cx="808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 flipV="1">
                <a:off x="977400" y="2050560"/>
                <a:ext cx="288720" cy="61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9" name=""/>
          <p:cNvSpPr/>
          <p:nvPr/>
        </p:nvSpPr>
        <p:spPr>
          <a:xfrm>
            <a:off x="1853280" y="1600200"/>
            <a:ext cx="857520" cy="825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814120" y="1925640"/>
            <a:ext cx="808560" cy="186840"/>
            <a:chOff x="2814120" y="1925640"/>
            <a:chExt cx="808560" cy="186840"/>
          </a:xfrm>
        </p:grpSpPr>
        <p:grpSp>
          <p:nvGrpSpPr>
            <p:cNvPr id="431" name=""/>
            <p:cNvGrpSpPr/>
            <p:nvPr/>
          </p:nvGrpSpPr>
          <p:grpSpPr>
            <a:xfrm>
              <a:off x="2814480" y="1925640"/>
              <a:ext cx="808200" cy="62280"/>
              <a:chOff x="2814480" y="1925640"/>
              <a:chExt cx="808200" cy="62280"/>
            </a:xfrm>
          </p:grpSpPr>
          <p:sp>
            <p:nvSpPr>
              <p:cNvPr id="432" name=""/>
              <p:cNvSpPr/>
              <p:nvPr/>
            </p:nvSpPr>
            <p:spPr>
              <a:xfrm>
                <a:off x="2814480" y="1987920"/>
                <a:ext cx="808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333960" y="1925640"/>
                <a:ext cx="288720" cy="62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2814120" y="2050560"/>
              <a:ext cx="808200" cy="61920"/>
              <a:chOff x="2814120" y="2050560"/>
              <a:chExt cx="808200" cy="61920"/>
            </a:xfrm>
          </p:grpSpPr>
          <p:sp>
            <p:nvSpPr>
              <p:cNvPr id="435" name=""/>
              <p:cNvSpPr/>
              <p:nvPr/>
            </p:nvSpPr>
            <p:spPr>
              <a:xfrm flipH="1">
                <a:off x="2814120" y="2050560"/>
                <a:ext cx="808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 flipV="1">
                <a:off x="2814120" y="2050560"/>
                <a:ext cx="288720" cy="61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7" name=""/>
          <p:cNvSpPr/>
          <p:nvPr/>
        </p:nvSpPr>
        <p:spPr>
          <a:xfrm>
            <a:off x="3621600" y="1752480"/>
            <a:ext cx="80568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••••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536720" y="1925640"/>
            <a:ext cx="808560" cy="186840"/>
            <a:chOff x="4536720" y="1925640"/>
            <a:chExt cx="808560" cy="186840"/>
          </a:xfrm>
        </p:grpSpPr>
        <p:grpSp>
          <p:nvGrpSpPr>
            <p:cNvPr id="439" name=""/>
            <p:cNvGrpSpPr/>
            <p:nvPr/>
          </p:nvGrpSpPr>
          <p:grpSpPr>
            <a:xfrm>
              <a:off x="4537080" y="1925640"/>
              <a:ext cx="808200" cy="62280"/>
              <a:chOff x="4537080" y="1925640"/>
              <a:chExt cx="808200" cy="62280"/>
            </a:xfrm>
          </p:grpSpPr>
          <p:sp>
            <p:nvSpPr>
              <p:cNvPr id="440" name=""/>
              <p:cNvSpPr/>
              <p:nvPr/>
            </p:nvSpPr>
            <p:spPr>
              <a:xfrm>
                <a:off x="4537080" y="1987920"/>
                <a:ext cx="808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056560" y="1925640"/>
                <a:ext cx="288720" cy="62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536720" y="2050560"/>
              <a:ext cx="808200" cy="61920"/>
              <a:chOff x="4536720" y="2050560"/>
              <a:chExt cx="808200" cy="619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4536720" y="2050560"/>
                <a:ext cx="808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 flipV="1">
                <a:off x="4536720" y="2050560"/>
                <a:ext cx="288720" cy="61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"/>
          <p:cNvSpPr/>
          <p:nvPr/>
        </p:nvSpPr>
        <p:spPr>
          <a:xfrm>
            <a:off x="5447520" y="1600200"/>
            <a:ext cx="1328400" cy="926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ES</a:t>
            </a:r>
            <a:r>
              <a:rPr b="0" i="1" lang="en-US" sz="4800" spc="-1" strike="noStrike" baseline="-25000">
                <a:solidFill>
                  <a:srgbClr val="ffffff"/>
                </a:solidFill>
                <a:latin typeface="Times New Roman"/>
              </a:rPr>
              <a:t>n-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6781320" y="1905120"/>
            <a:ext cx="808560" cy="186840"/>
            <a:chOff x="6781320" y="1905120"/>
            <a:chExt cx="808560" cy="186840"/>
          </a:xfrm>
        </p:grpSpPr>
        <p:grpSp>
          <p:nvGrpSpPr>
            <p:cNvPr id="447" name=""/>
            <p:cNvGrpSpPr/>
            <p:nvPr/>
          </p:nvGrpSpPr>
          <p:grpSpPr>
            <a:xfrm>
              <a:off x="6781680" y="1905120"/>
              <a:ext cx="808200" cy="62280"/>
              <a:chOff x="6781680" y="1905120"/>
              <a:chExt cx="808200" cy="62280"/>
            </a:xfrm>
          </p:grpSpPr>
          <p:sp>
            <p:nvSpPr>
              <p:cNvPr id="448" name=""/>
              <p:cNvSpPr/>
              <p:nvPr/>
            </p:nvSpPr>
            <p:spPr>
              <a:xfrm>
                <a:off x="6781680" y="1967400"/>
                <a:ext cx="808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301160" y="1905120"/>
                <a:ext cx="288720" cy="62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6781320" y="2030040"/>
              <a:ext cx="808200" cy="61920"/>
              <a:chOff x="6781320" y="2030040"/>
              <a:chExt cx="808200" cy="61920"/>
            </a:xfrm>
          </p:grpSpPr>
          <p:sp>
            <p:nvSpPr>
              <p:cNvPr id="451" name=""/>
              <p:cNvSpPr/>
              <p:nvPr/>
            </p:nvSpPr>
            <p:spPr>
              <a:xfrm flipH="1">
                <a:off x="6781320" y="2030040"/>
                <a:ext cx="808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>
                <a:off x="6781320" y="2030040"/>
                <a:ext cx="288720" cy="61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3" name=""/>
          <p:cNvSpPr/>
          <p:nvPr/>
        </p:nvSpPr>
        <p:spPr>
          <a:xfrm>
            <a:off x="7522920" y="1600200"/>
            <a:ext cx="1034280" cy="926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ES</a:t>
            </a:r>
            <a:r>
              <a:rPr b="0" i="1" lang="en-US" sz="4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752480" y="2666880"/>
                <a:ext cx="9907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505320" y="2590920"/>
                <a:ext cx="1217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S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5486400" y="2646360"/>
                <a:ext cx="12193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S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533520" y="2590920"/>
            <a:ext cx="457200" cy="581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7315200" y="2643120"/>
                <a:ext cx="12952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S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441360" y="4114800"/>
                <a:ext cx="346248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ν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S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S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60" name=""/>
          <p:cNvGrpSpPr/>
          <p:nvPr/>
        </p:nvGrpSpPr>
        <p:grpSpPr>
          <a:xfrm>
            <a:off x="4191120" y="3581280"/>
            <a:ext cx="4402080" cy="2890800"/>
            <a:chOff x="4191120" y="3581280"/>
            <a:chExt cx="4402080" cy="2890800"/>
          </a:xfrm>
        </p:grpSpPr>
        <p:pic>
          <p:nvPicPr>
            <p:cNvPr id="461" name="" descr=""/>
            <p:cNvPicPr/>
            <p:nvPr/>
          </p:nvPicPr>
          <p:blipFill>
            <a:blip r:embed="rId1"/>
            <a:stretch/>
          </p:blipFill>
          <p:spPr>
            <a:xfrm>
              <a:off x="4191120" y="3581280"/>
              <a:ext cx="4402080" cy="2890800"/>
            </a:xfrm>
            <a:prstGeom prst="rect">
              <a:avLst/>
            </a:prstGeom>
            <a:ln w="38160">
              <a:solidFill>
                <a:srgbClr val="ff9900"/>
              </a:solidFill>
              <a:miter/>
            </a:ln>
          </p:spPr>
        </p:pic>
        <p:sp>
          <p:nvSpPr>
            <p:cNvPr id="462" name=""/>
            <p:cNvSpPr/>
            <p:nvPr/>
          </p:nvSpPr>
          <p:spPr>
            <a:xfrm>
              <a:off x="5943960" y="3962160"/>
              <a:ext cx="2286000" cy="1841760"/>
            </a:xfrm>
            <a:custGeom>
              <a:avLst/>
              <a:gdLst/>
              <a:ahLst/>
              <a:rect l="l" t="t" r="r" b="b"/>
              <a:pathLst>
                <a:path w="1440" h="1112">
                  <a:moveTo>
                    <a:pt x="0" y="1104"/>
                  </a:moveTo>
                  <a:cubicBezTo>
                    <a:pt x="124" y="1108"/>
                    <a:pt x="248" y="1112"/>
                    <a:pt x="384" y="960"/>
                  </a:cubicBezTo>
                  <a:cubicBezTo>
                    <a:pt x="520" y="808"/>
                    <a:pt x="640" y="352"/>
                    <a:pt x="816" y="192"/>
                  </a:cubicBezTo>
                  <a:cubicBezTo>
                    <a:pt x="992" y="32"/>
                    <a:pt x="1216" y="16"/>
                    <a:pt x="144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2310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630840" y="52578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21000" y="5105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’s Coeffici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86868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hematical Expression of Hill’s Coeffici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2666880" y="2971800"/>
                <a:ext cx="365760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losteric Cooperativity (KNF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838080" y="1447920"/>
            <a:ext cx="7543800" cy="609480"/>
            <a:chOff x="838080" y="1447920"/>
            <a:chExt cx="7543800" cy="609480"/>
          </a:xfrm>
        </p:grpSpPr>
        <p:sp>
          <p:nvSpPr>
            <p:cNvPr id="472" name=""/>
            <p:cNvSpPr/>
            <p:nvPr/>
          </p:nvSpPr>
          <p:spPr>
            <a:xfrm>
              <a:off x="7772400" y="1447920"/>
              <a:ext cx="304920" cy="30456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077320" y="1447920"/>
              <a:ext cx="304560" cy="30456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772400" y="1752480"/>
              <a:ext cx="304920" cy="30492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077320" y="1752480"/>
              <a:ext cx="304560" cy="30492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38080" y="1447920"/>
              <a:ext cx="3049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43000" y="1447920"/>
              <a:ext cx="3049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1752480"/>
              <a:ext cx="3049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43000" y="1752480"/>
              <a:ext cx="3049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895480" y="1447920"/>
              <a:ext cx="3049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90920" y="1752480"/>
              <a:ext cx="30456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895480" y="1752480"/>
              <a:ext cx="3049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590920" y="1447920"/>
              <a:ext cx="304560" cy="304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1676520" y="1676520"/>
              <a:ext cx="685800" cy="74520"/>
              <a:chOff x="1676520" y="1676520"/>
              <a:chExt cx="685800" cy="74520"/>
            </a:xfrm>
          </p:grpSpPr>
          <p:sp>
            <p:nvSpPr>
              <p:cNvPr id="485" name=""/>
              <p:cNvSpPr/>
              <p:nvPr/>
            </p:nvSpPr>
            <p:spPr>
              <a:xfrm>
                <a:off x="1676520" y="1751040"/>
                <a:ext cx="685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233800" y="1676520"/>
                <a:ext cx="128520" cy="74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1676160" y="1827000"/>
              <a:ext cx="685800" cy="75960"/>
              <a:chOff x="1676160" y="1827000"/>
              <a:chExt cx="685800" cy="75960"/>
            </a:xfrm>
          </p:grpSpPr>
          <p:sp>
            <p:nvSpPr>
              <p:cNvPr id="488" name=""/>
              <p:cNvSpPr/>
              <p:nvPr/>
            </p:nvSpPr>
            <p:spPr>
              <a:xfrm flipH="1">
                <a:off x="1676160" y="1827000"/>
                <a:ext cx="685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 flipV="1">
                <a:off x="1676160" y="1827000"/>
                <a:ext cx="128520" cy="75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4267080" y="1752480"/>
              <a:ext cx="3049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72000" y="1752480"/>
              <a:ext cx="3049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267080" y="1447920"/>
              <a:ext cx="304920" cy="30456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72000" y="1447920"/>
              <a:ext cx="304920" cy="304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3352680" y="1676520"/>
              <a:ext cx="685800" cy="74520"/>
              <a:chOff x="3352680" y="1676520"/>
              <a:chExt cx="685800" cy="74520"/>
            </a:xfrm>
          </p:grpSpPr>
          <p:sp>
            <p:nvSpPr>
              <p:cNvPr id="495" name=""/>
              <p:cNvSpPr/>
              <p:nvPr/>
            </p:nvSpPr>
            <p:spPr>
              <a:xfrm>
                <a:off x="3352680" y="1751040"/>
                <a:ext cx="685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909960" y="1676520"/>
                <a:ext cx="128520" cy="74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3352320" y="1827000"/>
              <a:ext cx="685800" cy="75960"/>
              <a:chOff x="3352320" y="1827000"/>
              <a:chExt cx="685800" cy="7596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3352320" y="1827000"/>
                <a:ext cx="685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flipV="1">
                <a:off x="3352320" y="1827000"/>
                <a:ext cx="128520" cy="75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6324480" y="1752480"/>
              <a:ext cx="3049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19920" y="1447920"/>
              <a:ext cx="304560" cy="30456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324480" y="1447920"/>
              <a:ext cx="304920" cy="30456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19920" y="1752480"/>
              <a:ext cx="304560" cy="30492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5105520" y="1676520"/>
              <a:ext cx="685800" cy="74520"/>
              <a:chOff x="5105520" y="1676520"/>
              <a:chExt cx="685800" cy="74520"/>
            </a:xfrm>
          </p:grpSpPr>
          <p:sp>
            <p:nvSpPr>
              <p:cNvPr id="505" name=""/>
              <p:cNvSpPr/>
              <p:nvPr/>
            </p:nvSpPr>
            <p:spPr>
              <a:xfrm>
                <a:off x="5105520" y="1751040"/>
                <a:ext cx="685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662800" y="1676520"/>
                <a:ext cx="128520" cy="74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5105160" y="1827000"/>
              <a:ext cx="685800" cy="75960"/>
              <a:chOff x="5105160" y="1827000"/>
              <a:chExt cx="685800" cy="75960"/>
            </a:xfrm>
          </p:grpSpPr>
          <p:sp>
            <p:nvSpPr>
              <p:cNvPr id="508" name=""/>
              <p:cNvSpPr/>
              <p:nvPr/>
            </p:nvSpPr>
            <p:spPr>
              <a:xfrm flipH="1">
                <a:off x="5105160" y="1827000"/>
                <a:ext cx="685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 flipV="1">
                <a:off x="5105160" y="1827000"/>
                <a:ext cx="128520" cy="75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6858000" y="1676520"/>
              <a:ext cx="685800" cy="74520"/>
              <a:chOff x="6858000" y="1676520"/>
              <a:chExt cx="685800" cy="74520"/>
            </a:xfrm>
          </p:grpSpPr>
          <p:sp>
            <p:nvSpPr>
              <p:cNvPr id="511" name=""/>
              <p:cNvSpPr/>
              <p:nvPr/>
            </p:nvSpPr>
            <p:spPr>
              <a:xfrm>
                <a:off x="6858000" y="1751040"/>
                <a:ext cx="685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415280" y="1676520"/>
                <a:ext cx="128520" cy="74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6857640" y="1827000"/>
              <a:ext cx="685800" cy="75960"/>
              <a:chOff x="6857640" y="1827000"/>
              <a:chExt cx="685800" cy="75960"/>
            </a:xfrm>
          </p:grpSpPr>
          <p:sp>
            <p:nvSpPr>
              <p:cNvPr id="514" name=""/>
              <p:cNvSpPr/>
              <p:nvPr/>
            </p:nvSpPr>
            <p:spPr>
              <a:xfrm flipH="1">
                <a:off x="6857640" y="1827000"/>
                <a:ext cx="685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 flipV="1">
                <a:off x="6857640" y="1827000"/>
                <a:ext cx="128520" cy="75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6" name=""/>
          <p:cNvGrpSpPr/>
          <p:nvPr/>
        </p:nvGrpSpPr>
        <p:grpSpPr>
          <a:xfrm>
            <a:off x="1920240" y="2209680"/>
            <a:ext cx="5033520" cy="2464200"/>
            <a:chOff x="1920240" y="2209680"/>
            <a:chExt cx="5033520" cy="2464200"/>
          </a:xfrm>
        </p:grpSpPr>
        <p:sp>
          <p:nvSpPr>
            <p:cNvPr id="517" name=""/>
            <p:cNvSpPr/>
            <p:nvPr/>
          </p:nvSpPr>
          <p:spPr>
            <a:xfrm>
              <a:off x="4252320" y="3255840"/>
              <a:ext cx="308880" cy="398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920240" y="3238200"/>
              <a:ext cx="308880" cy="398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077640" y="3238200"/>
              <a:ext cx="308880" cy="398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93880" y="3255840"/>
              <a:ext cx="308880" cy="398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113920" y="2693880"/>
              <a:ext cx="1086840" cy="139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287160" y="2768400"/>
              <a:ext cx="1086840" cy="139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87040" y="2768400"/>
              <a:ext cx="1087200" cy="139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610240" y="2666880"/>
              <a:ext cx="1258200" cy="139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2109240" y="2958120"/>
              <a:ext cx="108684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3287160" y="2902680"/>
              <a:ext cx="1086840" cy="120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4487040" y="3055320"/>
              <a:ext cx="108720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5628600" y="2768400"/>
              <a:ext cx="1177560" cy="132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86" y="6515"/>
                  </a:moveTo>
                  <a:arcTo wR="10800" hR="10800" stAng="-9397457" swAng="8394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886" y="6515"/>
                  </a:moveTo>
                  <a:arcTo wR="10800" hR="10800" stAng="-9397457" swAng="8394058"/>
                </a:path>
              </a:pathLst>
            </a:custGeom>
            <a:noFill/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22880" y="220968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65880" y="220968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0600" y="2209680"/>
              <a:ext cx="47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607920" y="4106520"/>
              <a:ext cx="43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65400" y="4163760"/>
              <a:ext cx="43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33240" y="4146480"/>
              <a:ext cx="43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44880" y="3200040"/>
              <a:ext cx="308880" cy="398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75560" y="220968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19920" y="4114440"/>
              <a:ext cx="51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1600200" y="4876920"/>
                <a:ext cx="548640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ση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ση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ση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9" name=""/>
          <p:cNvSpPr/>
          <p:nvPr/>
        </p:nvSpPr>
        <p:spPr>
          <a:xfrm>
            <a:off x="1600200" y="4876920"/>
            <a:ext cx="5486400" cy="1371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676520" y="129528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52680" y="1219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781680" y="1219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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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106960" y="121932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losteric Cooperativity (MWC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838080" y="1828800"/>
            <a:ext cx="7010640" cy="1143000"/>
            <a:chOff x="838080" y="1828800"/>
            <a:chExt cx="7010640" cy="1143000"/>
          </a:xfrm>
        </p:grpSpPr>
        <p:grpSp>
          <p:nvGrpSpPr>
            <p:cNvPr id="546" name=""/>
            <p:cNvGrpSpPr/>
            <p:nvPr/>
          </p:nvGrpSpPr>
          <p:grpSpPr>
            <a:xfrm>
              <a:off x="1523880" y="2286000"/>
              <a:ext cx="685800" cy="74880"/>
              <a:chOff x="1523880" y="2286000"/>
              <a:chExt cx="685800" cy="74880"/>
            </a:xfrm>
          </p:grpSpPr>
          <p:sp>
            <p:nvSpPr>
              <p:cNvPr id="547" name=""/>
              <p:cNvSpPr/>
              <p:nvPr/>
            </p:nvSpPr>
            <p:spPr>
              <a:xfrm>
                <a:off x="1523880" y="2360880"/>
                <a:ext cx="685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081160" y="2286000"/>
                <a:ext cx="128520" cy="74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1523520" y="2437200"/>
              <a:ext cx="685800" cy="75960"/>
              <a:chOff x="1523520" y="2437200"/>
              <a:chExt cx="685800" cy="75960"/>
            </a:xfrm>
          </p:grpSpPr>
          <p:sp>
            <p:nvSpPr>
              <p:cNvPr id="550" name=""/>
              <p:cNvSpPr/>
              <p:nvPr/>
            </p:nvSpPr>
            <p:spPr>
              <a:xfrm flipH="1">
                <a:off x="1523520" y="2437200"/>
                <a:ext cx="685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 flipV="1">
                <a:off x="1523520" y="2437200"/>
                <a:ext cx="128520" cy="75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3124080" y="2286000"/>
              <a:ext cx="685800" cy="74880"/>
              <a:chOff x="3124080" y="2286000"/>
              <a:chExt cx="685800" cy="74880"/>
            </a:xfrm>
          </p:grpSpPr>
          <p:sp>
            <p:nvSpPr>
              <p:cNvPr id="553" name=""/>
              <p:cNvSpPr/>
              <p:nvPr/>
            </p:nvSpPr>
            <p:spPr>
              <a:xfrm>
                <a:off x="3124080" y="2360880"/>
                <a:ext cx="685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681360" y="2286000"/>
                <a:ext cx="128520" cy="74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3123720" y="2437200"/>
              <a:ext cx="685800" cy="75960"/>
              <a:chOff x="3123720" y="2437200"/>
              <a:chExt cx="685800" cy="75960"/>
            </a:xfrm>
          </p:grpSpPr>
          <p:sp>
            <p:nvSpPr>
              <p:cNvPr id="556" name=""/>
              <p:cNvSpPr/>
              <p:nvPr/>
            </p:nvSpPr>
            <p:spPr>
              <a:xfrm flipH="1">
                <a:off x="3123720" y="2437200"/>
                <a:ext cx="685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 flipV="1">
                <a:off x="3123720" y="2437200"/>
                <a:ext cx="128520" cy="75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4800600" y="2286000"/>
              <a:ext cx="685800" cy="74880"/>
              <a:chOff x="4800600" y="2286000"/>
              <a:chExt cx="685800" cy="74880"/>
            </a:xfrm>
          </p:grpSpPr>
          <p:sp>
            <p:nvSpPr>
              <p:cNvPr id="559" name=""/>
              <p:cNvSpPr/>
              <p:nvPr/>
            </p:nvSpPr>
            <p:spPr>
              <a:xfrm>
                <a:off x="4800600" y="2360880"/>
                <a:ext cx="685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357880" y="2286000"/>
                <a:ext cx="128520" cy="74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4800240" y="2437200"/>
              <a:ext cx="685800" cy="75960"/>
              <a:chOff x="4800240" y="2437200"/>
              <a:chExt cx="685800" cy="75960"/>
            </a:xfrm>
          </p:grpSpPr>
          <p:sp>
            <p:nvSpPr>
              <p:cNvPr id="562" name=""/>
              <p:cNvSpPr/>
              <p:nvPr/>
            </p:nvSpPr>
            <p:spPr>
              <a:xfrm flipH="1">
                <a:off x="4800240" y="2437200"/>
                <a:ext cx="685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 flipV="1">
                <a:off x="4800240" y="2437200"/>
                <a:ext cx="128520" cy="75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6477120" y="2286000"/>
              <a:ext cx="685800" cy="74880"/>
              <a:chOff x="6477120" y="2286000"/>
              <a:chExt cx="685800" cy="74880"/>
            </a:xfrm>
          </p:grpSpPr>
          <p:sp>
            <p:nvSpPr>
              <p:cNvPr id="565" name=""/>
              <p:cNvSpPr/>
              <p:nvPr/>
            </p:nvSpPr>
            <p:spPr>
              <a:xfrm>
                <a:off x="6477120" y="2360880"/>
                <a:ext cx="685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034400" y="2286000"/>
                <a:ext cx="128520" cy="74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6476760" y="2437200"/>
              <a:ext cx="685800" cy="75960"/>
              <a:chOff x="6476760" y="2437200"/>
              <a:chExt cx="685800" cy="75960"/>
            </a:xfrm>
          </p:grpSpPr>
          <p:sp>
            <p:nvSpPr>
              <p:cNvPr id="568" name=""/>
              <p:cNvSpPr/>
              <p:nvPr/>
            </p:nvSpPr>
            <p:spPr>
              <a:xfrm flipH="1">
                <a:off x="6476760" y="2437200"/>
                <a:ext cx="685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 flipV="1">
                <a:off x="6476760" y="2437200"/>
                <a:ext cx="128520" cy="75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4114800" y="1828800"/>
              <a:ext cx="457200" cy="1143000"/>
              <a:chOff x="4114800" y="1828800"/>
              <a:chExt cx="457200" cy="1143000"/>
            </a:xfrm>
          </p:grpSpPr>
          <p:sp>
            <p:nvSpPr>
              <p:cNvPr id="571" name=""/>
              <p:cNvSpPr/>
              <p:nvPr/>
            </p:nvSpPr>
            <p:spPr>
              <a:xfrm>
                <a:off x="4114800" y="182880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343400" y="182880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114800" y="205740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343400" y="205740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114800" y="2514600"/>
                <a:ext cx="228600" cy="22860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343400" y="2514600"/>
                <a:ext cx="228600" cy="22860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114800" y="274320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343400" y="274320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2438280" y="1828800"/>
              <a:ext cx="457200" cy="1143000"/>
              <a:chOff x="2438280" y="1828800"/>
              <a:chExt cx="457200" cy="1143000"/>
            </a:xfrm>
          </p:grpSpPr>
          <p:sp>
            <p:nvSpPr>
              <p:cNvPr id="580" name=""/>
              <p:cNvSpPr/>
              <p:nvPr/>
            </p:nvSpPr>
            <p:spPr>
              <a:xfrm>
                <a:off x="2438280" y="182880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666880" y="182880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438280" y="205740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666880" y="205740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438280" y="2514600"/>
                <a:ext cx="228600" cy="22860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666880" y="251460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438280" y="274320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666880" y="274320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838080" y="1828800"/>
              <a:ext cx="457200" cy="1143000"/>
              <a:chOff x="838080" y="1828800"/>
              <a:chExt cx="457200" cy="1143000"/>
            </a:xfrm>
          </p:grpSpPr>
          <p:sp>
            <p:nvSpPr>
              <p:cNvPr id="589" name=""/>
              <p:cNvSpPr/>
              <p:nvPr/>
            </p:nvSpPr>
            <p:spPr>
              <a:xfrm>
                <a:off x="838080" y="182880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066680" y="182880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38080" y="205740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066680" y="205740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38080" y="251460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066680" y="251460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38080" y="274320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066680" y="274320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5715000" y="1828800"/>
              <a:ext cx="457200" cy="1143000"/>
              <a:chOff x="5715000" y="1828800"/>
              <a:chExt cx="457200" cy="1143000"/>
            </a:xfrm>
          </p:grpSpPr>
          <p:sp>
            <p:nvSpPr>
              <p:cNvPr id="598" name=""/>
              <p:cNvSpPr/>
              <p:nvPr/>
            </p:nvSpPr>
            <p:spPr>
              <a:xfrm>
                <a:off x="5715000" y="182880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943600" y="182880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15000" y="205740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943600" y="205740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15000" y="2514600"/>
                <a:ext cx="228600" cy="22860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943600" y="2514600"/>
                <a:ext cx="228600" cy="22860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715000" y="2743200"/>
                <a:ext cx="228600" cy="22860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943600" y="274320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7391520" y="1828800"/>
              <a:ext cx="457200" cy="1143000"/>
              <a:chOff x="7391520" y="1828800"/>
              <a:chExt cx="457200" cy="1143000"/>
            </a:xfrm>
          </p:grpSpPr>
          <p:sp>
            <p:nvSpPr>
              <p:cNvPr id="607" name=""/>
              <p:cNvSpPr/>
              <p:nvPr/>
            </p:nvSpPr>
            <p:spPr>
              <a:xfrm>
                <a:off x="7391520" y="182880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620120" y="182880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391520" y="205740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620120" y="205740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391520" y="2514600"/>
                <a:ext cx="228600" cy="22860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620120" y="2514600"/>
                <a:ext cx="228600" cy="22860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391520" y="2743200"/>
                <a:ext cx="228600" cy="22860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620120" y="2743200"/>
                <a:ext cx="228600" cy="22860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5" name=""/>
          <p:cNvGrpSpPr/>
          <p:nvPr/>
        </p:nvGrpSpPr>
        <p:grpSpPr>
          <a:xfrm>
            <a:off x="1600200" y="3276720"/>
            <a:ext cx="6095880" cy="693360"/>
            <a:chOff x="1600200" y="3276720"/>
            <a:chExt cx="6095880" cy="693360"/>
          </a:xfrm>
        </p:grpSpPr>
        <p:grpSp>
          <p:nvGrpSpPr>
            <p:cNvPr id="616" name=""/>
            <p:cNvGrpSpPr/>
            <p:nvPr/>
          </p:nvGrpSpPr>
          <p:grpSpPr>
            <a:xfrm>
              <a:off x="1600200" y="3283200"/>
              <a:ext cx="1447560" cy="609480"/>
              <a:chOff x="1600200" y="3283200"/>
              <a:chExt cx="1447560" cy="609480"/>
            </a:xfrm>
          </p:grpSpPr>
          <p:sp>
            <p:nvSpPr>
              <p:cNvPr id="617" name=""/>
              <p:cNvSpPr/>
              <p:nvPr/>
            </p:nvSpPr>
            <p:spPr>
              <a:xfrm>
                <a:off x="1600200" y="366408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18" name=""/>
              <p:cNvGrpSpPr/>
              <p:nvPr/>
            </p:nvGrpSpPr>
            <p:grpSpPr>
              <a:xfrm>
                <a:off x="1980720" y="3664080"/>
                <a:ext cx="686160" cy="226440"/>
                <a:chOff x="1980720" y="3664080"/>
                <a:chExt cx="686160" cy="226440"/>
              </a:xfrm>
            </p:grpSpPr>
            <p:grpSp>
              <p:nvGrpSpPr>
                <p:cNvPr id="619" name=""/>
                <p:cNvGrpSpPr/>
                <p:nvPr/>
              </p:nvGrpSpPr>
              <p:grpSpPr>
                <a:xfrm>
                  <a:off x="1981080" y="3664080"/>
                  <a:ext cx="685800" cy="74520"/>
                  <a:chOff x="1981080" y="3664080"/>
                  <a:chExt cx="685800" cy="74520"/>
                </a:xfrm>
              </p:grpSpPr>
              <p:sp>
                <p:nvSpPr>
                  <p:cNvPr id="620" name=""/>
                  <p:cNvSpPr/>
                  <p:nvPr/>
                </p:nvSpPr>
                <p:spPr>
                  <a:xfrm>
                    <a:off x="1981080" y="373860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538360" y="3664080"/>
                    <a:ext cx="128520" cy="7452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2" name=""/>
                <p:cNvGrpSpPr/>
                <p:nvPr/>
              </p:nvGrpSpPr>
              <p:grpSpPr>
                <a:xfrm>
                  <a:off x="1980720" y="3814560"/>
                  <a:ext cx="685800" cy="75960"/>
                  <a:chOff x="1980720" y="3814560"/>
                  <a:chExt cx="685800" cy="75960"/>
                </a:xfrm>
              </p:grpSpPr>
              <p:sp>
                <p:nvSpPr>
                  <p:cNvPr id="623" name=""/>
                  <p:cNvSpPr/>
                  <p:nvPr/>
                </p:nvSpPr>
                <p:spPr>
                  <a:xfrm flipH="1">
                    <a:off x="1980720" y="381456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H="1" flipV="1">
                    <a:off x="1980720" y="3814560"/>
                    <a:ext cx="128520" cy="7596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25" name=""/>
              <p:cNvSpPr/>
              <p:nvPr/>
            </p:nvSpPr>
            <p:spPr>
              <a:xfrm>
                <a:off x="2819160" y="36640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057400" y="32832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3733560" y="3276720"/>
              <a:ext cx="1447920" cy="615960"/>
              <a:chOff x="3733560" y="3276720"/>
              <a:chExt cx="1447920" cy="615960"/>
            </a:xfrm>
          </p:grpSpPr>
          <p:sp>
            <p:nvSpPr>
              <p:cNvPr id="628" name=""/>
              <p:cNvSpPr/>
              <p:nvPr/>
            </p:nvSpPr>
            <p:spPr>
              <a:xfrm>
                <a:off x="3733560" y="366408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952880" y="3664080"/>
                <a:ext cx="228600" cy="22860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30" name=""/>
              <p:cNvGrpSpPr/>
              <p:nvPr/>
            </p:nvGrpSpPr>
            <p:grpSpPr>
              <a:xfrm>
                <a:off x="4114440" y="3664080"/>
                <a:ext cx="686160" cy="226440"/>
                <a:chOff x="4114440" y="3664080"/>
                <a:chExt cx="686160" cy="226440"/>
              </a:xfrm>
            </p:grpSpPr>
            <p:grpSp>
              <p:nvGrpSpPr>
                <p:cNvPr id="631" name=""/>
                <p:cNvGrpSpPr/>
                <p:nvPr/>
              </p:nvGrpSpPr>
              <p:grpSpPr>
                <a:xfrm>
                  <a:off x="4114800" y="3664080"/>
                  <a:ext cx="685800" cy="74520"/>
                  <a:chOff x="4114800" y="3664080"/>
                  <a:chExt cx="685800" cy="7452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>
                    <a:off x="4114800" y="373860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4672080" y="3664080"/>
                    <a:ext cx="128520" cy="7452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4114440" y="3814560"/>
                  <a:ext cx="685800" cy="75960"/>
                  <a:chOff x="4114440" y="3814560"/>
                  <a:chExt cx="685800" cy="7596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flipH="1">
                    <a:off x="4114440" y="381456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flipH="1" flipV="1">
                    <a:off x="4114440" y="3814560"/>
                    <a:ext cx="128520" cy="7596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37" name=""/>
              <p:cNvSpPr/>
              <p:nvPr/>
            </p:nvSpPr>
            <p:spPr>
              <a:xfrm>
                <a:off x="4077720" y="3276720"/>
                <a:ext cx="65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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5790960" y="3283200"/>
              <a:ext cx="1905120" cy="686880"/>
              <a:chOff x="5790960" y="3283200"/>
              <a:chExt cx="1905120" cy="68688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6401880" y="3664440"/>
                <a:ext cx="686160" cy="226440"/>
                <a:chOff x="6401880" y="3664440"/>
                <a:chExt cx="686160" cy="226440"/>
              </a:xfrm>
            </p:grpSpPr>
            <p:grpSp>
              <p:nvGrpSpPr>
                <p:cNvPr id="640" name=""/>
                <p:cNvGrpSpPr/>
                <p:nvPr/>
              </p:nvGrpSpPr>
              <p:grpSpPr>
                <a:xfrm>
                  <a:off x="6401880" y="3816360"/>
                  <a:ext cx="685800" cy="74520"/>
                  <a:chOff x="6401880" y="3816360"/>
                  <a:chExt cx="685800" cy="7452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 flipH="1">
                    <a:off x="6401880" y="381636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flipH="1" flipV="1">
                    <a:off x="6401880" y="3816360"/>
                    <a:ext cx="128520" cy="7452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6402240" y="3664440"/>
                  <a:ext cx="685800" cy="75960"/>
                  <a:chOff x="6402240" y="3664440"/>
                  <a:chExt cx="685800" cy="7596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6402240" y="374040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6959520" y="3664440"/>
                    <a:ext cx="128520" cy="7596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6" name=""/>
              <p:cNvSpPr/>
              <p:nvPr/>
            </p:nvSpPr>
            <p:spPr>
              <a:xfrm>
                <a:off x="6554520" y="32832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6200000">
                <a:off x="7238880" y="374148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6200000">
                <a:off x="7238880" y="351144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6200000">
                <a:off x="7467480" y="374004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6200000">
                <a:off x="7467480" y="351144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6200000">
                <a:off x="5790960" y="374004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16200000">
                <a:off x="5790960" y="351144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6200000">
                <a:off x="6019560" y="374004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16200000">
                <a:off x="6019560" y="351144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5" name=""/>
          <p:cNvGrpSpPr/>
          <p:nvPr/>
        </p:nvGrpSpPr>
        <p:grpSpPr>
          <a:xfrm>
            <a:off x="2438280" y="4495680"/>
            <a:ext cx="4267440" cy="1295640"/>
            <a:chOff x="2438280" y="4495680"/>
            <a:chExt cx="4267440" cy="1295640"/>
          </a:xfrm>
        </p:grpSpPr>
        <p:sp>
          <p:nvSpPr>
            <p:cNvPr id="656" name=""/>
            <p:cNvSpPr/>
            <p:nvPr/>
          </p:nvSpPr>
          <p:spPr>
            <a:xfrm>
              <a:off x="2438280" y="4495680"/>
              <a:ext cx="4267440" cy="12956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2735280" y="4800600"/>
              <a:ext cx="3581280" cy="804960"/>
              <a:chOff x="2735280" y="4800600"/>
              <a:chExt cx="3581280" cy="804960"/>
            </a:xfrm>
          </p:grpSpPr>
          <mc:AlternateContent>
            <mc:Choice xmlns:a14="http://schemas.microsoft.com/office/drawing/2010/main" Requires="a14">
              <p:sp>
                <p:nvSpPr>
                  <p:cNvPr id="658" name=""/>
                  <p:cNvSpPr txBox="1"/>
                  <p:nvPr/>
                </p:nvSpPr>
                <p:spPr>
                  <a:xfrm>
                    <a:off x="2735280" y="4800600"/>
                    <a:ext cx="981000" cy="80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σ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59" name=""/>
                  <p:cNvSpPr txBox="1"/>
                  <p:nvPr/>
                </p:nvSpPr>
                <p:spPr>
                  <a:xfrm>
                    <a:off x="4038480" y="4800600"/>
                    <a:ext cx="909720" cy="80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60" name=""/>
                  <p:cNvSpPr txBox="1"/>
                  <p:nvPr/>
                </p:nvSpPr>
                <p:spPr>
                  <a:xfrm>
                    <a:off x="5257800" y="4800600"/>
                    <a:ext cx="1058760" cy="80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num>
                          <m:den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"/>
          <p:cNvGrpSpPr/>
          <p:nvPr/>
        </p:nvGrpSpPr>
        <p:grpSpPr>
          <a:xfrm>
            <a:off x="1843920" y="533520"/>
            <a:ext cx="5033520" cy="2464200"/>
            <a:chOff x="1843920" y="533520"/>
            <a:chExt cx="5033520" cy="2464200"/>
          </a:xfrm>
        </p:grpSpPr>
        <p:sp>
          <p:nvSpPr>
            <p:cNvPr id="662" name=""/>
            <p:cNvSpPr/>
            <p:nvPr/>
          </p:nvSpPr>
          <p:spPr>
            <a:xfrm>
              <a:off x="4176000" y="1579680"/>
              <a:ext cx="308880" cy="398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843920" y="1562040"/>
              <a:ext cx="308880" cy="398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001320" y="1562040"/>
              <a:ext cx="308880" cy="398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317560" y="1579680"/>
              <a:ext cx="308880" cy="398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37600" y="1017720"/>
              <a:ext cx="1086840" cy="139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210840" y="1092240"/>
              <a:ext cx="1086840" cy="139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410720" y="1092240"/>
              <a:ext cx="1087200" cy="139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33920" y="990720"/>
              <a:ext cx="1258200" cy="139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2032920" y="1281960"/>
              <a:ext cx="108684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3210840" y="1226520"/>
              <a:ext cx="1086840" cy="120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4410720" y="1379160"/>
              <a:ext cx="108720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" y="7579"/>
                  </a:moveTo>
                  <a:arcTo wR="10800" hR="10800" stAng="-9758759" swAng="8755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" y="7579"/>
                  </a:moveTo>
                  <a:arcTo wR="10800" hR="10800" stAng="-9758759" swAng="8755360"/>
                </a:path>
              </a:pathLst>
            </a:custGeom>
            <a:noFill/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5552280" y="1092240"/>
              <a:ext cx="1177560" cy="132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86" y="6515"/>
                  </a:moveTo>
                  <a:arcTo wR="10800" hR="10800" stAng="-9397457" swAng="8394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886" y="6515"/>
                  </a:moveTo>
                  <a:arcTo wR="10800" hR="10800" stAng="-9397457" swAng="8394058"/>
                </a:path>
              </a:pathLst>
            </a:custGeom>
            <a:noFill/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446560" y="53352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589560" y="53352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724280" y="533520"/>
              <a:ext cx="47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531600" y="2430360"/>
              <a:ext cx="43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789080" y="2487600"/>
              <a:ext cx="43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56920" y="2470320"/>
              <a:ext cx="43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568560" y="1523880"/>
              <a:ext cx="308880" cy="398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799240" y="53352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943600" y="2438280"/>
              <a:ext cx="51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057400" y="2971800"/>
            <a:ext cx="4887720" cy="1857240"/>
            <a:chOff x="2057400" y="2971800"/>
            <a:chExt cx="4887720" cy="1857240"/>
          </a:xfrm>
        </p:grpSpPr>
        <mc:AlternateContent>
          <mc:Choice xmlns:a14="http://schemas.microsoft.com/office/drawing/2010/main" Requires="a14">
            <p:sp>
              <p:nvSpPr>
                <p:cNvPr id="684" name=""/>
                <p:cNvSpPr txBox="1"/>
                <p:nvPr/>
              </p:nvSpPr>
              <p:spPr>
                <a:xfrm>
                  <a:off x="2057400" y="3047760"/>
                  <a:ext cx="197964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cL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5" name=""/>
                <p:cNvSpPr txBox="1"/>
                <p:nvPr/>
              </p:nvSpPr>
              <p:spPr>
                <a:xfrm>
                  <a:off x="4800600" y="2971800"/>
                  <a:ext cx="2144520" cy="86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cL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6" name=""/>
                <p:cNvSpPr txBox="1"/>
                <p:nvPr/>
              </p:nvSpPr>
              <p:spPr>
                <a:xfrm>
                  <a:off x="2057400" y="3962160"/>
                  <a:ext cx="213516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7" name=""/>
                <p:cNvSpPr txBox="1"/>
                <p:nvPr/>
              </p:nvSpPr>
              <p:spPr>
                <a:xfrm>
                  <a:off x="4800600" y="3962160"/>
                  <a:ext cx="213516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8" name=""/>
          <p:cNvGrpSpPr/>
          <p:nvPr/>
        </p:nvGrpSpPr>
        <p:grpSpPr>
          <a:xfrm>
            <a:off x="1676520" y="5105520"/>
            <a:ext cx="5638680" cy="1066680"/>
            <a:chOff x="1676520" y="5105520"/>
            <a:chExt cx="5638680" cy="1066680"/>
          </a:xfrm>
        </p:grpSpPr>
        <mc:AlternateContent>
          <mc:Choice xmlns:a14="http://schemas.microsoft.com/office/drawing/2010/main" Requires="a14">
            <p:sp>
              <p:nvSpPr>
                <p:cNvPr id="689" name=""/>
                <p:cNvSpPr txBox="1"/>
                <p:nvPr/>
              </p:nvSpPr>
              <p:spPr>
                <a:xfrm>
                  <a:off x="1905120" y="5181480"/>
                  <a:ext cx="515448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cL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≤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cL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≤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≤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90" name=""/>
            <p:cNvSpPr/>
            <p:nvPr/>
          </p:nvSpPr>
          <p:spPr>
            <a:xfrm>
              <a:off x="1676520" y="5105520"/>
              <a:ext cx="5638680" cy="10666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 Energetic Perspective (MWC) 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457200" y="990720"/>
            <a:ext cx="8190360" cy="5793480"/>
            <a:chOff x="457200" y="990720"/>
            <a:chExt cx="8190360" cy="5793480"/>
          </a:xfrm>
        </p:grpSpPr>
        <p:grpSp>
          <p:nvGrpSpPr>
            <p:cNvPr id="693" name=""/>
            <p:cNvGrpSpPr/>
            <p:nvPr/>
          </p:nvGrpSpPr>
          <p:grpSpPr>
            <a:xfrm>
              <a:off x="457200" y="990720"/>
              <a:ext cx="8190360" cy="3429000"/>
              <a:chOff x="457200" y="990720"/>
              <a:chExt cx="8190360" cy="3429000"/>
            </a:xfrm>
          </p:grpSpPr>
          <p:grpSp>
            <p:nvGrpSpPr>
              <p:cNvPr id="694" name=""/>
              <p:cNvGrpSpPr/>
              <p:nvPr/>
            </p:nvGrpSpPr>
            <p:grpSpPr>
              <a:xfrm>
                <a:off x="457200" y="990720"/>
                <a:ext cx="8190360" cy="2518200"/>
                <a:chOff x="457200" y="990720"/>
                <a:chExt cx="8190360" cy="251820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1143000" y="3276720"/>
                  <a:ext cx="662940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V="1">
                  <a:off x="1143000" y="99072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7" name=""/>
                <p:cNvGrpSpPr/>
                <p:nvPr/>
              </p:nvGrpSpPr>
              <p:grpSpPr>
                <a:xfrm>
                  <a:off x="7772040" y="2819520"/>
                  <a:ext cx="875520" cy="689400"/>
                  <a:chOff x="7772040" y="2819520"/>
                  <a:chExt cx="875520" cy="689400"/>
                </a:xfrm>
              </p:grpSpPr>
              <p:sp>
                <p:nvSpPr>
                  <p:cNvPr id="698" name=""/>
                  <p:cNvSpPr/>
                  <p:nvPr/>
                </p:nvSpPr>
                <p:spPr>
                  <a:xfrm>
                    <a:off x="7772040" y="2819520"/>
                    <a:ext cx="8755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nergy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7788240" y="3186000"/>
                    <a:ext cx="762120" cy="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7942680" y="3110040"/>
                    <a:ext cx="5054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RT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1" name=""/>
                <p:cNvSpPr/>
                <p:nvPr/>
              </p:nvSpPr>
              <p:spPr>
                <a:xfrm rot="16200000">
                  <a:off x="-134640" y="1810440"/>
                  <a:ext cx="1704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population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371600" y="1143000"/>
                  <a:ext cx="6096240" cy="1524240"/>
                </a:xfrm>
                <a:custGeom>
                  <a:avLst/>
                  <a:gdLst/>
                  <a:ahLst/>
                  <a:rect l="l" t="t" r="r" b="b"/>
                  <a:pathLst>
                    <a:path w="2928" h="816">
                      <a:moveTo>
                        <a:pt x="0" y="0"/>
                      </a:moveTo>
                      <a:cubicBezTo>
                        <a:pt x="212" y="172"/>
                        <a:pt x="424" y="344"/>
                        <a:pt x="912" y="480"/>
                      </a:cubicBezTo>
                      <a:cubicBezTo>
                        <a:pt x="1400" y="616"/>
                        <a:pt x="2164" y="716"/>
                        <a:pt x="2928" y="816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3" name=""/>
              <p:cNvSpPr/>
              <p:nvPr/>
            </p:nvSpPr>
            <p:spPr>
              <a:xfrm>
                <a:off x="5409360" y="1447920"/>
                <a:ext cx="225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Boltzmann’s law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4572000" y="1905120"/>
                <a:ext cx="914400" cy="380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05" name=""/>
              <p:cNvGrpSpPr/>
              <p:nvPr/>
            </p:nvGrpSpPr>
            <p:grpSpPr>
              <a:xfrm>
                <a:off x="1219320" y="2590920"/>
                <a:ext cx="6248160" cy="1828800"/>
                <a:chOff x="1219320" y="2590920"/>
                <a:chExt cx="6248160" cy="1828800"/>
              </a:xfrm>
            </p:grpSpPr>
            <p:grpSp>
              <p:nvGrpSpPr>
                <p:cNvPr id="706" name=""/>
                <p:cNvGrpSpPr/>
                <p:nvPr/>
              </p:nvGrpSpPr>
              <p:grpSpPr>
                <a:xfrm>
                  <a:off x="1981080" y="3276720"/>
                  <a:ext cx="2590920" cy="457200"/>
                  <a:chOff x="1981080" y="3276720"/>
                  <a:chExt cx="2590920" cy="457200"/>
                </a:xfrm>
              </p:grpSpPr>
              <p:grpSp>
                <p:nvGrpSpPr>
                  <p:cNvPr id="707" name=""/>
                  <p:cNvGrpSpPr/>
                  <p:nvPr/>
                </p:nvGrpSpPr>
                <p:grpSpPr>
                  <a:xfrm>
                    <a:off x="3047760" y="3276720"/>
                    <a:ext cx="457200" cy="457200"/>
                    <a:chOff x="3047760" y="3276720"/>
                    <a:chExt cx="457200" cy="457200"/>
                  </a:xfrm>
                </p:grpSpPr>
                <p:sp>
                  <p:nvSpPr>
                    <p:cNvPr id="708" name=""/>
                    <p:cNvSpPr/>
                    <p:nvPr/>
                  </p:nvSpPr>
                  <p:spPr>
                    <a:xfrm>
                      <a:off x="3047760" y="3276720"/>
                      <a:ext cx="228600" cy="22860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3276360" y="3276720"/>
                      <a:ext cx="228600" cy="22860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3047760" y="3505320"/>
                      <a:ext cx="228600" cy="22860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3276360" y="3505320"/>
                      <a:ext cx="228600" cy="22860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2" name=""/>
                  <p:cNvGrpSpPr/>
                  <p:nvPr/>
                </p:nvGrpSpPr>
                <p:grpSpPr>
                  <a:xfrm>
                    <a:off x="3581280" y="3276720"/>
                    <a:ext cx="457200" cy="457200"/>
                    <a:chOff x="3581280" y="3276720"/>
                    <a:chExt cx="457200" cy="457200"/>
                  </a:xfrm>
                </p:grpSpPr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3581280" y="3276720"/>
                      <a:ext cx="228600" cy="22860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3809880" y="3276720"/>
                      <a:ext cx="228600" cy="22860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3581280" y="3505320"/>
                      <a:ext cx="228600" cy="22860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3809880" y="3505320"/>
                      <a:ext cx="228600" cy="22860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4114800" y="3276720"/>
                    <a:ext cx="457200" cy="457200"/>
                    <a:chOff x="4114800" y="3276720"/>
                    <a:chExt cx="457200" cy="45720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4114800" y="3276720"/>
                      <a:ext cx="228600" cy="22860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>
                      <a:off x="4343400" y="3276720"/>
                      <a:ext cx="228600" cy="22860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4114800" y="3505320"/>
                      <a:ext cx="228600" cy="22860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>
                      <a:off x="4343400" y="3505320"/>
                      <a:ext cx="228600" cy="22860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2" name=""/>
                  <p:cNvGrpSpPr/>
                  <p:nvPr/>
                </p:nvGrpSpPr>
                <p:grpSpPr>
                  <a:xfrm>
                    <a:off x="2514600" y="3276720"/>
                    <a:ext cx="457200" cy="457200"/>
                    <a:chOff x="2514600" y="3276720"/>
                    <a:chExt cx="457200" cy="457200"/>
                  </a:xfrm>
                </p:grpSpPr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2514600" y="3276720"/>
                      <a:ext cx="228600" cy="22860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4" name=""/>
                    <p:cNvSpPr/>
                    <p:nvPr/>
                  </p:nvSpPr>
                  <p:spPr>
                    <a:xfrm>
                      <a:off x="2743200" y="3276720"/>
                      <a:ext cx="228600" cy="22860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>
                      <a:off x="2514600" y="3505320"/>
                      <a:ext cx="228600" cy="22860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6" name=""/>
                    <p:cNvSpPr/>
                    <p:nvPr/>
                  </p:nvSpPr>
                  <p:spPr>
                    <a:xfrm>
                      <a:off x="2743200" y="3505320"/>
                      <a:ext cx="228600" cy="22860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7" name=""/>
                  <p:cNvGrpSpPr/>
                  <p:nvPr/>
                </p:nvGrpSpPr>
                <p:grpSpPr>
                  <a:xfrm>
                    <a:off x="1981080" y="3276720"/>
                    <a:ext cx="457200" cy="457200"/>
                    <a:chOff x="1981080" y="3276720"/>
                    <a:chExt cx="457200" cy="457200"/>
                  </a:xfrm>
                </p:grpSpPr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1981080" y="3276720"/>
                      <a:ext cx="228600" cy="22860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>
                      <a:off x="2209680" y="3276720"/>
                      <a:ext cx="228600" cy="22860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>
                      <a:off x="1981080" y="3505320"/>
                      <a:ext cx="228600" cy="22860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2209680" y="3505320"/>
                      <a:ext cx="228600" cy="22860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32" name=""/>
                <p:cNvGrpSpPr/>
                <p:nvPr/>
              </p:nvGrpSpPr>
              <p:grpSpPr>
                <a:xfrm>
                  <a:off x="3962520" y="3962520"/>
                  <a:ext cx="457200" cy="457200"/>
                  <a:chOff x="3962520" y="3962520"/>
                  <a:chExt cx="457200" cy="457200"/>
                </a:xfrm>
              </p:grpSpPr>
              <p:sp>
                <p:nvSpPr>
                  <p:cNvPr id="733" name=""/>
                  <p:cNvSpPr/>
                  <p:nvPr/>
                </p:nvSpPr>
                <p:spPr>
                  <a:xfrm>
                    <a:off x="3962520" y="3962520"/>
                    <a:ext cx="228600" cy="22860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4191120" y="3962520"/>
                    <a:ext cx="228600" cy="22860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3962520" y="4191120"/>
                    <a:ext cx="228600" cy="2286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4191120" y="4191120"/>
                    <a:ext cx="228600" cy="2286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7" name=""/>
                <p:cNvGrpSpPr/>
                <p:nvPr/>
              </p:nvGrpSpPr>
              <p:grpSpPr>
                <a:xfrm>
                  <a:off x="5410080" y="3886200"/>
                  <a:ext cx="457200" cy="457200"/>
                  <a:chOff x="5410080" y="3886200"/>
                  <a:chExt cx="457200" cy="457200"/>
                </a:xfrm>
              </p:grpSpPr>
              <p:sp>
                <p:nvSpPr>
                  <p:cNvPr id="738" name=""/>
                  <p:cNvSpPr/>
                  <p:nvPr/>
                </p:nvSpPr>
                <p:spPr>
                  <a:xfrm>
                    <a:off x="5410080" y="3886200"/>
                    <a:ext cx="228600" cy="22860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5638680" y="3886200"/>
                    <a:ext cx="228600" cy="2286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5410080" y="4114800"/>
                    <a:ext cx="228600" cy="2286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5638680" y="4114800"/>
                    <a:ext cx="228600" cy="2286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2" name=""/>
                <p:cNvGrpSpPr/>
                <p:nvPr/>
              </p:nvGrpSpPr>
              <p:grpSpPr>
                <a:xfrm>
                  <a:off x="7010280" y="3886200"/>
                  <a:ext cx="457200" cy="457200"/>
                  <a:chOff x="7010280" y="3886200"/>
                  <a:chExt cx="457200" cy="457200"/>
                </a:xfrm>
              </p:grpSpPr>
              <p:sp>
                <p:nvSpPr>
                  <p:cNvPr id="743" name=""/>
                  <p:cNvSpPr/>
                  <p:nvPr/>
                </p:nvSpPr>
                <p:spPr>
                  <a:xfrm>
                    <a:off x="7010280" y="3886200"/>
                    <a:ext cx="228600" cy="2286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7238880" y="3886200"/>
                    <a:ext cx="228600" cy="2286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7010280" y="4114800"/>
                    <a:ext cx="228600" cy="2286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7238880" y="4114800"/>
                    <a:ext cx="228600" cy="2286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7" name=""/>
                <p:cNvGrpSpPr/>
                <p:nvPr/>
              </p:nvGrpSpPr>
              <p:grpSpPr>
                <a:xfrm>
                  <a:off x="2590920" y="3962520"/>
                  <a:ext cx="457200" cy="457200"/>
                  <a:chOff x="2590920" y="3962520"/>
                  <a:chExt cx="457200" cy="457200"/>
                </a:xfrm>
              </p:grpSpPr>
              <p:sp>
                <p:nvSpPr>
                  <p:cNvPr id="748" name=""/>
                  <p:cNvSpPr/>
                  <p:nvPr/>
                </p:nvSpPr>
                <p:spPr>
                  <a:xfrm>
                    <a:off x="2590920" y="3962520"/>
                    <a:ext cx="228600" cy="22860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2819520" y="3962520"/>
                    <a:ext cx="228600" cy="22860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2590920" y="4191120"/>
                    <a:ext cx="228600" cy="22860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2819520" y="4191120"/>
                    <a:ext cx="228600" cy="2286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2" name=""/>
                <p:cNvGrpSpPr/>
                <p:nvPr/>
              </p:nvGrpSpPr>
              <p:grpSpPr>
                <a:xfrm>
                  <a:off x="1219320" y="3962520"/>
                  <a:ext cx="457200" cy="457200"/>
                  <a:chOff x="1219320" y="3962520"/>
                  <a:chExt cx="457200" cy="457200"/>
                </a:xfrm>
              </p:grpSpPr>
              <p:sp>
                <p:nvSpPr>
                  <p:cNvPr id="753" name=""/>
                  <p:cNvSpPr/>
                  <p:nvPr/>
                </p:nvSpPr>
                <p:spPr>
                  <a:xfrm>
                    <a:off x="1219320" y="3962520"/>
                    <a:ext cx="228600" cy="22860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1447920" y="3962520"/>
                    <a:ext cx="228600" cy="22860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1219320" y="4191120"/>
                    <a:ext cx="228600" cy="22860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1447920" y="4191120"/>
                    <a:ext cx="228600" cy="22860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7" name=""/>
                <p:cNvSpPr/>
                <p:nvPr/>
              </p:nvSpPr>
              <p:spPr>
                <a:xfrm>
                  <a:off x="5410080" y="281952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ln</a:t>
                  </a:r>
                  <a:r>
                    <a:rPr b="1" i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3809880" y="2590920"/>
                  <a:ext cx="685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ln</a:t>
                  </a:r>
                  <a:r>
                    <a:rPr b="1" i="1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V="1">
                  <a:off x="4343400" y="289512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V="1">
                  <a:off x="3809880" y="289512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3809880" y="3048120"/>
                  <a:ext cx="5335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triangle" w="lg"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H="1">
                  <a:off x="4343400" y="3048120"/>
                  <a:ext cx="9907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5905800" y="3276720"/>
                  <a:ext cx="1112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ln(</a:t>
                  </a:r>
                  <a:r>
                    <a:rPr b="1" i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</a:t>
                  </a:r>
                  <a:r>
                    <a:rPr b="1" i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V="1">
                  <a:off x="7238880" y="3276360"/>
                  <a:ext cx="0" cy="5331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flipV="1">
                  <a:off x="5638680" y="3276360"/>
                  <a:ext cx="0" cy="5331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6934320" y="358128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H="1">
                  <a:off x="5638320" y="358128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V="1">
                  <a:off x="7238880" y="297144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6019920" y="3048120"/>
                  <a:ext cx="12189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0" name=""/>
            <p:cNvGrpSpPr/>
            <p:nvPr/>
          </p:nvGrpSpPr>
          <p:grpSpPr>
            <a:xfrm>
              <a:off x="2209680" y="4495680"/>
              <a:ext cx="6380280" cy="2288520"/>
              <a:chOff x="2209680" y="4495680"/>
              <a:chExt cx="6380280" cy="2288520"/>
            </a:xfrm>
          </p:grpSpPr>
          <p:sp>
            <p:nvSpPr>
              <p:cNvPr id="771" name=""/>
              <p:cNvSpPr/>
              <p:nvPr/>
            </p:nvSpPr>
            <p:spPr>
              <a:xfrm>
                <a:off x="2897280" y="63244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879080" y="63244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09680" y="6324480"/>
                <a:ext cx="3810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788080" y="5791320"/>
                <a:ext cx="280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nfigurational spac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75" name=""/>
              <p:cNvGrpSpPr/>
              <p:nvPr/>
            </p:nvGrpSpPr>
            <p:grpSpPr>
              <a:xfrm>
                <a:off x="2209680" y="4495680"/>
                <a:ext cx="3389040" cy="1849320"/>
                <a:chOff x="2209680" y="4495680"/>
                <a:chExt cx="3389040" cy="1849320"/>
              </a:xfrm>
            </p:grpSpPr>
            <p:sp>
              <p:nvSpPr>
                <p:cNvPr id="776" name=""/>
                <p:cNvSpPr/>
                <p:nvPr/>
              </p:nvSpPr>
              <p:spPr>
                <a:xfrm flipV="1">
                  <a:off x="2209680" y="4495680"/>
                  <a:ext cx="0" cy="18288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rot="21476400">
                  <a:off x="2439720" y="5484600"/>
                  <a:ext cx="1143000" cy="836640"/>
                </a:xfrm>
                <a:custGeom>
                  <a:avLst/>
                  <a:gdLst/>
                  <a:ahLst/>
                  <a:rect l="l" t="t" r="r" b="b"/>
                  <a:pathLst>
                    <a:path w="1584" h="1056">
                      <a:moveTo>
                        <a:pt x="0" y="1008"/>
                      </a:moveTo>
                      <a:cubicBezTo>
                        <a:pt x="228" y="996"/>
                        <a:pt x="456" y="984"/>
                        <a:pt x="624" y="816"/>
                      </a:cubicBezTo>
                      <a:cubicBezTo>
                        <a:pt x="792" y="648"/>
                        <a:pt x="904" y="0"/>
                        <a:pt x="1008" y="0"/>
                      </a:cubicBezTo>
                      <a:cubicBezTo>
                        <a:pt x="1112" y="0"/>
                        <a:pt x="1152" y="640"/>
                        <a:pt x="1248" y="816"/>
                      </a:cubicBezTo>
                      <a:cubicBezTo>
                        <a:pt x="1344" y="992"/>
                        <a:pt x="1464" y="1024"/>
                        <a:pt x="1584" y="1056"/>
                      </a:cubicBezTo>
                    </a:path>
                  </a:pathLst>
                </a:custGeom>
                <a:noFill/>
                <a:ln w="381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rot="21476400">
                  <a:off x="4724280" y="5943600"/>
                  <a:ext cx="687600" cy="380880"/>
                </a:xfrm>
                <a:custGeom>
                  <a:avLst/>
                  <a:gdLst/>
                  <a:ahLst/>
                  <a:rect l="l" t="t" r="r" b="b"/>
                  <a:pathLst>
                    <a:path w="1584" h="1056">
                      <a:moveTo>
                        <a:pt x="0" y="1008"/>
                      </a:moveTo>
                      <a:cubicBezTo>
                        <a:pt x="228" y="996"/>
                        <a:pt x="456" y="984"/>
                        <a:pt x="624" y="816"/>
                      </a:cubicBezTo>
                      <a:cubicBezTo>
                        <a:pt x="792" y="648"/>
                        <a:pt x="904" y="0"/>
                        <a:pt x="1008" y="0"/>
                      </a:cubicBezTo>
                      <a:cubicBezTo>
                        <a:pt x="1112" y="0"/>
                        <a:pt x="1152" y="640"/>
                        <a:pt x="1248" y="816"/>
                      </a:cubicBezTo>
                      <a:cubicBezTo>
                        <a:pt x="1344" y="992"/>
                        <a:pt x="1464" y="1024"/>
                        <a:pt x="1584" y="1056"/>
                      </a:cubicBezTo>
                    </a:path>
                  </a:pathLst>
                </a:custGeom>
                <a:noFill/>
                <a:ln w="381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rot="21476400">
                  <a:off x="2361960" y="5027760"/>
                  <a:ext cx="1303200" cy="1293840"/>
                </a:xfrm>
                <a:custGeom>
                  <a:avLst/>
                  <a:gdLst/>
                  <a:ahLst/>
                  <a:rect l="l" t="t" r="r" b="b"/>
                  <a:pathLst>
                    <a:path w="1584" h="1056">
                      <a:moveTo>
                        <a:pt x="0" y="1008"/>
                      </a:moveTo>
                      <a:cubicBezTo>
                        <a:pt x="228" y="996"/>
                        <a:pt x="456" y="984"/>
                        <a:pt x="624" y="816"/>
                      </a:cubicBezTo>
                      <a:cubicBezTo>
                        <a:pt x="792" y="648"/>
                        <a:pt x="904" y="0"/>
                        <a:pt x="1008" y="0"/>
                      </a:cubicBezTo>
                      <a:cubicBezTo>
                        <a:pt x="1112" y="0"/>
                        <a:pt x="1152" y="640"/>
                        <a:pt x="1248" y="816"/>
                      </a:cubicBezTo>
                      <a:cubicBezTo>
                        <a:pt x="1344" y="992"/>
                        <a:pt x="1464" y="1024"/>
                        <a:pt x="1584" y="1056"/>
                      </a:cubicBezTo>
                    </a:path>
                  </a:pathLst>
                </a:custGeom>
                <a:noFill/>
                <a:ln w="381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rot="21476400">
                  <a:off x="4484160" y="4572000"/>
                  <a:ext cx="1082880" cy="1752480"/>
                </a:xfrm>
                <a:custGeom>
                  <a:avLst/>
                  <a:gdLst/>
                  <a:ahLst/>
                  <a:rect l="l" t="t" r="r" b="b"/>
                  <a:pathLst>
                    <a:path w="1584" h="1056">
                      <a:moveTo>
                        <a:pt x="0" y="1008"/>
                      </a:moveTo>
                      <a:cubicBezTo>
                        <a:pt x="228" y="996"/>
                        <a:pt x="456" y="984"/>
                        <a:pt x="624" y="816"/>
                      </a:cubicBezTo>
                      <a:cubicBezTo>
                        <a:pt x="792" y="648"/>
                        <a:pt x="904" y="0"/>
                        <a:pt x="1008" y="0"/>
                      </a:cubicBezTo>
                      <a:cubicBezTo>
                        <a:pt x="1112" y="0"/>
                        <a:pt x="1152" y="640"/>
                        <a:pt x="1248" y="816"/>
                      </a:cubicBezTo>
                      <a:cubicBezTo>
                        <a:pt x="1344" y="992"/>
                        <a:pt x="1464" y="1024"/>
                        <a:pt x="1584" y="1056"/>
                      </a:cubicBezTo>
                    </a:path>
                  </a:pathLst>
                </a:custGeom>
                <a:noFill/>
                <a:ln w="381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rot="21476400">
                  <a:off x="2436840" y="5256360"/>
                  <a:ext cx="1150920" cy="1065240"/>
                </a:xfrm>
                <a:custGeom>
                  <a:avLst/>
                  <a:gdLst/>
                  <a:ahLst/>
                  <a:rect l="l" t="t" r="r" b="b"/>
                  <a:pathLst>
                    <a:path w="1584" h="1056">
                      <a:moveTo>
                        <a:pt x="0" y="1008"/>
                      </a:moveTo>
                      <a:cubicBezTo>
                        <a:pt x="228" y="996"/>
                        <a:pt x="456" y="984"/>
                        <a:pt x="624" y="816"/>
                      </a:cubicBezTo>
                      <a:cubicBezTo>
                        <a:pt x="792" y="648"/>
                        <a:pt x="904" y="0"/>
                        <a:pt x="1008" y="0"/>
                      </a:cubicBezTo>
                      <a:cubicBezTo>
                        <a:pt x="1112" y="0"/>
                        <a:pt x="1152" y="640"/>
                        <a:pt x="1248" y="816"/>
                      </a:cubicBezTo>
                      <a:cubicBezTo>
                        <a:pt x="1344" y="992"/>
                        <a:pt x="1464" y="1024"/>
                        <a:pt x="1584" y="1056"/>
                      </a:cubicBezTo>
                    </a:path>
                  </a:pathLst>
                </a:custGeom>
                <a:noFill/>
                <a:ln w="38160">
                  <a:solidFill>
                    <a:srgbClr val="cc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rot="21476400">
                  <a:off x="4495680" y="5257440"/>
                  <a:ext cx="1067040" cy="1065240"/>
                </a:xfrm>
                <a:custGeom>
                  <a:avLst/>
                  <a:gdLst/>
                  <a:ahLst/>
                  <a:rect l="l" t="t" r="r" b="b"/>
                  <a:pathLst>
                    <a:path w="1584" h="1056">
                      <a:moveTo>
                        <a:pt x="0" y="1008"/>
                      </a:moveTo>
                      <a:cubicBezTo>
                        <a:pt x="228" y="996"/>
                        <a:pt x="456" y="984"/>
                        <a:pt x="624" y="816"/>
                      </a:cubicBezTo>
                      <a:cubicBezTo>
                        <a:pt x="792" y="648"/>
                        <a:pt x="904" y="0"/>
                        <a:pt x="1008" y="0"/>
                      </a:cubicBezTo>
                      <a:cubicBezTo>
                        <a:pt x="1112" y="0"/>
                        <a:pt x="1152" y="640"/>
                        <a:pt x="1248" y="816"/>
                      </a:cubicBezTo>
                      <a:cubicBezTo>
                        <a:pt x="1344" y="992"/>
                        <a:pt x="1464" y="1024"/>
                        <a:pt x="1584" y="1056"/>
                      </a:cubicBezTo>
                    </a:path>
                  </a:pathLst>
                </a:custGeom>
                <a:noFill/>
                <a:ln w="38160">
                  <a:solidFill>
                    <a:srgbClr val="cc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losteric Cooperativity in Metabolic Enzyme A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 Energetic Perspective (KNF) 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838080" y="1905120"/>
            <a:ext cx="7504560" cy="3964680"/>
            <a:chOff x="838080" y="1905120"/>
            <a:chExt cx="7504560" cy="3964680"/>
          </a:xfrm>
        </p:grpSpPr>
        <p:grpSp>
          <p:nvGrpSpPr>
            <p:cNvPr id="785" name=""/>
            <p:cNvGrpSpPr/>
            <p:nvPr/>
          </p:nvGrpSpPr>
          <p:grpSpPr>
            <a:xfrm>
              <a:off x="2362320" y="3504960"/>
              <a:ext cx="4419000" cy="2364840"/>
              <a:chOff x="2362320" y="3504960"/>
              <a:chExt cx="4419000" cy="2364840"/>
            </a:xfrm>
          </p:grpSpPr>
          <p:sp>
            <p:nvSpPr>
              <p:cNvPr id="786" name=""/>
              <p:cNvSpPr/>
              <p:nvPr/>
            </p:nvSpPr>
            <p:spPr>
              <a:xfrm>
                <a:off x="2971800" y="5333760"/>
                <a:ext cx="3809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2971800" y="3504960"/>
                <a:ext cx="0" cy="182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425760" y="5410080"/>
                <a:ext cx="280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nfigurational spac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21476400">
                <a:off x="3188880" y="3886200"/>
                <a:ext cx="990000" cy="1447200"/>
              </a:xfrm>
              <a:custGeom>
                <a:avLst/>
                <a:gdLst/>
                <a:ahLst/>
                <a:rect l="l" t="t" r="r" b="b"/>
                <a:pathLst>
                  <a:path w="1584" h="1056">
                    <a:moveTo>
                      <a:pt x="0" y="1008"/>
                    </a:moveTo>
                    <a:cubicBezTo>
                      <a:pt x="228" y="996"/>
                      <a:pt x="456" y="984"/>
                      <a:pt x="624" y="816"/>
                    </a:cubicBezTo>
                    <a:cubicBezTo>
                      <a:pt x="792" y="648"/>
                      <a:pt x="904" y="0"/>
                      <a:pt x="1008" y="0"/>
                    </a:cubicBezTo>
                    <a:cubicBezTo>
                      <a:pt x="1112" y="0"/>
                      <a:pt x="1152" y="640"/>
                      <a:pt x="1248" y="816"/>
                    </a:cubicBezTo>
                    <a:cubicBezTo>
                      <a:pt x="1344" y="992"/>
                      <a:pt x="1464" y="1024"/>
                      <a:pt x="1584" y="1056"/>
                    </a:cubicBezTo>
                  </a:path>
                </a:pathLst>
              </a:custGeom>
              <a:noFill/>
              <a:ln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21476400">
                <a:off x="4571640" y="3886200"/>
                <a:ext cx="1302840" cy="1369440"/>
              </a:xfrm>
              <a:custGeom>
                <a:avLst/>
                <a:gdLst/>
                <a:ahLst/>
                <a:rect l="l" t="t" r="r" b="b"/>
                <a:pathLst>
                  <a:path w="1584" h="1056">
                    <a:moveTo>
                      <a:pt x="0" y="1008"/>
                    </a:moveTo>
                    <a:cubicBezTo>
                      <a:pt x="228" y="996"/>
                      <a:pt x="456" y="984"/>
                      <a:pt x="624" y="816"/>
                    </a:cubicBezTo>
                    <a:cubicBezTo>
                      <a:pt x="792" y="648"/>
                      <a:pt x="904" y="0"/>
                      <a:pt x="1008" y="0"/>
                    </a:cubicBezTo>
                    <a:cubicBezTo>
                      <a:pt x="1112" y="0"/>
                      <a:pt x="1152" y="640"/>
                      <a:pt x="1248" y="816"/>
                    </a:cubicBezTo>
                    <a:cubicBezTo>
                      <a:pt x="1344" y="992"/>
                      <a:pt x="1464" y="1024"/>
                      <a:pt x="1584" y="1056"/>
                    </a:cubicBezTo>
                  </a:path>
                </a:pathLst>
              </a:custGeom>
              <a:noFill/>
              <a:ln w="3816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21476400">
                <a:off x="5248080" y="3884400"/>
                <a:ext cx="1082520" cy="1444320"/>
              </a:xfrm>
              <a:custGeom>
                <a:avLst/>
                <a:gdLst/>
                <a:ahLst/>
                <a:rect l="l" t="t" r="r" b="b"/>
                <a:pathLst>
                  <a:path w="1584" h="1056">
                    <a:moveTo>
                      <a:pt x="0" y="1008"/>
                    </a:moveTo>
                    <a:cubicBezTo>
                      <a:pt x="228" y="996"/>
                      <a:pt x="456" y="984"/>
                      <a:pt x="624" y="816"/>
                    </a:cubicBezTo>
                    <a:cubicBezTo>
                      <a:pt x="792" y="648"/>
                      <a:pt x="904" y="0"/>
                      <a:pt x="1008" y="0"/>
                    </a:cubicBezTo>
                    <a:cubicBezTo>
                      <a:pt x="1112" y="0"/>
                      <a:pt x="1152" y="640"/>
                      <a:pt x="1248" y="816"/>
                    </a:cubicBezTo>
                    <a:cubicBezTo>
                      <a:pt x="1344" y="992"/>
                      <a:pt x="1464" y="1024"/>
                      <a:pt x="1584" y="1056"/>
                    </a:cubicBezTo>
                  </a:path>
                </a:pathLst>
              </a:custGeom>
              <a:noFill/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21476400">
                <a:off x="4114440" y="3886200"/>
                <a:ext cx="1302840" cy="1369440"/>
              </a:xfrm>
              <a:custGeom>
                <a:avLst/>
                <a:gdLst/>
                <a:ahLst/>
                <a:rect l="l" t="t" r="r" b="b"/>
                <a:pathLst>
                  <a:path w="1584" h="1056">
                    <a:moveTo>
                      <a:pt x="0" y="1008"/>
                    </a:moveTo>
                    <a:cubicBezTo>
                      <a:pt x="228" y="996"/>
                      <a:pt x="456" y="984"/>
                      <a:pt x="624" y="816"/>
                    </a:cubicBezTo>
                    <a:cubicBezTo>
                      <a:pt x="792" y="648"/>
                      <a:pt x="904" y="0"/>
                      <a:pt x="1008" y="0"/>
                    </a:cubicBezTo>
                    <a:cubicBezTo>
                      <a:pt x="1112" y="0"/>
                      <a:pt x="1152" y="640"/>
                      <a:pt x="1248" y="816"/>
                    </a:cubicBezTo>
                    <a:cubicBezTo>
                      <a:pt x="1344" y="992"/>
                      <a:pt x="1464" y="1024"/>
                      <a:pt x="1584" y="1056"/>
                    </a:cubicBezTo>
                  </a:path>
                </a:pathLst>
              </a:custGeom>
              <a:noFill/>
              <a:ln w="38160">
                <a:solidFill>
                  <a:srgbClr val="cc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21476400">
                <a:off x="3581280" y="3886200"/>
                <a:ext cx="1302840" cy="1445760"/>
              </a:xfrm>
              <a:custGeom>
                <a:avLst/>
                <a:gdLst/>
                <a:ahLst/>
                <a:rect l="l" t="t" r="r" b="b"/>
                <a:pathLst>
                  <a:path w="1584" h="1056">
                    <a:moveTo>
                      <a:pt x="0" y="1008"/>
                    </a:moveTo>
                    <a:cubicBezTo>
                      <a:pt x="228" y="996"/>
                      <a:pt x="456" y="984"/>
                      <a:pt x="624" y="816"/>
                    </a:cubicBezTo>
                    <a:cubicBezTo>
                      <a:pt x="792" y="648"/>
                      <a:pt x="904" y="0"/>
                      <a:pt x="1008" y="0"/>
                    </a:cubicBezTo>
                    <a:cubicBezTo>
                      <a:pt x="1112" y="0"/>
                      <a:pt x="1152" y="640"/>
                      <a:pt x="1248" y="816"/>
                    </a:cubicBezTo>
                    <a:cubicBezTo>
                      <a:pt x="1344" y="992"/>
                      <a:pt x="1464" y="1024"/>
                      <a:pt x="1584" y="1056"/>
                    </a:cubicBezTo>
                  </a:path>
                </a:pathLst>
              </a:custGeom>
              <a:noFill/>
              <a:ln w="3816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16200000">
                <a:off x="1770120" y="4172040"/>
                <a:ext cx="170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population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838080" y="1905120"/>
              <a:ext cx="7504560" cy="1143000"/>
              <a:chOff x="838080" y="1905120"/>
              <a:chExt cx="7504560" cy="1143000"/>
            </a:xfrm>
          </p:grpSpPr>
          <p:sp>
            <p:nvSpPr>
              <p:cNvPr id="796" name=""/>
              <p:cNvSpPr/>
              <p:nvPr/>
            </p:nvSpPr>
            <p:spPr>
              <a:xfrm>
                <a:off x="838080" y="2590920"/>
                <a:ext cx="66294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97" name=""/>
              <p:cNvGrpSpPr/>
              <p:nvPr/>
            </p:nvGrpSpPr>
            <p:grpSpPr>
              <a:xfrm>
                <a:off x="7467120" y="2133720"/>
                <a:ext cx="875520" cy="689400"/>
                <a:chOff x="7467120" y="2133720"/>
                <a:chExt cx="875520" cy="68940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7467120" y="2133720"/>
                  <a:ext cx="875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energy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7483320" y="2500200"/>
                  <a:ext cx="76212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7637760" y="2424240"/>
                  <a:ext cx="505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R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6629400" y="2590920"/>
                <a:ext cx="457200" cy="457200"/>
                <a:chOff x="6629400" y="2590920"/>
                <a:chExt cx="457200" cy="45720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6629400" y="2590920"/>
                  <a:ext cx="2286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6858000" y="2590920"/>
                  <a:ext cx="2286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6629400" y="2819520"/>
                  <a:ext cx="2286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6858000" y="2819520"/>
                  <a:ext cx="2286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1143000" y="2590920"/>
                <a:ext cx="457200" cy="457200"/>
                <a:chOff x="1143000" y="2590920"/>
                <a:chExt cx="457200" cy="45720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1143000" y="2590920"/>
                  <a:ext cx="228600" cy="228600"/>
                </a:xfrm>
                <a:prstGeom prst="ellipse">
                  <a:avLst/>
                </a:prstGeom>
                <a:solidFill>
                  <a:srgbClr val="00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1371600" y="2590920"/>
                  <a:ext cx="228600" cy="228600"/>
                </a:xfrm>
                <a:prstGeom prst="ellipse">
                  <a:avLst/>
                </a:prstGeom>
                <a:solidFill>
                  <a:srgbClr val="00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1143000" y="2819520"/>
                  <a:ext cx="228600" cy="228600"/>
                </a:xfrm>
                <a:prstGeom prst="ellipse">
                  <a:avLst/>
                </a:prstGeom>
                <a:solidFill>
                  <a:srgbClr val="00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371600" y="2819520"/>
                  <a:ext cx="228600" cy="228600"/>
                </a:xfrm>
                <a:prstGeom prst="ellipse">
                  <a:avLst/>
                </a:prstGeom>
                <a:solidFill>
                  <a:srgbClr val="00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1" name=""/>
              <p:cNvSpPr/>
              <p:nvPr/>
            </p:nvSpPr>
            <p:spPr>
              <a:xfrm>
                <a:off x="6095880" y="190512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ln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629400" y="2362320"/>
                <a:ext cx="304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827720" y="1905120"/>
                <a:ext cx="1113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ln(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</a:t>
                </a:r>
                <a:r>
                  <a:rPr b="1" i="1" lang="en-US" sz="2400" spc="-1" strike="noStrike" baseline="30000">
                    <a:solidFill>
                      <a:srgbClr val="ffffff"/>
                    </a:solidFill>
                    <a:latin typeface="Symbol"/>
                    <a:ea typeface="Symbol"/>
                  </a:rPr>
                  <a:t>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1371600" y="2209320"/>
                <a:ext cx="0" cy="381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895480" y="2362320"/>
                <a:ext cx="5335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1371600" y="2362320"/>
                <a:ext cx="1752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6934320" y="2209320"/>
                <a:ext cx="0" cy="381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18" name=""/>
              <p:cNvGrpSpPr/>
              <p:nvPr/>
            </p:nvGrpSpPr>
            <p:grpSpPr>
              <a:xfrm>
                <a:off x="5791320" y="2590920"/>
                <a:ext cx="492120" cy="457200"/>
                <a:chOff x="5791320" y="2590920"/>
                <a:chExt cx="492120" cy="45720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6037560" y="2590920"/>
                  <a:ext cx="24588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791320" y="2819520"/>
                  <a:ext cx="24624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037560" y="2819520"/>
                  <a:ext cx="24588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91320" y="2590920"/>
                  <a:ext cx="246240" cy="228600"/>
                </a:xfrm>
                <a:prstGeom prst="ellipse">
                  <a:avLst/>
                </a:prstGeom>
                <a:solidFill>
                  <a:srgbClr val="00ffff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4495680" y="2590920"/>
                <a:ext cx="493560" cy="457200"/>
                <a:chOff x="4495680" y="2590920"/>
                <a:chExt cx="493560" cy="45720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4495680" y="2819520"/>
                  <a:ext cx="24768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4743360" y="2819520"/>
                  <a:ext cx="24588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4495680" y="2590920"/>
                  <a:ext cx="247680" cy="228600"/>
                </a:xfrm>
                <a:prstGeom prst="ellipse">
                  <a:avLst/>
                </a:prstGeom>
                <a:solidFill>
                  <a:srgbClr val="00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4743360" y="2590920"/>
                  <a:ext cx="245880" cy="228600"/>
                </a:xfrm>
                <a:prstGeom prst="ellipse">
                  <a:avLst/>
                </a:prstGeom>
                <a:solidFill>
                  <a:srgbClr val="00ffff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8" name=""/>
              <p:cNvGrpSpPr/>
              <p:nvPr/>
            </p:nvGrpSpPr>
            <p:grpSpPr>
              <a:xfrm>
                <a:off x="3200400" y="2590920"/>
                <a:ext cx="492120" cy="457200"/>
                <a:chOff x="3200400" y="2590920"/>
                <a:chExt cx="492120" cy="457200"/>
              </a:xfrm>
            </p:grpSpPr>
            <p:sp>
              <p:nvSpPr>
                <p:cNvPr id="829" name=""/>
                <p:cNvSpPr/>
                <p:nvPr/>
              </p:nvSpPr>
              <p:spPr>
                <a:xfrm>
                  <a:off x="3446280" y="2819520"/>
                  <a:ext cx="24624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3200400" y="2590920"/>
                  <a:ext cx="245880" cy="228600"/>
                </a:xfrm>
                <a:prstGeom prst="ellipse">
                  <a:avLst/>
                </a:prstGeom>
                <a:solidFill>
                  <a:srgbClr val="00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3446280" y="2590920"/>
                  <a:ext cx="246240" cy="228600"/>
                </a:xfrm>
                <a:prstGeom prst="ellipse">
                  <a:avLst/>
                </a:prstGeom>
                <a:solidFill>
                  <a:srgbClr val="00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200400" y="2819520"/>
                  <a:ext cx="245880" cy="228600"/>
                </a:xfrm>
                <a:prstGeom prst="ellipse">
                  <a:avLst/>
                </a:prstGeom>
                <a:solidFill>
                  <a:srgbClr val="00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"/>
              <p:cNvSpPr/>
              <p:nvPr/>
            </p:nvSpPr>
            <p:spPr>
              <a:xfrm flipH="1">
                <a:off x="6019560" y="2362320"/>
                <a:ext cx="685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6019920" y="2209320"/>
                <a:ext cx="0" cy="381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4724280" y="2209320"/>
                <a:ext cx="0" cy="381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4724280" y="236232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8680" y="2362320"/>
                <a:ext cx="3812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3429000" y="2209320"/>
                <a:ext cx="0" cy="381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429000" y="2362320"/>
                <a:ext cx="1295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lg"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581280" y="190512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ln(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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876920" y="19051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ln(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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M Enzyme Kine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a binding st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a unimolecular turnover step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583440" y="1905120"/>
            <a:ext cx="3677040" cy="1701720"/>
            <a:chOff x="3583440" y="1905120"/>
            <a:chExt cx="3677040" cy="1701720"/>
          </a:xfrm>
        </p:grpSpPr>
        <p:grpSp>
          <p:nvGrpSpPr>
            <p:cNvPr id="48" name=""/>
            <p:cNvGrpSpPr/>
            <p:nvPr/>
          </p:nvGrpSpPr>
          <p:grpSpPr>
            <a:xfrm>
              <a:off x="5181480" y="2666880"/>
              <a:ext cx="1067040" cy="228240"/>
              <a:chOff x="5181480" y="2666880"/>
              <a:chExt cx="1067040" cy="22824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5181480" y="2666880"/>
                <a:ext cx="1067040" cy="76320"/>
                <a:chOff x="5181480" y="2666880"/>
                <a:chExt cx="1067040" cy="7632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5181480" y="2743200"/>
                  <a:ext cx="10670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5867280" y="2666880"/>
                  <a:ext cx="381240" cy="763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5181480" y="2819160"/>
                <a:ext cx="1067040" cy="75960"/>
                <a:chOff x="5181480" y="2819160"/>
                <a:chExt cx="1067040" cy="75960"/>
              </a:xfrm>
            </p:grpSpPr>
            <p:sp>
              <p:nvSpPr>
                <p:cNvPr id="53" name=""/>
                <p:cNvSpPr/>
                <p:nvPr/>
              </p:nvSpPr>
              <p:spPr>
                <a:xfrm flipH="1">
                  <a:off x="5181480" y="2819160"/>
                  <a:ext cx="10670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 flipH="1" flipV="1">
                  <a:off x="5181480" y="2819160"/>
                  <a:ext cx="381240" cy="759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583440" y="2362320"/>
              <a:ext cx="1506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 + </a:t>
              </a:r>
              <a:r>
                <a:rPr b="0" i="1" lang="en-US" sz="4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02960" y="236232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Times New Roman"/>
                </a:rPr>
                <a:t>ES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105520" y="1905120"/>
              <a:ext cx="8046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i="1" lang="en-US" sz="4000" spc="-1" strike="noStrike" baseline="-25000">
                  <a:solidFill>
                    <a:srgbClr val="ffffff"/>
                  </a:solidFill>
                  <a:latin typeface="Times New Roman"/>
                </a:rPr>
                <a:t>+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86400" y="2819520"/>
              <a:ext cx="8049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i="1" lang="en-US" sz="4000" spc="-1" strike="noStrike" baseline="-25000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040640" y="4191120"/>
            <a:ext cx="3143520" cy="1206000"/>
            <a:chOff x="4040640" y="4191120"/>
            <a:chExt cx="3143520" cy="1206000"/>
          </a:xfrm>
        </p:grpSpPr>
        <p:sp>
          <p:nvSpPr>
            <p:cNvPr id="60" name=""/>
            <p:cNvSpPr/>
            <p:nvPr/>
          </p:nvSpPr>
          <p:spPr>
            <a:xfrm>
              <a:off x="4040640" y="457200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Times New Roman"/>
                </a:rPr>
                <a:t>ES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26640" y="457200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Times New Roman"/>
                </a:rPr>
                <a:t>ES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81480" y="4191120"/>
              <a:ext cx="8046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i="1" lang="en-US" sz="4000" spc="-1" strike="noStrike" baseline="-25000">
                  <a:solidFill>
                    <a:srgbClr val="ffffff"/>
                  </a:solidFill>
                  <a:latin typeface="Times New Roman"/>
                </a:rPr>
                <a:t>+2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8840" y="5029200"/>
              <a:ext cx="1067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hyperbolic MM rate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523880" y="1752480"/>
                <a:ext cx="6096240" cy="432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S</m:t>
                            </m:r>
                            <m:r>
                              <m:t xml:space="preserve">]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438280" y="4648320"/>
            <a:ext cx="4191120" cy="1447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440440" y="1523880"/>
            <a:ext cx="3677040" cy="1701720"/>
            <a:chOff x="2440440" y="1523880"/>
            <a:chExt cx="3677040" cy="1701720"/>
          </a:xfrm>
        </p:grpSpPr>
        <p:grpSp>
          <p:nvGrpSpPr>
            <p:cNvPr id="68" name=""/>
            <p:cNvGrpSpPr/>
            <p:nvPr/>
          </p:nvGrpSpPr>
          <p:grpSpPr>
            <a:xfrm>
              <a:off x="4038480" y="2285640"/>
              <a:ext cx="1067040" cy="228240"/>
              <a:chOff x="4038480" y="2285640"/>
              <a:chExt cx="1067040" cy="2282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4038480" y="2285640"/>
                <a:ext cx="1067040" cy="76320"/>
                <a:chOff x="4038480" y="2285640"/>
                <a:chExt cx="1067040" cy="7632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4038480" y="2361960"/>
                  <a:ext cx="10670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4724280" y="2285640"/>
                  <a:ext cx="381240" cy="763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038480" y="2437920"/>
                <a:ext cx="1067040" cy="75960"/>
                <a:chOff x="4038480" y="2437920"/>
                <a:chExt cx="1067040" cy="75960"/>
              </a:xfrm>
            </p:grpSpPr>
            <p:sp>
              <p:nvSpPr>
                <p:cNvPr id="73" name=""/>
                <p:cNvSpPr/>
                <p:nvPr/>
              </p:nvSpPr>
              <p:spPr>
                <a:xfrm flipH="1">
                  <a:off x="4038480" y="2437920"/>
                  <a:ext cx="10670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H="1" flipV="1">
                  <a:off x="4038480" y="2437920"/>
                  <a:ext cx="381240" cy="759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" name=""/>
            <p:cNvSpPr/>
            <p:nvPr/>
          </p:nvSpPr>
          <p:spPr>
            <a:xfrm>
              <a:off x="2440440" y="1981080"/>
              <a:ext cx="1506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 + </a:t>
              </a:r>
              <a:r>
                <a:rPr b="0" i="1" lang="en-US" sz="4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59960" y="198108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Times New Roman"/>
                </a:rPr>
                <a:t>ES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62520" y="1523880"/>
              <a:ext cx="8046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i="1" lang="en-US" sz="4000" spc="-1" strike="noStrike" baseline="-25000">
                  <a:solidFill>
                    <a:srgbClr val="ffffff"/>
                  </a:solidFill>
                  <a:latin typeface="Times New Roman"/>
                </a:rPr>
                <a:t>+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343400" y="2438280"/>
              <a:ext cx="8049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i="1" lang="en-US" sz="4000" spc="-1" strike="noStrike" baseline="-25000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57200" y="3352680"/>
                <a:ext cx="81532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]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257800" y="4572000"/>
                <a:ext cx="335268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" name=""/>
          <p:cNvGrpSpPr/>
          <p:nvPr/>
        </p:nvGrpSpPr>
        <p:grpSpPr>
          <a:xfrm>
            <a:off x="1754640" y="4267080"/>
            <a:ext cx="3295800" cy="1701720"/>
            <a:chOff x="1754640" y="4267080"/>
            <a:chExt cx="3295800" cy="1701720"/>
          </a:xfrm>
        </p:grpSpPr>
        <p:grpSp>
          <p:nvGrpSpPr>
            <p:cNvPr id="83" name=""/>
            <p:cNvGrpSpPr/>
            <p:nvPr/>
          </p:nvGrpSpPr>
          <p:grpSpPr>
            <a:xfrm>
              <a:off x="2362320" y="5029200"/>
              <a:ext cx="1599840" cy="228240"/>
              <a:chOff x="2362320" y="5029200"/>
              <a:chExt cx="1599840" cy="22824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2362320" y="5029200"/>
                <a:ext cx="1599480" cy="76320"/>
                <a:chOff x="2362320" y="5029200"/>
                <a:chExt cx="1599480" cy="763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2362320" y="5105520"/>
                  <a:ext cx="15994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390120" y="5029200"/>
                  <a:ext cx="571320" cy="763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2362680" y="5181480"/>
                <a:ext cx="1599480" cy="75960"/>
                <a:chOff x="2362680" y="5181480"/>
                <a:chExt cx="1599480" cy="75960"/>
              </a:xfrm>
            </p:grpSpPr>
            <p:sp>
              <p:nvSpPr>
                <p:cNvPr id="88" name=""/>
                <p:cNvSpPr/>
                <p:nvPr/>
              </p:nvSpPr>
              <p:spPr>
                <a:xfrm flipH="1">
                  <a:off x="2362680" y="5181480"/>
                  <a:ext cx="15994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flipH="1" flipV="1">
                  <a:off x="2363040" y="5181480"/>
                  <a:ext cx="571320" cy="759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0" name=""/>
            <p:cNvSpPr/>
            <p:nvPr/>
          </p:nvSpPr>
          <p:spPr>
            <a:xfrm>
              <a:off x="1754640" y="4724280"/>
              <a:ext cx="704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40640" y="4724280"/>
              <a:ext cx="1009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Times New Roman"/>
                </a:rPr>
                <a:t>ES,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8120" y="5181480"/>
              <a:ext cx="8046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i="1" lang="en-US" sz="4000" spc="-1" strike="noStrike" baseline="-25000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2514600" y="4267080"/>
                  <a:ext cx="692280" cy="73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</m:e>
                        <m:sub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action of the Enzyme Molecules in the Complex – with Substrate Bound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71600" y="2286000"/>
                <a:ext cx="6248520" cy="359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S</m:t>
                            </m:r>
                            <m:r>
                              <m:t xml:space="preserve">]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num>
                          <m:den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num>
                          <m:den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 Enzyme with Four Identical, Independent Si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126240" y="1828800"/>
            <a:ext cx="2914560" cy="1777680"/>
            <a:chOff x="3126240" y="1828800"/>
            <a:chExt cx="2914560" cy="1777680"/>
          </a:xfrm>
        </p:grpSpPr>
        <p:grpSp>
          <p:nvGrpSpPr>
            <p:cNvPr id="98" name=""/>
            <p:cNvGrpSpPr/>
            <p:nvPr/>
          </p:nvGrpSpPr>
          <p:grpSpPr>
            <a:xfrm>
              <a:off x="3733560" y="2666880"/>
              <a:ext cx="1218960" cy="228240"/>
              <a:chOff x="3733560" y="2666880"/>
              <a:chExt cx="1218960" cy="22824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3733560" y="2666880"/>
                <a:ext cx="1218600" cy="76320"/>
                <a:chOff x="3733560" y="2666880"/>
                <a:chExt cx="1218600" cy="763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733560" y="2743200"/>
                  <a:ext cx="121860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516920" y="2666880"/>
                  <a:ext cx="435240" cy="763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733920" y="2819160"/>
                <a:ext cx="1218600" cy="75960"/>
                <a:chOff x="3733920" y="2819160"/>
                <a:chExt cx="1218600" cy="75960"/>
              </a:xfrm>
            </p:grpSpPr>
            <p:sp>
              <p:nvSpPr>
                <p:cNvPr id="103" name=""/>
                <p:cNvSpPr/>
                <p:nvPr/>
              </p:nvSpPr>
              <p:spPr>
                <a:xfrm flipH="1">
                  <a:off x="3733920" y="2819160"/>
                  <a:ext cx="121860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 flipV="1">
                  <a:off x="3733920" y="2819160"/>
                  <a:ext cx="435240" cy="759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5" name=""/>
            <p:cNvSpPr/>
            <p:nvPr/>
          </p:nvSpPr>
          <p:spPr>
            <a:xfrm>
              <a:off x="3126240" y="2361960"/>
              <a:ext cx="704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31000" y="2361960"/>
              <a:ext cx="1009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Times New Roman"/>
                </a:rPr>
                <a:t>ES,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14440" y="2819160"/>
              <a:ext cx="8049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i="1" lang="en-US" sz="4000" spc="-1" strike="noStrike" baseline="-25000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3736800" y="1828800"/>
                  <a:ext cx="7952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</m:e>
                        <m:sub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" name=""/>
          <p:cNvGrpSpPr/>
          <p:nvPr/>
        </p:nvGrpSpPr>
        <p:grpSpPr>
          <a:xfrm>
            <a:off x="459360" y="3809880"/>
            <a:ext cx="8439120" cy="1854000"/>
            <a:chOff x="459360" y="3809880"/>
            <a:chExt cx="8439120" cy="1854000"/>
          </a:xfrm>
        </p:grpSpPr>
        <p:sp>
          <p:nvSpPr>
            <p:cNvPr id="110" name=""/>
            <p:cNvSpPr/>
            <p:nvPr/>
          </p:nvSpPr>
          <p:spPr>
            <a:xfrm>
              <a:off x="459360" y="4343040"/>
              <a:ext cx="704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1067040" y="3809880"/>
              <a:ext cx="1773720" cy="1854000"/>
              <a:chOff x="1067040" y="3809880"/>
              <a:chExt cx="1773720" cy="185400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1067040" y="4647960"/>
                <a:ext cx="838080" cy="228240"/>
                <a:chOff x="1067040" y="4647960"/>
                <a:chExt cx="838080" cy="22824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1067040" y="4647960"/>
                  <a:ext cx="838080" cy="76320"/>
                  <a:chOff x="1067040" y="4647960"/>
                  <a:chExt cx="838080" cy="7632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1067040" y="4724280"/>
                    <a:ext cx="83808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1605600" y="4647960"/>
                    <a:ext cx="299160" cy="763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1067040" y="4800240"/>
                  <a:ext cx="838080" cy="75960"/>
                  <a:chOff x="1067040" y="4800240"/>
                  <a:chExt cx="838080" cy="7596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flipH="1">
                    <a:off x="1067040" y="4800240"/>
                    <a:ext cx="83808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flipH="1" flipV="1">
                    <a:off x="1067400" y="4800240"/>
                    <a:ext cx="299160" cy="759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9" name=""/>
              <p:cNvSpPr/>
              <p:nvPr/>
            </p:nvSpPr>
            <p:spPr>
              <a:xfrm>
                <a:off x="1983240" y="4343040"/>
                <a:ext cx="857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800" spc="-1" strike="noStrike">
                    <a:solidFill>
                      <a:srgbClr val="ffffff"/>
                    </a:solidFill>
                    <a:latin typeface="Times New Roman"/>
                  </a:rPr>
                  <a:t>ES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219320" y="4876560"/>
                <a:ext cx="80424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ffff"/>
                    </a:solidFill>
                    <a:latin typeface="Times New Roman"/>
                  </a:rPr>
                  <a:t>k</a:t>
                </a:r>
                <a:r>
                  <a:rPr b="1" i="1" lang="en-US" sz="4000" spc="-1" strike="noStrike" baseline="-25000">
                    <a:solidFill>
                      <a:srgbClr val="ffffff"/>
                    </a:solidFill>
                    <a:latin typeface="Times New Roman"/>
                  </a:rPr>
                  <a:t>-1</a:t>
                </a:r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1" name=""/>
                  <p:cNvSpPr txBox="1"/>
                  <p:nvPr/>
                </p:nvSpPr>
                <p:spPr>
                  <a:xfrm>
                    <a:off x="1069920" y="3809880"/>
                    <a:ext cx="794880" cy="838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22" name=""/>
            <p:cNvGrpSpPr/>
            <p:nvPr/>
          </p:nvGrpSpPr>
          <p:grpSpPr>
            <a:xfrm>
              <a:off x="2971440" y="3809880"/>
              <a:ext cx="1964520" cy="1854000"/>
              <a:chOff x="2971440" y="3809880"/>
              <a:chExt cx="1964520" cy="185400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2971440" y="4647960"/>
                <a:ext cx="838800" cy="228240"/>
                <a:chOff x="2971440" y="4647960"/>
                <a:chExt cx="838800" cy="228240"/>
              </a:xfrm>
            </p:grpSpPr>
            <p:grpSp>
              <p:nvGrpSpPr>
                <p:cNvPr id="124" name=""/>
                <p:cNvGrpSpPr/>
                <p:nvPr/>
              </p:nvGrpSpPr>
              <p:grpSpPr>
                <a:xfrm>
                  <a:off x="2971800" y="4647960"/>
                  <a:ext cx="838440" cy="76320"/>
                  <a:chOff x="2971800" y="4647960"/>
                  <a:chExt cx="838440" cy="7632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2971800" y="4724280"/>
                    <a:ext cx="83844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3510720" y="4647960"/>
                    <a:ext cx="299520" cy="763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2971440" y="4800240"/>
                  <a:ext cx="838440" cy="75960"/>
                  <a:chOff x="2971440" y="4800240"/>
                  <a:chExt cx="838440" cy="7596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flipH="1">
                    <a:off x="2971440" y="4800240"/>
                    <a:ext cx="83844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H="1" flipV="1">
                    <a:off x="2971440" y="4800240"/>
                    <a:ext cx="299520" cy="759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0" name=""/>
              <p:cNvSpPr/>
              <p:nvPr/>
            </p:nvSpPr>
            <p:spPr>
              <a:xfrm>
                <a:off x="3901680" y="4343040"/>
                <a:ext cx="103428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800" spc="-1" strike="noStrike">
                    <a:solidFill>
                      <a:srgbClr val="ffffff"/>
                    </a:solidFill>
                    <a:latin typeface="Times New Roman"/>
                  </a:rPr>
                  <a:t>ES</a:t>
                </a:r>
                <a:r>
                  <a:rPr b="0" i="1" lang="en-US" sz="48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124440" y="4876560"/>
                <a:ext cx="80460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ffff"/>
                    </a:solidFill>
                    <a:latin typeface="Times New Roman"/>
                  </a:rPr>
                  <a:t>k</a:t>
                </a:r>
                <a:r>
                  <a:rPr b="1" i="1" lang="en-US" sz="4000" spc="-1" strike="noStrike" baseline="-25000">
                    <a:solidFill>
                      <a:srgbClr val="ffffff"/>
                    </a:solidFill>
                    <a:latin typeface="Times New Roman"/>
                  </a:rPr>
                  <a:t>-1</a:t>
                </a:r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2" name=""/>
                  <p:cNvSpPr txBox="1"/>
                  <p:nvPr/>
                </p:nvSpPr>
                <p:spPr>
                  <a:xfrm>
                    <a:off x="2975040" y="3809880"/>
                    <a:ext cx="795240" cy="838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33" name=""/>
            <p:cNvGrpSpPr/>
            <p:nvPr/>
          </p:nvGrpSpPr>
          <p:grpSpPr>
            <a:xfrm>
              <a:off x="4952880" y="3809880"/>
              <a:ext cx="1964520" cy="1854000"/>
              <a:chOff x="4952880" y="3809880"/>
              <a:chExt cx="1964520" cy="185400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4952880" y="4647960"/>
                <a:ext cx="838800" cy="228240"/>
                <a:chOff x="4952880" y="4647960"/>
                <a:chExt cx="838800" cy="228240"/>
              </a:xfrm>
            </p:grpSpPr>
            <p:grpSp>
              <p:nvGrpSpPr>
                <p:cNvPr id="135" name=""/>
                <p:cNvGrpSpPr/>
                <p:nvPr/>
              </p:nvGrpSpPr>
              <p:grpSpPr>
                <a:xfrm>
                  <a:off x="4953240" y="4647960"/>
                  <a:ext cx="838440" cy="76320"/>
                  <a:chOff x="4953240" y="4647960"/>
                  <a:chExt cx="838440" cy="763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4953240" y="4724280"/>
                    <a:ext cx="83844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492160" y="4647960"/>
                    <a:ext cx="299520" cy="763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4952880" y="4800240"/>
                  <a:ext cx="838440" cy="75960"/>
                  <a:chOff x="4952880" y="4800240"/>
                  <a:chExt cx="838440" cy="7596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 flipH="1">
                    <a:off x="4952880" y="4800240"/>
                    <a:ext cx="83844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flipH="1" flipV="1">
                    <a:off x="4952880" y="4800240"/>
                    <a:ext cx="299520" cy="759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"/>
              <p:cNvSpPr/>
              <p:nvPr/>
            </p:nvSpPr>
            <p:spPr>
              <a:xfrm>
                <a:off x="5883120" y="4343040"/>
                <a:ext cx="103428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800" spc="-1" strike="noStrike">
                    <a:solidFill>
                      <a:srgbClr val="ffffff"/>
                    </a:solidFill>
                    <a:latin typeface="Times New Roman"/>
                  </a:rPr>
                  <a:t>ES</a:t>
                </a:r>
                <a:r>
                  <a:rPr b="0" i="1" lang="en-US" sz="48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105880" y="4876560"/>
                <a:ext cx="80460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ffff"/>
                    </a:solidFill>
                    <a:latin typeface="Times New Roman"/>
                  </a:rPr>
                  <a:t>k</a:t>
                </a:r>
                <a:r>
                  <a:rPr b="1" i="1" lang="en-US" sz="4000" spc="-1" strike="noStrike" baseline="-25000">
                    <a:solidFill>
                      <a:srgbClr val="ffffff"/>
                    </a:solidFill>
                    <a:latin typeface="Times New Roman"/>
                  </a:rPr>
                  <a:t>-1</a:t>
                </a:r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3" name=""/>
                  <p:cNvSpPr txBox="1"/>
                  <p:nvPr/>
                </p:nvSpPr>
                <p:spPr>
                  <a:xfrm>
                    <a:off x="4956480" y="3809880"/>
                    <a:ext cx="795240" cy="838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4" name=""/>
            <p:cNvGrpSpPr/>
            <p:nvPr/>
          </p:nvGrpSpPr>
          <p:grpSpPr>
            <a:xfrm>
              <a:off x="6933960" y="3809880"/>
              <a:ext cx="1964520" cy="1854000"/>
              <a:chOff x="6933960" y="3809880"/>
              <a:chExt cx="1964520" cy="185400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6933960" y="4647960"/>
                <a:ext cx="838800" cy="228240"/>
                <a:chOff x="6933960" y="4647960"/>
                <a:chExt cx="838800" cy="228240"/>
              </a:xfrm>
            </p:grpSpPr>
            <p:grpSp>
              <p:nvGrpSpPr>
                <p:cNvPr id="146" name=""/>
                <p:cNvGrpSpPr/>
                <p:nvPr/>
              </p:nvGrpSpPr>
              <p:grpSpPr>
                <a:xfrm>
                  <a:off x="6934320" y="4647960"/>
                  <a:ext cx="838440" cy="76320"/>
                  <a:chOff x="6934320" y="4647960"/>
                  <a:chExt cx="838440" cy="7632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6934320" y="4724280"/>
                    <a:ext cx="83844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7473240" y="4647960"/>
                    <a:ext cx="299520" cy="763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6933960" y="4800240"/>
                  <a:ext cx="838440" cy="75960"/>
                  <a:chOff x="6933960" y="4800240"/>
                  <a:chExt cx="838440" cy="7596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flipH="1">
                    <a:off x="6933960" y="4800240"/>
                    <a:ext cx="83844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H="1" flipV="1">
                    <a:off x="6933960" y="4800240"/>
                    <a:ext cx="299520" cy="759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2" name=""/>
              <p:cNvSpPr/>
              <p:nvPr/>
            </p:nvSpPr>
            <p:spPr>
              <a:xfrm>
                <a:off x="7864200" y="4343040"/>
                <a:ext cx="103428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800" spc="-1" strike="noStrike">
                    <a:solidFill>
                      <a:srgbClr val="ffffff"/>
                    </a:solidFill>
                    <a:latin typeface="Times New Roman"/>
                  </a:rPr>
                  <a:t>ES</a:t>
                </a:r>
                <a:r>
                  <a:rPr b="0" i="1" lang="en-US" sz="4800" spc="-1" strike="noStrike" baseline="-25000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086960" y="4876560"/>
                <a:ext cx="80460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ffff"/>
                    </a:solidFill>
                    <a:latin typeface="Times New Roman"/>
                  </a:rPr>
                  <a:t>k</a:t>
                </a:r>
                <a:r>
                  <a:rPr b="1" i="1" lang="en-US" sz="4000" spc="-1" strike="noStrike" baseline="-25000">
                    <a:solidFill>
                      <a:srgbClr val="ffffff"/>
                    </a:solidFill>
                    <a:latin typeface="Times New Roman"/>
                  </a:rPr>
                  <a:t>-1</a:t>
                </a:r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4" name=""/>
                  <p:cNvSpPr txBox="1"/>
                  <p:nvPr/>
                </p:nvSpPr>
                <p:spPr>
                  <a:xfrm>
                    <a:off x="6937560" y="3809880"/>
                    <a:ext cx="795240" cy="838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55" name=""/>
          <p:cNvGrpSpPr/>
          <p:nvPr/>
        </p:nvGrpSpPr>
        <p:grpSpPr>
          <a:xfrm>
            <a:off x="459720" y="3809880"/>
            <a:ext cx="8438760" cy="1854000"/>
            <a:chOff x="459720" y="3809880"/>
            <a:chExt cx="8438760" cy="1854000"/>
          </a:xfrm>
        </p:grpSpPr>
        <p:sp>
          <p:nvSpPr>
            <p:cNvPr id="156" name=""/>
            <p:cNvSpPr/>
            <p:nvPr/>
          </p:nvSpPr>
          <p:spPr>
            <a:xfrm>
              <a:off x="459720" y="4343400"/>
              <a:ext cx="704880" cy="825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1067040" y="4647960"/>
              <a:ext cx="838080" cy="228240"/>
              <a:chOff x="1067040" y="4647960"/>
              <a:chExt cx="838080" cy="22824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1067040" y="4647960"/>
                <a:ext cx="838080" cy="76320"/>
                <a:chOff x="1067040" y="4647960"/>
                <a:chExt cx="838080" cy="763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1067040" y="4724280"/>
                  <a:ext cx="8380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605600" y="4647960"/>
                  <a:ext cx="299160" cy="763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1067040" y="4800240"/>
                <a:ext cx="838080" cy="75960"/>
                <a:chOff x="1067040" y="4800240"/>
                <a:chExt cx="838080" cy="75960"/>
              </a:xfrm>
            </p:grpSpPr>
            <p:sp>
              <p:nvSpPr>
                <p:cNvPr id="162" name=""/>
                <p:cNvSpPr/>
                <p:nvPr/>
              </p:nvSpPr>
              <p:spPr>
                <a:xfrm flipH="1">
                  <a:off x="1067040" y="4800240"/>
                  <a:ext cx="8380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 flipV="1">
                  <a:off x="1067400" y="4800240"/>
                  <a:ext cx="299160" cy="759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4" name=""/>
            <p:cNvSpPr/>
            <p:nvPr/>
          </p:nvSpPr>
          <p:spPr>
            <a:xfrm>
              <a:off x="1983600" y="4343400"/>
              <a:ext cx="857520" cy="825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Times New Roman"/>
                </a:rPr>
                <a:t>ES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4876560"/>
              <a:ext cx="804960" cy="787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i="1" lang="en-US" sz="4000" spc="-1" strike="noStrike" baseline="-25000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916200" y="3809880"/>
                  <a:ext cx="11048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</m:e>
                        <m:sub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167" name=""/>
            <p:cNvGrpSpPr/>
            <p:nvPr/>
          </p:nvGrpSpPr>
          <p:grpSpPr>
            <a:xfrm>
              <a:off x="2971440" y="4647960"/>
              <a:ext cx="838800" cy="228240"/>
              <a:chOff x="2971440" y="4647960"/>
              <a:chExt cx="838800" cy="22824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2971800" y="4647960"/>
                <a:ext cx="838440" cy="76320"/>
                <a:chOff x="2971800" y="4647960"/>
                <a:chExt cx="838440" cy="763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971800" y="4724280"/>
                  <a:ext cx="8384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510720" y="4647960"/>
                  <a:ext cx="299520" cy="763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971440" y="4800240"/>
                <a:ext cx="838440" cy="75960"/>
                <a:chOff x="2971440" y="4800240"/>
                <a:chExt cx="838440" cy="75960"/>
              </a:xfrm>
            </p:grpSpPr>
            <p:sp>
              <p:nvSpPr>
                <p:cNvPr id="172" name=""/>
                <p:cNvSpPr/>
                <p:nvPr/>
              </p:nvSpPr>
              <p:spPr>
                <a:xfrm flipH="1">
                  <a:off x="2971440" y="4800240"/>
                  <a:ext cx="8384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 flipV="1">
                  <a:off x="2971440" y="4800240"/>
                  <a:ext cx="299520" cy="759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>
              <a:off x="3901680" y="4343400"/>
              <a:ext cx="1034280" cy="926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Times New Roman"/>
                </a:rPr>
                <a:t>ES</a:t>
              </a:r>
              <a:r>
                <a:rPr b="0" i="1" lang="en-US" sz="4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18080" y="4876560"/>
              <a:ext cx="1066680" cy="787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Times New Roman"/>
                </a:rPr>
                <a:t>2k</a:t>
              </a:r>
              <a:r>
                <a:rPr b="1" i="1" lang="en-US" sz="4000" spc="-1" strike="noStrike" baseline="-25000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2820960" y="3809880"/>
                  <a:ext cx="11052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</m:e>
                        <m:sub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177" name=""/>
            <p:cNvGrpSpPr/>
            <p:nvPr/>
          </p:nvGrpSpPr>
          <p:grpSpPr>
            <a:xfrm>
              <a:off x="4953240" y="4647960"/>
              <a:ext cx="838080" cy="228240"/>
              <a:chOff x="4953240" y="4647960"/>
              <a:chExt cx="838080" cy="22824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4953240" y="4647960"/>
                <a:ext cx="838080" cy="76320"/>
                <a:chOff x="4953240" y="4647960"/>
                <a:chExt cx="838080" cy="763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953240" y="4724280"/>
                  <a:ext cx="8380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491800" y="4647960"/>
                  <a:ext cx="299160" cy="763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953240" y="4800240"/>
                <a:ext cx="838080" cy="75960"/>
                <a:chOff x="4953240" y="4800240"/>
                <a:chExt cx="838080" cy="75960"/>
              </a:xfrm>
            </p:grpSpPr>
            <p:sp>
              <p:nvSpPr>
                <p:cNvPr id="182" name=""/>
                <p:cNvSpPr/>
                <p:nvPr/>
              </p:nvSpPr>
              <p:spPr>
                <a:xfrm flipH="1">
                  <a:off x="4953240" y="4800240"/>
                  <a:ext cx="8380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 flipV="1">
                  <a:off x="4953600" y="4800240"/>
                  <a:ext cx="299160" cy="759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4" name=""/>
            <p:cNvSpPr/>
            <p:nvPr/>
          </p:nvSpPr>
          <p:spPr>
            <a:xfrm>
              <a:off x="5883120" y="4343400"/>
              <a:ext cx="1034280" cy="926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Times New Roman"/>
                </a:rPr>
                <a:t>ES</a:t>
              </a:r>
              <a:r>
                <a:rPr b="0" i="1" lang="en-US" sz="48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51440" y="4876560"/>
              <a:ext cx="990720" cy="787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Times New Roman"/>
                </a:rPr>
                <a:t>3k</a:t>
              </a:r>
              <a:r>
                <a:rPr b="1" i="1" lang="en-US" sz="4000" spc="-1" strike="noStrike" baseline="-25000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802400" y="3809880"/>
                  <a:ext cx="11048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</m:e>
                        <m:sub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187" name=""/>
            <p:cNvGrpSpPr/>
            <p:nvPr/>
          </p:nvGrpSpPr>
          <p:grpSpPr>
            <a:xfrm>
              <a:off x="6934320" y="4647960"/>
              <a:ext cx="838080" cy="228240"/>
              <a:chOff x="6934320" y="4647960"/>
              <a:chExt cx="838080" cy="22824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6934320" y="4647960"/>
                <a:ext cx="838080" cy="76320"/>
                <a:chOff x="6934320" y="4647960"/>
                <a:chExt cx="838080" cy="763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934320" y="4724280"/>
                  <a:ext cx="8380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472880" y="4647960"/>
                  <a:ext cx="299160" cy="763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6934320" y="4800240"/>
                <a:ext cx="838080" cy="75960"/>
                <a:chOff x="6934320" y="4800240"/>
                <a:chExt cx="838080" cy="75960"/>
              </a:xfrm>
            </p:grpSpPr>
            <p:sp>
              <p:nvSpPr>
                <p:cNvPr id="192" name=""/>
                <p:cNvSpPr/>
                <p:nvPr/>
              </p:nvSpPr>
              <p:spPr>
                <a:xfrm flipH="1">
                  <a:off x="6934320" y="4800240"/>
                  <a:ext cx="8380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flipV="1">
                  <a:off x="6934680" y="4800240"/>
                  <a:ext cx="299160" cy="759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"/>
            <p:cNvSpPr/>
            <p:nvPr/>
          </p:nvSpPr>
          <p:spPr>
            <a:xfrm>
              <a:off x="7864200" y="4343400"/>
              <a:ext cx="1034280" cy="926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Times New Roman"/>
                </a:rPr>
                <a:t>ES</a:t>
              </a:r>
              <a:r>
                <a:rPr b="0" i="1" lang="en-US" sz="48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56560" y="4876560"/>
              <a:ext cx="1066680" cy="787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Times New Roman"/>
                </a:rPr>
                <a:t>4k</a:t>
              </a:r>
              <a:r>
                <a:rPr b="1" i="1" lang="en-US" sz="4000" spc="-1" strike="noStrike" baseline="-25000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6937560" y="3809880"/>
                  <a:ext cx="7952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</m:e>
                        <m:sub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lative Populations &amp; Prob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07080" y="1523880"/>
            <a:ext cx="8438400" cy="1854000"/>
            <a:chOff x="307080" y="1523880"/>
            <a:chExt cx="8438400" cy="1854000"/>
          </a:xfrm>
        </p:grpSpPr>
        <p:sp>
          <p:nvSpPr>
            <p:cNvPr id="199" name=""/>
            <p:cNvSpPr/>
            <p:nvPr/>
          </p:nvSpPr>
          <p:spPr>
            <a:xfrm>
              <a:off x="307080" y="2057400"/>
              <a:ext cx="704880" cy="825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914040" y="2361960"/>
              <a:ext cx="838080" cy="228240"/>
              <a:chOff x="914040" y="2361960"/>
              <a:chExt cx="838080" cy="2282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914400" y="2361960"/>
                <a:ext cx="837720" cy="76320"/>
                <a:chOff x="914400" y="2361960"/>
                <a:chExt cx="837720" cy="76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914400" y="2438280"/>
                  <a:ext cx="8377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452600" y="2361960"/>
                  <a:ext cx="299160" cy="763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914040" y="2514240"/>
                <a:ext cx="837720" cy="75960"/>
                <a:chOff x="914040" y="2514240"/>
                <a:chExt cx="837720" cy="75960"/>
              </a:xfrm>
            </p:grpSpPr>
            <p:sp>
              <p:nvSpPr>
                <p:cNvPr id="205" name=""/>
                <p:cNvSpPr/>
                <p:nvPr/>
              </p:nvSpPr>
              <p:spPr>
                <a:xfrm flipH="1">
                  <a:off x="914040" y="2514240"/>
                  <a:ext cx="8377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flipV="1">
                  <a:off x="914400" y="2514240"/>
                  <a:ext cx="299160" cy="759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7" name=""/>
            <p:cNvSpPr/>
            <p:nvPr/>
          </p:nvSpPr>
          <p:spPr>
            <a:xfrm>
              <a:off x="1830600" y="2057400"/>
              <a:ext cx="857520" cy="825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Times New Roman"/>
                </a:rPr>
                <a:t>ES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66680" y="2590560"/>
              <a:ext cx="804600" cy="787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i="1" lang="en-US" sz="4000" spc="-1" strike="noStrike" baseline="-25000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763560" y="1523880"/>
                  <a:ext cx="110448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</m:e>
                        <m:sub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210" name=""/>
            <p:cNvGrpSpPr/>
            <p:nvPr/>
          </p:nvGrpSpPr>
          <p:grpSpPr>
            <a:xfrm>
              <a:off x="2819160" y="2361960"/>
              <a:ext cx="838080" cy="228240"/>
              <a:chOff x="2819160" y="2361960"/>
              <a:chExt cx="838080" cy="22824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2819160" y="2361960"/>
                <a:ext cx="838080" cy="76320"/>
                <a:chOff x="2819160" y="2361960"/>
                <a:chExt cx="838080" cy="763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2819160" y="2438280"/>
                  <a:ext cx="8380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357720" y="2361960"/>
                  <a:ext cx="299160" cy="763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2819160" y="2514240"/>
                <a:ext cx="838080" cy="75960"/>
                <a:chOff x="2819160" y="2514240"/>
                <a:chExt cx="838080" cy="75960"/>
              </a:xfrm>
            </p:grpSpPr>
            <p:sp>
              <p:nvSpPr>
                <p:cNvPr id="215" name=""/>
                <p:cNvSpPr/>
                <p:nvPr/>
              </p:nvSpPr>
              <p:spPr>
                <a:xfrm flipH="1">
                  <a:off x="2819160" y="2514240"/>
                  <a:ext cx="8380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 flipV="1">
                  <a:off x="2819520" y="2514240"/>
                  <a:ext cx="299160" cy="759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" name=""/>
            <p:cNvSpPr/>
            <p:nvPr/>
          </p:nvSpPr>
          <p:spPr>
            <a:xfrm>
              <a:off x="3748680" y="2057400"/>
              <a:ext cx="1034280" cy="926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Times New Roman"/>
                </a:rPr>
                <a:t>ES</a:t>
              </a:r>
              <a:r>
                <a:rPr b="0" i="1" lang="en-US" sz="4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65440" y="2590560"/>
              <a:ext cx="1066320" cy="787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Times New Roman"/>
                </a:rPr>
                <a:t>2k</a:t>
              </a:r>
              <a:r>
                <a:rPr b="1" i="1" lang="en-US" sz="4000" spc="-1" strike="noStrike" baseline="-25000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2668320" y="1523880"/>
                  <a:ext cx="11048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</m:e>
                        <m:sub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220" name=""/>
            <p:cNvGrpSpPr/>
            <p:nvPr/>
          </p:nvGrpSpPr>
          <p:grpSpPr>
            <a:xfrm>
              <a:off x="4800240" y="2361960"/>
              <a:ext cx="838080" cy="228240"/>
              <a:chOff x="4800240" y="2361960"/>
              <a:chExt cx="838080" cy="22824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4800600" y="2361960"/>
                <a:ext cx="837720" cy="76320"/>
                <a:chOff x="4800600" y="2361960"/>
                <a:chExt cx="837720" cy="763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4800600" y="2438280"/>
                  <a:ext cx="8377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338800" y="2361960"/>
                  <a:ext cx="299160" cy="763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4800240" y="2514240"/>
                <a:ext cx="837720" cy="75960"/>
                <a:chOff x="4800240" y="2514240"/>
                <a:chExt cx="837720" cy="75960"/>
              </a:xfrm>
            </p:grpSpPr>
            <p:sp>
              <p:nvSpPr>
                <p:cNvPr id="225" name=""/>
                <p:cNvSpPr/>
                <p:nvPr/>
              </p:nvSpPr>
              <p:spPr>
                <a:xfrm flipH="1">
                  <a:off x="4800240" y="2514240"/>
                  <a:ext cx="8377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 flipV="1">
                  <a:off x="4800600" y="2514240"/>
                  <a:ext cx="299160" cy="759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7" name=""/>
            <p:cNvSpPr/>
            <p:nvPr/>
          </p:nvSpPr>
          <p:spPr>
            <a:xfrm>
              <a:off x="5730120" y="2057400"/>
              <a:ext cx="1034280" cy="926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Times New Roman"/>
                </a:rPr>
                <a:t>ES</a:t>
              </a:r>
              <a:r>
                <a:rPr b="0" i="1" lang="en-US" sz="48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98800" y="2590560"/>
              <a:ext cx="990360" cy="787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Times New Roman"/>
                </a:rPr>
                <a:t>3k</a:t>
              </a:r>
              <a:r>
                <a:rPr b="1" i="1" lang="en-US" sz="4000" spc="-1" strike="noStrike" baseline="-25000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4649760" y="1523880"/>
                  <a:ext cx="110448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</m:e>
                        <m:sub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230" name=""/>
            <p:cNvGrpSpPr/>
            <p:nvPr/>
          </p:nvGrpSpPr>
          <p:grpSpPr>
            <a:xfrm>
              <a:off x="6781320" y="2361960"/>
              <a:ext cx="838080" cy="228240"/>
              <a:chOff x="6781320" y="2361960"/>
              <a:chExt cx="838080" cy="2282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6781680" y="2361960"/>
                <a:ext cx="837720" cy="76320"/>
                <a:chOff x="6781680" y="2361960"/>
                <a:chExt cx="837720" cy="76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781680" y="2438280"/>
                  <a:ext cx="8377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319880" y="2361960"/>
                  <a:ext cx="299160" cy="763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6781320" y="2514240"/>
                <a:ext cx="837720" cy="75960"/>
                <a:chOff x="6781320" y="2514240"/>
                <a:chExt cx="837720" cy="75960"/>
              </a:xfrm>
            </p:grpSpPr>
            <p:sp>
              <p:nvSpPr>
                <p:cNvPr id="235" name=""/>
                <p:cNvSpPr/>
                <p:nvPr/>
              </p:nvSpPr>
              <p:spPr>
                <a:xfrm flipH="1">
                  <a:off x="6781320" y="2514240"/>
                  <a:ext cx="8377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flipV="1">
                  <a:off x="6781680" y="2514240"/>
                  <a:ext cx="299160" cy="759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"/>
            <p:cNvSpPr/>
            <p:nvPr/>
          </p:nvSpPr>
          <p:spPr>
            <a:xfrm>
              <a:off x="7711200" y="2057400"/>
              <a:ext cx="1034280" cy="926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Times New Roman"/>
                </a:rPr>
                <a:t>ES</a:t>
              </a:r>
              <a:r>
                <a:rPr b="0" i="1" lang="en-US" sz="48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03920" y="2590560"/>
              <a:ext cx="1066320" cy="787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Times New Roman"/>
                </a:rPr>
                <a:t>4k</a:t>
              </a:r>
              <a:r>
                <a:rPr b="1" i="1" lang="en-US" sz="4000" spc="-1" strike="noStrike" baseline="-25000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6784920" y="1523880"/>
                  <a:ext cx="79488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</m:e>
                        <m:sub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486400" y="3641760"/>
                <a:ext cx="1295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7315200" y="3657600"/>
                <a:ext cx="16002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809880" y="3657600"/>
                <a:ext cx="91440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549360" y="3809880"/>
            <a:ext cx="485640" cy="8251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981080" y="4038480"/>
                <a:ext cx="762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5" name=""/>
          <p:cNvGrpSpPr/>
          <p:nvPr/>
        </p:nvGrpSpPr>
        <p:grpSpPr>
          <a:xfrm>
            <a:off x="380880" y="4800600"/>
            <a:ext cx="8610840" cy="1281240"/>
            <a:chOff x="380880" y="4800600"/>
            <a:chExt cx="8610840" cy="1281240"/>
          </a:xfrm>
        </p:grpSpPr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1523880" y="4876920"/>
                  <a:ext cx="5645160" cy="12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!</m:t>
                          </m:r>
                          <m:r>
                            <m:t xml:space="preserve">2</m:t>
                          </m:r>
                          <m:r>
                            <m:t xml:space="preserve">!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!</m:t>
                          </m:r>
                          <m:r>
                            <m:t xml:space="preserve">1</m:t>
                          </m:r>
                          <m:r>
                            <m:t xml:space="preserve">!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47" name=""/>
            <p:cNvSpPr/>
            <p:nvPr/>
          </p:nvSpPr>
          <p:spPr>
            <a:xfrm>
              <a:off x="380880" y="4800600"/>
              <a:ext cx="86108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447920" y="152280"/>
                <a:ext cx="564516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295280" y="1523880"/>
                <a:ext cx="5943600" cy="10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438280" y="2666880"/>
                <a:ext cx="571500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526320" y="4114800"/>
            <a:ext cx="52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 # of ligands per enzy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9440" y="2971800"/>
            <a:ext cx="20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a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362320" y="4876920"/>
                <a:ext cx="44956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6T20:28:55Z</dcterms:created>
  <dc:creator>Applied Math</dc:creator>
  <dc:description/>
  <dc:language>en-US</dc:language>
  <cp:lastModifiedBy>qian_2nd</cp:lastModifiedBy>
  <dcterms:modified xsi:type="dcterms:W3CDTF">2010-08-21T23:22:12Z</dcterms:modified>
  <cp:revision>1329</cp:revision>
  <dc:subject/>
  <dc:title>Macromolecular Mechanics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amath.washington.edu/~qian</vt:lpwstr>
  </property>
  <property fmtid="{D5CDD505-2E9C-101B-9397-08002B2CF9AE}" pid="9" name="LinkColor">
    <vt:r8>16711782</vt:r8>
  </property>
  <property fmtid="{D5CDD505-2E9C-101B-9397-08002B2CF9AE}" pid="10" name="MailAddress">
    <vt:lpwstr>qian@amath.washington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WINDOWS\Personal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