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7051A-503D-42C8-AC74-CFEF809C9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B57A6-1DBF-427B-96FB-8683DE38B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83667-FA16-4D2E-A5E2-F88BAD16F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4FEBF-EC89-40D7-8FC2-A9039B0E9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618DA-D05E-4462-91C4-926591E7B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1E71E-3D8D-4DC2-B63B-653B372E1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84830-4A16-4EF2-85FF-82E3EAA8B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55F6F-2541-40D0-825E-36AAA0B1D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BD4B5-E0F5-4A01-A808-DE64CD150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913AF-699A-4EA8-88B2-522BA48BF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DA47E-C688-4BD0-A327-B76C98290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4BB85-78E6-4DB7-8379-AB30C1C9C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itstream Vera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343080" indent="-34308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343080" indent="-34308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3" marL="343080" indent="-34308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4" marL="343080" indent="-34308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5" marL="343080" indent="-34308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6" marL="343080" indent="-34308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Bitstream Vera Serif"/>
                <a:ea typeface="Luxi Sans"/>
              </a:defRPr>
            </a:lvl1pPr>
          </a:lstStyle>
          <a:p>
            <a: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Vera Serif"/>
                <a:ea typeface="Luxi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Bitstream Vera Serif"/>
                <a:ea typeface="Luxi Sans"/>
              </a:defRPr>
            </a:lvl1pPr>
          </a:lstStyle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Vera Serif"/>
                <a:ea typeface="Luxi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Bitstream Vera Serif"/>
                <a:ea typeface="Luxi Sans"/>
              </a:defRPr>
            </a:lvl1pPr>
          </a:lstStyle>
          <a:p>
            <a: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E238AE-AC95-4EEF-93B5-25A7DA257C20}" type="slidenum">
              <a:rPr b="0" lang="en-US" sz="1400" spc="-1" strike="noStrike">
                <a:solidFill>
                  <a:srgbClr val="000000"/>
                </a:solidFill>
                <a:latin typeface="Bitstream Vera Serif"/>
                <a:ea typeface="Luxi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429000" y="301320"/>
            <a:ext cx="614664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1116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74760" y="1600200"/>
            <a:ext cx="5797440" cy="544680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431640" indent="-323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General Modeling Issues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-323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Technology Survey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-323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Discussion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3" name=""/>
          <p:cNvSpPr/>
          <p:nvPr/>
        </p:nvSpPr>
        <p:spPr>
          <a:xfrm>
            <a:off x="6485040" y="5776920"/>
            <a:ext cx="2841480" cy="13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6160" bIns="450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Bitstream Vera Sans"/>
              </a:rPr>
              <a:t>Modeling</a:t>
            </a: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  <a:p>
            <a:pPr>
              <a:lnSpc>
                <a:spcPct val="9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Bitstream Vera Sans"/>
              </a:rPr>
              <a:t>Platforms</a:t>
            </a: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4" name=""/>
          <p:cNvSpPr/>
          <p:nvPr/>
        </p:nvSpPr>
        <p:spPr>
          <a:xfrm>
            <a:off x="615960" y="5931000"/>
            <a:ext cx="2859120" cy="13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0" bIns="450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Bitstream Vera Sans"/>
              </a:rPr>
              <a:t>Erik Butterworth</a:t>
            </a:r>
            <a:endParaRPr b="0" lang="en-US" sz="2200" spc="-1" strike="noStrike">
              <a:solidFill>
                <a:srgbClr val="000000"/>
              </a:solidFill>
              <a:latin typeface="Bitstream Vera Sans"/>
            </a:endParaRPr>
          </a:p>
          <a:p>
            <a:pPr>
              <a:lnSpc>
                <a:spcPct val="9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Bitstream Vera Sans"/>
              </a:rPr>
              <a:t>UW Bioengineering</a:t>
            </a:r>
            <a:endParaRPr b="0" lang="en-US" sz="2200" spc="-1" strike="noStrike">
              <a:solidFill>
                <a:srgbClr val="000000"/>
              </a:solidFill>
              <a:latin typeface="Bitstream Vera Sans"/>
            </a:endParaRPr>
          </a:p>
          <a:p>
            <a:pPr>
              <a:lnSpc>
                <a:spcPct val="9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Bitstream Vera Sans"/>
              </a:rPr>
              <a:t>butterw@uw.edu</a:t>
            </a:r>
            <a:endParaRPr b="0" lang="en-US" sz="2200" spc="-1" strike="noStrike">
              <a:solidFill>
                <a:srgbClr val="000000"/>
              </a:solidFill>
              <a:latin typeface="Bitstream Vera Sans"/>
            </a:endParaRPr>
          </a:p>
          <a:p>
            <a:pPr>
              <a:lnSpc>
                <a:spcPct val="9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Bitstream Vera Sans"/>
              </a:rPr>
              <a:t>Aug 2011</a:t>
            </a:r>
            <a:endParaRPr b="0" lang="en-US" sz="2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1116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itstream Vera Sans"/>
              </a:rPr>
              <a:t>Interchange Formats</a:t>
            </a: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584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431640" indent="-323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1727280" indent="-573120">
              <a:lnSpc>
                <a:spcPct val="98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portability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1727280" indent="-573120">
              <a:lnSpc>
                <a:spcPct val="98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many eyes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-323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1727280" indent="-573120">
              <a:lnSpc>
                <a:spcPct val="98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restricted scope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1727280" indent="-573120">
              <a:lnSpc>
                <a:spcPct val="98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development lag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51600" y="1767960"/>
            <a:ext cx="442584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431640" indent="-323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1727280" indent="-573120">
              <a:lnSpc>
                <a:spcPct val="98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SBML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1727280" indent="-573120">
              <a:lnSpc>
                <a:spcPct val="98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CellML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1727280" indent="-573120">
              <a:lnSpc>
                <a:spcPct val="98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XMML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1116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itstream Vera Sans"/>
              </a:rPr>
              <a:t>SBML</a:t>
            </a: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584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431640" indent="-323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Core computation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1727280" indent="-573120">
              <a:lnSpc>
                <a:spcPct val="98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reactions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1727280" indent="-573120">
              <a:lnSpc>
                <a:spcPct val="98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ODEs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1727280" indent="-573120">
              <a:lnSpc>
                <a:spcPct val="98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events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1727280" indent="-573120">
              <a:lnSpc>
                <a:spcPct val="98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implicit eqns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-323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Toolboxes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1727280" indent="-573120">
              <a:lnSpc>
                <a:spcPct val="98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spatial (PDEs)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1727280" indent="-573120">
              <a:lnSpc>
                <a:spcPct val="98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stochastic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51600" y="1767960"/>
            <a:ext cx="442584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431640" indent="-323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Editors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1727280" indent="-573120">
              <a:lnSpc>
                <a:spcPct val="98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text language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1727280" indent="-573120">
              <a:lnSpc>
                <a:spcPct val="98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tabular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1727280" indent="-573120">
              <a:lnSpc>
                <a:spcPct val="98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graphic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-323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Simulators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-323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Visualizers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-323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SBW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1116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itstream Vera Sans"/>
              </a:rPr>
              <a:t>CellML</a:t>
            </a: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584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431640" indent="-323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Computation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1727280" indent="-573120">
              <a:lnSpc>
                <a:spcPct val="98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ODEs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1727280" indent="-573120">
              <a:lnSpc>
                <a:spcPct val="98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implicit?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1727280" indent="-573120">
              <a:lnSpc>
                <a:spcPct val="98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events?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1727280" indent="-573120">
              <a:lnSpc>
                <a:spcPct val="98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PDEs?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51600" y="1767960"/>
            <a:ext cx="442584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431640" indent="-323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1727280" indent="-573120">
              <a:lnSpc>
                <a:spcPct val="98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OpenCell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1727280" indent="-573120">
              <a:lnSpc>
                <a:spcPct val="98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OpenCMiss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1727280" indent="-573120">
              <a:lnSpc>
                <a:spcPct val="98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JSim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-323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Online Archive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1116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itstream Vera Sans"/>
              </a:rPr>
              <a:t>XMML</a:t>
            </a: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584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431640" indent="-323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Prototype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-323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Full JSim scope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-323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Applications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1727280" indent="-573120">
              <a:lnSpc>
                <a:spcPct val="98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SBML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1727280" indent="-573120">
              <a:lnSpc>
                <a:spcPct val="98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CellML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1727280" indent="-573120">
              <a:lnSpc>
                <a:spcPct val="98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SemGen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1727280" indent="-573120">
              <a:lnSpc>
                <a:spcPct val="98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Visualization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1727280" indent="-573120">
              <a:lnSpc>
                <a:spcPct val="98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JSim compiler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51600" y="1768320"/>
            <a:ext cx="4425840" cy="496584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 fontScale="96000"/>
          </a:bodyPr>
          <a:p>
            <a:pPr marL="414360" indent="-31068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Computation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1658160" indent="-550080">
              <a:lnSpc>
                <a:spcPct val="98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ODEs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1658160" indent="-550080">
              <a:lnSpc>
                <a:spcPct val="98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domains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1658160" indent="-550080">
              <a:lnSpc>
                <a:spcPct val="98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PDEs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1658160" indent="-550080">
              <a:lnSpc>
                <a:spcPct val="98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implicit eqns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1658160" indent="-550080">
              <a:lnSpc>
                <a:spcPct val="98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events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1658160" indent="-550080">
              <a:lnSpc>
                <a:spcPct val="98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procedural code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1658160" indent="-550080">
              <a:lnSpc>
                <a:spcPct val="98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unit checking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1658160" indent="-550080">
              <a:lnSpc>
                <a:spcPct val="98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templates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1116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itstream Vera Sans"/>
              </a:rPr>
              <a:t>Platform Discussion</a:t>
            </a: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5840" cy="505332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 fontScale="99000"/>
          </a:bodyPr>
          <a:p>
            <a:pPr marL="427320" indent="-32040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JSim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Copasi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Jarnac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Antimony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JDesigner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Tinkercell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Modelica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SBW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1600" y="1767960"/>
            <a:ext cx="4425840" cy="496908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 fontScale="93000"/>
          </a:bodyPr>
          <a:p>
            <a:pPr marL="401400" indent="-30096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CellDesigner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01400" indent="-30096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VCell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01400" indent="-30096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OpenCell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01400" indent="-30096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APIs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1606320" indent="-532800">
              <a:lnSpc>
                <a:spcPct val="98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PySCeS (Python)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1606320" indent="-532800">
              <a:lnSpc>
                <a:spcPct val="98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SBToolBox (Matlab)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1606320" indent="-532800">
              <a:lnSpc>
                <a:spcPct val="98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MathSBML (Mathematica)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1116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itstream Vera Sans"/>
              </a:rPr>
              <a:t>General Modeling Concerns</a:t>
            </a: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584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431640" indent="-323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Model design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-323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Simulation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-323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Analysis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-323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Sharing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151600" y="1768320"/>
            <a:ext cx="4425840" cy="498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1116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itstream Vera Sans"/>
              </a:rPr>
              <a:t>Model Design</a:t>
            </a: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584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6120" bIns="0" anchor="t">
            <a:normAutofit fontScale="98000"/>
          </a:bodyPr>
          <a:p>
            <a:pPr marL="423000" indent="-31716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Computational Scope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1692720" indent="-561600">
              <a:lnSpc>
                <a:spcPct val="98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ODEs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1692720" indent="-561600">
              <a:lnSpc>
                <a:spcPct val="98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events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1692720" indent="-561600">
              <a:lnSpc>
                <a:spcPct val="98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domains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1692720" indent="-561600">
              <a:lnSpc>
                <a:spcPct val="98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PDEs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1692720" indent="-561600">
              <a:lnSpc>
                <a:spcPct val="98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implicit equations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1692720" indent="-561600">
              <a:lnSpc>
                <a:spcPct val="98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reaction networks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1692720" indent="-561600">
              <a:lnSpc>
                <a:spcPct val="98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LRC networks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1692720" indent="-561600">
              <a:lnSpc>
                <a:spcPct val="98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procedural code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151600" y="1767960"/>
            <a:ext cx="442584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6120" bIns="0" anchor="t">
            <a:normAutofit/>
          </a:bodyPr>
          <a:p>
            <a:pPr marL="431640" indent="-323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Simplicity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-323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Editors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-323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Consistency checking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-323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Assignment vs Equality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-323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Scalability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-323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Modularity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-323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Portability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-323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-323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Ontologies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1116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itstream Vera Sans"/>
              </a:rPr>
              <a:t>Simulation</a:t>
            </a: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584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 fontScale="96000"/>
          </a:bodyPr>
          <a:p>
            <a:pPr marL="414360" indent="-31068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User control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1658160" indent="-550080">
              <a:lnSpc>
                <a:spcPct val="98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parameters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1658160" indent="-550080">
              <a:lnSpc>
                <a:spcPct val="98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numeric solvers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1658160" indent="-550080">
              <a:lnSpc>
                <a:spcPct val="98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driving signals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414360" indent="-31068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1658160" indent="-550080">
              <a:lnSpc>
                <a:spcPct val="98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single processor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1658160" indent="-550080">
              <a:lnSpc>
                <a:spcPct val="98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multi-processor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151600" y="1767960"/>
            <a:ext cx="442584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431640" indent="-323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Real-time” monitoring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-323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High volume (batch mode?)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1116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itstream Vera Sans"/>
              </a:rPr>
              <a:t>Analysis</a:t>
            </a: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584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431640" indent="-323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Visualization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1727280" indent="-573120">
              <a:lnSpc>
                <a:spcPct val="98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time courses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1727280" indent="-573120">
              <a:lnSpc>
                <a:spcPct val="98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phase plots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1727280" indent="-573120">
              <a:lnSpc>
                <a:spcPct val="98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contours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1727280" indent="-573120">
              <a:lnSpc>
                <a:spcPct val="98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colormaps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1727280" indent="-573120">
              <a:lnSpc>
                <a:spcPct val="98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3D plots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1727280" indent="-573120">
              <a:lnSpc>
                <a:spcPct val="98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networks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1600" y="1767960"/>
            <a:ext cx="442584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431640" indent="-323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Sensitivity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-323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Optimization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1727280" indent="-573120">
              <a:lnSpc>
                <a:spcPct val="98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curve fitting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-323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Monte-Carlo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-323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Scalability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-323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High volume (batch mode?)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1116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itstream Vera Sans"/>
              </a:rPr>
              <a:t>Sharing</a:t>
            </a: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584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431640" indent="-323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Collaborators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-323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Journals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-323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General public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51600" y="1767960"/>
            <a:ext cx="442584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431640" indent="-323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OS portability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-323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Simulator portability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-323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Support time frame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1116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itstream Vera Sans"/>
              </a:rPr>
              <a:t>Technology Survey</a:t>
            </a: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584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431640" indent="-323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3rd Gen Languages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-323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Matlab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-323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Interchange Fmts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1727280" indent="-573120">
              <a:lnSpc>
                <a:spcPct val="98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SBML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1727280" indent="-573120">
              <a:lnSpc>
                <a:spcPct val="98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CellML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1727280" indent="-573120">
              <a:lnSpc>
                <a:spcPct val="98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XMML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51600" y="1767960"/>
            <a:ext cx="442584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1116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itstream Vera Sans"/>
              </a:rPr>
              <a:t>3rd Generation Programming</a:t>
            </a: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584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431640" indent="-323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Languages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1727280" indent="-573120">
              <a:lnSpc>
                <a:spcPct val="98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Fortran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1727280" indent="-573120">
              <a:lnSpc>
                <a:spcPct val="98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C/C++/C#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1727280" indent="-573120">
              <a:lnSpc>
                <a:spcPct val="98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Java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51600" y="1767960"/>
            <a:ext cx="442584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431640" indent="-323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Wide scope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-323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Efficient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-323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High technical barrier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-323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Slow development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-323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Largely opaque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1116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itstream Vera Sans"/>
              </a:rPr>
              <a:t>Matlab</a:t>
            </a: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584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431640" indent="-323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Bare Matlab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1727280" indent="-573120">
              <a:lnSpc>
                <a:spcPct val="98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text editor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1727280" indent="-573120">
              <a:lnSpc>
                <a:spcPct val="98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procedural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1727280" indent="-573120">
              <a:lnSpc>
                <a:spcPct val="98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wide scope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1727280" indent="-573120">
              <a:lnSpc>
                <a:spcPct val="98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variable performance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1727280" indent="-573120">
              <a:lnSpc>
                <a:spcPct val="98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no real-time monitor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51600" y="1767960"/>
            <a:ext cx="442584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 fontScale="98000"/>
          </a:bodyPr>
          <a:p>
            <a:pPr marL="423000" indent="-31716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Simulink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1692720" indent="-561600">
              <a:lnSpc>
                <a:spcPct val="98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graphic editor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1692720" indent="-561600">
              <a:lnSpc>
                <a:spcPct val="98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object structure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1692720" indent="-561600">
              <a:lnSpc>
                <a:spcPct val="98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restricted scope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1692720" indent="-561600">
              <a:lnSpc>
                <a:spcPct val="98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poor performance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1692720" indent="-561600">
              <a:lnSpc>
                <a:spcPct val="98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real-time monitor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2T15:46:49Z</dcterms:created>
  <dc:creator/>
  <dc:description/>
  <dc:language>en-US</dc:language>
  <cp:lastModifiedBy>Erik Butterworth</cp:lastModifiedBy>
  <cp:lastPrinted>2008-11-24T17:54:11Z</cp:lastPrinted>
  <dcterms:modified xsi:type="dcterms:W3CDTF">2011-08-22T21:04:37Z</dcterms:modified>
  <cp:revision>35</cp:revision>
  <dc:subject/>
  <dc:title/>
</cp:coreProperties>
</file>